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DE2-56FA-46FE-9B69-018705B1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D712-3B1E-495A-953A-B7400040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6F00-5794-419B-B361-D14D9AC0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37A-2A7A-4541-929A-4B81DECE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4B52-C0FD-410A-A555-3C2945B3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BFC-9EE9-4973-BD0B-E1CB8991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1EFA-37DF-4BC5-8DDB-06D6643F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4C6-C34A-4B72-B0A5-A82FE5E1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ED0-F2C5-4637-B20D-CA582D13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46E6-7D5D-4C55-9F3B-35EC1C2C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D4FB-A827-4586-9AD8-67A8F733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6DE8-2767-4032-B5FC-0E0372F0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89DE-AA11-44CD-9E49-B072D91EC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620640"/>
            <a:ext cx="7417080" cy="618876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فاتت سنه              من عمرى يا ربى طول السنه            وأنا شيفك جنب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3108240"/>
            <a:ext cx="7416720" cy="375084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بكل كيانى بأهتف ليك باسبح اسمك و أعليك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2781360"/>
            <a:ext cx="7416720" cy="496980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سنى صغير و فيه ناس أكبر  لكن أنا قلبى مليان بي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828720" y="1700280"/>
            <a:ext cx="7416720" cy="496980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من كل  قلبى باهتف يا ربى  شكرا يا ربى شكرا لي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920" y="620640"/>
            <a:ext cx="7417080" cy="496980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ماشى معاك باجرى وراك    وأنت بأيدك  تحفظ نفس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4874" t="9053" r="8363" b="20602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6920" y="115920"/>
            <a:ext cx="7417080" cy="496980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سنه مليانه       بالحب يا ربى    رقة قلبك          أسرت قلب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828720" y="1700280"/>
            <a:ext cx="7416720" cy="496980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خيرك مالى      على حياتى شكراً ليك من قلبى يا رب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3108240"/>
            <a:ext cx="7416720" cy="375084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بكل كيانى بأهتف ليك باسبح اسمك و أعليك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2781360"/>
            <a:ext cx="7416720" cy="496980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سنى صغير و فيه ناس أكبر  لكن أنا قلبى مليان بي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828720" y="1700280"/>
            <a:ext cx="7416720" cy="496980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من كل  قلبى باهتف يا ربى  شكرا يا ربى شكرا لي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6920" y="620640"/>
            <a:ext cx="7417080" cy="618876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فاتت سنه              من عمرى يا ربى طول السنه            وأنا شيفك جنب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26920" y="620640"/>
            <a:ext cx="7417080" cy="496980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ماشى معاك باجرى وراك    وأنت بأيدك  تحفظ نفس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14:47:09Z</dcterms:created>
  <dc:creator>BISO</dc:creator>
  <dc:description/>
  <dc:language>en-US</dc:language>
  <cp:lastModifiedBy>BISO</cp:lastModifiedBy>
  <dcterms:modified xsi:type="dcterms:W3CDTF">2002-09-25T17:42:47Z</dcterms:modified>
  <cp:revision>5</cp:revision>
  <dc:subject/>
  <dc:title>الشريحة 1</dc:title>
</cp:coreProperties>
</file>