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7797-C904-48F3-9141-C718E1B0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F04-5EA7-415F-BA73-C506CFB6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4CB-48E9-4057-8228-44ADCCAA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16D-3FE0-4D1B-B915-E8583BAC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68D-45D5-4FFA-BFB1-B9B2FBE9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9C57-3898-4010-B53F-C46E1869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0E7-AAF1-44D7-BE63-EB647543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BB1-6B10-475F-AE8E-C7122E45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D37-2DFE-4F92-BA0C-463521A8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CDE-A43B-4E7A-A42C-D618D4D5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F0E1-F527-4199-AF29-1FC6684F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1A9-A7B5-45EC-9DDE-F6291413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8AF9-8F31-4214-B5AF-4EADA48F0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620640"/>
            <a:ext cx="7417080" cy="618876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فاتت سنه              من عمرى يا ربى طول السنه            وأنا شيفك جنب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3108240"/>
            <a:ext cx="7416720" cy="375084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بكل كيانى بأهتف ليك باسبح اسمك و أعليك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2781360"/>
            <a:ext cx="7416720" cy="496980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سنى صغير و فيه ناس أكبر  لكن أنا قلبى مليان بي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828720" y="1700280"/>
            <a:ext cx="7416720" cy="496980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من كل  قلبى باهتف يا ربى  شكرا يا ربى شكرا لي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920" y="620640"/>
            <a:ext cx="7417080" cy="496980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ماشى معاك باجرى وراك    وأنت بأيدك  تحفظ نفس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4874" t="9053" r="8363" b="20602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6920" y="115920"/>
            <a:ext cx="7417080" cy="496980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سنه مليانه       بالحب يا ربى    رقة قلبك          أسرت قلب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828720" y="1700280"/>
            <a:ext cx="7416720" cy="496980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خيرك مالى      على حياتى شكراً ليك من قلبى يا رب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3108240"/>
            <a:ext cx="7416720" cy="375084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بكل كيانى بأهتف ليك باسبح اسمك و أعليك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2781360"/>
            <a:ext cx="7416720" cy="496980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سنى صغير و فيه ناس أكبر  لكن أنا قلبى مليان بي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828720" y="1700280"/>
            <a:ext cx="7416720" cy="496980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من كل  قلبى باهتف يا ربى  شكرا يا ربى شكرا لي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6920" y="620640"/>
            <a:ext cx="7417080" cy="618876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فاتت سنه              من عمرى يا ربى طول السنه            وأنا شيفك جنب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26920" y="620640"/>
            <a:ext cx="7417080" cy="496980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Arial"/>
                <a:cs typeface="Al-Mothnna"/>
              </a:rPr>
              <a:t>ماشى معاك باجرى وراك    وأنت بأيدك  تحفظ نفس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4:47:09Z</dcterms:created>
  <dc:creator>BISO</dc:creator>
  <dc:description/>
  <dc:language>en-US</dc:language>
  <cp:lastModifiedBy>BISO</cp:lastModifiedBy>
  <dcterms:modified xsi:type="dcterms:W3CDTF">2002-09-25T17:42:47Z</dcterms:modified>
  <cp:revision>5</cp:revision>
  <dc:subject/>
  <dc:title>الشريحة 1</dc:title>
</cp:coreProperties>
</file>