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F2FB-E63B-4576-9FC4-4E78EAF67D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26F1-1EF2-4E15-8BAE-283381374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F12B2-A301-4142-90F9-C680FA9FD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09201-298A-4770-A323-63AE7B39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EB87D-17A4-461E-A791-94AA62D1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DC334-13F6-4D4F-8807-90C0DDE83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F6D68-88FB-404D-84FE-28B922116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7E9CD-1BD0-4C7B-996D-6E54C940F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15CB2-0A26-4D35-9827-577945FB6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291C-47C2-48CE-B290-18251A415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FF9FC-A77F-43FF-B7E5-1918C3880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1019C-0EDC-456B-A33C-088AA09F1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9B6B7-5907-4E28-9C63-27C226FC6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2FD7A-88E2-48FC-8EC2-5D1E772E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07524-72E0-4ADE-A847-3E2BD2E16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681BA-A1B4-4C77-9264-E0BA76B26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F9E08-AA54-4992-B139-2C6EA6F3C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DD313-D0D1-4BB8-9D97-25FCE21CF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D6B71-35F8-42D8-A97C-701E55968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A26129-AE93-4A12-95AC-B57B142E1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34614-F2FA-42BB-91C7-4298FCC97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3FC19-B0E2-4F2D-B7C4-0B3DF1A23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EFD2C-DA75-4A86-BD77-D0298834E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5024B-B82A-424A-8233-89F3F2F24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5ED39-88DA-42A9-B1AF-425518DC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57F50-8C4B-4980-8239-EDC71DE2F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D41FD-B41F-461A-9B10-BC468EB44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2EBD9-0475-4C27-B886-1621890AF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CF10D-5041-4D8B-A295-0276D2AC3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3437E-9DD6-4A73-BE77-13EEB497F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100C98-B45A-415D-948E-4FA130E4B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C8F440-CC58-4635-893E-EF9E30E7C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97EC4-9821-4128-9182-87F56FC12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96596-CAC6-4179-9693-4F0277625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FB914-D5FF-4327-A0AE-4BE27B5CE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5EB3-8FAF-45E5-9A01-AC0E93E9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9E8E6-F108-4A82-819A-13E3C4632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A54CB-A547-408E-A36D-A4E766FF1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CB70D-35BE-407F-8F6A-0AAE74FFE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38CF1-ACFE-431A-978D-4FCCC72A0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0DE63-842A-4C8A-997F-E6B056929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1AF27-7BC6-43E2-ADC6-6954E5DCE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2051B7-27D8-477C-8637-36B278ECB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FEB48D-F974-4B12-8027-7BC194CB92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02572-92D4-4C22-BDEA-E72B187020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77903C-1A9E-405D-B355-5492C4CB10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C41C2-B44E-4617-8902-E8DE9F4B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7D821-1192-484E-82C8-D45240FD2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6ED80-9B6F-4120-8697-A469F85F42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4E2CB-C21B-41DC-8718-6F274AB8C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97211-FBB8-4B4C-A13A-1F18F6C61D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F74C28-B2AD-4323-829D-4ED1FBBCD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A9A7D-9525-4F00-AA1F-9F9C42DB7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C1423-6B89-4963-8834-A3C641EDB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CF9EE-BAA7-41E1-A9F7-419C53155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63400-6E97-454A-93EB-CB6565CAD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33DD5-E6FF-4D6D-87F3-FA92DCD3A9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93BE-808C-4796-9D6E-6464D1F0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E9A2D4-B103-4F1E-BA0D-009878045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BC7A09-E48D-4AAD-AFA1-989B059FF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5A148-2348-4F7F-A4EB-37990D489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8E493-A058-4A61-998E-E03E79EB69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68E59-5FA6-47DB-93FA-F25CB94DD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472B9-8B55-4CA8-90F7-3935C1255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4E6290-8784-4AEA-B627-7216929C7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83970A-C0BC-4780-8526-05FE08319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A8E48-E765-4A93-828E-939C7D5E7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224EE-7F52-45F2-BC72-B1E39A58C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1EF6-8759-46FC-B5BE-A763E2A3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BCFC2-3D6B-46A8-A3C3-1316CB0121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93DA76-6749-4EFC-A131-648506AFA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18B64-1B0C-4624-9CCA-57FA2EFF1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107AC2-9694-47B7-B345-D3C9F75658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67CF7-BD87-4992-9CEF-936423FCD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58635-F4D7-4879-98D9-E8CD60B96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96CB5-E2C9-4EB9-B543-D846BC930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2D7C5-D8A1-419E-88A3-2E4640637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53DC4-FFA1-4AEF-A00C-F7A2663CE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53E38-FC17-43FF-8AE9-AD20A2911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F319-F86A-4ADA-9B86-6AA53116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9664D-4CE1-4B83-8E9D-C699FE502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7CF71-112A-423D-8A9C-081935AAB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A9D18-EB02-4AC5-B8B6-4B29C4BC9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BBDF9E-B4E4-4400-AC85-6D94BB9949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427A3A-399D-43D8-BB2A-1FBBB9C5AC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1970-B808-4A75-82F0-771C78AEF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9F8C-F028-4070-932C-E613D5F902C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F2AF-0DA5-48AE-A14A-BC53A35DB13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AFF3-EFAE-42CE-8ABF-CE68C7369F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88CA-860E-40AD-830F-E44E8F413DB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ECAD-57AC-4771-8524-213D30CAB6D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5A46-EA3D-4C50-9228-87545AAF71C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D723-5C7F-4BF7-B93B-740AC9236F3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371960"/>
            <a:ext cx="8229600" cy="375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 </a:t>
            </a:r>
            <a:r>
              <a:rPr b="0" lang="en-US" sz="6000" spc="-1" strike="noStrike">
                <a:solidFill>
                  <a:srgbClr val="ff0000"/>
                </a:solidFill>
                <a:latin typeface="Times New Roman"/>
                <a:ea typeface="Times New Roman"/>
              </a:rPr>
              <a:t>VLSI Chip Packaging Techniques</a:t>
            </a:r>
            <a:endParaRPr b="0" lang="en-US" sz="6000" spc="-1" strike="noStrike">
              <a:solidFill>
                <a:srgbClr val="572314"/>
              </a:solidFill>
              <a:latin typeface="Gill Sans MT"/>
            </a:endParaRPr>
          </a:p>
        </p:txBody>
      </p:sp>
      <p:sp>
        <p:nvSpPr>
          <p:cNvPr id="326" name="TextBox 2"/>
          <p:cNvSpPr/>
          <p:nvPr/>
        </p:nvSpPr>
        <p:spPr>
          <a:xfrm>
            <a:off x="5638680" y="5334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M.PRAVEEN KU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ea typeface="Times New Roman"/>
              </a:rPr>
              <a:t>R.NO.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2" descr=""/>
          <p:cNvPicPr/>
          <p:nvPr/>
        </p:nvPicPr>
        <p:blipFill>
          <a:blip r:embed="rId2"/>
          <a:stretch/>
        </p:blipFill>
        <p:spPr>
          <a:xfrm>
            <a:off x="1295280" y="3352680"/>
            <a:ext cx="7134480" cy="1704960"/>
          </a:xfrm>
          <a:prstGeom prst="rect">
            <a:avLst/>
          </a:prstGeom>
          <a:ln w="0">
            <a:noFill/>
          </a:ln>
        </p:spPr>
      </p:pic>
      <p:sp>
        <p:nvSpPr>
          <p:cNvPr id="344" name="Rectangle 4"/>
          <p:cNvSpPr/>
          <p:nvPr/>
        </p:nvSpPr>
        <p:spPr>
          <a:xfrm>
            <a:off x="1295280" y="990720"/>
            <a:ext cx="7467840" cy="155628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is generally accomplished by wire bonding, flip-chip bonding, or Tape-Automated B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txBox="1"/>
          <p:nvPr/>
        </p:nvSpPr>
        <p:spPr>
          <a:xfrm>
            <a:off x="990360" y="380520"/>
            <a:ext cx="7497720" cy="4800600"/>
          </a:xfrm>
          <a:prstGeom prst="rect">
            <a:avLst/>
          </a:prstGeom>
          <a:noFill/>
          <a:ln w="0">
            <a:noFill/>
          </a:ln>
        </p:spPr>
        <p:txBody>
          <a:bodyPr anchor="t">
            <a:normAutofit fontScale="97000"/>
          </a:bodyPr>
          <a:p>
            <a:pPr marL="353880" indent="-273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ire Bonding</a:t>
            </a:r>
            <a:endParaRPr b="0" lang="en-US" sz="40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ldest method, but is still the dominant method used today, particularly for chips with a moderate number of inputs/outputs(I/O)(~200).</a:t>
            </a:r>
            <a:endParaRPr b="0" lang="en-US" sz="32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technique involves connecting gold or aluminum wires between the chip bonding pads, located around the periphery of the chip, and the contact points on the package.</a:t>
            </a:r>
            <a:endParaRPr b="0" lang="en-US" sz="3200" spc="-1" strike="noStrike">
              <a:solidFill>
                <a:srgbClr val="000000"/>
              </a:solidFill>
              <a:latin typeface="Gill Sans MT"/>
            </a:endParaRPr>
          </a:p>
          <a:p>
            <a:pPr marL="353880" indent="-273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6" name="Picture 3" descr=""/>
          <p:cNvPicPr/>
          <p:nvPr/>
        </p:nvPicPr>
        <p:blipFill>
          <a:blip r:embed="rId2"/>
          <a:stretch/>
        </p:blipFill>
        <p:spPr>
          <a:xfrm>
            <a:off x="5105520" y="5257800"/>
            <a:ext cx="3733560" cy="12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txBox="1"/>
          <p:nvPr/>
        </p:nvSpPr>
        <p:spPr>
          <a:xfrm>
            <a:off x="990360" y="-360"/>
            <a:ext cx="7497720" cy="4800600"/>
          </a:xfrm>
          <a:prstGeom prst="rect">
            <a:avLst/>
          </a:prstGeom>
          <a:noFill/>
          <a:ln w="0">
            <a:noFill/>
          </a:ln>
        </p:spPr>
        <p:txBody>
          <a:bodyPr anchor="t">
            <a:normAutofit fontScale="85000"/>
          </a:bodyPr>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process has been automated for many years, but it is still time consuming because each wire requires two bonding operations, and must be attached individually.</a:t>
            </a:r>
            <a:endParaRPr b="0" lang="en-US" sz="3200" spc="-1" strike="noStrike">
              <a:solidFill>
                <a:srgbClr val="000000"/>
              </a:solidFill>
              <a:latin typeface="Gill Sans MT"/>
            </a:endParaRPr>
          </a:p>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limitations of wire bonding include the requirement for minimum spacing between adjacent bonding sites to provide sufficient room for the bonding tool, the number of bonding pads that can be located around the periphery of the chip, signal delay, and crosstalk between adjacent wires.</a:t>
            </a:r>
            <a:endParaRPr b="0" lang="en-US" sz="3200" spc="-1" strike="noStrike">
              <a:solidFill>
                <a:srgbClr val="000000"/>
              </a:solidFill>
              <a:latin typeface="Gill Sans MT"/>
            </a:endParaRPr>
          </a:p>
          <a:p>
            <a:pPr marL="309960" indent="-2401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txBox="1"/>
          <p:nvPr/>
        </p:nvSpPr>
        <p:spPr>
          <a:xfrm>
            <a:off x="1066320" y="-360"/>
            <a:ext cx="7497720" cy="4800600"/>
          </a:xfrm>
          <a:prstGeom prst="rect">
            <a:avLst/>
          </a:prstGeom>
          <a:noFill/>
          <a:ln w="0">
            <a:noFill/>
          </a:ln>
        </p:spPr>
        <p:txBody>
          <a:bodyPr anchor="t">
            <a:normAutofit fontScale="91000"/>
          </a:bodyPr>
          <a:p>
            <a:pPr marL="331920" indent="-257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lip-Chip Bonding</a:t>
            </a:r>
            <a:endParaRPr b="0" lang="en-US" sz="40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ip is mounted upside down onto a carrier, module, or PWB. Electrical connection is made via solder bumps.  The solder bumps are located over the surface of the chip in a somewhat random pattern or an array so that periphery limitation, such as that encountered in wire bonding, does not limit the I/O capabilit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1828800" y="990720"/>
            <a:ext cx="62388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1066320" y="456840"/>
            <a:ext cx="7497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O density is primarily limited by the minimum distance between adjacent bonding pads on the chip and the amount of chip area that can be dedicated to interconnection.  Additionally, the interconnect distance between chip and package is minimized since bumps can essentially be located anywhere on the chip.</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Second Level Interconnection</a:t>
            </a:r>
            <a:br>
              <a:rPr sz="3900"/>
            </a:br>
            <a:endParaRPr b="0" lang="en-US" sz="4000" spc="-1" strike="noStrike">
              <a:solidFill>
                <a:srgbClr val="572314"/>
              </a:solidFill>
              <a:latin typeface="Gill Sans MT"/>
            </a:endParaRPr>
          </a:p>
        </p:txBody>
      </p:sp>
      <p:sp>
        <p:nvSpPr>
          <p:cNvPr id="352" name=""/>
          <p:cNvSpPr txBox="1"/>
          <p:nvPr/>
        </p:nvSpPr>
        <p:spPr>
          <a:xfrm>
            <a:off x="1142640" y="1371240"/>
            <a:ext cx="7497720" cy="4800600"/>
          </a:xfrm>
          <a:prstGeom prst="rect">
            <a:avLst/>
          </a:prstGeom>
          <a:noFill/>
          <a:ln w="0">
            <a:noFill/>
          </a:ln>
        </p:spPr>
        <p:txBody>
          <a:bodyPr anchor="t">
            <a:normAutofit fontScale="95000"/>
          </a:bodyPr>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vel 2 interconnection refers to the electrical connection of an IC to a circuit board, the most common one being a conventional PWB.  Following level 1 interconnection, single IC chips  normally undergo encapsulation in either plastic or ceramic based packages prior to connection to a PWB.</a:t>
            </a:r>
            <a:endParaRPr b="0" lang="en-US" sz="3200" spc="-1" strike="noStrike">
              <a:solidFill>
                <a:srgbClr val="000000"/>
              </a:solidFill>
              <a:latin typeface="Gill Sans MT"/>
            </a:endParaRPr>
          </a:p>
          <a:p>
            <a:pPr marL="34668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3" name="Picture 2" descr=""/>
          <p:cNvPicPr/>
          <p:nvPr/>
        </p:nvPicPr>
        <p:blipFill>
          <a:blip r:embed="rId2"/>
          <a:stretch/>
        </p:blipFill>
        <p:spPr>
          <a:xfrm>
            <a:off x="1295280" y="914400"/>
            <a:ext cx="6896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24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Variations of Packages</a:t>
            </a:r>
            <a:br>
              <a:rPr sz="4000"/>
            </a:br>
            <a:endParaRPr b="0" lang="en-US" sz="4000" spc="-1" strike="noStrike">
              <a:solidFill>
                <a:srgbClr val="572314"/>
              </a:solidFill>
              <a:latin typeface="Gill Sans MT"/>
            </a:endParaRPr>
          </a:p>
        </p:txBody>
      </p:sp>
      <p:sp>
        <p:nvSpPr>
          <p:cNvPr id="355" name=""/>
          <p:cNvSpPr txBox="1"/>
          <p:nvPr/>
        </p:nvSpPr>
        <p:spPr>
          <a:xfrm>
            <a:off x="1142640" y="1218960"/>
            <a:ext cx="74977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to-Board attachmen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in-Through-Hole (PTH), Surface Mount Technology (SM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re bond, Flip Chip</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 locations</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 materials:</a:t>
            </a:r>
            <a:endParaRPr b="0" lang="en-US" sz="32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lastic, Ceramic, Thin Fil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71240" y="30456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ackage-to-Board Attachment</a:t>
            </a:r>
            <a:br>
              <a:rPr sz="3900"/>
            </a:br>
            <a:endParaRPr b="0" lang="en-US" sz="4000" spc="-1" strike="noStrike">
              <a:solidFill>
                <a:srgbClr val="572314"/>
              </a:solidFill>
              <a:latin typeface="Gill Sans MT"/>
            </a:endParaRPr>
          </a:p>
        </p:txBody>
      </p:sp>
      <p:sp>
        <p:nvSpPr>
          <p:cNvPr id="357" name=""/>
          <p:cNvSpPr txBox="1"/>
          <p:nvPr/>
        </p:nvSpPr>
        <p:spPr>
          <a:xfrm>
            <a:off x="1218960" y="129492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P (Dual In Line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P (Small Outline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FP (Quad Flat Packag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CONTENTS</a:t>
            </a:r>
            <a:endParaRPr b="0" lang="en-US" sz="6000" spc="-1" strike="noStrike">
              <a:solidFill>
                <a:srgbClr val="572314"/>
              </a:solidFill>
              <a:latin typeface="Gill Sans MT"/>
            </a:endParaRPr>
          </a:p>
        </p:txBody>
      </p:sp>
      <p:sp>
        <p:nvSpPr>
          <p:cNvPr id="328" name=""/>
          <p:cNvSpPr txBox="1"/>
          <p:nvPr/>
        </p:nvSpPr>
        <p:spPr>
          <a:xfrm>
            <a:off x="12189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roduc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of an electronic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ief history of electronic packaging technology</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llenge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ical design, one of the driven forces on packaging technolog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30456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eripheral Packages</a:t>
            </a:r>
            <a:br>
              <a:rPr sz="4000"/>
            </a:br>
            <a:endParaRPr b="0" lang="en-US" sz="4000" spc="-1" strike="noStrike">
              <a:solidFill>
                <a:srgbClr val="572314"/>
              </a:solidFill>
              <a:latin typeface="Gill Sans MT"/>
            </a:endParaRPr>
          </a:p>
        </p:txBody>
      </p:sp>
      <p:sp>
        <p:nvSpPr>
          <p:cNvPr id="359" name=""/>
          <p:cNvSpPr txBox="1"/>
          <p:nvPr/>
        </p:nvSpPr>
        <p:spPr>
          <a:xfrm>
            <a:off x="1371600" y="13712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ual In Line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 – 48 pin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rly 1960s (Bryant Roger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mall Outline Package              </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4 – 48 pin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d Flat Packag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8 – 128 pins, up to 384 pins</a:t>
            </a:r>
            <a:endParaRPr b="0" lang="en-US" sz="3200" spc="-1" strike="noStrike">
              <a:solidFill>
                <a:srgbClr val="000000"/>
              </a:solidFill>
              <a:latin typeface="Gill Sans MT"/>
            </a:endParaRPr>
          </a:p>
        </p:txBody>
      </p:sp>
      <p:pic>
        <p:nvPicPr>
          <p:cNvPr id="360" name="Picture 4" descr=""/>
          <p:cNvPicPr/>
          <p:nvPr/>
        </p:nvPicPr>
        <p:blipFill>
          <a:blip r:embed="rId2"/>
          <a:stretch/>
        </p:blipFill>
        <p:spPr>
          <a:xfrm>
            <a:off x="6477120" y="1295280"/>
            <a:ext cx="1466640" cy="12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txBox="1"/>
          <p:nvPr/>
        </p:nvSpPr>
        <p:spPr>
          <a:xfrm>
            <a:off x="914040" y="-360"/>
            <a:ext cx="7497720" cy="4800600"/>
          </a:xfrm>
          <a:prstGeom prst="rect">
            <a:avLst/>
          </a:prstGeom>
          <a:noFill/>
          <a:ln w="0">
            <a:noFill/>
          </a:ln>
        </p:spPr>
        <p:txBody>
          <a:bodyPr anchor="t">
            <a:normAutofit fontScale="86000"/>
          </a:bodyPr>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 requirements increased sharply.</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transition time between chips became a factor limiting system spe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integrity between silicon chips degrad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requirements per chip increas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roblem with heat dissipation was created.</a:t>
            </a:r>
            <a:endParaRPr b="0" lang="en-US" sz="3200" spc="-1" strike="noStrike">
              <a:solidFill>
                <a:srgbClr val="000000"/>
              </a:solidFill>
              <a:latin typeface="Gill Sans MT"/>
            </a:endParaRPr>
          </a:p>
          <a:p>
            <a:pPr marL="313920" indent="-2430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of these factors forced electronic packaging technology into the spotlight, resulting in a reconsideration of how ICs were being packaged</a:t>
            </a:r>
            <a:endParaRPr b="0" lang="en-US" sz="3200" spc="-1" strike="noStrike">
              <a:solidFill>
                <a:srgbClr val="000000"/>
              </a:solidFill>
              <a:latin typeface="Gill Sans MT"/>
            </a:endParaRPr>
          </a:p>
          <a:p>
            <a:pPr marL="313920" indent="-2430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3D Stacking</a:t>
            </a:r>
            <a:br>
              <a:rPr sz="4000"/>
            </a:br>
            <a:endParaRPr b="0" lang="en-US" sz="4000" spc="-1" strike="noStrike">
              <a:solidFill>
                <a:srgbClr val="572314"/>
              </a:solidFill>
              <a:latin typeface="Gill Sans MT"/>
            </a:endParaRPr>
          </a:p>
        </p:txBody>
      </p:sp>
      <p:sp>
        <p:nvSpPr>
          <p:cNvPr id="363" name=""/>
          <p:cNvSpPr txBox="1"/>
          <p:nvPr/>
        </p:nvSpPr>
        <p:spPr>
          <a:xfrm>
            <a:off x="914040" y="837720"/>
            <a:ext cx="7497720" cy="4800600"/>
          </a:xfrm>
          <a:prstGeom prst="rect">
            <a:avLst/>
          </a:prstGeom>
          <a:noFill/>
          <a:ln w="0">
            <a:noFill/>
          </a:ln>
        </p:spPr>
        <p:txBody>
          <a:bodyPr anchor="t">
            <a:normAutofit fontScale="88000"/>
          </a:bodyPr>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Dimensional Stacking:</a:t>
            </a: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ps are stacked together.</a:t>
            </a: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of the first commercial efforts to stack chips within a single package mated flash memory with static random-access memory (SRAM).</a:t>
            </a:r>
            <a:endParaRPr b="0" lang="en-US" sz="3200" spc="-1" strike="noStrike">
              <a:solidFill>
                <a:srgbClr val="000000"/>
              </a:solidFill>
              <a:latin typeface="Gill Sans MT"/>
            </a:endParaRPr>
          </a:p>
          <a:p>
            <a:pPr marL="321120" indent="-248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txBox="1"/>
          <p:nvPr/>
        </p:nvSpPr>
        <p:spPr>
          <a:xfrm>
            <a:off x="1218960" y="609480"/>
            <a:ext cx="7499160" cy="228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dustry desire to reduce product size, weight, and cost while providing extra performance (shorter interconnects that lower capacitance and inductance,</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5" name="Picture 2" descr=""/>
          <p:cNvPicPr/>
          <p:nvPr/>
        </p:nvPicPr>
        <p:blipFill>
          <a:blip r:embed="rId2"/>
          <a:stretch/>
        </p:blipFill>
        <p:spPr>
          <a:xfrm>
            <a:off x="3200400" y="3124080"/>
            <a:ext cx="243828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txBox="1"/>
          <p:nvPr/>
        </p:nvSpPr>
        <p:spPr>
          <a:xfrm>
            <a:off x="1066320" y="456840"/>
            <a:ext cx="74977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d..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ducing crosstalk, and lower power consumption) and increasing functionality, has driven 3D packaging of both chips and packages.</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15192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LP, WSP and WLS</a:t>
            </a:r>
            <a:br>
              <a:rPr sz="4000"/>
            </a:br>
            <a:endParaRPr b="0" lang="en-US" sz="4000" spc="-1" strike="noStrike">
              <a:solidFill>
                <a:srgbClr val="572314"/>
              </a:solidFill>
              <a:latin typeface="Gill Sans MT"/>
            </a:endParaRPr>
          </a:p>
        </p:txBody>
      </p:sp>
      <p:sp>
        <p:nvSpPr>
          <p:cNvPr id="368" name=""/>
          <p:cNvSpPr txBox="1"/>
          <p:nvPr/>
        </p:nvSpPr>
        <p:spPr>
          <a:xfrm>
            <a:off x="1066320" y="914040"/>
            <a:ext cx="7497720" cy="4800600"/>
          </a:xfrm>
          <a:prstGeom prst="rect">
            <a:avLst/>
          </a:prstGeom>
          <a:noFill/>
          <a:ln w="0">
            <a:noFill/>
          </a:ln>
        </p:spPr>
        <p:txBody>
          <a:bodyPr anchor="t">
            <a:normAutofit fontScale="95000"/>
          </a:bodyPr>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fer-level packaging (WLP):</a:t>
            </a:r>
            <a:endParaRPr b="0" lang="en-US" sz="3200" spc="-1" strike="noStrike">
              <a:solidFill>
                <a:srgbClr val="000000"/>
              </a:solidFill>
              <a:latin typeface="Gill Sans MT"/>
            </a:endParaRPr>
          </a:p>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die and package are manufactured and tested on the wafer prior to separation of the packaged devices by dicing in the flip-chip fashion.</a:t>
            </a:r>
            <a:endParaRPr b="0" lang="en-US" sz="3200" spc="-1" strike="noStrike">
              <a:solidFill>
                <a:srgbClr val="000000"/>
              </a:solidFill>
              <a:latin typeface="Gill Sans MT"/>
            </a:endParaRPr>
          </a:p>
          <a:p>
            <a:pPr marL="346680" indent="-2682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ckages are really chip size as opposed to chip scale, which is also named as wafer-scale/chip-scale packages (WS-CSP) or wafer-level/chip-scale packaging (WL-CS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txBox="1"/>
          <p:nvPr/>
        </p:nvSpPr>
        <p:spPr>
          <a:xfrm>
            <a:off x="1066320" y="456840"/>
            <a:ext cx="7497720" cy="4800600"/>
          </a:xfrm>
          <a:prstGeom prst="rect">
            <a:avLst/>
          </a:prstGeom>
          <a:noFill/>
          <a:ln w="0">
            <a:noFill/>
          </a:ln>
        </p:spPr>
        <p:txBody>
          <a:bodyPr anchor="t">
            <a:normAutofit fontScale="96000"/>
          </a:bodyPr>
          <a:p>
            <a:pPr marL="350280" indent="-2710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otivation for WLP(WSP) is that peripherally designed die can be transformed, using a thin-film technology, into a standard bump or ball footprint that is compatible with current PCB layout rules, device test practices, and assembly practice. Originally, wafer-level redistribution was intended to physically redistribute perimeter bonding pads to an area array for flip chip technolog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txBox="1"/>
          <p:nvPr/>
        </p:nvSpPr>
        <p:spPr>
          <a:xfrm>
            <a:off x="990360" y="151920"/>
            <a:ext cx="7497720" cy="4800600"/>
          </a:xfrm>
          <a:prstGeom prst="rect">
            <a:avLst/>
          </a:prstGeom>
          <a:noFill/>
          <a:ln w="0">
            <a:noFill/>
          </a:ln>
        </p:spPr>
        <p:txBody>
          <a:bodyPr anchor="t">
            <a:normAutofit fontScale="97000"/>
          </a:bodyPr>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LP offers lowest cost per I/O, since all interconnections are formed at the wafer level at the same time, lowest testing cost since it can be done at the wafer level, lowest burn-in cost because it is done at the wafer level, elimination of under filling, and enhanced electrical performance because of the short interconnections.</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txBox="1"/>
          <p:nvPr/>
        </p:nvSpPr>
        <p:spPr>
          <a:xfrm>
            <a:off x="1066320" y="456840"/>
            <a:ext cx="74977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Wafer-level stacking (WLS)</a:t>
            </a:r>
            <a:endParaRPr b="0" lang="en-US" sz="40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yield stacked die that are packaged at the wafer level.</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fers containing ICs are interconnected using a thinly polished wafer (a few tens of microns thick) containing through-wafer via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The Future</a:t>
            </a:r>
            <a:br>
              <a:rPr sz="4000"/>
            </a:br>
            <a:endParaRPr b="0" lang="en-US" sz="4000" spc="-1" strike="noStrike">
              <a:solidFill>
                <a:srgbClr val="572314"/>
              </a:solidFill>
              <a:latin typeface="Gill Sans MT"/>
            </a:endParaRPr>
          </a:p>
        </p:txBody>
      </p:sp>
      <p:sp>
        <p:nvSpPr>
          <p:cNvPr id="373" name=""/>
          <p:cNvSpPr txBox="1"/>
          <p:nvPr/>
        </p:nvSpPr>
        <p:spPr>
          <a:xfrm>
            <a:off x="1142640" y="106632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ppears to be little doubt that the impact of packaging on future electronic systems will continue to increase with time.</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rend will continue to be toward a more integrated approach to semiconductor packaging and system desi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18960" y="-36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Times New Roman"/>
              </a:rPr>
              <a:t>Packaging and Packages</a:t>
            </a:r>
            <a:endParaRPr b="0" lang="en-US" sz="5400" spc="-1" strike="noStrike">
              <a:solidFill>
                <a:srgbClr val="572314"/>
              </a:solidFill>
              <a:latin typeface="Gill Sans MT"/>
            </a:endParaRPr>
          </a:p>
        </p:txBody>
      </p:sp>
      <p:sp>
        <p:nvSpPr>
          <p:cNvPr id="330" name=""/>
          <p:cNvSpPr txBox="1"/>
          <p:nvPr/>
        </p:nvSpPr>
        <p:spPr>
          <a:xfrm>
            <a:off x="1142640" y="1294920"/>
            <a:ext cx="7791480" cy="495324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electronic package is defined as that portion of an electronic structure that serves to protect an electronic element from its environment and the environment from the electronic element.</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addition to providing encapsulation for environmental protection, a package must also allow for complete testing of the packaged device and a high-yield method of assembly to the next level of integr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txBox="1"/>
          <p:nvPr/>
        </p:nvSpPr>
        <p:spPr>
          <a:xfrm>
            <a:off x="990360" y="228240"/>
            <a:ext cx="7497720" cy="4800600"/>
          </a:xfrm>
          <a:prstGeom prst="rect">
            <a:avLst/>
          </a:prstGeom>
          <a:noFill/>
          <a:ln w="0">
            <a:noFill/>
          </a:ln>
        </p:spPr>
        <p:txBody>
          <a:bodyPr anchor="t">
            <a:normAutofit fontScale="91000"/>
          </a:bodyPr>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tly, the boundary between semiconductor fabrication and packaging with blur, and packaging will, by necessity, become an integral part of system desig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packaging technology progresses, there are many problems that must be addressed.</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isture absorptio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electric loss, lower loss dielectrics are critically important to higher frequency system operation</a:t>
            </a:r>
            <a:endParaRPr b="0" lang="en-US" sz="3200" spc="-1" strike="noStrike">
              <a:solidFill>
                <a:srgbClr val="000000"/>
              </a:solidFill>
              <a:latin typeface="Gill Sans MT"/>
            </a:endParaRPr>
          </a:p>
          <a:p>
            <a:pPr marL="331920" indent="-2570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txBox="1"/>
          <p:nvPr/>
        </p:nvSpPr>
        <p:spPr>
          <a:xfrm>
            <a:off x="1066320" y="456840"/>
            <a:ext cx="7497720" cy="4800600"/>
          </a:xfrm>
          <a:prstGeom prst="rect">
            <a:avLst/>
          </a:prstGeom>
          <a:noFill/>
          <a:ln w="0">
            <a:noFill/>
          </a:ln>
        </p:spPr>
        <p:txBody>
          <a:bodyPr anchor="t">
            <a:normAutofit fontScale="92000"/>
          </a:bodyPr>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new materials, reliability issues must also be addressed.</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minimum chip geometries continue to shrink into the nanometer range, higher pin count, higher wiring density, and passive device integration will provide significant challenges to packaging technology.</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these challenges can be and are met, then thermal management will continue to provide challenges for the researcher.</a:t>
            </a:r>
            <a:endParaRPr b="0" lang="en-US" sz="3200" spc="-1" strike="noStrike">
              <a:solidFill>
                <a:srgbClr val="000000"/>
              </a:solidFill>
              <a:latin typeface="Gill Sans MT"/>
            </a:endParaRPr>
          </a:p>
          <a:p>
            <a:pPr marL="335520" indent="-25992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txBox="1"/>
          <p:nvPr/>
        </p:nvSpPr>
        <p:spPr>
          <a:xfrm>
            <a:off x="1218960" y="456840"/>
            <a:ext cx="74991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ea typeface="Times New Roman"/>
              </a:rPr>
              <a:t>       </a:t>
            </a:r>
            <a:r>
              <a:rPr b="0" i="1" lang="en-US" sz="6000" spc="-1" strike="noStrike">
                <a:solidFill>
                  <a:srgbClr val="ff0000"/>
                </a:solidFill>
                <a:latin typeface="Times New Roman"/>
                <a:ea typeface="Times New Roman"/>
              </a:rPr>
              <a:t>Thank you</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514600" y="18284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Times New Roman"/>
              </a:rPr>
              <a:t>QUERIES….?</a:t>
            </a:r>
            <a:endParaRPr b="0" lang="en-US" sz="6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1218960" y="304560"/>
            <a:ext cx="7497720" cy="609588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unctions that a package must provide</a:t>
            </a:r>
            <a:endParaRPr b="0" lang="en-US" sz="40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tructure to physically support the chip</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hysical housing to protect the chip from the environment</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adequate means of removing heat generated by the chips or system</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ectrical connections to allow signal and power access to and from the chi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txBox="1"/>
          <p:nvPr/>
        </p:nvSpPr>
        <p:spPr>
          <a:xfrm>
            <a:off x="1142640" y="304560"/>
            <a:ext cx="74977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ff0000"/>
                </a:solidFill>
                <a:latin typeface="Times New Roman"/>
                <a:ea typeface="Times New Roman"/>
              </a:rPr>
              <a:t>Four basic requirements</a:t>
            </a:r>
            <a:endParaRPr b="0" lang="en-US" sz="4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ircuit support and protec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distribu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dissipation</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wer distribu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ea typeface="Times New Roman"/>
              </a:rPr>
              <a:t>Example of a Package</a:t>
            </a:r>
            <a:br>
              <a:rPr sz="4800"/>
            </a:br>
            <a:endParaRPr b="0" lang="en-US" sz="4800" spc="-1" strike="noStrike">
              <a:solidFill>
                <a:srgbClr val="572314"/>
              </a:solidFill>
              <a:latin typeface="Gill Sans MT"/>
            </a:endParaRPr>
          </a:p>
        </p:txBody>
      </p:sp>
      <p:pic>
        <p:nvPicPr>
          <p:cNvPr id="334" name="Picture 6" descr=""/>
          <p:cNvPicPr/>
          <p:nvPr/>
        </p:nvPicPr>
        <p:blipFill>
          <a:blip r:embed="rId2"/>
          <a:stretch/>
        </p:blipFill>
        <p:spPr>
          <a:xfrm>
            <a:off x="1219320" y="1371600"/>
            <a:ext cx="769608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1143000" y="60912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gnal and power distribution are accomplished through leads and wire bonds, etc.</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dissipation is accomplished through leads and chip support </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ort and protection are accomplished through the Wiring Board/substrate, or external package, and Resin, or plastic encapsula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ea typeface="Times New Roman"/>
              </a:rPr>
              <a:t>Functions of Packages</a:t>
            </a:r>
            <a:br>
              <a:rPr sz="4400"/>
            </a:br>
            <a:endParaRPr b="0" lang="en-US" sz="4400" spc="-1" strike="noStrike">
              <a:solidFill>
                <a:srgbClr val="572314"/>
              </a:solidFill>
              <a:latin typeface="Gill Sans MT"/>
            </a:endParaRPr>
          </a:p>
        </p:txBody>
      </p:sp>
      <p:sp>
        <p:nvSpPr>
          <p:cNvPr id="337" name=""/>
          <p:cNvSpPr txBox="1"/>
          <p:nvPr/>
        </p:nvSpPr>
        <p:spPr>
          <a:xfrm>
            <a:off x="1434960" y="1447560"/>
            <a:ext cx="7499520" cy="518148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tecting from the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ernal environment</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abling electrical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nnectivity</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at radiation               </a:t>
            </a:r>
            <a:endParaRPr b="0" lang="en-US" sz="32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roving packaging                 </a:t>
            </a: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8" name="Picture 4" descr=""/>
          <p:cNvPicPr/>
          <p:nvPr/>
        </p:nvPicPr>
        <p:blipFill>
          <a:blip r:embed="rId2"/>
          <a:stretch/>
        </p:blipFill>
        <p:spPr>
          <a:xfrm>
            <a:off x="5867280" y="1371600"/>
            <a:ext cx="2105280" cy="1266840"/>
          </a:xfrm>
          <a:prstGeom prst="rect">
            <a:avLst/>
          </a:prstGeom>
          <a:ln w="0">
            <a:noFill/>
          </a:ln>
        </p:spPr>
      </p:pic>
      <p:pic>
        <p:nvPicPr>
          <p:cNvPr id="339" name="Picture 7" descr=""/>
          <p:cNvPicPr/>
          <p:nvPr/>
        </p:nvPicPr>
        <p:blipFill>
          <a:blip r:embed="rId3"/>
          <a:stretch/>
        </p:blipFill>
        <p:spPr>
          <a:xfrm>
            <a:off x="6095880" y="2971800"/>
            <a:ext cx="1752840" cy="1095480"/>
          </a:xfrm>
          <a:prstGeom prst="rect">
            <a:avLst/>
          </a:prstGeom>
          <a:ln w="0">
            <a:noFill/>
          </a:ln>
        </p:spPr>
      </p:pic>
      <p:pic>
        <p:nvPicPr>
          <p:cNvPr id="340" name="Picture 9" descr=""/>
          <p:cNvPicPr/>
          <p:nvPr/>
        </p:nvPicPr>
        <p:blipFill>
          <a:blip r:embed="rId4"/>
          <a:stretch/>
        </p:blipFill>
        <p:spPr>
          <a:xfrm>
            <a:off x="5943600" y="4038480"/>
            <a:ext cx="1781280" cy="160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560" y="228240"/>
            <a:ext cx="7497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First Level Interconnection</a:t>
            </a:r>
            <a:br>
              <a:rPr sz="4000"/>
            </a:br>
            <a:endParaRPr b="0" lang="en-US" sz="4000" spc="-1" strike="noStrike">
              <a:solidFill>
                <a:srgbClr val="572314"/>
              </a:solidFill>
              <a:latin typeface="Gill Sans MT"/>
            </a:endParaRPr>
          </a:p>
        </p:txBody>
      </p:sp>
      <p:sp>
        <p:nvSpPr>
          <p:cNvPr id="342" name=""/>
          <p:cNvSpPr txBox="1"/>
          <p:nvPr/>
        </p:nvSpPr>
        <p:spPr>
          <a:xfrm>
            <a:off x="1218960" y="114264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First level packaging ( or interconnection) refers to the technology required to get electrical signals into and out of a single transistor or IC; in other words, the connections required between the bonding pads on the IC and the pins of the package.</a:t>
            </a:r>
            <a:endParaRPr b="0" lang="en-US" sz="35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3:34Z</dcterms:created>
  <dc:creator>praveen</dc:creator>
  <dc:description/>
  <dc:language>en-US</dc:language>
  <cp:lastModifiedBy>Lab</cp:lastModifiedBy>
  <dcterms:modified xsi:type="dcterms:W3CDTF">2009-10-29T07:14:09Z</dcterms:modified>
  <cp:revision>59</cp:revision>
  <dc:subject/>
  <dc:title>   Electrical Requirements of     Electronic Packaging</dc:title>
</cp:coreProperties>
</file>