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D0AB-AA84-40B8-BEAD-EF5DC592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96C-6306-4A4E-A89E-6447320F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702-1EF8-47FD-9278-1E1F25B4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468-9742-471A-AAF8-A8A40326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BAD-E384-46FC-9003-F4D2C8BC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A04-580B-48B8-A858-994031F8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BDB-75F1-406F-B666-5B6ED59D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1C0-54DE-4309-9A70-1C81A66B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330-CB77-4A5F-992B-39CE8EE6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94C-ED40-4E7C-96EF-F24B0A59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708-3F88-4F70-9C65-E4E6DEAE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F8A-BC0A-4257-BA01-589EEADB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C556-651C-4A6B-9D82-8C916E1F4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44792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304812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uman communicate using 3 level of communication; Defensive, Respectful &amp; Synergistic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tephen R. Co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310_3" descr=""/>
          <p:cNvPicPr/>
          <p:nvPr/>
        </p:nvPicPr>
        <p:blipFill>
          <a:blip r:embed="rId2"/>
          <a:stretch/>
        </p:blipFill>
        <p:spPr>
          <a:xfrm>
            <a:off x="7280280" y="0"/>
            <a:ext cx="1863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144144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82680" y="1897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35000" y="3387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ffect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gnitive. Affective or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sychomoto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action or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nel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medium through which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essages are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6720" y="609480"/>
            <a:ext cx="40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odel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144144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843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7524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Comm. is a process of adjustment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comm. Competence is being able to identify the other person’s signals and understand how they are used and what they mean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809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Comm. Accommodation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aker will adjust their speaking style to gain social approval and comm.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548640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Comm. Is a package of signal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made up from verbal or non verbal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7520" y="76212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rinciples of Commun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144144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034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28880" y="142236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4.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Comm. Involves content and relationship dim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must be able to distinguish between content and  relationship dimensions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1480" y="3086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5.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Comm. Sequences are punctuated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dividuals divide the comm. sequences into stimuli and responses differ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5920" y="43689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Comm. Is purpo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7520" y="76212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rinciples of Commun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06560" y="5105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7.  Comm. is inevitable, irreversible and unrep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14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8.  Comm. Is amb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headache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314316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144792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676520"/>
            <a:ext cx="723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Lin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speaker spoke and listener list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59000" y="3216240"/>
            <a:ext cx="7480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nteractional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speaker &amp; listener take turn/ exchanging turn at speaking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list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6680" y="5045040"/>
            <a:ext cx="7391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ransactional: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each person serves simultaneously as speaker and lis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59840" y="711360"/>
            <a:ext cx="43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ury"/>
              </a:rPr>
              <a:t>Theories in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71600" y="144792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48960" y="533520"/>
            <a:ext cx="54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reas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0440" y="191448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ntrapersonal : communication with one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9320" y="3087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nterpersonal : communication between two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52560" y="4267080"/>
            <a:ext cx="87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mall Group : comm. within a small group of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2840" y="543096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ublic : communication of speaker to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147492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57520" y="245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87040" y="378144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8440" y="3390840"/>
            <a:ext cx="18288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68440" y="4305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01720" y="43909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81000" y="43657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02360" y="3314880"/>
            <a:ext cx="18288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02360" y="4229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36450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06560" y="561024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Messages/channels/ feed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23120" y="4086360"/>
            <a:ext cx="1000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64240" y="4381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273200" y="4381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11640" y="33148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11640" y="4533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6720" y="609480"/>
            <a:ext cx="40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odel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25640" y="233352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Messages/channels/ feed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8" idx="0"/>
            <a:endCxn id="62" idx="0"/>
          </p:cNvCxnSpPr>
          <p:nvPr/>
        </p:nvCxnSpPr>
        <p:spPr>
          <a:xfrm flipH="1" flipV="1" rot="5400000">
            <a:off x="5111640" y="1485360"/>
            <a:ext cx="76680" cy="3734640"/>
          </a:xfrm>
          <a:prstGeom prst="curvedConnector5">
            <a:avLst>
              <a:gd name="adj1" fmla="val 1631132"/>
              <a:gd name="adj2" fmla="val 49995"/>
              <a:gd name="adj3" fmla="val 163113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" name=""/>
          <p:cNvCxnSpPr>
            <a:stCxn id="58" idx="4"/>
            <a:endCxn id="62" idx="4"/>
          </p:cNvCxnSpPr>
          <p:nvPr/>
        </p:nvCxnSpPr>
        <p:spPr>
          <a:xfrm flipH="1" flipV="1" rot="5400000">
            <a:off x="5111640" y="3314160"/>
            <a:ext cx="76680" cy="3734640"/>
          </a:xfrm>
          <a:prstGeom prst="curvedConnector5">
            <a:avLst>
              <a:gd name="adj1" fmla="val -1500000"/>
              <a:gd name="adj2" fmla="val 49995"/>
              <a:gd name="adj3" fmla="val -15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1828800" y="1523880"/>
            <a:ext cx="6705720" cy="5029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54120" y="160020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municati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8136000" cy="4341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04920" y="4843440"/>
            <a:ext cx="322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ays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n which chan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to wh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with what 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0000" y="4365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cited from: Foulger,D.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144792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23480" y="533520"/>
            <a:ext cx="47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mmunicati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3080" y="990720"/>
            <a:ext cx="64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factors influences what &amp; how you s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54080" y="542916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empo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he position in which a message fits into a sequence of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752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he tangible and concret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0080" y="2867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ult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he lifestyle, beliefs, values, ways of  behaving and communic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9800" y="3902040"/>
            <a:ext cx="86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cial-psychologic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he status relationships among participants, the culture rules of the society, the formality &amp; informality of th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144144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1752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urc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person who send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90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ceive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person who receives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coding &amp; -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act of sending message Decoding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act of receiving mes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6720" y="609480"/>
            <a:ext cx="40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odel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147492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48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5320" y="144792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essage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y be sent and received through any combination of sensory organs or any forms o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80" y="3429000"/>
            <a:ext cx="94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Metamessages – message that refer to othe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4648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Feedback – message or information that is sent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ack to th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5943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Feedforward – message that preface othe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46720" y="609480"/>
            <a:ext cx="40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odel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1441440"/>
            <a:ext cx="7772400" cy="5410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60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5146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Physical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terferes with the physical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nsmissio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f signal 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5812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Physiological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hysical barrier within th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aker or 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Psychological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gnitive or menta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523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is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ything that distorts th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63560" y="5943600"/>
            <a:ext cx="53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Semantic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receive diff.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46720" y="609480"/>
            <a:ext cx="40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odel of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6:39:40Z</dcterms:created>
  <dc:creator>Syaza_jlo</dc:creator>
  <dc:description/>
  <dc:language>en-US</dc:language>
  <cp:lastModifiedBy>user</cp:lastModifiedBy>
  <dcterms:modified xsi:type="dcterms:W3CDTF">2009-05-21T00:29:45Z</dcterms:modified>
  <cp:revision>20</cp:revision>
  <dc:subject/>
  <dc:title>Slide 1</dc:title>
</cp:coreProperties>
</file>