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C27-A77F-4945-8DBD-153EDD9A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FBF-1FFF-438D-873B-2E962436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DDD-840A-4224-9E5E-1A2D7CFF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209-02B9-48F6-8F7B-7D4F79AC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7C2-F7B6-4ECA-A909-AFE684C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F81-70DA-4E6A-9D08-80A2777A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B78-C5E8-4042-B3FB-7097D954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685-8798-48E0-85C3-D9FBF25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6AD-7F1F-4745-974C-095DA6F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6B5-C47A-47F5-BDEF-D3B10E20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3AB-060A-4CCD-A518-C4326E6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F12-D2A2-4CE0-9687-C9EEC947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74CB-36BB-483A-A61C-4BF7A026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04812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uman communicate using 3 level of communication; Defensive, Respectful &amp; Synergistic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tephen R. Co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310_3" descr=""/>
          <p:cNvPicPr/>
          <p:nvPr/>
        </p:nvPicPr>
        <p:blipFill>
          <a:blip r:embed="rId2"/>
          <a:stretch/>
        </p:blipFill>
        <p:spPr>
          <a:xfrm>
            <a:off x="7280280" y="0"/>
            <a:ext cx="1863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82680" y="189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35000" y="3387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gnitive. Affective or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sychomoto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action o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nel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medium through whic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 ar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843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524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s a process of adjustmen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comm. Competence is being able to identify the other person’s signals and understand how they are used and what they mean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809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Accommodation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aker will adjust their speaking style to gain social approval and comm.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48640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s a package of signal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made up from verbal or non verbal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7520" y="76212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rinciples of Commun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034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28880" y="142236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nvolves content and relationship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must be able to distinguish between content and  relationship dimensions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1480" y="3086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Sequences are punctuated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dividuals divide the comm. sequences into stimuli and responses differ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5920" y="43689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s purpo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520" y="76212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rinciples of Commun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0656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7.  Comm. is inevitable, irreversible and unrep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1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8.  Comm. Is 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headache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31431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67652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Lin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speaker spoke and listener list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59000" y="3216240"/>
            <a:ext cx="7480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eractional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speaker &amp; listener take turn/ exchanging turn at speaking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list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5045040"/>
            <a:ext cx="7391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ransactional: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each person serves simultaneously as speaker and 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59840" y="711360"/>
            <a:ext cx="43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"/>
              </a:rPr>
              <a:t>Theories i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48960" y="53352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rea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0440" y="191448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rapersonal : communication with one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9320" y="3087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erpersonal : communication between two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52560" y="426708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mall Group : comm. within a small group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2840" y="54309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ublic : communication of speaker to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1474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7520" y="245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87040" y="378144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8440" y="3390840"/>
            <a:ext cx="1828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8440" y="4305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01720" y="43909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81000" y="43657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2360" y="3314880"/>
            <a:ext cx="1828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02360" y="4229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36450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6560" y="561024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Messages/channels/ feed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3120" y="4086360"/>
            <a:ext cx="1000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6424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73200" y="4381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11640" y="3314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11640" y="4533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25640" y="233352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Messages/channels/ feed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8" idx="0"/>
            <a:endCxn id="62" idx="0"/>
          </p:cNvCxnSpPr>
          <p:nvPr/>
        </p:nvCxnSpPr>
        <p:spPr>
          <a:xfrm flipH="1" flipV="1" rot="5400000">
            <a:off x="5111640" y="1485360"/>
            <a:ext cx="76680" cy="3734640"/>
          </a:xfrm>
          <a:prstGeom prst="curvedConnector5">
            <a:avLst>
              <a:gd name="adj1" fmla="val 1631132"/>
              <a:gd name="adj2" fmla="val 49995"/>
              <a:gd name="adj3" fmla="val 163113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"/>
          <p:cNvCxnSpPr>
            <a:stCxn id="58" idx="4"/>
            <a:endCxn id="62" idx="4"/>
          </p:cNvCxnSpPr>
          <p:nvPr/>
        </p:nvCxnSpPr>
        <p:spPr>
          <a:xfrm flipH="1" flipV="1" rot="5400000">
            <a:off x="5111640" y="3314160"/>
            <a:ext cx="76680" cy="3734640"/>
          </a:xfrm>
          <a:prstGeom prst="curvedConnector5">
            <a:avLst>
              <a:gd name="adj1" fmla="val -1500000"/>
              <a:gd name="adj2" fmla="val 49995"/>
              <a:gd name="adj3" fmla="val -1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828800" y="1523880"/>
            <a:ext cx="6705720" cy="502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4120" y="160020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munic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8136000" cy="434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04920" y="4843440"/>
            <a:ext cx="322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ays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 which cha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to wh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ith wh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4365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cited from: Foulger,D.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23480" y="53352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munic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3080" y="99072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factors influences what &amp; how you s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54080" y="54291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mpo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position in which a message fits into a sequence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752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tangible and concret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0080" y="2867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lt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lifestyle, beliefs, values, ways of  behaving and 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9800" y="3902040"/>
            <a:ext cx="86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cial-psychologic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status relationships among participants, the culture rules of the society, the formality &amp; informality of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52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person who send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ceive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person who receives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coding &amp; 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act of sending message Decoding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act of receiving me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474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48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5320" y="14479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y be sent and received through any combination of sensory organs or any forms o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80" y="3429000"/>
            <a:ext cx="94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Metamessages – message that refer to othe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4648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Feedback – message or information that is sen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ck to th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5943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Feedforward – message that preface othe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0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5146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Phys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feres with the phys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nsmissio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f signal 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5812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Physiolog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hysical barrier within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aker or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Psycholog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gnitive or menta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is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ything that distorts th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63560" y="5943600"/>
            <a:ext cx="53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Semantic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receive diff.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6:39:40Z</dcterms:created>
  <dc:creator>Syaza_jlo</dc:creator>
  <dc:description/>
  <dc:language>en-US</dc:language>
  <cp:lastModifiedBy>user</cp:lastModifiedBy>
  <dcterms:modified xsi:type="dcterms:W3CDTF">2009-05-21T00:29:45Z</dcterms:modified>
  <cp:revision>20</cp:revision>
  <dc:subject/>
  <dc:title>Slide 1</dc:title>
</cp:coreProperties>
</file>