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20.wmf" ContentType="image/x-wmf"/>
  <Override PartName="/ppt/media/image12.wmf" ContentType="image/x-wmf"/>
  <Override PartName="/ppt/media/image1.gif" ContentType="image/gif"/>
  <Override PartName="/ppt/media/chimes.wav" ContentType="audio/x-wav"/>
  <Override PartName="/ppt/media/image16.png" ContentType="image/png"/>
  <Override PartName="/ppt/media/image4.gif" ContentType="image/gif"/>
  <Override PartName="/ppt/media/image11.wmf" ContentType="image/x-wmf"/>
  <Override PartName="/ppt/media/image6.wmf" ContentType="image/x-wmf"/>
  <Override PartName="/ppt/media/image3.gif" ContentType="image/gif"/>
  <Override PartName="/ppt/media/image28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13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B1B-E7C7-4504-B74B-2FF3767E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D42-202C-437B-B7BF-4CB51B44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2C0-5742-4F59-AC44-3E0B83F4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B69-9722-4D5A-BF67-0D825835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5C5-E9E2-4BA8-96BD-7CB678A9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D59-DBDF-462A-ABC9-AB7AD996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730-C7C1-4CCB-8B07-D3BF191E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7C1-5E84-4F6E-98C1-52F34EB1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195-E46B-4D7B-BA52-01AA8DB1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31F-EE0B-4D02-9D41-7339FD75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356-0859-4499-A835-2496EC7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B60-E8BD-4381-A825-C9E3BD2F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7F8A-E1F5-4F56-9FBA-9EAFEE9C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5.jpeg"/><Relationship Id="rId27" Type="http://schemas.openxmlformats.org/officeDocument/2006/relationships/image" Target="../media/image6.wmf"/><Relationship Id="rId28" Type="http://schemas.openxmlformats.org/officeDocument/2006/relationships/image" Target="../media/image7.gif"/><Relationship Id="rId29" Type="http://schemas.openxmlformats.org/officeDocument/2006/relationships/image" Target="../media/image7.gif"/><Relationship Id="rId30" Type="http://schemas.openxmlformats.org/officeDocument/2006/relationships/image" Target="../media/image7.gif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43800" y="5513400"/>
            <a:ext cx="1600200" cy="1344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407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895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502920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42920" y="1569960"/>
            <a:ext cx="1293840" cy="743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486400" y="533520"/>
            <a:ext cx="1295280" cy="74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203640" y="51264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559640" y="342900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771640" y="5624640"/>
            <a:ext cx="1295640" cy="74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95280" y="432900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227640" y="5877000"/>
            <a:ext cx="1295640" cy="743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848720" y="454500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4464000" y="256536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195640" y="382428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8064360" y="728640"/>
            <a:ext cx="1295640" cy="743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1511280" y="584280"/>
            <a:ext cx="1295280" cy="74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4343400" y="4724280"/>
            <a:ext cx="1444680" cy="66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608360" y="6197760"/>
            <a:ext cx="1444680" cy="66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616720" y="3357720"/>
            <a:ext cx="1444320" cy="66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174600" y="3056040"/>
            <a:ext cx="1444680" cy="66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3635280" y="3321000"/>
            <a:ext cx="1295640" cy="74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3166920" y="1628640"/>
            <a:ext cx="1444680" cy="507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0" y="5445000"/>
            <a:ext cx="1444680" cy="50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1224000" y="3213000"/>
            <a:ext cx="1444680" cy="50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6624720" y="4834080"/>
            <a:ext cx="1444680" cy="507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079640" y="539640"/>
            <a:ext cx="7129440" cy="634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502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* TRƯỜNG THCS HUỲNH THỊ LỰU*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11280" y="4905360"/>
            <a:ext cx="406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GIÁO VIÊN: PHẠM NGỌC Á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02256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229860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67020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6"/>
          <a:stretch/>
        </p:blipFill>
        <p:spPr>
          <a:xfrm>
            <a:off x="3505320" y="1981080"/>
            <a:ext cx="1828800" cy="2171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7"/>
          <a:stretch/>
        </p:blipFill>
        <p:spPr>
          <a:xfrm>
            <a:off x="3886200" y="2438280"/>
            <a:ext cx="968400" cy="1067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8">
            <a:lum bright="36000"/>
          </a:blip>
          <a:stretch/>
        </p:blipFill>
        <p:spPr>
          <a:xfrm rot="1863600">
            <a:off x="4519440" y="2356920"/>
            <a:ext cx="1192320" cy="88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9">
            <a:lum bright="36000"/>
          </a:blip>
          <a:stretch/>
        </p:blipFill>
        <p:spPr>
          <a:xfrm rot="1863600">
            <a:off x="4155840" y="2968560"/>
            <a:ext cx="1199880" cy="88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0">
            <a:lum bright="36000"/>
          </a:blip>
          <a:stretch/>
        </p:blipFill>
        <p:spPr>
          <a:xfrm rot="1863600">
            <a:off x="3376440" y="2585520"/>
            <a:ext cx="1192320" cy="8812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526E-006 C 0.02066 0.02474 0.00608 0.0904 -0.03194 0.14682 C -0.07135 0.20393 -0.11875 0.23098 -0.13889 0.20601 C -0.15937 0.18196 -0.14444 0.11445 -0.10625 0.05849 C -0.06823 0.00208 -0.02066 -0.02428 -1.38889E-006 3.3526E-006 Z">
                                      <p:cBhvr>
                                        <p:cTn id="21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81503E-006 C -0.01823 0.02381 -0.06336 3.81502999999978E-006 -0.10625 -0.05318 C -0.14687 -0.10682 -0.16302 -0.1711 -0.14583 -0.19538 C -0.12864 -0.21873 -0.08142 -0.19492 -0.04062 -0.14104 C -0.000170000000000003 -0.08763 0.01858 -0.02497 -3.05556E-006 3.81503E-006 Z">
                                      <p:cBhvr>
                                        <p:cTn id="23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42775E-006 C 0.00694 -0.04 0.05017 -0.06751 0.10729 -0.06289 C 0.16475 -0.05826 0.21007 -0.02243 0.20833 0.01619 C 0.20659 0.05549 0.15885 0.08185 0.10364 0.07214 C 0.04375 0.07283 -0.00174 0.03908 3.05556E-006 -2.42775E-006 Z">
                                      <p:cBhvr>
                                        <p:cTn id="25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00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23800" y="228600"/>
            <a:ext cx="8315280" cy="144792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Đồ dùng loại điện – nhiệt, biến đổi điện nă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ành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33640" y="838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nhiệt nă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828800"/>
            <a:ext cx="8686800" cy="144792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ộ phận quan trọng nhất của đồ dùng điện – nhiệ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à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438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dây đốt n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505320"/>
            <a:ext cx="8686800" cy="1447560"/>
          </a:xfrm>
          <a:prstGeom prst="horizontalScroll">
            <a:avLst>
              <a:gd name="adj" fmla="val 12500"/>
            </a:avLst>
          </a:prstGeom>
          <a:solidFill>
            <a:srgbClr val="80808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ây đốt nóng của đồ dùng điện – nhiệt phải đảm b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hững yêu cầu nà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5029200"/>
            <a:ext cx="5105520" cy="116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hịu được nhiệt độ 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ó điện trở suất l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743200"/>
            <a:ext cx="868680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ộ phận quan trọng nhất của đồ dùng loại điện – c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………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động cơ điện một 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280" y="0"/>
            <a:ext cx="891540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ồ dùng loại điện – cơ biến đổi điện năng th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690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ơ nă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28440"/>
            <a:ext cx="8381880" cy="1447920"/>
          </a:xfrm>
          <a:prstGeom prst="rect">
            <a:avLst/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áy biến áp dùng đ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. Biến đổi điện áp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. Tăng điện á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. Giảm điện áp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. Giữ nguyên điện á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8120" y="485640"/>
            <a:ext cx="60948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7010280" cy="914400"/>
          </a:xfrm>
          <a:prstGeom prst="rect">
            <a:avLst/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ãy nêu cấu tạo của máy biến á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438280"/>
            <a:ext cx="8686800" cy="327672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ỉ số giữa số vòng dây và điện áp của cuộn dâ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ơ cấp và cuộn dây thứ cấp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.                 B.                   C.              D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00040" y="4143240"/>
          <a:ext cx="11224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4143240"/>
                    <a:ext cx="11224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35480" y="4152960"/>
          <a:ext cx="109224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5480" y="4152960"/>
                    <a:ext cx="10922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7243920" y="4295880"/>
          <a:ext cx="1284120" cy="5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43920" y="4295880"/>
                    <a:ext cx="12841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567400" y="4186080"/>
          <a:ext cx="969840" cy="70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186080"/>
                    <a:ext cx="9698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09480" y="42670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838080"/>
            <a:ext cx="891540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ử dụng điện năng như thế nào là hợp l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à tiết kiệ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66880"/>
            <a:ext cx="9144000" cy="28958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Hạn chế sử dụng điện năng trong giờ cao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Sử dụng những đồ dùng điện có hiệu suất c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 hông sử dụng lãng phí điện nă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0880"/>
            <a:ext cx="8686800" cy="327672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ông thức tính điện năng tiêu thụ của đồ dù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điện trong 1 ngà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.                 B.                   C.              D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57480" y="2120760"/>
          <a:ext cx="9950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2120760"/>
                    <a:ext cx="9950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200400" y="2106720"/>
          <a:ext cx="102384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2106720"/>
                    <a:ext cx="1023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442280" y="2266920"/>
          <a:ext cx="885600" cy="46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42280" y="2266920"/>
                    <a:ext cx="8856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334120" y="2228760"/>
          <a:ext cx="1109520" cy="47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4120" y="2228760"/>
                    <a:ext cx="11095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876920" y="2195640"/>
            <a:ext cx="53316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ạng điện trong nhà có những đặc điểm nà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0" y="16002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Yêu cầu của mang điện trong nhà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04040" y="3505320"/>
            <a:ext cx="92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Hãy nêu cấu tạo của mạng điện trong n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4680" y="586728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924680" y="586728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80880"/>
            <a:ext cx="8915400" cy="518184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ết bị nào dưới đây là thiết bị đóng cắ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à lấy điệ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 Công tắc điệ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. Ổ điện, cầu da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. Công tơ điệ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. Bóng đè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67800" y="22478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ầu ch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95320" y="266688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ây dẫn điệ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9160" y="3200400"/>
            <a:ext cx="32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hích cắm điệ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657600"/>
            <a:ext cx="29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ầu dao 1 c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320" y="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ài t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38080"/>
            <a:ext cx="922032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ài 1: Nhà máy thuỷ điện biến đổi 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.................. thành điện nă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8380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huỷ nă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29528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ủa dòng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914400"/>
            <a:ext cx="883908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Bài 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:Cách sử dụng điện nào dưới đây là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hông an toà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 Thực hiện nối đất các thiết bi, đồ dùng đi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 Kiểm tra cách điện của đồ dùng điệ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. Không đến gần trạm biến á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. Tắm mưa dưới đường dây điện cao á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362320"/>
            <a:ext cx="53352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3062160"/>
            <a:ext cx="87631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Bài 3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Khi phát hiện một người bị tai nạn điện do chạm t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ực tiếp vào tủ lạnh đã bị rò điện, ta sẽ làm gì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 Gọi người tới cứ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 Rút phích cắm hoặc ngắt apt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. Nắm áo nạn nhân kéo 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. Dùng tây trần kéo người đó 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3840" y="4191120"/>
            <a:ext cx="533520" cy="4572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Bài 4: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Ở bộ truyền động đai bánh dẫn và bánh bị d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ó đường kính lần lượt là 50 dm, 20dm. Bánh dẫn c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ốc độ quay 30 vòng/phút. Tí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. Tỉ số truyề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. Bánh nào quay nhanh hơn ? Tại sa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. Tính tốc độ quay của bánh bị dẫ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743200"/>
            <a:ext cx="3276720" cy="4114800"/>
          </a:xfrm>
          <a:prstGeom prst="rect">
            <a:avLst/>
          </a:prstGeom>
          <a:solidFill>
            <a:srgbClr val="99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óm tắ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50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20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30 vòng/ph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. i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. giải th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. n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4495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743200"/>
            <a:ext cx="579096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i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ỉ số truyề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 =            =               = 2,5 (lầ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ánh bị dẫn quay nhanh hơn vì c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đườngkính nhỏ hơn D2&lt; 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ốc độ quay của bánh bị d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 =                        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= i . 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= 30 .2,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 75 (vòng/ phút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9040" y="4062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0440" y="36813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9040" y="41385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0622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35290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4214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6272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81508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619596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6272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3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6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29718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Bài 5: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Cuộn sơ cấp của máy biến áp có điện áp và số vò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ây lần lượt là : U</a:t>
            </a:r>
            <a:r>
              <a:rPr b="1" lang="en-US" sz="2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= 220V, N</a:t>
            </a:r>
            <a:r>
              <a:rPr b="1" lang="en-US" sz="2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= 1650 vòng, cuộn dây thứ c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ó số vòng dây là 90vò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. Tính hiệu điện thế của cuộn dây thứ cấ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. Nếu hiệu điện thế ở cuộn dây sơ cấp tăng lên 440Vthì hiệ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điện thế của cuộn dây thứ cấp là bao nhiêu. Biết số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vòng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dâ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ủa cuộn sơ cấp và thứ cấp l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không đổ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48120"/>
            <a:ext cx="2590920" cy="4114800"/>
          </a:xfrm>
          <a:prstGeom prst="rect">
            <a:avLst/>
          </a:prstGeom>
          <a:solidFill>
            <a:srgbClr val="99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óm tắ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U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22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1650vò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90 vò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U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00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= 44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. U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= ?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. U</a:t>
            </a:r>
            <a:r>
              <a:rPr b="1" lang="en-US" sz="2800" spc="-1" strike="noStrike" baseline="30000">
                <a:solidFill>
                  <a:srgbClr val="ff00ff"/>
                </a:solidFill>
                <a:latin typeface="Arial"/>
              </a:rPr>
              <a:t>/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= ?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0" y="5257800"/>
            <a:ext cx="25146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2743200"/>
            <a:ext cx="579096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i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ệu điện thế ở cuộn thứ cấ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ệu điện thế ở cuộn dây thứ c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648320" y="3495600"/>
          <a:ext cx="289548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495600"/>
                    <a:ext cx="289548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800600" y="5257800"/>
          <a:ext cx="3200400" cy="15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257800"/>
                    <a:ext cx="32004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3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EJ1450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662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33720" y="3657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/ KIẾN THỨ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78000" y="4800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I/ BÀI T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97120" y="6004080"/>
            <a:ext cx="3719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8800" y="2209680"/>
            <a:ext cx="5257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IẾT 49: ÔN TẬP</a:t>
            </a:r>
            <a:endParaRPr b="1" lang="en-US" sz="40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Bài 6: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Trên vỏ máy bơm nước có ghi 220V - 350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. Hãy nêu ý nghĩa của các số liệu trê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. Nếu máy này sử dụng mỗi ngày 2,4 giờ thì điện năng tiê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hụ của quạt này trong 1 tháng ( 30 ngày) là bao nhiê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209680"/>
            <a:ext cx="2590920" cy="4114800"/>
          </a:xfrm>
          <a:prstGeom prst="rect">
            <a:avLst/>
          </a:prstGeom>
          <a:solidFill>
            <a:srgbClr val="99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óm tắ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U = 22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= 35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 = 2,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. giải th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. A = ? 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-14400" y="2990880"/>
          <a:ext cx="49716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2990880"/>
                    <a:ext cx="49716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395748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38440" y="1828800"/>
            <a:ext cx="647712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i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20V: điện áp định mức, 350W: công suấ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định mức. Nếu sử dụng máy này đúng v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ệu điện thế 220V thì nó sẽ hoạt độ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đúng với công suất má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 Điện năng tiêu thụ của máy này sử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ong 1 thá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590920" y="4592520"/>
          <a:ext cx="6553080" cy="12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592520"/>
                    <a:ext cx="655308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5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4" dur="5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309600"/>
            <a:ext cx="86108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Hướng dẫn về nh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- Học bà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- Xem lại cách tính điện áp và số vòng dây của máy bién á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- Chuẩn bị kiến thức làm bài kiểm tra HKII đạt kết quả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3886200"/>
            <a:ext cx="9067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Chúc các em có một kì thi đạt kết quả tốt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8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52800" y="6019920"/>
            <a:ext cx="205740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ạng điệ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ng nh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505320"/>
            <a:ext cx="528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52600"/>
            <a:ext cx="76320" cy="5695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29000" y="54756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62080"/>
            <a:ext cx="2133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ruyền và biến đổi chuyển 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181480" y="142920"/>
            <a:ext cx="1371600" cy="466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685800"/>
            <a:ext cx="1376640" cy="366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6515280" y="-14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ruyền chuyển 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6472080" y="8571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iến đổi chuyển 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76520" y="1590840"/>
            <a:ext cx="49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62160" y="1252440"/>
            <a:ext cx="121932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n toàn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67080" y="1409400"/>
            <a:ext cx="990720" cy="190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1600200"/>
            <a:ext cx="995400" cy="219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5219640" y="1228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n toàn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5181480" y="1647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ứu người bị tai nạn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160020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Đồ dùng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6248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648320" y="2276640"/>
            <a:ext cx="1218960" cy="145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5715000" y="2600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Đồ dùng loại điện  – quang. Đèn sợi đốt, đèn huỳnh qu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6" action="ppaction://hlinksldjump"/>
          </p:cNvPr>
          <p:cNvSpPr/>
          <p:nvPr/>
        </p:nvSpPr>
        <p:spPr>
          <a:xfrm>
            <a:off x="5772240" y="206676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Vật liệu kĩ thuật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48320" y="2905200"/>
            <a:ext cx="1143000" cy="82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5672160" y="3214800"/>
            <a:ext cx="33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Đồ dùng loại điện – nhiệt. Bàn là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34080" y="3848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Đồ dùng loại điên – cơ. Quạt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648320" y="3514320"/>
            <a:ext cx="1066680" cy="219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3733920"/>
            <a:ext cx="1157040" cy="357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733920"/>
            <a:ext cx="1171440" cy="1000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38760" y="44290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áy biến áp một pha, sử dụng hợp lí điện nă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5080" y="526716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ính toán điện năng tiêu thụ trong gia đì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58770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Đặc điểm và cấu tạo của mạng điện trong nh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29200" y="6491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hiết bị đóng cắt và lấy đ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680" y="3090960"/>
            <a:ext cx="1905120" cy="761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ẾN THỨ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733920"/>
            <a:ext cx="1218960" cy="1838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105520" y="6143760"/>
            <a:ext cx="914400" cy="25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6400800"/>
            <a:ext cx="938160" cy="29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37339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7924680" y="586728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52280"/>
            <a:ext cx="7238880" cy="106704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ại sao phải truyền chuyển độ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048120"/>
            <a:ext cx="8686800" cy="327636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ỉ số truyền của bộ truyền bánh đai được tí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o công thức nào dưới đâ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.                 B.                   C.              D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19320"/>
            <a:ext cx="8686800" cy="198108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ì các bộ phận của máy đặt cách xa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à có tốc độ quay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57480" y="4753080"/>
          <a:ext cx="140940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4753080"/>
                    <a:ext cx="14094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295800" y="4762440"/>
          <a:ext cx="1371600" cy="7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5800" y="4762440"/>
                    <a:ext cx="13716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162920" y="4905360"/>
          <a:ext cx="1447560" cy="52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2920" y="4905360"/>
                    <a:ext cx="1447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43560" y="4795920"/>
          <a:ext cx="121932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43560" y="4795920"/>
                    <a:ext cx="12193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09480" y="4876920"/>
            <a:ext cx="53352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22960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28600"/>
            <a:ext cx="8763120" cy="990720"/>
          </a:xfrm>
          <a:prstGeom prst="cloudCallout">
            <a:avLst>
              <a:gd name="adj1" fmla="val -44458"/>
              <a:gd name="adj2" fmla="val 70032"/>
            </a:avLst>
          </a:prstGeom>
          <a:solidFill>
            <a:srgbClr val="80808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ại sao phải biến đổi chuyển đ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905120"/>
            <a:ext cx="8915400" cy="1295280"/>
          </a:xfrm>
          <a:prstGeom prst="verticalScroll">
            <a:avLst>
              <a:gd name="adj" fmla="val 12500"/>
            </a:avLst>
          </a:prstGeom>
          <a:solidFill>
            <a:srgbClr val="bbe0e3">
              <a:alpha val="5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Vì các bộ phận của máy đặt xa nhau và có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dạng chuyển động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505320"/>
            <a:ext cx="8686800" cy="251460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ơ cấu tay quay – con trượt biến chuyển độ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ay thành chuyển động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. lắc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. quay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. tịnh tiế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. trò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5229360"/>
            <a:ext cx="60984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001000" y="57913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380880"/>
            <a:ext cx="7772400" cy="1295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Ở các hình ảnh dưới đây, hình nào đảm bảo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àn điệ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1781280"/>
            <a:ext cx="2666520" cy="2134080"/>
            <a:chOff x="457200" y="1781280"/>
            <a:chExt cx="2666520" cy="213408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457200" y="1781280"/>
              <a:ext cx="2666520" cy="20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373760" y="3608280"/>
              <a:ext cx="91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hình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2895840" cy="16621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4572000" y="1905120"/>
            <a:ext cx="2895120" cy="1966320"/>
            <a:chOff x="4572000" y="1905120"/>
            <a:chExt cx="2895120" cy="1966320"/>
          </a:xfrm>
        </p:grpSpPr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4572000" y="1905120"/>
              <a:ext cx="289512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040720" y="3564360"/>
              <a:ext cx="103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hình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2000" y="3886200"/>
            <a:ext cx="2590560" cy="1980720"/>
            <a:chOff x="4572000" y="3886200"/>
            <a:chExt cx="2590560" cy="1980720"/>
          </a:xfrm>
        </p:grpSpPr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4572000" y="3886200"/>
              <a:ext cx="2590560" cy="19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145560" y="4964040"/>
              <a:ext cx="1006920" cy="631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hình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467480" y="5562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11436" y="3837"/>
                </a:moveTo>
                <a:lnTo>
                  <a:pt x="14012" y="6448"/>
                </a:lnTo>
                <a:lnTo>
                  <a:pt x="14012" y="4707"/>
                </a:lnTo>
                <a:lnTo>
                  <a:pt x="15788" y="4707"/>
                </a:lnTo>
                <a:lnTo>
                  <a:pt x="15788" y="8224"/>
                </a:lnTo>
                <a:lnTo>
                  <a:pt x="18399" y="10800"/>
                </a:lnTo>
                <a:lnTo>
                  <a:pt x="16745" y="10800"/>
                </a:lnTo>
                <a:lnTo>
                  <a:pt x="16745" y="17989"/>
                </a:lnTo>
                <a:lnTo>
                  <a:pt x="6127" y="17989"/>
                </a:lnTo>
                <a:lnTo>
                  <a:pt x="6127" y="10800"/>
                </a:lnTo>
                <a:lnTo>
                  <a:pt x="4473" y="10800"/>
                </a:lnTo>
                <a:close/>
              </a:path>
              <a:path fill="darkenLess" w="22872" h="21600">
                <a:moveTo>
                  <a:pt x="14012" y="6448"/>
                </a:moveTo>
                <a:lnTo>
                  <a:pt x="14012" y="4707"/>
                </a:lnTo>
                <a:lnTo>
                  <a:pt x="15788" y="4707"/>
                </a:lnTo>
                <a:lnTo>
                  <a:pt x="15788" y="8224"/>
                </a:lnTo>
                <a:close/>
              </a:path>
              <a:path fill="darkenLess" w="22872" h="21600">
                <a:moveTo>
                  <a:pt x="10514" y="14299"/>
                </a:moveTo>
                <a:lnTo>
                  <a:pt x="12359" y="14299"/>
                </a:lnTo>
                <a:lnTo>
                  <a:pt x="12359" y="17989"/>
                </a:lnTo>
                <a:lnTo>
                  <a:pt x="16745" y="17989"/>
                </a:lnTo>
                <a:lnTo>
                  <a:pt x="16745" y="10800"/>
                </a:lnTo>
                <a:lnTo>
                  <a:pt x="6127" y="10800"/>
                </a:lnTo>
                <a:lnTo>
                  <a:pt x="6127" y="17989"/>
                </a:lnTo>
                <a:lnTo>
                  <a:pt x="105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80880"/>
            <a:ext cx="8534520" cy="1524240"/>
          </a:xfrm>
          <a:prstGeom prst="verticalScroll">
            <a:avLst>
              <a:gd name="adj" fmla="val 12500"/>
            </a:avLst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hi phát hiện một người bị tai nạn điện ta s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àm gì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360" y="2286000"/>
            <a:ext cx="9220320" cy="2971800"/>
          </a:xfrm>
          <a:prstGeom prst="verticalScroll">
            <a:avLst>
              <a:gd name="adj" fmla="val 12500"/>
            </a:avLst>
          </a:prstGeom>
          <a:solidFill>
            <a:srgbClr val="808080">
              <a:alpha val="28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ách nạn nhân ra khỏi nguông điệ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ơ cứu nạn nhâ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hi nạn nhân đã tĩnh ta đưa nạn nhân đế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ạm y tế gần nhất hoặc gọi nhân viên y tế đế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80880"/>
            <a:ext cx="815364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ật liệu kĩ thuật điện gồm những loại nà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114800"/>
            <a:ext cx="883908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êu đặc điểm của vật liệu dẫn điện, cách điệ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ật liệu dẫn từ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905120"/>
            <a:ext cx="769644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ật liệu dẫn đi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ật liệu cách đi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ật liệu dẫn t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380880"/>
            <a:ext cx="8763120" cy="1447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ồ dùng loại điện – quang, biến đổi điện nă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h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990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quang nă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981080"/>
            <a:ext cx="89917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ãy nêu những ưu và nhược điểm của đèn sợ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đốt và đèn huỳnh qu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809880"/>
          <a:ext cx="8763120" cy="2343240"/>
        </p:xfrm>
        <a:graphic>
          <a:graphicData uri="http://schemas.openxmlformats.org/drawingml/2006/table">
            <a:tbl>
              <a:tblPr/>
              <a:tblGrid>
                <a:gridCol w="2189160"/>
                <a:gridCol w="3297240"/>
                <a:gridCol w="32767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oại đè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Ưu đi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hược đi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Đèn sợi đố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Đèn huỳnh qu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548080" y="425124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Phát sáng liên tụ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Không cần mồi phóng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42670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Tuổi thọ thấ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không tiết kiệm điện nă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5029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Tuổi thọ 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Hiệu suất phát quang 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Tiết kiệm được điện nă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50817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Cần mồi phóng đ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Ánh sáng không liên tụ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8T23:56:12Z</dcterms:created>
  <dc:creator>NGUYENTHUAN</dc:creator>
  <dc:description/>
  <dc:language>en-US</dc:language>
  <cp:lastModifiedBy>Đại học Công nghiệp</cp:lastModifiedBy>
  <dcterms:modified xsi:type="dcterms:W3CDTF">2011-04-26T13:28:36Z</dcterms:modified>
  <cp:revision>8</cp:revision>
  <dc:subject/>
  <dc:title>Slide 1</dc:title>
</cp:coreProperties>
</file>