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jpeg" ContentType="image/jpeg"/>
  <Override PartName="/ppt/media/image2.gif" ContentType="image/gif"/>
  <Override PartName="/ppt/media/image7.gif" ContentType="image/gif"/>
  <Override PartName="/ppt/media/image5.jpeg" ContentType="image/jpeg"/>
  <Override PartName="/ppt/media/image18.wmf" ContentType="image/x-wmf"/>
  <Override PartName="/ppt/media/image20.wmf" ContentType="image/x-wmf"/>
  <Override PartName="/ppt/media/image12.wmf" ContentType="image/x-wmf"/>
  <Override PartName="/ppt/media/image1.gif" ContentType="image/gif"/>
  <Override PartName="/ppt/media/chimes.wav" ContentType="audio/x-wav"/>
  <Override PartName="/ppt/media/image16.png" ContentType="image/png"/>
  <Override PartName="/ppt/media/image4.gif" ContentType="image/gif"/>
  <Override PartName="/ppt/media/image11.wmf" ContentType="image/x-wmf"/>
  <Override PartName="/ppt/media/image6.wmf" ContentType="image/x-wmf"/>
  <Override PartName="/ppt/media/image3.gif" ContentType="image/gif"/>
  <Override PartName="/ppt/media/image28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13.png" ContentType="image/png"/>
  <Override PartName="/ppt/media/image23.wmf" ContentType="image/x-wmf"/>
  <Override PartName="/ppt/media/image22.wmf" ContentType="image/x-wmf"/>
  <Override PartName="/ppt/media/image10.wmf" ContentType="image/x-wmf"/>
  <Override PartName="/ppt/media/image21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685-0682-4AE3-BACE-EDDE8C45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8C95-143F-4388-BD0C-972474C8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491-E510-4DE0-9FDC-CC9D36A4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A94F-5AEC-4808-815C-E486D81D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134B-9361-4E18-9D83-668A7400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8625-37BC-4EF6-9A5B-C8AFF4A5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A0DB-6513-42DD-99D5-A9B14624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0D9-CE5A-4E4A-8FD9-7FB19068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DAA-4890-48F9-AB76-2D2D8842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8E9-138B-4249-9820-61AE6E9E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05D-03F2-4D9A-B75C-FF54E35F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3DA-2A56-4D81-957C-3C3E0C37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D1A3-4962-42DA-AC96-3E8076DAD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5.jpeg"/><Relationship Id="rId27" Type="http://schemas.openxmlformats.org/officeDocument/2006/relationships/image" Target="../media/image6.wmf"/><Relationship Id="rId28" Type="http://schemas.openxmlformats.org/officeDocument/2006/relationships/image" Target="../media/image7.gif"/><Relationship Id="rId29" Type="http://schemas.openxmlformats.org/officeDocument/2006/relationships/image" Target="../media/image7.gif"/><Relationship Id="rId30" Type="http://schemas.openxmlformats.org/officeDocument/2006/relationships/image" Target="../media/image7.gif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43800" y="5513400"/>
            <a:ext cx="1600200" cy="1344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407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315200" y="0"/>
            <a:ext cx="1828800" cy="1895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04920" y="502920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42920" y="1569960"/>
            <a:ext cx="1293840" cy="743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486400" y="533520"/>
            <a:ext cx="1295280" cy="742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203640" y="512640"/>
            <a:ext cx="1295280" cy="743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559640" y="3429000"/>
            <a:ext cx="1295280" cy="743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771640" y="5624640"/>
            <a:ext cx="1295640" cy="742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395280" y="4329000"/>
            <a:ext cx="1295280" cy="743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6227640" y="5877000"/>
            <a:ext cx="1295640" cy="743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7848720" y="4545000"/>
            <a:ext cx="129528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4464000" y="2565360"/>
            <a:ext cx="1295280" cy="743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2195640" y="3824280"/>
            <a:ext cx="1295280" cy="743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8064360" y="728640"/>
            <a:ext cx="1295640" cy="743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1511280" y="584280"/>
            <a:ext cx="1295280" cy="743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4343400" y="4724280"/>
            <a:ext cx="1444680" cy="66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4608360" y="6197760"/>
            <a:ext cx="1444680" cy="660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5616720" y="3357720"/>
            <a:ext cx="1444320" cy="660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174600" y="3056040"/>
            <a:ext cx="1444680" cy="660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3635280" y="3321000"/>
            <a:ext cx="1295640" cy="743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3166920" y="1628640"/>
            <a:ext cx="1444680" cy="507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0" y="5445000"/>
            <a:ext cx="1444680" cy="50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1224000" y="3213000"/>
            <a:ext cx="1444680" cy="507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6624720" y="4834080"/>
            <a:ext cx="1444680" cy="507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079640" y="539640"/>
            <a:ext cx="7129440" cy="6345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7502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* TRƯỜNG THCS HUỲNH THỊ LỰU*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411280" y="4905360"/>
            <a:ext cx="406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GIÁO VIÊN: PHẠM NGỌC Á</a:t>
            </a:r>
            <a:endParaRPr b="1" lang="en-US" sz="20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302256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229860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5002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367020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6"/>
          <a:stretch/>
        </p:blipFill>
        <p:spPr>
          <a:xfrm>
            <a:off x="3505320" y="1981080"/>
            <a:ext cx="1828800" cy="2171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7"/>
          <a:stretch/>
        </p:blipFill>
        <p:spPr>
          <a:xfrm>
            <a:off x="3886200" y="2438280"/>
            <a:ext cx="968400" cy="1067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8">
            <a:lum bright="36000"/>
          </a:blip>
          <a:stretch/>
        </p:blipFill>
        <p:spPr>
          <a:xfrm rot="1863600">
            <a:off x="4519440" y="2356920"/>
            <a:ext cx="1192320" cy="881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9">
            <a:lum bright="36000"/>
          </a:blip>
          <a:stretch/>
        </p:blipFill>
        <p:spPr>
          <a:xfrm rot="1863600">
            <a:off x="4155840" y="2968560"/>
            <a:ext cx="1199880" cy="887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0">
            <a:lum bright="36000"/>
          </a:blip>
          <a:stretch/>
        </p:blipFill>
        <p:spPr>
          <a:xfrm rot="1863600">
            <a:off x="3376440" y="2585520"/>
            <a:ext cx="1192320" cy="88128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3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3526E-006 C 0.02066 0.02474 0.00608 0.0904 -0.03194 0.14682 C -0.07135 0.20393 -0.11875 0.23098 -0.13889 0.20601 C -0.15937 0.18196 -0.14444 0.11445 -0.10625 0.05849 C -0.06823 0.00208 -0.02066 -0.02428 -1.38889E-006 3.3526E-006 Z">
                                      <p:cBhvr>
                                        <p:cTn id="21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81503E-006 C -0.01823 0.02381 -0.06336 3.81502999999978E-006 -0.10625 -0.05318 C -0.14687 -0.10682 -0.16302 -0.1711 -0.14583 -0.19538 C -0.12864 -0.21873 -0.08142 -0.19492 -0.04062 -0.14104 C -0.000170000000000003 -0.08763 0.01858 -0.02497 -3.05556E-006 3.81503E-006 Z">
                                      <p:cBhvr>
                                        <p:cTn id="23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42775E-006 C 0.00694 -0.04 0.05017 -0.06751 0.10729 -0.06289 C 0.16475 -0.05826 0.21007 -0.02243 0.20833 0.01619 C 0.20659 0.05549 0.15885 0.08185 0.10364 0.07214 C 0.04375 0.07283 -0.00174 0.03908 3.05556E-006 -2.42775E-006 Z">
                                      <p:cBhvr>
                                        <p:cTn id="25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1000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6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23800" y="228600"/>
            <a:ext cx="8315280" cy="1447920"/>
          </a:xfrm>
          <a:prstGeom prst="horizontalScroll">
            <a:avLst>
              <a:gd name="adj" fmla="val 12500"/>
            </a:avLst>
          </a:prstGeom>
          <a:solidFill>
            <a:srgbClr val="bbe0e3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Đồ dùng loại điện – nhiệt, biến đổi điện nă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ành…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33640" y="8380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nhiệt nă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1828800"/>
            <a:ext cx="8686800" cy="1447920"/>
          </a:xfrm>
          <a:prstGeom prst="horizontalScroll">
            <a:avLst>
              <a:gd name="adj" fmla="val 12500"/>
            </a:avLst>
          </a:prstGeom>
          <a:solidFill>
            <a:srgbClr val="bbe0e3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ộ phận quan trọng nhất của đồ dùng điện – nhiệ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à………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438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dây đốt nó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3505320"/>
            <a:ext cx="8686800" cy="1447560"/>
          </a:xfrm>
          <a:prstGeom prst="horizontalScroll">
            <a:avLst>
              <a:gd name="adj" fmla="val 12500"/>
            </a:avLst>
          </a:prstGeom>
          <a:solidFill>
            <a:srgbClr val="80808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ây đốt nóng của đồ dùng điện – nhiệt phải đảm b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hững yêu cầu nào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5029200"/>
            <a:ext cx="5105520" cy="1169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Chịu được nhiệt độ c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Có điện trở suất lớ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8077320" y="579132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743200"/>
            <a:ext cx="8686800" cy="1447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ộ phận quan trọng nhất của đồ dùng loại điện – c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………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3526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động cơ điện một 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280" y="0"/>
            <a:ext cx="8915400" cy="1447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ồ dùng loại điện – cơ biến đổi điện năng thà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6904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Cơ nă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8077320" y="579132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28440"/>
            <a:ext cx="8381880" cy="1447920"/>
          </a:xfrm>
          <a:prstGeom prst="rect">
            <a:avLst/>
          </a:prstGeom>
          <a:solidFill>
            <a:srgbClr val="bbe0e3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áy biến áp dùng đ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. Biến đổi điện áp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. Tăng điện á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. Giảm điện áp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. Giữ nguyên điện á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8120" y="485640"/>
            <a:ext cx="609480" cy="5335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676520"/>
            <a:ext cx="7010280" cy="914400"/>
          </a:xfrm>
          <a:prstGeom prst="rect">
            <a:avLst/>
          </a:prstGeom>
          <a:solidFill>
            <a:srgbClr val="bbe0e3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ãy nêu cấu tạo của máy biến áp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438280"/>
            <a:ext cx="8686800" cy="3276720"/>
          </a:xfrm>
          <a:prstGeom prst="horizontalScroll">
            <a:avLst>
              <a:gd name="adj" fmla="val 12500"/>
            </a:avLst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ỉ số giữa số vòng dây và điện áp của cuộn dâ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ơ cấp và cuộn dây thứ cấp l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.                 B.                   C.              D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400040" y="4143240"/>
          <a:ext cx="112248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4143240"/>
                    <a:ext cx="11224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435480" y="4152960"/>
          <a:ext cx="109224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5480" y="4152960"/>
                    <a:ext cx="109224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7243920" y="4295880"/>
          <a:ext cx="1284120" cy="52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43920" y="4295880"/>
                    <a:ext cx="128412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567400" y="4186080"/>
          <a:ext cx="969840" cy="70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7400" y="4186080"/>
                    <a:ext cx="9698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09480" y="4267080"/>
            <a:ext cx="53352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838080"/>
            <a:ext cx="8915400" cy="1447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ử dụng điện năng như thế nào là hợp l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à tiết kiệ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8077320" y="579132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666880"/>
            <a:ext cx="9144000" cy="28958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Hạn chế sử dụng điện năng trong giờ cao điể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Sử dụng những đồ dùng điện có hiệu suất c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 hông sử dụng lãng phí điện nă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8077320" y="579132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380880"/>
            <a:ext cx="8686800" cy="3276720"/>
          </a:xfrm>
          <a:prstGeom prst="horizontalScroll">
            <a:avLst>
              <a:gd name="adj" fmla="val 12500"/>
            </a:avLst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ông thức tính điện năng tiêu thụ của đồ dù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điện trong 1 ngà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.                 B.                   C.              D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57480" y="2120760"/>
          <a:ext cx="9950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7480" y="2120760"/>
                    <a:ext cx="9950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200400" y="2106720"/>
          <a:ext cx="1023840" cy="76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2106720"/>
                    <a:ext cx="102384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7442280" y="2266920"/>
          <a:ext cx="885600" cy="469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42280" y="2266920"/>
                    <a:ext cx="8856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334120" y="2228760"/>
          <a:ext cx="1109520" cy="470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4120" y="2228760"/>
                    <a:ext cx="110952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4876920" y="2195640"/>
            <a:ext cx="533160" cy="533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ạng điện trong nhà có những đặc điểm nà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0" y="16002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Yêu cầu của mang điện trong nhà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04040" y="3505320"/>
            <a:ext cx="924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Hãy nêu cấu tạo của mạng điện trong nh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924680" y="5867280"/>
            <a:ext cx="990720" cy="99072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924680" y="5867280"/>
            <a:ext cx="990720" cy="99072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380880"/>
            <a:ext cx="8915400" cy="5181840"/>
          </a:xfrm>
          <a:prstGeom prst="horizontalScroll">
            <a:avLst>
              <a:gd name="adj" fmla="val 12500"/>
            </a:avLst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ết bị nào dưới đây là thiết bị đóng cắ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và lấy điệ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. Công tắc điệ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. Ổ điện, cầu da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. Công tơ điệ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. Bóng đè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67800" y="224784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ầu ch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95320" y="2666880"/>
            <a:ext cx="277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ây dẫn điệ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89160" y="3200400"/>
            <a:ext cx="32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hích cắm điệ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657600"/>
            <a:ext cx="291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ầu dao 1 cự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9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0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1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6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6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7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6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6320" y="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ài tậ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838080"/>
            <a:ext cx="922032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ài 1: Nhà máy thuỷ điện biến đổi 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.................... thành điện nă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62920" y="8380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thuỷ nă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129528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của dòng nướ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914400"/>
            <a:ext cx="883908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Bài 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:Cách sử dụng điện nào dưới đây là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không an toàn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. Thực hiện nối đất các thiết bi, đồ dùng điệ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. Kiểm tra cách điện của đồ dùng điệ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. Không đến gần trạm biến á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. Tắm mưa dưới đường dây điện cao á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2362320"/>
            <a:ext cx="533520" cy="457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3062160"/>
            <a:ext cx="87631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Bài 3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Khi phát hiện một người bị tai nạn điện do chạm t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rực tiếp vào tủ lạnh đã bị rò điện, ta sẽ làm gì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. Gọi người tới cứ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. Rút phích cắm hoặc ngắt apto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. Nắm áo nạn nhân kéo 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. Dùng tây trần kéo người đó 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3840" y="4191120"/>
            <a:ext cx="533520" cy="45720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6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ff"/>
                </a:solidFill>
                <a:uFillTx/>
                <a:latin typeface="Arial"/>
              </a:rPr>
              <a:t>Bài 4: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Ở bộ truyền động đai bánh dẫn và bánh bị d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có đường kính lần lượt là 50 dm, 20dm. Bánh dẫn c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tốc độ quay 30 vòng/phút. Tí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a. Tỉ số truyề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b. Bánh nào quay nhanh hơn ? Tại sa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C. Tính tốc độ quay của bánh bị dẫ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743200"/>
            <a:ext cx="3276720" cy="4114800"/>
          </a:xfrm>
          <a:prstGeom prst="rect">
            <a:avLst/>
          </a:prstGeom>
          <a:solidFill>
            <a:srgbClr val="99cc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Tóm tắ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= 50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= 20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N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= 30 vòng/phú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a. i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b. giải th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c. n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4495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2743200"/>
            <a:ext cx="5790960" cy="41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i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ỉ số truyề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 =            =               = 2,5 (lầ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ánh bị dẫn quay nhanh hơn vì c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đườngkính nhỏ hơn D2&lt; 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ốc độ quay của bánh bị d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 =                        n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= i . n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= 30 .2,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 75 (vòng/ phút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29040" y="4062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00440" y="368136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29040" y="413856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406224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35290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81480" y="42148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6272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581508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619596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6272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9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1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6" dur="1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1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3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6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2971800"/>
          </a:xfrm>
          <a:prstGeom prst="rect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Bài 5: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Cuộn sơ cấp của máy biến áp có điện áp và số vò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dây lần lượt là : U</a:t>
            </a:r>
            <a:r>
              <a:rPr b="1" lang="en-US" sz="24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= 220V, N</a:t>
            </a:r>
            <a:r>
              <a:rPr b="1" lang="en-US" sz="24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= 1650 vòng, cuộn dây thứ cấ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có số vòng dây là 90vò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a. Tính hiệu điện thế của cuộn dây thứ cấ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b. Nếu hiệu điện thế ở cuộn dây sơ cấp tăng lên 440Vthì hiệ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điện thế của cuộn dây thứ cấp là bao nhiêu. Biết số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vòng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dâ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của cuộn sơ cấp và thứ cấp l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không đổi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48120"/>
            <a:ext cx="2590920" cy="4114800"/>
          </a:xfrm>
          <a:prstGeom prst="rect">
            <a:avLst/>
          </a:prstGeom>
          <a:solidFill>
            <a:srgbClr val="99cc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Tóm tắ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U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= 220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N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= 1650vò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N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= 90 vò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U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ff00ff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= 440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a. U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= ?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b. U</a:t>
            </a:r>
            <a:r>
              <a:rPr b="1" lang="en-US" sz="2800" spc="-1" strike="noStrike" baseline="30000">
                <a:solidFill>
                  <a:srgbClr val="ff00ff"/>
                </a:solidFill>
                <a:latin typeface="Arial"/>
              </a:rPr>
              <a:t>/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= ?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760" y="5257800"/>
            <a:ext cx="25146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2743200"/>
            <a:ext cx="5790960" cy="41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i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iệu điện thế ở cuộn thứ cấ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iệu điện thế ở cuộn dây thứ cấ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648320" y="3495600"/>
          <a:ext cx="2895480" cy="15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495600"/>
                    <a:ext cx="289548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800600" y="5257800"/>
          <a:ext cx="3200400" cy="15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5257800"/>
                    <a:ext cx="320040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2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7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2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3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EJ1450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662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33720" y="36576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/ KIẾN THỨ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78000" y="48006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I/ BÀI TẬ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97120" y="6004080"/>
            <a:ext cx="3719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28800" y="2209680"/>
            <a:ext cx="5257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IẾT 49: ÔN TẬP</a:t>
            </a:r>
            <a:endParaRPr b="1" lang="en-US" sz="4000" spc="1" strike="noStrike">
              <a:ln w="9360">
                <a:solidFill>
                  <a:srgbClr val="ff00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Bài 6: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Trên vỏ máy bơm nước có ghi 220V - 350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a. Hãy nêu ý nghĩa của các số liệu trên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b. Nếu máy này sử dụng mỗi ngày 2,4 giờ thì điện năng tiê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thụ của quạt này trong 1 tháng ( 30 ngày) là bao nhiêu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209680"/>
            <a:ext cx="2590920" cy="4114800"/>
          </a:xfrm>
          <a:prstGeom prst="rect">
            <a:avLst/>
          </a:prstGeom>
          <a:solidFill>
            <a:srgbClr val="99cc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Tóm tắ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U = 220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= 35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t = 2,4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a. giải th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b. A = ? W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-14400" y="2990880"/>
          <a:ext cx="49716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2990880"/>
                    <a:ext cx="49716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0" y="3957480"/>
            <a:ext cx="2514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38440" y="1828800"/>
            <a:ext cx="6477120" cy="41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i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20V: điện áp định mức, 350W: công suấ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định mức. Nếu sử dụng máy này đúng vớ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iệu điện thế 220V thì nó sẽ hoạt độ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đúng với công suất má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. Điện năng tiêu thụ của máy này sử d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rong 1 thá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590920" y="4592520"/>
          <a:ext cx="6553080" cy="12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592520"/>
                    <a:ext cx="655308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0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0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5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5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4" dur="500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0880" y="309600"/>
            <a:ext cx="86108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Hướng dẫn về nh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- Học bà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- Xem lại cách tính điện áp và số vòng dây của máy bién á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- Chuẩn bị kiến thức làm bài kiểm tra HKII đạt kết quả tố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3886200"/>
            <a:ext cx="90676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Chúc các em có một kì thi đạt kết quả tốt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8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8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52800" y="6019920"/>
            <a:ext cx="2057400" cy="685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ạng điệ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ong nh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3505320"/>
            <a:ext cx="5288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552600"/>
            <a:ext cx="76320" cy="5695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29000" y="54756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62080"/>
            <a:ext cx="213336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Truyền và biến đổi chuyển độ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181480" y="142920"/>
            <a:ext cx="1371600" cy="466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685800"/>
            <a:ext cx="1376640" cy="3668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6515280" y="-14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Truyền chuyển độ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6472080" y="8571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iến đổi chuyển độ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76520" y="1590840"/>
            <a:ext cx="49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62160" y="1252440"/>
            <a:ext cx="1219320" cy="703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An toàn điệ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267080" y="1409400"/>
            <a:ext cx="990720" cy="190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1600200"/>
            <a:ext cx="995400" cy="2192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5219640" y="12286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n toàn điệ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4" action="ppaction://hlinksldjump"/>
          </p:cNvPr>
          <p:cNvSpPr/>
          <p:nvPr/>
        </p:nvSpPr>
        <p:spPr>
          <a:xfrm>
            <a:off x="5181480" y="1647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ứu người bị tai nạn điệ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3352680"/>
            <a:ext cx="1600200" cy="703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Đồ dùng điệ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62485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648320" y="2276640"/>
            <a:ext cx="1218960" cy="145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5" action="ppaction://hlinksldjump"/>
          </p:cNvPr>
          <p:cNvSpPr/>
          <p:nvPr/>
        </p:nvSpPr>
        <p:spPr>
          <a:xfrm>
            <a:off x="5715000" y="2600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Đồ dùng loại điện  – quang. Đèn sợi đốt, đèn huỳnh qu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6" action="ppaction://hlinksldjump"/>
          </p:cNvPr>
          <p:cNvSpPr/>
          <p:nvPr/>
        </p:nvSpPr>
        <p:spPr>
          <a:xfrm>
            <a:off x="5772240" y="206676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Vật liệu kĩ thuật điệ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648320" y="2905200"/>
            <a:ext cx="1143000" cy="82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5672160" y="3214800"/>
            <a:ext cx="33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Đồ dùng loại điện – nhiệt. Bàn là điệ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34080" y="38480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Đồ dùng loại điên – cơ. Quạt điệ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648320" y="3514320"/>
            <a:ext cx="1066680" cy="2192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3733920"/>
            <a:ext cx="1157040" cy="357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733920"/>
            <a:ext cx="1171440" cy="1000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38760" y="442908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Máy biến áp một pha, sử dụng hợp lí điện nă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15080" y="526716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Tính toán điện năng tiêu thụ trong gia đì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58770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Đặc điểm và cấu tạo của mạng điện trong nh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29200" y="64911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Thiết bị đóng cắt và lấy điệ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5680" y="3090960"/>
            <a:ext cx="1905120" cy="761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IẾN THỨ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3733920"/>
            <a:ext cx="1218960" cy="18381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105520" y="6143760"/>
            <a:ext cx="914400" cy="257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6400800"/>
            <a:ext cx="938160" cy="299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37339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7924680" y="5867280"/>
            <a:ext cx="990720" cy="99072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52280"/>
            <a:ext cx="7238880" cy="106704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ại sao phải truyền chuyển độ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3048120"/>
            <a:ext cx="8686800" cy="3276360"/>
          </a:xfrm>
          <a:prstGeom prst="horizontalScroll">
            <a:avLst>
              <a:gd name="adj" fmla="val 12500"/>
            </a:avLst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ỉ số truyền của bộ truyền bánh đai được tín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o công thức nào dưới đâ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.                 B.                   C.              D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219320"/>
            <a:ext cx="8686800" cy="1981080"/>
          </a:xfrm>
          <a:prstGeom prst="horizontalScroll">
            <a:avLst>
              <a:gd name="adj" fmla="val 12500"/>
            </a:avLst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Vì các bộ phận của máy đặt cách xa nh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và có tốc độ quay khác nh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57480" y="4753080"/>
          <a:ext cx="1409400" cy="81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7480" y="4753080"/>
                    <a:ext cx="140940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295800" y="4762440"/>
          <a:ext cx="1371600" cy="79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5800" y="4762440"/>
                    <a:ext cx="13716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7162920" y="4905360"/>
          <a:ext cx="1447560" cy="528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62920" y="4905360"/>
                    <a:ext cx="144756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443560" y="4795920"/>
          <a:ext cx="1219320" cy="70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43560" y="4795920"/>
                    <a:ext cx="121932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09480" y="4876920"/>
            <a:ext cx="533520" cy="533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229600" y="5943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28600"/>
            <a:ext cx="8763120" cy="990720"/>
          </a:xfrm>
          <a:prstGeom prst="cloudCallout">
            <a:avLst>
              <a:gd name="adj1" fmla="val -44458"/>
              <a:gd name="adj2" fmla="val 70032"/>
            </a:avLst>
          </a:prstGeom>
          <a:solidFill>
            <a:srgbClr val="80808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ại sao phải biến đổi chuyển độ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905120"/>
            <a:ext cx="8915400" cy="1295280"/>
          </a:xfrm>
          <a:prstGeom prst="verticalScroll">
            <a:avLst>
              <a:gd name="adj" fmla="val 12500"/>
            </a:avLst>
          </a:prstGeom>
          <a:solidFill>
            <a:srgbClr val="bbe0e3">
              <a:alpha val="54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Vì các bộ phận của máy đặt xa nhau và có cá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dạng chuyển động khác nh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505320"/>
            <a:ext cx="8686800" cy="2514600"/>
          </a:xfrm>
          <a:prstGeom prst="rect">
            <a:avLst/>
          </a:prstGeom>
          <a:solidFill>
            <a:srgbClr val="c0c0c0">
              <a:alpha val="4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ơ cấu tay quay – con trượt biến chuyển độ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quay thành chuyển động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. lắc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. quay.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. tịnh tiế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. trò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5229360"/>
            <a:ext cx="60984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001000" y="579132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11572" y="3837"/>
                </a:moveTo>
                <a:lnTo>
                  <a:pt x="14149" y="6448"/>
                </a:ln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lnTo>
                  <a:pt x="18535" y="10800"/>
                </a:lnTo>
                <a:lnTo>
                  <a:pt x="16882" y="10800"/>
                </a:lnTo>
                <a:lnTo>
                  <a:pt x="16882" y="17989"/>
                </a:lnTo>
                <a:lnTo>
                  <a:pt x="6263" y="17989"/>
                </a:lnTo>
                <a:lnTo>
                  <a:pt x="6263" y="10800"/>
                </a:lnTo>
                <a:lnTo>
                  <a:pt x="4610" y="10800"/>
                </a:lnTo>
                <a:close/>
              </a:path>
              <a:path fill="darkenLess" w="23145" h="21600">
                <a:moveTo>
                  <a:pt x="14149" y="6448"/>
                </a:move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close/>
              </a:path>
              <a:path fill="darkenLess" w="23145" h="21600">
                <a:moveTo>
                  <a:pt x="10650" y="14299"/>
                </a:moveTo>
                <a:lnTo>
                  <a:pt x="12495" y="14299"/>
                </a:lnTo>
                <a:lnTo>
                  <a:pt x="12495" y="17989"/>
                </a:lnTo>
                <a:lnTo>
                  <a:pt x="16882" y="17989"/>
                </a:lnTo>
                <a:lnTo>
                  <a:pt x="16882" y="10800"/>
                </a:lnTo>
                <a:lnTo>
                  <a:pt x="6263" y="10800"/>
                </a:lnTo>
                <a:lnTo>
                  <a:pt x="6263" y="17989"/>
                </a:lnTo>
                <a:lnTo>
                  <a:pt x="1065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380880"/>
            <a:ext cx="7772400" cy="1295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Ở các hình ảnh dưới đây, hình nào đảm bảo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àn điệ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7200" y="1781280"/>
            <a:ext cx="2666520" cy="2134080"/>
            <a:chOff x="457200" y="1781280"/>
            <a:chExt cx="2666520" cy="213408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457200" y="1781280"/>
              <a:ext cx="2666520" cy="200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373760" y="3608280"/>
              <a:ext cx="91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hình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2895840" cy="16621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4572000" y="1905120"/>
            <a:ext cx="2895120" cy="1966320"/>
            <a:chOff x="4572000" y="1905120"/>
            <a:chExt cx="2895120" cy="1966320"/>
          </a:xfrm>
        </p:grpSpPr>
        <p:pic>
          <p:nvPicPr>
            <p:cNvPr id="141" name="" descr=""/>
            <p:cNvPicPr/>
            <p:nvPr/>
          </p:nvPicPr>
          <p:blipFill>
            <a:blip r:embed="rId4"/>
            <a:stretch/>
          </p:blipFill>
          <p:spPr>
            <a:xfrm>
              <a:off x="4572000" y="1905120"/>
              <a:ext cx="2895120" cy="171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040720" y="3564360"/>
              <a:ext cx="103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hình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572000" y="3886200"/>
            <a:ext cx="2590560" cy="1980720"/>
            <a:chOff x="4572000" y="3886200"/>
            <a:chExt cx="2590560" cy="1980720"/>
          </a:xfrm>
        </p:grpSpPr>
        <p:pic>
          <p:nvPicPr>
            <p:cNvPr id="144" name="" descr=""/>
            <p:cNvPicPr/>
            <p:nvPr/>
          </p:nvPicPr>
          <p:blipFill>
            <a:blip r:embed="rId5"/>
            <a:stretch/>
          </p:blipFill>
          <p:spPr>
            <a:xfrm>
              <a:off x="4572000" y="3886200"/>
              <a:ext cx="2590560" cy="19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145560" y="4964040"/>
              <a:ext cx="1006920" cy="631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hình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467480" y="5562720"/>
            <a:ext cx="1371600" cy="1295280"/>
          </a:xfrm>
          <a:custGeom>
            <a:avLst/>
            <a:gdLst>
              <a:gd name="textAreaLeft" fmla="*/ 83880 w 1371600"/>
              <a:gd name="textAreaRight" fmla="*/ 1287720 w 13716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2872" h="21600">
                <a:moveTo>
                  <a:pt x="0" y="0"/>
                </a:moveTo>
                <a:lnTo>
                  <a:pt x="22872" y="0"/>
                </a:lnTo>
                <a:lnTo>
                  <a:pt x="22872" y="21600"/>
                </a:lnTo>
                <a:lnTo>
                  <a:pt x="0" y="21600"/>
                </a:lnTo>
                <a:close/>
              </a:path>
              <a:path fill="lightenLess" w="22872" h="21600">
                <a:moveTo>
                  <a:pt x="0" y="0"/>
                </a:moveTo>
                <a:lnTo>
                  <a:pt x="22872" y="0"/>
                </a:lnTo>
                <a:lnTo>
                  <a:pt x="21472" y="1400"/>
                </a:lnTo>
                <a:lnTo>
                  <a:pt x="1400" y="1400"/>
                </a:lnTo>
                <a:close/>
              </a:path>
              <a:path fill="darken" w="22872" h="21600">
                <a:moveTo>
                  <a:pt x="22872" y="0"/>
                </a:moveTo>
                <a:lnTo>
                  <a:pt x="22872" y="21600"/>
                </a:lnTo>
                <a:lnTo>
                  <a:pt x="21472" y="20200"/>
                </a:lnTo>
                <a:lnTo>
                  <a:pt x="21472" y="1400"/>
                </a:lnTo>
                <a:close/>
              </a:path>
              <a:path fill="darkenLess" w="22872" h="21600">
                <a:moveTo>
                  <a:pt x="22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72" y="20200"/>
                </a:lnTo>
                <a:close/>
              </a:path>
              <a:path fill="lighten" w="22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72" h="21600">
                <a:moveTo>
                  <a:pt x="11436" y="3837"/>
                </a:moveTo>
                <a:lnTo>
                  <a:pt x="14012" y="6448"/>
                </a:lnTo>
                <a:lnTo>
                  <a:pt x="14012" y="4707"/>
                </a:lnTo>
                <a:lnTo>
                  <a:pt x="15788" y="4707"/>
                </a:lnTo>
                <a:lnTo>
                  <a:pt x="15788" y="8224"/>
                </a:lnTo>
                <a:lnTo>
                  <a:pt x="18399" y="10800"/>
                </a:lnTo>
                <a:lnTo>
                  <a:pt x="16745" y="10800"/>
                </a:lnTo>
                <a:lnTo>
                  <a:pt x="16745" y="17989"/>
                </a:lnTo>
                <a:lnTo>
                  <a:pt x="6127" y="17989"/>
                </a:lnTo>
                <a:lnTo>
                  <a:pt x="6127" y="10800"/>
                </a:lnTo>
                <a:lnTo>
                  <a:pt x="4473" y="10800"/>
                </a:lnTo>
                <a:close/>
              </a:path>
              <a:path fill="darkenLess" w="22872" h="21600">
                <a:moveTo>
                  <a:pt x="14012" y="6448"/>
                </a:moveTo>
                <a:lnTo>
                  <a:pt x="14012" y="4707"/>
                </a:lnTo>
                <a:lnTo>
                  <a:pt x="15788" y="4707"/>
                </a:lnTo>
                <a:lnTo>
                  <a:pt x="15788" y="8224"/>
                </a:lnTo>
                <a:close/>
              </a:path>
              <a:path fill="darkenLess" w="22872" h="21600">
                <a:moveTo>
                  <a:pt x="10514" y="14299"/>
                </a:moveTo>
                <a:lnTo>
                  <a:pt x="12359" y="14299"/>
                </a:lnTo>
                <a:lnTo>
                  <a:pt x="12359" y="17989"/>
                </a:lnTo>
                <a:lnTo>
                  <a:pt x="16745" y="17989"/>
                </a:lnTo>
                <a:lnTo>
                  <a:pt x="16745" y="10800"/>
                </a:lnTo>
                <a:lnTo>
                  <a:pt x="6127" y="10800"/>
                </a:lnTo>
                <a:lnTo>
                  <a:pt x="6127" y="17989"/>
                </a:lnTo>
                <a:lnTo>
                  <a:pt x="1051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380880"/>
            <a:ext cx="8534520" cy="1524240"/>
          </a:xfrm>
          <a:prstGeom prst="verticalScroll">
            <a:avLst>
              <a:gd name="adj" fmla="val 12500"/>
            </a:avLst>
          </a:prstGeom>
          <a:solidFill>
            <a:srgbClr val="bbe0e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hi phát hiện một người bị tai nạn điện ta s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àm gì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360" y="2286000"/>
            <a:ext cx="9220320" cy="2971800"/>
          </a:xfrm>
          <a:prstGeom prst="verticalScroll">
            <a:avLst>
              <a:gd name="adj" fmla="val 12500"/>
            </a:avLst>
          </a:prstGeom>
          <a:solidFill>
            <a:srgbClr val="808080">
              <a:alpha val="28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ách nạn nhân ra khỏi nguông điệ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ơ cứu nạn nhâ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hi nạn nhân đã tĩnh ta đưa nạn nhân đế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ạm y tế gần nhất hoặc gọi nhân viên y tế đế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8077320" y="579132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380880"/>
            <a:ext cx="8153640" cy="1447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ật liệu kĩ thuật điện gồm những loại nà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4114800"/>
            <a:ext cx="8839080" cy="1447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êu đặc điểm của vật liệu dẫn điện, cách điệ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ật liệu dẫn từ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905120"/>
            <a:ext cx="769644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ật liệu dẫn điệ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ật liệu cách điệ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ật liệu dẫn t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2280" y="380880"/>
            <a:ext cx="8763120" cy="1447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ồ dùng loại điện – quang, biến đổi điện nă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h…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9907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quang nă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1981080"/>
            <a:ext cx="899172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ãy nêu những ưu và nhược điểm của đèn sợ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đốt và đèn huỳnh qu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809880"/>
          <a:ext cx="8763120" cy="2343240"/>
        </p:xfrm>
        <a:graphic>
          <a:graphicData uri="http://schemas.openxmlformats.org/drawingml/2006/table">
            <a:tbl>
              <a:tblPr/>
              <a:tblGrid>
                <a:gridCol w="2189160"/>
                <a:gridCol w="3297240"/>
                <a:gridCol w="327672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oại đè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Ưu điể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hược điể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Đèn sợi đố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Đèn huỳnh qu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548080" y="425124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Phát sáng liên tụ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Không cần mồi phóng điệ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42670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Tuổi thọ thấ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không tiết kiệm điện nă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50292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Tuổi thọ c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Hiệu suất phát quang c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Tiết kiệm được điện nă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508176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Cần mồi phóng điệ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Ánh sáng không liên tụ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822960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8T23:56:12Z</dcterms:created>
  <dc:creator>NGUYENTHUAN</dc:creator>
  <dc:description/>
  <dc:language>en-US</dc:language>
  <cp:lastModifiedBy>Đại học Công nghiệp</cp:lastModifiedBy>
  <dcterms:modified xsi:type="dcterms:W3CDTF">2011-04-26T13:28:36Z</dcterms:modified>
  <cp:revision>8</cp:revision>
  <dc:subject/>
  <dc:title>Slide 1</dc:title>
</cp:coreProperties>
</file>