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70993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2264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-360"/>
            <a:ext cx="30765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30200" y="704880"/>
            <a:ext cx="2638440" cy="351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2264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89136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A592-EC64-44BE-B92C-89310D53A6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45DB-8017-4062-A018-1438BA64AC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31B9-2F69-4412-A542-28DE6163B0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114E-2402-48B4-AD2C-29A9C39A86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71A2-09F2-473E-B97B-F2D5B41E21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1440" y="89139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5F23-3A1B-4FD9-BA38-A7A49B7601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230560" y="704880"/>
            <a:ext cx="2638440" cy="35179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560" y="4458960"/>
            <a:ext cx="56800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D01-0E1A-4602-AC56-7BF56B91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DF6-C1C0-4110-8640-DE0309DC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FEF-D97F-4313-ADA5-CD401969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F7A-0FC4-4560-90E3-B9E00392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E1B-3DE7-46AF-8001-2044BE4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708-EF37-4F81-8CF0-1EBDA5C5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84E-EA98-42B5-8A02-F4029E97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1D6-0E46-4E26-AA2C-53E09631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56C-AEC6-4B9D-B864-11B9A9F4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021-E44F-49DA-B821-5EE39CD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ADB-9E0C-4D34-94DF-FF18FA42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559-7792-4856-B4FC-58F49E5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389B-86D0-4F7D-9A7C-DA541D8250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41360" y="25092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ITUT PERGURUAN PEREMPUAN MELAYU MELA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0280" y="82692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NARAI SEMAK TUNTUTAN PENSYARAH / PENCERAMAH SAMB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76280" y="12589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Tandatangan di BAHAGIAN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25360" y="176364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ULASAN KETUA JAB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125360" y="212400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PENGESAHAN KETUA JABATAN / PENYELA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76280" y="284328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Tandatangan Pemoh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76280" y="320364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Salinan Surat Perlantikan Sebagai Tenaga Peng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76280" y="356400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Salinan Jadual Waktu Meng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76280" y="3995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Salinan Kad Pengenalan (bagi Penceramah Lu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620640" y="6157800"/>
            <a:ext cx="561672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ta:   a.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mua salinan surat hendaklah disertakan sebanyak 1 salin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. Semua tuntutan bagi KDC, LPBS dan J-Qaf diisi dalam borang yang s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nya tuntutan bagi KISSM sahaja yang di isi berasing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. Semua tuntutan adalah tidak melebihi ½ gaj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284640" y="7885080"/>
            <a:ext cx="3384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ndatangan Pemo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5516640" y="169236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5516640" y="212400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516640" y="270036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516640" y="313200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516640" y="356400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516640" y="399564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476280" y="444168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Salinan Penyata Akaun Bank / Surat Pengesahan Akaun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476280" y="487368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Borang Maklumat E-SPKB (bagi Penceramah Lu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476280" y="5302080"/>
            <a:ext cx="489744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 Borang Penilaian Penceramah / Pensyarah Samb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disediakan oleh pihak penganjur dan penyelaras kurs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516640" y="442764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5516640" y="485928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5516640" y="529128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65000" y="179280"/>
            <a:ext cx="525636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RANG PERMOHONANUNTUK MENJALANKAN TUGAS SEBAGA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NSYARAH/PENCERAMAH SAMBIL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GI BULAN __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 TAHUN 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708280" y="684360"/>
            <a:ext cx="151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 Diisi Dalam 2 Salinan</a:t>
            </a:r>
            <a:r>
              <a:rPr b="0" lang="ar-SA" sz="900" spc="-1" strike="noStrike">
                <a:solidFill>
                  <a:srgbClr val="000000"/>
                </a:solidFill>
                <a:latin typeface="Arial"/>
              </a:rPr>
              <a:t> (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0280" y="1042920"/>
            <a:ext cx="468000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ITUT PENDIDIKAN GURU MALAY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AMPUS PEREMPUAN MELAYU, DURIAN DAU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460 MELAK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60280" y="1979640"/>
            <a:ext cx="44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HAGIA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60280" y="2268360"/>
            <a:ext cx="590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 BUTIR-BUTIR PERIBA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20640" y="334800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6"/>
          <p:cNvSpPr/>
          <p:nvPr/>
        </p:nvSpPr>
        <p:spPr>
          <a:xfrm>
            <a:off x="260280" y="5508720"/>
            <a:ext cx="590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 BUTIR-BUTIR PERMOHON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33360" y="5842080"/>
          <a:ext cx="6264360" cy="2485800"/>
        </p:xfrm>
        <a:graphic>
          <a:graphicData uri="http://schemas.openxmlformats.org/drawingml/2006/table">
            <a:tbl>
              <a:tblPr/>
              <a:tblGrid>
                <a:gridCol w="452520"/>
                <a:gridCol w="2341440"/>
                <a:gridCol w="905040"/>
                <a:gridCol w="1693800"/>
                <a:gridCol w="87156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UK / PERK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ktu &amp; jam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6280" y="2700360"/>
          <a:ext cx="6121440" cy="2666880"/>
        </p:xfrm>
        <a:graphic>
          <a:graphicData uri="http://schemas.openxmlformats.org/drawingml/2006/table">
            <a:tbl>
              <a:tblPr/>
              <a:tblGrid>
                <a:gridCol w="2952720"/>
                <a:gridCol w="3168720"/>
              </a:tblGrid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HD RIZUAN BIN HJ. ABD. RAS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KAD PENGENA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0818-10-6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YARA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D 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 SISWAZAH DG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AF 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TAP DAN BERPEN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JI BULAN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M 6,460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 KEMENTERIAN / JABATAN / AGE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G KAMPUS PEREMPUAN MELAYU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AT KEMENTERIAN / JABATAN / AGE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LAN MAKTAB, DURIAN DAU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99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A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89000" y="0"/>
            <a:ext cx="21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89000" y="324000"/>
            <a:ext cx="439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 ULASAN KETUA JABATAN / PENGETUA / GURU BES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04640" y="104292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60640" y="1042920"/>
            <a:ext cx="273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     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89000" y="2411280"/>
            <a:ext cx="391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 PENGESAHAN KETUA JABATAN / PENYELAR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89000" y="291636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ahkan bahawa pegawai ini adalah seorang pensyarah/penceramah sambilan golongan pakar/ bukan golongan pak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04640" y="378000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716280" y="3780000"/>
            <a:ext cx="273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60280" y="5829480"/>
            <a:ext cx="3915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PUTUSAN PERMOHON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luluskan / Tidak Dilulusk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60280" y="5435640"/>
            <a:ext cx="554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I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20640" y="683244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789360" y="6910560"/>
            <a:ext cx="2736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04640" y="755640"/>
            <a:ext cx="6193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33360" y="826920"/>
          <a:ext cx="6264360" cy="1859040"/>
        </p:xfrm>
        <a:graphic>
          <a:graphicData uri="http://schemas.openxmlformats.org/drawingml/2006/table">
            <a:tbl>
              <a:tblPr/>
              <a:tblGrid>
                <a:gridCol w="447840"/>
                <a:gridCol w="5816520"/>
              </a:tblGrid>
              <a:tr h="39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 tuntutan bulanan di para 1 di atas adalah selaras dengan kelayakan saya seperti ditetapkan diperenggan 3.1.2 (iv) atau (v) dalam Pekeliling Perbendaharaan Bil. 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 tuntutan bulanan di para 1 di atas adalah melebihi kelayakan saya seperti ditetapkan diperenggan 3.1.2 (iv) atau (v) dalam Pekeliling Perbendaharaan Bil.2/05 dan saya telah memulangkan balik lebihan bayaran saguhati yang diterima tersebut iaitu sebanyak RM…………………………………………………………………… kepada Kementerian/Jabatan/Agensi Bil. …………………………………….. bertarikh ………………………………………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59"/>
          <p:cNvSpPr/>
          <p:nvPr/>
        </p:nvSpPr>
        <p:spPr>
          <a:xfrm>
            <a:off x="189000" y="2987640"/>
            <a:ext cx="5832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AKU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ya mengaku butir-butir yang dinyatakan di atas adalah ben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476280" y="4167360"/>
            <a:ext cx="23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3716280" y="4146480"/>
            <a:ext cx="27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Pemoh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76280" y="2195640"/>
            <a:ext cx="5859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a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GESAHAN NOMBOR AKAUN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lah saya dengan ini mengesahkan bahawa maklumat-maklumat seperti berikut adalah benar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076640" y="468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ikh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49360" y="1042920"/>
            <a:ext cx="403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197000" y="3203640"/>
            <a:ext cx="424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81000" y="3635280"/>
          <a:ext cx="4969080" cy="1251000"/>
        </p:xfrm>
        <a:graphic>
          <a:graphicData uri="http://schemas.openxmlformats.org/drawingml/2006/table">
            <a:tbl>
              <a:tblPr/>
              <a:tblGrid>
                <a:gridCol w="1882800"/>
                <a:gridCol w="308628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MOHD RIZUAN BIN HJ ABD RAS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or Akaun Bank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Seperti Di Penyata Bank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015020125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 B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Bank Islam Malaysia Berh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at B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Caw. Jln Hang Tuah, Melak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29"/>
          <p:cNvSpPr/>
          <p:nvPr/>
        </p:nvSpPr>
        <p:spPr>
          <a:xfrm>
            <a:off x="476280" y="5364000"/>
            <a:ext cx="57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      Dengan ini saya faham dan mengaku tidak akan menuntut sebarang kerugian daripada Kerajaan yang mungkin timbul dari transaksi i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kian, terima kasi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a yang bena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a    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hd Rizuan bin Hj Abd Ras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K/P 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80818-10-66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2:18:19Z</dcterms:created>
  <dc:creator>rizuan</dc:creator>
  <dc:description/>
  <dc:language>en-US</dc:language>
  <cp:lastModifiedBy>End User</cp:lastModifiedBy>
  <dcterms:modified xsi:type="dcterms:W3CDTF">2014-12-16T00:45:55Z</dcterms:modified>
  <cp:revision>131</cp:revision>
  <dc:subject/>
  <dc:title>Slide 1</dc:title>
</cp:coreProperties>
</file>