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png" ContentType="image/png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3.jpeg" ContentType="image/jpeg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3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13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  <p:sldId id="288" r:id="rId40"/>
    <p:sldId id="289" r:id="rId41"/>
    <p:sldId id="290" r:id="rId42"/>
    <p:sldId id="291" r:id="rId43"/>
    <p:sldId id="292" r:id="rId44"/>
    <p:sldId id="293" r:id="rId45"/>
    <p:sldId id="294" r:id="rId46"/>
    <p:sldId id="295" r:id="rId47"/>
    <p:sldId id="296" r:id="rId48"/>
    <p:sldId id="297" r:id="rId49"/>
    <p:sldId id="298" r:id="rId50"/>
    <p:sldId id="299" r:id="rId51"/>
    <p:sldId id="300" r:id="rId52"/>
    <p:sldId id="301" r:id="rId53"/>
    <p:sldId id="302" r:id="rId54"/>
    <p:sldId id="303" r:id="rId55"/>
    <p:sldId id="304" r:id="rId56"/>
    <p:sldId id="305" r:id="rId57"/>
    <p:sldId id="306" r:id="rId58"/>
    <p:sldId id="307" r:id="rId59"/>
    <p:sldId id="308" r:id="rId60"/>
    <p:sldId id="309" r:id="rId61"/>
    <p:sldId id="310" r:id="rId62"/>
    <p:sldId id="311" r:id="rId63"/>
    <p:sldId id="312" r:id="rId64"/>
    <p:sldId id="313" r:id="rId65"/>
    <p:sldId id="314" r:id="rId66"/>
    <p:sldId id="315" r:id="rId67"/>
    <p:sldId id="316" r:id="rId68"/>
    <p:sldId id="317" r:id="rId69"/>
    <p:sldId id="318" r:id="rId70"/>
    <p:sldId id="319" r:id="rId71"/>
    <p:sldId id="320" r:id="rId72"/>
    <p:sldId id="321" r:id="rId73"/>
    <p:sldId id="322" r:id="rId74"/>
    <p:sldId id="323" r:id="rId75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slide" Target="slides/slide33.xml"/><Relationship Id="rId41" Type="http://schemas.openxmlformats.org/officeDocument/2006/relationships/slide" Target="slides/slide34.xml"/><Relationship Id="rId42" Type="http://schemas.openxmlformats.org/officeDocument/2006/relationships/slide" Target="slides/slide35.xml"/><Relationship Id="rId43" Type="http://schemas.openxmlformats.org/officeDocument/2006/relationships/slide" Target="slides/slide36.xml"/><Relationship Id="rId44" Type="http://schemas.openxmlformats.org/officeDocument/2006/relationships/slide" Target="slides/slide37.xml"/><Relationship Id="rId45" Type="http://schemas.openxmlformats.org/officeDocument/2006/relationships/slide" Target="slides/slide38.xml"/><Relationship Id="rId46" Type="http://schemas.openxmlformats.org/officeDocument/2006/relationships/slide" Target="slides/slide39.xml"/><Relationship Id="rId47" Type="http://schemas.openxmlformats.org/officeDocument/2006/relationships/slide" Target="slides/slide40.xml"/><Relationship Id="rId48" Type="http://schemas.openxmlformats.org/officeDocument/2006/relationships/slide" Target="slides/slide41.xml"/><Relationship Id="rId49" Type="http://schemas.openxmlformats.org/officeDocument/2006/relationships/slide" Target="slides/slide42.xml"/><Relationship Id="rId50" Type="http://schemas.openxmlformats.org/officeDocument/2006/relationships/slide" Target="slides/slide43.xml"/><Relationship Id="rId51" Type="http://schemas.openxmlformats.org/officeDocument/2006/relationships/slide" Target="slides/slide44.xml"/><Relationship Id="rId52" Type="http://schemas.openxmlformats.org/officeDocument/2006/relationships/slide" Target="slides/slide45.xml"/><Relationship Id="rId53" Type="http://schemas.openxmlformats.org/officeDocument/2006/relationships/slide" Target="slides/slide46.xml"/><Relationship Id="rId54" Type="http://schemas.openxmlformats.org/officeDocument/2006/relationships/slide" Target="slides/slide47.xml"/><Relationship Id="rId55" Type="http://schemas.openxmlformats.org/officeDocument/2006/relationships/slide" Target="slides/slide48.xml"/><Relationship Id="rId56" Type="http://schemas.openxmlformats.org/officeDocument/2006/relationships/slide" Target="slides/slide49.xml"/><Relationship Id="rId57" Type="http://schemas.openxmlformats.org/officeDocument/2006/relationships/slide" Target="slides/slide50.xml"/><Relationship Id="rId58" Type="http://schemas.openxmlformats.org/officeDocument/2006/relationships/slide" Target="slides/slide51.xml"/><Relationship Id="rId59" Type="http://schemas.openxmlformats.org/officeDocument/2006/relationships/slide" Target="slides/slide52.xml"/><Relationship Id="rId60" Type="http://schemas.openxmlformats.org/officeDocument/2006/relationships/slide" Target="slides/slide53.xml"/><Relationship Id="rId61" Type="http://schemas.openxmlformats.org/officeDocument/2006/relationships/slide" Target="slides/slide54.xml"/><Relationship Id="rId62" Type="http://schemas.openxmlformats.org/officeDocument/2006/relationships/slide" Target="slides/slide55.xml"/><Relationship Id="rId63" Type="http://schemas.openxmlformats.org/officeDocument/2006/relationships/slide" Target="slides/slide56.xml"/><Relationship Id="rId64" Type="http://schemas.openxmlformats.org/officeDocument/2006/relationships/slide" Target="slides/slide57.xml"/><Relationship Id="rId65" Type="http://schemas.openxmlformats.org/officeDocument/2006/relationships/slide" Target="slides/slide58.xml"/><Relationship Id="rId66" Type="http://schemas.openxmlformats.org/officeDocument/2006/relationships/slide" Target="slides/slide59.xml"/><Relationship Id="rId67" Type="http://schemas.openxmlformats.org/officeDocument/2006/relationships/slide" Target="slides/slide60.xml"/><Relationship Id="rId68" Type="http://schemas.openxmlformats.org/officeDocument/2006/relationships/slide" Target="slides/slide61.xml"/><Relationship Id="rId69" Type="http://schemas.openxmlformats.org/officeDocument/2006/relationships/slide" Target="slides/slide62.xml"/><Relationship Id="rId70" Type="http://schemas.openxmlformats.org/officeDocument/2006/relationships/slide" Target="slides/slide63.xml"/><Relationship Id="rId71" Type="http://schemas.openxmlformats.org/officeDocument/2006/relationships/slide" Target="slides/slide64.xml"/><Relationship Id="rId72" Type="http://schemas.openxmlformats.org/officeDocument/2006/relationships/slide" Target="slides/slide65.xml"/><Relationship Id="rId73" Type="http://schemas.openxmlformats.org/officeDocument/2006/relationships/slide" Target="slides/slide66.xml"/><Relationship Id="rId74" Type="http://schemas.openxmlformats.org/officeDocument/2006/relationships/slide" Target="slides/slide67.xml"/><Relationship Id="rId75" Type="http://schemas.openxmlformats.org/officeDocument/2006/relationships/slide" Target="slides/slide68.xml"/><Relationship Id="rId7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C5AAE-7D15-44DF-B5DA-6C16F8E78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977DB-8AE8-4CFD-B5D8-9EF137233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803CF-5EDF-4F84-B3AE-89E857F63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7B14C-08F3-4586-86D2-5CEEA7A2A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EF885-5F03-40D0-900E-FB6685CDD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E3647-7432-4C59-BFC7-1C5B9DC1E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7D003-0252-4A1A-A726-59C6A245D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921C3-FFFB-409A-B052-495ED6BA6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2E82A-7FF5-44F5-93AC-34C4B6F1F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0EDE7-0FD3-4C7C-962C-698A994C8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506C7-1ADC-44EA-8490-23D68C836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957DA-E073-491B-88E6-525B6E96E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CBBFE-C569-4C2A-8E47-CA7123537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2463A-F9A9-4E2D-AF8B-77D957636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0A915-3DDD-4623-9D00-75F6E4023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5BA6C-B601-4FFB-A073-74346ED1E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B2BC4-9A2A-42DD-A983-D4448498D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23BD1-683C-457B-9218-7FC6D5BD1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042A0-B5E4-42A9-8320-178E40528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01CB095-A71F-4892-B7C7-9733D39DA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5E083-6BAA-4D52-9CE6-CDA29BDC1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D1A79CA-A800-41A3-BD3D-D72DBA86F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39992AE-9283-4964-BE4B-A3DF58960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2009493-99A8-490A-A8AA-D0AD9FEE4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8000AF6-93F8-45A9-A003-7970354CD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4E008C7-7BB5-4531-81A7-3EEF24892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E2B441A-11AF-4AD0-BC63-C21AFB2C0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BD4F127-8D3C-49ED-9798-4EB6D5F15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E2196EE-A3C7-4479-AD30-6A761DC3F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4009F0D-16DD-4D6B-9612-20768CC03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BAB459A-1C17-48E5-909D-4F0AB296A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71559-08DA-4AEB-928D-6FC13D612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9C39889-C642-44A8-9A8C-D4472EFB2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7A6E2F2-08CE-452D-A833-4B5695C76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C2559D9-00C4-4808-90F4-C7FFAD506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7234D1C-122C-44E6-949F-E46CE5521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7F7EDC9-69B1-4C23-8E05-AF03E37ED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444B936-4181-4ED1-915D-887E8802D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A19A22F-6A9E-4527-BA3F-2C6A65C19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2257D0E-2E9A-4F78-88BD-FECC00E23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BDF53B4-52FC-4B20-A21F-9AF3C0526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5AA189C-43AC-4AF5-BB6E-AD576AE08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69FEF-2060-4CB4-88C7-C832705C6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592A6AC-5F86-4850-B2B0-E57B756B8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D800CBB-A96D-48A4-9601-6EEA81CCD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77D321F-6ABC-4444-A752-1DAEDD1BD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CB4E0-9247-4CC0-9564-9397CA077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D7EA0-1CD1-4586-ADDF-965356770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87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9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305000"/>
            <a:ext cx="8305920" cy="49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3366"/>
              </a:buClr>
              <a:buSzPct val="75000"/>
              <a:buFont typeface="Wingdings" charset="2"/>
              <a:buChar char="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3366"/>
              </a:buClr>
              <a:buSzPct val="75000"/>
              <a:buFont typeface="Wingdings" charset="2"/>
              <a:buChar char="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3366"/>
              </a:buClr>
              <a:buSzPct val="75000"/>
              <a:buFont typeface="Wing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3366"/>
              </a:buClr>
              <a:buFont typeface="Wingding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3366"/>
              </a:buClr>
              <a:buFont typeface="Wingdings" charset="2"/>
              <a:buChar char="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336699"/>
              </a:buClr>
              <a:buFont typeface="Wingdings" charset="2"/>
              <a:buChar char="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336699"/>
              </a:buClr>
              <a:buFont typeface="Wingdings" charset="2"/>
              <a:buChar char="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3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AF95B-A423-4908-8A1E-BCB970108643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3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33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Times New Roman"/>
              </a:rPr>
              <a:t>[MA 1124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Times New Roman"/>
              </a:rPr>
              <a:t>KALKULUS I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3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0D3F3-DF2B-4B48-AEBD-FDAD449BA0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logosttt"/>
          <p:cNvPicPr/>
          <p:nvPr/>
        </p:nvPicPr>
        <p:blipFill>
          <a:blip r:embed="rId3"/>
          <a:stretch/>
        </p:blipFill>
        <p:spPr>
          <a:xfrm>
            <a:off x="8191440" y="304920"/>
            <a:ext cx="723960" cy="828720"/>
          </a:xfrm>
          <a:prstGeom prst="rect">
            <a:avLst/>
          </a:prstGeom>
          <a:ln w="0">
            <a:noFill/>
          </a:ln>
        </p:spPr>
      </p:pic>
      <p:sp>
        <p:nvSpPr>
          <p:cNvPr id="6" name="Rectangle 8"/>
          <p:cNvSpPr/>
          <p:nvPr/>
        </p:nvSpPr>
        <p:spPr>
          <a:xfrm>
            <a:off x="-380880" y="4572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0F637-DB09-400D-934E-7BBF341F6DE7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[MA 1124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KALKULUS 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C92CF-7B9F-446B-8C35-28FDA296F8F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7" descr="logosttt"/>
          <p:cNvPicPr/>
          <p:nvPr/>
        </p:nvPicPr>
        <p:blipFill>
          <a:blip r:embed="rId2"/>
          <a:stretch/>
        </p:blipFill>
        <p:spPr>
          <a:xfrm>
            <a:off x="8191440" y="304920"/>
            <a:ext cx="723960" cy="828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4" descr="logosttt"/>
          <p:cNvPicPr/>
          <p:nvPr/>
        </p:nvPicPr>
        <p:blipFill>
          <a:blip r:embed="rId3">
            <a:lum contrast="-28000"/>
          </a:blip>
          <a:stretch/>
        </p:blipFill>
        <p:spPr>
          <a:xfrm>
            <a:off x="190440" y="304920"/>
            <a:ext cx="723960" cy="828720"/>
          </a:xfrm>
          <a:prstGeom prst="rect">
            <a:avLst/>
          </a:prstGeom>
          <a:ln w="0">
            <a:noFill/>
          </a:ln>
        </p:spPr>
      </p:pic>
      <p:sp>
        <p:nvSpPr>
          <p:cNvPr id="86" name="Text Box 5"/>
          <p:cNvSpPr/>
          <p:nvPr/>
        </p:nvSpPr>
        <p:spPr>
          <a:xfrm>
            <a:off x="901800" y="520560"/>
            <a:ext cx="4267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rebuchet MS"/>
              </a:rPr>
              <a:t>Program Perkuliahan Dasar Umum</a:t>
            </a:r>
            <a:endParaRPr b="0" lang="en-US" sz="2000" spc="-1" strike="noStrike">
              <a:solidFill>
                <a:srgbClr val="33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rebuchet MS"/>
              </a:rPr>
              <a:t>Sekolah Tinggi Teknologi Telkom</a:t>
            </a:r>
            <a:endParaRPr b="0" lang="en-US" sz="20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87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9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09480" y="1305000"/>
            <a:ext cx="8305920" cy="49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3366"/>
              </a:buClr>
              <a:buSzPct val="75000"/>
              <a:buFont typeface="Wingdings" charset="2"/>
              <a:buChar char="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3366"/>
              </a:buClr>
              <a:buSzPct val="75000"/>
              <a:buFont typeface="Wingdings" charset="2"/>
              <a:buChar char="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3366"/>
              </a:buClr>
              <a:buSzPct val="75000"/>
              <a:buFont typeface="Wing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3366"/>
              </a:buClr>
              <a:buFont typeface="Wingding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3366"/>
              </a:buClr>
              <a:buFont typeface="Wingdings" charset="2"/>
              <a:buChar char="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336699"/>
              </a:buClr>
              <a:buFont typeface="Wingdings" charset="2"/>
              <a:buChar char="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336699"/>
              </a:buClr>
              <a:buFont typeface="Wingdings" charset="2"/>
              <a:buChar char="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7"/>
          </p:nvPr>
        </p:nvSpPr>
        <p:spPr>
          <a:xfrm>
            <a:off x="3124080" y="622908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33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Times New Roman"/>
              </a:rPr>
              <a:t>[MA1124]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Times New Roman"/>
              </a:rPr>
              <a:t>KALKULUS I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4" descr="logosttt"/>
          <p:cNvPicPr/>
          <p:nvPr/>
        </p:nvPicPr>
        <p:blipFill>
          <a:blip r:embed="rId3">
            <a:lum contrast="-28000"/>
          </a:blip>
          <a:stretch/>
        </p:blipFill>
        <p:spPr>
          <a:xfrm>
            <a:off x="190440" y="304920"/>
            <a:ext cx="723960" cy="82872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5"/>
          <p:cNvSpPr/>
          <p:nvPr/>
        </p:nvSpPr>
        <p:spPr>
          <a:xfrm>
            <a:off x="901800" y="520560"/>
            <a:ext cx="4267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rebuchet MS"/>
              </a:rPr>
              <a:t>Program Perkuliahan Dasar Umum</a:t>
            </a:r>
            <a:endParaRPr b="0" lang="en-US" sz="2000" spc="-1" strike="noStrike">
              <a:solidFill>
                <a:srgbClr val="33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rebuchet MS"/>
              </a:rPr>
              <a:t>Sekolah Tinggi Teknologi Telkom</a:t>
            </a:r>
            <a:endParaRPr b="0" lang="en-US" sz="20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ftr" idx="8"/>
          </p:nvPr>
        </p:nvSpPr>
        <p:spPr>
          <a:xfrm>
            <a:off x="3124080" y="622908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33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3300"/>
                </a:solidFill>
                <a:latin typeface="Times New Roman"/>
              </a:rPr>
              <a:t>[MA1124]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3300"/>
                </a:solidFill>
                <a:latin typeface="Times New Roman"/>
              </a:rPr>
              <a:t>KALKULUS 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7" descr="logosttt"/>
          <p:cNvPicPr/>
          <p:nvPr/>
        </p:nvPicPr>
        <p:blipFill>
          <a:blip r:embed="rId2"/>
          <a:stretch/>
        </p:blipFill>
        <p:spPr>
          <a:xfrm>
            <a:off x="8191440" y="304920"/>
            <a:ext cx="723960" cy="82872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69D24-A987-4AE3-8F61-34E77EE838DA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ftr" idx="1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[MA 1124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KALKULUS 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sldNum" idx="1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1D4E3-71F1-45B1-BC70-22EEF00C499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7" descr="logosttt"/>
          <p:cNvPicPr/>
          <p:nvPr/>
        </p:nvPicPr>
        <p:blipFill>
          <a:blip r:embed="rId2"/>
          <a:stretch/>
        </p:blipFill>
        <p:spPr>
          <a:xfrm>
            <a:off x="8191440" y="304920"/>
            <a:ext cx="723960" cy="8287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1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8B76B-5F94-414E-85C7-1F31B230365A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ftr" idx="1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[MA 1124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KALKULUS 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sldNum" idx="1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D0DBA-59A3-47F6-9CC5-6C789E59207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3.wmf"/><Relationship Id="rId9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3482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alibri"/>
              </a:rPr>
              <a:t>Fungsi Dua Peubah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Rectangle 10"/>
          <p:cNvSpPr/>
          <p:nvPr/>
        </p:nvSpPr>
        <p:spPr>
          <a:xfrm>
            <a:off x="3124080" y="622944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3300"/>
                </a:solidFill>
                <a:latin typeface="Verdana"/>
              </a:rPr>
              <a:t>[MA1124] </a:t>
            </a:r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3300"/>
                </a:solidFill>
                <a:latin typeface="Verdana"/>
              </a:rPr>
              <a:t>KALKULUS II</a:t>
            </a:r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ambar Hiperbolik Berdaun Du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F2C4A-B44A-4E39-86E5-61795481C8A0}" type="datetime">
              <a:rPr b="0" lang="en-US" sz="1200" spc="-1" strike="noStrike">
                <a:solidFill>
                  <a:srgbClr val="898989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412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Verdana"/>
              </a:rPr>
              <a:t>[MA 1124]</a:t>
            </a:r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Verdana"/>
              </a:rPr>
              <a:t>KALKULUS II</a:t>
            </a:r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41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257E4-FE40-41E7-938A-A1DB078F1371}" type="slidenum">
              <a:rPr b="0" lang="en-US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414" name="Freeform 5"/>
          <p:cNvSpPr/>
          <p:nvPr/>
        </p:nvSpPr>
        <p:spPr>
          <a:xfrm>
            <a:off x="5079960" y="2755800"/>
            <a:ext cx="635040" cy="1166760"/>
          </a:xfrm>
          <a:custGeom>
            <a:avLst/>
            <a:gdLst>
              <a:gd name="textAreaLeft" fmla="*/ 0 w 635040"/>
              <a:gd name="textAreaRight" fmla="*/ 635040 w 635040"/>
              <a:gd name="textAreaTop" fmla="*/ 0 h 1166760"/>
              <a:gd name="textAreaBottom" fmla="*/ 1167120 h 1166760"/>
            </a:gdLst>
            <a:ahLst/>
            <a:rect l="textAreaLeft" t="textAreaTop" r="textAreaRight" b="textAreaBottom"/>
            <a:pathLst>
              <a:path w="400" h="735">
                <a:moveTo>
                  <a:pt x="400" y="712"/>
                </a:moveTo>
                <a:cubicBezTo>
                  <a:pt x="335" y="696"/>
                  <a:pt x="16" y="735"/>
                  <a:pt x="8" y="616"/>
                </a:cubicBezTo>
                <a:cubicBezTo>
                  <a:pt x="0" y="497"/>
                  <a:pt x="280" y="128"/>
                  <a:pt x="35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415" name="Freeform 6"/>
          <p:cNvSpPr/>
          <p:nvPr/>
        </p:nvSpPr>
        <p:spPr>
          <a:xfrm>
            <a:off x="3686040" y="4056120"/>
            <a:ext cx="628920" cy="1138320"/>
          </a:xfrm>
          <a:custGeom>
            <a:avLst/>
            <a:gdLst>
              <a:gd name="textAreaLeft" fmla="*/ 0 w 628920"/>
              <a:gd name="textAreaRight" fmla="*/ 629280 w 628920"/>
              <a:gd name="textAreaTop" fmla="*/ 0 h 1138320"/>
              <a:gd name="textAreaBottom" fmla="*/ 1138680 h 1138320"/>
            </a:gdLst>
            <a:ahLst/>
            <a:rect l="textAreaLeft" t="textAreaTop" r="textAreaRight" b="textAreaBottom"/>
            <a:pathLst>
              <a:path w="396" h="717">
                <a:moveTo>
                  <a:pt x="0" y="20"/>
                </a:moveTo>
                <a:cubicBezTo>
                  <a:pt x="65" y="36"/>
                  <a:pt x="388" y="0"/>
                  <a:pt x="392" y="116"/>
                </a:cubicBezTo>
                <a:cubicBezTo>
                  <a:pt x="396" y="232"/>
                  <a:pt x="101" y="592"/>
                  <a:pt x="24" y="717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416" name="AutoShape 7"/>
          <p:cNvSpPr/>
          <p:nvPr/>
        </p:nvSpPr>
        <p:spPr>
          <a:xfrm>
            <a:off x="2209680" y="2098800"/>
            <a:ext cx="5715000" cy="33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417" name="Rectangle 9"/>
          <p:cNvSpPr/>
          <p:nvPr/>
        </p:nvSpPr>
        <p:spPr>
          <a:xfrm>
            <a:off x="2269800" y="2098800"/>
            <a:ext cx="77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418" name="Rectangle 15"/>
          <p:cNvSpPr/>
          <p:nvPr/>
        </p:nvSpPr>
        <p:spPr>
          <a:xfrm>
            <a:off x="2449080" y="4844880"/>
            <a:ext cx="77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336699"/>
              </a:solidFill>
              <a:latin typeface="Verdana"/>
            </a:endParaRPr>
          </a:p>
        </p:txBody>
      </p:sp>
      <p:grpSp>
        <p:nvGrpSpPr>
          <p:cNvPr id="419" name="Group 24"/>
          <p:cNvGrpSpPr/>
          <p:nvPr/>
        </p:nvGrpSpPr>
        <p:grpSpPr>
          <a:xfrm>
            <a:off x="2525400" y="2193840"/>
            <a:ext cx="5026680" cy="3162240"/>
            <a:chOff x="2525400" y="2193840"/>
            <a:chExt cx="5026680" cy="3162240"/>
          </a:xfrm>
        </p:grpSpPr>
        <p:sp>
          <p:nvSpPr>
            <p:cNvPr id="420" name="Freeform 10"/>
            <p:cNvSpPr/>
            <p:nvPr/>
          </p:nvSpPr>
          <p:spPr>
            <a:xfrm>
              <a:off x="4599000" y="2270160"/>
              <a:ext cx="149040" cy="3085920"/>
            </a:xfrm>
            <a:custGeom>
              <a:avLst/>
              <a:gdLst>
                <a:gd name="textAreaLeft" fmla="*/ 0 w 149040"/>
                <a:gd name="textAreaRight" fmla="*/ 149400 w 149040"/>
                <a:gd name="textAreaTop" fmla="*/ 0 h 3085920"/>
                <a:gd name="textAreaBottom" fmla="*/ 3086280 h 3085920"/>
              </a:gdLst>
              <a:ahLst/>
              <a:rect l="textAreaLeft" t="textAreaTop" r="textAreaRight" b="textAreaBottom"/>
              <a:pathLst>
                <a:path w="400" h="8250">
                  <a:moveTo>
                    <a:pt x="167" y="8217"/>
                  </a:moveTo>
                  <a:lnTo>
                    <a:pt x="167" y="333"/>
                  </a:lnTo>
                  <a:cubicBezTo>
                    <a:pt x="167" y="315"/>
                    <a:pt x="182" y="300"/>
                    <a:pt x="200" y="300"/>
                  </a:cubicBezTo>
                  <a:cubicBezTo>
                    <a:pt x="219" y="300"/>
                    <a:pt x="233" y="315"/>
                    <a:pt x="233" y="333"/>
                  </a:cubicBezTo>
                  <a:lnTo>
                    <a:pt x="233" y="8217"/>
                  </a:lnTo>
                  <a:cubicBezTo>
                    <a:pt x="233" y="8235"/>
                    <a:pt x="219" y="8250"/>
                    <a:pt x="200" y="8250"/>
                  </a:cubicBezTo>
                  <a:cubicBezTo>
                    <a:pt x="182" y="8250"/>
                    <a:pt x="167" y="8235"/>
                    <a:pt x="167" y="8217"/>
                  </a:cubicBezTo>
                  <a:close/>
                  <a:moveTo>
                    <a:pt x="0" y="400"/>
                  </a:moveTo>
                  <a:lnTo>
                    <a:pt x="200" y="0"/>
                  </a:lnTo>
                  <a:lnTo>
                    <a:pt x="400" y="400"/>
                  </a:lnTo>
                  <a:lnTo>
                    <a:pt x="0" y="40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336699"/>
                </a:solidFill>
                <a:latin typeface="Verdana"/>
              </a:endParaRPr>
            </a:p>
          </p:txBody>
        </p:sp>
        <p:sp>
          <p:nvSpPr>
            <p:cNvPr id="421" name="Freeform 11"/>
            <p:cNvSpPr/>
            <p:nvPr/>
          </p:nvSpPr>
          <p:spPr>
            <a:xfrm>
              <a:off x="2867040" y="3922560"/>
              <a:ext cx="4275000" cy="149400"/>
            </a:xfrm>
            <a:custGeom>
              <a:avLst/>
              <a:gdLst>
                <a:gd name="textAreaLeft" fmla="*/ 0 w 4275000"/>
                <a:gd name="textAreaRight" fmla="*/ 4275360 w 4275000"/>
                <a:gd name="textAreaTop" fmla="*/ 0 h 149400"/>
                <a:gd name="textAreaBottom" fmla="*/ 149760 h 149400"/>
              </a:gdLst>
              <a:ahLst/>
              <a:rect l="textAreaLeft" t="textAreaTop" r="textAreaRight" b="textAreaBottom"/>
              <a:pathLst>
                <a:path w="11433" h="400">
                  <a:moveTo>
                    <a:pt x="33" y="166"/>
                  </a:moveTo>
                  <a:lnTo>
                    <a:pt x="11100" y="166"/>
                  </a:lnTo>
                  <a:cubicBezTo>
                    <a:pt x="11118" y="166"/>
                    <a:pt x="11133" y="181"/>
                    <a:pt x="11133" y="200"/>
                  </a:cubicBezTo>
                  <a:cubicBezTo>
                    <a:pt x="11133" y="218"/>
                    <a:pt x="11118" y="233"/>
                    <a:pt x="11100" y="233"/>
                  </a:cubicBezTo>
                  <a:lnTo>
                    <a:pt x="33" y="233"/>
                  </a:lnTo>
                  <a:cubicBezTo>
                    <a:pt x="15" y="233"/>
                    <a:pt x="0" y="218"/>
                    <a:pt x="0" y="200"/>
                  </a:cubicBezTo>
                  <a:cubicBezTo>
                    <a:pt x="0" y="181"/>
                    <a:pt x="15" y="166"/>
                    <a:pt x="33" y="166"/>
                  </a:cubicBezTo>
                  <a:close/>
                  <a:moveTo>
                    <a:pt x="11033" y="0"/>
                  </a:moveTo>
                  <a:lnTo>
                    <a:pt x="11433" y="200"/>
                  </a:lnTo>
                  <a:lnTo>
                    <a:pt x="11033" y="400"/>
                  </a:lnTo>
                  <a:lnTo>
                    <a:pt x="1103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336699"/>
                </a:solidFill>
                <a:latin typeface="Verdana"/>
              </a:endParaRPr>
            </a:p>
          </p:txBody>
        </p:sp>
        <p:sp>
          <p:nvSpPr>
            <p:cNvPr id="422" name="Freeform 12"/>
            <p:cNvSpPr/>
            <p:nvPr/>
          </p:nvSpPr>
          <p:spPr>
            <a:xfrm>
              <a:off x="2666880" y="3110040"/>
              <a:ext cx="3505320" cy="2077920"/>
            </a:xfrm>
            <a:custGeom>
              <a:avLst/>
              <a:gdLst>
                <a:gd name="textAreaLeft" fmla="*/ 0 w 3505320"/>
                <a:gd name="textAreaRight" fmla="*/ 3505680 w 3505320"/>
                <a:gd name="textAreaTop" fmla="*/ 0 h 2077920"/>
                <a:gd name="textAreaBottom" fmla="*/ 2078280 h 2077920"/>
              </a:gdLst>
              <a:ahLst/>
              <a:rect l="textAreaLeft" t="textAreaTop" r="textAreaRight" b="textAreaBottom"/>
              <a:pathLst>
                <a:path w="9372" h="5555">
                  <a:moveTo>
                    <a:pt x="9350" y="67"/>
                  </a:moveTo>
                  <a:lnTo>
                    <a:pt x="304" y="5414"/>
                  </a:lnTo>
                  <a:cubicBezTo>
                    <a:pt x="288" y="5424"/>
                    <a:pt x="268" y="5418"/>
                    <a:pt x="258" y="5402"/>
                  </a:cubicBezTo>
                  <a:cubicBezTo>
                    <a:pt x="249" y="5387"/>
                    <a:pt x="254" y="5366"/>
                    <a:pt x="270" y="5357"/>
                  </a:cubicBezTo>
                  <a:lnTo>
                    <a:pt x="9317" y="10"/>
                  </a:lnTo>
                  <a:cubicBezTo>
                    <a:pt x="9332" y="0"/>
                    <a:pt x="9353" y="6"/>
                    <a:pt x="9362" y="22"/>
                  </a:cubicBezTo>
                  <a:cubicBezTo>
                    <a:pt x="9372" y="37"/>
                    <a:pt x="9366" y="58"/>
                    <a:pt x="9350" y="67"/>
                  </a:cubicBezTo>
                  <a:close/>
                  <a:moveTo>
                    <a:pt x="446" y="5524"/>
                  </a:moveTo>
                  <a:lnTo>
                    <a:pt x="0" y="5555"/>
                  </a:lnTo>
                  <a:lnTo>
                    <a:pt x="243" y="5179"/>
                  </a:lnTo>
                  <a:lnTo>
                    <a:pt x="446" y="5524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336699"/>
                </a:solidFill>
                <a:latin typeface="Verdana"/>
              </a:endParaRPr>
            </a:p>
          </p:txBody>
        </p:sp>
        <p:sp>
          <p:nvSpPr>
            <p:cNvPr id="423" name="Rectangle 13"/>
            <p:cNvSpPr/>
            <p:nvPr/>
          </p:nvSpPr>
          <p:spPr>
            <a:xfrm>
              <a:off x="4416120" y="2193840"/>
              <a:ext cx="1864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2400" spc="-1" strike="noStrike">
                <a:solidFill>
                  <a:srgbClr val="336699"/>
                </a:solidFill>
                <a:latin typeface="Verdana"/>
              </a:endParaRPr>
            </a:p>
          </p:txBody>
        </p:sp>
        <p:sp>
          <p:nvSpPr>
            <p:cNvPr id="424" name="Rectangle 14"/>
            <p:cNvSpPr/>
            <p:nvPr/>
          </p:nvSpPr>
          <p:spPr>
            <a:xfrm>
              <a:off x="4597200" y="2193840"/>
              <a:ext cx="770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336699"/>
                </a:solidFill>
                <a:latin typeface="Verdana"/>
              </a:endParaRPr>
            </a:p>
          </p:txBody>
        </p:sp>
        <p:sp>
          <p:nvSpPr>
            <p:cNvPr id="425" name="Rectangle 16"/>
            <p:cNvSpPr/>
            <p:nvPr/>
          </p:nvSpPr>
          <p:spPr>
            <a:xfrm>
              <a:off x="2525400" y="4869000"/>
              <a:ext cx="1407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200" spc="-1" strike="noStrike">
                <a:solidFill>
                  <a:srgbClr val="336699"/>
                </a:solidFill>
                <a:latin typeface="Verdana"/>
              </a:endParaRPr>
            </a:p>
          </p:txBody>
        </p:sp>
        <p:sp>
          <p:nvSpPr>
            <p:cNvPr id="426" name="Rectangle 17"/>
            <p:cNvSpPr/>
            <p:nvPr/>
          </p:nvSpPr>
          <p:spPr>
            <a:xfrm>
              <a:off x="2661840" y="4869000"/>
              <a:ext cx="709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200" spc="-1" strike="noStrike">
                <a:solidFill>
                  <a:srgbClr val="336699"/>
                </a:solidFill>
                <a:latin typeface="Verdana"/>
              </a:endParaRPr>
            </a:p>
          </p:txBody>
        </p:sp>
        <p:sp>
          <p:nvSpPr>
            <p:cNvPr id="427" name="Rectangle 18"/>
            <p:cNvSpPr/>
            <p:nvPr/>
          </p:nvSpPr>
          <p:spPr>
            <a:xfrm>
              <a:off x="7259400" y="3840120"/>
              <a:ext cx="229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336699"/>
                </a:solidFill>
                <a:latin typeface="Verdana"/>
              </a:endParaRPr>
            </a:p>
          </p:txBody>
        </p:sp>
        <p:sp>
          <p:nvSpPr>
            <p:cNvPr id="428" name="Rectangle 19"/>
            <p:cNvSpPr/>
            <p:nvPr/>
          </p:nvSpPr>
          <p:spPr>
            <a:xfrm>
              <a:off x="7475040" y="3840120"/>
              <a:ext cx="770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336699"/>
                </a:solidFill>
                <a:latin typeface="Verdana"/>
              </a:endParaRPr>
            </a:p>
          </p:txBody>
        </p:sp>
      </p:grpSp>
      <p:sp>
        <p:nvSpPr>
          <p:cNvPr id="429" name="Oval 20"/>
          <p:cNvSpPr/>
          <p:nvPr/>
        </p:nvSpPr>
        <p:spPr>
          <a:xfrm>
            <a:off x="3308400" y="4089240"/>
            <a:ext cx="569880" cy="1122480"/>
          </a:xfrm>
          <a:prstGeom prst="ellipse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430" name="Freeform 21"/>
          <p:cNvSpPr/>
          <p:nvPr/>
        </p:nvSpPr>
        <p:spPr>
          <a:xfrm>
            <a:off x="5459400" y="2733840"/>
            <a:ext cx="569880" cy="1139760"/>
          </a:xfrm>
          <a:custGeom>
            <a:avLst/>
            <a:gdLst>
              <a:gd name="textAreaLeft" fmla="*/ 0 w 569880"/>
              <a:gd name="textAreaRight" fmla="*/ 570240 w 569880"/>
              <a:gd name="textAreaTop" fmla="*/ 0 h 1139760"/>
              <a:gd name="textAreaBottom" fmla="*/ 1140120 h 1139760"/>
            </a:gdLst>
            <a:ahLst/>
            <a:rect l="textAreaLeft" t="textAreaTop" r="textAreaRight" b="textAreaBottom"/>
            <a:pathLst>
              <a:path w="1526" h="3045">
                <a:moveTo>
                  <a:pt x="787" y="51"/>
                </a:moveTo>
                <a:lnTo>
                  <a:pt x="787" y="51"/>
                </a:lnTo>
                <a:cubicBezTo>
                  <a:pt x="773" y="50"/>
                  <a:pt x="763" y="37"/>
                  <a:pt x="765" y="24"/>
                </a:cubicBezTo>
                <a:cubicBezTo>
                  <a:pt x="766" y="10"/>
                  <a:pt x="779" y="0"/>
                  <a:pt x="792" y="1"/>
                </a:cubicBezTo>
                <a:cubicBezTo>
                  <a:pt x="806" y="3"/>
                  <a:pt x="816" y="15"/>
                  <a:pt x="815" y="29"/>
                </a:cubicBezTo>
                <a:cubicBezTo>
                  <a:pt x="813" y="43"/>
                  <a:pt x="801" y="53"/>
                  <a:pt x="787" y="51"/>
                </a:cubicBezTo>
                <a:close/>
                <a:moveTo>
                  <a:pt x="693" y="56"/>
                </a:moveTo>
                <a:lnTo>
                  <a:pt x="693" y="56"/>
                </a:lnTo>
                <a:cubicBezTo>
                  <a:pt x="679" y="57"/>
                  <a:pt x="667" y="47"/>
                  <a:pt x="665" y="34"/>
                </a:cubicBezTo>
                <a:cubicBezTo>
                  <a:pt x="664" y="20"/>
                  <a:pt x="674" y="8"/>
                  <a:pt x="688" y="6"/>
                </a:cubicBezTo>
                <a:cubicBezTo>
                  <a:pt x="701" y="5"/>
                  <a:pt x="714" y="15"/>
                  <a:pt x="715" y="29"/>
                </a:cubicBezTo>
                <a:cubicBezTo>
                  <a:pt x="717" y="42"/>
                  <a:pt x="707" y="55"/>
                  <a:pt x="693" y="56"/>
                </a:cubicBezTo>
                <a:close/>
                <a:moveTo>
                  <a:pt x="607" y="85"/>
                </a:moveTo>
                <a:lnTo>
                  <a:pt x="607" y="85"/>
                </a:lnTo>
                <a:cubicBezTo>
                  <a:pt x="595" y="92"/>
                  <a:pt x="580" y="87"/>
                  <a:pt x="574" y="75"/>
                </a:cubicBezTo>
                <a:cubicBezTo>
                  <a:pt x="567" y="62"/>
                  <a:pt x="572" y="47"/>
                  <a:pt x="584" y="41"/>
                </a:cubicBezTo>
                <a:cubicBezTo>
                  <a:pt x="597" y="35"/>
                  <a:pt x="612" y="39"/>
                  <a:pt x="618" y="52"/>
                </a:cubicBezTo>
                <a:cubicBezTo>
                  <a:pt x="624" y="64"/>
                  <a:pt x="620" y="79"/>
                  <a:pt x="607" y="85"/>
                </a:cubicBezTo>
                <a:close/>
                <a:moveTo>
                  <a:pt x="526" y="135"/>
                </a:moveTo>
                <a:lnTo>
                  <a:pt x="526" y="135"/>
                </a:lnTo>
                <a:cubicBezTo>
                  <a:pt x="515" y="143"/>
                  <a:pt x="499" y="141"/>
                  <a:pt x="491" y="130"/>
                </a:cubicBezTo>
                <a:cubicBezTo>
                  <a:pt x="482" y="119"/>
                  <a:pt x="485" y="103"/>
                  <a:pt x="496" y="95"/>
                </a:cubicBezTo>
                <a:cubicBezTo>
                  <a:pt x="507" y="87"/>
                  <a:pt x="522" y="89"/>
                  <a:pt x="531" y="100"/>
                </a:cubicBezTo>
                <a:cubicBezTo>
                  <a:pt x="539" y="111"/>
                  <a:pt x="537" y="127"/>
                  <a:pt x="526" y="135"/>
                </a:cubicBezTo>
                <a:close/>
                <a:moveTo>
                  <a:pt x="453" y="199"/>
                </a:moveTo>
                <a:lnTo>
                  <a:pt x="453" y="199"/>
                </a:lnTo>
                <a:cubicBezTo>
                  <a:pt x="443" y="208"/>
                  <a:pt x="427" y="208"/>
                  <a:pt x="418" y="198"/>
                </a:cubicBezTo>
                <a:cubicBezTo>
                  <a:pt x="408" y="188"/>
                  <a:pt x="408" y="172"/>
                  <a:pt x="418" y="163"/>
                </a:cubicBezTo>
                <a:cubicBezTo>
                  <a:pt x="428" y="153"/>
                  <a:pt x="444" y="153"/>
                  <a:pt x="453" y="163"/>
                </a:cubicBezTo>
                <a:cubicBezTo>
                  <a:pt x="463" y="173"/>
                  <a:pt x="463" y="189"/>
                  <a:pt x="453" y="199"/>
                </a:cubicBezTo>
                <a:close/>
                <a:moveTo>
                  <a:pt x="389" y="272"/>
                </a:moveTo>
                <a:lnTo>
                  <a:pt x="389" y="272"/>
                </a:lnTo>
                <a:cubicBezTo>
                  <a:pt x="380" y="283"/>
                  <a:pt x="364" y="284"/>
                  <a:pt x="354" y="275"/>
                </a:cubicBezTo>
                <a:cubicBezTo>
                  <a:pt x="343" y="266"/>
                  <a:pt x="342" y="251"/>
                  <a:pt x="350" y="240"/>
                </a:cubicBezTo>
                <a:cubicBezTo>
                  <a:pt x="359" y="229"/>
                  <a:pt x="375" y="228"/>
                  <a:pt x="386" y="237"/>
                </a:cubicBezTo>
                <a:cubicBezTo>
                  <a:pt x="396" y="246"/>
                  <a:pt x="398" y="261"/>
                  <a:pt x="389" y="272"/>
                </a:cubicBezTo>
                <a:close/>
                <a:moveTo>
                  <a:pt x="333" y="352"/>
                </a:moveTo>
                <a:lnTo>
                  <a:pt x="333" y="352"/>
                </a:lnTo>
                <a:cubicBezTo>
                  <a:pt x="325" y="363"/>
                  <a:pt x="310" y="366"/>
                  <a:pt x="298" y="358"/>
                </a:cubicBezTo>
                <a:cubicBezTo>
                  <a:pt x="287" y="351"/>
                  <a:pt x="284" y="335"/>
                  <a:pt x="292" y="324"/>
                </a:cubicBezTo>
                <a:cubicBezTo>
                  <a:pt x="299" y="312"/>
                  <a:pt x="315" y="309"/>
                  <a:pt x="326" y="317"/>
                </a:cubicBezTo>
                <a:cubicBezTo>
                  <a:pt x="338" y="325"/>
                  <a:pt x="341" y="340"/>
                  <a:pt x="333" y="352"/>
                </a:cubicBezTo>
                <a:close/>
                <a:moveTo>
                  <a:pt x="284" y="436"/>
                </a:moveTo>
                <a:lnTo>
                  <a:pt x="284" y="436"/>
                </a:lnTo>
                <a:cubicBezTo>
                  <a:pt x="277" y="448"/>
                  <a:pt x="262" y="453"/>
                  <a:pt x="250" y="446"/>
                </a:cubicBezTo>
                <a:cubicBezTo>
                  <a:pt x="238" y="439"/>
                  <a:pt x="233" y="424"/>
                  <a:pt x="240" y="412"/>
                </a:cubicBezTo>
                <a:cubicBezTo>
                  <a:pt x="247" y="400"/>
                  <a:pt x="262" y="396"/>
                  <a:pt x="274" y="402"/>
                </a:cubicBezTo>
                <a:cubicBezTo>
                  <a:pt x="286" y="409"/>
                  <a:pt x="291" y="424"/>
                  <a:pt x="284" y="436"/>
                </a:cubicBezTo>
                <a:close/>
                <a:moveTo>
                  <a:pt x="241" y="524"/>
                </a:moveTo>
                <a:lnTo>
                  <a:pt x="241" y="524"/>
                </a:lnTo>
                <a:cubicBezTo>
                  <a:pt x="235" y="537"/>
                  <a:pt x="220" y="542"/>
                  <a:pt x="208" y="537"/>
                </a:cubicBezTo>
                <a:cubicBezTo>
                  <a:pt x="195" y="531"/>
                  <a:pt x="190" y="516"/>
                  <a:pt x="195" y="504"/>
                </a:cubicBezTo>
                <a:cubicBezTo>
                  <a:pt x="201" y="491"/>
                  <a:pt x="216" y="485"/>
                  <a:pt x="228" y="491"/>
                </a:cubicBezTo>
                <a:cubicBezTo>
                  <a:pt x="241" y="497"/>
                  <a:pt x="247" y="512"/>
                  <a:pt x="241" y="524"/>
                </a:cubicBezTo>
                <a:close/>
                <a:moveTo>
                  <a:pt x="203" y="615"/>
                </a:moveTo>
                <a:lnTo>
                  <a:pt x="203" y="615"/>
                </a:lnTo>
                <a:cubicBezTo>
                  <a:pt x="198" y="628"/>
                  <a:pt x="184" y="635"/>
                  <a:pt x="171" y="630"/>
                </a:cubicBezTo>
                <a:cubicBezTo>
                  <a:pt x="158" y="625"/>
                  <a:pt x="152" y="611"/>
                  <a:pt x="156" y="598"/>
                </a:cubicBezTo>
                <a:cubicBezTo>
                  <a:pt x="161" y="585"/>
                  <a:pt x="176" y="578"/>
                  <a:pt x="189" y="583"/>
                </a:cubicBezTo>
                <a:cubicBezTo>
                  <a:pt x="202" y="588"/>
                  <a:pt x="208" y="602"/>
                  <a:pt x="203" y="615"/>
                </a:cubicBezTo>
                <a:close/>
                <a:moveTo>
                  <a:pt x="170" y="708"/>
                </a:moveTo>
                <a:lnTo>
                  <a:pt x="170" y="708"/>
                </a:lnTo>
                <a:cubicBezTo>
                  <a:pt x="166" y="721"/>
                  <a:pt x="152" y="728"/>
                  <a:pt x="139" y="724"/>
                </a:cubicBezTo>
                <a:cubicBezTo>
                  <a:pt x="125" y="720"/>
                  <a:pt x="118" y="706"/>
                  <a:pt x="122" y="693"/>
                </a:cubicBezTo>
                <a:cubicBezTo>
                  <a:pt x="126" y="680"/>
                  <a:pt x="140" y="673"/>
                  <a:pt x="153" y="677"/>
                </a:cubicBezTo>
                <a:cubicBezTo>
                  <a:pt x="166" y="681"/>
                  <a:pt x="174" y="695"/>
                  <a:pt x="170" y="708"/>
                </a:cubicBezTo>
                <a:close/>
                <a:moveTo>
                  <a:pt x="141" y="804"/>
                </a:moveTo>
                <a:lnTo>
                  <a:pt x="141" y="804"/>
                </a:lnTo>
                <a:cubicBezTo>
                  <a:pt x="137" y="817"/>
                  <a:pt x="123" y="824"/>
                  <a:pt x="110" y="820"/>
                </a:cubicBezTo>
                <a:cubicBezTo>
                  <a:pt x="97" y="816"/>
                  <a:pt x="89" y="802"/>
                  <a:pt x="93" y="789"/>
                </a:cubicBezTo>
                <a:cubicBezTo>
                  <a:pt x="97" y="776"/>
                  <a:pt x="111" y="768"/>
                  <a:pt x="124" y="772"/>
                </a:cubicBezTo>
                <a:cubicBezTo>
                  <a:pt x="138" y="776"/>
                  <a:pt x="145" y="790"/>
                  <a:pt x="141" y="804"/>
                </a:cubicBezTo>
                <a:close/>
                <a:moveTo>
                  <a:pt x="118" y="899"/>
                </a:moveTo>
                <a:lnTo>
                  <a:pt x="118" y="899"/>
                </a:lnTo>
                <a:cubicBezTo>
                  <a:pt x="114" y="913"/>
                  <a:pt x="101" y="921"/>
                  <a:pt x="87" y="918"/>
                </a:cubicBezTo>
                <a:cubicBezTo>
                  <a:pt x="74" y="915"/>
                  <a:pt x="66" y="901"/>
                  <a:pt x="69" y="888"/>
                </a:cubicBezTo>
                <a:cubicBezTo>
                  <a:pt x="72" y="874"/>
                  <a:pt x="86" y="866"/>
                  <a:pt x="99" y="869"/>
                </a:cubicBezTo>
                <a:cubicBezTo>
                  <a:pt x="113" y="872"/>
                  <a:pt x="121" y="886"/>
                  <a:pt x="118" y="899"/>
                </a:cubicBezTo>
                <a:close/>
                <a:moveTo>
                  <a:pt x="98" y="996"/>
                </a:moveTo>
                <a:lnTo>
                  <a:pt x="98" y="996"/>
                </a:lnTo>
                <a:cubicBezTo>
                  <a:pt x="95" y="1010"/>
                  <a:pt x="82" y="1019"/>
                  <a:pt x="68" y="1016"/>
                </a:cubicBezTo>
                <a:cubicBezTo>
                  <a:pt x="55" y="1013"/>
                  <a:pt x="46" y="1000"/>
                  <a:pt x="49" y="987"/>
                </a:cubicBezTo>
                <a:lnTo>
                  <a:pt x="49" y="986"/>
                </a:lnTo>
                <a:cubicBezTo>
                  <a:pt x="51" y="973"/>
                  <a:pt x="64" y="964"/>
                  <a:pt x="78" y="967"/>
                </a:cubicBezTo>
                <a:cubicBezTo>
                  <a:pt x="91" y="970"/>
                  <a:pt x="100" y="983"/>
                  <a:pt x="98" y="996"/>
                </a:cubicBezTo>
                <a:close/>
                <a:moveTo>
                  <a:pt x="81" y="1093"/>
                </a:moveTo>
                <a:lnTo>
                  <a:pt x="81" y="1093"/>
                </a:lnTo>
                <a:cubicBezTo>
                  <a:pt x="79" y="1107"/>
                  <a:pt x="66" y="1117"/>
                  <a:pt x="52" y="1115"/>
                </a:cubicBezTo>
                <a:cubicBezTo>
                  <a:pt x="39" y="1113"/>
                  <a:pt x="29" y="1100"/>
                  <a:pt x="31" y="1087"/>
                </a:cubicBezTo>
                <a:cubicBezTo>
                  <a:pt x="33" y="1073"/>
                  <a:pt x="46" y="1063"/>
                  <a:pt x="59" y="1065"/>
                </a:cubicBezTo>
                <a:cubicBezTo>
                  <a:pt x="73" y="1067"/>
                  <a:pt x="83" y="1080"/>
                  <a:pt x="81" y="1093"/>
                </a:cubicBezTo>
                <a:close/>
                <a:moveTo>
                  <a:pt x="68" y="1193"/>
                </a:moveTo>
                <a:lnTo>
                  <a:pt x="68" y="1193"/>
                </a:lnTo>
                <a:cubicBezTo>
                  <a:pt x="66" y="1206"/>
                  <a:pt x="54" y="1216"/>
                  <a:pt x="40" y="1214"/>
                </a:cubicBezTo>
                <a:cubicBezTo>
                  <a:pt x="26" y="1212"/>
                  <a:pt x="17" y="1200"/>
                  <a:pt x="19" y="1186"/>
                </a:cubicBezTo>
                <a:cubicBezTo>
                  <a:pt x="21" y="1172"/>
                  <a:pt x="33" y="1163"/>
                  <a:pt x="47" y="1164"/>
                </a:cubicBezTo>
                <a:cubicBezTo>
                  <a:pt x="61" y="1166"/>
                  <a:pt x="70" y="1179"/>
                  <a:pt x="68" y="1193"/>
                </a:cubicBezTo>
                <a:close/>
                <a:moveTo>
                  <a:pt x="59" y="1291"/>
                </a:moveTo>
                <a:lnTo>
                  <a:pt x="59" y="1291"/>
                </a:lnTo>
                <a:cubicBezTo>
                  <a:pt x="58" y="1305"/>
                  <a:pt x="46" y="1315"/>
                  <a:pt x="33" y="1314"/>
                </a:cubicBezTo>
                <a:cubicBezTo>
                  <a:pt x="19" y="1313"/>
                  <a:pt x="8" y="1301"/>
                  <a:pt x="10" y="1287"/>
                </a:cubicBezTo>
                <a:cubicBezTo>
                  <a:pt x="11" y="1273"/>
                  <a:pt x="23" y="1263"/>
                  <a:pt x="36" y="1264"/>
                </a:cubicBezTo>
                <a:cubicBezTo>
                  <a:pt x="50" y="1265"/>
                  <a:pt x="60" y="1277"/>
                  <a:pt x="59" y="1291"/>
                </a:cubicBezTo>
                <a:close/>
                <a:moveTo>
                  <a:pt x="53" y="1390"/>
                </a:moveTo>
                <a:lnTo>
                  <a:pt x="53" y="1390"/>
                </a:lnTo>
                <a:cubicBezTo>
                  <a:pt x="52" y="1403"/>
                  <a:pt x="41" y="1414"/>
                  <a:pt x="27" y="1414"/>
                </a:cubicBezTo>
                <a:cubicBezTo>
                  <a:pt x="13" y="1413"/>
                  <a:pt x="2" y="1402"/>
                  <a:pt x="3" y="1388"/>
                </a:cubicBezTo>
                <a:cubicBezTo>
                  <a:pt x="4" y="1374"/>
                  <a:pt x="15" y="1363"/>
                  <a:pt x="29" y="1364"/>
                </a:cubicBezTo>
                <a:cubicBezTo>
                  <a:pt x="43" y="1364"/>
                  <a:pt x="54" y="1376"/>
                  <a:pt x="53" y="1390"/>
                </a:cubicBezTo>
                <a:close/>
                <a:moveTo>
                  <a:pt x="50" y="1490"/>
                </a:moveTo>
                <a:lnTo>
                  <a:pt x="50" y="1490"/>
                </a:lnTo>
                <a:cubicBezTo>
                  <a:pt x="50" y="1503"/>
                  <a:pt x="38" y="1514"/>
                  <a:pt x="24" y="1514"/>
                </a:cubicBezTo>
                <a:cubicBezTo>
                  <a:pt x="11" y="1513"/>
                  <a:pt x="0" y="1502"/>
                  <a:pt x="0" y="1488"/>
                </a:cubicBezTo>
                <a:cubicBezTo>
                  <a:pt x="1" y="1474"/>
                  <a:pt x="13" y="1463"/>
                  <a:pt x="26" y="1464"/>
                </a:cubicBezTo>
                <a:cubicBezTo>
                  <a:pt x="40" y="1464"/>
                  <a:pt x="51" y="1476"/>
                  <a:pt x="50" y="1490"/>
                </a:cubicBezTo>
                <a:close/>
                <a:moveTo>
                  <a:pt x="51" y="1588"/>
                </a:moveTo>
                <a:lnTo>
                  <a:pt x="51" y="1588"/>
                </a:lnTo>
                <a:cubicBezTo>
                  <a:pt x="51" y="1602"/>
                  <a:pt x="40" y="1613"/>
                  <a:pt x="27" y="1614"/>
                </a:cubicBezTo>
                <a:cubicBezTo>
                  <a:pt x="13" y="1614"/>
                  <a:pt x="1" y="1603"/>
                  <a:pt x="1" y="1589"/>
                </a:cubicBezTo>
                <a:cubicBezTo>
                  <a:pt x="1" y="1575"/>
                  <a:pt x="12" y="1564"/>
                  <a:pt x="26" y="1564"/>
                </a:cubicBezTo>
                <a:cubicBezTo>
                  <a:pt x="39" y="1563"/>
                  <a:pt x="51" y="1574"/>
                  <a:pt x="51" y="1588"/>
                </a:cubicBezTo>
                <a:close/>
                <a:moveTo>
                  <a:pt x="54" y="1687"/>
                </a:moveTo>
                <a:lnTo>
                  <a:pt x="54" y="1687"/>
                </a:lnTo>
                <a:cubicBezTo>
                  <a:pt x="55" y="1701"/>
                  <a:pt x="45" y="1713"/>
                  <a:pt x="31" y="1714"/>
                </a:cubicBezTo>
                <a:cubicBezTo>
                  <a:pt x="17" y="1714"/>
                  <a:pt x="5" y="1704"/>
                  <a:pt x="4" y="1690"/>
                </a:cubicBezTo>
                <a:cubicBezTo>
                  <a:pt x="4" y="1676"/>
                  <a:pt x="14" y="1665"/>
                  <a:pt x="28" y="1664"/>
                </a:cubicBezTo>
                <a:cubicBezTo>
                  <a:pt x="42" y="1663"/>
                  <a:pt x="54" y="1673"/>
                  <a:pt x="54" y="1687"/>
                </a:cubicBezTo>
                <a:close/>
                <a:moveTo>
                  <a:pt x="62" y="1787"/>
                </a:moveTo>
                <a:lnTo>
                  <a:pt x="62" y="1787"/>
                </a:lnTo>
                <a:cubicBezTo>
                  <a:pt x="63" y="1801"/>
                  <a:pt x="52" y="1813"/>
                  <a:pt x="38" y="1813"/>
                </a:cubicBezTo>
                <a:cubicBezTo>
                  <a:pt x="24" y="1814"/>
                  <a:pt x="13" y="1804"/>
                  <a:pt x="12" y="1790"/>
                </a:cubicBezTo>
                <a:cubicBezTo>
                  <a:pt x="11" y="1776"/>
                  <a:pt x="21" y="1764"/>
                  <a:pt x="35" y="1763"/>
                </a:cubicBezTo>
                <a:cubicBezTo>
                  <a:pt x="49" y="1763"/>
                  <a:pt x="61" y="1773"/>
                  <a:pt x="62" y="1787"/>
                </a:cubicBezTo>
                <a:close/>
                <a:moveTo>
                  <a:pt x="72" y="1885"/>
                </a:moveTo>
                <a:lnTo>
                  <a:pt x="72" y="1885"/>
                </a:lnTo>
                <a:cubicBezTo>
                  <a:pt x="74" y="1899"/>
                  <a:pt x="64" y="1911"/>
                  <a:pt x="50" y="1913"/>
                </a:cubicBezTo>
                <a:cubicBezTo>
                  <a:pt x="37" y="1914"/>
                  <a:pt x="24" y="1905"/>
                  <a:pt x="22" y="1891"/>
                </a:cubicBezTo>
                <a:cubicBezTo>
                  <a:pt x="21" y="1877"/>
                  <a:pt x="31" y="1865"/>
                  <a:pt x="44" y="1863"/>
                </a:cubicBezTo>
                <a:cubicBezTo>
                  <a:pt x="58" y="1861"/>
                  <a:pt x="70" y="1871"/>
                  <a:pt x="72" y="1885"/>
                </a:cubicBezTo>
                <a:close/>
                <a:moveTo>
                  <a:pt x="85" y="1983"/>
                </a:moveTo>
                <a:lnTo>
                  <a:pt x="85" y="1983"/>
                </a:lnTo>
                <a:cubicBezTo>
                  <a:pt x="88" y="1996"/>
                  <a:pt x="79" y="2009"/>
                  <a:pt x="65" y="2012"/>
                </a:cubicBezTo>
                <a:cubicBezTo>
                  <a:pt x="51" y="2014"/>
                  <a:pt x="38" y="2005"/>
                  <a:pt x="36" y="1991"/>
                </a:cubicBezTo>
                <a:cubicBezTo>
                  <a:pt x="34" y="1978"/>
                  <a:pt x="43" y="1965"/>
                  <a:pt x="56" y="1962"/>
                </a:cubicBezTo>
                <a:cubicBezTo>
                  <a:pt x="70" y="1960"/>
                  <a:pt x="83" y="1969"/>
                  <a:pt x="85" y="1983"/>
                </a:cubicBezTo>
                <a:close/>
                <a:moveTo>
                  <a:pt x="103" y="2081"/>
                </a:moveTo>
                <a:lnTo>
                  <a:pt x="103" y="2081"/>
                </a:lnTo>
                <a:cubicBezTo>
                  <a:pt x="106" y="2095"/>
                  <a:pt x="96" y="2108"/>
                  <a:pt x="83" y="2110"/>
                </a:cubicBezTo>
                <a:cubicBezTo>
                  <a:pt x="69" y="2113"/>
                  <a:pt x="56" y="2104"/>
                  <a:pt x="54" y="2090"/>
                </a:cubicBezTo>
                <a:cubicBezTo>
                  <a:pt x="51" y="2076"/>
                  <a:pt x="60" y="2063"/>
                  <a:pt x="74" y="2061"/>
                </a:cubicBezTo>
                <a:cubicBezTo>
                  <a:pt x="88" y="2058"/>
                  <a:pt x="101" y="2067"/>
                  <a:pt x="103" y="2081"/>
                </a:cubicBezTo>
                <a:close/>
                <a:moveTo>
                  <a:pt x="125" y="2178"/>
                </a:moveTo>
                <a:lnTo>
                  <a:pt x="125" y="2178"/>
                </a:lnTo>
                <a:cubicBezTo>
                  <a:pt x="128" y="2191"/>
                  <a:pt x="119" y="2205"/>
                  <a:pt x="106" y="2208"/>
                </a:cubicBezTo>
                <a:cubicBezTo>
                  <a:pt x="92" y="2211"/>
                  <a:pt x="79" y="2202"/>
                  <a:pt x="76" y="2189"/>
                </a:cubicBezTo>
                <a:lnTo>
                  <a:pt x="76" y="2188"/>
                </a:lnTo>
                <a:cubicBezTo>
                  <a:pt x="73" y="2175"/>
                  <a:pt x="81" y="2162"/>
                  <a:pt x="95" y="2159"/>
                </a:cubicBezTo>
                <a:cubicBezTo>
                  <a:pt x="108" y="2156"/>
                  <a:pt x="122" y="2164"/>
                  <a:pt x="125" y="2178"/>
                </a:cubicBezTo>
                <a:close/>
                <a:moveTo>
                  <a:pt x="150" y="2273"/>
                </a:moveTo>
                <a:lnTo>
                  <a:pt x="150" y="2273"/>
                </a:lnTo>
                <a:cubicBezTo>
                  <a:pt x="154" y="2286"/>
                  <a:pt x="146" y="2300"/>
                  <a:pt x="133" y="2304"/>
                </a:cubicBezTo>
                <a:cubicBezTo>
                  <a:pt x="119" y="2308"/>
                  <a:pt x="106" y="2300"/>
                  <a:pt x="102" y="2287"/>
                </a:cubicBezTo>
                <a:cubicBezTo>
                  <a:pt x="98" y="2273"/>
                  <a:pt x="106" y="2260"/>
                  <a:pt x="119" y="2256"/>
                </a:cubicBezTo>
                <a:cubicBezTo>
                  <a:pt x="132" y="2252"/>
                  <a:pt x="146" y="2260"/>
                  <a:pt x="150" y="2273"/>
                </a:cubicBezTo>
                <a:close/>
                <a:moveTo>
                  <a:pt x="179" y="2367"/>
                </a:moveTo>
                <a:lnTo>
                  <a:pt x="179" y="2367"/>
                </a:lnTo>
                <a:cubicBezTo>
                  <a:pt x="183" y="2380"/>
                  <a:pt x="177" y="2394"/>
                  <a:pt x="164" y="2399"/>
                </a:cubicBezTo>
                <a:cubicBezTo>
                  <a:pt x="151" y="2404"/>
                  <a:pt x="136" y="2397"/>
                  <a:pt x="132" y="2384"/>
                </a:cubicBezTo>
                <a:cubicBezTo>
                  <a:pt x="127" y="2371"/>
                  <a:pt x="134" y="2356"/>
                  <a:pt x="147" y="2352"/>
                </a:cubicBezTo>
                <a:cubicBezTo>
                  <a:pt x="160" y="2347"/>
                  <a:pt x="174" y="2354"/>
                  <a:pt x="179" y="2367"/>
                </a:cubicBezTo>
                <a:close/>
                <a:moveTo>
                  <a:pt x="214" y="2461"/>
                </a:moveTo>
                <a:lnTo>
                  <a:pt x="214" y="2461"/>
                </a:lnTo>
                <a:cubicBezTo>
                  <a:pt x="219" y="2474"/>
                  <a:pt x="212" y="2488"/>
                  <a:pt x="199" y="2493"/>
                </a:cubicBezTo>
                <a:cubicBezTo>
                  <a:pt x="186" y="2497"/>
                  <a:pt x="171" y="2491"/>
                  <a:pt x="167" y="2478"/>
                </a:cubicBezTo>
                <a:cubicBezTo>
                  <a:pt x="162" y="2465"/>
                  <a:pt x="169" y="2450"/>
                  <a:pt x="182" y="2446"/>
                </a:cubicBezTo>
                <a:cubicBezTo>
                  <a:pt x="195" y="2441"/>
                  <a:pt x="209" y="2448"/>
                  <a:pt x="214" y="2461"/>
                </a:cubicBezTo>
                <a:close/>
                <a:moveTo>
                  <a:pt x="253" y="2551"/>
                </a:moveTo>
                <a:lnTo>
                  <a:pt x="253" y="2551"/>
                </a:lnTo>
                <a:cubicBezTo>
                  <a:pt x="259" y="2564"/>
                  <a:pt x="253" y="2578"/>
                  <a:pt x="240" y="2584"/>
                </a:cubicBezTo>
                <a:cubicBezTo>
                  <a:pt x="227" y="2589"/>
                  <a:pt x="213" y="2583"/>
                  <a:pt x="207" y="2571"/>
                </a:cubicBezTo>
                <a:cubicBezTo>
                  <a:pt x="202" y="2558"/>
                  <a:pt x="208" y="2543"/>
                  <a:pt x="220" y="2538"/>
                </a:cubicBezTo>
                <a:cubicBezTo>
                  <a:pt x="233" y="2532"/>
                  <a:pt x="248" y="2538"/>
                  <a:pt x="253" y="2551"/>
                </a:cubicBezTo>
                <a:close/>
                <a:moveTo>
                  <a:pt x="298" y="2638"/>
                </a:moveTo>
                <a:lnTo>
                  <a:pt x="298" y="2638"/>
                </a:lnTo>
                <a:cubicBezTo>
                  <a:pt x="305" y="2650"/>
                  <a:pt x="300" y="2665"/>
                  <a:pt x="288" y="2672"/>
                </a:cubicBezTo>
                <a:cubicBezTo>
                  <a:pt x="276" y="2678"/>
                  <a:pt x="261" y="2674"/>
                  <a:pt x="254" y="2662"/>
                </a:cubicBezTo>
                <a:cubicBezTo>
                  <a:pt x="248" y="2649"/>
                  <a:pt x="252" y="2634"/>
                  <a:pt x="264" y="2628"/>
                </a:cubicBezTo>
                <a:cubicBezTo>
                  <a:pt x="276" y="2621"/>
                  <a:pt x="292" y="2626"/>
                  <a:pt x="298" y="2638"/>
                </a:cubicBezTo>
                <a:close/>
                <a:moveTo>
                  <a:pt x="350" y="2721"/>
                </a:moveTo>
                <a:lnTo>
                  <a:pt x="350" y="2721"/>
                </a:lnTo>
                <a:cubicBezTo>
                  <a:pt x="357" y="2732"/>
                  <a:pt x="354" y="2748"/>
                  <a:pt x="342" y="2756"/>
                </a:cubicBezTo>
                <a:cubicBezTo>
                  <a:pt x="331" y="2763"/>
                  <a:pt x="315" y="2760"/>
                  <a:pt x="308" y="2748"/>
                </a:cubicBezTo>
                <a:cubicBezTo>
                  <a:pt x="300" y="2737"/>
                  <a:pt x="303" y="2721"/>
                  <a:pt x="315" y="2714"/>
                </a:cubicBezTo>
                <a:cubicBezTo>
                  <a:pt x="326" y="2706"/>
                  <a:pt x="342" y="2709"/>
                  <a:pt x="350" y="2721"/>
                </a:cubicBezTo>
                <a:close/>
                <a:moveTo>
                  <a:pt x="408" y="2799"/>
                </a:moveTo>
                <a:lnTo>
                  <a:pt x="408" y="2799"/>
                </a:lnTo>
                <a:cubicBezTo>
                  <a:pt x="417" y="2810"/>
                  <a:pt x="415" y="2825"/>
                  <a:pt x="405" y="2834"/>
                </a:cubicBezTo>
                <a:cubicBezTo>
                  <a:pt x="394" y="2843"/>
                  <a:pt x="378" y="2841"/>
                  <a:pt x="369" y="2830"/>
                </a:cubicBezTo>
                <a:cubicBezTo>
                  <a:pt x="361" y="2820"/>
                  <a:pt x="362" y="2804"/>
                  <a:pt x="373" y="2795"/>
                </a:cubicBezTo>
                <a:cubicBezTo>
                  <a:pt x="384" y="2786"/>
                  <a:pt x="399" y="2788"/>
                  <a:pt x="408" y="2799"/>
                </a:cubicBezTo>
                <a:close/>
                <a:moveTo>
                  <a:pt x="475" y="2870"/>
                </a:moveTo>
                <a:lnTo>
                  <a:pt x="475" y="2870"/>
                </a:lnTo>
                <a:cubicBezTo>
                  <a:pt x="485" y="2879"/>
                  <a:pt x="485" y="2895"/>
                  <a:pt x="475" y="2905"/>
                </a:cubicBezTo>
                <a:cubicBezTo>
                  <a:pt x="465" y="2915"/>
                  <a:pt x="449" y="2915"/>
                  <a:pt x="440" y="2905"/>
                </a:cubicBezTo>
                <a:cubicBezTo>
                  <a:pt x="430" y="2896"/>
                  <a:pt x="430" y="2880"/>
                  <a:pt x="439" y="2870"/>
                </a:cubicBezTo>
                <a:cubicBezTo>
                  <a:pt x="449" y="2860"/>
                  <a:pt x="465" y="2860"/>
                  <a:pt x="475" y="2870"/>
                </a:cubicBezTo>
                <a:close/>
                <a:moveTo>
                  <a:pt x="550" y="2930"/>
                </a:moveTo>
                <a:lnTo>
                  <a:pt x="550" y="2930"/>
                </a:lnTo>
                <a:cubicBezTo>
                  <a:pt x="561" y="2939"/>
                  <a:pt x="563" y="2954"/>
                  <a:pt x="555" y="2965"/>
                </a:cubicBezTo>
                <a:cubicBezTo>
                  <a:pt x="546" y="2976"/>
                  <a:pt x="531" y="2978"/>
                  <a:pt x="520" y="2970"/>
                </a:cubicBezTo>
                <a:cubicBezTo>
                  <a:pt x="509" y="2962"/>
                  <a:pt x="507" y="2946"/>
                  <a:pt x="515" y="2935"/>
                </a:cubicBezTo>
                <a:cubicBezTo>
                  <a:pt x="523" y="2924"/>
                  <a:pt x="539" y="2922"/>
                  <a:pt x="550" y="2930"/>
                </a:cubicBezTo>
                <a:close/>
                <a:moveTo>
                  <a:pt x="630" y="2972"/>
                </a:moveTo>
                <a:lnTo>
                  <a:pt x="631" y="2972"/>
                </a:lnTo>
                <a:cubicBezTo>
                  <a:pt x="644" y="2976"/>
                  <a:pt x="651" y="2990"/>
                  <a:pt x="647" y="3003"/>
                </a:cubicBezTo>
                <a:cubicBezTo>
                  <a:pt x="643" y="3016"/>
                  <a:pt x="630" y="3024"/>
                  <a:pt x="616" y="3020"/>
                </a:cubicBezTo>
                <a:cubicBezTo>
                  <a:pt x="603" y="3016"/>
                  <a:pt x="595" y="3002"/>
                  <a:pt x="599" y="2989"/>
                </a:cubicBezTo>
                <a:cubicBezTo>
                  <a:pt x="603" y="2976"/>
                  <a:pt x="617" y="2968"/>
                  <a:pt x="630" y="2972"/>
                </a:cubicBezTo>
                <a:close/>
                <a:moveTo>
                  <a:pt x="723" y="2994"/>
                </a:moveTo>
                <a:lnTo>
                  <a:pt x="723" y="2994"/>
                </a:lnTo>
                <a:cubicBezTo>
                  <a:pt x="737" y="2995"/>
                  <a:pt x="747" y="3008"/>
                  <a:pt x="745" y="3021"/>
                </a:cubicBezTo>
                <a:cubicBezTo>
                  <a:pt x="744" y="3035"/>
                  <a:pt x="732" y="3045"/>
                  <a:pt x="718" y="3044"/>
                </a:cubicBezTo>
                <a:cubicBezTo>
                  <a:pt x="704" y="3042"/>
                  <a:pt x="694" y="3030"/>
                  <a:pt x="696" y="3016"/>
                </a:cubicBezTo>
                <a:cubicBezTo>
                  <a:pt x="697" y="3003"/>
                  <a:pt x="709" y="2993"/>
                  <a:pt x="723" y="2994"/>
                </a:cubicBezTo>
                <a:close/>
                <a:moveTo>
                  <a:pt x="817" y="2993"/>
                </a:moveTo>
                <a:lnTo>
                  <a:pt x="817" y="2993"/>
                </a:lnTo>
                <a:cubicBezTo>
                  <a:pt x="831" y="2991"/>
                  <a:pt x="843" y="3001"/>
                  <a:pt x="845" y="3015"/>
                </a:cubicBezTo>
                <a:cubicBezTo>
                  <a:pt x="846" y="3029"/>
                  <a:pt x="836" y="3041"/>
                  <a:pt x="823" y="3042"/>
                </a:cubicBezTo>
                <a:cubicBezTo>
                  <a:pt x="809" y="3044"/>
                  <a:pt x="797" y="3034"/>
                  <a:pt x="795" y="3020"/>
                </a:cubicBezTo>
                <a:cubicBezTo>
                  <a:pt x="794" y="3007"/>
                  <a:pt x="803" y="2994"/>
                  <a:pt x="817" y="2993"/>
                </a:cubicBezTo>
                <a:close/>
                <a:moveTo>
                  <a:pt x="904" y="2970"/>
                </a:moveTo>
                <a:lnTo>
                  <a:pt x="904" y="2969"/>
                </a:lnTo>
                <a:cubicBezTo>
                  <a:pt x="917" y="2963"/>
                  <a:pt x="932" y="2968"/>
                  <a:pt x="938" y="2980"/>
                </a:cubicBezTo>
                <a:cubicBezTo>
                  <a:pt x="945" y="2992"/>
                  <a:pt x="940" y="3007"/>
                  <a:pt x="928" y="3014"/>
                </a:cubicBezTo>
                <a:cubicBezTo>
                  <a:pt x="916" y="3020"/>
                  <a:pt x="901" y="3016"/>
                  <a:pt x="894" y="3003"/>
                </a:cubicBezTo>
                <a:cubicBezTo>
                  <a:pt x="888" y="2991"/>
                  <a:pt x="892" y="2976"/>
                  <a:pt x="904" y="2970"/>
                </a:cubicBezTo>
                <a:close/>
                <a:moveTo>
                  <a:pt x="987" y="2922"/>
                </a:moveTo>
                <a:lnTo>
                  <a:pt x="987" y="2922"/>
                </a:lnTo>
                <a:cubicBezTo>
                  <a:pt x="998" y="2914"/>
                  <a:pt x="1014" y="2916"/>
                  <a:pt x="1022" y="2926"/>
                </a:cubicBezTo>
                <a:cubicBezTo>
                  <a:pt x="1031" y="2937"/>
                  <a:pt x="1029" y="2953"/>
                  <a:pt x="1018" y="2961"/>
                </a:cubicBezTo>
                <a:lnTo>
                  <a:pt x="1018" y="2962"/>
                </a:lnTo>
                <a:cubicBezTo>
                  <a:pt x="1007" y="2970"/>
                  <a:pt x="992" y="2968"/>
                  <a:pt x="983" y="2957"/>
                </a:cubicBezTo>
                <a:cubicBezTo>
                  <a:pt x="974" y="2946"/>
                  <a:pt x="976" y="2931"/>
                  <a:pt x="987" y="2922"/>
                </a:cubicBezTo>
                <a:close/>
                <a:moveTo>
                  <a:pt x="1061" y="2860"/>
                </a:moveTo>
                <a:lnTo>
                  <a:pt x="1062" y="2860"/>
                </a:lnTo>
                <a:cubicBezTo>
                  <a:pt x="1071" y="2850"/>
                  <a:pt x="1087" y="2850"/>
                  <a:pt x="1097" y="2860"/>
                </a:cubicBezTo>
                <a:cubicBezTo>
                  <a:pt x="1107" y="2870"/>
                  <a:pt x="1107" y="2886"/>
                  <a:pt x="1097" y="2895"/>
                </a:cubicBezTo>
                <a:cubicBezTo>
                  <a:pt x="1087" y="2905"/>
                  <a:pt x="1071" y="2905"/>
                  <a:pt x="1061" y="2895"/>
                </a:cubicBezTo>
                <a:cubicBezTo>
                  <a:pt x="1052" y="2886"/>
                  <a:pt x="1052" y="2870"/>
                  <a:pt x="1061" y="2860"/>
                </a:cubicBezTo>
                <a:close/>
                <a:moveTo>
                  <a:pt x="1127" y="2788"/>
                </a:moveTo>
                <a:lnTo>
                  <a:pt x="1127" y="2788"/>
                </a:lnTo>
                <a:cubicBezTo>
                  <a:pt x="1136" y="2778"/>
                  <a:pt x="1152" y="2776"/>
                  <a:pt x="1162" y="2785"/>
                </a:cubicBezTo>
                <a:cubicBezTo>
                  <a:pt x="1173" y="2793"/>
                  <a:pt x="1175" y="2809"/>
                  <a:pt x="1166" y="2820"/>
                </a:cubicBezTo>
                <a:cubicBezTo>
                  <a:pt x="1158" y="2830"/>
                  <a:pt x="1142" y="2832"/>
                  <a:pt x="1131" y="2824"/>
                </a:cubicBezTo>
                <a:cubicBezTo>
                  <a:pt x="1120" y="2815"/>
                  <a:pt x="1119" y="2799"/>
                  <a:pt x="1127" y="2788"/>
                </a:cubicBezTo>
                <a:close/>
                <a:moveTo>
                  <a:pt x="1185" y="2710"/>
                </a:moveTo>
                <a:lnTo>
                  <a:pt x="1185" y="2710"/>
                </a:lnTo>
                <a:cubicBezTo>
                  <a:pt x="1192" y="2698"/>
                  <a:pt x="1208" y="2695"/>
                  <a:pt x="1219" y="2702"/>
                </a:cubicBezTo>
                <a:cubicBezTo>
                  <a:pt x="1231" y="2710"/>
                  <a:pt x="1234" y="2725"/>
                  <a:pt x="1227" y="2737"/>
                </a:cubicBezTo>
                <a:cubicBezTo>
                  <a:pt x="1219" y="2749"/>
                  <a:pt x="1204" y="2752"/>
                  <a:pt x="1192" y="2744"/>
                </a:cubicBezTo>
                <a:cubicBezTo>
                  <a:pt x="1180" y="2737"/>
                  <a:pt x="1177" y="2721"/>
                  <a:pt x="1185" y="2710"/>
                </a:cubicBezTo>
                <a:close/>
                <a:moveTo>
                  <a:pt x="1235" y="2626"/>
                </a:moveTo>
                <a:lnTo>
                  <a:pt x="1235" y="2626"/>
                </a:lnTo>
                <a:cubicBezTo>
                  <a:pt x="1241" y="2614"/>
                  <a:pt x="1256" y="2609"/>
                  <a:pt x="1269" y="2615"/>
                </a:cubicBezTo>
                <a:cubicBezTo>
                  <a:pt x="1281" y="2622"/>
                  <a:pt x="1286" y="2637"/>
                  <a:pt x="1279" y="2649"/>
                </a:cubicBezTo>
                <a:cubicBezTo>
                  <a:pt x="1273" y="2662"/>
                  <a:pt x="1258" y="2666"/>
                  <a:pt x="1245" y="2660"/>
                </a:cubicBezTo>
                <a:cubicBezTo>
                  <a:pt x="1233" y="2653"/>
                  <a:pt x="1228" y="2638"/>
                  <a:pt x="1235" y="2626"/>
                </a:cubicBezTo>
                <a:close/>
                <a:moveTo>
                  <a:pt x="1279" y="2538"/>
                </a:moveTo>
                <a:lnTo>
                  <a:pt x="1279" y="2538"/>
                </a:lnTo>
                <a:cubicBezTo>
                  <a:pt x="1284" y="2526"/>
                  <a:pt x="1299" y="2520"/>
                  <a:pt x="1312" y="2525"/>
                </a:cubicBezTo>
                <a:cubicBezTo>
                  <a:pt x="1324" y="2531"/>
                  <a:pt x="1330" y="2545"/>
                  <a:pt x="1325" y="2558"/>
                </a:cubicBezTo>
                <a:cubicBezTo>
                  <a:pt x="1319" y="2571"/>
                  <a:pt x="1305" y="2577"/>
                  <a:pt x="1292" y="2571"/>
                </a:cubicBezTo>
                <a:cubicBezTo>
                  <a:pt x="1279" y="2566"/>
                  <a:pt x="1273" y="2551"/>
                  <a:pt x="1279" y="2538"/>
                </a:cubicBezTo>
                <a:close/>
                <a:moveTo>
                  <a:pt x="1318" y="2448"/>
                </a:moveTo>
                <a:lnTo>
                  <a:pt x="1318" y="2448"/>
                </a:lnTo>
                <a:cubicBezTo>
                  <a:pt x="1322" y="2435"/>
                  <a:pt x="1336" y="2428"/>
                  <a:pt x="1349" y="2433"/>
                </a:cubicBezTo>
                <a:cubicBezTo>
                  <a:pt x="1363" y="2437"/>
                  <a:pt x="1369" y="2452"/>
                  <a:pt x="1365" y="2465"/>
                </a:cubicBezTo>
                <a:cubicBezTo>
                  <a:pt x="1360" y="2478"/>
                  <a:pt x="1346" y="2484"/>
                  <a:pt x="1333" y="2480"/>
                </a:cubicBezTo>
                <a:cubicBezTo>
                  <a:pt x="1320" y="2475"/>
                  <a:pt x="1313" y="2461"/>
                  <a:pt x="1318" y="2448"/>
                </a:cubicBezTo>
                <a:close/>
                <a:moveTo>
                  <a:pt x="1351" y="2356"/>
                </a:moveTo>
                <a:lnTo>
                  <a:pt x="1351" y="2355"/>
                </a:lnTo>
                <a:cubicBezTo>
                  <a:pt x="1355" y="2342"/>
                  <a:pt x="1369" y="2334"/>
                  <a:pt x="1382" y="2338"/>
                </a:cubicBezTo>
                <a:cubicBezTo>
                  <a:pt x="1396" y="2342"/>
                  <a:pt x="1403" y="2356"/>
                  <a:pt x="1400" y="2369"/>
                </a:cubicBezTo>
                <a:cubicBezTo>
                  <a:pt x="1396" y="2382"/>
                  <a:pt x="1382" y="2390"/>
                  <a:pt x="1369" y="2386"/>
                </a:cubicBezTo>
                <a:cubicBezTo>
                  <a:pt x="1355" y="2383"/>
                  <a:pt x="1348" y="2369"/>
                  <a:pt x="1351" y="2356"/>
                </a:cubicBezTo>
                <a:close/>
                <a:moveTo>
                  <a:pt x="1380" y="2260"/>
                </a:moveTo>
                <a:lnTo>
                  <a:pt x="1380" y="2260"/>
                </a:lnTo>
                <a:cubicBezTo>
                  <a:pt x="1384" y="2246"/>
                  <a:pt x="1398" y="2239"/>
                  <a:pt x="1411" y="2242"/>
                </a:cubicBezTo>
                <a:cubicBezTo>
                  <a:pt x="1424" y="2246"/>
                  <a:pt x="1432" y="2260"/>
                  <a:pt x="1428" y="2273"/>
                </a:cubicBezTo>
                <a:cubicBezTo>
                  <a:pt x="1424" y="2287"/>
                  <a:pt x="1411" y="2294"/>
                  <a:pt x="1397" y="2291"/>
                </a:cubicBezTo>
                <a:cubicBezTo>
                  <a:pt x="1384" y="2287"/>
                  <a:pt x="1376" y="2273"/>
                  <a:pt x="1380" y="2260"/>
                </a:cubicBezTo>
                <a:close/>
                <a:moveTo>
                  <a:pt x="1404" y="2164"/>
                </a:moveTo>
                <a:lnTo>
                  <a:pt x="1404" y="2164"/>
                </a:lnTo>
                <a:cubicBezTo>
                  <a:pt x="1407" y="2151"/>
                  <a:pt x="1421" y="2142"/>
                  <a:pt x="1434" y="2145"/>
                </a:cubicBezTo>
                <a:cubicBezTo>
                  <a:pt x="1448" y="2148"/>
                  <a:pt x="1456" y="2161"/>
                  <a:pt x="1453" y="2175"/>
                </a:cubicBezTo>
                <a:cubicBezTo>
                  <a:pt x="1450" y="2188"/>
                  <a:pt x="1437" y="2197"/>
                  <a:pt x="1423" y="2194"/>
                </a:cubicBezTo>
                <a:cubicBezTo>
                  <a:pt x="1410" y="2191"/>
                  <a:pt x="1401" y="2178"/>
                  <a:pt x="1404" y="2164"/>
                </a:cubicBezTo>
                <a:close/>
                <a:moveTo>
                  <a:pt x="1425" y="2067"/>
                </a:moveTo>
                <a:lnTo>
                  <a:pt x="1425" y="2067"/>
                </a:lnTo>
                <a:cubicBezTo>
                  <a:pt x="1428" y="2054"/>
                  <a:pt x="1441" y="2045"/>
                  <a:pt x="1454" y="2047"/>
                </a:cubicBezTo>
                <a:cubicBezTo>
                  <a:pt x="1468" y="2050"/>
                  <a:pt x="1477" y="2063"/>
                  <a:pt x="1475" y="2076"/>
                </a:cubicBezTo>
                <a:cubicBezTo>
                  <a:pt x="1472" y="2090"/>
                  <a:pt x="1459" y="2099"/>
                  <a:pt x="1446" y="2096"/>
                </a:cubicBezTo>
                <a:cubicBezTo>
                  <a:pt x="1432" y="2094"/>
                  <a:pt x="1423" y="2081"/>
                  <a:pt x="1425" y="2067"/>
                </a:cubicBezTo>
                <a:close/>
                <a:moveTo>
                  <a:pt x="1443" y="1969"/>
                </a:moveTo>
                <a:lnTo>
                  <a:pt x="1443" y="1969"/>
                </a:lnTo>
                <a:cubicBezTo>
                  <a:pt x="1446" y="1955"/>
                  <a:pt x="1459" y="1946"/>
                  <a:pt x="1472" y="1949"/>
                </a:cubicBezTo>
                <a:cubicBezTo>
                  <a:pt x="1486" y="1951"/>
                  <a:pt x="1495" y="1964"/>
                  <a:pt x="1492" y="1978"/>
                </a:cubicBezTo>
                <a:cubicBezTo>
                  <a:pt x="1490" y="1991"/>
                  <a:pt x="1477" y="2000"/>
                  <a:pt x="1463" y="1998"/>
                </a:cubicBezTo>
                <a:cubicBezTo>
                  <a:pt x="1450" y="1996"/>
                  <a:pt x="1441" y="1983"/>
                  <a:pt x="1443" y="1969"/>
                </a:cubicBezTo>
                <a:close/>
                <a:moveTo>
                  <a:pt x="1456" y="1871"/>
                </a:moveTo>
                <a:lnTo>
                  <a:pt x="1456" y="1871"/>
                </a:lnTo>
                <a:cubicBezTo>
                  <a:pt x="1457" y="1857"/>
                  <a:pt x="1470" y="1848"/>
                  <a:pt x="1483" y="1849"/>
                </a:cubicBezTo>
                <a:cubicBezTo>
                  <a:pt x="1497" y="1851"/>
                  <a:pt x="1507" y="1863"/>
                  <a:pt x="1505" y="1877"/>
                </a:cubicBezTo>
                <a:cubicBezTo>
                  <a:pt x="1504" y="1891"/>
                  <a:pt x="1491" y="1901"/>
                  <a:pt x="1477" y="1899"/>
                </a:cubicBezTo>
                <a:cubicBezTo>
                  <a:pt x="1464" y="1897"/>
                  <a:pt x="1454" y="1885"/>
                  <a:pt x="1456" y="1871"/>
                </a:cubicBezTo>
                <a:close/>
                <a:moveTo>
                  <a:pt x="1465" y="1773"/>
                </a:moveTo>
                <a:lnTo>
                  <a:pt x="1465" y="1773"/>
                </a:lnTo>
                <a:cubicBezTo>
                  <a:pt x="1466" y="1759"/>
                  <a:pt x="1478" y="1749"/>
                  <a:pt x="1492" y="1750"/>
                </a:cubicBezTo>
                <a:cubicBezTo>
                  <a:pt x="1505" y="1750"/>
                  <a:pt x="1516" y="1762"/>
                  <a:pt x="1515" y="1776"/>
                </a:cubicBezTo>
                <a:cubicBezTo>
                  <a:pt x="1514" y="1790"/>
                  <a:pt x="1503" y="1800"/>
                  <a:pt x="1489" y="1800"/>
                </a:cubicBezTo>
                <a:cubicBezTo>
                  <a:pt x="1475" y="1799"/>
                  <a:pt x="1464" y="1787"/>
                  <a:pt x="1465" y="1773"/>
                </a:cubicBezTo>
                <a:close/>
                <a:moveTo>
                  <a:pt x="1473" y="1674"/>
                </a:moveTo>
                <a:lnTo>
                  <a:pt x="1473" y="1674"/>
                </a:lnTo>
                <a:cubicBezTo>
                  <a:pt x="1473" y="1660"/>
                  <a:pt x="1484" y="1649"/>
                  <a:pt x="1498" y="1650"/>
                </a:cubicBezTo>
                <a:cubicBezTo>
                  <a:pt x="1512" y="1650"/>
                  <a:pt x="1523" y="1661"/>
                  <a:pt x="1523" y="1675"/>
                </a:cubicBezTo>
                <a:cubicBezTo>
                  <a:pt x="1522" y="1689"/>
                  <a:pt x="1511" y="1700"/>
                  <a:pt x="1497" y="1700"/>
                </a:cubicBezTo>
                <a:cubicBezTo>
                  <a:pt x="1483" y="1700"/>
                  <a:pt x="1472" y="1688"/>
                  <a:pt x="1473" y="1674"/>
                </a:cubicBezTo>
                <a:close/>
                <a:moveTo>
                  <a:pt x="1475" y="1574"/>
                </a:moveTo>
                <a:lnTo>
                  <a:pt x="1475" y="1574"/>
                </a:lnTo>
                <a:cubicBezTo>
                  <a:pt x="1475" y="1560"/>
                  <a:pt x="1487" y="1549"/>
                  <a:pt x="1501" y="1550"/>
                </a:cubicBezTo>
                <a:cubicBezTo>
                  <a:pt x="1514" y="1550"/>
                  <a:pt x="1525" y="1561"/>
                  <a:pt x="1525" y="1575"/>
                </a:cubicBezTo>
                <a:cubicBezTo>
                  <a:pt x="1525" y="1589"/>
                  <a:pt x="1513" y="1600"/>
                  <a:pt x="1500" y="1600"/>
                </a:cubicBezTo>
                <a:cubicBezTo>
                  <a:pt x="1486" y="1600"/>
                  <a:pt x="1475" y="1588"/>
                  <a:pt x="1475" y="1574"/>
                </a:cubicBezTo>
                <a:close/>
                <a:moveTo>
                  <a:pt x="1475" y="1476"/>
                </a:moveTo>
                <a:lnTo>
                  <a:pt x="1475" y="1476"/>
                </a:lnTo>
                <a:cubicBezTo>
                  <a:pt x="1475" y="1462"/>
                  <a:pt x="1485" y="1450"/>
                  <a:pt x="1499" y="1450"/>
                </a:cubicBezTo>
                <a:cubicBezTo>
                  <a:pt x="1513" y="1449"/>
                  <a:pt x="1525" y="1460"/>
                  <a:pt x="1525" y="1474"/>
                </a:cubicBezTo>
                <a:cubicBezTo>
                  <a:pt x="1526" y="1488"/>
                  <a:pt x="1515" y="1499"/>
                  <a:pt x="1501" y="1500"/>
                </a:cubicBezTo>
                <a:cubicBezTo>
                  <a:pt x="1487" y="1500"/>
                  <a:pt x="1476" y="1490"/>
                  <a:pt x="1475" y="1476"/>
                </a:cubicBezTo>
                <a:close/>
                <a:moveTo>
                  <a:pt x="1473" y="1376"/>
                </a:moveTo>
                <a:lnTo>
                  <a:pt x="1473" y="1376"/>
                </a:lnTo>
                <a:cubicBezTo>
                  <a:pt x="1472" y="1362"/>
                  <a:pt x="1483" y="1350"/>
                  <a:pt x="1497" y="1350"/>
                </a:cubicBezTo>
                <a:cubicBezTo>
                  <a:pt x="1510" y="1349"/>
                  <a:pt x="1522" y="1360"/>
                  <a:pt x="1523" y="1374"/>
                </a:cubicBezTo>
                <a:cubicBezTo>
                  <a:pt x="1523" y="1388"/>
                  <a:pt x="1512" y="1399"/>
                  <a:pt x="1499" y="1400"/>
                </a:cubicBezTo>
                <a:cubicBezTo>
                  <a:pt x="1485" y="1400"/>
                  <a:pt x="1473" y="1390"/>
                  <a:pt x="1473" y="1376"/>
                </a:cubicBezTo>
                <a:close/>
                <a:moveTo>
                  <a:pt x="1465" y="1277"/>
                </a:moveTo>
                <a:lnTo>
                  <a:pt x="1465" y="1277"/>
                </a:lnTo>
                <a:cubicBezTo>
                  <a:pt x="1464" y="1263"/>
                  <a:pt x="1475" y="1251"/>
                  <a:pt x="1488" y="1250"/>
                </a:cubicBezTo>
                <a:cubicBezTo>
                  <a:pt x="1502" y="1249"/>
                  <a:pt x="1514" y="1259"/>
                  <a:pt x="1515" y="1273"/>
                </a:cubicBezTo>
                <a:cubicBezTo>
                  <a:pt x="1516" y="1287"/>
                  <a:pt x="1506" y="1299"/>
                  <a:pt x="1492" y="1300"/>
                </a:cubicBezTo>
                <a:cubicBezTo>
                  <a:pt x="1479" y="1301"/>
                  <a:pt x="1467" y="1291"/>
                  <a:pt x="1465" y="1277"/>
                </a:cubicBezTo>
                <a:close/>
                <a:moveTo>
                  <a:pt x="1456" y="1179"/>
                </a:moveTo>
                <a:lnTo>
                  <a:pt x="1456" y="1179"/>
                </a:lnTo>
                <a:cubicBezTo>
                  <a:pt x="1454" y="1165"/>
                  <a:pt x="1464" y="1152"/>
                  <a:pt x="1477" y="1151"/>
                </a:cubicBezTo>
                <a:cubicBezTo>
                  <a:pt x="1491" y="1149"/>
                  <a:pt x="1504" y="1158"/>
                  <a:pt x="1505" y="1172"/>
                </a:cubicBezTo>
                <a:cubicBezTo>
                  <a:pt x="1507" y="1186"/>
                  <a:pt x="1498" y="1198"/>
                  <a:pt x="1484" y="1200"/>
                </a:cubicBezTo>
                <a:cubicBezTo>
                  <a:pt x="1470" y="1202"/>
                  <a:pt x="1458" y="1192"/>
                  <a:pt x="1456" y="1179"/>
                </a:cubicBezTo>
                <a:close/>
                <a:moveTo>
                  <a:pt x="1444" y="1081"/>
                </a:moveTo>
                <a:lnTo>
                  <a:pt x="1444" y="1081"/>
                </a:lnTo>
                <a:cubicBezTo>
                  <a:pt x="1441" y="1067"/>
                  <a:pt x="1450" y="1054"/>
                  <a:pt x="1463" y="1052"/>
                </a:cubicBezTo>
                <a:cubicBezTo>
                  <a:pt x="1477" y="1049"/>
                  <a:pt x="1490" y="1058"/>
                  <a:pt x="1493" y="1071"/>
                </a:cubicBezTo>
                <a:cubicBezTo>
                  <a:pt x="1495" y="1085"/>
                  <a:pt x="1487" y="1098"/>
                  <a:pt x="1473" y="1101"/>
                </a:cubicBezTo>
                <a:cubicBezTo>
                  <a:pt x="1460" y="1103"/>
                  <a:pt x="1446" y="1095"/>
                  <a:pt x="1444" y="1081"/>
                </a:cubicBezTo>
                <a:close/>
                <a:moveTo>
                  <a:pt x="1426" y="983"/>
                </a:moveTo>
                <a:lnTo>
                  <a:pt x="1426" y="983"/>
                </a:lnTo>
                <a:cubicBezTo>
                  <a:pt x="1423" y="969"/>
                  <a:pt x="1432" y="956"/>
                  <a:pt x="1446" y="953"/>
                </a:cubicBezTo>
                <a:cubicBezTo>
                  <a:pt x="1459" y="950"/>
                  <a:pt x="1472" y="959"/>
                  <a:pt x="1475" y="973"/>
                </a:cubicBezTo>
                <a:cubicBezTo>
                  <a:pt x="1478" y="986"/>
                  <a:pt x="1469" y="1000"/>
                  <a:pt x="1455" y="1002"/>
                </a:cubicBezTo>
                <a:cubicBezTo>
                  <a:pt x="1442" y="1005"/>
                  <a:pt x="1429" y="996"/>
                  <a:pt x="1426" y="983"/>
                </a:cubicBezTo>
                <a:close/>
                <a:moveTo>
                  <a:pt x="1405" y="886"/>
                </a:moveTo>
                <a:lnTo>
                  <a:pt x="1405" y="886"/>
                </a:lnTo>
                <a:cubicBezTo>
                  <a:pt x="1402" y="872"/>
                  <a:pt x="1410" y="859"/>
                  <a:pt x="1424" y="856"/>
                </a:cubicBezTo>
                <a:cubicBezTo>
                  <a:pt x="1437" y="852"/>
                  <a:pt x="1450" y="861"/>
                  <a:pt x="1454" y="874"/>
                </a:cubicBezTo>
                <a:cubicBezTo>
                  <a:pt x="1457" y="888"/>
                  <a:pt x="1449" y="901"/>
                  <a:pt x="1435" y="904"/>
                </a:cubicBezTo>
                <a:cubicBezTo>
                  <a:pt x="1422" y="907"/>
                  <a:pt x="1408" y="899"/>
                  <a:pt x="1405" y="886"/>
                </a:cubicBezTo>
                <a:close/>
                <a:moveTo>
                  <a:pt x="1381" y="790"/>
                </a:moveTo>
                <a:lnTo>
                  <a:pt x="1381" y="790"/>
                </a:lnTo>
                <a:cubicBezTo>
                  <a:pt x="1377" y="777"/>
                  <a:pt x="1384" y="763"/>
                  <a:pt x="1397" y="759"/>
                </a:cubicBezTo>
                <a:cubicBezTo>
                  <a:pt x="1411" y="755"/>
                  <a:pt x="1425" y="762"/>
                  <a:pt x="1429" y="776"/>
                </a:cubicBezTo>
                <a:cubicBezTo>
                  <a:pt x="1433" y="789"/>
                  <a:pt x="1425" y="803"/>
                  <a:pt x="1412" y="807"/>
                </a:cubicBezTo>
                <a:cubicBezTo>
                  <a:pt x="1399" y="811"/>
                  <a:pt x="1385" y="803"/>
                  <a:pt x="1381" y="790"/>
                </a:cubicBezTo>
                <a:close/>
                <a:moveTo>
                  <a:pt x="1352" y="694"/>
                </a:moveTo>
                <a:lnTo>
                  <a:pt x="1352" y="694"/>
                </a:lnTo>
                <a:cubicBezTo>
                  <a:pt x="1348" y="681"/>
                  <a:pt x="1355" y="667"/>
                  <a:pt x="1369" y="663"/>
                </a:cubicBezTo>
                <a:cubicBezTo>
                  <a:pt x="1382" y="659"/>
                  <a:pt x="1396" y="667"/>
                  <a:pt x="1400" y="680"/>
                </a:cubicBezTo>
                <a:cubicBezTo>
                  <a:pt x="1404" y="693"/>
                  <a:pt x="1396" y="707"/>
                  <a:pt x="1383" y="711"/>
                </a:cubicBezTo>
                <a:cubicBezTo>
                  <a:pt x="1370" y="715"/>
                  <a:pt x="1356" y="708"/>
                  <a:pt x="1352" y="694"/>
                </a:cubicBezTo>
                <a:close/>
                <a:moveTo>
                  <a:pt x="1319" y="602"/>
                </a:moveTo>
                <a:lnTo>
                  <a:pt x="1319" y="602"/>
                </a:lnTo>
                <a:cubicBezTo>
                  <a:pt x="1314" y="589"/>
                  <a:pt x="1320" y="574"/>
                  <a:pt x="1333" y="570"/>
                </a:cubicBezTo>
                <a:cubicBezTo>
                  <a:pt x="1346" y="565"/>
                  <a:pt x="1361" y="571"/>
                  <a:pt x="1365" y="584"/>
                </a:cubicBezTo>
                <a:cubicBezTo>
                  <a:pt x="1370" y="597"/>
                  <a:pt x="1364" y="612"/>
                  <a:pt x="1351" y="616"/>
                </a:cubicBezTo>
                <a:cubicBezTo>
                  <a:pt x="1338" y="621"/>
                  <a:pt x="1323" y="615"/>
                  <a:pt x="1319" y="602"/>
                </a:cubicBezTo>
                <a:close/>
                <a:moveTo>
                  <a:pt x="1280" y="512"/>
                </a:moveTo>
                <a:lnTo>
                  <a:pt x="1280" y="512"/>
                </a:lnTo>
                <a:cubicBezTo>
                  <a:pt x="1274" y="499"/>
                  <a:pt x="1279" y="484"/>
                  <a:pt x="1292" y="479"/>
                </a:cubicBezTo>
                <a:cubicBezTo>
                  <a:pt x="1304" y="473"/>
                  <a:pt x="1319" y="478"/>
                  <a:pt x="1325" y="490"/>
                </a:cubicBezTo>
                <a:lnTo>
                  <a:pt x="1325" y="491"/>
                </a:lnTo>
                <a:cubicBezTo>
                  <a:pt x="1331" y="503"/>
                  <a:pt x="1326" y="518"/>
                  <a:pt x="1313" y="524"/>
                </a:cubicBezTo>
                <a:cubicBezTo>
                  <a:pt x="1301" y="530"/>
                  <a:pt x="1286" y="524"/>
                  <a:pt x="1280" y="512"/>
                </a:cubicBezTo>
                <a:close/>
                <a:moveTo>
                  <a:pt x="1236" y="424"/>
                </a:moveTo>
                <a:lnTo>
                  <a:pt x="1236" y="424"/>
                </a:lnTo>
                <a:cubicBezTo>
                  <a:pt x="1229" y="412"/>
                  <a:pt x="1234" y="397"/>
                  <a:pt x="1246" y="390"/>
                </a:cubicBezTo>
                <a:cubicBezTo>
                  <a:pt x="1258" y="383"/>
                  <a:pt x="1273" y="388"/>
                  <a:pt x="1280" y="400"/>
                </a:cubicBezTo>
                <a:cubicBezTo>
                  <a:pt x="1286" y="412"/>
                  <a:pt x="1282" y="427"/>
                  <a:pt x="1270" y="434"/>
                </a:cubicBezTo>
                <a:cubicBezTo>
                  <a:pt x="1258" y="440"/>
                  <a:pt x="1243" y="436"/>
                  <a:pt x="1236" y="424"/>
                </a:cubicBezTo>
                <a:close/>
                <a:moveTo>
                  <a:pt x="1186" y="340"/>
                </a:moveTo>
                <a:lnTo>
                  <a:pt x="1186" y="340"/>
                </a:lnTo>
                <a:cubicBezTo>
                  <a:pt x="1178" y="328"/>
                  <a:pt x="1181" y="313"/>
                  <a:pt x="1193" y="305"/>
                </a:cubicBezTo>
                <a:cubicBezTo>
                  <a:pt x="1204" y="297"/>
                  <a:pt x="1220" y="300"/>
                  <a:pt x="1227" y="312"/>
                </a:cubicBezTo>
                <a:lnTo>
                  <a:pt x="1228" y="312"/>
                </a:lnTo>
                <a:cubicBezTo>
                  <a:pt x="1235" y="323"/>
                  <a:pt x="1232" y="339"/>
                  <a:pt x="1221" y="346"/>
                </a:cubicBezTo>
                <a:cubicBezTo>
                  <a:pt x="1209" y="354"/>
                  <a:pt x="1194" y="351"/>
                  <a:pt x="1186" y="340"/>
                </a:cubicBezTo>
                <a:close/>
                <a:moveTo>
                  <a:pt x="1129" y="261"/>
                </a:moveTo>
                <a:lnTo>
                  <a:pt x="1129" y="261"/>
                </a:lnTo>
                <a:cubicBezTo>
                  <a:pt x="1120" y="250"/>
                  <a:pt x="1122" y="234"/>
                  <a:pt x="1132" y="226"/>
                </a:cubicBezTo>
                <a:cubicBezTo>
                  <a:pt x="1143" y="217"/>
                  <a:pt x="1159" y="218"/>
                  <a:pt x="1167" y="229"/>
                </a:cubicBezTo>
                <a:lnTo>
                  <a:pt x="1168" y="229"/>
                </a:lnTo>
                <a:cubicBezTo>
                  <a:pt x="1176" y="239"/>
                  <a:pt x="1175" y="255"/>
                  <a:pt x="1164" y="264"/>
                </a:cubicBezTo>
                <a:cubicBezTo>
                  <a:pt x="1154" y="273"/>
                  <a:pt x="1138" y="271"/>
                  <a:pt x="1129" y="261"/>
                </a:cubicBezTo>
                <a:close/>
                <a:moveTo>
                  <a:pt x="1064" y="189"/>
                </a:moveTo>
                <a:lnTo>
                  <a:pt x="1064" y="189"/>
                </a:lnTo>
                <a:cubicBezTo>
                  <a:pt x="1054" y="179"/>
                  <a:pt x="1053" y="164"/>
                  <a:pt x="1063" y="154"/>
                </a:cubicBezTo>
                <a:cubicBezTo>
                  <a:pt x="1073" y="144"/>
                  <a:pt x="1088" y="143"/>
                  <a:pt x="1098" y="153"/>
                </a:cubicBezTo>
                <a:cubicBezTo>
                  <a:pt x="1108" y="163"/>
                  <a:pt x="1109" y="178"/>
                  <a:pt x="1099" y="188"/>
                </a:cubicBezTo>
                <a:cubicBezTo>
                  <a:pt x="1089" y="198"/>
                  <a:pt x="1074" y="199"/>
                  <a:pt x="1064" y="189"/>
                </a:cubicBezTo>
                <a:close/>
                <a:moveTo>
                  <a:pt x="990" y="127"/>
                </a:moveTo>
                <a:lnTo>
                  <a:pt x="989" y="126"/>
                </a:lnTo>
                <a:cubicBezTo>
                  <a:pt x="978" y="118"/>
                  <a:pt x="976" y="102"/>
                  <a:pt x="985" y="91"/>
                </a:cubicBezTo>
                <a:cubicBezTo>
                  <a:pt x="993" y="80"/>
                  <a:pt x="1009" y="78"/>
                  <a:pt x="1020" y="87"/>
                </a:cubicBezTo>
                <a:cubicBezTo>
                  <a:pt x="1031" y="95"/>
                  <a:pt x="1033" y="111"/>
                  <a:pt x="1025" y="122"/>
                </a:cubicBezTo>
                <a:cubicBezTo>
                  <a:pt x="1016" y="133"/>
                  <a:pt x="1001" y="135"/>
                  <a:pt x="990" y="127"/>
                </a:cubicBezTo>
                <a:close/>
                <a:moveTo>
                  <a:pt x="907" y="79"/>
                </a:moveTo>
                <a:lnTo>
                  <a:pt x="907" y="79"/>
                </a:lnTo>
                <a:cubicBezTo>
                  <a:pt x="895" y="72"/>
                  <a:pt x="890" y="57"/>
                  <a:pt x="896" y="45"/>
                </a:cubicBezTo>
                <a:cubicBezTo>
                  <a:pt x="902" y="33"/>
                  <a:pt x="918" y="28"/>
                  <a:pt x="930" y="34"/>
                </a:cubicBezTo>
                <a:cubicBezTo>
                  <a:pt x="942" y="41"/>
                  <a:pt x="947" y="56"/>
                  <a:pt x="941" y="68"/>
                </a:cubicBezTo>
                <a:cubicBezTo>
                  <a:pt x="934" y="80"/>
                  <a:pt x="919" y="85"/>
                  <a:pt x="907" y="79"/>
                </a:cubicBez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431" name="Freeform 22"/>
          <p:cNvSpPr/>
          <p:nvPr/>
        </p:nvSpPr>
        <p:spPr>
          <a:xfrm>
            <a:off x="5019840" y="3263760"/>
            <a:ext cx="971280" cy="487440"/>
          </a:xfrm>
          <a:custGeom>
            <a:avLst/>
            <a:gdLst>
              <a:gd name="textAreaLeft" fmla="*/ 0 w 971280"/>
              <a:gd name="textAreaRight" fmla="*/ 971640 w 971280"/>
              <a:gd name="textAreaTop" fmla="*/ 0 h 487440"/>
              <a:gd name="textAreaBottom" fmla="*/ 487800 h 487440"/>
            </a:gdLst>
            <a:ahLst/>
            <a:rect l="textAreaLeft" t="textAreaTop" r="textAreaRight" b="textAreaBottom"/>
            <a:pathLst>
              <a:path w="612" h="307">
                <a:moveTo>
                  <a:pt x="278" y="0"/>
                </a:moveTo>
                <a:cubicBezTo>
                  <a:pt x="205" y="48"/>
                  <a:pt x="117" y="119"/>
                  <a:pt x="87" y="166"/>
                </a:cubicBezTo>
                <a:cubicBezTo>
                  <a:pt x="58" y="213"/>
                  <a:pt x="0" y="307"/>
                  <a:pt x="87" y="307"/>
                </a:cubicBezTo>
                <a:cubicBezTo>
                  <a:pt x="175" y="307"/>
                  <a:pt x="525" y="189"/>
                  <a:pt x="612" y="166"/>
                </a:cubicBezTo>
              </a:path>
            </a:pathLst>
          </a:custGeom>
          <a:noFill/>
          <a:ln w="19080">
            <a:solidFill>
              <a:srgbClr val="000000"/>
            </a:solidFill>
            <a:prstDash val="dash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432" name="Freeform 27"/>
          <p:cNvSpPr/>
          <p:nvPr/>
        </p:nvSpPr>
        <p:spPr>
          <a:xfrm>
            <a:off x="5721480" y="2730600"/>
            <a:ext cx="309600" cy="1149120"/>
          </a:xfrm>
          <a:custGeom>
            <a:avLst/>
            <a:gdLst>
              <a:gd name="textAreaLeft" fmla="*/ 0 w 309600"/>
              <a:gd name="textAreaRight" fmla="*/ 309960 w 309600"/>
              <a:gd name="textAreaTop" fmla="*/ 0 h 1149120"/>
              <a:gd name="textAreaBottom" fmla="*/ 1149480 h 1149120"/>
            </a:gdLst>
            <a:ahLst/>
            <a:rect l="textAreaLeft" t="textAreaTop" r="textAreaRight" b="textAreaBottom"/>
            <a:pathLst>
              <a:path w="195" h="724">
                <a:moveTo>
                  <a:pt x="0" y="0"/>
                </a:moveTo>
                <a:cubicBezTo>
                  <a:pt x="17" y="9"/>
                  <a:pt x="74" y="12"/>
                  <a:pt x="104" y="52"/>
                </a:cubicBezTo>
                <a:cubicBezTo>
                  <a:pt x="134" y="92"/>
                  <a:pt x="167" y="185"/>
                  <a:pt x="181" y="240"/>
                </a:cubicBezTo>
                <a:cubicBezTo>
                  <a:pt x="195" y="295"/>
                  <a:pt x="189" y="344"/>
                  <a:pt x="189" y="384"/>
                </a:cubicBezTo>
                <a:cubicBezTo>
                  <a:pt x="189" y="424"/>
                  <a:pt x="192" y="435"/>
                  <a:pt x="181" y="480"/>
                </a:cubicBezTo>
                <a:cubicBezTo>
                  <a:pt x="170" y="525"/>
                  <a:pt x="149" y="615"/>
                  <a:pt x="122" y="656"/>
                </a:cubicBezTo>
                <a:cubicBezTo>
                  <a:pt x="95" y="697"/>
                  <a:pt x="41" y="710"/>
                  <a:pt x="20" y="724"/>
                </a:cubicBezTo>
              </a:path>
            </a:pathLst>
          </a:custGeom>
          <a:noFill/>
          <a:ln cap="sq" w="19080">
            <a:solidFill>
              <a:srgbClr val="eeece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grpSp>
        <p:nvGrpSpPr>
          <p:cNvPr id="433" name="Group 30"/>
          <p:cNvGrpSpPr/>
          <p:nvPr/>
        </p:nvGrpSpPr>
        <p:grpSpPr>
          <a:xfrm>
            <a:off x="3295800" y="4202280"/>
            <a:ext cx="1094760" cy="502560"/>
            <a:chOff x="3295800" y="4202280"/>
            <a:chExt cx="1094760" cy="502560"/>
          </a:xfrm>
        </p:grpSpPr>
        <p:sp>
          <p:nvSpPr>
            <p:cNvPr id="434" name="Freeform 23"/>
            <p:cNvSpPr/>
            <p:nvPr/>
          </p:nvSpPr>
          <p:spPr>
            <a:xfrm>
              <a:off x="3295800" y="4202280"/>
              <a:ext cx="1094760" cy="475920"/>
            </a:xfrm>
            <a:custGeom>
              <a:avLst/>
              <a:gdLst>
                <a:gd name="textAreaLeft" fmla="*/ 0 w 1094760"/>
                <a:gd name="textAreaRight" fmla="*/ 1095120 w 1094760"/>
                <a:gd name="textAreaTop" fmla="*/ 0 h 475920"/>
                <a:gd name="textAreaBottom" fmla="*/ 476280 h 475920"/>
              </a:gdLst>
              <a:ahLst/>
              <a:rect l="textAreaLeft" t="textAreaTop" r="textAreaRight" b="textAreaBottom"/>
              <a:pathLst>
                <a:path w="613" h="283">
                  <a:moveTo>
                    <a:pt x="350" y="283"/>
                  </a:moveTo>
                  <a:cubicBezTo>
                    <a:pt x="423" y="236"/>
                    <a:pt x="496" y="189"/>
                    <a:pt x="525" y="142"/>
                  </a:cubicBezTo>
                  <a:cubicBezTo>
                    <a:pt x="555" y="94"/>
                    <a:pt x="613" y="0"/>
                    <a:pt x="525" y="0"/>
                  </a:cubicBezTo>
                  <a:cubicBezTo>
                    <a:pt x="438" y="0"/>
                    <a:pt x="88" y="118"/>
                    <a:pt x="0" y="142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336699"/>
                </a:solidFill>
                <a:latin typeface="Verdana"/>
              </a:endParaRPr>
            </a:p>
          </p:txBody>
        </p:sp>
        <p:sp>
          <p:nvSpPr>
            <p:cNvPr id="435" name="Freeform 28"/>
            <p:cNvSpPr/>
            <p:nvPr/>
          </p:nvSpPr>
          <p:spPr>
            <a:xfrm>
              <a:off x="3876120" y="4220280"/>
              <a:ext cx="428400" cy="484560"/>
            </a:xfrm>
            <a:custGeom>
              <a:avLst/>
              <a:gdLst>
                <a:gd name="textAreaLeft" fmla="*/ 0 w 428400"/>
                <a:gd name="textAreaRight" fmla="*/ 428760 w 428400"/>
                <a:gd name="textAreaTop" fmla="*/ 0 h 484560"/>
                <a:gd name="textAreaBottom" fmla="*/ 484920 h 484560"/>
              </a:gdLst>
              <a:ahLst/>
              <a:rect l="textAreaLeft" t="textAreaTop" r="textAreaRight" b="textAreaBottom"/>
              <a:pathLst>
                <a:path w="240" h="288">
                  <a:moveTo>
                    <a:pt x="0" y="288"/>
                  </a:moveTo>
                  <a:cubicBezTo>
                    <a:pt x="52" y="256"/>
                    <a:pt x="107" y="224"/>
                    <a:pt x="144" y="192"/>
                  </a:cubicBezTo>
                  <a:cubicBezTo>
                    <a:pt x="181" y="160"/>
                    <a:pt x="206" y="128"/>
                    <a:pt x="222" y="96"/>
                  </a:cubicBezTo>
                  <a:cubicBezTo>
                    <a:pt x="238" y="64"/>
                    <a:pt x="236" y="20"/>
                    <a:pt x="240" y="0"/>
                  </a:cubicBezTo>
                </a:path>
              </a:pathLst>
            </a:custGeom>
            <a:noFill/>
            <a:ln cap="sq" w="19080">
              <a:solidFill>
                <a:srgbClr val="eeece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336699"/>
                </a:solidFill>
                <a:latin typeface="Verdana"/>
              </a:endParaRPr>
            </a:p>
          </p:txBody>
        </p:sp>
      </p:grpSp>
      <p:sp>
        <p:nvSpPr>
          <p:cNvPr id="436" name="Freeform 29"/>
          <p:cNvSpPr/>
          <p:nvPr/>
        </p:nvSpPr>
        <p:spPr>
          <a:xfrm>
            <a:off x="5105520" y="3505320"/>
            <a:ext cx="914400" cy="255600"/>
          </a:xfrm>
          <a:custGeom>
            <a:avLst/>
            <a:gdLst>
              <a:gd name="textAreaLeft" fmla="*/ 0 w 914400"/>
              <a:gd name="textAreaRight" fmla="*/ 914760 w 914400"/>
              <a:gd name="textAreaTop" fmla="*/ 0 h 255600"/>
              <a:gd name="textAreaBottom" fmla="*/ 255600 h 255600"/>
            </a:gdLst>
            <a:ahLst/>
            <a:rect l="textAreaLeft" t="textAreaTop" r="textAreaRight" b="textAreaBottom"/>
            <a:pathLst>
              <a:path w="576" h="161">
                <a:moveTo>
                  <a:pt x="0" y="144"/>
                </a:moveTo>
                <a:cubicBezTo>
                  <a:pt x="13" y="146"/>
                  <a:pt x="39" y="161"/>
                  <a:pt x="78" y="156"/>
                </a:cubicBezTo>
                <a:cubicBezTo>
                  <a:pt x="117" y="151"/>
                  <a:pt x="184" y="128"/>
                  <a:pt x="234" y="114"/>
                </a:cubicBezTo>
                <a:cubicBezTo>
                  <a:pt x="284" y="100"/>
                  <a:pt x="321" y="91"/>
                  <a:pt x="378" y="72"/>
                </a:cubicBezTo>
                <a:cubicBezTo>
                  <a:pt x="435" y="53"/>
                  <a:pt x="535" y="15"/>
                  <a:pt x="576" y="0"/>
                </a:cubicBezTo>
              </a:path>
            </a:pathLst>
          </a:custGeom>
          <a:noFill/>
          <a:ln cap="sq" w="19080">
            <a:solidFill>
              <a:srgbClr val="eeece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</p:spTree>
  </p:cSld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nodeType="clickEffect" fill="hold">
                      <p:stCondLst>
                        <p:cond delay="0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8" dur="2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9" dur="2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7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2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mukaan di R</a:t>
            </a:r>
            <a:r>
              <a:rPr b="0" lang="en-US" sz="44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609480" y="1371240"/>
            <a:ext cx="8305920" cy="53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000" spc="-1" strike="noStrike">
                <a:solidFill>
                  <a:srgbClr val="000000"/>
                </a:solidFill>
                <a:latin typeface="Calibri"/>
              </a:rPr>
              <a:t>5.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araboloida eliptik , mempunyai bentuk umum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CBA52-C2C7-4679-9935-4528E147CE4A}" type="datetime">
              <a:rPr b="0" lang="en-US" sz="1200" spc="-1" strike="noStrike">
                <a:solidFill>
                  <a:srgbClr val="898989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440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Verdana"/>
              </a:rPr>
              <a:t>[MA 1124]</a:t>
            </a:r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Verdana"/>
              </a:rPr>
              <a:t>KALKULUS II</a:t>
            </a:r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44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F0B6F-CCE3-48E2-8189-ACBEEE1FA33C}" type="slidenum">
              <a:rPr b="0" lang="en-US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442" name="Rectangle 4"/>
          <p:cNvSpPr/>
          <p:nvPr/>
        </p:nvSpPr>
        <p:spPr>
          <a:xfrm>
            <a:off x="0" y="3083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3" name="Object 5"/>
              <p:cNvSpPr txBox="1"/>
              <p:nvPr/>
            </p:nvSpPr>
            <p:spPr>
              <a:xfrm>
                <a:off x="2684520" y="1968480"/>
                <a:ext cx="1963800" cy="92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 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 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 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 </m:t>
                        </m:r>
                        <m:r>
                          <m:t xml:space="preserve">z</m:t>
                        </m:r>
                      </m:num>
                      <m:den>
                        <m:r>
                          <m:t xml:space="preserve"> </m:t>
                        </m:r>
                        <m:r>
                          <m:t xml:space="preserve">c</m:t>
                        </m:r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44" name="Rectangle 6"/>
          <p:cNvSpPr/>
          <p:nvPr/>
        </p:nvSpPr>
        <p:spPr>
          <a:xfrm>
            <a:off x="5040720" y="2209320"/>
            <a:ext cx="156312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  <a:ea typeface="Times New Roman"/>
              </a:rPr>
              <a:t>, a, b, c &gt; 0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445" name="Rectangle 7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446" name="Rectangle 8"/>
          <p:cNvSpPr/>
          <p:nvPr/>
        </p:nvSpPr>
        <p:spPr>
          <a:xfrm>
            <a:off x="558720" y="289872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100" spc="-1" strike="noStrike">
                <a:solidFill>
                  <a:srgbClr val="336699"/>
                </a:solidFill>
                <a:latin typeface="Verdana"/>
              </a:rPr>
              <a:t>6. 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Paraboloida hiperbolik , mempunyai bentuk umum: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7" name="Object 9"/>
              <p:cNvSpPr txBox="1"/>
              <p:nvPr/>
            </p:nvSpPr>
            <p:spPr>
              <a:xfrm>
                <a:off x="1380960" y="3230640"/>
                <a:ext cx="1690920" cy="79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 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 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 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 </m:t>
                        </m:r>
                        <m:r>
                          <m:t xml:space="preserve">z</m:t>
                        </m:r>
                      </m:num>
                      <m:den>
                        <m:r>
                          <m:t xml:space="preserve"> </m:t>
                        </m:r>
                        <m:r>
                          <m:t xml:space="preserve">c</m:t>
                        </m:r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48" name="Rectangle 10"/>
          <p:cNvSpPr/>
          <p:nvPr/>
        </p:nvSpPr>
        <p:spPr>
          <a:xfrm>
            <a:off x="3597480" y="3364920"/>
            <a:ext cx="156312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  <a:ea typeface="Times New Roman"/>
              </a:rPr>
              <a:t>, a, b, c &gt; 0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449" name="Rectangle 11"/>
          <p:cNvSpPr/>
          <p:nvPr/>
        </p:nvSpPr>
        <p:spPr>
          <a:xfrm>
            <a:off x="533520" y="403848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100" spc="-1" strike="noStrike">
                <a:solidFill>
                  <a:srgbClr val="336699"/>
                </a:solidFill>
                <a:latin typeface="Verdana"/>
              </a:rPr>
              <a:t>7. 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Kerucut eliptik , mempunyai bentuk umum: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0" name="Object 12"/>
              <p:cNvSpPr txBox="1"/>
              <p:nvPr/>
            </p:nvSpPr>
            <p:spPr>
              <a:xfrm>
                <a:off x="1407960" y="4448160"/>
                <a:ext cx="1868760" cy="73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f>
                      <m:num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−</m:t>
                    </m:r>
                    <m:f>
                      <m:num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1" name="Rectangle 13"/>
          <p:cNvSpPr/>
          <p:nvPr/>
        </p:nvSpPr>
        <p:spPr>
          <a:xfrm>
            <a:off x="533520" y="533412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100" spc="-1" strike="noStrike">
                <a:solidFill>
                  <a:srgbClr val="336699"/>
                </a:solidFill>
                <a:latin typeface="Verdana"/>
              </a:rPr>
              <a:t>8. 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Bidang , mempunyai bentuk umum: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2" name="Object 14"/>
              <p:cNvSpPr txBox="1"/>
              <p:nvPr/>
            </p:nvSpPr>
            <p:spPr>
              <a:xfrm>
                <a:off x="1189080" y="5816520"/>
                <a:ext cx="202392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By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Cz</m:t>
                    </m:r>
                    <m:r>
                      <m:t xml:space="preserve">=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nodeType="clickEffect" fill="hold">
                      <p:stCondLst>
                        <p:cond delay="0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3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6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9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4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7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2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5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amba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CB70A-2F3F-4B34-B24E-62433F9ED8E0}" type="datetime">
              <a:rPr b="0" lang="en-US" sz="1200" spc="-1" strike="noStrike">
                <a:solidFill>
                  <a:srgbClr val="898989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45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Verdana"/>
              </a:rPr>
              <a:t>[MA 1124]</a:t>
            </a:r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Verdana"/>
              </a:rPr>
              <a:t>KALKULUS II</a:t>
            </a:r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45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FCFC3-12A6-4A5A-802B-410542893690}" type="slidenum">
              <a:rPr b="0" lang="en-US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457" name="Line 4"/>
          <p:cNvSpPr/>
          <p:nvPr/>
        </p:nvSpPr>
        <p:spPr>
          <a:xfrm flipV="1">
            <a:off x="5969160" y="1727280"/>
            <a:ext cx="0" cy="1874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458" name="Line 5"/>
          <p:cNvSpPr/>
          <p:nvPr/>
        </p:nvSpPr>
        <p:spPr>
          <a:xfrm>
            <a:off x="5054760" y="2917800"/>
            <a:ext cx="2171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459" name="Line 6"/>
          <p:cNvSpPr/>
          <p:nvPr/>
        </p:nvSpPr>
        <p:spPr>
          <a:xfrm flipH="1">
            <a:off x="4939920" y="2472480"/>
            <a:ext cx="1778040" cy="1049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460" name="Text Box 7"/>
          <p:cNvSpPr/>
          <p:nvPr/>
        </p:nvSpPr>
        <p:spPr>
          <a:xfrm>
            <a:off x="5715000" y="1650960"/>
            <a:ext cx="4572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Verdana"/>
              </a:rPr>
              <a:t>Z</a:t>
            </a:r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461" name="Text Box 8"/>
          <p:cNvSpPr/>
          <p:nvPr/>
        </p:nvSpPr>
        <p:spPr>
          <a:xfrm>
            <a:off x="4711680" y="3308400"/>
            <a:ext cx="45720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Verdana"/>
              </a:rPr>
              <a:t> </a:t>
            </a:r>
            <a:r>
              <a:rPr b="0" lang="en-US" sz="1100" spc="-1" strike="noStrike">
                <a:solidFill>
                  <a:srgbClr val="336699"/>
                </a:solidFill>
                <a:latin typeface="Verdana"/>
              </a:rPr>
              <a:t>x</a:t>
            </a:r>
            <a:endParaRPr b="0" lang="en-US" sz="1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462" name="Text Box 9"/>
          <p:cNvSpPr/>
          <p:nvPr/>
        </p:nvSpPr>
        <p:spPr>
          <a:xfrm>
            <a:off x="7162920" y="2787480"/>
            <a:ext cx="4572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336699"/>
                </a:solidFill>
                <a:latin typeface="Verdana"/>
              </a:rPr>
              <a:t>y</a:t>
            </a:r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463" name="Arc 10"/>
          <p:cNvSpPr/>
          <p:nvPr/>
        </p:nvSpPr>
        <p:spPr>
          <a:xfrm flipH="1">
            <a:off x="5791320" y="2914560"/>
            <a:ext cx="342720" cy="843120"/>
          </a:xfrm>
          <a:custGeom>
            <a:avLst/>
            <a:gdLst>
              <a:gd name="textAreaLeft" fmla="*/ 360 w 342720"/>
              <a:gd name="textAreaRight" fmla="*/ 343440 w 342720"/>
              <a:gd name="textAreaTop" fmla="*/ 0 h 843120"/>
              <a:gd name="textAreaBottom" fmla="*/ 843480 h 843120"/>
            </a:gdLst>
            <a:ahLst/>
            <a:rect l="textAreaLeft" t="textAreaTop" r="textAreaRight" b="textAreaBottom"/>
            <a:pathLst>
              <a:path fill="none" w="43200" h="31247">
                <a:moveTo>
                  <a:pt x="7" y="22157"/>
                </a:moveTo>
                <a:cubicBezTo>
                  <a:pt x="2" y="21972"/>
                  <a:pt x="0" y="21786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4948"/>
                  <a:pt x="-23115" y="28251"/>
                  <a:pt x="-24610" y="31247"/>
                </a:cubicBezTo>
              </a:path>
              <a:path stroke="0" w="43200" h="31247">
                <a:moveTo>
                  <a:pt x="7" y="22157"/>
                </a:moveTo>
                <a:cubicBezTo>
                  <a:pt x="2" y="21972"/>
                  <a:pt x="0" y="21786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4948"/>
                  <a:pt x="-23115" y="28251"/>
                  <a:pt x="-24610" y="31247"/>
                </a:cubicBezTo>
                <a:lnTo>
                  <a:pt x="21600" y="21600"/>
                </a:lnTo>
                <a:lnTo>
                  <a:pt x="7" y="22157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464" name="Line 11"/>
          <p:cNvSpPr/>
          <p:nvPr/>
        </p:nvSpPr>
        <p:spPr>
          <a:xfrm>
            <a:off x="5626080" y="2674800"/>
            <a:ext cx="800280" cy="571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465" name="Line 12"/>
          <p:cNvSpPr/>
          <p:nvPr/>
        </p:nvSpPr>
        <p:spPr>
          <a:xfrm flipV="1">
            <a:off x="5283360" y="2674800"/>
            <a:ext cx="14857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466" name="Arc 13"/>
          <p:cNvSpPr/>
          <p:nvPr/>
        </p:nvSpPr>
        <p:spPr>
          <a:xfrm flipH="1">
            <a:off x="5511240" y="1974960"/>
            <a:ext cx="912600" cy="928440"/>
          </a:xfrm>
          <a:custGeom>
            <a:avLst/>
            <a:gdLst>
              <a:gd name="textAreaLeft" fmla="*/ -360 w 912600"/>
              <a:gd name="textAreaRight" fmla="*/ 912600 w 912600"/>
              <a:gd name="textAreaTop" fmla="*/ 0 h 928440"/>
              <a:gd name="textAreaBottom" fmla="*/ 928800 h 928440"/>
            </a:gdLst>
            <a:ahLst/>
            <a:rect l="textAreaLeft" t="textAreaTop" r="textAreaRight" b="textAreaBottom"/>
            <a:pathLst>
              <a:path fill="none" w="43183" h="21600">
                <a:moveTo>
                  <a:pt x="43182" y="252"/>
                </a:moveTo>
                <a:cubicBezTo>
                  <a:pt x="43043" y="12082"/>
                  <a:pt x="33414" y="21599"/>
                  <a:pt x="21584" y="21600"/>
                </a:cubicBezTo>
                <a:cubicBezTo>
                  <a:pt x="9976" y="21600"/>
                  <a:pt x="443" y="12425"/>
                  <a:pt x="-1" y="826"/>
                </a:cubicBezTo>
              </a:path>
              <a:path stroke="0" w="43183" h="21600">
                <a:moveTo>
                  <a:pt x="43182" y="252"/>
                </a:moveTo>
                <a:cubicBezTo>
                  <a:pt x="43043" y="12082"/>
                  <a:pt x="33414" y="21599"/>
                  <a:pt x="21584" y="21600"/>
                </a:cubicBezTo>
                <a:cubicBezTo>
                  <a:pt x="9976" y="21600"/>
                  <a:pt x="443" y="12425"/>
                  <a:pt x="-1" y="826"/>
                </a:cubicBezTo>
                <a:lnTo>
                  <a:pt x="21584" y="0"/>
                </a:lnTo>
                <a:lnTo>
                  <a:pt x="43182" y="252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467" name="Arc 14"/>
          <p:cNvSpPr/>
          <p:nvPr/>
        </p:nvSpPr>
        <p:spPr>
          <a:xfrm>
            <a:off x="6413400" y="1906560"/>
            <a:ext cx="1101960" cy="291960"/>
          </a:xfrm>
          <a:custGeom>
            <a:avLst/>
            <a:gdLst>
              <a:gd name="textAreaLeft" fmla="*/ 0 w 1101960"/>
              <a:gd name="textAreaRight" fmla="*/ 1102320 w 110196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fill="none" w="28002" h="43188">
                <a:moveTo>
                  <a:pt x="20889" y="43188"/>
                </a:moveTo>
                <a:cubicBezTo>
                  <a:pt x="9243" y="42805"/>
                  <a:pt x="0" y="33252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23770" y="-1"/>
                  <a:pt x="25928" y="327"/>
                  <a:pt x="28002" y="970"/>
                </a:cubicBezTo>
              </a:path>
              <a:path stroke="0" w="28002" h="43188">
                <a:moveTo>
                  <a:pt x="20889" y="43188"/>
                </a:moveTo>
                <a:cubicBezTo>
                  <a:pt x="9243" y="42805"/>
                  <a:pt x="0" y="33252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23770" y="-1"/>
                  <a:pt x="25928" y="327"/>
                  <a:pt x="28002" y="970"/>
                </a:cubicBezTo>
                <a:lnTo>
                  <a:pt x="21600" y="21600"/>
                </a:lnTo>
                <a:lnTo>
                  <a:pt x="20889" y="43188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468" name="Arc 15"/>
          <p:cNvSpPr/>
          <p:nvPr/>
        </p:nvSpPr>
        <p:spPr>
          <a:xfrm rot="10800000">
            <a:off x="4432320" y="1868400"/>
            <a:ext cx="1101600" cy="292320"/>
          </a:xfrm>
          <a:custGeom>
            <a:avLst/>
            <a:gdLst>
              <a:gd name="textAreaLeft" fmla="*/ 0 w 1101600"/>
              <a:gd name="textAreaRight" fmla="*/ 1101960 w 1101600"/>
              <a:gd name="textAreaTop" fmla="*/ 0 h 292320"/>
              <a:gd name="textAreaBottom" fmla="*/ 292680 h 292320"/>
            </a:gdLst>
            <a:ahLst/>
            <a:rect l="textAreaLeft" t="textAreaTop" r="textAreaRight" b="textAreaBottom"/>
            <a:pathLst>
              <a:path fill="none" w="28002" h="43188">
                <a:moveTo>
                  <a:pt x="20889" y="43188"/>
                </a:moveTo>
                <a:cubicBezTo>
                  <a:pt x="9243" y="42805"/>
                  <a:pt x="0" y="33252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23770" y="-1"/>
                  <a:pt x="25928" y="327"/>
                  <a:pt x="28002" y="970"/>
                </a:cubicBezTo>
              </a:path>
              <a:path stroke="0" w="28002" h="43188">
                <a:moveTo>
                  <a:pt x="20889" y="43188"/>
                </a:moveTo>
                <a:cubicBezTo>
                  <a:pt x="9243" y="42805"/>
                  <a:pt x="0" y="33252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23770" y="-1"/>
                  <a:pt x="25928" y="327"/>
                  <a:pt x="28002" y="970"/>
                </a:cubicBezTo>
                <a:lnTo>
                  <a:pt x="21600" y="21600"/>
                </a:lnTo>
                <a:lnTo>
                  <a:pt x="20889" y="43188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469" name="Line 17"/>
          <p:cNvSpPr/>
          <p:nvPr/>
        </p:nvSpPr>
        <p:spPr>
          <a:xfrm flipV="1">
            <a:off x="1925640" y="3887640"/>
            <a:ext cx="0" cy="210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470" name="Line 18"/>
          <p:cNvSpPr/>
          <p:nvPr/>
        </p:nvSpPr>
        <p:spPr>
          <a:xfrm>
            <a:off x="925560" y="5118120"/>
            <a:ext cx="23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471" name="Line 19"/>
          <p:cNvSpPr/>
          <p:nvPr/>
        </p:nvSpPr>
        <p:spPr>
          <a:xfrm flipH="1">
            <a:off x="800280" y="4593600"/>
            <a:ext cx="1946160" cy="1238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472" name="Text Box 20"/>
          <p:cNvSpPr/>
          <p:nvPr/>
        </p:nvSpPr>
        <p:spPr>
          <a:xfrm>
            <a:off x="1647720" y="3722760"/>
            <a:ext cx="5000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336699"/>
                </a:solidFill>
                <a:latin typeface="Verdana"/>
              </a:rPr>
              <a:t>z</a:t>
            </a:r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473" name="Text Box 21"/>
          <p:cNvSpPr/>
          <p:nvPr/>
        </p:nvSpPr>
        <p:spPr>
          <a:xfrm>
            <a:off x="533520" y="5583240"/>
            <a:ext cx="5000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Verdana"/>
              </a:rPr>
              <a:t> </a:t>
            </a:r>
            <a:r>
              <a:rPr b="0" i="1" lang="en-US" sz="1100" spc="-1" strike="noStrike">
                <a:solidFill>
                  <a:srgbClr val="336699"/>
                </a:solidFill>
                <a:latin typeface="Verdana"/>
              </a:rPr>
              <a:t>x</a:t>
            </a:r>
            <a:endParaRPr b="0" lang="en-US" sz="1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474" name="Text Box 22"/>
          <p:cNvSpPr/>
          <p:nvPr/>
        </p:nvSpPr>
        <p:spPr>
          <a:xfrm>
            <a:off x="3233880" y="4964040"/>
            <a:ext cx="5000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Verdana"/>
              </a:rPr>
              <a:t> </a:t>
            </a:r>
            <a:r>
              <a:rPr b="0" i="1" lang="en-US" sz="1200" spc="-1" strike="noStrike">
                <a:solidFill>
                  <a:srgbClr val="336699"/>
                </a:solidFill>
                <a:latin typeface="Verdana"/>
              </a:rPr>
              <a:t>y</a:t>
            </a:r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475" name="Oval 23"/>
          <p:cNvSpPr/>
          <p:nvPr/>
        </p:nvSpPr>
        <p:spPr>
          <a:xfrm>
            <a:off x="1592280" y="4295880"/>
            <a:ext cx="625320" cy="135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476" name="Oval 24"/>
          <p:cNvSpPr/>
          <p:nvPr/>
        </p:nvSpPr>
        <p:spPr>
          <a:xfrm>
            <a:off x="1606680" y="5746680"/>
            <a:ext cx="625320" cy="1350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477" name="Line 25"/>
          <p:cNvSpPr/>
          <p:nvPr/>
        </p:nvSpPr>
        <p:spPr>
          <a:xfrm>
            <a:off x="1577880" y="4356000"/>
            <a:ext cx="668520" cy="1481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478" name="Line 26"/>
          <p:cNvSpPr/>
          <p:nvPr/>
        </p:nvSpPr>
        <p:spPr>
          <a:xfrm flipH="1">
            <a:off x="1633680" y="4370400"/>
            <a:ext cx="598320" cy="1407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479" name="Line 27"/>
          <p:cNvSpPr/>
          <p:nvPr/>
        </p:nvSpPr>
        <p:spPr>
          <a:xfrm flipH="1">
            <a:off x="1800360" y="4295880"/>
            <a:ext cx="250560" cy="16160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480" name="Line 28"/>
          <p:cNvSpPr/>
          <p:nvPr/>
        </p:nvSpPr>
        <p:spPr>
          <a:xfrm>
            <a:off x="1787400" y="4430880"/>
            <a:ext cx="249480" cy="1347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481" name="Line 30"/>
          <p:cNvSpPr/>
          <p:nvPr/>
        </p:nvSpPr>
        <p:spPr>
          <a:xfrm flipV="1">
            <a:off x="1943280" y="1700280"/>
            <a:ext cx="0" cy="178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482" name="Line 31"/>
          <p:cNvSpPr/>
          <p:nvPr/>
        </p:nvSpPr>
        <p:spPr>
          <a:xfrm>
            <a:off x="1028880" y="2795760"/>
            <a:ext cx="2171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483" name="Line 32"/>
          <p:cNvSpPr/>
          <p:nvPr/>
        </p:nvSpPr>
        <p:spPr>
          <a:xfrm flipH="1">
            <a:off x="914040" y="2350440"/>
            <a:ext cx="1778040" cy="1050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484" name="Text Box 33"/>
          <p:cNvSpPr/>
          <p:nvPr/>
        </p:nvSpPr>
        <p:spPr>
          <a:xfrm>
            <a:off x="1689120" y="1623960"/>
            <a:ext cx="4572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Verdana"/>
              </a:rPr>
              <a:t>Z</a:t>
            </a:r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485" name="Text Box 34"/>
          <p:cNvSpPr/>
          <p:nvPr/>
        </p:nvSpPr>
        <p:spPr>
          <a:xfrm>
            <a:off x="685800" y="3186000"/>
            <a:ext cx="4572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Verdana"/>
              </a:rPr>
              <a:t> </a:t>
            </a:r>
            <a:r>
              <a:rPr b="0" lang="en-US" sz="1100" spc="-1" strike="noStrike">
                <a:solidFill>
                  <a:srgbClr val="336699"/>
                </a:solidFill>
                <a:latin typeface="Verdana"/>
              </a:rPr>
              <a:t>x</a:t>
            </a:r>
            <a:endParaRPr b="0" lang="en-US" sz="1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486" name="Text Box 35"/>
          <p:cNvSpPr/>
          <p:nvPr/>
        </p:nvSpPr>
        <p:spPr>
          <a:xfrm>
            <a:off x="3137040" y="2665440"/>
            <a:ext cx="4572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336699"/>
                </a:solidFill>
                <a:latin typeface="Verdana"/>
              </a:rPr>
              <a:t>y</a:t>
            </a:r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487" name="Oval 36"/>
          <p:cNvSpPr/>
          <p:nvPr/>
        </p:nvSpPr>
        <p:spPr>
          <a:xfrm>
            <a:off x="1371600" y="2043000"/>
            <a:ext cx="11430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488" name="Arc 37"/>
          <p:cNvSpPr/>
          <p:nvPr/>
        </p:nvSpPr>
        <p:spPr>
          <a:xfrm flipH="1" rot="16200000">
            <a:off x="1607760" y="1902600"/>
            <a:ext cx="668520" cy="1143000"/>
          </a:xfrm>
          <a:custGeom>
            <a:avLst/>
            <a:gdLst>
              <a:gd name="textAreaLeft" fmla="*/ -360 w 668520"/>
              <a:gd name="textAreaRight" fmla="*/ 668520 w 66852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fill="none" w="21600" h="432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33529"/>
                  <a:pt x="11929" y="43199"/>
                  <a:pt x="0" y="43200"/>
                </a:cubicBezTo>
              </a:path>
              <a:path stroke="0" w="21600" h="432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33529"/>
                  <a:pt x="11929" y="43199"/>
                  <a:pt x="0" y="432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489" name="Arc 38"/>
          <p:cNvSpPr/>
          <p:nvPr/>
        </p:nvSpPr>
        <p:spPr>
          <a:xfrm flipH="1">
            <a:off x="1752480" y="2031840"/>
            <a:ext cx="363600" cy="770040"/>
          </a:xfrm>
          <a:custGeom>
            <a:avLst/>
            <a:gdLst>
              <a:gd name="textAreaLeft" fmla="*/ 360 w 363600"/>
              <a:gd name="textAreaRight" fmla="*/ 364320 w 363600"/>
              <a:gd name="textAreaTop" fmla="*/ 0 h 770040"/>
              <a:gd name="textAreaBottom" fmla="*/ 770400 h 770040"/>
            </a:gdLst>
            <a:ahLst/>
            <a:rect l="textAreaLeft" t="textAreaTop" r="textAreaRight" b="textAreaBottom"/>
            <a:pathLst>
              <a:path fill="none" w="43200" h="29490">
                <a:moveTo>
                  <a:pt x="43199" y="7889"/>
                </a:moveTo>
                <a:cubicBezTo>
                  <a:pt x="43199" y="7889"/>
                  <a:pt x="43200" y="7889"/>
                  <a:pt x="43200" y="7890"/>
                </a:cubicBezTo>
                <a:cubicBezTo>
                  <a:pt x="43200" y="19819"/>
                  <a:pt x="33529" y="29490"/>
                  <a:pt x="21600" y="29490"/>
                </a:cubicBezTo>
                <a:cubicBezTo>
                  <a:pt x="9670" y="29490"/>
                  <a:pt x="0" y="19819"/>
                  <a:pt x="0" y="7890"/>
                </a:cubicBezTo>
                <a:cubicBezTo>
                  <a:pt x="-1" y="5189"/>
                  <a:pt x="506" y="2513"/>
                  <a:pt x="1492" y="0"/>
                </a:cubicBezTo>
              </a:path>
              <a:path stroke="0" w="43200" h="29490">
                <a:moveTo>
                  <a:pt x="43199" y="7889"/>
                </a:moveTo>
                <a:cubicBezTo>
                  <a:pt x="43199" y="7889"/>
                  <a:pt x="43200" y="7889"/>
                  <a:pt x="43200" y="7890"/>
                </a:cubicBezTo>
                <a:cubicBezTo>
                  <a:pt x="43200" y="19819"/>
                  <a:pt x="33529" y="29490"/>
                  <a:pt x="21600" y="29490"/>
                </a:cubicBezTo>
                <a:cubicBezTo>
                  <a:pt x="9670" y="29490"/>
                  <a:pt x="0" y="19819"/>
                  <a:pt x="0" y="7890"/>
                </a:cubicBezTo>
                <a:cubicBezTo>
                  <a:pt x="-1" y="5189"/>
                  <a:pt x="506" y="2513"/>
                  <a:pt x="1492" y="0"/>
                </a:cubicBezTo>
                <a:lnTo>
                  <a:pt x="21600" y="7890"/>
                </a:lnTo>
                <a:lnTo>
                  <a:pt x="43199" y="7889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490" name="Line 40"/>
          <p:cNvSpPr/>
          <p:nvPr/>
        </p:nvSpPr>
        <p:spPr>
          <a:xfrm flipV="1">
            <a:off x="6081840" y="407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491" name="Line 41"/>
          <p:cNvSpPr/>
          <p:nvPr/>
        </p:nvSpPr>
        <p:spPr>
          <a:xfrm flipH="1">
            <a:off x="5028840" y="5229360"/>
            <a:ext cx="106668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492" name="Line 42"/>
          <p:cNvSpPr/>
          <p:nvPr/>
        </p:nvSpPr>
        <p:spPr>
          <a:xfrm>
            <a:off x="6081840" y="522756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493" name="Line 43"/>
          <p:cNvSpPr/>
          <p:nvPr/>
        </p:nvSpPr>
        <p:spPr>
          <a:xfrm flipH="1">
            <a:off x="5353200" y="4476600"/>
            <a:ext cx="72864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494" name="Line 44"/>
          <p:cNvSpPr/>
          <p:nvPr/>
        </p:nvSpPr>
        <p:spPr>
          <a:xfrm>
            <a:off x="6081840" y="4476600"/>
            <a:ext cx="76176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495" name="Line 45"/>
          <p:cNvSpPr/>
          <p:nvPr/>
        </p:nvSpPr>
        <p:spPr>
          <a:xfrm flipV="1">
            <a:off x="5334120" y="5222880"/>
            <a:ext cx="152388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496" name="Text Box 46"/>
          <p:cNvSpPr/>
          <p:nvPr/>
        </p:nvSpPr>
        <p:spPr>
          <a:xfrm>
            <a:off x="933840" y="3384720"/>
            <a:ext cx="251532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Paraboloida Eliptik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497" name="Text Box 47"/>
          <p:cNvSpPr/>
          <p:nvPr/>
        </p:nvSpPr>
        <p:spPr>
          <a:xfrm>
            <a:off x="4920120" y="3537000"/>
            <a:ext cx="30564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Paraboloida Hiperbolik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498" name="Text Box 48"/>
          <p:cNvSpPr/>
          <p:nvPr/>
        </p:nvSpPr>
        <p:spPr>
          <a:xfrm>
            <a:off x="913320" y="5911920"/>
            <a:ext cx="19850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Kerucut Eliptik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499" name="Text Box 49"/>
          <p:cNvSpPr/>
          <p:nvPr/>
        </p:nvSpPr>
        <p:spPr>
          <a:xfrm>
            <a:off x="6383520" y="5715000"/>
            <a:ext cx="106632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Bidang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500" name="Text Box 50"/>
          <p:cNvSpPr/>
          <p:nvPr/>
        </p:nvSpPr>
        <p:spPr>
          <a:xfrm>
            <a:off x="7462440" y="5251320"/>
            <a:ext cx="3164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y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501" name="Text Box 51"/>
          <p:cNvSpPr/>
          <p:nvPr/>
        </p:nvSpPr>
        <p:spPr>
          <a:xfrm>
            <a:off x="4809960" y="5530680"/>
            <a:ext cx="3225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x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502" name="Text Box 52"/>
          <p:cNvSpPr/>
          <p:nvPr/>
        </p:nvSpPr>
        <p:spPr>
          <a:xfrm>
            <a:off x="5655600" y="3962520"/>
            <a:ext cx="3056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z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</p:spTree>
  </p:cSld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nodeType="clickEffect" fill="hold">
                      <p:stCondLst>
                        <p:cond delay="0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2" dur="20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5" dur="20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8" dur="20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1" dur="20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4" dur="20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7" dur="2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5" dur="80"/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6" dur="80"/>
                                        <p:tgtEl>
                                          <p:spTgt spid="4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7" dur="80"/>
                                        <p:tgtEl>
                                          <p:spTgt spid="4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2" dur="20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5" dur="2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8" dur="2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1" dur="2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4" dur="2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7" dur="2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2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5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0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5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8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1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4" dur="80"/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5" dur="80"/>
                                        <p:tgtEl>
                                          <p:spTgt spid="4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6" dur="80"/>
                                        <p:tgtEl>
                                          <p:spTgt spid="4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1" dur="2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4" dur="2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7" dur="2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0" dur="2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3" dur="2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6" dur="20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1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4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9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2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7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0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3" dur="80"/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4" dur="80"/>
                                        <p:tgtEl>
                                          <p:spTgt spid="4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5" dur="80"/>
                                        <p:tgtEl>
                                          <p:spTgt spid="4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0" dur="20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3" dur="20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6" dur="20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9" dur="20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2" dur="20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5" dur="20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nodeType="clickEffect" fill="hold">
                      <p:stCondLst>
                        <p:cond delay="indefinite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0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nodeType="clickEffect" fill="hold">
                      <p:stCondLst>
                        <p:cond delay="indefinite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5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nodeType="clickEffect" fill="hold">
                      <p:stCondLst>
                        <p:cond delay="indefinite"/>
                      </p:stCondLst>
                      <p:childTnLst>
                        <p:par>
                          <p:cTn id="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0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3" dur="80"/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4" dur="80"/>
                                        <p:tgtEl>
                                          <p:spTgt spid="4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5" dur="80"/>
                                        <p:tgtEl>
                                          <p:spTgt spid="4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tihan: Gambarka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"/>
          <p:cNvSpPr txBox="1"/>
          <p:nvPr/>
        </p:nvSpPr>
        <p:spPr>
          <a:xfrm>
            <a:off x="609480" y="1380960"/>
            <a:ext cx="8305920" cy="49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+ y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= 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 = 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x + 2y + 4z = 8 , di oktan 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9 z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+ 9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+ 4y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= 3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z =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+ y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+ z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– 2x – 2y – 4z =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C8D03-E664-4832-960A-145625DF60BC}" type="datetime">
              <a:rPr b="0" lang="en-US" sz="1200" spc="-1" strike="noStrike">
                <a:solidFill>
                  <a:srgbClr val="898989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50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Verdana"/>
              </a:rPr>
              <a:t>[MA 1124]</a:t>
            </a:r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Verdana"/>
              </a:rPr>
              <a:t>KALKULUS II</a:t>
            </a:r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50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449D1-3ACA-48E8-BF5E-DB678EE78D3B}" type="slidenum">
              <a:rPr b="0" lang="en-US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ungsi Dua Peuba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"/>
          <p:cNvSpPr txBox="1"/>
          <p:nvPr/>
        </p:nvSpPr>
        <p:spPr>
          <a:xfrm>
            <a:off x="457200" y="16765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finisi: Fungsi dua peubah adalah aturan yang mengaitkan setiap pasangan terurut (x,y) dengan tepat satu z =f(x,y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asi : f : A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R   ( A C 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66960" indent="-4953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x,y)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z = f(x,y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oh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66960" indent="-49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(x,y) = 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+ 4 y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66960" indent="-49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66960" indent="-49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66960" indent="-49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(x,y) =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50932-2399-4364-AD66-FF4CC6B6D614}" type="datetime">
              <a:rPr b="0" lang="en-US" sz="1200" spc="-1" strike="noStrike">
                <a:solidFill>
                  <a:srgbClr val="898989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51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Verdana"/>
              </a:rPr>
              <a:t>[MA 1124]</a:t>
            </a:r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Verdana"/>
              </a:rPr>
              <a:t>KALKULUS II</a:t>
            </a:r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51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733E7-8C01-4B53-B896-DB933309AC5B}" type="slidenum">
              <a:rPr b="0" lang="en-US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3" name="Object 4"/>
              <p:cNvSpPr txBox="1"/>
              <p:nvPr/>
            </p:nvSpPr>
            <p:spPr>
              <a:xfrm>
                <a:off x="6095880" y="4800600"/>
                <a:ext cx="2470320" cy="75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 </m:t>
                        </m:r>
                        <m:r>
                          <m:t xml:space="preserve">3</m:t>
                        </m:r>
                      </m:den>
                    </m:f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  <m:r>
                          <m:t xml:space="preserve">−</m:t>
                        </m:r>
                        <m:r>
                          <m:t xml:space="preserve">9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4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514" name="Rectangle 5"/>
          <p:cNvSpPr/>
          <p:nvPr/>
        </p:nvSpPr>
        <p:spPr>
          <a:xfrm>
            <a:off x="4520880" y="4957200"/>
            <a:ext cx="14976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Arial"/>
                <a:ea typeface="Times New Roman"/>
              </a:rPr>
              <a:t>  </a:t>
            </a:r>
            <a:r>
              <a:rPr b="0" lang="en-US" sz="2100" spc="-1" strike="noStrike">
                <a:solidFill>
                  <a:srgbClr val="336699"/>
                </a:solidFill>
                <a:latin typeface="Arial"/>
                <a:ea typeface="Times New Roman"/>
              </a:rPr>
              <a:t>f(x,y) =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5" name="Object 6"/>
              <p:cNvSpPr txBox="1"/>
              <p:nvPr/>
            </p:nvSpPr>
            <p:spPr>
              <a:xfrm>
                <a:off x="2649600" y="5665680"/>
                <a:ext cx="184608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  <m:r>
                              <m:t xml:space="preserve">y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num>
                      <m:den>
                        <m:r>
                          <m:t xml:space="preserve"> 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y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606" dur="indefinite" restart="never" nodeType="tmRoot">
          <p:childTnLst>
            <p:seq>
              <p:cTn id="607" dur="indefinite" nodeType="mainSeq">
                <p:childTnLst>
                  <p:par>
                    <p:cTn id="608" nodeType="clickEffect" fill="hold">
                      <p:stCondLst>
                        <p:cond delay="0"/>
                      </p:stCondLst>
                      <p:childTnLst>
                        <p:par>
                          <p:cTn id="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2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nodeType="clickEffect" fill="hold">
                      <p:stCondLst>
                        <p:cond delay="indefinite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7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0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aerah Asal (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 dan Daerah Nilai (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8958E-420F-4261-9A1C-E3D7660DCAF7}" type="datetime">
              <a:rPr b="0" lang="en-US" sz="1200" spc="-1" strike="noStrike">
                <a:solidFill>
                  <a:srgbClr val="898989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518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Verdana"/>
              </a:rPr>
              <a:t>[MA 1124]</a:t>
            </a:r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Verdana"/>
              </a:rPr>
              <a:t>KALKULUS II</a:t>
            </a:r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51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815E8-121F-4BD0-A9B5-39330E6F6399}" type="slidenum">
              <a:rPr b="0" lang="en-US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0" name="Object 3"/>
              <p:cNvSpPr txBox="1"/>
              <p:nvPr/>
            </p:nvSpPr>
            <p:spPr>
              <a:xfrm>
                <a:off x="990720" y="1523880"/>
                <a:ext cx="380988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 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|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∈</m:t>
                        </m:r>
                        <m:r>
                          <m:t xml:space="preserve">R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21" name="Rectangle 4"/>
          <p:cNvSpPr/>
          <p:nvPr/>
        </p:nvSpPr>
        <p:spPr>
          <a:xfrm>
            <a:off x="951120" y="2949480"/>
            <a:ext cx="5362200" cy="4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  <a:ea typeface="Times New Roman"/>
              </a:rPr>
              <a:t>Contoh. Tentukan dan gambarkan D</a:t>
            </a:r>
            <a:r>
              <a:rPr b="0" lang="en-US" sz="2100" spc="-1" strike="noStrike" baseline="-25000">
                <a:solidFill>
                  <a:srgbClr val="336699"/>
                </a:solidFill>
                <a:latin typeface="Verdana"/>
                <a:ea typeface="Times New Roman"/>
              </a:rPr>
              <a:t>f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  <a:ea typeface="Times New Roman"/>
              </a:rPr>
              <a:t> dari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2" name="Object 5"/>
              <p:cNvSpPr txBox="1"/>
              <p:nvPr/>
            </p:nvSpPr>
            <p:spPr>
              <a:xfrm>
                <a:off x="990720" y="2209680"/>
                <a:ext cx="3429000" cy="56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|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23" name="Rectangle 6"/>
          <p:cNvSpPr/>
          <p:nvPr/>
        </p:nvSpPr>
        <p:spPr>
          <a:xfrm>
            <a:off x="1060920" y="3504600"/>
            <a:ext cx="23086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  <a:ea typeface="Times New Roman"/>
              </a:rPr>
              <a:t>1. f(x,y) = x</a:t>
            </a:r>
            <a:r>
              <a:rPr b="0" lang="en-US" sz="2100" spc="-1" strike="noStrike" baseline="30000">
                <a:solidFill>
                  <a:srgbClr val="336699"/>
                </a:solidFill>
                <a:latin typeface="Verdana"/>
                <a:ea typeface="Times New Roman"/>
              </a:rPr>
              <a:t>2 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  <a:ea typeface="Times New Roman"/>
              </a:rPr>
              <a:t>+ 4 y</a:t>
            </a:r>
            <a:r>
              <a:rPr b="0" lang="en-US" sz="2100" spc="-1" strike="noStrike" baseline="30000">
                <a:solidFill>
                  <a:srgbClr val="336699"/>
                </a:solidFill>
                <a:latin typeface="Verdana"/>
                <a:ea typeface="Times New Roman"/>
              </a:rPr>
              <a:t>2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4" name="Object 7"/>
              <p:cNvSpPr txBox="1"/>
              <p:nvPr/>
            </p:nvSpPr>
            <p:spPr>
              <a:xfrm>
                <a:off x="808200" y="3857760"/>
                <a:ext cx="3497040" cy="73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  <m:r>
                          <m:t xml:space="preserve">−</m:t>
                        </m:r>
                        <m:r>
                          <m:t xml:space="preserve">9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4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5" name="Object 8"/>
              <p:cNvSpPr txBox="1"/>
              <p:nvPr/>
            </p:nvSpPr>
            <p:spPr>
              <a:xfrm>
                <a:off x="851040" y="4475160"/>
                <a:ext cx="25779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621" dur="indefinite" restart="never" nodeType="tmRoot">
          <p:childTnLst>
            <p:seq>
              <p:cTn id="622" dur="indefinite" nodeType="mainSeq">
                <p:childTnLst>
                  <p:par>
                    <p:cTn id="623" nodeType="clickEffect" fill="hold">
                      <p:stCondLst>
                        <p:cond delay="0"/>
                      </p:stCondLst>
                      <p:childTnLst>
                        <p:par>
                          <p:cTn id="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0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5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8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1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4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toh (Jawab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0F3FD-69AF-49D0-A810-476D3ECFF5A3}" type="datetime">
              <a:rPr b="0" lang="en-US" sz="1200" spc="-1" strike="noStrike">
                <a:solidFill>
                  <a:srgbClr val="898989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528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Verdana"/>
              </a:rPr>
              <a:t>[MA 1124]</a:t>
            </a:r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Verdana"/>
              </a:rPr>
              <a:t>KALKULUS II</a:t>
            </a:r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52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36B63-8FB8-42CD-99DF-88A5AEA12A6C}" type="slidenum">
              <a:rPr b="0" lang="en-US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530" name="Text Box 4"/>
          <p:cNvSpPr/>
          <p:nvPr/>
        </p:nvSpPr>
        <p:spPr>
          <a:xfrm>
            <a:off x="484920" y="1441440"/>
            <a:ext cx="4046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1.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531" name="Text Box 5"/>
          <p:cNvSpPr/>
          <p:nvPr/>
        </p:nvSpPr>
        <p:spPr>
          <a:xfrm>
            <a:off x="1223640" y="1442880"/>
            <a:ext cx="3512520" cy="4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D</a:t>
            </a:r>
            <a:r>
              <a:rPr b="0" lang="en-US" sz="2100" spc="-1" strike="noStrike" baseline="-25000">
                <a:solidFill>
                  <a:srgbClr val="336699"/>
                </a:solidFill>
                <a:latin typeface="Verdana"/>
              </a:rPr>
              <a:t>f 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={(x,y)</a:t>
            </a:r>
            <a:r>
              <a:rPr b="0" lang="en-US" sz="2100" spc="-1" strike="noStrike">
                <a:solidFill>
                  <a:srgbClr val="336699"/>
                </a:solidFill>
                <a:latin typeface="Symbol"/>
                <a:ea typeface="Symbol"/>
              </a:rPr>
              <a:t>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 R</a:t>
            </a:r>
            <a:r>
              <a:rPr b="0" lang="en-US" sz="2100" spc="-1" strike="noStrike" baseline="30000">
                <a:solidFill>
                  <a:srgbClr val="336699"/>
                </a:solidFill>
                <a:latin typeface="Verdana"/>
              </a:rPr>
              <a:t>2 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| x</a:t>
            </a:r>
            <a:r>
              <a:rPr b="0" lang="en-US" sz="2100" spc="-1" strike="noStrike" baseline="30000">
                <a:solidFill>
                  <a:srgbClr val="336699"/>
                </a:solidFill>
                <a:latin typeface="Verdana"/>
              </a:rPr>
              <a:t>2 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+ 4 y</a:t>
            </a:r>
            <a:r>
              <a:rPr b="0" lang="en-US" sz="2100" spc="-1" strike="noStrike" baseline="30000">
                <a:solidFill>
                  <a:srgbClr val="336699"/>
                </a:solidFill>
                <a:latin typeface="Verdana"/>
              </a:rPr>
              <a:t>2 </a:t>
            </a:r>
            <a:r>
              <a:rPr b="0" lang="en-US" sz="2100" spc="-1" strike="noStrike">
                <a:solidFill>
                  <a:srgbClr val="336699"/>
                </a:solidFill>
                <a:latin typeface="Symbol"/>
                <a:ea typeface="Symbol"/>
              </a:rPr>
              <a:t>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 R}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532" name="Text Box 6"/>
          <p:cNvSpPr/>
          <p:nvPr/>
        </p:nvSpPr>
        <p:spPr>
          <a:xfrm>
            <a:off x="1383480" y="1949400"/>
            <a:ext cx="163332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= {(x,y)</a:t>
            </a:r>
            <a:r>
              <a:rPr b="0" lang="en-US" sz="2100" spc="-1" strike="noStrike">
                <a:solidFill>
                  <a:srgbClr val="336699"/>
                </a:solidFill>
                <a:latin typeface="Symbol"/>
                <a:ea typeface="Symbol"/>
              </a:rPr>
              <a:t>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 R</a:t>
            </a:r>
            <a:r>
              <a:rPr b="0" lang="en-US" sz="2100" spc="-1" strike="noStrike" baseline="30000">
                <a:solidFill>
                  <a:srgbClr val="336699"/>
                </a:solidFill>
                <a:latin typeface="Verdana"/>
              </a:rPr>
              <a:t>2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}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533" name="Line 7"/>
          <p:cNvSpPr/>
          <p:nvPr/>
        </p:nvSpPr>
        <p:spPr>
          <a:xfrm flipV="1">
            <a:off x="6019920" y="1371240"/>
            <a:ext cx="0" cy="213372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534" name="Line 8"/>
          <p:cNvSpPr/>
          <p:nvPr/>
        </p:nvSpPr>
        <p:spPr>
          <a:xfrm>
            <a:off x="4876920" y="2590920"/>
            <a:ext cx="2590560" cy="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535" name="Line 9"/>
          <p:cNvSpPr/>
          <p:nvPr/>
        </p:nvSpPr>
        <p:spPr>
          <a:xfrm flipH="1">
            <a:off x="5028840" y="1523880"/>
            <a:ext cx="1143000" cy="144792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536" name="Line 10"/>
          <p:cNvSpPr/>
          <p:nvPr/>
        </p:nvSpPr>
        <p:spPr>
          <a:xfrm flipH="1">
            <a:off x="5257440" y="1523880"/>
            <a:ext cx="1143000" cy="144792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537" name="Line 11"/>
          <p:cNvSpPr/>
          <p:nvPr/>
        </p:nvSpPr>
        <p:spPr>
          <a:xfrm flipH="1">
            <a:off x="5409720" y="1676520"/>
            <a:ext cx="1143000" cy="144756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538" name="Line 12"/>
          <p:cNvSpPr/>
          <p:nvPr/>
        </p:nvSpPr>
        <p:spPr>
          <a:xfrm flipH="1">
            <a:off x="5638320" y="1752480"/>
            <a:ext cx="1143000" cy="144792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539" name="Line 13"/>
          <p:cNvSpPr/>
          <p:nvPr/>
        </p:nvSpPr>
        <p:spPr>
          <a:xfrm flipH="1">
            <a:off x="5790960" y="1905120"/>
            <a:ext cx="1143000" cy="144756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540" name="Line 14"/>
          <p:cNvSpPr/>
          <p:nvPr/>
        </p:nvSpPr>
        <p:spPr>
          <a:xfrm flipH="1">
            <a:off x="6019560" y="1981080"/>
            <a:ext cx="1143000" cy="144792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541" name="Line 15"/>
          <p:cNvSpPr/>
          <p:nvPr/>
        </p:nvSpPr>
        <p:spPr>
          <a:xfrm flipV="1">
            <a:off x="6400800" y="2285640"/>
            <a:ext cx="838080" cy="106668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542" name="Line 16"/>
          <p:cNvSpPr/>
          <p:nvPr/>
        </p:nvSpPr>
        <p:spPr>
          <a:xfrm flipV="1">
            <a:off x="5029200" y="1447560"/>
            <a:ext cx="914400" cy="114300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543" name="Text Box 17"/>
          <p:cNvSpPr/>
          <p:nvPr/>
        </p:nvSpPr>
        <p:spPr>
          <a:xfrm>
            <a:off x="7154640" y="2660760"/>
            <a:ext cx="3225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x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544" name="Text Box 18"/>
          <p:cNvSpPr/>
          <p:nvPr/>
        </p:nvSpPr>
        <p:spPr>
          <a:xfrm>
            <a:off x="5557320" y="1136520"/>
            <a:ext cx="3164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y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545" name="Text Box 21"/>
          <p:cNvSpPr/>
          <p:nvPr/>
        </p:nvSpPr>
        <p:spPr>
          <a:xfrm>
            <a:off x="556560" y="3675240"/>
            <a:ext cx="4046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2.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546" name="Text Box 23"/>
          <p:cNvSpPr/>
          <p:nvPr/>
        </p:nvSpPr>
        <p:spPr>
          <a:xfrm>
            <a:off x="1624320" y="4267080"/>
            <a:ext cx="39758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= {(x,y)</a:t>
            </a:r>
            <a:r>
              <a:rPr b="0" lang="en-US" sz="2100" spc="-1" strike="noStrike">
                <a:solidFill>
                  <a:srgbClr val="336699"/>
                </a:solidFill>
                <a:latin typeface="Symbol"/>
                <a:ea typeface="Symbol"/>
              </a:rPr>
              <a:t>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 R</a:t>
            </a:r>
            <a:r>
              <a:rPr b="0" lang="en-US" sz="2100" spc="-1" strike="noStrike" baseline="30000">
                <a:solidFill>
                  <a:srgbClr val="336699"/>
                </a:solidFill>
                <a:latin typeface="Verdana"/>
              </a:rPr>
              <a:t>2 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| 36 – 9x</a:t>
            </a:r>
            <a:r>
              <a:rPr b="0" lang="en-US" sz="2100" spc="-1" strike="noStrike" baseline="30000">
                <a:solidFill>
                  <a:srgbClr val="336699"/>
                </a:solidFill>
                <a:latin typeface="Verdana"/>
              </a:rPr>
              <a:t>2 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– 4y</a:t>
            </a:r>
            <a:r>
              <a:rPr b="0" lang="en-US" sz="2100" spc="-1" strike="noStrike" baseline="30000">
                <a:solidFill>
                  <a:srgbClr val="336699"/>
                </a:solidFill>
                <a:latin typeface="Verdana"/>
              </a:rPr>
              <a:t>2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 </a:t>
            </a:r>
            <a:r>
              <a:rPr b="0" lang="en-US" sz="2100" spc="-1" strike="noStrike">
                <a:solidFill>
                  <a:srgbClr val="336699"/>
                </a:solidFill>
                <a:latin typeface="Symbol"/>
                <a:ea typeface="Symbol"/>
              </a:rPr>
              <a:t>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 0}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7" name="Object 24"/>
              <p:cNvSpPr txBox="1"/>
              <p:nvPr/>
            </p:nvSpPr>
            <p:spPr>
              <a:xfrm>
                <a:off x="996840" y="3505320"/>
                <a:ext cx="5251680" cy="85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|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6</m:t>
                            </m:r>
                            <m:r>
                              <m:t xml:space="preserve">−</m:t>
                            </m:r>
                            <m:r>
                              <m:t xml:space="preserve">9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  <m:r>
                          <m:t xml:space="preserve">∈</m:t>
                        </m:r>
                        <m:r>
                          <m:t xml:space="preserve">R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48" name="Text Box 28"/>
          <p:cNvSpPr/>
          <p:nvPr/>
        </p:nvSpPr>
        <p:spPr>
          <a:xfrm>
            <a:off x="1583280" y="4768920"/>
            <a:ext cx="36374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= {(x,y)</a:t>
            </a:r>
            <a:r>
              <a:rPr b="0" lang="en-US" sz="2100" spc="-1" strike="noStrike">
                <a:solidFill>
                  <a:srgbClr val="336699"/>
                </a:solidFill>
                <a:latin typeface="Symbol"/>
                <a:ea typeface="Symbol"/>
              </a:rPr>
              <a:t>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 R</a:t>
            </a:r>
            <a:r>
              <a:rPr b="0" lang="en-US" sz="2100" spc="-1" strike="noStrike" baseline="30000">
                <a:solidFill>
                  <a:srgbClr val="336699"/>
                </a:solidFill>
                <a:latin typeface="Verdana"/>
              </a:rPr>
              <a:t>2 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|  9x</a:t>
            </a:r>
            <a:r>
              <a:rPr b="0" lang="en-US" sz="2100" spc="-1" strike="noStrike" baseline="30000">
                <a:solidFill>
                  <a:srgbClr val="336699"/>
                </a:solidFill>
                <a:latin typeface="Verdana"/>
              </a:rPr>
              <a:t>2 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+ 4y</a:t>
            </a:r>
            <a:r>
              <a:rPr b="0" lang="en-US" sz="2100" spc="-1" strike="noStrike" baseline="30000">
                <a:solidFill>
                  <a:srgbClr val="336699"/>
                </a:solidFill>
                <a:latin typeface="Verdana"/>
              </a:rPr>
              <a:t>2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 </a:t>
            </a:r>
            <a:r>
              <a:rPr b="0" lang="en-US" sz="2100" spc="-1" strike="noStrike">
                <a:solidFill>
                  <a:srgbClr val="336699"/>
                </a:solidFill>
                <a:latin typeface="Symbol"/>
                <a:ea typeface="Symbol"/>
              </a:rPr>
              <a:t>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 36}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graphicFrame>
        <p:nvGraphicFramePr>
          <p:cNvPr id="549" name="Object 30"/>
          <p:cNvGraphicFramePr/>
          <p:nvPr/>
        </p:nvGraphicFramePr>
        <p:xfrm>
          <a:off x="1476360" y="5203800"/>
          <a:ext cx="3621240" cy="94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0" name="Object 3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5203800"/>
                    <a:ext cx="3621240" cy="94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1" name="Line 32"/>
          <p:cNvSpPr/>
          <p:nvPr/>
        </p:nvSpPr>
        <p:spPr>
          <a:xfrm flipV="1">
            <a:off x="7067520" y="4273200"/>
            <a:ext cx="0" cy="213372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552" name="Line 33"/>
          <p:cNvSpPr/>
          <p:nvPr/>
        </p:nvSpPr>
        <p:spPr>
          <a:xfrm>
            <a:off x="5924520" y="5492880"/>
            <a:ext cx="2590920" cy="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553" name="Text Box 34"/>
          <p:cNvSpPr/>
          <p:nvPr/>
        </p:nvSpPr>
        <p:spPr>
          <a:xfrm>
            <a:off x="8202600" y="5562720"/>
            <a:ext cx="3225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x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554" name="Text Box 35"/>
          <p:cNvSpPr/>
          <p:nvPr/>
        </p:nvSpPr>
        <p:spPr>
          <a:xfrm>
            <a:off x="6605280" y="4038480"/>
            <a:ext cx="3164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y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555" name="Oval 36"/>
          <p:cNvSpPr/>
          <p:nvPr/>
        </p:nvSpPr>
        <p:spPr>
          <a:xfrm>
            <a:off x="6461280" y="4724280"/>
            <a:ext cx="1218960" cy="1524240"/>
          </a:xfrm>
          <a:prstGeom prst="ellipse">
            <a:avLst/>
          </a:prstGeom>
          <a:noFill/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556" name="Line 38"/>
          <p:cNvSpPr/>
          <p:nvPr/>
        </p:nvSpPr>
        <p:spPr>
          <a:xfrm flipV="1">
            <a:off x="6477120" y="4724280"/>
            <a:ext cx="457200" cy="60984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557" name="Line 39"/>
          <p:cNvSpPr/>
          <p:nvPr/>
        </p:nvSpPr>
        <p:spPr>
          <a:xfrm flipV="1">
            <a:off x="6477120" y="4724280"/>
            <a:ext cx="685800" cy="99072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558" name="Line 40"/>
          <p:cNvSpPr/>
          <p:nvPr/>
        </p:nvSpPr>
        <p:spPr>
          <a:xfrm flipV="1">
            <a:off x="6553080" y="4800240"/>
            <a:ext cx="762120" cy="114300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559" name="Line 41"/>
          <p:cNvSpPr/>
          <p:nvPr/>
        </p:nvSpPr>
        <p:spPr>
          <a:xfrm flipV="1">
            <a:off x="6705720" y="4936680"/>
            <a:ext cx="761760" cy="115884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560" name="Line 42"/>
          <p:cNvSpPr/>
          <p:nvPr/>
        </p:nvSpPr>
        <p:spPr>
          <a:xfrm flipV="1">
            <a:off x="6934320" y="5105160"/>
            <a:ext cx="685800" cy="114300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561" name="Line 43"/>
          <p:cNvSpPr/>
          <p:nvPr/>
        </p:nvSpPr>
        <p:spPr>
          <a:xfrm flipV="1">
            <a:off x="7223040" y="5454720"/>
            <a:ext cx="457200" cy="76176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562" name="Text Box 44"/>
          <p:cNvSpPr/>
          <p:nvPr/>
        </p:nvSpPr>
        <p:spPr>
          <a:xfrm>
            <a:off x="7652160" y="5149800"/>
            <a:ext cx="3042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336699"/>
                </a:solidFill>
                <a:latin typeface="Verdana"/>
              </a:rPr>
              <a:t>2</a:t>
            </a:r>
            <a:endParaRPr b="0" lang="en-US" sz="17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563" name="Text Box 45"/>
          <p:cNvSpPr/>
          <p:nvPr/>
        </p:nvSpPr>
        <p:spPr>
          <a:xfrm>
            <a:off x="7018560" y="4438800"/>
            <a:ext cx="3042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336699"/>
                </a:solidFill>
                <a:latin typeface="Verdana"/>
              </a:rPr>
              <a:t>3</a:t>
            </a:r>
            <a:endParaRPr b="0" lang="en-US" sz="1700" spc="-1" strike="noStrike">
              <a:solidFill>
                <a:srgbClr val="336699"/>
              </a:solidFill>
              <a:latin typeface="Verdana"/>
            </a:endParaRPr>
          </a:p>
        </p:txBody>
      </p:sp>
    </p:spTree>
  </p:cSld>
  <p:timing>
    <p:tnLst>
      <p:par>
        <p:cTn id="645" dur="indefinite" restart="never" nodeType="tmRoot">
          <p:childTnLst>
            <p:seq>
              <p:cTn id="646" dur="indefinite" nodeType="mainSeq">
                <p:childTnLst>
                  <p:par>
                    <p:cTn id="647" nodeType="clickEffect" fill="hold">
                      <p:stCondLst>
                        <p:cond delay="indefinite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1" dur="2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4" dur="2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nodeType="clickEffect" fill="hold">
                      <p:stCondLst>
                        <p:cond delay="indefinite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9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0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662" dur="2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3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665" dur="20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6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668" dur="20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9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671" dur="20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nodeType="clickEffect" fill="hold">
                      <p:stCondLst>
                        <p:cond delay="indefinite"/>
                      </p:stCondLst>
                      <p:childTnLst>
                        <p:par>
                          <p:cTn id="6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0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6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2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8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0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4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0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2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6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8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nodeType="clickEffect" fill="hold">
                      <p:stCondLst>
                        <p:cond delay="indefinite"/>
                      </p:stCondLst>
                      <p:childTnLst>
                        <p:par>
                          <p:cTn id="7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9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6" dur="3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7" nodeType="withEffect" fill="hold" presetClass="entr" presetID="9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9" dur="3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0" nodeType="withEffect" fill="hold" presetClass="entr" presetID="9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2" dur="30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3" nodeType="withEffect" fill="hold" presetClass="entr" presetID="9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5" dur="3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6" nodeType="withEffect" fill="hold" presetClass="entr" presetID="9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8" dur="3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9" nodeType="withEffect" fill="hold" presetClass="entr" presetID="9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1" dur="30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2" nodeType="withEffect" fill="hold" presetClass="entr" presetID="9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4" dur="3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5" nodeType="withEffect" fill="hold" presetClass="entr" presetID="9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7" dur="30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nodeType="clickEffect" fill="hold">
                      <p:stCondLst>
                        <p:cond delay="indefinite"/>
                      </p:stCondLst>
                      <p:childTnLst>
                        <p:par>
                          <p:cTn id="7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52" dur="20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5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nodeType="clickEffect" fill="hold">
                      <p:stCondLst>
                        <p:cond delay="indefinite"/>
                      </p:stCondLst>
                      <p:childTnLst>
                        <p:par>
                          <p:cTn id="7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0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nodeType="clickEffect" fill="hold">
                      <p:stCondLst>
                        <p:cond delay="indefinite"/>
                      </p:stCondLst>
                      <p:childTnLst>
                        <p:par>
                          <p:cTn id="7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5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nodeType="clickEffect" fill="hold">
                      <p:stCondLst>
                        <p:cond delay="indefinite"/>
                      </p:stCondLst>
                      <p:childTnLst>
                        <p:par>
                          <p:cTn id="7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0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nodeType="clickEffect" fill="hold">
                      <p:stCondLst>
                        <p:cond delay="indefinite"/>
                      </p:stCondLst>
                      <p:childTnLst>
                        <p:par>
                          <p:cTn id="7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75" dur="20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78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81" dur="20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84" dur="20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nodeType="clickEffect" fill="hold">
                      <p:stCondLst>
                        <p:cond delay="indefinite"/>
                      </p:stCondLst>
                      <p:childTnLst>
                        <p:par>
                          <p:cTn id="7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9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2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5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nodeType="clickEffect" fill="hold">
                      <p:stCondLst>
                        <p:cond delay="indefinite"/>
                      </p:stCondLst>
                      <p:childTnLst>
                        <p:par>
                          <p:cTn id="7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0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4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6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0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2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6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8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2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4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8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0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nodeType="clickEffect" fill="hold">
                      <p:stCondLst>
                        <p:cond delay="indefinite"/>
                      </p:stCondLst>
                      <p:childTnLst>
                        <p:par>
                          <p:cTn id="8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9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8" dur="2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9" nodeType="withEffect" fill="hold" presetClass="entr" presetID="9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1" dur="20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2" nodeType="withEffect" fill="hold" presetClass="entr" presetID="9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4" dur="20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5" nodeType="withEffect" fill="hold" presetClass="entr" presetID="9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7" dur="20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8" nodeType="withEffect" fill="hold" presetClass="entr" presetID="9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0" dur="20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1" nodeType="withEffect" fill="hold" presetClass="entr" presetID="9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3" dur="20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toh (Jawab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62813-435F-4A5E-AD4D-1B75F89B02A4}" type="datetime">
              <a:rPr b="0" lang="en-US" sz="1200" spc="-1" strike="noStrike">
                <a:solidFill>
                  <a:srgbClr val="898989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56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Verdana"/>
              </a:rPr>
              <a:t>[MA 1124]</a:t>
            </a:r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Verdana"/>
              </a:rPr>
              <a:t>KALKULUS II</a:t>
            </a:r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56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7DA0C-A526-48FA-A414-094AF41F8C7D}" type="slidenum">
              <a:rPr b="0" lang="en-US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568" name="Text Box 3"/>
          <p:cNvSpPr/>
          <p:nvPr/>
        </p:nvSpPr>
        <p:spPr>
          <a:xfrm>
            <a:off x="484920" y="1441440"/>
            <a:ext cx="4046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3.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569" name="Text Box 5"/>
          <p:cNvSpPr/>
          <p:nvPr/>
        </p:nvSpPr>
        <p:spPr>
          <a:xfrm>
            <a:off x="1496160" y="1949400"/>
            <a:ext cx="31492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= {(x,y)</a:t>
            </a:r>
            <a:r>
              <a:rPr b="0" lang="en-US" sz="2100" spc="-1" strike="noStrike">
                <a:solidFill>
                  <a:srgbClr val="336699"/>
                </a:solidFill>
                <a:latin typeface="Symbol"/>
                <a:ea typeface="Symbol"/>
              </a:rPr>
              <a:t>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 R</a:t>
            </a:r>
            <a:r>
              <a:rPr b="0" lang="en-US" sz="2100" spc="-1" strike="noStrike" baseline="30000">
                <a:solidFill>
                  <a:srgbClr val="336699"/>
                </a:solidFill>
                <a:latin typeface="Verdana"/>
              </a:rPr>
              <a:t>2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| x(1 – y) </a:t>
            </a:r>
            <a:r>
              <a:rPr b="0" lang="en-US" sz="2100" spc="-1" strike="noStrike">
                <a:solidFill>
                  <a:srgbClr val="336699"/>
                </a:solidFill>
                <a:latin typeface="Symbol"/>
                <a:ea typeface="Symbol"/>
              </a:rPr>
              <a:t>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0}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570" name="Line 6"/>
          <p:cNvSpPr/>
          <p:nvPr/>
        </p:nvSpPr>
        <p:spPr>
          <a:xfrm flipH="1" flipV="1">
            <a:off x="3792600" y="3663720"/>
            <a:ext cx="17280" cy="296532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571" name="Line 7"/>
          <p:cNvSpPr/>
          <p:nvPr/>
        </p:nvSpPr>
        <p:spPr>
          <a:xfrm>
            <a:off x="2666880" y="5486400"/>
            <a:ext cx="2895840" cy="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572" name="Text Box 16"/>
          <p:cNvSpPr/>
          <p:nvPr/>
        </p:nvSpPr>
        <p:spPr>
          <a:xfrm>
            <a:off x="5486400" y="5241960"/>
            <a:ext cx="3412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x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573" name="Text Box 17"/>
          <p:cNvSpPr/>
          <p:nvPr/>
        </p:nvSpPr>
        <p:spPr>
          <a:xfrm>
            <a:off x="3316320" y="3429000"/>
            <a:ext cx="3412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y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4" name="Object 21"/>
              <p:cNvSpPr txBox="1"/>
              <p:nvPr/>
            </p:nvSpPr>
            <p:spPr>
              <a:xfrm>
                <a:off x="838080" y="1371600"/>
                <a:ext cx="446112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 </m:t>
                        </m:r>
                        <m:r>
                          <m:t xml:space="preserve">|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x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y</m:t>
                            </m:r>
                            <m:r>
                              <m:t xml:space="preserve">)</m:t>
                            </m:r>
                          </m:e>
                        </m:rad>
                        <m:r>
                          <m:t xml:space="preserve">∈</m:t>
                        </m:r>
                        <m:r>
                          <m:t xml:space="preserve">R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75" name="Text Box 22"/>
          <p:cNvSpPr/>
          <p:nvPr/>
        </p:nvSpPr>
        <p:spPr>
          <a:xfrm>
            <a:off x="1538640" y="2482920"/>
            <a:ext cx="66934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= {(x,y)</a:t>
            </a:r>
            <a:r>
              <a:rPr b="0" lang="en-US" sz="2100" spc="-1" strike="noStrike">
                <a:solidFill>
                  <a:srgbClr val="336699"/>
                </a:solidFill>
                <a:latin typeface="Symbol"/>
                <a:ea typeface="Symbol"/>
              </a:rPr>
              <a:t>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 R</a:t>
            </a:r>
            <a:r>
              <a:rPr b="0" lang="en-US" sz="2100" spc="-1" strike="noStrike" baseline="30000">
                <a:solidFill>
                  <a:srgbClr val="336699"/>
                </a:solidFill>
                <a:latin typeface="Verdana"/>
              </a:rPr>
              <a:t>2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|x </a:t>
            </a:r>
            <a:r>
              <a:rPr b="0" lang="en-US" sz="2100" spc="-1" strike="noStrike">
                <a:solidFill>
                  <a:srgbClr val="336699"/>
                </a:solidFill>
                <a:latin typeface="Symbol"/>
                <a:ea typeface="Symbol"/>
              </a:rPr>
              <a:t>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0 dan (1–y)</a:t>
            </a:r>
            <a:r>
              <a:rPr b="0" lang="en-US" sz="2100" spc="-1" strike="noStrike">
                <a:solidFill>
                  <a:srgbClr val="336699"/>
                </a:solidFill>
                <a:latin typeface="Symbol"/>
                <a:ea typeface="Symbol"/>
              </a:rPr>
              <a:t>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0 atau x</a:t>
            </a:r>
            <a:r>
              <a:rPr b="0" lang="en-US" sz="2100" spc="-1" strike="noStrike">
                <a:solidFill>
                  <a:srgbClr val="336699"/>
                </a:solidFill>
                <a:latin typeface="Symbol"/>
                <a:ea typeface="Symbol"/>
              </a:rPr>
              <a:t>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0 dan (1–y)</a:t>
            </a:r>
            <a:r>
              <a:rPr b="0" lang="en-US" sz="2100" spc="-1" strike="noStrike">
                <a:solidFill>
                  <a:srgbClr val="336699"/>
                </a:solidFill>
                <a:latin typeface="Symbol"/>
                <a:ea typeface="Symbol"/>
              </a:rPr>
              <a:t>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0}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576" name="Text Box 23"/>
          <p:cNvSpPr/>
          <p:nvPr/>
        </p:nvSpPr>
        <p:spPr>
          <a:xfrm>
            <a:off x="1464480" y="2940120"/>
            <a:ext cx="61484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= {(x,y)</a:t>
            </a:r>
            <a:r>
              <a:rPr b="0" lang="en-US" sz="2100" spc="-1" strike="noStrike">
                <a:solidFill>
                  <a:srgbClr val="336699"/>
                </a:solidFill>
                <a:latin typeface="Symbol"/>
                <a:ea typeface="Symbol"/>
              </a:rPr>
              <a:t>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 R</a:t>
            </a:r>
            <a:r>
              <a:rPr b="0" lang="en-US" sz="2100" spc="-1" strike="noStrike" baseline="30000">
                <a:solidFill>
                  <a:srgbClr val="336699"/>
                </a:solidFill>
                <a:latin typeface="Verdana"/>
              </a:rPr>
              <a:t>2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|x </a:t>
            </a:r>
            <a:r>
              <a:rPr b="0" lang="en-US" sz="2100" spc="-1" strike="noStrike">
                <a:solidFill>
                  <a:srgbClr val="336699"/>
                </a:solidFill>
                <a:latin typeface="Symbol"/>
                <a:ea typeface="Symbol"/>
              </a:rPr>
              <a:t>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 0 dan y </a:t>
            </a:r>
            <a:r>
              <a:rPr b="0" lang="en-US" sz="2100" spc="-1" strike="noStrike">
                <a:solidFill>
                  <a:srgbClr val="336699"/>
                </a:solidFill>
                <a:latin typeface="Symbol"/>
                <a:ea typeface="Symbol"/>
              </a:rPr>
              <a:t>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 1 atau x</a:t>
            </a:r>
            <a:r>
              <a:rPr b="0" lang="en-US" sz="2100" spc="-1" strike="noStrike">
                <a:solidFill>
                  <a:srgbClr val="336699"/>
                </a:solidFill>
                <a:latin typeface="Symbol"/>
                <a:ea typeface="Symbol"/>
              </a:rPr>
              <a:t>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0 dan y </a:t>
            </a:r>
            <a:r>
              <a:rPr b="0" lang="en-US" sz="2100" spc="-1" strike="noStrike">
                <a:solidFill>
                  <a:srgbClr val="336699"/>
                </a:solidFill>
                <a:latin typeface="Symbol"/>
                <a:ea typeface="Symbol"/>
              </a:rPr>
              <a:t>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 1}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577" name="Line 25"/>
          <p:cNvSpPr/>
          <p:nvPr/>
        </p:nvSpPr>
        <p:spPr>
          <a:xfrm flipH="1" flipV="1">
            <a:off x="3806640" y="6156360"/>
            <a:ext cx="1523880" cy="144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578" name="Line 26"/>
          <p:cNvSpPr/>
          <p:nvPr/>
        </p:nvSpPr>
        <p:spPr>
          <a:xfrm flipH="1" flipV="1">
            <a:off x="3809880" y="5927760"/>
            <a:ext cx="1524240" cy="144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579" name="Line 27"/>
          <p:cNvSpPr/>
          <p:nvPr/>
        </p:nvSpPr>
        <p:spPr>
          <a:xfrm flipH="1" flipV="1">
            <a:off x="3806640" y="5699160"/>
            <a:ext cx="1523880" cy="144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580" name="Line 28"/>
          <p:cNvSpPr/>
          <p:nvPr/>
        </p:nvSpPr>
        <p:spPr>
          <a:xfrm flipH="1" flipV="1">
            <a:off x="3777840" y="3962520"/>
            <a:ext cx="1523880" cy="144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581" name="Line 29"/>
          <p:cNvSpPr/>
          <p:nvPr/>
        </p:nvSpPr>
        <p:spPr>
          <a:xfrm flipH="1">
            <a:off x="3806640" y="6477120"/>
            <a:ext cx="1523880" cy="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582" name="Line 30"/>
          <p:cNvSpPr/>
          <p:nvPr/>
        </p:nvSpPr>
        <p:spPr>
          <a:xfrm flipH="1" flipV="1">
            <a:off x="3806640" y="6327360"/>
            <a:ext cx="1523880" cy="180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583" name="Line 31"/>
          <p:cNvSpPr/>
          <p:nvPr/>
        </p:nvSpPr>
        <p:spPr>
          <a:xfrm flipH="1" flipV="1">
            <a:off x="3806640" y="5546880"/>
            <a:ext cx="1523880" cy="144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584" name="Line 32"/>
          <p:cNvSpPr/>
          <p:nvPr/>
        </p:nvSpPr>
        <p:spPr>
          <a:xfrm flipH="1" flipV="1">
            <a:off x="3809880" y="5318280"/>
            <a:ext cx="1524240" cy="144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585" name="Line 33"/>
          <p:cNvSpPr/>
          <p:nvPr/>
        </p:nvSpPr>
        <p:spPr>
          <a:xfrm flipH="1" flipV="1">
            <a:off x="3777840" y="4172040"/>
            <a:ext cx="1523880" cy="144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586" name="Line 34"/>
          <p:cNvSpPr/>
          <p:nvPr/>
        </p:nvSpPr>
        <p:spPr>
          <a:xfrm>
            <a:off x="2438280" y="5181480"/>
            <a:ext cx="29718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587" name="Line 40"/>
          <p:cNvSpPr/>
          <p:nvPr/>
        </p:nvSpPr>
        <p:spPr>
          <a:xfrm flipV="1">
            <a:off x="2971800" y="5165640"/>
            <a:ext cx="0" cy="1371600"/>
          </a:xfrm>
          <a:prstGeom prst="line">
            <a:avLst/>
          </a:prstGeom>
          <a:ln cap="sq"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588" name="Line 41"/>
          <p:cNvSpPr/>
          <p:nvPr/>
        </p:nvSpPr>
        <p:spPr>
          <a:xfrm flipV="1">
            <a:off x="3156120" y="5165640"/>
            <a:ext cx="0" cy="1371600"/>
          </a:xfrm>
          <a:prstGeom prst="line">
            <a:avLst/>
          </a:prstGeom>
          <a:ln cap="sq"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589" name="Line 42"/>
          <p:cNvSpPr/>
          <p:nvPr/>
        </p:nvSpPr>
        <p:spPr>
          <a:xfrm flipV="1">
            <a:off x="3371760" y="5181480"/>
            <a:ext cx="0" cy="1371600"/>
          </a:xfrm>
          <a:prstGeom prst="line">
            <a:avLst/>
          </a:prstGeom>
          <a:ln cap="sq"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590" name="Line 43"/>
          <p:cNvSpPr/>
          <p:nvPr/>
        </p:nvSpPr>
        <p:spPr>
          <a:xfrm flipV="1">
            <a:off x="3537000" y="5181480"/>
            <a:ext cx="0" cy="1371600"/>
          </a:xfrm>
          <a:prstGeom prst="line">
            <a:avLst/>
          </a:prstGeom>
          <a:ln cap="sq"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591" name="Line 44"/>
          <p:cNvSpPr/>
          <p:nvPr/>
        </p:nvSpPr>
        <p:spPr>
          <a:xfrm flipV="1">
            <a:off x="3886200" y="5165640"/>
            <a:ext cx="0" cy="1371600"/>
          </a:xfrm>
          <a:prstGeom prst="line">
            <a:avLst/>
          </a:prstGeom>
          <a:ln cap="sq"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592" name="Line 45"/>
          <p:cNvSpPr/>
          <p:nvPr/>
        </p:nvSpPr>
        <p:spPr>
          <a:xfrm flipV="1">
            <a:off x="3705120" y="5181480"/>
            <a:ext cx="0" cy="1371600"/>
          </a:xfrm>
          <a:prstGeom prst="line">
            <a:avLst/>
          </a:prstGeom>
          <a:ln cap="sq"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593" name="Line 46"/>
          <p:cNvSpPr/>
          <p:nvPr/>
        </p:nvSpPr>
        <p:spPr>
          <a:xfrm flipV="1">
            <a:off x="4038480" y="5149800"/>
            <a:ext cx="0" cy="1371600"/>
          </a:xfrm>
          <a:prstGeom prst="line">
            <a:avLst/>
          </a:prstGeom>
          <a:ln cap="sq"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594" name="Line 47"/>
          <p:cNvSpPr/>
          <p:nvPr/>
        </p:nvSpPr>
        <p:spPr>
          <a:xfrm flipV="1">
            <a:off x="4191120" y="5149800"/>
            <a:ext cx="0" cy="1371600"/>
          </a:xfrm>
          <a:prstGeom prst="line">
            <a:avLst/>
          </a:prstGeom>
          <a:ln cap="sq"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595" name="Line 48"/>
          <p:cNvSpPr/>
          <p:nvPr/>
        </p:nvSpPr>
        <p:spPr>
          <a:xfrm flipV="1">
            <a:off x="4343400" y="5165640"/>
            <a:ext cx="0" cy="1371600"/>
          </a:xfrm>
          <a:prstGeom prst="line">
            <a:avLst/>
          </a:prstGeom>
          <a:ln cap="sq"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596" name="Line 49"/>
          <p:cNvSpPr/>
          <p:nvPr/>
        </p:nvSpPr>
        <p:spPr>
          <a:xfrm flipV="1">
            <a:off x="4495680" y="5149800"/>
            <a:ext cx="0" cy="1371600"/>
          </a:xfrm>
          <a:prstGeom prst="line">
            <a:avLst/>
          </a:prstGeom>
          <a:ln cap="sq"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597" name="Line 50"/>
          <p:cNvSpPr/>
          <p:nvPr/>
        </p:nvSpPr>
        <p:spPr>
          <a:xfrm flipV="1">
            <a:off x="4648320" y="5149800"/>
            <a:ext cx="0" cy="1371600"/>
          </a:xfrm>
          <a:prstGeom prst="line">
            <a:avLst/>
          </a:prstGeom>
          <a:ln cap="sq"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598" name="Line 51"/>
          <p:cNvSpPr/>
          <p:nvPr/>
        </p:nvSpPr>
        <p:spPr>
          <a:xfrm flipV="1">
            <a:off x="4844880" y="5137200"/>
            <a:ext cx="0" cy="1371600"/>
          </a:xfrm>
          <a:prstGeom prst="line">
            <a:avLst/>
          </a:prstGeom>
          <a:ln cap="sq"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599" name="Line 52"/>
          <p:cNvSpPr/>
          <p:nvPr/>
        </p:nvSpPr>
        <p:spPr>
          <a:xfrm flipV="1">
            <a:off x="5029200" y="5149800"/>
            <a:ext cx="0" cy="1371600"/>
          </a:xfrm>
          <a:prstGeom prst="line">
            <a:avLst/>
          </a:prstGeom>
          <a:ln cap="sq"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600" name="Line 53"/>
          <p:cNvSpPr/>
          <p:nvPr/>
        </p:nvSpPr>
        <p:spPr>
          <a:xfrm flipV="1">
            <a:off x="5181480" y="5149800"/>
            <a:ext cx="0" cy="1371600"/>
          </a:xfrm>
          <a:prstGeom prst="line">
            <a:avLst/>
          </a:prstGeom>
          <a:ln cap="sq"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601" name="Line 54"/>
          <p:cNvSpPr/>
          <p:nvPr/>
        </p:nvSpPr>
        <p:spPr>
          <a:xfrm flipV="1">
            <a:off x="5334120" y="5165640"/>
            <a:ext cx="0" cy="1371600"/>
          </a:xfrm>
          <a:prstGeom prst="line">
            <a:avLst/>
          </a:prstGeom>
          <a:ln cap="sq"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602" name="Line 71"/>
          <p:cNvSpPr/>
          <p:nvPr/>
        </p:nvSpPr>
        <p:spPr>
          <a:xfrm flipH="1" flipV="1">
            <a:off x="2282760" y="4861080"/>
            <a:ext cx="1524240" cy="144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603" name="Line 72"/>
          <p:cNvSpPr/>
          <p:nvPr/>
        </p:nvSpPr>
        <p:spPr>
          <a:xfrm flipH="1" flipV="1">
            <a:off x="2285640" y="4632480"/>
            <a:ext cx="1523880" cy="144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604" name="Line 73"/>
          <p:cNvSpPr/>
          <p:nvPr/>
        </p:nvSpPr>
        <p:spPr>
          <a:xfrm flipH="1" flipV="1">
            <a:off x="2282760" y="4403880"/>
            <a:ext cx="1524240" cy="144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605" name="Line 74"/>
          <p:cNvSpPr/>
          <p:nvPr/>
        </p:nvSpPr>
        <p:spPr>
          <a:xfrm flipH="1">
            <a:off x="2282760" y="5181480"/>
            <a:ext cx="1524240" cy="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606" name="Line 75"/>
          <p:cNvSpPr/>
          <p:nvPr/>
        </p:nvSpPr>
        <p:spPr>
          <a:xfrm flipH="1" flipV="1">
            <a:off x="2282760" y="5032440"/>
            <a:ext cx="1524240" cy="144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607" name="Line 76"/>
          <p:cNvSpPr/>
          <p:nvPr/>
        </p:nvSpPr>
        <p:spPr>
          <a:xfrm flipH="1" flipV="1">
            <a:off x="2282760" y="4250880"/>
            <a:ext cx="1524240" cy="180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608" name="Line 77"/>
          <p:cNvSpPr/>
          <p:nvPr/>
        </p:nvSpPr>
        <p:spPr>
          <a:xfrm flipH="1" flipV="1">
            <a:off x="2285640" y="4022280"/>
            <a:ext cx="1523880" cy="180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609" name="Line 79"/>
          <p:cNvSpPr/>
          <p:nvPr/>
        </p:nvSpPr>
        <p:spPr>
          <a:xfrm flipV="1">
            <a:off x="2467080" y="3790800"/>
            <a:ext cx="0" cy="1371600"/>
          </a:xfrm>
          <a:prstGeom prst="line">
            <a:avLst/>
          </a:prstGeom>
          <a:ln cap="sq"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610" name="Line 80"/>
          <p:cNvSpPr/>
          <p:nvPr/>
        </p:nvSpPr>
        <p:spPr>
          <a:xfrm flipV="1">
            <a:off x="2619360" y="3807000"/>
            <a:ext cx="0" cy="1371600"/>
          </a:xfrm>
          <a:prstGeom prst="line">
            <a:avLst/>
          </a:prstGeom>
          <a:ln cap="sq"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611" name="Line 81"/>
          <p:cNvSpPr/>
          <p:nvPr/>
        </p:nvSpPr>
        <p:spPr>
          <a:xfrm flipV="1">
            <a:off x="2771640" y="3809880"/>
            <a:ext cx="0" cy="1371600"/>
          </a:xfrm>
          <a:prstGeom prst="line">
            <a:avLst/>
          </a:prstGeom>
          <a:ln cap="sq"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612" name="Line 82"/>
          <p:cNvSpPr/>
          <p:nvPr/>
        </p:nvSpPr>
        <p:spPr>
          <a:xfrm flipV="1">
            <a:off x="2924280" y="3809880"/>
            <a:ext cx="0" cy="1371600"/>
          </a:xfrm>
          <a:prstGeom prst="line">
            <a:avLst/>
          </a:prstGeom>
          <a:ln cap="sq"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613" name="Line 83"/>
          <p:cNvSpPr/>
          <p:nvPr/>
        </p:nvSpPr>
        <p:spPr>
          <a:xfrm flipV="1">
            <a:off x="3121200" y="3797280"/>
            <a:ext cx="0" cy="1371600"/>
          </a:xfrm>
          <a:prstGeom prst="line">
            <a:avLst/>
          </a:prstGeom>
          <a:ln cap="sq"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614" name="Line 84"/>
          <p:cNvSpPr/>
          <p:nvPr/>
        </p:nvSpPr>
        <p:spPr>
          <a:xfrm flipV="1">
            <a:off x="3305160" y="3809880"/>
            <a:ext cx="0" cy="1371600"/>
          </a:xfrm>
          <a:prstGeom prst="line">
            <a:avLst/>
          </a:prstGeom>
          <a:ln cap="sq"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615" name="Line 85"/>
          <p:cNvSpPr/>
          <p:nvPr/>
        </p:nvSpPr>
        <p:spPr>
          <a:xfrm flipV="1">
            <a:off x="3457440" y="3809880"/>
            <a:ext cx="0" cy="1371600"/>
          </a:xfrm>
          <a:prstGeom prst="line">
            <a:avLst/>
          </a:prstGeom>
          <a:ln cap="sq"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616" name="Line 86"/>
          <p:cNvSpPr/>
          <p:nvPr/>
        </p:nvSpPr>
        <p:spPr>
          <a:xfrm flipV="1">
            <a:off x="3581280" y="3809880"/>
            <a:ext cx="0" cy="1371600"/>
          </a:xfrm>
          <a:prstGeom prst="line">
            <a:avLst/>
          </a:prstGeom>
          <a:ln cap="sq"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617" name="Line 87"/>
          <p:cNvSpPr/>
          <p:nvPr/>
        </p:nvSpPr>
        <p:spPr>
          <a:xfrm flipH="1" flipV="1">
            <a:off x="3809880" y="4341960"/>
            <a:ext cx="1524240" cy="144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618" name="Line 88"/>
          <p:cNvSpPr/>
          <p:nvPr/>
        </p:nvSpPr>
        <p:spPr>
          <a:xfrm flipH="1" flipV="1">
            <a:off x="3809880" y="4551480"/>
            <a:ext cx="1524240" cy="144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619" name="Line 89"/>
          <p:cNvSpPr/>
          <p:nvPr/>
        </p:nvSpPr>
        <p:spPr>
          <a:xfrm flipH="1" flipV="1">
            <a:off x="3809880" y="4799160"/>
            <a:ext cx="1524240" cy="144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620" name="Line 90"/>
          <p:cNvSpPr/>
          <p:nvPr/>
        </p:nvSpPr>
        <p:spPr>
          <a:xfrm flipH="1" flipV="1">
            <a:off x="3809880" y="5008680"/>
            <a:ext cx="1524240" cy="144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</p:spTree>
  </p:cSld>
  <p:timing>
    <p:tnLst>
      <p:par>
        <p:cTn id="854" dur="indefinite" restart="never" nodeType="tmRoot">
          <p:childTnLst>
            <p:seq>
              <p:cTn id="855" dur="indefinite" nodeType="mainSeq">
                <p:childTnLst>
                  <p:par>
                    <p:cTn id="856" nodeType="clickEffect" fill="hold">
                      <p:stCondLst>
                        <p:cond delay="0"/>
                      </p:stCondLst>
                      <p:childTnLst>
                        <p:par>
                          <p:cTn id="8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60" dur="20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3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nodeType="clickEffect" fill="hold">
                      <p:stCondLst>
                        <p:cond delay="indefinite"/>
                      </p:stCondLst>
                      <p:childTnLst>
                        <p:par>
                          <p:cTn id="8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nodeType="clickEffect" fill="hold">
                      <p:stCondLst>
                        <p:cond delay="indefinite"/>
                      </p:stCondLst>
                      <p:childTnLst>
                        <p:par>
                          <p:cTn id="8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3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nodeType="clickEffect" fill="hold">
                      <p:stCondLst>
                        <p:cond delay="indefinite"/>
                      </p:stCondLst>
                      <p:childTnLst>
                        <p:par>
                          <p:cTn id="8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8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nodeType="clickEffect" fill="hold">
                      <p:stCondLst>
                        <p:cond delay="indefinite"/>
                      </p:stCondLst>
                      <p:childTnLst>
                        <p:par>
                          <p:cTn id="8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83" dur="20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86" dur="20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89" dur="20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92" dur="20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nodeType="clickEffect" fill="hold">
                      <p:stCondLst>
                        <p:cond delay="indefinite"/>
                      </p:stCondLst>
                      <p:childTnLst>
                        <p:par>
                          <p:cTn id="8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9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7" dur="30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8" nodeType="withEffect" fill="hold" presetClass="entr" presetID="9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0" dur="30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9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3" dur="30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4" nodeType="withEffect" fill="hold" presetClass="entr" presetID="9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6" dur="30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7" nodeType="withEffect" fill="hold" presetClass="entr" presetID="9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9" dur="30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0" nodeType="withEffect" fill="hold" presetClass="entr" presetID="9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2" dur="30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3" nodeType="withEffect" fill="hold" presetClass="entr" presetID="9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5" dur="30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6" nodeType="withEffect" fill="hold" presetClass="entr" presetID="9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8" dur="30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9" nodeType="withEffect" fill="hold" presetClass="entr" presetID="9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1" dur="30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2" nodeType="withEffect" fill="hold" presetClass="entr" presetID="9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4" dur="3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5" nodeType="withEffect" fill="hold" presetClass="entr" presetID="9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7" dur="3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9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0" dur="30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1" nodeType="withEffect" fill="hold" presetClass="entr" presetID="9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3" dur="30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nodeType="clickEffect" fill="hold">
                      <p:stCondLst>
                        <p:cond delay="indefinite"/>
                      </p:stCondLst>
                      <p:childTnLst>
                        <p:par>
                          <p:cTn id="9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8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nodeType="clickEffect" fill="hold">
                      <p:stCondLst>
                        <p:cond delay="indefinite"/>
                      </p:stCondLst>
                      <p:childTnLst>
                        <p:par>
                          <p:cTn id="9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22" presetSubtype="1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3" dur="10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4" nodeType="withEffect" fill="hold" presetClass="entr" presetID="22" presetSubtype="1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6" dur="10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7" nodeType="withEffect" fill="hold" presetClass="entr" presetID="22" presetSubtype="1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9" dur="10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0" nodeType="withEffect" fill="hold" presetClass="entr" presetID="22" presetSubtype="1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2" dur="10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3" nodeType="withEffect" fill="hold" presetClass="entr" presetID="22" presetSubtype="1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5" dur="10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6" nodeType="withEffect" fill="hold" presetClass="entr" presetID="22" presetSubtype="1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8" dur="10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9" nodeType="withEffect" fill="hold" presetClass="entr" presetID="22" presetSubtype="1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1" dur="10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2" nodeType="withEffect" fill="hold" presetClass="entr" presetID="22" presetSubtype="1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4" dur="10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5" nodeType="withEffect" fill="hold" presetClass="entr" presetID="22" presetSubtype="1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7" dur="10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8" nodeType="withEffect" fill="hold" presetClass="entr" presetID="22" presetSubtype="1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0" dur="10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1" nodeType="withEffect" fill="hold" presetClass="entr" presetID="22" presetSubtype="1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3" dur="10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22" presetSubtype="1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6" dur="10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7" nodeType="withEffect" fill="hold" presetClass="entr" presetID="22" presetSubtype="1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9" dur="10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0" nodeType="withEffect" fill="hold" presetClass="entr" presetID="22" presetSubtype="1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2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3" nodeType="withEffect" fill="hold" presetClass="entr" presetID="22" presetSubtype="1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5" dur="10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6" nodeType="clickEffect" fill="hold">
                      <p:stCondLst>
                        <p:cond delay="indefinite"/>
                      </p:stCondLst>
                      <p:childTnLst>
                        <p:par>
                          <p:cTn id="9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989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1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992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4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995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7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998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001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3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004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6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007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9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010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2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01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5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016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8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019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1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02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4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025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7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028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0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031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3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034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6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037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9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040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2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043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5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04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8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049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1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052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4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055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7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058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0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061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06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6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067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9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070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2" nodeType="clickEffect" fill="hold">
                      <p:stCondLst>
                        <p:cond delay="indefinite"/>
                      </p:stCondLst>
                      <p:childTnLst>
                        <p:par>
                          <p:cTn id="10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clickEffect" fill="hold" presetClass="entr" presetID="22" presetSubtype="8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6" dur="20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7" nodeType="withEffect" fill="hold" presetClass="entr" presetID="22" presetSubtype="8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9" dur="20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0" nodeType="withEffect" fill="hold" presetClass="entr" presetID="22" presetSubtype="8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2" dur="20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3" nodeType="withEffect" fill="hold" presetClass="entr" presetID="22" presetSubtype="8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5" dur="20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6" nodeType="withEffect" fill="hold" presetClass="entr" presetID="22" presetSubtype="8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8" dur="20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9" nodeType="withEffect" fill="hold" presetClass="entr" presetID="22" presetSubtype="8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1" dur="20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2" nodeType="withEffect" fill="hold" presetClass="entr" presetID="22" presetSubtype="8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4" dur="20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5" nodeType="withEffect" fill="hold" presetClass="entr" presetID="22" presetSubtype="1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7" dur="20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8" nodeType="withEffect" fill="hold" presetClass="entr" presetID="22" presetSubtype="1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0" dur="20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1" nodeType="withEffect" fill="hold" presetClass="entr" presetID="22" presetSubtype="1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3" dur="20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4" nodeType="withEffect" fill="hold" presetClass="entr" presetID="22" presetSubtype="1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6" dur="20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7" nodeType="withEffect" fill="hold" presetClass="entr" presetID="22" presetSubtype="1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9" dur="20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0" nodeType="withEffect" fill="hold" presetClass="entr" presetID="22" presetSubtype="1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2" dur="20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3" nodeType="withEffect" fill="hold" presetClass="entr" presetID="22" presetSubtype="1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5" dur="20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6" nodeType="withEffect" fill="hold" presetClass="entr" presetID="22" presetSubtype="1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8" dur="20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9" nodeType="withEffect" fill="hold" presetClass="entr" presetID="22" presetSubtype="1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1" dur="20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2" nodeType="clickEffect" fill="hold">
                      <p:stCondLst>
                        <p:cond delay="indefinite"/>
                      </p:stCondLst>
                      <p:childTnLst>
                        <p:par>
                          <p:cTn id="1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4" nodeType="clickEffect" fill="hold" presetClass="entr" presetID="22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26" dur="20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7" nodeType="withEffect" fill="hold" presetClass="entr" presetID="22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29" dur="20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0" nodeType="withEffect" fill="hold" presetClass="entr" presetID="22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3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3" nodeType="withEffect" fill="hold" presetClass="entr" presetID="22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35" dur="20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6" nodeType="withEffect" fill="hold" presetClass="entr" presetID="22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38" dur="20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9" nodeType="withEffect" fill="hold" presetClass="entr" presetID="22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1" dur="20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2" nodeType="withEffect" fill="hold" presetClass="entr" presetID="22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4" dur="20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5" nodeType="withEffect" fill="hold" presetClass="entr" presetID="22" presetSubtype="4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7" dur="20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8" nodeType="withEffect" fill="hold" presetClass="entr" presetID="22" presetSubtype="4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0" dur="20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1" nodeType="withEffect" fill="hold" presetClass="entr" presetID="22" presetSubtype="4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3" dur="20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22" presetSubtype="4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6" dur="20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7" nodeType="withEffect" fill="hold" presetClass="entr" presetID="22" presetSubtype="4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9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0" nodeType="withEffect" fill="hold" presetClass="entr" presetID="22" presetSubtype="4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2" dur="2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3" nodeType="withEffect" fill="hold" presetClass="entr" presetID="22" presetSubtype="4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5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6" nodeType="withEffect" fill="hold" presetClass="entr" presetID="22" presetSubtype="4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8" dur="2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Latiha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"/>
          <p:cNvSpPr txBox="1"/>
          <p:nvPr/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ntukan dan Gambarkan D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dar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9E7F2-B475-40FF-8913-C132603C0A8A}" type="datetime">
              <a:rPr b="0" lang="en-US" sz="1200" spc="-1" strike="noStrike">
                <a:solidFill>
                  <a:srgbClr val="898989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624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Verdana"/>
              </a:rPr>
              <a:t>[MA 1124]</a:t>
            </a:r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Verdana"/>
              </a:rPr>
              <a:t>KALKULUS II</a:t>
            </a:r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62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3C8EF-A2E7-402A-A5A0-81833B286731}" type="slidenum">
              <a:rPr b="0" lang="en-US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626" name="Rectangle 4"/>
          <p:cNvSpPr/>
          <p:nvPr/>
        </p:nvSpPr>
        <p:spPr>
          <a:xfrm>
            <a:off x="517680" y="1955160"/>
            <a:ext cx="21258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  <a:ea typeface="Times New Roman"/>
              </a:rPr>
              <a:t>1.   f(x,y) =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7" name="Object 5"/>
              <p:cNvSpPr txBox="1"/>
              <p:nvPr/>
            </p:nvSpPr>
            <p:spPr>
              <a:xfrm>
                <a:off x="2459160" y="1700280"/>
                <a:ext cx="157932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  <m:r>
                              <m:t xml:space="preserve">y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num>
                      <m:den>
                        <m:r>
                          <m:t xml:space="preserve"> 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y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628" name="Group 19"/>
          <p:cNvGrpSpPr/>
          <p:nvPr/>
        </p:nvGrpSpPr>
        <p:grpSpPr>
          <a:xfrm>
            <a:off x="4022640" y="2627280"/>
            <a:ext cx="3521160" cy="776160"/>
            <a:chOff x="4022640" y="2627280"/>
            <a:chExt cx="3521160" cy="776160"/>
          </a:xfrm>
        </p:grpSpPr>
        <p:sp>
          <p:nvSpPr>
            <p:cNvPr id="629" name="Rectangle 6"/>
            <p:cNvSpPr/>
            <p:nvPr/>
          </p:nvSpPr>
          <p:spPr>
            <a:xfrm>
              <a:off x="4022640" y="2766600"/>
              <a:ext cx="2125800" cy="41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336699"/>
                  </a:solidFill>
                  <a:latin typeface="Verdana"/>
                  <a:ea typeface="Times New Roman"/>
                </a:rPr>
                <a:t>5.   f(x,y) =</a:t>
              </a:r>
              <a:endParaRPr b="0" lang="en-US" sz="2100" spc="-1" strike="noStrike">
                <a:solidFill>
                  <a:srgbClr val="336699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30" name="Object 7"/>
                <p:cNvSpPr txBox="1"/>
                <p:nvPr/>
              </p:nvSpPr>
              <p:spPr>
                <a:xfrm>
                  <a:off x="6075360" y="2627280"/>
                  <a:ext cx="1468440" cy="776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ln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−</m:t>
                          </m:r>
                          <m:r>
                            <m:t xml:space="preserve">y</m:t>
                          </m:r>
                          <m:r>
                            <m:t xml:space="preserve">+</m:t>
                          </m:r>
                          <m:r>
                            <m:t xml:space="preserve">1</m:t>
                          </m:r>
                          <m:r>
                            <m:t xml:space="preserve">)</m:t>
                          </m:r>
                        </m:num>
                        <m:den>
                          <m:r>
                            <m:t xml:space="preserve"> 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y</m:t>
                              </m:r>
                              <m:r>
                                <m:t xml:space="preserve">−</m:t>
                              </m:r>
                              <m:r>
                                <m:t xml:space="preserve">x</m:t>
                              </m:r>
                              <m:r>
                                <m:t xml:space="preserve">+</m:t>
                              </m:r>
                              <m:r>
                                <m:t xml:space="preserve">1</m:t>
                              </m:r>
                            </m:e>
                          </m:rad>
                        </m:den>
                      </m:f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31" name="Group 16"/>
          <p:cNvGrpSpPr/>
          <p:nvPr/>
        </p:nvGrpSpPr>
        <p:grpSpPr>
          <a:xfrm>
            <a:off x="517680" y="2549520"/>
            <a:ext cx="2835000" cy="843120"/>
            <a:chOff x="517680" y="2549520"/>
            <a:chExt cx="2835000" cy="843120"/>
          </a:xfrm>
        </p:grpSpPr>
        <p:sp>
          <p:nvSpPr>
            <p:cNvPr id="632" name="Rectangle 8"/>
            <p:cNvSpPr/>
            <p:nvPr/>
          </p:nvSpPr>
          <p:spPr>
            <a:xfrm>
              <a:off x="517680" y="2793600"/>
              <a:ext cx="2125800" cy="41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336699"/>
                  </a:solidFill>
                  <a:latin typeface="Verdana"/>
                  <a:ea typeface="Times New Roman"/>
                </a:rPr>
                <a:t>2.   f(x,y) =</a:t>
              </a:r>
              <a:endParaRPr b="0" lang="en-US" sz="2100" spc="-1" strike="noStrike">
                <a:solidFill>
                  <a:srgbClr val="336699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33" name="Object 9"/>
                <p:cNvSpPr txBox="1"/>
                <p:nvPr/>
              </p:nvSpPr>
              <p:spPr>
                <a:xfrm>
                  <a:off x="2417760" y="2549520"/>
                  <a:ext cx="934920" cy="843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ad>
                        <m:radPr>
                          <m:degHide m:val="1"/>
                        </m:radPr>
                        <m:deg/>
                        <m:e>
                          <m:f>
                            <m:num>
                              <m:r>
                                <m:t xml:space="preserve">x</m:t>
                              </m:r>
                            </m:num>
                            <m:den>
                              <m:r>
                                <m:t xml:space="preserve"> </m:t>
                              </m:r>
                              <m:r>
                                <m:t xml:space="preserve">1</m:t>
                              </m:r>
                              <m:r>
                                <m:t xml:space="preserve">−</m:t>
                              </m:r>
                              <m:r>
                                <m:t xml:space="preserve">y</m:t>
                              </m:r>
                            </m:den>
                          </m:f>
                        </m:e>
                      </m:rad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34" name="Group 18"/>
          <p:cNvGrpSpPr/>
          <p:nvPr/>
        </p:nvGrpSpPr>
        <p:grpSpPr>
          <a:xfrm>
            <a:off x="4022640" y="1676520"/>
            <a:ext cx="3673440" cy="865080"/>
            <a:chOff x="4022640" y="1676520"/>
            <a:chExt cx="3673440" cy="865080"/>
          </a:xfrm>
        </p:grpSpPr>
        <p:sp>
          <p:nvSpPr>
            <p:cNvPr id="635" name="Rectangle 10"/>
            <p:cNvSpPr/>
            <p:nvPr/>
          </p:nvSpPr>
          <p:spPr>
            <a:xfrm>
              <a:off x="4022640" y="1931400"/>
              <a:ext cx="2125800" cy="41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336699"/>
                  </a:solidFill>
                  <a:latin typeface="Verdana"/>
                  <a:ea typeface="Times New Roman"/>
                </a:rPr>
                <a:t>4.   f(x,y) =</a:t>
              </a:r>
              <a:endParaRPr b="0" lang="en-US" sz="2100" spc="-1" strike="noStrike">
                <a:solidFill>
                  <a:srgbClr val="336699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36" name="Object 11"/>
                <p:cNvSpPr txBox="1"/>
                <p:nvPr/>
              </p:nvSpPr>
              <p:spPr>
                <a:xfrm>
                  <a:off x="6027840" y="1676520"/>
                  <a:ext cx="1668240" cy="865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6</m:t>
                              </m:r>
                              <m:r>
                                <m:t xml:space="preserve">−</m:t>
                              </m:r>
                              <m:sSup>
                                <m:e>
                                  <m:r>
                                    <m:t xml:space="preserve">x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−</m:t>
                              </m:r>
                              <m:sSup>
                                <m:e>
                                  <m:r>
                                    <m:t xml:space="preserve">y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</m:rad>
                        </m:num>
                        <m:den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ln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+</m:t>
                          </m:r>
                          <m:r>
                            <m:t xml:space="preserve">y</m:t>
                          </m:r>
                          <m:r>
                            <m:t xml:space="preserve">)</m:t>
                          </m:r>
                        </m:den>
                      </m:f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37" name="Group 17"/>
          <p:cNvGrpSpPr/>
          <p:nvPr/>
        </p:nvGrpSpPr>
        <p:grpSpPr>
          <a:xfrm>
            <a:off x="517680" y="3300480"/>
            <a:ext cx="2911320" cy="865080"/>
            <a:chOff x="517680" y="3300480"/>
            <a:chExt cx="2911320" cy="865080"/>
          </a:xfrm>
        </p:grpSpPr>
        <p:sp>
          <p:nvSpPr>
            <p:cNvPr id="638" name="Rectangle 12"/>
            <p:cNvSpPr/>
            <p:nvPr/>
          </p:nvSpPr>
          <p:spPr>
            <a:xfrm>
              <a:off x="517680" y="3555360"/>
              <a:ext cx="2125800" cy="41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336699"/>
                  </a:solidFill>
                  <a:latin typeface="Verdana"/>
                  <a:ea typeface="Times New Roman"/>
                </a:rPr>
                <a:t>3.   f(x,y) =</a:t>
              </a:r>
              <a:endParaRPr b="0" lang="en-US" sz="2100" spc="-1" strike="noStrike">
                <a:solidFill>
                  <a:srgbClr val="336699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39" name="Object 13"/>
                <p:cNvSpPr txBox="1"/>
                <p:nvPr/>
              </p:nvSpPr>
              <p:spPr>
                <a:xfrm>
                  <a:off x="2360520" y="3300480"/>
                  <a:ext cx="1068480" cy="865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ad>
                        <m:radPr>
                          <m:degHide m:val="1"/>
                        </m:radPr>
                        <m:deg/>
                        <m:e>
                          <m:f>
                            <m:num>
                              <m:r>
                                <m:t xml:space="preserve">y</m:t>
                              </m:r>
                            </m:num>
                            <m:den>
                              <m:r>
                                <m:t xml:space="preserve"> </m:t>
                              </m:r>
                              <m:d>
                                <m:dPr>
                                  <m:begChr m:val="|"/>
                                  <m:endChr m:val="|"/>
                                </m:dPr>
                                <m:e>
                                  <m:r>
                                    <m:t xml:space="preserve">x</m:t>
                                  </m:r>
                                </m:e>
                              </m:d>
                            </m:den>
                          </m:f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  <m:r>
                            <m:t xml:space="preserve"> </m:t>
                          </m:r>
                        </m:e>
                      </m:rad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p:timing>
    <p:tnLst>
      <p:par>
        <p:cTn id="1169" dur="indefinite" restart="never" nodeType="tmRoot">
          <p:childTnLst>
            <p:seq>
              <p:cTn id="1170" dur="indefinite" nodeType="mainSeq">
                <p:childTnLst>
                  <p:par>
                    <p:cTn id="1171" nodeType="clickEffect" fill="hold">
                      <p:stCondLst>
                        <p:cond delay="indefinite"/>
                      </p:stCondLst>
                      <p:childTnLst>
                        <p:par>
                          <p:cTn id="1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5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8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6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0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4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rafik Fungsi Dua Peuba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"/>
          <p:cNvSpPr txBox="1"/>
          <p:nvPr/>
        </p:nvSpPr>
        <p:spPr>
          <a:xfrm>
            <a:off x="609480" y="1304640"/>
            <a:ext cx="8305920" cy="53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rafiknya berupa permukaan di ruan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4236E-2318-41FC-800F-A9B0F7AC74FD}" type="datetime">
              <a:rPr b="0" lang="en-US" sz="1200" spc="-1" strike="noStrike">
                <a:solidFill>
                  <a:srgbClr val="898989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64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Verdana"/>
              </a:rPr>
              <a:t>[MA 1124]</a:t>
            </a:r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Verdana"/>
              </a:rPr>
              <a:t>KALKULUS II</a:t>
            </a:r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64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58B63-11C3-46B2-802A-A6689C109A3C}" type="slidenum">
              <a:rPr b="0" lang="en-US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645" name="Line 4"/>
          <p:cNvSpPr/>
          <p:nvPr/>
        </p:nvSpPr>
        <p:spPr>
          <a:xfrm flipV="1">
            <a:off x="2743200" y="2209320"/>
            <a:ext cx="0" cy="167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646" name="Line 5"/>
          <p:cNvSpPr/>
          <p:nvPr/>
        </p:nvSpPr>
        <p:spPr>
          <a:xfrm flipH="1">
            <a:off x="1371600" y="3886200"/>
            <a:ext cx="1371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647" name="Line 6"/>
          <p:cNvSpPr/>
          <p:nvPr/>
        </p:nvSpPr>
        <p:spPr>
          <a:xfrm>
            <a:off x="2743200" y="38862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648" name="Freeform 7"/>
          <p:cNvSpPr/>
          <p:nvPr/>
        </p:nvSpPr>
        <p:spPr>
          <a:xfrm>
            <a:off x="2819520" y="2452680"/>
            <a:ext cx="1519200" cy="812880"/>
          </a:xfrm>
          <a:custGeom>
            <a:avLst/>
            <a:gdLst>
              <a:gd name="textAreaLeft" fmla="*/ 0 w 1519200"/>
              <a:gd name="textAreaRight" fmla="*/ 1519560 w 1519200"/>
              <a:gd name="textAreaTop" fmla="*/ 0 h 812880"/>
              <a:gd name="textAreaBottom" fmla="*/ 813240 h 812880"/>
            </a:gdLst>
            <a:ahLst/>
            <a:rect l="textAreaLeft" t="textAreaTop" r="textAreaRight" b="textAreaBottom"/>
            <a:pathLst>
              <a:path w="957" h="512">
                <a:moveTo>
                  <a:pt x="7" y="457"/>
                </a:moveTo>
                <a:cubicBezTo>
                  <a:pt x="14" y="391"/>
                  <a:pt x="0" y="354"/>
                  <a:pt x="52" y="320"/>
                </a:cubicBezTo>
                <a:cubicBezTo>
                  <a:pt x="74" y="289"/>
                  <a:pt x="89" y="277"/>
                  <a:pt x="125" y="265"/>
                </a:cubicBezTo>
                <a:cubicBezTo>
                  <a:pt x="154" y="238"/>
                  <a:pt x="183" y="221"/>
                  <a:pt x="217" y="201"/>
                </a:cubicBezTo>
                <a:cubicBezTo>
                  <a:pt x="236" y="190"/>
                  <a:pt x="272" y="165"/>
                  <a:pt x="272" y="165"/>
                </a:cubicBezTo>
                <a:cubicBezTo>
                  <a:pt x="284" y="129"/>
                  <a:pt x="315" y="61"/>
                  <a:pt x="345" y="37"/>
                </a:cubicBezTo>
                <a:cubicBezTo>
                  <a:pt x="365" y="21"/>
                  <a:pt x="393" y="24"/>
                  <a:pt x="418" y="18"/>
                </a:cubicBezTo>
                <a:cubicBezTo>
                  <a:pt x="455" y="10"/>
                  <a:pt x="490" y="0"/>
                  <a:pt x="528" y="0"/>
                </a:cubicBezTo>
                <a:cubicBezTo>
                  <a:pt x="563" y="23"/>
                  <a:pt x="598" y="24"/>
                  <a:pt x="637" y="37"/>
                </a:cubicBezTo>
                <a:cubicBezTo>
                  <a:pt x="732" y="34"/>
                  <a:pt x="826" y="34"/>
                  <a:pt x="921" y="28"/>
                </a:cubicBezTo>
                <a:cubicBezTo>
                  <a:pt x="933" y="27"/>
                  <a:pt x="957" y="18"/>
                  <a:pt x="957" y="18"/>
                </a:cubicBezTo>
                <a:cubicBezTo>
                  <a:pt x="922" y="45"/>
                  <a:pt x="910" y="37"/>
                  <a:pt x="884" y="73"/>
                </a:cubicBezTo>
                <a:cubicBezTo>
                  <a:pt x="873" y="117"/>
                  <a:pt x="864" y="155"/>
                  <a:pt x="839" y="192"/>
                </a:cubicBezTo>
                <a:cubicBezTo>
                  <a:pt x="824" y="250"/>
                  <a:pt x="815" y="327"/>
                  <a:pt x="775" y="375"/>
                </a:cubicBezTo>
                <a:cubicBezTo>
                  <a:pt x="764" y="388"/>
                  <a:pt x="754" y="404"/>
                  <a:pt x="738" y="412"/>
                </a:cubicBezTo>
                <a:cubicBezTo>
                  <a:pt x="721" y="421"/>
                  <a:pt x="683" y="430"/>
                  <a:pt x="683" y="430"/>
                </a:cubicBezTo>
                <a:cubicBezTo>
                  <a:pt x="658" y="447"/>
                  <a:pt x="640" y="463"/>
                  <a:pt x="619" y="485"/>
                </a:cubicBezTo>
                <a:cubicBezTo>
                  <a:pt x="616" y="494"/>
                  <a:pt x="610" y="512"/>
                  <a:pt x="610" y="512"/>
                </a:cubicBezTo>
                <a:cubicBezTo>
                  <a:pt x="525" y="427"/>
                  <a:pt x="437" y="480"/>
                  <a:pt x="299" y="485"/>
                </a:cubicBezTo>
                <a:cubicBezTo>
                  <a:pt x="250" y="482"/>
                  <a:pt x="201" y="484"/>
                  <a:pt x="153" y="476"/>
                </a:cubicBezTo>
                <a:cubicBezTo>
                  <a:pt x="150" y="476"/>
                  <a:pt x="107" y="436"/>
                  <a:pt x="89" y="430"/>
                </a:cubicBezTo>
                <a:cubicBezTo>
                  <a:pt x="67" y="462"/>
                  <a:pt x="45" y="476"/>
                  <a:pt x="7" y="457"/>
                </a:cubicBez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649" name="Line 8"/>
          <p:cNvSpPr/>
          <p:nvPr/>
        </p:nvSpPr>
        <p:spPr>
          <a:xfrm flipH="1">
            <a:off x="3852360" y="2743200"/>
            <a:ext cx="83844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650" name="Text Box 9"/>
          <p:cNvSpPr/>
          <p:nvPr/>
        </p:nvSpPr>
        <p:spPr>
          <a:xfrm>
            <a:off x="4791600" y="2616120"/>
            <a:ext cx="7401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 baseline="30000">
                <a:solidFill>
                  <a:srgbClr val="336699"/>
                </a:solidFill>
                <a:latin typeface="Verdana"/>
              </a:rPr>
              <a:t>Z=f(x,y)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651" name="Line 10"/>
          <p:cNvSpPr/>
          <p:nvPr/>
        </p:nvSpPr>
        <p:spPr>
          <a:xfrm>
            <a:off x="2857680" y="321480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652" name="Line 11"/>
          <p:cNvSpPr/>
          <p:nvPr/>
        </p:nvSpPr>
        <p:spPr>
          <a:xfrm>
            <a:off x="3429000" y="250020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653" name="Line 12"/>
          <p:cNvSpPr/>
          <p:nvPr/>
        </p:nvSpPr>
        <p:spPr>
          <a:xfrm>
            <a:off x="3776760" y="321948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654" name="Line 13"/>
          <p:cNvSpPr/>
          <p:nvPr/>
        </p:nvSpPr>
        <p:spPr>
          <a:xfrm>
            <a:off x="4324320" y="248616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655" name="Line 14"/>
          <p:cNvSpPr/>
          <p:nvPr/>
        </p:nvSpPr>
        <p:spPr>
          <a:xfrm>
            <a:off x="3424320" y="400536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656" name="Line 15"/>
          <p:cNvSpPr/>
          <p:nvPr/>
        </p:nvSpPr>
        <p:spPr>
          <a:xfrm>
            <a:off x="2857680" y="47242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657" name="Line 16"/>
          <p:cNvSpPr/>
          <p:nvPr/>
        </p:nvSpPr>
        <p:spPr>
          <a:xfrm flipH="1">
            <a:off x="3771720" y="3962520"/>
            <a:ext cx="580680" cy="74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658" name="Line 17"/>
          <p:cNvSpPr/>
          <p:nvPr/>
        </p:nvSpPr>
        <p:spPr>
          <a:xfrm flipH="1">
            <a:off x="2857320" y="3981600"/>
            <a:ext cx="580680" cy="74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659" name="Line 18"/>
          <p:cNvSpPr/>
          <p:nvPr/>
        </p:nvSpPr>
        <p:spPr>
          <a:xfrm flipH="1">
            <a:off x="3852360" y="4165560"/>
            <a:ext cx="83844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660" name="Text Box 19"/>
          <p:cNvSpPr/>
          <p:nvPr/>
        </p:nvSpPr>
        <p:spPr>
          <a:xfrm>
            <a:off x="4674240" y="4038480"/>
            <a:ext cx="354600" cy="4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 baseline="30000">
                <a:solidFill>
                  <a:srgbClr val="336699"/>
                </a:solidFill>
                <a:latin typeface="Verdana"/>
              </a:rPr>
              <a:t>D</a:t>
            </a:r>
            <a:r>
              <a:rPr b="1" lang="en-US" sz="2100" spc="-1" strike="noStrike" baseline="-25000">
                <a:solidFill>
                  <a:srgbClr val="336699"/>
                </a:solidFill>
                <a:latin typeface="Verdana"/>
              </a:rPr>
              <a:t>f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661" name="Text Box 20"/>
          <p:cNvSpPr/>
          <p:nvPr/>
        </p:nvSpPr>
        <p:spPr>
          <a:xfrm>
            <a:off x="1220400" y="4502160"/>
            <a:ext cx="2692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 baseline="30000">
                <a:solidFill>
                  <a:srgbClr val="336699"/>
                </a:solidFill>
                <a:latin typeface="Verdana"/>
              </a:rPr>
              <a:t>x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662" name="Text Box 21"/>
          <p:cNvSpPr/>
          <p:nvPr/>
        </p:nvSpPr>
        <p:spPr>
          <a:xfrm>
            <a:off x="4343760" y="3511440"/>
            <a:ext cx="2674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 baseline="30000">
                <a:solidFill>
                  <a:srgbClr val="336699"/>
                </a:solidFill>
                <a:latin typeface="Verdana"/>
              </a:rPr>
              <a:t>y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663" name="Text Box 22"/>
          <p:cNvSpPr/>
          <p:nvPr/>
        </p:nvSpPr>
        <p:spPr>
          <a:xfrm>
            <a:off x="2364120" y="2368440"/>
            <a:ext cx="2552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 baseline="30000">
                <a:solidFill>
                  <a:srgbClr val="336699"/>
                </a:solidFill>
                <a:latin typeface="Verdana"/>
              </a:rPr>
              <a:t>z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664" name="Rectangle 23"/>
          <p:cNvSpPr/>
          <p:nvPr/>
        </p:nvSpPr>
        <p:spPr>
          <a:xfrm>
            <a:off x="1212840" y="5105520"/>
            <a:ext cx="74516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Karena setiap pasangan terurut (x,y) dipasangkan dengan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tepat satu z = f(x,y), maka setiap garis yang sejajar sb z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akan memotong grafik tepat di satu titik.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</p:spTree>
  </p:cSld>
  <p:timing>
    <p:tnLst>
      <p:par>
        <p:cTn id="1195" dur="indefinite" restart="never" nodeType="tmRoot">
          <p:childTnLst>
            <p:seq>
              <p:cTn id="1196" dur="indefinite" nodeType="mainSeq">
                <p:childTnLst>
                  <p:par>
                    <p:cTn id="1197" nodeType="clickEffect" fill="hold">
                      <p:stCondLst>
                        <p:cond delay="indefinite"/>
                      </p:stCondLst>
                      <p:childTnLst>
                        <p:par>
                          <p:cTn id="1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1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4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7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0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3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6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9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2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5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6" nodeType="clickEffect" fill="hold">
                      <p:stCondLst>
                        <p:cond delay="indefinite"/>
                      </p:stCondLst>
                      <p:childTnLst>
                        <p:par>
                          <p:cTn id="1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0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3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6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9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2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5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8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1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4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7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8" nodeType="clickEffect" fill="hold">
                      <p:stCondLst>
                        <p:cond delay="indefinite"/>
                      </p:stCondLst>
                      <p:childTnLst>
                        <p:par>
                          <p:cTn id="1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2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stem Koordin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1B620-3806-4A86-AC5F-D8C59E70760B}" type="datetime">
              <a:rPr b="0" lang="en-US" sz="1200" spc="-1" strike="noStrike">
                <a:solidFill>
                  <a:srgbClr val="898989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25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Verdana"/>
              </a:rPr>
              <a:t>[MA 1124]</a:t>
            </a:r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Verdana"/>
              </a:rPr>
              <a:t>KALKULUS II</a:t>
            </a:r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25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FB54E-2659-4A7F-B854-97BC23246859}" type="slidenum">
              <a:rPr b="0" lang="en-US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257" name="Rectangle 3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grpSp>
        <p:nvGrpSpPr>
          <p:cNvPr id="258" name="Group 4"/>
          <p:cNvGrpSpPr/>
          <p:nvPr/>
        </p:nvGrpSpPr>
        <p:grpSpPr>
          <a:xfrm>
            <a:off x="282240" y="1752480"/>
            <a:ext cx="3431520" cy="2514600"/>
            <a:chOff x="282240" y="1752480"/>
            <a:chExt cx="3431520" cy="2514600"/>
          </a:xfrm>
        </p:grpSpPr>
        <p:sp>
          <p:nvSpPr>
            <p:cNvPr id="259" name="Line 5"/>
            <p:cNvSpPr/>
            <p:nvPr/>
          </p:nvSpPr>
          <p:spPr>
            <a:xfrm>
              <a:off x="1752480" y="1981080"/>
              <a:ext cx="0" cy="228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336699"/>
                </a:solidFill>
                <a:latin typeface="Verdana"/>
              </a:endParaRPr>
            </a:p>
          </p:txBody>
        </p:sp>
        <p:sp>
          <p:nvSpPr>
            <p:cNvPr id="260" name="Line 6"/>
            <p:cNvSpPr/>
            <p:nvPr/>
          </p:nvSpPr>
          <p:spPr>
            <a:xfrm>
              <a:off x="457200" y="3352680"/>
              <a:ext cx="2666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336699"/>
                </a:solidFill>
                <a:latin typeface="Verdana"/>
              </a:endParaRPr>
            </a:p>
          </p:txBody>
        </p:sp>
        <p:sp>
          <p:nvSpPr>
            <p:cNvPr id="261" name="Rectangle 7"/>
            <p:cNvSpPr/>
            <p:nvPr/>
          </p:nvSpPr>
          <p:spPr>
            <a:xfrm>
              <a:off x="1750320" y="1752480"/>
              <a:ext cx="29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6699"/>
                  </a:solidFill>
                  <a:latin typeface="Verdana"/>
                </a:rPr>
                <a:t>y</a:t>
              </a:r>
              <a:endParaRPr b="0" lang="en-US" sz="1800" spc="-1" strike="noStrike">
                <a:solidFill>
                  <a:srgbClr val="336699"/>
                </a:solidFill>
                <a:latin typeface="Verdana"/>
              </a:endParaRPr>
            </a:p>
          </p:txBody>
        </p:sp>
        <p:sp>
          <p:nvSpPr>
            <p:cNvPr id="262" name="Rectangle 8"/>
            <p:cNvSpPr/>
            <p:nvPr/>
          </p:nvSpPr>
          <p:spPr>
            <a:xfrm>
              <a:off x="2980800" y="329076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6699"/>
                  </a:solidFill>
                  <a:latin typeface="Verdana"/>
                </a:rPr>
                <a:t>x</a:t>
              </a:r>
              <a:endParaRPr b="0" lang="en-US" sz="1800" spc="-1" strike="noStrike">
                <a:solidFill>
                  <a:srgbClr val="336699"/>
                </a:solidFill>
                <a:latin typeface="Verdana"/>
              </a:endParaRPr>
            </a:p>
          </p:txBody>
        </p:sp>
        <p:sp>
          <p:nvSpPr>
            <p:cNvPr id="263" name="Rectangle 9"/>
            <p:cNvSpPr/>
            <p:nvPr/>
          </p:nvSpPr>
          <p:spPr>
            <a:xfrm>
              <a:off x="2958480" y="2438280"/>
              <a:ext cx="75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6699"/>
                  </a:solidFill>
                  <a:latin typeface="Verdana"/>
                </a:rPr>
                <a:t>P(x,y)</a:t>
              </a:r>
              <a:endParaRPr b="0" lang="en-US" sz="1800" spc="-1" strike="noStrike">
                <a:solidFill>
                  <a:srgbClr val="336699"/>
                </a:solidFill>
                <a:latin typeface="Verdana"/>
              </a:endParaRPr>
            </a:p>
          </p:txBody>
        </p:sp>
        <p:sp>
          <p:nvSpPr>
            <p:cNvPr id="264" name="Rectangle 10"/>
            <p:cNvSpPr/>
            <p:nvPr/>
          </p:nvSpPr>
          <p:spPr>
            <a:xfrm>
              <a:off x="2085840" y="2057400"/>
              <a:ext cx="123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6699"/>
                  </a:solidFill>
                  <a:latin typeface="Verdana"/>
                </a:rPr>
                <a:t>Kuadran I</a:t>
              </a:r>
              <a:endParaRPr b="0" lang="en-US" sz="1800" spc="-1" strike="noStrike">
                <a:solidFill>
                  <a:srgbClr val="336699"/>
                </a:solidFill>
                <a:latin typeface="Verdana"/>
              </a:endParaRPr>
            </a:p>
          </p:txBody>
        </p:sp>
        <p:sp>
          <p:nvSpPr>
            <p:cNvPr id="265" name="Rectangle 11"/>
            <p:cNvSpPr/>
            <p:nvPr/>
          </p:nvSpPr>
          <p:spPr>
            <a:xfrm>
              <a:off x="282240" y="2057400"/>
              <a:ext cx="1311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6699"/>
                  </a:solidFill>
                  <a:latin typeface="Verdana"/>
                </a:rPr>
                <a:t>Kuadran II</a:t>
              </a:r>
              <a:endParaRPr b="0" lang="en-US" sz="1800" spc="-1" strike="noStrike">
                <a:solidFill>
                  <a:srgbClr val="336699"/>
                </a:solidFill>
                <a:latin typeface="Verdana"/>
              </a:endParaRPr>
            </a:p>
          </p:txBody>
        </p:sp>
        <p:sp>
          <p:nvSpPr>
            <p:cNvPr id="266" name="Rectangle 12"/>
            <p:cNvSpPr/>
            <p:nvPr/>
          </p:nvSpPr>
          <p:spPr>
            <a:xfrm>
              <a:off x="291960" y="3657600"/>
              <a:ext cx="1389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6699"/>
                  </a:solidFill>
                  <a:latin typeface="Verdana"/>
                </a:rPr>
                <a:t>Kuadran III</a:t>
              </a:r>
              <a:endParaRPr b="0" lang="en-US" sz="1800" spc="-1" strike="noStrike">
                <a:solidFill>
                  <a:srgbClr val="336699"/>
                </a:solidFill>
                <a:latin typeface="Verdana"/>
              </a:endParaRPr>
            </a:p>
          </p:txBody>
        </p:sp>
        <p:sp>
          <p:nvSpPr>
            <p:cNvPr id="267" name="Rectangle 13"/>
            <p:cNvSpPr/>
            <p:nvPr/>
          </p:nvSpPr>
          <p:spPr>
            <a:xfrm>
              <a:off x="2034720" y="3657600"/>
              <a:ext cx="137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6699"/>
                  </a:solidFill>
                  <a:latin typeface="Verdana"/>
                </a:rPr>
                <a:t>Kuadran IV</a:t>
              </a:r>
              <a:endParaRPr b="0" lang="en-US" sz="1800" spc="-1" strike="noStrike">
                <a:solidFill>
                  <a:srgbClr val="336699"/>
                </a:solidFill>
                <a:latin typeface="Verdana"/>
              </a:endParaRPr>
            </a:p>
          </p:txBody>
        </p:sp>
        <p:sp>
          <p:nvSpPr>
            <p:cNvPr id="268" name="Line 14"/>
            <p:cNvSpPr/>
            <p:nvPr/>
          </p:nvSpPr>
          <p:spPr>
            <a:xfrm>
              <a:off x="1752480" y="2590920"/>
              <a:ext cx="10670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336699"/>
                </a:solidFill>
                <a:latin typeface="Verdana"/>
              </a:endParaRPr>
            </a:p>
          </p:txBody>
        </p:sp>
        <p:sp>
          <p:nvSpPr>
            <p:cNvPr id="269" name="Line 15"/>
            <p:cNvSpPr/>
            <p:nvPr/>
          </p:nvSpPr>
          <p:spPr>
            <a:xfrm flipV="1">
              <a:off x="2806560" y="2590920"/>
              <a:ext cx="0" cy="76176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336699"/>
                </a:solidFill>
                <a:latin typeface="Verdana"/>
              </a:endParaRPr>
            </a:p>
          </p:txBody>
        </p:sp>
        <p:sp>
          <p:nvSpPr>
            <p:cNvPr id="270" name="Rectangle 16"/>
            <p:cNvSpPr/>
            <p:nvPr/>
          </p:nvSpPr>
          <p:spPr>
            <a:xfrm>
              <a:off x="2525040" y="2819520"/>
              <a:ext cx="29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6699"/>
                  </a:solidFill>
                  <a:latin typeface="Verdana"/>
                </a:rPr>
                <a:t>y</a:t>
              </a:r>
              <a:endParaRPr b="0" lang="en-US" sz="1800" spc="-1" strike="noStrike">
                <a:solidFill>
                  <a:srgbClr val="336699"/>
                </a:solidFill>
                <a:latin typeface="Verdana"/>
              </a:endParaRPr>
            </a:p>
          </p:txBody>
        </p:sp>
        <p:sp>
          <p:nvSpPr>
            <p:cNvPr id="271" name="Rectangle 17"/>
            <p:cNvSpPr/>
            <p:nvPr/>
          </p:nvSpPr>
          <p:spPr>
            <a:xfrm>
              <a:off x="2142720" y="252720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6699"/>
                  </a:solidFill>
                  <a:latin typeface="Verdana"/>
                </a:rPr>
                <a:t>x</a:t>
              </a:r>
              <a:endParaRPr b="0" lang="en-US" sz="1800" spc="-1" strike="noStrike">
                <a:solidFill>
                  <a:srgbClr val="336699"/>
                </a:solidFill>
                <a:latin typeface="Verdana"/>
              </a:endParaRPr>
            </a:p>
          </p:txBody>
        </p:sp>
      </p:grpSp>
      <p:grpSp>
        <p:nvGrpSpPr>
          <p:cNvPr id="272" name="Group 18"/>
          <p:cNvGrpSpPr/>
          <p:nvPr/>
        </p:nvGrpSpPr>
        <p:grpSpPr>
          <a:xfrm>
            <a:off x="5190480" y="1600200"/>
            <a:ext cx="2824200" cy="2744640"/>
            <a:chOff x="5190480" y="1600200"/>
            <a:chExt cx="2824200" cy="2744640"/>
          </a:xfrm>
        </p:grpSpPr>
        <p:sp>
          <p:nvSpPr>
            <p:cNvPr id="273" name="Line 19"/>
            <p:cNvSpPr/>
            <p:nvPr/>
          </p:nvSpPr>
          <p:spPr>
            <a:xfrm flipV="1">
              <a:off x="6019920" y="1752480"/>
              <a:ext cx="0" cy="152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336699"/>
                </a:solidFill>
                <a:latin typeface="Verdana"/>
              </a:endParaRPr>
            </a:p>
          </p:txBody>
        </p:sp>
        <p:sp>
          <p:nvSpPr>
            <p:cNvPr id="274" name="Line 20"/>
            <p:cNvSpPr/>
            <p:nvPr/>
          </p:nvSpPr>
          <p:spPr>
            <a:xfrm flipH="1">
              <a:off x="5194440" y="3276720"/>
              <a:ext cx="83808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336699"/>
                </a:solidFill>
                <a:latin typeface="Verdana"/>
              </a:endParaRPr>
            </a:p>
          </p:txBody>
        </p:sp>
        <p:sp>
          <p:nvSpPr>
            <p:cNvPr id="275" name="Line 21"/>
            <p:cNvSpPr/>
            <p:nvPr/>
          </p:nvSpPr>
          <p:spPr>
            <a:xfrm>
              <a:off x="6019920" y="3276720"/>
              <a:ext cx="1828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336699"/>
                </a:solidFill>
                <a:latin typeface="Verdana"/>
              </a:endParaRPr>
            </a:p>
          </p:txBody>
        </p:sp>
        <p:sp>
          <p:nvSpPr>
            <p:cNvPr id="276" name="Rectangle 22"/>
            <p:cNvSpPr/>
            <p:nvPr/>
          </p:nvSpPr>
          <p:spPr>
            <a:xfrm>
              <a:off x="7706520" y="3290760"/>
              <a:ext cx="29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6699"/>
                  </a:solidFill>
                  <a:latin typeface="Verdana"/>
                </a:rPr>
                <a:t>y</a:t>
              </a:r>
              <a:endParaRPr b="0" lang="en-US" sz="1800" spc="-1" strike="noStrike">
                <a:solidFill>
                  <a:srgbClr val="336699"/>
                </a:solidFill>
                <a:latin typeface="Verdana"/>
              </a:endParaRPr>
            </a:p>
          </p:txBody>
        </p:sp>
        <p:sp>
          <p:nvSpPr>
            <p:cNvPr id="277" name="Rectangle 23"/>
            <p:cNvSpPr/>
            <p:nvPr/>
          </p:nvSpPr>
          <p:spPr>
            <a:xfrm>
              <a:off x="6027480" y="1600200"/>
              <a:ext cx="289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6699"/>
                  </a:solidFill>
                  <a:latin typeface="Verdana"/>
                </a:rPr>
                <a:t>z</a:t>
              </a:r>
              <a:endParaRPr b="0" lang="en-US" sz="1800" spc="-1" strike="noStrike">
                <a:solidFill>
                  <a:srgbClr val="336699"/>
                </a:solidFill>
                <a:latin typeface="Verdana"/>
              </a:endParaRPr>
            </a:p>
          </p:txBody>
        </p:sp>
        <p:sp>
          <p:nvSpPr>
            <p:cNvPr id="278" name="Rectangle 24"/>
            <p:cNvSpPr/>
            <p:nvPr/>
          </p:nvSpPr>
          <p:spPr>
            <a:xfrm>
              <a:off x="5190480" y="397656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6699"/>
                  </a:solidFill>
                  <a:latin typeface="Verdana"/>
                </a:rPr>
                <a:t>x</a:t>
              </a:r>
              <a:endParaRPr b="0" lang="en-US" sz="1800" spc="-1" strike="noStrike">
                <a:solidFill>
                  <a:srgbClr val="336699"/>
                </a:solidFill>
                <a:latin typeface="Verdana"/>
              </a:endParaRPr>
            </a:p>
          </p:txBody>
        </p:sp>
        <p:sp>
          <p:nvSpPr>
            <p:cNvPr id="279" name="Line 25"/>
            <p:cNvSpPr/>
            <p:nvPr/>
          </p:nvSpPr>
          <p:spPr>
            <a:xfrm flipV="1">
              <a:off x="6019920" y="2590560"/>
              <a:ext cx="91440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336699"/>
                </a:solidFill>
                <a:latin typeface="Verdana"/>
              </a:endParaRPr>
            </a:p>
          </p:txBody>
        </p:sp>
        <p:sp>
          <p:nvSpPr>
            <p:cNvPr id="280" name="Line 26"/>
            <p:cNvSpPr/>
            <p:nvPr/>
          </p:nvSpPr>
          <p:spPr>
            <a:xfrm>
              <a:off x="6934320" y="2577960"/>
              <a:ext cx="0" cy="129564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336699"/>
                </a:solidFill>
                <a:latin typeface="Verdana"/>
              </a:endParaRPr>
            </a:p>
          </p:txBody>
        </p:sp>
        <p:sp>
          <p:nvSpPr>
            <p:cNvPr id="281" name="Line 27"/>
            <p:cNvSpPr/>
            <p:nvPr/>
          </p:nvSpPr>
          <p:spPr>
            <a:xfrm>
              <a:off x="5410080" y="3886200"/>
              <a:ext cx="15242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336699"/>
                </a:solidFill>
                <a:latin typeface="Verdana"/>
              </a:endParaRPr>
            </a:p>
          </p:txBody>
        </p:sp>
        <p:sp>
          <p:nvSpPr>
            <p:cNvPr id="282" name="Line 28"/>
            <p:cNvSpPr/>
            <p:nvPr/>
          </p:nvSpPr>
          <p:spPr>
            <a:xfrm flipV="1">
              <a:off x="6934320" y="3276360"/>
              <a:ext cx="533160" cy="60948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336699"/>
                </a:solidFill>
                <a:latin typeface="Verdana"/>
              </a:endParaRPr>
            </a:p>
          </p:txBody>
        </p:sp>
        <p:sp>
          <p:nvSpPr>
            <p:cNvPr id="283" name="Line 29"/>
            <p:cNvSpPr/>
            <p:nvPr/>
          </p:nvSpPr>
          <p:spPr>
            <a:xfrm flipH="1" flipV="1">
              <a:off x="6019920" y="2133720"/>
              <a:ext cx="914400" cy="45720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336699"/>
                </a:solidFill>
                <a:latin typeface="Verdana"/>
              </a:endParaRPr>
            </a:p>
          </p:txBody>
        </p:sp>
        <p:sp>
          <p:nvSpPr>
            <p:cNvPr id="284" name="Rectangle 30"/>
            <p:cNvSpPr/>
            <p:nvPr/>
          </p:nvSpPr>
          <p:spPr>
            <a:xfrm>
              <a:off x="7090200" y="2362320"/>
              <a:ext cx="924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6699"/>
                  </a:solidFill>
                  <a:latin typeface="Verdana"/>
                </a:rPr>
                <a:t>P(x,y,z)</a:t>
              </a:r>
              <a:endParaRPr b="0" lang="en-US" sz="1800" spc="-1" strike="noStrike">
                <a:solidFill>
                  <a:srgbClr val="336699"/>
                </a:solidFill>
                <a:latin typeface="Verdana"/>
              </a:endParaRPr>
            </a:p>
          </p:txBody>
        </p:sp>
      </p:grpSp>
      <p:sp>
        <p:nvSpPr>
          <p:cNvPr id="285" name="Rectangle 31"/>
          <p:cNvSpPr/>
          <p:nvPr/>
        </p:nvSpPr>
        <p:spPr>
          <a:xfrm>
            <a:off x="5904000" y="3352680"/>
            <a:ext cx="102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Oktan 1</a:t>
            </a:r>
            <a:endParaRPr b="0" lang="en-US" sz="18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286" name="Rectangle 32"/>
          <p:cNvSpPr/>
          <p:nvPr/>
        </p:nvSpPr>
        <p:spPr>
          <a:xfrm>
            <a:off x="5797440" y="4281480"/>
            <a:ext cx="128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R</a:t>
            </a:r>
            <a:r>
              <a:rPr b="0" lang="en-US" sz="1800" spc="-1" strike="noStrike" baseline="30000">
                <a:solidFill>
                  <a:srgbClr val="336699"/>
                </a:solidFill>
                <a:latin typeface="Verdana"/>
              </a:rPr>
              <a:t>3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(Ruang) </a:t>
            </a:r>
            <a:endParaRPr b="0" lang="en-US" sz="18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287" name="Rectangle 33"/>
          <p:cNvSpPr/>
          <p:nvPr/>
        </p:nvSpPr>
        <p:spPr>
          <a:xfrm>
            <a:off x="1156320" y="4495680"/>
            <a:ext cx="135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R</a:t>
            </a:r>
            <a:r>
              <a:rPr b="0" lang="en-US" sz="1800" spc="-1" strike="noStrike" baseline="30000">
                <a:solidFill>
                  <a:srgbClr val="336699"/>
                </a:solidFill>
                <a:latin typeface="Verdana"/>
              </a:rPr>
              <a:t>2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(Bidang) </a:t>
            </a:r>
            <a:endParaRPr b="0" lang="en-US" sz="1800" spc="-1" strike="noStrike">
              <a:solidFill>
                <a:srgbClr val="336699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to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"/>
          <p:cNvSpPr txBox="1"/>
          <p:nvPr/>
        </p:nvSpPr>
        <p:spPr>
          <a:xfrm>
            <a:off x="609480" y="1366920"/>
            <a:ext cx="8229600" cy="48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ambarkan Grafi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(x,y) = 2 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+ 3y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66960" indent="-495360">
              <a:spcBef>
                <a:spcPts val="72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z = 2 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+ 3y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2  </a:t>
            </a: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(x,y) = 3 – 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– y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6B0F2-3DFF-49B4-B2A2-70AABE574360}" type="datetime">
              <a:rPr b="0" lang="en-US" sz="1200" spc="-1" strike="noStrike">
                <a:solidFill>
                  <a:srgbClr val="898989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668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Verdana"/>
              </a:rPr>
              <a:t>[MA 1124]</a:t>
            </a:r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Verdana"/>
              </a:rPr>
              <a:t>KALKULUS II</a:t>
            </a:r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66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97478-27F4-45F6-95A8-8FAB4D3D4AE7}" type="slidenum">
              <a:rPr b="0" lang="en-US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670" name="Rectangle 9"/>
          <p:cNvSpPr/>
          <p:nvPr/>
        </p:nvSpPr>
        <p:spPr>
          <a:xfrm>
            <a:off x="2716560" y="2976120"/>
            <a:ext cx="320472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  <a:ea typeface="Times New Roman"/>
              </a:rPr>
              <a:t>Paraboloida eliptik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1" name="Object 10"/>
              <p:cNvSpPr txBox="1"/>
              <p:nvPr/>
            </p:nvSpPr>
            <p:spPr>
              <a:xfrm>
                <a:off x="1219320" y="3052800"/>
                <a:ext cx="1625400" cy="90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1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1</m:t>
                        </m:r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72" name="Line 11"/>
          <p:cNvSpPr/>
          <p:nvPr/>
        </p:nvSpPr>
        <p:spPr>
          <a:xfrm flipV="1">
            <a:off x="7035840" y="1752480"/>
            <a:ext cx="0" cy="178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673" name="Line 12"/>
          <p:cNvSpPr/>
          <p:nvPr/>
        </p:nvSpPr>
        <p:spPr>
          <a:xfrm>
            <a:off x="6121440" y="2847960"/>
            <a:ext cx="2171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674" name="Line 13"/>
          <p:cNvSpPr/>
          <p:nvPr/>
        </p:nvSpPr>
        <p:spPr>
          <a:xfrm flipH="1">
            <a:off x="6006600" y="2403360"/>
            <a:ext cx="1778040" cy="105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675" name="Text Box 14"/>
          <p:cNvSpPr/>
          <p:nvPr/>
        </p:nvSpPr>
        <p:spPr>
          <a:xfrm>
            <a:off x="6781680" y="1676520"/>
            <a:ext cx="4572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Verdana"/>
              </a:rPr>
              <a:t>Z</a:t>
            </a:r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676" name="Text Box 15"/>
          <p:cNvSpPr/>
          <p:nvPr/>
        </p:nvSpPr>
        <p:spPr>
          <a:xfrm>
            <a:off x="5778360" y="3238560"/>
            <a:ext cx="4572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Verdana"/>
              </a:rPr>
              <a:t> </a:t>
            </a:r>
            <a:r>
              <a:rPr b="0" lang="en-US" sz="1100" spc="-1" strike="noStrike">
                <a:solidFill>
                  <a:srgbClr val="336699"/>
                </a:solidFill>
                <a:latin typeface="Verdana"/>
              </a:rPr>
              <a:t>x</a:t>
            </a:r>
            <a:endParaRPr b="0" lang="en-US" sz="1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677" name="Text Box 16"/>
          <p:cNvSpPr/>
          <p:nvPr/>
        </p:nvSpPr>
        <p:spPr>
          <a:xfrm>
            <a:off x="8229600" y="2717640"/>
            <a:ext cx="4572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336699"/>
                </a:solidFill>
                <a:latin typeface="Verdana"/>
              </a:rPr>
              <a:t>y</a:t>
            </a:r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678" name="Oval 17"/>
          <p:cNvSpPr/>
          <p:nvPr/>
        </p:nvSpPr>
        <p:spPr>
          <a:xfrm>
            <a:off x="6464160" y="2095560"/>
            <a:ext cx="11430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679" name="Arc 18"/>
          <p:cNvSpPr/>
          <p:nvPr/>
        </p:nvSpPr>
        <p:spPr>
          <a:xfrm flipH="1" rot="16200000">
            <a:off x="6700320" y="1954800"/>
            <a:ext cx="668160" cy="1143000"/>
          </a:xfrm>
          <a:custGeom>
            <a:avLst/>
            <a:gdLst>
              <a:gd name="textAreaLeft" fmla="*/ 360 w 668160"/>
              <a:gd name="textAreaRight" fmla="*/ 668880 w 66816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fill="none" w="21600" h="432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33529"/>
                  <a:pt x="11929" y="43199"/>
                  <a:pt x="0" y="43200"/>
                </a:cubicBezTo>
              </a:path>
              <a:path stroke="0" w="21600" h="432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33529"/>
                  <a:pt x="11929" y="43199"/>
                  <a:pt x="0" y="432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680" name="Arc 19"/>
          <p:cNvSpPr/>
          <p:nvPr/>
        </p:nvSpPr>
        <p:spPr>
          <a:xfrm flipH="1">
            <a:off x="6845400" y="2084400"/>
            <a:ext cx="363600" cy="770040"/>
          </a:xfrm>
          <a:custGeom>
            <a:avLst/>
            <a:gdLst>
              <a:gd name="textAreaLeft" fmla="*/ 360 w 363600"/>
              <a:gd name="textAreaRight" fmla="*/ 364320 w 363600"/>
              <a:gd name="textAreaTop" fmla="*/ 0 h 770040"/>
              <a:gd name="textAreaBottom" fmla="*/ 770400 h 770040"/>
            </a:gdLst>
            <a:ahLst/>
            <a:rect l="textAreaLeft" t="textAreaTop" r="textAreaRight" b="textAreaBottom"/>
            <a:pathLst>
              <a:path fill="none" w="43200" h="29490">
                <a:moveTo>
                  <a:pt x="43199" y="7889"/>
                </a:moveTo>
                <a:cubicBezTo>
                  <a:pt x="43199" y="7889"/>
                  <a:pt x="43200" y="7889"/>
                  <a:pt x="43200" y="7890"/>
                </a:cubicBezTo>
                <a:cubicBezTo>
                  <a:pt x="43200" y="19819"/>
                  <a:pt x="33529" y="29490"/>
                  <a:pt x="21600" y="29490"/>
                </a:cubicBezTo>
                <a:cubicBezTo>
                  <a:pt x="9670" y="29490"/>
                  <a:pt x="0" y="19819"/>
                  <a:pt x="0" y="7890"/>
                </a:cubicBezTo>
                <a:cubicBezTo>
                  <a:pt x="-1" y="5189"/>
                  <a:pt x="506" y="2513"/>
                  <a:pt x="1492" y="0"/>
                </a:cubicBezTo>
              </a:path>
              <a:path stroke="0" w="43200" h="29490">
                <a:moveTo>
                  <a:pt x="43199" y="7889"/>
                </a:moveTo>
                <a:cubicBezTo>
                  <a:pt x="43199" y="7889"/>
                  <a:pt x="43200" y="7889"/>
                  <a:pt x="43200" y="7890"/>
                </a:cubicBezTo>
                <a:cubicBezTo>
                  <a:pt x="43200" y="19819"/>
                  <a:pt x="33529" y="29490"/>
                  <a:pt x="21600" y="29490"/>
                </a:cubicBezTo>
                <a:cubicBezTo>
                  <a:pt x="9670" y="29490"/>
                  <a:pt x="0" y="19819"/>
                  <a:pt x="0" y="7890"/>
                </a:cubicBezTo>
                <a:cubicBezTo>
                  <a:pt x="-1" y="5189"/>
                  <a:pt x="506" y="2513"/>
                  <a:pt x="1492" y="0"/>
                </a:cubicBezTo>
                <a:lnTo>
                  <a:pt x="21600" y="7890"/>
                </a:lnTo>
                <a:lnTo>
                  <a:pt x="43199" y="7889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681" name="Rectangle 20"/>
          <p:cNvSpPr/>
          <p:nvPr/>
        </p:nvSpPr>
        <p:spPr>
          <a:xfrm>
            <a:off x="5545440" y="5683320"/>
            <a:ext cx="172332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z = 3 – x</a:t>
            </a:r>
            <a:r>
              <a:rPr b="0" lang="en-US" sz="2100" spc="-1" strike="noStrike" baseline="30000">
                <a:solidFill>
                  <a:srgbClr val="336699"/>
                </a:solidFill>
                <a:latin typeface="Verdana"/>
              </a:rPr>
              <a:t>2 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– y</a:t>
            </a:r>
            <a:r>
              <a:rPr b="0" lang="en-US" sz="2100" spc="-1" strike="noStrike" baseline="30000">
                <a:solidFill>
                  <a:srgbClr val="336699"/>
                </a:solidFill>
                <a:latin typeface="Verdana"/>
              </a:rPr>
              <a:t>2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682" name="Line 21"/>
          <p:cNvSpPr/>
          <p:nvPr/>
        </p:nvSpPr>
        <p:spPr>
          <a:xfrm flipV="1">
            <a:off x="6362640" y="3657600"/>
            <a:ext cx="0" cy="178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683" name="Line 22"/>
          <p:cNvSpPr/>
          <p:nvPr/>
        </p:nvSpPr>
        <p:spPr>
          <a:xfrm>
            <a:off x="5448240" y="4753080"/>
            <a:ext cx="2171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684" name="Line 23"/>
          <p:cNvSpPr/>
          <p:nvPr/>
        </p:nvSpPr>
        <p:spPr>
          <a:xfrm flipH="1">
            <a:off x="5333760" y="4307760"/>
            <a:ext cx="1778040" cy="1050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685" name="Text Box 24"/>
          <p:cNvSpPr/>
          <p:nvPr/>
        </p:nvSpPr>
        <p:spPr>
          <a:xfrm>
            <a:off x="6108840" y="3581280"/>
            <a:ext cx="4572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Verdana"/>
              </a:rPr>
              <a:t>Z</a:t>
            </a:r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686" name="Text Box 25"/>
          <p:cNvSpPr/>
          <p:nvPr/>
        </p:nvSpPr>
        <p:spPr>
          <a:xfrm>
            <a:off x="5105520" y="5143680"/>
            <a:ext cx="4572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Verdana"/>
              </a:rPr>
              <a:t> </a:t>
            </a:r>
            <a:r>
              <a:rPr b="0" lang="en-US" sz="1100" spc="-1" strike="noStrike">
                <a:solidFill>
                  <a:srgbClr val="336699"/>
                </a:solidFill>
                <a:latin typeface="Verdana"/>
              </a:rPr>
              <a:t>x</a:t>
            </a:r>
            <a:endParaRPr b="0" lang="en-US" sz="1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687" name="Text Box 26"/>
          <p:cNvSpPr/>
          <p:nvPr/>
        </p:nvSpPr>
        <p:spPr>
          <a:xfrm>
            <a:off x="7556400" y="4622760"/>
            <a:ext cx="4572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336699"/>
                </a:solidFill>
                <a:latin typeface="Verdana"/>
              </a:rPr>
              <a:t>y</a:t>
            </a:r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688" name="Oval 27"/>
          <p:cNvSpPr/>
          <p:nvPr/>
        </p:nvSpPr>
        <p:spPr>
          <a:xfrm rot="10800000">
            <a:off x="5778000" y="4647960"/>
            <a:ext cx="11430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689" name="Arc 28"/>
          <p:cNvSpPr/>
          <p:nvPr/>
        </p:nvSpPr>
        <p:spPr>
          <a:xfrm flipH="1" rot="5596800">
            <a:off x="6028560" y="3859200"/>
            <a:ext cx="668520" cy="1143000"/>
          </a:xfrm>
          <a:custGeom>
            <a:avLst/>
            <a:gdLst>
              <a:gd name="textAreaLeft" fmla="*/ -360 w 668520"/>
              <a:gd name="textAreaRight" fmla="*/ 668520 w 66852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fill="none" w="21600" h="432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33529"/>
                  <a:pt x="11929" y="43199"/>
                  <a:pt x="0" y="43200"/>
                </a:cubicBezTo>
              </a:path>
              <a:path stroke="0" w="21600" h="432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33529"/>
                  <a:pt x="11929" y="43199"/>
                  <a:pt x="0" y="432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690" name="Arc 29"/>
          <p:cNvSpPr/>
          <p:nvPr/>
        </p:nvSpPr>
        <p:spPr>
          <a:xfrm flipH="1" rot="10984800">
            <a:off x="6171480" y="4106160"/>
            <a:ext cx="363600" cy="770040"/>
          </a:xfrm>
          <a:custGeom>
            <a:avLst/>
            <a:gdLst>
              <a:gd name="textAreaLeft" fmla="*/ 360 w 363600"/>
              <a:gd name="textAreaRight" fmla="*/ 364320 w 363600"/>
              <a:gd name="textAreaTop" fmla="*/ 0 h 770040"/>
              <a:gd name="textAreaBottom" fmla="*/ 770400 h 770040"/>
            </a:gdLst>
            <a:ahLst/>
            <a:rect l="textAreaLeft" t="textAreaTop" r="textAreaRight" b="textAreaBottom"/>
            <a:pathLst>
              <a:path fill="none" w="43200" h="29490">
                <a:moveTo>
                  <a:pt x="43199" y="7889"/>
                </a:moveTo>
                <a:cubicBezTo>
                  <a:pt x="43199" y="7889"/>
                  <a:pt x="43200" y="7889"/>
                  <a:pt x="43200" y="7890"/>
                </a:cubicBezTo>
                <a:cubicBezTo>
                  <a:pt x="43200" y="19819"/>
                  <a:pt x="33529" y="29490"/>
                  <a:pt x="21600" y="29490"/>
                </a:cubicBezTo>
                <a:cubicBezTo>
                  <a:pt x="9670" y="29490"/>
                  <a:pt x="0" y="19819"/>
                  <a:pt x="0" y="7890"/>
                </a:cubicBezTo>
                <a:cubicBezTo>
                  <a:pt x="-1" y="5189"/>
                  <a:pt x="506" y="2513"/>
                  <a:pt x="1492" y="0"/>
                </a:cubicBezTo>
              </a:path>
              <a:path stroke="0" w="43200" h="29490">
                <a:moveTo>
                  <a:pt x="43199" y="7889"/>
                </a:moveTo>
                <a:cubicBezTo>
                  <a:pt x="43199" y="7889"/>
                  <a:pt x="43200" y="7889"/>
                  <a:pt x="43200" y="7890"/>
                </a:cubicBezTo>
                <a:cubicBezTo>
                  <a:pt x="43200" y="19819"/>
                  <a:pt x="33529" y="29490"/>
                  <a:pt x="21600" y="29490"/>
                </a:cubicBezTo>
                <a:cubicBezTo>
                  <a:pt x="9670" y="29490"/>
                  <a:pt x="0" y="19819"/>
                  <a:pt x="0" y="7890"/>
                </a:cubicBezTo>
                <a:cubicBezTo>
                  <a:pt x="-1" y="5189"/>
                  <a:pt x="506" y="2513"/>
                  <a:pt x="1492" y="0"/>
                </a:cubicBezTo>
                <a:lnTo>
                  <a:pt x="21600" y="7890"/>
                </a:lnTo>
                <a:lnTo>
                  <a:pt x="43199" y="7889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691" name="Text Box 31"/>
          <p:cNvSpPr/>
          <p:nvPr/>
        </p:nvSpPr>
        <p:spPr>
          <a:xfrm>
            <a:off x="6306120" y="3841920"/>
            <a:ext cx="2750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336699"/>
                </a:solidFill>
                <a:latin typeface="Verdana"/>
              </a:rPr>
              <a:t>3</a:t>
            </a:r>
            <a:endParaRPr b="0" lang="en-US" sz="13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692" name="Text Box 32"/>
          <p:cNvSpPr/>
          <p:nvPr/>
        </p:nvSpPr>
        <p:spPr>
          <a:xfrm>
            <a:off x="6789960" y="4800600"/>
            <a:ext cx="4456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336699"/>
                </a:solidFill>
                <a:latin typeface="Symbol"/>
                <a:ea typeface="Symbol"/>
              </a:rPr>
              <a:t></a:t>
            </a:r>
            <a:r>
              <a:rPr b="1" lang="en-US" sz="1300" spc="-1" strike="noStrike">
                <a:solidFill>
                  <a:srgbClr val="336699"/>
                </a:solidFill>
                <a:latin typeface="Verdana"/>
              </a:rPr>
              <a:t>3</a:t>
            </a:r>
            <a:endParaRPr b="0" lang="en-US" sz="1300" spc="-1" strike="noStrike">
              <a:solidFill>
                <a:srgbClr val="336699"/>
              </a:solidFill>
              <a:latin typeface="Verdana"/>
            </a:endParaRPr>
          </a:p>
        </p:txBody>
      </p:sp>
    </p:spTree>
  </p:cSld>
  <p:timing>
    <p:tnLst>
      <p:par>
        <p:cTn id="1263" dur="indefinite" restart="never" nodeType="tmRoot">
          <p:childTnLst>
            <p:seq>
              <p:cTn id="1264" dur="indefinite" nodeType="mainSeq">
                <p:childTnLst>
                  <p:par>
                    <p:cTn id="1265" nodeType="clickEffect" fill="hold">
                      <p:stCondLst>
                        <p:cond delay="0"/>
                      </p:stCondLst>
                      <p:childTnLst>
                        <p:par>
                          <p:cTn id="1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7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0" nodeType="clickEffect" fill="hold">
                      <p:stCondLst>
                        <p:cond delay="indefinite"/>
                      </p:stCondLst>
                      <p:childTnLst>
                        <p:par>
                          <p:cTn id="1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5" nodeType="clickEffect" fill="hold">
                      <p:stCondLst>
                        <p:cond delay="indefinite"/>
                      </p:stCondLst>
                      <p:childTnLst>
                        <p:par>
                          <p:cTn id="1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3" nodeType="clickEffect" fill="hold">
                      <p:stCondLst>
                        <p:cond delay="indefinite"/>
                      </p:stCondLst>
                      <p:childTnLst>
                        <p:par>
                          <p:cTn id="1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7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8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91" dur="80"/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92" dur="80"/>
                                        <p:tgtEl>
                                          <p:spTgt spid="6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93" dur="80"/>
                                        <p:tgtEl>
                                          <p:spTgt spid="6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96" dur="20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99" dur="20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02" dur="20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05" dur="20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08" dur="20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11" dur="20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2" nodeType="clickEffect" fill="hold">
                      <p:stCondLst>
                        <p:cond delay="indefinite"/>
                      </p:stCondLst>
                      <p:childTnLst>
                        <p:par>
                          <p:cTn id="1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6" dur="5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7" nodeType="clickEffect" fill="hold">
                      <p:stCondLst>
                        <p:cond delay="indefinite"/>
                      </p:stCondLst>
                      <p:childTnLst>
                        <p:par>
                          <p:cTn id="1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1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2" nodeType="clickEffect" fill="hold">
                      <p:stCondLst>
                        <p:cond delay="indefinite"/>
                      </p:stCondLst>
                      <p:childTnLst>
                        <p:par>
                          <p:cTn id="1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6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7" nodeType="clickEffect" fill="hold">
                      <p:stCondLst>
                        <p:cond delay="indefinite"/>
                      </p:stCondLst>
                      <p:childTnLst>
                        <p:par>
                          <p:cTn id="1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2" nodeType="clickEffect" fill="hold">
                      <p:stCondLst>
                        <p:cond delay="indefinite"/>
                      </p:stCondLst>
                      <p:childTnLst>
                        <p:par>
                          <p:cTn id="1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36" dur="80"/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37" dur="80"/>
                                        <p:tgtEl>
                                          <p:spTgt spid="6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38" dur="80"/>
                                        <p:tgtEl>
                                          <p:spTgt spid="6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41" dur="20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44" dur="20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47" dur="20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50" dur="20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53" dur="20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56" dur="20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7" nodeType="clickEffect" fill="hold">
                      <p:stCondLst>
                        <p:cond delay="indefinite"/>
                      </p:stCondLst>
                      <p:childTnLst>
                        <p:par>
                          <p:cTn id="1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1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2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4" dur="50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5" dur="50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6" nodeType="clickEffect" fill="hold">
                      <p:stCondLst>
                        <p:cond delay="indefinite"/>
                      </p:stCondLst>
                      <p:childTnLst>
                        <p:par>
                          <p:cTn id="1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0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3" dur="50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4" dur="50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5" nodeType="clickEffect" fill="hold">
                      <p:stCondLst>
                        <p:cond delay="indefinite"/>
                      </p:stCondLst>
                      <p:childTnLst>
                        <p:par>
                          <p:cTn id="1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9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to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FDA7A-0F6E-4E13-9CC8-D8A932FCC39E}" type="datetime">
              <a:rPr b="0" lang="en-US" sz="1200" spc="-1" strike="noStrike">
                <a:solidFill>
                  <a:srgbClr val="898989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69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Verdana"/>
              </a:rPr>
              <a:t>[MA 1124]</a:t>
            </a:r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Verdana"/>
              </a:rPr>
              <a:t>KALKULUS II</a:t>
            </a:r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69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E9F99-F6A0-43F2-9AAA-C0482ED7906F}" type="slidenum">
              <a:rPr b="0" lang="en-US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697" name="Rectangle 4"/>
          <p:cNvSpPr/>
          <p:nvPr/>
        </p:nvSpPr>
        <p:spPr>
          <a:xfrm>
            <a:off x="267840" y="1526760"/>
            <a:ext cx="21380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Arial"/>
                <a:ea typeface="Times New Roman"/>
              </a:rPr>
              <a:t>3.   f(x,y) =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8" name="Object 5"/>
              <p:cNvSpPr txBox="1"/>
              <p:nvPr/>
            </p:nvSpPr>
            <p:spPr>
              <a:xfrm>
                <a:off x="2111400" y="1371600"/>
                <a:ext cx="2536920" cy="71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  <m:r>
                          <m:t xml:space="preserve">−</m:t>
                        </m:r>
                        <m:r>
                          <m:t xml:space="preserve">9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4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99" name="Rectangle 6"/>
          <p:cNvSpPr/>
          <p:nvPr/>
        </p:nvSpPr>
        <p:spPr>
          <a:xfrm>
            <a:off x="267840" y="4006440"/>
            <a:ext cx="21380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Arial"/>
                <a:ea typeface="Times New Roman"/>
              </a:rPr>
              <a:t>4.   f(x,y) =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0" name="Object 7"/>
              <p:cNvSpPr txBox="1"/>
              <p:nvPr/>
            </p:nvSpPr>
            <p:spPr>
              <a:xfrm>
                <a:off x="2057400" y="3930480"/>
                <a:ext cx="1512720" cy="48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701" name="Rectangle 8"/>
          <p:cNvSpPr/>
          <p:nvPr/>
        </p:nvSpPr>
        <p:spPr>
          <a:xfrm>
            <a:off x="1274400" y="2101680"/>
            <a:ext cx="24213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9z</a:t>
            </a:r>
            <a:r>
              <a:rPr b="0" lang="en-US" sz="2100" spc="-1" strike="noStrike" baseline="30000">
                <a:solidFill>
                  <a:srgbClr val="336699"/>
                </a:solidFill>
                <a:latin typeface="Verdana"/>
              </a:rPr>
              <a:t>2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 = 36 – 9x</a:t>
            </a:r>
            <a:r>
              <a:rPr b="0" lang="en-US" sz="2100" spc="-1" strike="noStrike" baseline="30000">
                <a:solidFill>
                  <a:srgbClr val="336699"/>
                </a:solidFill>
                <a:latin typeface="Verdana"/>
              </a:rPr>
              <a:t>2 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– 4y</a:t>
            </a:r>
            <a:r>
              <a:rPr b="0" lang="en-US" sz="2100" spc="-1" strike="noStrike" baseline="30000">
                <a:solidFill>
                  <a:srgbClr val="336699"/>
                </a:solidFill>
                <a:latin typeface="Verdana"/>
              </a:rPr>
              <a:t>2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702" name="Rectangle 9"/>
          <p:cNvSpPr/>
          <p:nvPr/>
        </p:nvSpPr>
        <p:spPr>
          <a:xfrm>
            <a:off x="1305360" y="2558880"/>
            <a:ext cx="24580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9x</a:t>
            </a:r>
            <a:r>
              <a:rPr b="0" lang="en-US" sz="2100" spc="-1" strike="noStrike" baseline="30000">
                <a:solidFill>
                  <a:srgbClr val="336699"/>
                </a:solidFill>
                <a:latin typeface="Verdana"/>
              </a:rPr>
              <a:t>2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 + 4y</a:t>
            </a:r>
            <a:r>
              <a:rPr b="0" lang="en-US" sz="2100" spc="-1" strike="noStrike" baseline="30000">
                <a:solidFill>
                  <a:srgbClr val="336699"/>
                </a:solidFill>
                <a:latin typeface="Verdana"/>
              </a:rPr>
              <a:t>2 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+ 9z</a:t>
            </a:r>
            <a:r>
              <a:rPr b="0" lang="en-US" sz="2100" spc="-1" strike="noStrike" baseline="30000">
                <a:solidFill>
                  <a:srgbClr val="336699"/>
                </a:solidFill>
                <a:latin typeface="Verdana"/>
              </a:rPr>
              <a:t>2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 = 36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3" name="Object 11"/>
              <p:cNvSpPr txBox="1"/>
              <p:nvPr/>
            </p:nvSpPr>
            <p:spPr>
              <a:xfrm>
                <a:off x="1082520" y="2946240"/>
                <a:ext cx="2337120" cy="73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04" name="Text Box 12"/>
          <p:cNvSpPr/>
          <p:nvPr/>
        </p:nvSpPr>
        <p:spPr>
          <a:xfrm>
            <a:off x="3557880" y="3117960"/>
            <a:ext cx="13024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Elipsoida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grpSp>
        <p:nvGrpSpPr>
          <p:cNvPr id="705" name="Group 49"/>
          <p:cNvGrpSpPr/>
          <p:nvPr/>
        </p:nvGrpSpPr>
        <p:grpSpPr>
          <a:xfrm>
            <a:off x="4876920" y="1473120"/>
            <a:ext cx="3730680" cy="2463840"/>
            <a:chOff x="4876920" y="1473120"/>
            <a:chExt cx="3730680" cy="2463840"/>
          </a:xfrm>
        </p:grpSpPr>
        <p:sp>
          <p:nvSpPr>
            <p:cNvPr id="706" name="Line 16"/>
            <p:cNvSpPr/>
            <p:nvPr/>
          </p:nvSpPr>
          <p:spPr>
            <a:xfrm flipH="1">
              <a:off x="5486400" y="2109960"/>
              <a:ext cx="2006640" cy="13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336699"/>
                </a:solidFill>
                <a:latin typeface="Verdana"/>
              </a:endParaRPr>
            </a:p>
          </p:txBody>
        </p:sp>
        <p:grpSp>
          <p:nvGrpSpPr>
            <p:cNvPr id="707" name="Group 48"/>
            <p:cNvGrpSpPr/>
            <p:nvPr/>
          </p:nvGrpSpPr>
          <p:grpSpPr>
            <a:xfrm>
              <a:off x="4876920" y="1473120"/>
              <a:ext cx="3730680" cy="2463840"/>
              <a:chOff x="4876920" y="1473120"/>
              <a:chExt cx="3730680" cy="2463840"/>
            </a:xfrm>
          </p:grpSpPr>
          <p:sp>
            <p:nvSpPr>
              <p:cNvPr id="708" name="Line 14"/>
              <p:cNvSpPr/>
              <p:nvPr/>
            </p:nvSpPr>
            <p:spPr>
              <a:xfrm flipV="1">
                <a:off x="6373800" y="1523880"/>
                <a:ext cx="0" cy="2059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100" spc="-1" strike="noStrike">
                  <a:solidFill>
                    <a:srgbClr val="336699"/>
                  </a:solidFill>
                  <a:latin typeface="Verdana"/>
                </a:endParaRPr>
              </a:p>
            </p:txBody>
          </p:sp>
          <p:sp>
            <p:nvSpPr>
              <p:cNvPr id="709" name="Line 15"/>
              <p:cNvSpPr/>
              <p:nvPr/>
            </p:nvSpPr>
            <p:spPr>
              <a:xfrm>
                <a:off x="4876920" y="2867040"/>
                <a:ext cx="3243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100" spc="-1" strike="noStrike">
                  <a:solidFill>
                    <a:srgbClr val="336699"/>
                  </a:solidFill>
                  <a:latin typeface="Verdana"/>
                </a:endParaRPr>
              </a:p>
            </p:txBody>
          </p:sp>
          <p:sp>
            <p:nvSpPr>
              <p:cNvPr id="710" name="Text Box 17"/>
              <p:cNvSpPr/>
              <p:nvPr/>
            </p:nvSpPr>
            <p:spPr>
              <a:xfrm>
                <a:off x="6022800" y="1473120"/>
                <a:ext cx="682920" cy="58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6699"/>
                    </a:solidFill>
                    <a:latin typeface="Verdana"/>
                  </a:rPr>
                  <a:t>Z</a:t>
                </a:r>
                <a:endParaRPr b="0" lang="en-US" sz="1200" spc="-1" strike="noStrike">
                  <a:solidFill>
                    <a:srgbClr val="336699"/>
                  </a:solidFill>
                  <a:latin typeface="Verdana"/>
                </a:endParaRPr>
              </a:p>
            </p:txBody>
          </p:sp>
          <p:sp>
            <p:nvSpPr>
              <p:cNvPr id="711" name="Text Box 18"/>
              <p:cNvSpPr/>
              <p:nvPr/>
            </p:nvSpPr>
            <p:spPr>
              <a:xfrm>
                <a:off x="5413320" y="3352680"/>
                <a:ext cx="682560" cy="58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6699"/>
                    </a:solidFill>
                    <a:latin typeface="Verdana"/>
                  </a:rPr>
                  <a:t> </a:t>
                </a:r>
                <a:r>
                  <a:rPr b="1" lang="en-US" sz="1100" spc="-1" strike="noStrike">
                    <a:solidFill>
                      <a:srgbClr val="336699"/>
                    </a:solidFill>
                    <a:latin typeface="Verdana"/>
                  </a:rPr>
                  <a:t>x</a:t>
                </a:r>
                <a:endParaRPr b="0" lang="en-US" sz="1100" spc="-1" strike="noStrike">
                  <a:solidFill>
                    <a:srgbClr val="336699"/>
                  </a:solidFill>
                  <a:latin typeface="Verdana"/>
                </a:endParaRPr>
              </a:p>
            </p:txBody>
          </p:sp>
          <p:sp>
            <p:nvSpPr>
              <p:cNvPr id="712" name="Text Box 19"/>
              <p:cNvSpPr/>
              <p:nvPr/>
            </p:nvSpPr>
            <p:spPr>
              <a:xfrm>
                <a:off x="7924680" y="2844720"/>
                <a:ext cx="682920" cy="58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6699"/>
                    </a:solidFill>
                    <a:latin typeface="Verdana"/>
                  </a:rPr>
                  <a:t> </a:t>
                </a:r>
                <a:r>
                  <a:rPr b="1" lang="en-US" sz="1200" spc="-1" strike="noStrike">
                    <a:solidFill>
                      <a:srgbClr val="336699"/>
                    </a:solidFill>
                    <a:latin typeface="Verdana"/>
                  </a:rPr>
                  <a:t>y</a:t>
                </a:r>
                <a:endParaRPr b="0" lang="en-US" sz="1200" spc="-1" strike="noStrike">
                  <a:solidFill>
                    <a:srgbClr val="336699"/>
                  </a:solidFill>
                  <a:latin typeface="Verdana"/>
                </a:endParaRPr>
              </a:p>
            </p:txBody>
          </p:sp>
        </p:grpSp>
      </p:grpSp>
      <p:sp>
        <p:nvSpPr>
          <p:cNvPr id="713" name="Oval 21"/>
          <p:cNvSpPr/>
          <p:nvPr/>
        </p:nvSpPr>
        <p:spPr>
          <a:xfrm>
            <a:off x="5283360" y="2573280"/>
            <a:ext cx="2219040" cy="5828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714" name="Freeform 24"/>
          <p:cNvSpPr/>
          <p:nvPr/>
        </p:nvSpPr>
        <p:spPr>
          <a:xfrm>
            <a:off x="5249880" y="2130480"/>
            <a:ext cx="2254320" cy="753840"/>
          </a:xfrm>
          <a:custGeom>
            <a:avLst/>
            <a:gdLst>
              <a:gd name="textAreaLeft" fmla="*/ 0 w 2254320"/>
              <a:gd name="textAreaRight" fmla="*/ 2254680 w 2254320"/>
              <a:gd name="textAreaTop" fmla="*/ 0 h 753840"/>
              <a:gd name="textAreaBottom" fmla="*/ 754200 h 753840"/>
            </a:gdLst>
            <a:ahLst/>
            <a:rect l="textAreaLeft" t="textAreaTop" r="textAreaRight" b="textAreaBottom"/>
            <a:pathLst>
              <a:path w="1420" h="475">
                <a:moveTo>
                  <a:pt x="0" y="475"/>
                </a:moveTo>
                <a:cubicBezTo>
                  <a:pt x="40" y="420"/>
                  <a:pt x="117" y="227"/>
                  <a:pt x="238" y="148"/>
                </a:cubicBezTo>
                <a:cubicBezTo>
                  <a:pt x="359" y="69"/>
                  <a:pt x="561" y="0"/>
                  <a:pt x="725" y="2"/>
                </a:cubicBezTo>
                <a:cubicBezTo>
                  <a:pt x="889" y="4"/>
                  <a:pt x="1106" y="82"/>
                  <a:pt x="1222" y="158"/>
                </a:cubicBezTo>
                <a:cubicBezTo>
                  <a:pt x="1338" y="234"/>
                  <a:pt x="1379" y="394"/>
                  <a:pt x="1420" y="456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715" name="Freeform 26"/>
          <p:cNvSpPr/>
          <p:nvPr/>
        </p:nvSpPr>
        <p:spPr>
          <a:xfrm>
            <a:off x="5888160" y="2133720"/>
            <a:ext cx="893520" cy="990360"/>
          </a:xfrm>
          <a:custGeom>
            <a:avLst/>
            <a:gdLst>
              <a:gd name="textAreaLeft" fmla="*/ 0 w 893520"/>
              <a:gd name="textAreaRight" fmla="*/ 893880 w 893520"/>
              <a:gd name="textAreaTop" fmla="*/ 0 h 990360"/>
              <a:gd name="textAreaBottom" fmla="*/ 990720 h 990360"/>
            </a:gdLst>
            <a:ahLst/>
            <a:rect l="textAreaLeft" t="textAreaTop" r="textAreaRight" b="textAreaBottom"/>
            <a:pathLst>
              <a:path w="563" h="624">
                <a:moveTo>
                  <a:pt x="35" y="624"/>
                </a:moveTo>
                <a:cubicBezTo>
                  <a:pt x="30" y="592"/>
                  <a:pt x="0" y="507"/>
                  <a:pt x="5" y="434"/>
                </a:cubicBezTo>
                <a:cubicBezTo>
                  <a:pt x="10" y="361"/>
                  <a:pt x="36" y="249"/>
                  <a:pt x="65" y="185"/>
                </a:cubicBezTo>
                <a:cubicBezTo>
                  <a:pt x="94" y="121"/>
                  <a:pt x="136" y="79"/>
                  <a:pt x="179" y="48"/>
                </a:cubicBezTo>
                <a:cubicBezTo>
                  <a:pt x="222" y="17"/>
                  <a:pt x="283" y="0"/>
                  <a:pt x="323" y="0"/>
                </a:cubicBezTo>
                <a:cubicBezTo>
                  <a:pt x="363" y="0"/>
                  <a:pt x="388" y="19"/>
                  <a:pt x="419" y="48"/>
                </a:cubicBezTo>
                <a:cubicBezTo>
                  <a:pt x="450" y="77"/>
                  <a:pt x="488" y="135"/>
                  <a:pt x="512" y="175"/>
                </a:cubicBezTo>
                <a:cubicBezTo>
                  <a:pt x="536" y="215"/>
                  <a:pt x="553" y="264"/>
                  <a:pt x="563" y="288"/>
                </a:cubicBezTo>
              </a:path>
            </a:pathLst>
          </a:custGeom>
          <a:noFill/>
          <a:ln w="12600">
            <a:solidFill>
              <a:srgbClr val="000000"/>
            </a:solidFill>
            <a:prstDash val="dash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716" name="Rectangle 27"/>
          <p:cNvSpPr/>
          <p:nvPr/>
        </p:nvSpPr>
        <p:spPr>
          <a:xfrm>
            <a:off x="1356480" y="4518000"/>
            <a:ext cx="18237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z</a:t>
            </a:r>
            <a:r>
              <a:rPr b="0" lang="en-US" sz="2100" spc="-1" strike="noStrike" baseline="30000">
                <a:solidFill>
                  <a:srgbClr val="336699"/>
                </a:solidFill>
                <a:latin typeface="Verdana"/>
              </a:rPr>
              <a:t>2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 = 16 –x</a:t>
            </a:r>
            <a:r>
              <a:rPr b="0" lang="en-US" sz="2100" spc="-1" strike="noStrike" baseline="30000">
                <a:solidFill>
                  <a:srgbClr val="336699"/>
                </a:solidFill>
                <a:latin typeface="Verdana"/>
              </a:rPr>
              <a:t>2 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–y</a:t>
            </a:r>
            <a:r>
              <a:rPr b="0" lang="en-US" sz="2100" spc="-1" strike="noStrike" baseline="30000">
                <a:solidFill>
                  <a:srgbClr val="336699"/>
                </a:solidFill>
                <a:latin typeface="Verdana"/>
              </a:rPr>
              <a:t>2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717" name="Rectangle 28"/>
          <p:cNvSpPr/>
          <p:nvPr/>
        </p:nvSpPr>
        <p:spPr>
          <a:xfrm>
            <a:off x="1315440" y="4975200"/>
            <a:ext cx="20008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x</a:t>
            </a:r>
            <a:r>
              <a:rPr b="0" lang="en-US" sz="2100" spc="-1" strike="noStrike" baseline="30000">
                <a:solidFill>
                  <a:srgbClr val="336699"/>
                </a:solidFill>
                <a:latin typeface="Verdana"/>
              </a:rPr>
              <a:t>2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 + y</a:t>
            </a:r>
            <a:r>
              <a:rPr b="0" lang="en-US" sz="2100" spc="-1" strike="noStrike" baseline="30000">
                <a:solidFill>
                  <a:srgbClr val="336699"/>
                </a:solidFill>
                <a:latin typeface="Verdana"/>
              </a:rPr>
              <a:t>2 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+ z</a:t>
            </a:r>
            <a:r>
              <a:rPr b="0" lang="en-US" sz="2100" spc="-1" strike="noStrike" baseline="30000">
                <a:solidFill>
                  <a:srgbClr val="336699"/>
                </a:solidFill>
                <a:latin typeface="Verdana"/>
              </a:rPr>
              <a:t>2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 = 16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718" name="Text Box 30"/>
          <p:cNvSpPr/>
          <p:nvPr/>
        </p:nvSpPr>
        <p:spPr>
          <a:xfrm>
            <a:off x="1157040" y="5533920"/>
            <a:ext cx="7340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Bola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719" name="Text Box 31"/>
          <p:cNvSpPr/>
          <p:nvPr/>
        </p:nvSpPr>
        <p:spPr>
          <a:xfrm>
            <a:off x="7467480" y="2819520"/>
            <a:ext cx="2905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336699"/>
                </a:solidFill>
                <a:latin typeface="Verdana"/>
              </a:rPr>
              <a:t>3</a:t>
            </a:r>
            <a:endParaRPr b="0" lang="en-US" sz="15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720" name="Text Box 32"/>
          <p:cNvSpPr/>
          <p:nvPr/>
        </p:nvSpPr>
        <p:spPr>
          <a:xfrm>
            <a:off x="5805360" y="3184560"/>
            <a:ext cx="2905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336699"/>
                </a:solidFill>
                <a:latin typeface="Verdana"/>
              </a:rPr>
              <a:t>2</a:t>
            </a:r>
            <a:endParaRPr b="0" lang="en-US" sz="15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721" name="Text Box 33"/>
          <p:cNvSpPr/>
          <p:nvPr/>
        </p:nvSpPr>
        <p:spPr>
          <a:xfrm>
            <a:off x="6338880" y="1828800"/>
            <a:ext cx="2905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336699"/>
                </a:solidFill>
                <a:latin typeface="Verdana"/>
              </a:rPr>
              <a:t>2</a:t>
            </a:r>
            <a:endParaRPr b="0" lang="en-US" sz="15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722" name="Oval 40"/>
          <p:cNvSpPr/>
          <p:nvPr/>
        </p:nvSpPr>
        <p:spPr>
          <a:xfrm>
            <a:off x="5130720" y="4876920"/>
            <a:ext cx="2219400" cy="6728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723" name="Freeform 41"/>
          <p:cNvSpPr/>
          <p:nvPr/>
        </p:nvSpPr>
        <p:spPr>
          <a:xfrm>
            <a:off x="5097600" y="4267080"/>
            <a:ext cx="2253960" cy="979560"/>
          </a:xfrm>
          <a:custGeom>
            <a:avLst/>
            <a:gdLst>
              <a:gd name="textAreaLeft" fmla="*/ 0 w 2253960"/>
              <a:gd name="textAreaRight" fmla="*/ 2254320 w 2253960"/>
              <a:gd name="textAreaTop" fmla="*/ 0 h 979560"/>
              <a:gd name="textAreaBottom" fmla="*/ 979920 h 979560"/>
            </a:gdLst>
            <a:ahLst/>
            <a:rect l="textAreaLeft" t="textAreaTop" r="textAreaRight" b="textAreaBottom"/>
            <a:pathLst>
              <a:path w="1420" h="475">
                <a:moveTo>
                  <a:pt x="0" y="475"/>
                </a:moveTo>
                <a:cubicBezTo>
                  <a:pt x="40" y="420"/>
                  <a:pt x="117" y="227"/>
                  <a:pt x="238" y="148"/>
                </a:cubicBezTo>
                <a:cubicBezTo>
                  <a:pt x="359" y="69"/>
                  <a:pt x="561" y="0"/>
                  <a:pt x="725" y="2"/>
                </a:cubicBezTo>
                <a:cubicBezTo>
                  <a:pt x="889" y="4"/>
                  <a:pt x="1106" y="82"/>
                  <a:pt x="1222" y="158"/>
                </a:cubicBezTo>
                <a:cubicBezTo>
                  <a:pt x="1338" y="234"/>
                  <a:pt x="1379" y="394"/>
                  <a:pt x="1420" y="456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724" name="Freeform 42"/>
          <p:cNvSpPr/>
          <p:nvPr/>
        </p:nvSpPr>
        <p:spPr>
          <a:xfrm>
            <a:off x="5735520" y="4267080"/>
            <a:ext cx="970200" cy="1219320"/>
          </a:xfrm>
          <a:custGeom>
            <a:avLst/>
            <a:gdLst>
              <a:gd name="textAreaLeft" fmla="*/ 0 w 970200"/>
              <a:gd name="textAreaRight" fmla="*/ 970560 w 970200"/>
              <a:gd name="textAreaTop" fmla="*/ 0 h 1219320"/>
              <a:gd name="textAreaBottom" fmla="*/ 1219680 h 1219320"/>
            </a:gdLst>
            <a:ahLst/>
            <a:rect l="textAreaLeft" t="textAreaTop" r="textAreaRight" b="textAreaBottom"/>
            <a:pathLst>
              <a:path w="563" h="624">
                <a:moveTo>
                  <a:pt x="35" y="624"/>
                </a:moveTo>
                <a:cubicBezTo>
                  <a:pt x="30" y="592"/>
                  <a:pt x="0" y="507"/>
                  <a:pt x="5" y="434"/>
                </a:cubicBezTo>
                <a:cubicBezTo>
                  <a:pt x="10" y="361"/>
                  <a:pt x="36" y="249"/>
                  <a:pt x="65" y="185"/>
                </a:cubicBezTo>
                <a:cubicBezTo>
                  <a:pt x="94" y="121"/>
                  <a:pt x="136" y="79"/>
                  <a:pt x="179" y="48"/>
                </a:cubicBezTo>
                <a:cubicBezTo>
                  <a:pt x="222" y="17"/>
                  <a:pt x="283" y="0"/>
                  <a:pt x="323" y="0"/>
                </a:cubicBezTo>
                <a:cubicBezTo>
                  <a:pt x="363" y="0"/>
                  <a:pt x="388" y="19"/>
                  <a:pt x="419" y="48"/>
                </a:cubicBezTo>
                <a:cubicBezTo>
                  <a:pt x="450" y="77"/>
                  <a:pt x="488" y="135"/>
                  <a:pt x="512" y="175"/>
                </a:cubicBezTo>
                <a:cubicBezTo>
                  <a:pt x="536" y="215"/>
                  <a:pt x="553" y="264"/>
                  <a:pt x="563" y="288"/>
                </a:cubicBezTo>
              </a:path>
            </a:pathLst>
          </a:custGeom>
          <a:noFill/>
          <a:ln w="12600">
            <a:solidFill>
              <a:srgbClr val="000000"/>
            </a:solidFill>
            <a:prstDash val="dash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725" name="Text Box 43"/>
          <p:cNvSpPr/>
          <p:nvPr/>
        </p:nvSpPr>
        <p:spPr>
          <a:xfrm>
            <a:off x="7315200" y="5181480"/>
            <a:ext cx="2905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336699"/>
                </a:solidFill>
                <a:latin typeface="Verdana"/>
              </a:rPr>
              <a:t>2</a:t>
            </a:r>
            <a:endParaRPr b="0" lang="en-US" sz="15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726" name="Text Box 44"/>
          <p:cNvSpPr/>
          <p:nvPr/>
        </p:nvSpPr>
        <p:spPr>
          <a:xfrm>
            <a:off x="5653080" y="5546880"/>
            <a:ext cx="2905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336699"/>
                </a:solidFill>
                <a:latin typeface="Verdana"/>
              </a:rPr>
              <a:t>2</a:t>
            </a:r>
            <a:endParaRPr b="0" lang="en-US" sz="1500" spc="-1" strike="noStrike">
              <a:solidFill>
                <a:srgbClr val="336699"/>
              </a:solidFill>
              <a:latin typeface="Verdana"/>
            </a:endParaRPr>
          </a:p>
        </p:txBody>
      </p:sp>
      <p:grpSp>
        <p:nvGrpSpPr>
          <p:cNvPr id="727" name="Group 47"/>
          <p:cNvGrpSpPr/>
          <p:nvPr/>
        </p:nvGrpSpPr>
        <p:grpSpPr>
          <a:xfrm>
            <a:off x="4724280" y="3809880"/>
            <a:ext cx="3730680" cy="2489400"/>
            <a:chOff x="4724280" y="3809880"/>
            <a:chExt cx="3730680" cy="2489400"/>
          </a:xfrm>
        </p:grpSpPr>
        <p:sp>
          <p:nvSpPr>
            <p:cNvPr id="728" name="Text Box 37"/>
            <p:cNvSpPr/>
            <p:nvPr/>
          </p:nvSpPr>
          <p:spPr>
            <a:xfrm>
              <a:off x="5943600" y="3809880"/>
              <a:ext cx="682560" cy="58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6699"/>
                  </a:solidFill>
                  <a:latin typeface="Verdana"/>
                </a:rPr>
                <a:t>Z</a:t>
              </a:r>
              <a:endParaRPr b="0" lang="en-US" sz="1200" spc="-1" strike="noStrike">
                <a:solidFill>
                  <a:srgbClr val="336699"/>
                </a:solidFill>
                <a:latin typeface="Verdana"/>
              </a:endParaRPr>
            </a:p>
          </p:txBody>
        </p:sp>
        <p:sp>
          <p:nvSpPr>
            <p:cNvPr id="729" name="Line 34"/>
            <p:cNvSpPr/>
            <p:nvPr/>
          </p:nvSpPr>
          <p:spPr>
            <a:xfrm flipV="1">
              <a:off x="6221520" y="3884400"/>
              <a:ext cx="0" cy="198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336699"/>
                </a:solidFill>
                <a:latin typeface="Verdana"/>
              </a:endParaRPr>
            </a:p>
          </p:txBody>
        </p:sp>
        <p:sp>
          <p:nvSpPr>
            <p:cNvPr id="730" name="Line 35"/>
            <p:cNvSpPr/>
            <p:nvPr/>
          </p:nvSpPr>
          <p:spPr>
            <a:xfrm>
              <a:off x="4724280" y="5229360"/>
              <a:ext cx="3243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336699"/>
                </a:solidFill>
                <a:latin typeface="Verdana"/>
              </a:endParaRPr>
            </a:p>
          </p:txBody>
        </p:sp>
        <p:sp>
          <p:nvSpPr>
            <p:cNvPr id="731" name="Line 36"/>
            <p:cNvSpPr/>
            <p:nvPr/>
          </p:nvSpPr>
          <p:spPr>
            <a:xfrm flipH="1">
              <a:off x="5334120" y="4471200"/>
              <a:ext cx="2006640" cy="1319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336699"/>
                </a:solidFill>
                <a:latin typeface="Verdana"/>
              </a:endParaRPr>
            </a:p>
          </p:txBody>
        </p:sp>
        <p:sp>
          <p:nvSpPr>
            <p:cNvPr id="732" name="Text Box 38"/>
            <p:cNvSpPr/>
            <p:nvPr/>
          </p:nvSpPr>
          <p:spPr>
            <a:xfrm>
              <a:off x="5261040" y="5715000"/>
              <a:ext cx="682560" cy="58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6699"/>
                  </a:solidFill>
                  <a:latin typeface="Verdana"/>
                </a:rPr>
                <a:t> </a:t>
              </a:r>
              <a:r>
                <a:rPr b="1" lang="en-US" sz="1100" spc="-1" strike="noStrike">
                  <a:solidFill>
                    <a:srgbClr val="336699"/>
                  </a:solidFill>
                  <a:latin typeface="Verdana"/>
                </a:rPr>
                <a:t>x</a:t>
              </a:r>
              <a:endParaRPr b="0" lang="en-US" sz="1100" spc="-1" strike="noStrike">
                <a:solidFill>
                  <a:srgbClr val="336699"/>
                </a:solidFill>
                <a:latin typeface="Verdana"/>
              </a:endParaRPr>
            </a:p>
          </p:txBody>
        </p:sp>
        <p:sp>
          <p:nvSpPr>
            <p:cNvPr id="733" name="Text Box 39"/>
            <p:cNvSpPr/>
            <p:nvPr/>
          </p:nvSpPr>
          <p:spPr>
            <a:xfrm>
              <a:off x="7772400" y="5207040"/>
              <a:ext cx="682560" cy="58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6699"/>
                  </a:solidFill>
                  <a:latin typeface="Verdana"/>
                </a:rPr>
                <a:t> </a:t>
              </a:r>
              <a:r>
                <a:rPr b="1" lang="en-US" sz="1200" spc="-1" strike="noStrike">
                  <a:solidFill>
                    <a:srgbClr val="336699"/>
                  </a:solidFill>
                  <a:latin typeface="Verdana"/>
                </a:rPr>
                <a:t>y</a:t>
              </a:r>
              <a:endParaRPr b="0" lang="en-US" sz="1200" spc="-1" strike="noStrike">
                <a:solidFill>
                  <a:srgbClr val="336699"/>
                </a:solidFill>
                <a:latin typeface="Verdana"/>
              </a:endParaRPr>
            </a:p>
          </p:txBody>
        </p:sp>
      </p:grpSp>
      <p:sp>
        <p:nvSpPr>
          <p:cNvPr id="734" name="Text Box 45"/>
          <p:cNvSpPr/>
          <p:nvPr/>
        </p:nvSpPr>
        <p:spPr>
          <a:xfrm>
            <a:off x="6186240" y="3962520"/>
            <a:ext cx="2905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336699"/>
                </a:solidFill>
                <a:latin typeface="Verdana"/>
              </a:rPr>
              <a:t>2</a:t>
            </a:r>
            <a:endParaRPr b="0" lang="en-US" sz="1500" spc="-1" strike="noStrike">
              <a:solidFill>
                <a:srgbClr val="336699"/>
              </a:solidFill>
              <a:latin typeface="Verdana"/>
            </a:endParaRPr>
          </a:p>
        </p:txBody>
      </p:sp>
    </p:spTree>
  </p:cSld>
  <p:timing>
    <p:tnLst>
      <p:par>
        <p:cTn id="1380" dur="indefinite" restart="never" nodeType="tmRoot">
          <p:childTnLst>
            <p:seq>
              <p:cTn id="1381" dur="indefinite" nodeType="mainSeq">
                <p:childTnLst>
                  <p:par>
                    <p:cTn id="1382" nodeType="clickEffect" fill="hold">
                      <p:stCondLst>
                        <p:cond delay="indefinite"/>
                      </p:stCondLst>
                      <p:childTnLst>
                        <p:par>
                          <p:cTn id="1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6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9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0" nodeType="clickEffect" fill="hold">
                      <p:stCondLst>
                        <p:cond delay="indefinite"/>
                      </p:stCondLst>
                      <p:childTnLst>
                        <p:par>
                          <p:cTn id="1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4" dur="5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7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8" nodeType="clickEffect" fill="hold">
                      <p:stCondLst>
                        <p:cond delay="indefinite"/>
                      </p:stCondLst>
                      <p:childTnLst>
                        <p:par>
                          <p:cTn id="1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2" dur="10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3" dur="10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4" dur="10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5" dur="10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09" dur="80"/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10" dur="80"/>
                                        <p:tgtEl>
                                          <p:spTgt spid="7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11" dur="80"/>
                                        <p:tgtEl>
                                          <p:spTgt spid="7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14" dur="20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5" nodeType="clickEffect" fill="hold">
                      <p:stCondLst>
                        <p:cond delay="indefinite"/>
                      </p:stCondLst>
                      <p:childTnLst>
                        <p:par>
                          <p:cTn id="1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9" dur="5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0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2" dur="50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3" dur="50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4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6" dur="50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7" dur="50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8" nodeType="clickEffect" fill="hold">
                      <p:stCondLst>
                        <p:cond delay="indefinite"/>
                      </p:stCondLst>
                      <p:childTnLst>
                        <p:par>
                          <p:cTn id="1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2" dur="5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3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5" dur="50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6" dur="50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7" nodeType="clickEffect" fill="hold">
                      <p:stCondLst>
                        <p:cond delay="indefinite"/>
                      </p:stCondLst>
                      <p:childTnLst>
                        <p:par>
                          <p:cTn id="1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1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2" nodeType="clickEffect" fill="hold">
                      <p:stCondLst>
                        <p:cond delay="indefinite"/>
                      </p:stCondLst>
                      <p:childTnLst>
                        <p:par>
                          <p:cTn id="1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6" dur="10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9" dur="10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0" nodeType="clickEffect" fill="hold">
                      <p:stCondLst>
                        <p:cond delay="indefinite"/>
                      </p:stCondLst>
                      <p:childTnLst>
                        <p:par>
                          <p:cTn id="1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54" dur="80"/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55" dur="80"/>
                                        <p:tgtEl>
                                          <p:spTgt spid="7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56" dur="80"/>
                                        <p:tgtEl>
                                          <p:spTgt spid="7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7" nodeType="clickEffect" fill="hold">
                      <p:stCondLst>
                        <p:cond delay="indefinite"/>
                      </p:stCondLst>
                      <p:childTnLst>
                        <p:par>
                          <p:cTn id="1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1" dur="20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2" dur="20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3" dur="20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4" dur="20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67" dur="80"/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68" dur="80"/>
                                        <p:tgtEl>
                                          <p:spTgt spid="7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69" dur="80"/>
                                        <p:tgtEl>
                                          <p:spTgt spid="7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72" dur="20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3" nodeType="clickEffect" fill="hold">
                      <p:stCondLst>
                        <p:cond delay="indefinite"/>
                      </p:stCondLst>
                      <p:childTnLst>
                        <p:par>
                          <p:cTn id="1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7" dur="5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8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0" dur="50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1" dur="50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2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4" dur="50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5" dur="50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6" nodeType="clickEffect" fill="hold">
                      <p:stCondLst>
                        <p:cond delay="indefinite"/>
                      </p:stCondLst>
                      <p:childTnLst>
                        <p:par>
                          <p:cTn id="1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0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1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3" dur="50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4" dur="50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5" nodeType="clickEffect" fill="hold">
                      <p:stCondLst>
                        <p:cond delay="indefinite"/>
                      </p:stCondLst>
                      <p:childTnLst>
                        <p:par>
                          <p:cTn id="1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9" dur="5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Kurva Ketinggia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"/>
          <p:cNvSpPr txBox="1"/>
          <p:nvPr/>
        </p:nvSpPr>
        <p:spPr>
          <a:xfrm>
            <a:off x="304560" y="1447920"/>
            <a:ext cx="845820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z = f(x,y) </a:t>
            </a:r>
            <a:r>
              <a:rPr b="0" lang="en-US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z = k adalah kurva ketinggian. Jadi Kurva ketinggian adalah proyeksi perpotongan grafik z = f(x,y) dengan bidang z =k pada bidang XOY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ontoh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ambarkan kurva ketinggian z = k dar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966960" indent="-49536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(x,y) = x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+ 2y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alibri"/>
              </a:rPr>
              <a:t>2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, k = 0, 1, 2, 4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966960" indent="-49536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(x,y) = 2x – y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alibri"/>
              </a:rPr>
              <a:t>2 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, k = -2, 0, 2, 4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5DD1A-6AAA-48AB-A069-9B4C61124E19}" type="datetime">
              <a:rPr b="0" lang="en-US" sz="1200" spc="-1" strike="noStrike">
                <a:solidFill>
                  <a:srgbClr val="898989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738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Verdana"/>
              </a:rPr>
              <a:t>[MA 1124]</a:t>
            </a:r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Verdana"/>
              </a:rPr>
              <a:t>KALKULUS II</a:t>
            </a:r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73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65B02-DD51-4182-9E48-FEBE99888E7C}" type="slidenum">
              <a:rPr b="0" lang="en-US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toh (Jawab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A4A08-5A5D-419D-AB55-56F348F21E8F}" type="datetime">
              <a:rPr b="0" lang="en-US" sz="1200" spc="-1" strike="noStrike">
                <a:solidFill>
                  <a:srgbClr val="898989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742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Verdana"/>
              </a:rPr>
              <a:t>[MA 1124]</a:t>
            </a:r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Verdana"/>
              </a:rPr>
              <a:t>KALKULUS II</a:t>
            </a:r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74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BCC25-86B1-4E9F-9AC7-169CA50536A0}" type="slidenum">
              <a:rPr b="0" lang="en-US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744" name="Rectangle 4"/>
          <p:cNvSpPr/>
          <p:nvPr/>
        </p:nvSpPr>
        <p:spPr>
          <a:xfrm>
            <a:off x="814680" y="1447920"/>
            <a:ext cx="40428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 indent="-34272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f(x,y) = x</a:t>
            </a:r>
            <a:r>
              <a:rPr b="0" lang="en-US" sz="2100" spc="-1" strike="noStrike" baseline="30000">
                <a:solidFill>
                  <a:srgbClr val="336699"/>
                </a:solidFill>
                <a:latin typeface="Verdana"/>
              </a:rPr>
              <a:t>2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+ 2y</a:t>
            </a:r>
            <a:r>
              <a:rPr b="0" lang="en-US" sz="2100" spc="-1" strike="noStrike" baseline="30000">
                <a:solidFill>
                  <a:srgbClr val="336699"/>
                </a:solidFill>
                <a:latin typeface="Verdana"/>
              </a:rPr>
              <a:t>2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 , k = 0, 1, 2, 4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745" name="Text Box 5"/>
          <p:cNvSpPr/>
          <p:nvPr/>
        </p:nvSpPr>
        <p:spPr>
          <a:xfrm>
            <a:off x="939960" y="1898640"/>
            <a:ext cx="15994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Untuk k = 0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746" name="Text Box 6"/>
          <p:cNvSpPr/>
          <p:nvPr/>
        </p:nvSpPr>
        <p:spPr>
          <a:xfrm>
            <a:off x="2577240" y="1841400"/>
            <a:ext cx="54936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6699"/>
                </a:solidFill>
                <a:latin typeface="Wingdings"/>
                <a:ea typeface="Wingdings"/>
              </a:rPr>
              <a:t></a:t>
            </a:r>
            <a:endParaRPr b="0" lang="en-US" sz="29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747" name="Text Box 7"/>
          <p:cNvSpPr/>
          <p:nvPr/>
        </p:nvSpPr>
        <p:spPr>
          <a:xfrm>
            <a:off x="3300120" y="1898640"/>
            <a:ext cx="146412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x</a:t>
            </a:r>
            <a:r>
              <a:rPr b="0" lang="en-US" sz="2100" spc="-1" strike="noStrike" baseline="30000">
                <a:solidFill>
                  <a:srgbClr val="336699"/>
                </a:solidFill>
                <a:latin typeface="Verdana"/>
              </a:rPr>
              <a:t>2 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+2 y</a:t>
            </a:r>
            <a:r>
              <a:rPr b="0" lang="en-US" sz="2100" spc="-1" strike="noStrike" baseline="30000">
                <a:solidFill>
                  <a:srgbClr val="336699"/>
                </a:solidFill>
                <a:latin typeface="Verdana"/>
              </a:rPr>
              <a:t>2 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= 0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748" name="Text Box 8"/>
          <p:cNvSpPr/>
          <p:nvPr/>
        </p:nvSpPr>
        <p:spPr>
          <a:xfrm>
            <a:off x="3358800" y="2279520"/>
            <a:ext cx="14896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x = 0, y = 0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749" name="Text Box 9"/>
          <p:cNvSpPr/>
          <p:nvPr/>
        </p:nvSpPr>
        <p:spPr>
          <a:xfrm>
            <a:off x="5031720" y="2209680"/>
            <a:ext cx="54936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6699"/>
                </a:solidFill>
                <a:latin typeface="Wingdings"/>
                <a:ea typeface="Wingdings"/>
              </a:rPr>
              <a:t></a:t>
            </a:r>
            <a:endParaRPr b="0" lang="en-US" sz="29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750" name="Text Box 10"/>
          <p:cNvSpPr/>
          <p:nvPr/>
        </p:nvSpPr>
        <p:spPr>
          <a:xfrm>
            <a:off x="5697720" y="2266920"/>
            <a:ext cx="13298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titik (0, 0)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751" name="Text Box 11"/>
          <p:cNvSpPr/>
          <p:nvPr/>
        </p:nvSpPr>
        <p:spPr>
          <a:xfrm>
            <a:off x="939960" y="2724120"/>
            <a:ext cx="15994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Untuk k = 1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752" name="Text Box 12"/>
          <p:cNvSpPr/>
          <p:nvPr/>
        </p:nvSpPr>
        <p:spPr>
          <a:xfrm>
            <a:off x="2577240" y="2666880"/>
            <a:ext cx="54936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6699"/>
                </a:solidFill>
                <a:latin typeface="Wingdings"/>
                <a:ea typeface="Wingdings"/>
              </a:rPr>
              <a:t></a:t>
            </a:r>
            <a:endParaRPr b="0" lang="en-US" sz="29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753" name="Text Box 13"/>
          <p:cNvSpPr/>
          <p:nvPr/>
        </p:nvSpPr>
        <p:spPr>
          <a:xfrm>
            <a:off x="3300120" y="2724120"/>
            <a:ext cx="146412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x</a:t>
            </a:r>
            <a:r>
              <a:rPr b="0" lang="en-US" sz="2100" spc="-1" strike="noStrike" baseline="30000">
                <a:solidFill>
                  <a:srgbClr val="336699"/>
                </a:solidFill>
                <a:latin typeface="Verdana"/>
              </a:rPr>
              <a:t>2 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+2 y</a:t>
            </a:r>
            <a:r>
              <a:rPr b="0" lang="en-US" sz="2100" spc="-1" strike="noStrike" baseline="30000">
                <a:solidFill>
                  <a:srgbClr val="336699"/>
                </a:solidFill>
                <a:latin typeface="Verdana"/>
              </a:rPr>
              <a:t>2 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= 1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754" name="Text Box 15"/>
          <p:cNvSpPr/>
          <p:nvPr/>
        </p:nvSpPr>
        <p:spPr>
          <a:xfrm>
            <a:off x="4845960" y="3124080"/>
            <a:ext cx="54936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6699"/>
                </a:solidFill>
                <a:latin typeface="Wingdings"/>
                <a:ea typeface="Wingdings"/>
              </a:rPr>
              <a:t></a:t>
            </a:r>
            <a:endParaRPr b="0" lang="en-US" sz="29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755" name="Text Box 16"/>
          <p:cNvSpPr/>
          <p:nvPr/>
        </p:nvSpPr>
        <p:spPr>
          <a:xfrm>
            <a:off x="5393880" y="3200400"/>
            <a:ext cx="7614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elips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756" name="Text Box 17"/>
          <p:cNvSpPr/>
          <p:nvPr/>
        </p:nvSpPr>
        <p:spPr>
          <a:xfrm>
            <a:off x="943200" y="3705120"/>
            <a:ext cx="15994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Untuk k = 2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757" name="Text Box 18"/>
          <p:cNvSpPr/>
          <p:nvPr/>
        </p:nvSpPr>
        <p:spPr>
          <a:xfrm>
            <a:off x="2580480" y="3648240"/>
            <a:ext cx="54936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6699"/>
                </a:solidFill>
                <a:latin typeface="Wingdings"/>
                <a:ea typeface="Wingdings"/>
              </a:rPr>
              <a:t></a:t>
            </a:r>
            <a:endParaRPr b="0" lang="en-US" sz="29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758" name="Text Box 19"/>
          <p:cNvSpPr/>
          <p:nvPr/>
        </p:nvSpPr>
        <p:spPr>
          <a:xfrm>
            <a:off x="3303360" y="3705120"/>
            <a:ext cx="146412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x</a:t>
            </a:r>
            <a:r>
              <a:rPr b="0" lang="en-US" sz="2100" spc="-1" strike="noStrike" baseline="30000">
                <a:solidFill>
                  <a:srgbClr val="336699"/>
                </a:solidFill>
                <a:latin typeface="Verdana"/>
              </a:rPr>
              <a:t>2 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+2 y</a:t>
            </a:r>
            <a:r>
              <a:rPr b="0" lang="en-US" sz="2100" spc="-1" strike="noStrike" baseline="30000">
                <a:solidFill>
                  <a:srgbClr val="336699"/>
                </a:solidFill>
                <a:latin typeface="Verdana"/>
              </a:rPr>
              <a:t>2 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= 2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759" name="Text Box 21"/>
          <p:cNvSpPr/>
          <p:nvPr/>
        </p:nvSpPr>
        <p:spPr>
          <a:xfrm>
            <a:off x="4780800" y="4016520"/>
            <a:ext cx="54936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6699"/>
                </a:solidFill>
                <a:latin typeface="Wingdings"/>
                <a:ea typeface="Wingdings"/>
              </a:rPr>
              <a:t></a:t>
            </a:r>
            <a:endParaRPr b="0" lang="en-US" sz="29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760" name="Text Box 22"/>
          <p:cNvSpPr/>
          <p:nvPr/>
        </p:nvSpPr>
        <p:spPr>
          <a:xfrm>
            <a:off x="5347800" y="4073400"/>
            <a:ext cx="7614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elips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761" name="Text Box 23"/>
          <p:cNvSpPr/>
          <p:nvPr/>
        </p:nvSpPr>
        <p:spPr>
          <a:xfrm>
            <a:off x="939960" y="4572000"/>
            <a:ext cx="15994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Untuk k = 4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762" name="Text Box 24"/>
          <p:cNvSpPr/>
          <p:nvPr/>
        </p:nvSpPr>
        <p:spPr>
          <a:xfrm>
            <a:off x="2577240" y="4514760"/>
            <a:ext cx="54936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6699"/>
                </a:solidFill>
                <a:latin typeface="Wingdings"/>
                <a:ea typeface="Wingdings"/>
              </a:rPr>
              <a:t></a:t>
            </a:r>
            <a:endParaRPr b="0" lang="en-US" sz="29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763" name="Text Box 25"/>
          <p:cNvSpPr/>
          <p:nvPr/>
        </p:nvSpPr>
        <p:spPr>
          <a:xfrm>
            <a:off x="3300120" y="4572000"/>
            <a:ext cx="146412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x</a:t>
            </a:r>
            <a:r>
              <a:rPr b="0" lang="en-US" sz="2100" spc="-1" strike="noStrike" baseline="30000">
                <a:solidFill>
                  <a:srgbClr val="336699"/>
                </a:solidFill>
                <a:latin typeface="Verdana"/>
              </a:rPr>
              <a:t>2 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+2 y</a:t>
            </a:r>
            <a:r>
              <a:rPr b="0" lang="en-US" sz="2100" spc="-1" strike="noStrike" baseline="30000">
                <a:solidFill>
                  <a:srgbClr val="336699"/>
                </a:solidFill>
                <a:latin typeface="Verdana"/>
              </a:rPr>
              <a:t>2 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= 4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764" name="Text Box 27"/>
          <p:cNvSpPr/>
          <p:nvPr/>
        </p:nvSpPr>
        <p:spPr>
          <a:xfrm>
            <a:off x="4750560" y="4883040"/>
            <a:ext cx="54936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6699"/>
                </a:solidFill>
                <a:latin typeface="Wingdings"/>
                <a:ea typeface="Wingdings"/>
              </a:rPr>
              <a:t></a:t>
            </a:r>
            <a:endParaRPr b="0" lang="en-US" sz="29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765" name="Text Box 28"/>
          <p:cNvSpPr/>
          <p:nvPr/>
        </p:nvSpPr>
        <p:spPr>
          <a:xfrm>
            <a:off x="5317560" y="4940280"/>
            <a:ext cx="7614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elips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6" name="Object 31"/>
              <p:cNvSpPr txBox="1"/>
              <p:nvPr/>
            </p:nvSpPr>
            <p:spPr>
              <a:xfrm>
                <a:off x="3087720" y="3019320"/>
                <a:ext cx="1374840" cy="79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1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7" name="Object 34"/>
              <p:cNvSpPr txBox="1"/>
              <p:nvPr/>
            </p:nvSpPr>
            <p:spPr>
              <a:xfrm>
                <a:off x="3200400" y="4019400"/>
                <a:ext cx="1316160" cy="63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8" name="Object 36"/>
              <p:cNvSpPr txBox="1"/>
              <p:nvPr/>
            </p:nvSpPr>
            <p:spPr>
              <a:xfrm>
                <a:off x="3165480" y="4856040"/>
                <a:ext cx="1353960" cy="63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769" name="Group 45"/>
          <p:cNvGrpSpPr/>
          <p:nvPr/>
        </p:nvGrpSpPr>
        <p:grpSpPr>
          <a:xfrm>
            <a:off x="6296040" y="3139920"/>
            <a:ext cx="2743200" cy="2286000"/>
            <a:chOff x="6296040" y="3139920"/>
            <a:chExt cx="2743200" cy="2286000"/>
          </a:xfrm>
        </p:grpSpPr>
        <p:sp>
          <p:nvSpPr>
            <p:cNvPr id="770" name="Line 37"/>
            <p:cNvSpPr/>
            <p:nvPr/>
          </p:nvSpPr>
          <p:spPr>
            <a:xfrm flipV="1">
              <a:off x="7632360" y="3139920"/>
              <a:ext cx="0" cy="2286000"/>
            </a:xfrm>
            <a:prstGeom prst="line">
              <a:avLst/>
            </a:prstGeom>
            <a:ln cap="sq"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336699"/>
                </a:solidFill>
                <a:latin typeface="Verdana"/>
              </a:endParaRPr>
            </a:p>
          </p:txBody>
        </p:sp>
        <p:sp>
          <p:nvSpPr>
            <p:cNvPr id="771" name="Line 38"/>
            <p:cNvSpPr/>
            <p:nvPr/>
          </p:nvSpPr>
          <p:spPr>
            <a:xfrm>
              <a:off x="6296040" y="4190400"/>
              <a:ext cx="2743200" cy="0"/>
            </a:xfrm>
            <a:prstGeom prst="line">
              <a:avLst/>
            </a:prstGeom>
            <a:ln cap="sq"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336699"/>
                </a:solidFill>
                <a:latin typeface="Verdana"/>
              </a:endParaRPr>
            </a:p>
          </p:txBody>
        </p:sp>
      </p:grpSp>
      <p:grpSp>
        <p:nvGrpSpPr>
          <p:cNvPr id="772" name="Group 42"/>
          <p:cNvGrpSpPr/>
          <p:nvPr/>
        </p:nvGrpSpPr>
        <p:grpSpPr>
          <a:xfrm>
            <a:off x="7469640" y="3657600"/>
            <a:ext cx="572040" cy="839520"/>
            <a:chOff x="7469640" y="3657600"/>
            <a:chExt cx="572040" cy="839520"/>
          </a:xfrm>
        </p:grpSpPr>
        <p:sp>
          <p:nvSpPr>
            <p:cNvPr id="773" name="Text Box 39"/>
            <p:cNvSpPr/>
            <p:nvPr/>
          </p:nvSpPr>
          <p:spPr>
            <a:xfrm>
              <a:off x="7469640" y="3657600"/>
              <a:ext cx="320760" cy="71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100" spc="-1" strike="noStrike">
                  <a:solidFill>
                    <a:srgbClr val="336699"/>
                  </a:solidFill>
                  <a:latin typeface="Verdana"/>
                </a:rPr>
                <a:t>.</a:t>
              </a:r>
              <a:endParaRPr b="0" lang="en-US" sz="4100" spc="-1" strike="noStrike">
                <a:solidFill>
                  <a:srgbClr val="336699"/>
                </a:solidFill>
                <a:latin typeface="Verdana"/>
              </a:endParaRPr>
            </a:p>
          </p:txBody>
        </p:sp>
        <p:sp>
          <p:nvSpPr>
            <p:cNvPr id="774" name="Text Box 40"/>
            <p:cNvSpPr/>
            <p:nvPr/>
          </p:nvSpPr>
          <p:spPr>
            <a:xfrm>
              <a:off x="7583760" y="4205160"/>
              <a:ext cx="4579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336699"/>
                  </a:solidFill>
                  <a:latin typeface="Verdana"/>
                </a:rPr>
                <a:t>k=0</a:t>
              </a:r>
              <a:endParaRPr b="0" lang="en-US" sz="1300" spc="-1" strike="noStrike">
                <a:solidFill>
                  <a:srgbClr val="336699"/>
                </a:solidFill>
                <a:latin typeface="Verdana"/>
              </a:endParaRPr>
            </a:p>
          </p:txBody>
        </p:sp>
      </p:grpSp>
      <p:grpSp>
        <p:nvGrpSpPr>
          <p:cNvPr id="775" name="Group 44"/>
          <p:cNvGrpSpPr/>
          <p:nvPr/>
        </p:nvGrpSpPr>
        <p:grpSpPr>
          <a:xfrm>
            <a:off x="7046280" y="3898800"/>
            <a:ext cx="983160" cy="678960"/>
            <a:chOff x="7046280" y="3898800"/>
            <a:chExt cx="983160" cy="678960"/>
          </a:xfrm>
        </p:grpSpPr>
        <p:sp>
          <p:nvSpPr>
            <p:cNvPr id="776" name="Oval 41"/>
            <p:cNvSpPr/>
            <p:nvPr/>
          </p:nvSpPr>
          <p:spPr>
            <a:xfrm>
              <a:off x="7191360" y="3898800"/>
              <a:ext cx="838080" cy="533520"/>
            </a:xfrm>
            <a:prstGeom prst="ellipse">
              <a:avLst/>
            </a:prstGeom>
            <a:noFill/>
            <a:ln cap="sq"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336699"/>
                </a:solidFill>
                <a:latin typeface="Verdana"/>
              </a:endParaRPr>
            </a:p>
          </p:txBody>
        </p:sp>
        <p:sp>
          <p:nvSpPr>
            <p:cNvPr id="777" name="Rectangle 43"/>
            <p:cNvSpPr/>
            <p:nvPr/>
          </p:nvSpPr>
          <p:spPr>
            <a:xfrm>
              <a:off x="7046280" y="4316400"/>
              <a:ext cx="41688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336699"/>
                  </a:solidFill>
                  <a:latin typeface="Verdana"/>
                </a:rPr>
                <a:t>k=1</a:t>
              </a:r>
              <a:endParaRPr b="0" lang="en-US" sz="1100" spc="-1" strike="noStrike">
                <a:solidFill>
                  <a:srgbClr val="336699"/>
                </a:solidFill>
                <a:latin typeface="Verdana"/>
              </a:endParaRPr>
            </a:p>
          </p:txBody>
        </p:sp>
      </p:grpSp>
      <p:sp>
        <p:nvSpPr>
          <p:cNvPr id="778" name="Oval 46"/>
          <p:cNvSpPr/>
          <p:nvPr/>
        </p:nvSpPr>
        <p:spPr>
          <a:xfrm>
            <a:off x="6858000" y="3657600"/>
            <a:ext cx="1568520" cy="1038240"/>
          </a:xfrm>
          <a:prstGeom prst="ellipse">
            <a:avLst/>
          </a:prstGeom>
          <a:noFill/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779" name="Text Box 47"/>
          <p:cNvSpPr/>
          <p:nvPr/>
        </p:nvSpPr>
        <p:spPr>
          <a:xfrm>
            <a:off x="6795000" y="452592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Verdana"/>
              </a:rPr>
              <a:t>k=2</a:t>
            </a:r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780" name="Oval 48"/>
          <p:cNvSpPr/>
          <p:nvPr/>
        </p:nvSpPr>
        <p:spPr>
          <a:xfrm>
            <a:off x="6327720" y="3492360"/>
            <a:ext cx="2578320" cy="1359000"/>
          </a:xfrm>
          <a:prstGeom prst="ellipse">
            <a:avLst/>
          </a:prstGeom>
          <a:noFill/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781" name="Text Box 49"/>
          <p:cNvSpPr/>
          <p:nvPr/>
        </p:nvSpPr>
        <p:spPr>
          <a:xfrm>
            <a:off x="6584040" y="472428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Verdana"/>
              </a:rPr>
              <a:t>k=4</a:t>
            </a:r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782" name="Text Box 50"/>
          <p:cNvSpPr/>
          <p:nvPr/>
        </p:nvSpPr>
        <p:spPr>
          <a:xfrm>
            <a:off x="8825760" y="4260960"/>
            <a:ext cx="3348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336699"/>
                </a:solidFill>
                <a:latin typeface="Verdana"/>
              </a:rPr>
              <a:t>x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783" name="Rectangle 51"/>
          <p:cNvSpPr/>
          <p:nvPr/>
        </p:nvSpPr>
        <p:spPr>
          <a:xfrm>
            <a:off x="7328880" y="3048120"/>
            <a:ext cx="3330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336699"/>
                </a:solidFill>
                <a:latin typeface="Verdana"/>
              </a:rPr>
              <a:t>y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</p:spTree>
  </p:cSld>
  <p:timing>
    <p:tnLst>
      <p:par>
        <p:cTn id="1500" dur="indefinite" restart="never" nodeType="tmRoot">
          <p:childTnLst>
            <p:seq>
              <p:cTn id="1501" dur="indefinite" nodeType="mainSeq">
                <p:childTnLst>
                  <p:par>
                    <p:cTn id="1502" nodeType="clickEffect" fill="hold">
                      <p:stCondLst>
                        <p:cond delay="indefinite"/>
                      </p:stCondLst>
                      <p:childTnLst>
                        <p:par>
                          <p:cTn id="1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06" dur="80"/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07" dur="80"/>
                                        <p:tgtEl>
                                          <p:spTgt spid="7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08" dur="80"/>
                                        <p:tgtEl>
                                          <p:spTgt spid="7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9" nodeType="clickEffect" fill="hold">
                      <p:stCondLst>
                        <p:cond delay="indefinite"/>
                      </p:stCondLst>
                      <p:childTnLst>
                        <p:par>
                          <p:cTn id="1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13" dur="10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6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7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8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9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2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3" nodeType="clickEffect" fill="hold">
                      <p:stCondLst>
                        <p:cond delay="indefinite"/>
                      </p:stCondLst>
                      <p:childTnLst>
                        <p:par>
                          <p:cTn id="1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27" dur="80"/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28" dur="80"/>
                                        <p:tgtEl>
                                          <p:spTgt spid="7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29" dur="80"/>
                                        <p:tgtEl>
                                          <p:spTgt spid="7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0" nodeType="clickEffect" fill="hold">
                      <p:stCondLst>
                        <p:cond delay="indefinite"/>
                      </p:stCondLst>
                      <p:childTnLst>
                        <p:par>
                          <p:cTn id="1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4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5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6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7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0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4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44" dur="20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7" dur="50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8" dur="50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1" dur="50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2" dur="50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3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5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6" dur="5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7" nodeType="clickEffect" fill="hold">
                      <p:stCondLst>
                        <p:cond delay="indefinite"/>
                      </p:stCondLst>
                      <p:childTnLst>
                        <p:par>
                          <p:cTn id="1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61" dur="10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4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5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6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7" dur="5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0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1" nodeType="clickEffect" fill="hold">
                      <p:stCondLst>
                        <p:cond delay="indefinite"/>
                      </p:stCondLst>
                      <p:childTnLst>
                        <p:par>
                          <p:cTn id="1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5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6" nodeType="clickEffect" fill="hold">
                      <p:stCondLst>
                        <p:cond delay="indefinite"/>
                      </p:stCondLst>
                      <p:childTnLst>
                        <p:par>
                          <p:cTn id="1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0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1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2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3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86" dur="80"/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87" dur="80"/>
                                        <p:tgtEl>
                                          <p:spTgt spid="7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88" dur="80"/>
                                        <p:tgtEl>
                                          <p:spTgt spid="7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9" nodeType="clickEffect" fill="hold">
                      <p:stCondLst>
                        <p:cond delay="indefinite"/>
                      </p:stCondLst>
                      <p:childTnLst>
                        <p:par>
                          <p:cTn id="1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3" dur="5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4" nodeType="clickEffect" fill="hold">
                      <p:stCondLst>
                        <p:cond delay="indefinite"/>
                      </p:stCondLst>
                      <p:childTnLst>
                        <p:par>
                          <p:cTn id="1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98" dur="10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1" dur="5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2" dur="5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3" dur="5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4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7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8" nodeType="clickEffect" fill="hold">
                      <p:stCondLst>
                        <p:cond delay="indefinite"/>
                      </p:stCondLst>
                      <p:childTnLst>
                        <p:par>
                          <p:cTn id="1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2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3" nodeType="clickEffect" fill="hold">
                      <p:stCondLst>
                        <p:cond delay="indefinite"/>
                      </p:stCondLst>
                      <p:childTnLst>
                        <p:par>
                          <p:cTn id="1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7" dur="5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8" dur="5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9" dur="5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0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23" dur="80"/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24" dur="80"/>
                                        <p:tgtEl>
                                          <p:spTgt spid="7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25" dur="80"/>
                                        <p:tgtEl>
                                          <p:spTgt spid="7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6" nodeType="clickEffect" fill="hold">
                      <p:stCondLst>
                        <p:cond delay="indefinite"/>
                      </p:stCondLst>
                      <p:childTnLst>
                        <p:par>
                          <p:cTn id="1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0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3" dur="5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4" nodeType="clickEffect" fill="hold">
                      <p:stCondLst>
                        <p:cond delay="indefinite"/>
                      </p:stCondLst>
                      <p:childTnLst>
                        <p:par>
                          <p:cTn id="1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38" dur="10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1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2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3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4" dur="5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7" dur="5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8" nodeType="clickEffect" fill="hold">
                      <p:stCondLst>
                        <p:cond delay="indefinite"/>
                      </p:stCondLst>
                      <p:childTnLst>
                        <p:par>
                          <p:cTn id="16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2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3" nodeType="clickEffect" fill="hold">
                      <p:stCondLst>
                        <p:cond delay="indefinite"/>
                      </p:stCondLst>
                      <p:childTnLst>
                        <p:par>
                          <p:cTn id="1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7" dur="5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8" dur="5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9" dur="5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0" dur="5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63" dur="80"/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64" dur="80"/>
                                        <p:tgtEl>
                                          <p:spTgt spid="7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65" dur="80"/>
                                        <p:tgtEl>
                                          <p:spTgt spid="7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6" nodeType="clickEffect" fill="hold">
                      <p:stCondLst>
                        <p:cond delay="indefinite"/>
                      </p:stCondLst>
                      <p:childTnLst>
                        <p:par>
                          <p:cTn id="1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0" dur="5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3" dur="5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toh (Jawab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A8D48-25C4-4285-8534-B450971DE046}" type="datetime">
              <a:rPr b="0" lang="en-US" sz="1200" spc="-1" strike="noStrike">
                <a:solidFill>
                  <a:srgbClr val="898989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78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Verdana"/>
              </a:rPr>
              <a:t>[MA 1124]</a:t>
            </a:r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Verdana"/>
              </a:rPr>
              <a:t>KALKULUS II</a:t>
            </a:r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78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97C4C-1B9B-4427-99E9-9B0EB80DDB0F}" type="slidenum">
              <a:rPr b="0" lang="en-US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788" name="Text Box 4"/>
          <p:cNvSpPr/>
          <p:nvPr/>
        </p:nvSpPr>
        <p:spPr>
          <a:xfrm>
            <a:off x="957600" y="1898640"/>
            <a:ext cx="16848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Untuk k = -2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789" name="Text Box 5"/>
          <p:cNvSpPr/>
          <p:nvPr/>
        </p:nvSpPr>
        <p:spPr>
          <a:xfrm>
            <a:off x="2577240" y="1841400"/>
            <a:ext cx="54936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6699"/>
                </a:solidFill>
                <a:latin typeface="Wingdings"/>
                <a:ea typeface="Wingdings"/>
              </a:rPr>
              <a:t></a:t>
            </a:r>
            <a:endParaRPr b="0" lang="en-US" sz="29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790" name="Text Box 6"/>
          <p:cNvSpPr/>
          <p:nvPr/>
        </p:nvSpPr>
        <p:spPr>
          <a:xfrm>
            <a:off x="3282120" y="1898640"/>
            <a:ext cx="12902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x</a:t>
            </a:r>
            <a:r>
              <a:rPr b="0" lang="en-US" sz="2100" spc="-1" strike="noStrike" baseline="30000">
                <a:solidFill>
                  <a:srgbClr val="336699"/>
                </a:solidFill>
                <a:latin typeface="Verdana"/>
              </a:rPr>
              <a:t> 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– y</a:t>
            </a:r>
            <a:r>
              <a:rPr b="0" lang="en-US" sz="2100" spc="-1" strike="noStrike" baseline="30000">
                <a:solidFill>
                  <a:srgbClr val="336699"/>
                </a:solidFill>
                <a:latin typeface="Verdana"/>
              </a:rPr>
              <a:t>2 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= -2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791" name="Text Box 7"/>
          <p:cNvSpPr/>
          <p:nvPr/>
        </p:nvSpPr>
        <p:spPr>
          <a:xfrm>
            <a:off x="3274920" y="2279520"/>
            <a:ext cx="123552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x = y</a:t>
            </a:r>
            <a:r>
              <a:rPr b="0" lang="en-US" sz="2100" spc="-1" strike="noStrike" baseline="30000">
                <a:solidFill>
                  <a:srgbClr val="336699"/>
                </a:solidFill>
                <a:latin typeface="Verdana"/>
              </a:rPr>
              <a:t>2 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– 2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792" name="Text Box 8"/>
          <p:cNvSpPr/>
          <p:nvPr/>
        </p:nvSpPr>
        <p:spPr>
          <a:xfrm>
            <a:off x="4629960" y="2209680"/>
            <a:ext cx="54936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6699"/>
                </a:solidFill>
                <a:latin typeface="Wingdings"/>
                <a:ea typeface="Wingdings"/>
              </a:rPr>
              <a:t></a:t>
            </a:r>
            <a:endParaRPr b="0" lang="en-US" sz="29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793" name="Text Box 9"/>
          <p:cNvSpPr/>
          <p:nvPr/>
        </p:nvSpPr>
        <p:spPr>
          <a:xfrm>
            <a:off x="5606640" y="2266920"/>
            <a:ext cx="12978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parabola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794" name="Text Box 10"/>
          <p:cNvSpPr/>
          <p:nvPr/>
        </p:nvSpPr>
        <p:spPr>
          <a:xfrm>
            <a:off x="939960" y="2724120"/>
            <a:ext cx="15994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Untuk k = 0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795" name="Text Box 11"/>
          <p:cNvSpPr/>
          <p:nvPr/>
        </p:nvSpPr>
        <p:spPr>
          <a:xfrm>
            <a:off x="2577240" y="2666880"/>
            <a:ext cx="54936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6699"/>
                </a:solidFill>
                <a:latin typeface="Wingdings"/>
                <a:ea typeface="Wingdings"/>
              </a:rPr>
              <a:t></a:t>
            </a:r>
            <a:endParaRPr b="0" lang="en-US" sz="29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796" name="Text Box 12"/>
          <p:cNvSpPr/>
          <p:nvPr/>
        </p:nvSpPr>
        <p:spPr>
          <a:xfrm>
            <a:off x="3264480" y="2724120"/>
            <a:ext cx="120492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x</a:t>
            </a:r>
            <a:r>
              <a:rPr b="0" lang="en-US" sz="2100" spc="-1" strike="noStrike" baseline="30000">
                <a:solidFill>
                  <a:srgbClr val="336699"/>
                </a:solidFill>
                <a:latin typeface="Verdana"/>
              </a:rPr>
              <a:t> 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– y</a:t>
            </a:r>
            <a:r>
              <a:rPr b="0" lang="en-US" sz="2100" spc="-1" strike="noStrike" baseline="30000">
                <a:solidFill>
                  <a:srgbClr val="336699"/>
                </a:solidFill>
                <a:latin typeface="Verdana"/>
              </a:rPr>
              <a:t>2 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= 0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797" name="Text Box 13"/>
          <p:cNvSpPr/>
          <p:nvPr/>
        </p:nvSpPr>
        <p:spPr>
          <a:xfrm>
            <a:off x="4553640" y="3124080"/>
            <a:ext cx="54936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6699"/>
                </a:solidFill>
                <a:latin typeface="Wingdings"/>
                <a:ea typeface="Wingdings"/>
              </a:rPr>
              <a:t></a:t>
            </a:r>
            <a:endParaRPr b="0" lang="en-US" sz="29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798" name="Text Box 14"/>
          <p:cNvSpPr/>
          <p:nvPr/>
        </p:nvSpPr>
        <p:spPr>
          <a:xfrm>
            <a:off x="5282640" y="3124080"/>
            <a:ext cx="12978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parabola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799" name="Text Box 15"/>
          <p:cNvSpPr/>
          <p:nvPr/>
        </p:nvSpPr>
        <p:spPr>
          <a:xfrm>
            <a:off x="943200" y="3705120"/>
            <a:ext cx="15994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Untuk k = 2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800" name="Text Box 16"/>
          <p:cNvSpPr/>
          <p:nvPr/>
        </p:nvSpPr>
        <p:spPr>
          <a:xfrm>
            <a:off x="2580480" y="3648240"/>
            <a:ext cx="54936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6699"/>
                </a:solidFill>
                <a:latin typeface="Wingdings"/>
                <a:ea typeface="Wingdings"/>
              </a:rPr>
              <a:t></a:t>
            </a:r>
            <a:endParaRPr b="0" lang="en-US" sz="29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801" name="Text Box 17"/>
          <p:cNvSpPr/>
          <p:nvPr/>
        </p:nvSpPr>
        <p:spPr>
          <a:xfrm>
            <a:off x="3267720" y="3705120"/>
            <a:ext cx="120492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x</a:t>
            </a:r>
            <a:r>
              <a:rPr b="0" lang="en-US" sz="2100" spc="-1" strike="noStrike" baseline="30000">
                <a:solidFill>
                  <a:srgbClr val="336699"/>
                </a:solidFill>
                <a:latin typeface="Verdana"/>
              </a:rPr>
              <a:t> 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– y</a:t>
            </a:r>
            <a:r>
              <a:rPr b="0" lang="en-US" sz="2100" spc="-1" strike="noStrike" baseline="30000">
                <a:solidFill>
                  <a:srgbClr val="336699"/>
                </a:solidFill>
                <a:latin typeface="Verdana"/>
              </a:rPr>
              <a:t>2 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= 2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802" name="Text Box 18"/>
          <p:cNvSpPr/>
          <p:nvPr/>
        </p:nvSpPr>
        <p:spPr>
          <a:xfrm>
            <a:off x="4780800" y="4016520"/>
            <a:ext cx="54936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6699"/>
                </a:solidFill>
                <a:latin typeface="Wingdings"/>
                <a:ea typeface="Wingdings"/>
              </a:rPr>
              <a:t></a:t>
            </a:r>
            <a:endParaRPr b="0" lang="en-US" sz="29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803" name="Text Box 19"/>
          <p:cNvSpPr/>
          <p:nvPr/>
        </p:nvSpPr>
        <p:spPr>
          <a:xfrm>
            <a:off x="5355720" y="4073400"/>
            <a:ext cx="12978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parabola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804" name="Text Box 20"/>
          <p:cNvSpPr/>
          <p:nvPr/>
        </p:nvSpPr>
        <p:spPr>
          <a:xfrm>
            <a:off x="939960" y="4572000"/>
            <a:ext cx="15994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Untuk k = 4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805" name="Text Box 21"/>
          <p:cNvSpPr/>
          <p:nvPr/>
        </p:nvSpPr>
        <p:spPr>
          <a:xfrm>
            <a:off x="2577240" y="4514760"/>
            <a:ext cx="54936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6699"/>
                </a:solidFill>
                <a:latin typeface="Wingdings"/>
                <a:ea typeface="Wingdings"/>
              </a:rPr>
              <a:t></a:t>
            </a:r>
            <a:endParaRPr b="0" lang="en-US" sz="29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806" name="Text Box 22"/>
          <p:cNvSpPr/>
          <p:nvPr/>
        </p:nvSpPr>
        <p:spPr>
          <a:xfrm>
            <a:off x="3283200" y="4572000"/>
            <a:ext cx="122652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x</a:t>
            </a:r>
            <a:r>
              <a:rPr b="0" lang="en-US" sz="2100" spc="-1" strike="noStrike" baseline="30000">
                <a:solidFill>
                  <a:srgbClr val="336699"/>
                </a:solidFill>
                <a:latin typeface="Verdana"/>
              </a:rPr>
              <a:t> </a:t>
            </a:r>
            <a:r>
              <a:rPr b="0" lang="id-ID" sz="2100" spc="-1" strike="noStrike">
                <a:solidFill>
                  <a:srgbClr val="336699"/>
                </a:solidFill>
                <a:latin typeface="Verdana"/>
              </a:rPr>
              <a:t>- 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y</a:t>
            </a:r>
            <a:r>
              <a:rPr b="0" lang="id-ID" sz="2100" spc="-1" strike="noStrike">
                <a:solidFill>
                  <a:srgbClr val="336699"/>
                </a:solidFill>
                <a:latin typeface="Verdana"/>
              </a:rPr>
              <a:t> </a:t>
            </a:r>
            <a:r>
              <a:rPr b="0" lang="en-US" sz="2100" spc="-1" strike="noStrike" baseline="30000">
                <a:solidFill>
                  <a:srgbClr val="336699"/>
                </a:solidFill>
                <a:latin typeface="Verdana"/>
              </a:rPr>
              <a:t>2 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= 4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807" name="Text Box 23"/>
          <p:cNvSpPr/>
          <p:nvPr/>
        </p:nvSpPr>
        <p:spPr>
          <a:xfrm>
            <a:off x="4750560" y="4883040"/>
            <a:ext cx="54936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6699"/>
                </a:solidFill>
                <a:latin typeface="Wingdings"/>
                <a:ea typeface="Wingdings"/>
              </a:rPr>
              <a:t></a:t>
            </a:r>
            <a:endParaRPr b="0" lang="en-US" sz="29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808" name="Text Box 24"/>
          <p:cNvSpPr/>
          <p:nvPr/>
        </p:nvSpPr>
        <p:spPr>
          <a:xfrm>
            <a:off x="5325480" y="4940280"/>
            <a:ext cx="12978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parabola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grpSp>
        <p:nvGrpSpPr>
          <p:cNvPr id="809" name="Group 51"/>
          <p:cNvGrpSpPr/>
          <p:nvPr/>
        </p:nvGrpSpPr>
        <p:grpSpPr>
          <a:xfrm>
            <a:off x="6400800" y="2819520"/>
            <a:ext cx="2743200" cy="2286000"/>
            <a:chOff x="6400800" y="2819520"/>
            <a:chExt cx="2743200" cy="2286000"/>
          </a:xfrm>
        </p:grpSpPr>
        <p:sp>
          <p:nvSpPr>
            <p:cNvPr id="810" name="Line 29"/>
            <p:cNvSpPr/>
            <p:nvPr/>
          </p:nvSpPr>
          <p:spPr>
            <a:xfrm flipV="1">
              <a:off x="7010280" y="2819520"/>
              <a:ext cx="0" cy="2286000"/>
            </a:xfrm>
            <a:prstGeom prst="line">
              <a:avLst/>
            </a:prstGeom>
            <a:ln cap="sq"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336699"/>
                </a:solidFill>
                <a:latin typeface="Verdana"/>
              </a:endParaRPr>
            </a:p>
          </p:txBody>
        </p:sp>
        <p:sp>
          <p:nvSpPr>
            <p:cNvPr id="811" name="Line 30"/>
            <p:cNvSpPr/>
            <p:nvPr/>
          </p:nvSpPr>
          <p:spPr>
            <a:xfrm>
              <a:off x="6400800" y="3870360"/>
              <a:ext cx="2743200" cy="0"/>
            </a:xfrm>
            <a:prstGeom prst="line">
              <a:avLst/>
            </a:prstGeom>
            <a:ln cap="sq"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336699"/>
                </a:solidFill>
                <a:latin typeface="Verdana"/>
              </a:endParaRPr>
            </a:p>
          </p:txBody>
        </p:sp>
      </p:grpSp>
      <p:sp>
        <p:nvSpPr>
          <p:cNvPr id="812" name="Text Box 33"/>
          <p:cNvSpPr/>
          <p:nvPr/>
        </p:nvSpPr>
        <p:spPr>
          <a:xfrm>
            <a:off x="6966360" y="3886200"/>
            <a:ext cx="4579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336699"/>
                </a:solidFill>
                <a:latin typeface="Verdana"/>
              </a:rPr>
              <a:t>k=0</a:t>
            </a:r>
            <a:endParaRPr b="0" lang="en-US" sz="13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813" name="Rectangle 36"/>
          <p:cNvSpPr/>
          <p:nvPr/>
        </p:nvSpPr>
        <p:spPr>
          <a:xfrm>
            <a:off x="7023600" y="4191120"/>
            <a:ext cx="4626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36699"/>
                </a:solidFill>
                <a:latin typeface="Verdana"/>
              </a:rPr>
              <a:t>k=-2</a:t>
            </a:r>
            <a:endParaRPr b="0" lang="en-US" sz="1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814" name="Text Box 38"/>
          <p:cNvSpPr/>
          <p:nvPr/>
        </p:nvSpPr>
        <p:spPr>
          <a:xfrm>
            <a:off x="7382520" y="399240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Verdana"/>
              </a:rPr>
              <a:t>k=2</a:t>
            </a:r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815" name="Text Box 40"/>
          <p:cNvSpPr/>
          <p:nvPr/>
        </p:nvSpPr>
        <p:spPr>
          <a:xfrm>
            <a:off x="7803000" y="399240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Verdana"/>
              </a:rPr>
              <a:t>k=4</a:t>
            </a:r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816" name="Text Box 41"/>
          <p:cNvSpPr/>
          <p:nvPr/>
        </p:nvSpPr>
        <p:spPr>
          <a:xfrm>
            <a:off x="8825760" y="3809880"/>
            <a:ext cx="3348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336699"/>
                </a:solidFill>
                <a:latin typeface="Verdana"/>
              </a:rPr>
              <a:t>x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817" name="Rectangle 42"/>
          <p:cNvSpPr/>
          <p:nvPr/>
        </p:nvSpPr>
        <p:spPr>
          <a:xfrm>
            <a:off x="6665040" y="2743200"/>
            <a:ext cx="3330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336699"/>
                </a:solidFill>
                <a:latin typeface="Verdana"/>
              </a:rPr>
              <a:t>y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818" name="Rectangle 43"/>
          <p:cNvSpPr/>
          <p:nvPr/>
        </p:nvSpPr>
        <p:spPr>
          <a:xfrm>
            <a:off x="543240" y="1447920"/>
            <a:ext cx="44661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914400" indent="-457200" algn="ctr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Verdana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f(x,y) = x – y</a:t>
            </a:r>
            <a:r>
              <a:rPr b="0" lang="en-US" sz="2100" spc="-1" strike="noStrike" baseline="30000">
                <a:solidFill>
                  <a:srgbClr val="336699"/>
                </a:solidFill>
                <a:latin typeface="Verdana"/>
              </a:rPr>
              <a:t>2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  , k = -2, 0, 2, 4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819" name="Text Box 44"/>
          <p:cNvSpPr/>
          <p:nvPr/>
        </p:nvSpPr>
        <p:spPr>
          <a:xfrm>
            <a:off x="3299760" y="3168720"/>
            <a:ext cx="8787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x = y</a:t>
            </a:r>
            <a:r>
              <a:rPr b="0" lang="en-US" sz="2100" spc="-1" strike="noStrike" baseline="30000">
                <a:solidFill>
                  <a:srgbClr val="336699"/>
                </a:solidFill>
                <a:latin typeface="Verdana"/>
              </a:rPr>
              <a:t>2 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820" name="Text Box 45"/>
          <p:cNvSpPr/>
          <p:nvPr/>
        </p:nvSpPr>
        <p:spPr>
          <a:xfrm>
            <a:off x="3287880" y="4114800"/>
            <a:ext cx="129312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x = y</a:t>
            </a:r>
            <a:r>
              <a:rPr b="0" lang="en-US" sz="2100" spc="-1" strike="noStrike" baseline="30000">
                <a:solidFill>
                  <a:srgbClr val="336699"/>
                </a:solidFill>
                <a:latin typeface="Verdana"/>
              </a:rPr>
              <a:t>2 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+ 2</a:t>
            </a:r>
            <a:r>
              <a:rPr b="0" lang="en-US" sz="2100" spc="-1" strike="noStrike" baseline="30000">
                <a:solidFill>
                  <a:srgbClr val="336699"/>
                </a:solidFill>
                <a:latin typeface="Verdana"/>
              </a:rPr>
              <a:t> 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821" name="Text Box 46"/>
          <p:cNvSpPr/>
          <p:nvPr/>
        </p:nvSpPr>
        <p:spPr>
          <a:xfrm>
            <a:off x="3267360" y="4952880"/>
            <a:ext cx="129312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x = y</a:t>
            </a:r>
            <a:r>
              <a:rPr b="0" lang="en-US" sz="2100" spc="-1" strike="noStrike" baseline="30000">
                <a:solidFill>
                  <a:srgbClr val="336699"/>
                </a:solidFill>
                <a:latin typeface="Verdana"/>
              </a:rPr>
              <a:t>2 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+ 4</a:t>
            </a:r>
            <a:r>
              <a:rPr b="0" lang="en-US" sz="2100" spc="-1" strike="noStrike" baseline="30000">
                <a:solidFill>
                  <a:srgbClr val="336699"/>
                </a:solidFill>
                <a:latin typeface="Verdana"/>
              </a:rPr>
              <a:t> 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822" name="Freeform 47"/>
          <p:cNvSpPr/>
          <p:nvPr/>
        </p:nvSpPr>
        <p:spPr>
          <a:xfrm>
            <a:off x="6985080" y="2971800"/>
            <a:ext cx="1473120" cy="1523880"/>
          </a:xfrm>
          <a:custGeom>
            <a:avLst/>
            <a:gdLst>
              <a:gd name="textAreaLeft" fmla="*/ 0 w 1473120"/>
              <a:gd name="textAreaRight" fmla="*/ 1473480 w 1473120"/>
              <a:gd name="textAreaTop" fmla="*/ 0 h 1523880"/>
              <a:gd name="textAreaBottom" fmla="*/ 1524240 h 1523880"/>
            </a:gdLst>
            <a:ahLst/>
            <a:rect l="textAreaLeft" t="textAreaTop" r="textAreaRight" b="textAreaBottom"/>
            <a:pathLst>
              <a:path w="928" h="960">
                <a:moveTo>
                  <a:pt x="880" y="0"/>
                </a:moveTo>
                <a:cubicBezTo>
                  <a:pt x="640" y="96"/>
                  <a:pt x="400" y="192"/>
                  <a:pt x="256" y="288"/>
                </a:cubicBezTo>
                <a:cubicBezTo>
                  <a:pt x="112" y="384"/>
                  <a:pt x="0" y="488"/>
                  <a:pt x="16" y="576"/>
                </a:cubicBezTo>
                <a:cubicBezTo>
                  <a:pt x="32" y="664"/>
                  <a:pt x="200" y="752"/>
                  <a:pt x="352" y="816"/>
                </a:cubicBezTo>
                <a:cubicBezTo>
                  <a:pt x="504" y="880"/>
                  <a:pt x="716" y="920"/>
                  <a:pt x="928" y="960"/>
                </a:cubicBezTo>
              </a:path>
            </a:pathLst>
          </a:custGeom>
          <a:noFill/>
          <a:ln cap="sq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823" name="Freeform 48"/>
          <p:cNvSpPr/>
          <p:nvPr/>
        </p:nvSpPr>
        <p:spPr>
          <a:xfrm>
            <a:off x="6642000" y="3000240"/>
            <a:ext cx="1473480" cy="1524240"/>
          </a:xfrm>
          <a:custGeom>
            <a:avLst/>
            <a:gdLst>
              <a:gd name="textAreaLeft" fmla="*/ 0 w 1473480"/>
              <a:gd name="textAreaRight" fmla="*/ 1473840 w 1473480"/>
              <a:gd name="textAreaTop" fmla="*/ 0 h 1524240"/>
              <a:gd name="textAreaBottom" fmla="*/ 1524600 h 1524240"/>
            </a:gdLst>
            <a:ahLst/>
            <a:rect l="textAreaLeft" t="textAreaTop" r="textAreaRight" b="textAreaBottom"/>
            <a:pathLst>
              <a:path w="928" h="960">
                <a:moveTo>
                  <a:pt x="880" y="0"/>
                </a:moveTo>
                <a:cubicBezTo>
                  <a:pt x="640" y="96"/>
                  <a:pt x="400" y="192"/>
                  <a:pt x="256" y="288"/>
                </a:cubicBezTo>
                <a:cubicBezTo>
                  <a:pt x="112" y="384"/>
                  <a:pt x="0" y="488"/>
                  <a:pt x="16" y="576"/>
                </a:cubicBezTo>
                <a:cubicBezTo>
                  <a:pt x="32" y="664"/>
                  <a:pt x="200" y="752"/>
                  <a:pt x="352" y="816"/>
                </a:cubicBezTo>
                <a:cubicBezTo>
                  <a:pt x="504" y="880"/>
                  <a:pt x="716" y="920"/>
                  <a:pt x="928" y="960"/>
                </a:cubicBezTo>
              </a:path>
            </a:pathLst>
          </a:custGeom>
          <a:noFill/>
          <a:ln cap="sq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824" name="Freeform 49"/>
          <p:cNvSpPr/>
          <p:nvPr/>
        </p:nvSpPr>
        <p:spPr>
          <a:xfrm>
            <a:off x="7289640" y="2940120"/>
            <a:ext cx="1473480" cy="1523880"/>
          </a:xfrm>
          <a:custGeom>
            <a:avLst/>
            <a:gdLst>
              <a:gd name="textAreaLeft" fmla="*/ 0 w 1473480"/>
              <a:gd name="textAreaRight" fmla="*/ 1473840 w 1473480"/>
              <a:gd name="textAreaTop" fmla="*/ 0 h 1523880"/>
              <a:gd name="textAreaBottom" fmla="*/ 1524240 h 1523880"/>
            </a:gdLst>
            <a:ahLst/>
            <a:rect l="textAreaLeft" t="textAreaTop" r="textAreaRight" b="textAreaBottom"/>
            <a:pathLst>
              <a:path w="928" h="960">
                <a:moveTo>
                  <a:pt x="880" y="0"/>
                </a:moveTo>
                <a:cubicBezTo>
                  <a:pt x="640" y="96"/>
                  <a:pt x="400" y="192"/>
                  <a:pt x="256" y="288"/>
                </a:cubicBezTo>
                <a:cubicBezTo>
                  <a:pt x="112" y="384"/>
                  <a:pt x="0" y="488"/>
                  <a:pt x="16" y="576"/>
                </a:cubicBezTo>
                <a:cubicBezTo>
                  <a:pt x="32" y="664"/>
                  <a:pt x="200" y="752"/>
                  <a:pt x="352" y="816"/>
                </a:cubicBezTo>
                <a:cubicBezTo>
                  <a:pt x="504" y="880"/>
                  <a:pt x="716" y="920"/>
                  <a:pt x="928" y="960"/>
                </a:cubicBezTo>
              </a:path>
            </a:pathLst>
          </a:custGeom>
          <a:noFill/>
          <a:ln cap="sq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825" name="Freeform 50"/>
          <p:cNvSpPr/>
          <p:nvPr/>
        </p:nvSpPr>
        <p:spPr>
          <a:xfrm>
            <a:off x="7588080" y="2940120"/>
            <a:ext cx="1473480" cy="1523880"/>
          </a:xfrm>
          <a:custGeom>
            <a:avLst/>
            <a:gdLst>
              <a:gd name="textAreaLeft" fmla="*/ 0 w 1473480"/>
              <a:gd name="textAreaRight" fmla="*/ 1473840 w 1473480"/>
              <a:gd name="textAreaTop" fmla="*/ 0 h 1523880"/>
              <a:gd name="textAreaBottom" fmla="*/ 1524240 h 1523880"/>
            </a:gdLst>
            <a:ahLst/>
            <a:rect l="textAreaLeft" t="textAreaTop" r="textAreaRight" b="textAreaBottom"/>
            <a:pathLst>
              <a:path w="928" h="960">
                <a:moveTo>
                  <a:pt x="880" y="0"/>
                </a:moveTo>
                <a:cubicBezTo>
                  <a:pt x="640" y="96"/>
                  <a:pt x="400" y="192"/>
                  <a:pt x="256" y="288"/>
                </a:cubicBezTo>
                <a:cubicBezTo>
                  <a:pt x="112" y="384"/>
                  <a:pt x="0" y="488"/>
                  <a:pt x="16" y="576"/>
                </a:cubicBezTo>
                <a:cubicBezTo>
                  <a:pt x="32" y="664"/>
                  <a:pt x="200" y="752"/>
                  <a:pt x="352" y="816"/>
                </a:cubicBezTo>
                <a:cubicBezTo>
                  <a:pt x="504" y="880"/>
                  <a:pt x="716" y="920"/>
                  <a:pt x="928" y="960"/>
                </a:cubicBezTo>
              </a:path>
            </a:pathLst>
          </a:custGeom>
          <a:noFill/>
          <a:ln cap="sq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</p:spTree>
  </p:cSld>
  <p:timing>
    <p:tnLst>
      <p:par>
        <p:cTn id="1674" dur="indefinite" restart="never" nodeType="tmRoot">
          <p:childTnLst>
            <p:seq>
              <p:cTn id="1675" dur="indefinite" nodeType="mainSeq">
                <p:childTnLst>
                  <p:par>
                    <p:cTn id="1676" nodeType="clickEffect" fill="hold">
                      <p:stCondLst>
                        <p:cond delay="0"/>
                      </p:stCondLst>
                      <p:childTnLst>
                        <p:par>
                          <p:cTn id="16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80" dur="80"/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81" dur="80"/>
                                        <p:tgtEl>
                                          <p:spTgt spid="8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82" dur="80"/>
                                        <p:tgtEl>
                                          <p:spTgt spid="8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3" nodeType="clickEffect" fill="hold">
                      <p:stCondLst>
                        <p:cond delay="indefinite"/>
                      </p:stCondLst>
                      <p:childTnLst>
                        <p:par>
                          <p:cTn id="16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87" dur="20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0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1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2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3" dur="5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6" dur="500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7" nodeType="clickEffect" fill="hold">
                      <p:stCondLst>
                        <p:cond delay="indefinite"/>
                      </p:stCondLst>
                      <p:childTnLst>
                        <p:par>
                          <p:cTn id="1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01" dur="80"/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02" dur="80"/>
                                        <p:tgtEl>
                                          <p:spTgt spid="7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03" dur="80"/>
                                        <p:tgtEl>
                                          <p:spTgt spid="7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4" nodeType="clickEffect" fill="hold">
                      <p:stCondLst>
                        <p:cond delay="indefinite"/>
                      </p:stCondLst>
                      <p:childTnLst>
                        <p:par>
                          <p:cTn id="17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8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9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0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1" dur="5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4" dur="5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17" dur="20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8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0" dur="50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1" dur="50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2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4" dur="50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5" dur="50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6" nodeType="clickEffect" fill="hold">
                      <p:stCondLst>
                        <p:cond delay="indefinite"/>
                      </p:stCondLst>
                      <p:childTnLst>
                        <p:par>
                          <p:cTn id="17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0" dur="20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3" dur="20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4" nodeType="clickEffect" fill="hold">
                      <p:stCondLst>
                        <p:cond delay="indefinite"/>
                      </p:stCondLst>
                      <p:childTnLst>
                        <p:par>
                          <p:cTn id="17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38" dur="20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1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2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3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4" dur="5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7" dur="5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8" nodeType="clickEffect" fill="hold">
                      <p:stCondLst>
                        <p:cond delay="indefinite"/>
                      </p:stCondLst>
                      <p:childTnLst>
                        <p:par>
                          <p:cTn id="17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52" dur="80"/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53" dur="80"/>
                                        <p:tgtEl>
                                          <p:spTgt spid="8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54" dur="80"/>
                                        <p:tgtEl>
                                          <p:spTgt spid="8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5" nodeType="clickEffect" fill="hold">
                      <p:stCondLst>
                        <p:cond delay="indefinite"/>
                      </p:stCondLst>
                      <p:childTnLst>
                        <p:par>
                          <p:cTn id="17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9" dur="5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0" dur="5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1" dur="5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2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65" dur="80"/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66" dur="80"/>
                                        <p:tgtEl>
                                          <p:spTgt spid="7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67" dur="80"/>
                                        <p:tgtEl>
                                          <p:spTgt spid="7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8" nodeType="clickEffect" fill="hold">
                      <p:stCondLst>
                        <p:cond delay="indefinite"/>
                      </p:stCondLst>
                      <p:childTnLst>
                        <p:par>
                          <p:cTn id="17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72" dur="20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75" dur="20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6" nodeType="clickEffect" fill="hold">
                      <p:stCondLst>
                        <p:cond delay="indefinite"/>
                      </p:stCondLst>
                      <p:childTnLst>
                        <p:par>
                          <p:cTn id="17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80" dur="20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3" dur="5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4" dur="5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5" dur="5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6" dur="5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9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0" nodeType="clickEffect" fill="hold">
                      <p:stCondLst>
                        <p:cond delay="indefinite"/>
                      </p:stCondLst>
                      <p:childTnLst>
                        <p:par>
                          <p:cTn id="17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94" dur="80"/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95" dur="80"/>
                                        <p:tgtEl>
                                          <p:spTgt spid="8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96" dur="80"/>
                                        <p:tgtEl>
                                          <p:spTgt spid="8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7" nodeType="clickEffect" fill="hold">
                      <p:stCondLst>
                        <p:cond delay="indefinite"/>
                      </p:stCondLst>
                      <p:childTnLst>
                        <p:par>
                          <p:cTn id="17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1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2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3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4" dur="5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07" dur="80"/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08" dur="80"/>
                                        <p:tgtEl>
                                          <p:spTgt spid="8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09" dur="80"/>
                                        <p:tgtEl>
                                          <p:spTgt spid="8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0" nodeType="clickEffect" fill="hold">
                      <p:stCondLst>
                        <p:cond delay="indefinite"/>
                      </p:stCondLst>
                      <p:childTnLst>
                        <p:par>
                          <p:cTn id="18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4" dur="20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7" dur="20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8" nodeType="clickEffect" fill="hold">
                      <p:stCondLst>
                        <p:cond delay="indefinite"/>
                      </p:stCondLst>
                      <p:childTnLst>
                        <p:par>
                          <p:cTn id="18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22" dur="20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5" dur="5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6" dur="5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7" dur="5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8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1" dur="5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2" nodeType="clickEffect" fill="hold">
                      <p:stCondLst>
                        <p:cond delay="indefinite"/>
                      </p:stCondLst>
                      <p:childTnLst>
                        <p:par>
                          <p:cTn id="18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36" dur="80"/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37" dur="80"/>
                                        <p:tgtEl>
                                          <p:spTgt spid="8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38" dur="80"/>
                                        <p:tgtEl>
                                          <p:spTgt spid="8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9" nodeType="clickEffect" fill="hold">
                      <p:stCondLst>
                        <p:cond delay="indefinite"/>
                      </p:stCondLst>
                      <p:childTnLst>
                        <p:par>
                          <p:cTn id="18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3" dur="5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4" dur="5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5" dur="5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6" dur="5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49" dur="80"/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50" dur="80"/>
                                        <p:tgtEl>
                                          <p:spTgt spid="8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51" dur="80"/>
                                        <p:tgtEl>
                                          <p:spTgt spid="8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2" nodeType="clickEffect" fill="hold">
                      <p:stCondLst>
                        <p:cond delay="indefinite"/>
                      </p:stCondLst>
                      <p:childTnLst>
                        <p:par>
                          <p:cTn id="18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56" dur="5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59" dur="5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tiha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"/>
          <p:cNvSpPr txBox="1"/>
          <p:nvPr/>
        </p:nvSpPr>
        <p:spPr>
          <a:xfrm>
            <a:off x="380880" y="2066760"/>
            <a:ext cx="8305920" cy="27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57160" indent="-39996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(x,y) = 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/y , k = -4, -1, 0, 1, 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57160" indent="-39996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(x,y) = 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+y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, k = 0, 1, 4, 9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57160" indent="-39996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(x,y) = xy , k = -4, -1, 0, 1, 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57160" indent="-39996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(x,y) = y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– 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, k = 1, 2, 3, 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57160" indent="-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99960" indent="-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99960" indent="-399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DF83B-29B6-44E0-BC3F-461BD49916BC}" type="datetime">
              <a:rPr b="0" lang="en-US" sz="1200" spc="-1" strike="noStrike">
                <a:solidFill>
                  <a:srgbClr val="898989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829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Verdana"/>
              </a:rPr>
              <a:t>[MA 1124]</a:t>
            </a:r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Verdana"/>
              </a:rPr>
              <a:t>KALKULUS II</a:t>
            </a:r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83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B8878-6E8C-4F9B-BFCD-A3AD5D551999}" type="slidenum">
              <a:rPr b="0" lang="en-US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831" name="Rectangle 4"/>
          <p:cNvSpPr/>
          <p:nvPr/>
        </p:nvSpPr>
        <p:spPr>
          <a:xfrm>
            <a:off x="992880" y="1523880"/>
            <a:ext cx="50194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Gambarkan kurva ketinggian z = k dari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</p:spTree>
  </p:cSld>
  <p:timing>
    <p:tnLst>
      <p:par>
        <p:cTn id="1860" dur="indefinite" restart="never" nodeType="tmRoot">
          <p:childTnLst>
            <p:seq>
              <p:cTn id="1861" dur="indefinite" nodeType="mainSeq">
                <p:childTnLst>
                  <p:par>
                    <p:cTn id="1862" nodeType="clickEffect" fill="hold">
                      <p:stCondLst>
                        <p:cond delay="0"/>
                      </p:stCondLst>
                      <p:childTnLst>
                        <p:par>
                          <p:cTn id="18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4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69" dur="80"/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70" dur="80"/>
                                        <p:tgtEl>
                                          <p:spTgt spid="8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71" dur="80"/>
                                        <p:tgtEl>
                                          <p:spTgt spid="8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2" nodeType="clickEffect" fill="hold">
                      <p:stCondLst>
                        <p:cond delay="indefinite"/>
                      </p:stCondLst>
                      <p:childTnLst>
                        <p:par>
                          <p:cTn id="18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7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3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urunan Parsi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"/>
          <p:cNvSpPr txBox="1"/>
          <p:nvPr/>
        </p:nvSpPr>
        <p:spPr>
          <a:xfrm>
            <a:off x="609480" y="1527120"/>
            <a:ext cx="8305920" cy="22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3840" indent="-393840"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efinisi: Misalkan f(x,y) adalah fungsi dua peubah x dan y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93840" indent="-393840"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urunan parsial pertama dari f terhadap x (y dianggap konstan) didefinisikan sebagai beriku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571680" indent="-63720">
              <a:spcBef>
                <a:spcPts val="64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93840" indent="-393840"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C6F60-C17E-47ED-8834-18FCFC66680B}" type="datetime">
              <a:rPr b="0" lang="en-US" sz="1200" spc="-1" strike="noStrike">
                <a:solidFill>
                  <a:srgbClr val="898989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83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Verdana"/>
              </a:rPr>
              <a:t>[MA 1124]</a:t>
            </a:r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Verdana"/>
              </a:rPr>
              <a:t>KALKULUS II</a:t>
            </a:r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83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634B7-B866-42D8-B162-1FBF7710B241}" type="slidenum">
              <a:rPr b="0" lang="en-US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7" name="Object 4"/>
              <p:cNvSpPr txBox="1"/>
              <p:nvPr/>
            </p:nvSpPr>
            <p:spPr>
              <a:xfrm>
                <a:off x="2438280" y="3581280"/>
                <a:ext cx="3605400" cy="68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h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f>
                      <m:num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h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h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38" name="Rectangle 5"/>
          <p:cNvSpPr/>
          <p:nvPr/>
        </p:nvSpPr>
        <p:spPr>
          <a:xfrm>
            <a:off x="532080" y="4660920"/>
            <a:ext cx="76658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 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Turunan parsial pertama dari f terhadap y 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 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(x dianggap konstan) didefinisikan sebagai berikut 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9" name="Object 6"/>
              <p:cNvSpPr txBox="1"/>
              <p:nvPr/>
            </p:nvSpPr>
            <p:spPr>
              <a:xfrm>
                <a:off x="2490840" y="5713560"/>
                <a:ext cx="360504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h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f>
                      <m:num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+</m:t>
                        </m:r>
                        <m:r>
                          <m:t xml:space="preserve">h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h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1886" dur="indefinite" restart="never" nodeType="tmRoot">
          <p:childTnLst>
            <p:seq>
              <p:cTn id="1887" dur="indefinite" nodeType="mainSeq">
                <p:childTnLst>
                  <p:par>
                    <p:cTn id="1888" nodeType="clickEffect" fill="hold">
                      <p:stCondLst>
                        <p:cond delay="0"/>
                      </p:stCondLst>
                      <p:childTnLst>
                        <p:par>
                          <p:cTn id="18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2" dur="20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3" dur="20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4" dur="20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5" dur="2000"/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6" nodeType="clickEffect" fill="hold">
                      <p:stCondLst>
                        <p:cond delay="indefinite"/>
                      </p:stCondLst>
                      <p:childTnLst>
                        <p:par>
                          <p:cTn id="18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0" dur="200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1" dur="200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2" dur="200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3" dur="20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6" dur="20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7" dur="20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8" dur="20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9" dur="20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toh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70845-C1B4-4598-B587-8DE1E006FC5B}" type="datetime">
              <a:rPr b="0" lang="en-US" sz="1200" spc="-1" strike="noStrike">
                <a:solidFill>
                  <a:srgbClr val="898989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842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Verdana"/>
              </a:rPr>
              <a:t>[MA 1124]</a:t>
            </a:r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Verdana"/>
              </a:rPr>
              <a:t>KALKULUS II</a:t>
            </a:r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84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0C194-8350-4B31-9646-E41F335233D6}" type="slidenum">
              <a:rPr b="0" lang="en-US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844" name="Rectangle 3"/>
          <p:cNvSpPr/>
          <p:nvPr/>
        </p:nvSpPr>
        <p:spPr>
          <a:xfrm>
            <a:off x="344520" y="1752120"/>
            <a:ext cx="10893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Arial"/>
                <a:ea typeface="Times New Roman"/>
              </a:rPr>
              <a:t>1.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5" name="Object 4"/>
              <p:cNvSpPr txBox="1"/>
              <p:nvPr/>
            </p:nvSpPr>
            <p:spPr>
              <a:xfrm>
                <a:off x="1171440" y="1782720"/>
                <a:ext cx="21812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y</m:t>
                    </m:r>
                    <m:r>
                      <m:t xml:space="preserve">+</m:t>
                    </m:r>
                    <m:r>
                      <m:t xml:space="preserve">4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x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846" name="Rectangle 13"/>
          <p:cNvSpPr/>
          <p:nvPr/>
        </p:nvSpPr>
        <p:spPr>
          <a:xfrm>
            <a:off x="874800" y="1339920"/>
            <a:ext cx="2391840" cy="4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f497d"/>
                </a:solidFill>
                <a:latin typeface="Verdana"/>
              </a:rPr>
              <a:t>Tentukan f</a:t>
            </a:r>
            <a:r>
              <a:rPr b="0" lang="en-US" sz="2100" spc="-1" strike="noStrike" baseline="-25000">
                <a:solidFill>
                  <a:srgbClr val="1f497d"/>
                </a:solidFill>
                <a:latin typeface="Verdana"/>
              </a:rPr>
              <a:t>x</a:t>
            </a:r>
            <a:r>
              <a:rPr b="0" lang="en-US" sz="2100" spc="-1" strike="noStrike">
                <a:solidFill>
                  <a:srgbClr val="1f497d"/>
                </a:solidFill>
                <a:latin typeface="Verdana"/>
              </a:rPr>
              <a:t> dan f</a:t>
            </a:r>
            <a:r>
              <a:rPr b="0" lang="en-US" sz="2100" spc="-1" strike="noStrike" baseline="-25000">
                <a:solidFill>
                  <a:srgbClr val="1f497d"/>
                </a:solidFill>
                <a:latin typeface="Verdana"/>
              </a:rPr>
              <a:t>y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847" name="Text Box 14"/>
          <p:cNvSpPr/>
          <p:nvPr/>
        </p:nvSpPr>
        <p:spPr>
          <a:xfrm>
            <a:off x="1107720" y="2178000"/>
            <a:ext cx="9273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Jawab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848" name="Text Box 15"/>
          <p:cNvSpPr/>
          <p:nvPr/>
        </p:nvSpPr>
        <p:spPr>
          <a:xfrm>
            <a:off x="1430640" y="2584440"/>
            <a:ext cx="2523240" cy="4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f</a:t>
            </a:r>
            <a:r>
              <a:rPr b="0" lang="en-US" sz="2100" spc="-1" strike="noStrike" baseline="-25000">
                <a:solidFill>
                  <a:srgbClr val="336699"/>
                </a:solidFill>
                <a:latin typeface="Verdana"/>
              </a:rPr>
              <a:t>x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(x,y) = 3 x</a:t>
            </a:r>
            <a:r>
              <a:rPr b="0" lang="en-US" sz="2100" spc="-1" strike="noStrike" baseline="30000">
                <a:solidFill>
                  <a:srgbClr val="336699"/>
                </a:solidFill>
                <a:latin typeface="Verdana"/>
              </a:rPr>
              <a:t>2 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y + 4 y</a:t>
            </a:r>
            <a:r>
              <a:rPr b="0" lang="en-US" sz="2100" spc="-1" strike="noStrike" baseline="30000">
                <a:solidFill>
                  <a:srgbClr val="336699"/>
                </a:solidFill>
                <a:latin typeface="Verdana"/>
              </a:rPr>
              <a:t>2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849" name="Text Box 16"/>
          <p:cNvSpPr/>
          <p:nvPr/>
        </p:nvSpPr>
        <p:spPr>
          <a:xfrm>
            <a:off x="1371240" y="3032280"/>
            <a:ext cx="2147040" cy="4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f</a:t>
            </a:r>
            <a:r>
              <a:rPr b="0" lang="en-US" sz="2100" spc="-1" strike="noStrike" baseline="-25000">
                <a:solidFill>
                  <a:srgbClr val="336699"/>
                </a:solidFill>
                <a:latin typeface="Verdana"/>
              </a:rPr>
              <a:t>y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(x,y) = x</a:t>
            </a:r>
            <a:r>
              <a:rPr b="0" lang="en-US" sz="2100" spc="-1" strike="noStrike" baseline="30000">
                <a:solidFill>
                  <a:srgbClr val="336699"/>
                </a:solidFill>
                <a:latin typeface="Verdana"/>
              </a:rPr>
              <a:t>3 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+ 8 xy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850" name="Rectangle 19"/>
          <p:cNvSpPr/>
          <p:nvPr/>
        </p:nvSpPr>
        <p:spPr>
          <a:xfrm>
            <a:off x="344520" y="3504600"/>
            <a:ext cx="10893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Arial"/>
                <a:ea typeface="Times New Roman"/>
              </a:rPr>
              <a:t>2.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1" name="Object 20"/>
              <p:cNvSpPr txBox="1"/>
              <p:nvPr/>
            </p:nvSpPr>
            <p:spPr>
              <a:xfrm>
                <a:off x="1182600" y="3535200"/>
                <a:ext cx="2536920" cy="40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y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52" name="Rectangle 21"/>
          <p:cNvSpPr/>
          <p:nvPr/>
        </p:nvSpPr>
        <p:spPr>
          <a:xfrm>
            <a:off x="3925800" y="1690200"/>
            <a:ext cx="10893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Arial"/>
                <a:ea typeface="Times New Roman"/>
              </a:rPr>
              <a:t>3.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3" name="Object 22"/>
              <p:cNvSpPr txBox="1"/>
              <p:nvPr/>
            </p:nvSpPr>
            <p:spPr>
              <a:xfrm>
                <a:off x="4719600" y="1631880"/>
                <a:ext cx="2247840" cy="5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lnsin</m:t>
                        </m:r>
                        <m:r>
                          <m:t xml:space="preserve">t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854" name="Text Box 23"/>
          <p:cNvSpPr/>
          <p:nvPr/>
        </p:nvSpPr>
        <p:spPr>
          <a:xfrm>
            <a:off x="1107720" y="3914640"/>
            <a:ext cx="9273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Jawab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855" name="Text Box 24"/>
          <p:cNvSpPr/>
          <p:nvPr/>
        </p:nvSpPr>
        <p:spPr>
          <a:xfrm>
            <a:off x="1491840" y="4321080"/>
            <a:ext cx="3060000" cy="4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f</a:t>
            </a:r>
            <a:r>
              <a:rPr b="0" lang="en-US" sz="2100" spc="-1" strike="noStrike" baseline="-25000">
                <a:solidFill>
                  <a:srgbClr val="336699"/>
                </a:solidFill>
                <a:latin typeface="Verdana"/>
              </a:rPr>
              <a:t>x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(x,y) = –2xy s</a:t>
            </a:r>
            <a:r>
              <a:rPr b="0" lang="id-ID" sz="2100" spc="-1" strike="noStrike">
                <a:solidFill>
                  <a:srgbClr val="336699"/>
                </a:solidFill>
                <a:latin typeface="Verdana"/>
              </a:rPr>
              <a:t>in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(x</a:t>
            </a:r>
            <a:r>
              <a:rPr b="0" lang="en-US" sz="2100" spc="-1" strike="noStrike" baseline="30000">
                <a:solidFill>
                  <a:srgbClr val="336699"/>
                </a:solidFill>
                <a:latin typeface="Verdana"/>
              </a:rPr>
              <a:t>2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 + y</a:t>
            </a:r>
            <a:r>
              <a:rPr b="0" lang="en-US" sz="2100" spc="-1" strike="noStrike" baseline="30000">
                <a:solidFill>
                  <a:srgbClr val="336699"/>
                </a:solidFill>
                <a:latin typeface="Verdana"/>
              </a:rPr>
              <a:t>2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)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856" name="Text Box 25"/>
          <p:cNvSpPr/>
          <p:nvPr/>
        </p:nvSpPr>
        <p:spPr>
          <a:xfrm>
            <a:off x="1581480" y="4768920"/>
            <a:ext cx="4090320" cy="4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f</a:t>
            </a:r>
            <a:r>
              <a:rPr b="0" lang="en-US" sz="2100" spc="-1" strike="noStrike" baseline="-25000">
                <a:solidFill>
                  <a:srgbClr val="336699"/>
                </a:solidFill>
                <a:latin typeface="Verdana"/>
              </a:rPr>
              <a:t>y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(x,y) = cos(x</a:t>
            </a:r>
            <a:r>
              <a:rPr b="0" lang="en-US" sz="2100" spc="-1" strike="noStrike" baseline="30000">
                <a:solidFill>
                  <a:srgbClr val="336699"/>
                </a:solidFill>
                <a:latin typeface="Verdana"/>
              </a:rPr>
              <a:t>2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+y</a:t>
            </a:r>
            <a:r>
              <a:rPr b="0" lang="en-US" sz="2100" spc="-1" strike="noStrike" baseline="30000">
                <a:solidFill>
                  <a:srgbClr val="336699"/>
                </a:solidFill>
                <a:latin typeface="Verdana"/>
              </a:rPr>
              <a:t>2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)– 2y</a:t>
            </a:r>
            <a:r>
              <a:rPr b="0" lang="en-US" sz="2100" spc="-1" strike="noStrike" baseline="30000">
                <a:solidFill>
                  <a:srgbClr val="336699"/>
                </a:solidFill>
                <a:latin typeface="Verdana"/>
              </a:rPr>
              <a:t>2 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sin(x</a:t>
            </a:r>
            <a:r>
              <a:rPr b="0" lang="en-US" sz="2100" spc="-1" strike="noStrike" baseline="30000">
                <a:solidFill>
                  <a:srgbClr val="336699"/>
                </a:solidFill>
                <a:latin typeface="Verdana"/>
              </a:rPr>
              <a:t>2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+y</a:t>
            </a:r>
            <a:r>
              <a:rPr b="0" lang="en-US" sz="2100" spc="-1" strike="noStrike" baseline="30000">
                <a:solidFill>
                  <a:srgbClr val="336699"/>
                </a:solidFill>
                <a:latin typeface="Verdana"/>
              </a:rPr>
              <a:t>2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)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857" name="Text Box 28"/>
          <p:cNvSpPr/>
          <p:nvPr/>
        </p:nvSpPr>
        <p:spPr>
          <a:xfrm>
            <a:off x="4689360" y="2133720"/>
            <a:ext cx="9273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Jawab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858" name="Text Box 29"/>
          <p:cNvSpPr/>
          <p:nvPr/>
        </p:nvSpPr>
        <p:spPr>
          <a:xfrm>
            <a:off x="5052960" y="2540160"/>
            <a:ext cx="3527280" cy="4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f</a:t>
            </a:r>
            <a:r>
              <a:rPr b="0" lang="en-US" sz="2100" spc="-1" strike="noStrike" baseline="-25000">
                <a:solidFill>
                  <a:srgbClr val="336699"/>
                </a:solidFill>
                <a:latin typeface="Verdana"/>
              </a:rPr>
              <a:t>x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(x,y)=0. ln(siny)–1. ln(sinx)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859" name="Text Box 34"/>
          <p:cNvSpPr/>
          <p:nvPr/>
        </p:nvSpPr>
        <p:spPr>
          <a:xfrm>
            <a:off x="4957200" y="2940120"/>
            <a:ext cx="2257920" cy="4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f</a:t>
            </a:r>
            <a:r>
              <a:rPr b="0" lang="en-US" sz="2100" spc="-1" strike="noStrike" baseline="-25000">
                <a:solidFill>
                  <a:srgbClr val="336699"/>
                </a:solidFill>
                <a:latin typeface="Verdana"/>
              </a:rPr>
              <a:t>x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(x,y) = – ln(sinx)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860" name="Text Box 35"/>
          <p:cNvSpPr/>
          <p:nvPr/>
        </p:nvSpPr>
        <p:spPr>
          <a:xfrm>
            <a:off x="5053680" y="3301920"/>
            <a:ext cx="3525840" cy="4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f</a:t>
            </a:r>
            <a:r>
              <a:rPr b="0" lang="en-US" sz="2100" spc="-1" strike="noStrike" baseline="-25000">
                <a:solidFill>
                  <a:srgbClr val="336699"/>
                </a:solidFill>
                <a:latin typeface="Verdana"/>
              </a:rPr>
              <a:t>y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(x,y)=1. ln(siny)–0. ln(sinx)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861" name="Text Box 36"/>
          <p:cNvSpPr/>
          <p:nvPr/>
        </p:nvSpPr>
        <p:spPr>
          <a:xfrm>
            <a:off x="4931640" y="3701880"/>
            <a:ext cx="2045880" cy="4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f</a:t>
            </a:r>
            <a:r>
              <a:rPr b="0" lang="en-US" sz="2100" spc="-1" strike="noStrike" baseline="-25000">
                <a:solidFill>
                  <a:srgbClr val="336699"/>
                </a:solidFill>
                <a:latin typeface="Verdana"/>
              </a:rPr>
              <a:t>y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(x,y) = ln(siny)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</p:spTree>
  </p:cSld>
  <p:timing>
    <p:tnLst>
      <p:par>
        <p:cTn id="1910" dur="indefinite" restart="never" nodeType="tmRoot">
          <p:childTnLst>
            <p:seq>
              <p:cTn id="1911" dur="indefinite" nodeType="mainSeq">
                <p:childTnLst>
                  <p:par>
                    <p:cTn id="1912" nodeType="clickEffect" fill="hold">
                      <p:stCondLst>
                        <p:cond delay="0"/>
                      </p:stCondLst>
                      <p:childTnLst>
                        <p:par>
                          <p:cTn id="19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16" dur="20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19" dur="20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22" dur="20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3" nodeType="clickEffect" fill="hold">
                      <p:stCondLst>
                        <p:cond delay="indefinite"/>
                      </p:stCondLst>
                      <p:childTnLst>
                        <p:par>
                          <p:cTn id="19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27" dur="80"/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28" dur="80"/>
                                        <p:tgtEl>
                                          <p:spTgt spid="8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29" dur="80"/>
                                        <p:tgtEl>
                                          <p:spTgt spid="8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0" nodeType="clickEffect" fill="hold">
                      <p:stCondLst>
                        <p:cond delay="indefinite"/>
                      </p:stCondLst>
                      <p:childTnLst>
                        <p:par>
                          <p:cTn id="19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34" dur="80"/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35" dur="80"/>
                                        <p:tgtEl>
                                          <p:spTgt spid="8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36" dur="80"/>
                                        <p:tgtEl>
                                          <p:spTgt spid="8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7" nodeType="clickEffect" fill="hold">
                      <p:stCondLst>
                        <p:cond delay="indefinite"/>
                      </p:stCondLst>
                      <p:childTnLst>
                        <p:par>
                          <p:cTn id="19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41" dur="80"/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42" dur="80"/>
                                        <p:tgtEl>
                                          <p:spTgt spid="8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43" dur="80"/>
                                        <p:tgtEl>
                                          <p:spTgt spid="8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4" nodeType="clickEffect" fill="hold">
                      <p:stCondLst>
                        <p:cond delay="indefinite"/>
                      </p:stCondLst>
                      <p:childTnLst>
                        <p:par>
                          <p:cTn id="19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8" dur="500"/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1" dur="5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2" nodeType="clickEffect" fill="hold">
                      <p:stCondLst>
                        <p:cond delay="indefinite"/>
                      </p:stCondLst>
                      <p:childTnLst>
                        <p:par>
                          <p:cTn id="19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56" dur="80"/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57" dur="80"/>
                                        <p:tgtEl>
                                          <p:spTgt spid="8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58" dur="80"/>
                                        <p:tgtEl>
                                          <p:spTgt spid="8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9" nodeType="clickEffect" fill="hold">
                      <p:stCondLst>
                        <p:cond delay="indefinite"/>
                      </p:stCondLst>
                      <p:childTnLst>
                        <p:par>
                          <p:cTn id="19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63" dur="80"/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64" dur="80"/>
                                        <p:tgtEl>
                                          <p:spTgt spid="8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65" dur="80"/>
                                        <p:tgtEl>
                                          <p:spTgt spid="8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6" nodeType="clickEffect" fill="hold">
                      <p:stCondLst>
                        <p:cond delay="indefinite"/>
                      </p:stCondLst>
                      <p:childTnLst>
                        <p:par>
                          <p:cTn id="19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70" dur="80"/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71" dur="80"/>
                                        <p:tgtEl>
                                          <p:spTgt spid="8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72" dur="80"/>
                                        <p:tgtEl>
                                          <p:spTgt spid="8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3" nodeType="clickEffect" fill="hold">
                      <p:stCondLst>
                        <p:cond delay="indefinite"/>
                      </p:stCondLst>
                      <p:childTnLst>
                        <p:par>
                          <p:cTn id="19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7" dur="5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0" dur="5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1" nodeType="clickEffect" fill="hold">
                      <p:stCondLst>
                        <p:cond delay="indefinite"/>
                      </p:stCondLst>
                      <p:childTnLst>
                        <p:par>
                          <p:cTn id="19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85" dur="80"/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86" dur="80"/>
                                        <p:tgtEl>
                                          <p:spTgt spid="8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87" dur="80"/>
                                        <p:tgtEl>
                                          <p:spTgt spid="8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8" nodeType="clickEffect" fill="hold">
                      <p:stCondLst>
                        <p:cond delay="indefinite"/>
                      </p:stCondLst>
                      <p:childTnLst>
                        <p:par>
                          <p:cTn id="19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92" dur="80"/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93" dur="80"/>
                                        <p:tgtEl>
                                          <p:spTgt spid="8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94" dur="80"/>
                                        <p:tgtEl>
                                          <p:spTgt spid="8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5" nodeType="clickEffect" fill="hold">
                      <p:stCondLst>
                        <p:cond delay="indefinite"/>
                      </p:stCondLst>
                      <p:childTnLst>
                        <p:par>
                          <p:cTn id="19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9" dur="5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0" dur="5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1" dur="5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2" dur="5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3" nodeType="clickEffect" fill="hold">
                      <p:stCondLst>
                        <p:cond delay="indefinite"/>
                      </p:stCondLst>
                      <p:childTnLst>
                        <p:par>
                          <p:cTn id="20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07" dur="80"/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08" dur="80"/>
                                        <p:tgtEl>
                                          <p:spTgt spid="8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09" dur="80"/>
                                        <p:tgtEl>
                                          <p:spTgt spid="8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0" nodeType="clickEffect" fill="hold">
                      <p:stCondLst>
                        <p:cond delay="indefinite"/>
                      </p:stCondLst>
                      <p:childTnLst>
                        <p:par>
                          <p:cTn id="20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4" dur="500" fill="hold"/>
                                        <p:tgtEl>
                                          <p:spTgt spid="8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5" dur="500" fill="hold"/>
                                        <p:tgtEl>
                                          <p:spTgt spid="8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6" dur="500" fill="hold"/>
                                        <p:tgtEl>
                                          <p:spTgt spid="8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7" dur="500" fill="hold"/>
                                        <p:tgtEl>
                                          <p:spTgt spid="8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tiha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E5400-7C58-4989-9C63-5CDEA2800891}" type="datetime">
              <a:rPr b="0" lang="en-US" sz="1200" spc="-1" strike="noStrike">
                <a:solidFill>
                  <a:srgbClr val="898989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864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Verdana"/>
              </a:rPr>
              <a:t>[MA 1124]</a:t>
            </a:r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Verdana"/>
              </a:rPr>
              <a:t>KALKULUS II</a:t>
            </a:r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86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6BE0D-E3BA-4C4A-BFCF-E3A47169EA71}" type="slidenum">
              <a:rPr b="0" lang="en-US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866" name="Rectangle 4"/>
          <p:cNvSpPr/>
          <p:nvPr/>
        </p:nvSpPr>
        <p:spPr>
          <a:xfrm>
            <a:off x="344520" y="1752120"/>
            <a:ext cx="10893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Arial"/>
                <a:ea typeface="Times New Roman"/>
              </a:rPr>
              <a:t>1.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867" name="Rectangle 6"/>
          <p:cNvSpPr/>
          <p:nvPr/>
        </p:nvSpPr>
        <p:spPr>
          <a:xfrm>
            <a:off x="344520" y="2221920"/>
            <a:ext cx="10893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Arial"/>
                <a:ea typeface="Times New Roman"/>
              </a:rPr>
              <a:t>2.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8" name="Object 9"/>
              <p:cNvSpPr txBox="1"/>
              <p:nvPr/>
            </p:nvSpPr>
            <p:spPr>
              <a:xfrm>
                <a:off x="1200240" y="1752480"/>
                <a:ext cx="4362480" cy="40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y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x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9" name="Object 13"/>
              <p:cNvSpPr txBox="1"/>
              <p:nvPr/>
            </p:nvSpPr>
            <p:spPr>
              <a:xfrm>
                <a:off x="1246320" y="2133720"/>
                <a:ext cx="2334960" cy="5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t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870" name="Rectangle 14"/>
          <p:cNvSpPr/>
          <p:nvPr/>
        </p:nvSpPr>
        <p:spPr>
          <a:xfrm>
            <a:off x="874800" y="1339920"/>
            <a:ext cx="2391840" cy="4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f497d"/>
                </a:solidFill>
                <a:latin typeface="Verdana"/>
              </a:rPr>
              <a:t>Tentukan f</a:t>
            </a:r>
            <a:r>
              <a:rPr b="0" lang="en-US" sz="2100" spc="-1" strike="noStrike" baseline="-25000">
                <a:solidFill>
                  <a:srgbClr val="1f497d"/>
                </a:solidFill>
                <a:latin typeface="Verdana"/>
              </a:rPr>
              <a:t>x</a:t>
            </a:r>
            <a:r>
              <a:rPr b="0" lang="en-US" sz="2100" spc="-1" strike="noStrike">
                <a:solidFill>
                  <a:srgbClr val="1f497d"/>
                </a:solidFill>
                <a:latin typeface="Verdana"/>
              </a:rPr>
              <a:t> dan f</a:t>
            </a:r>
            <a:r>
              <a:rPr b="0" lang="en-US" sz="2100" spc="-1" strike="noStrike" baseline="-25000">
                <a:solidFill>
                  <a:srgbClr val="1f497d"/>
                </a:solidFill>
                <a:latin typeface="Verdana"/>
              </a:rPr>
              <a:t>y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871" name="Rectangle 15"/>
          <p:cNvSpPr/>
          <p:nvPr/>
        </p:nvSpPr>
        <p:spPr>
          <a:xfrm>
            <a:off x="344520" y="2736360"/>
            <a:ext cx="10893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Arial"/>
                <a:ea typeface="Times New Roman"/>
              </a:rPr>
              <a:t>3.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2" name="Object 16"/>
              <p:cNvSpPr txBox="1"/>
              <p:nvPr/>
            </p:nvSpPr>
            <p:spPr>
              <a:xfrm>
                <a:off x="1176480" y="2768760"/>
                <a:ext cx="45385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y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xy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73" name="Rectangle 17"/>
          <p:cNvSpPr/>
          <p:nvPr/>
        </p:nvSpPr>
        <p:spPr>
          <a:xfrm>
            <a:off x="344520" y="3774600"/>
            <a:ext cx="10893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Arial"/>
                <a:ea typeface="Times New Roman"/>
              </a:rPr>
              <a:t>1.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4" name="Object 18"/>
              <p:cNvSpPr txBox="1"/>
              <p:nvPr/>
            </p:nvSpPr>
            <p:spPr>
              <a:xfrm>
                <a:off x="1219320" y="3790800"/>
                <a:ext cx="3427200" cy="40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,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xy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z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xz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75" name="Rectangle 19"/>
          <p:cNvSpPr/>
          <p:nvPr/>
        </p:nvSpPr>
        <p:spPr>
          <a:xfrm>
            <a:off x="344520" y="4231800"/>
            <a:ext cx="10893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Arial"/>
                <a:ea typeface="Times New Roman"/>
              </a:rPr>
              <a:t>2.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6" name="Object 20"/>
              <p:cNvSpPr txBox="1"/>
              <p:nvPr/>
            </p:nvSpPr>
            <p:spPr>
              <a:xfrm>
                <a:off x="1233360" y="4259160"/>
                <a:ext cx="387216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,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−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xy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77" name="Rectangle 21"/>
          <p:cNvSpPr/>
          <p:nvPr/>
        </p:nvSpPr>
        <p:spPr>
          <a:xfrm>
            <a:off x="999720" y="3321000"/>
            <a:ext cx="2666160" cy="4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f497d"/>
                </a:solidFill>
                <a:latin typeface="Verdana"/>
              </a:rPr>
              <a:t>Tentukan f</a:t>
            </a:r>
            <a:r>
              <a:rPr b="0" lang="en-US" sz="2100" spc="-1" strike="noStrike" baseline="-25000">
                <a:solidFill>
                  <a:srgbClr val="1f497d"/>
                </a:solidFill>
                <a:latin typeface="Verdana"/>
              </a:rPr>
              <a:t>x</a:t>
            </a:r>
            <a:r>
              <a:rPr b="0" lang="en-US" sz="2100" spc="-1" strike="noStrike">
                <a:solidFill>
                  <a:srgbClr val="1f497d"/>
                </a:solidFill>
                <a:latin typeface="Verdana"/>
              </a:rPr>
              <a:t>, f</a:t>
            </a:r>
            <a:r>
              <a:rPr b="0" lang="en-US" sz="2100" spc="-1" strike="noStrike" baseline="-25000">
                <a:solidFill>
                  <a:srgbClr val="1f497d"/>
                </a:solidFill>
                <a:latin typeface="Verdana"/>
              </a:rPr>
              <a:t>y </a:t>
            </a:r>
            <a:r>
              <a:rPr b="0" lang="en-US" sz="2100" spc="-1" strike="noStrike">
                <a:solidFill>
                  <a:srgbClr val="1f497d"/>
                </a:solidFill>
                <a:latin typeface="Verdana"/>
              </a:rPr>
              <a:t>dan f</a:t>
            </a:r>
            <a:r>
              <a:rPr b="0" lang="en-US" sz="2100" spc="-1" strike="noStrike" baseline="-25000">
                <a:solidFill>
                  <a:srgbClr val="1f497d"/>
                </a:solidFill>
                <a:latin typeface="Verdana"/>
              </a:rPr>
              <a:t>z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</p:spTree>
  </p:cSld>
  <p:timing>
    <p:tnLst>
      <p:par>
        <p:cTn id="2018" dur="indefinite" restart="never" nodeType="tmRoot">
          <p:childTnLst>
            <p:seq>
              <p:cTn id="2019" dur="indefinite" nodeType="mainSeq">
                <p:childTnLst>
                  <p:par>
                    <p:cTn id="2020" nodeType="clickEffect" fill="hold">
                      <p:stCondLst>
                        <p:cond delay="0"/>
                      </p:stCondLst>
                      <p:childTnLst>
                        <p:par>
                          <p:cTn id="20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4" dur="5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7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0" dur="500"/>
                                        <p:tgtEl>
                                          <p:spTgt spid="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3" dur="5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6" dur="5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9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2" dur="500"/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5" dur="500"/>
                                        <p:tgtEl>
                                          <p:spTgt spid="8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8" dur="500"/>
                                        <p:tgtEl>
                                          <p:spTgt spid="8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1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urunan Parsial Kedu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9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C3E5B-6830-4D7B-9CEE-A20C979D7F48}" type="datetime">
              <a:rPr b="0" lang="en-US" sz="1200" spc="-1" strike="noStrike">
                <a:solidFill>
                  <a:srgbClr val="898989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880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Verdana"/>
              </a:rPr>
              <a:t>[MA 1124]</a:t>
            </a:r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Verdana"/>
              </a:rPr>
              <a:t>KALKULUS II</a:t>
            </a:r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88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E6C4E-A3DC-46DC-A494-83E967BF2DDD}" type="slidenum">
              <a:rPr b="0" lang="en-US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2" name="Object 4"/>
              <p:cNvSpPr txBox="1"/>
              <p:nvPr/>
            </p:nvSpPr>
            <p:spPr>
              <a:xfrm>
                <a:off x="1666800" y="1523880"/>
                <a:ext cx="3225960" cy="80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xx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f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x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f</m:t>
                        </m:r>
                      </m:num>
                      <m:den>
                        <m:r>
                          <m:t xml:space="preserve">∂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3" name="Object 6"/>
              <p:cNvSpPr txBox="1"/>
              <p:nvPr/>
            </p:nvSpPr>
            <p:spPr>
              <a:xfrm>
                <a:off x="1666800" y="2382840"/>
                <a:ext cx="3227400" cy="79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yy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y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f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y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f</m:t>
                        </m:r>
                      </m:num>
                      <m:den>
                        <m:r>
                          <m:t xml:space="preserve">∂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4" name="Object 8"/>
              <p:cNvSpPr txBox="1"/>
              <p:nvPr/>
            </p:nvSpPr>
            <p:spPr>
              <a:xfrm>
                <a:off x="1646280" y="3373560"/>
                <a:ext cx="3382920" cy="79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xy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y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f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x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f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y</m:t>
                        </m:r>
                        <m:r>
                          <m:t xml:space="preserve">∂</m:t>
                        </m:r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5" name="Object 10"/>
              <p:cNvSpPr txBox="1"/>
              <p:nvPr/>
            </p:nvSpPr>
            <p:spPr>
              <a:xfrm>
                <a:off x="1574640" y="4516560"/>
                <a:ext cx="3381480" cy="79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yx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f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y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f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  <m:r>
                          <m:t xml:space="preserve">∂</m:t>
                        </m:r>
                        <m:r>
                          <m:t xml:space="preserve">y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2052" dur="indefinite" restart="never" nodeType="tmRoot">
          <p:childTnLst>
            <p:seq>
              <p:cTn id="2053" dur="indefinite" nodeType="mainSeq">
                <p:childTnLst>
                  <p:par>
                    <p:cTn id="2054" nodeType="clickEffect" fill="hold">
                      <p:stCondLst>
                        <p:cond delay="indefinite"/>
                      </p:stCondLst>
                      <p:childTnLst>
                        <p:par>
                          <p:cTn id="20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8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9" nodeType="clickEffect" fill="hold">
                      <p:stCondLst>
                        <p:cond delay="indefinite"/>
                      </p:stCondLst>
                      <p:childTnLst>
                        <p:par>
                          <p:cTn id="20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3" dur="500"/>
                                        <p:tgtEl>
                                          <p:spTgt spid="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6" dur="5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9" dur="500"/>
                                        <p:tgtEl>
                                          <p:spTgt spid="8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87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mukaan di Ruang (R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990360"/>
            <a:ext cx="8271000" cy="23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3360" indent="0">
              <a:lnSpc>
                <a:spcPct val="7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belum belajar tentang fungsi dua peubah,  terlebih dahulu kita mengenal permukaan  di ruang dan cara membuat sketsa suatu permukaan di ruang (R3).  Berikut beberapa fungsi permukaan di ruang, antara lain 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3360" indent="0">
              <a:lnSpc>
                <a:spcPct val="7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la, mempunyai bentuk umum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3360" indent="0">
              <a:lnSpc>
                <a:spcPct val="7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3360" indent="0">
              <a:lnSpc>
                <a:spcPct val="7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Date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BBFA5-FC42-46ED-82A3-9C107C26C9EB}" type="datetime">
              <a:rPr b="0" lang="en-US" sz="1200" spc="-1" strike="noStrike">
                <a:solidFill>
                  <a:srgbClr val="898989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291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Verdana"/>
              </a:rPr>
              <a:t>[MA 1124]</a:t>
            </a:r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Verdana"/>
              </a:rPr>
              <a:t>KALKULUS II</a:t>
            </a:r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292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A1D98-183E-40B2-B125-EBF478DDC889}" type="slidenum">
              <a:rPr b="0" lang="en-US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293" name="Rectangle 4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294" name="Rectangle 5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295" name="Rectangle 6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6" name="Object 7"/>
              <p:cNvSpPr txBox="1"/>
              <p:nvPr/>
            </p:nvSpPr>
            <p:spPr>
              <a:xfrm>
                <a:off x="2743200" y="3505320"/>
                <a:ext cx="315108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a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" name="Object 8"/>
              <p:cNvSpPr txBox="1"/>
              <p:nvPr/>
            </p:nvSpPr>
            <p:spPr>
              <a:xfrm>
                <a:off x="4495680" y="4267080"/>
                <a:ext cx="1546200" cy="4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98" name="Rectangle 9"/>
          <p:cNvSpPr/>
          <p:nvPr/>
        </p:nvSpPr>
        <p:spPr>
          <a:xfrm>
            <a:off x="716400" y="4266720"/>
            <a:ext cx="38901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Arial"/>
                <a:ea typeface="Times New Roman"/>
              </a:rPr>
              <a:t>Jejak di bidang XOY,  z = 0 </a:t>
            </a:r>
            <a:r>
              <a:rPr b="0" lang="en-US" sz="2100" spc="-1" strike="noStrike">
                <a:solidFill>
                  <a:srgbClr val="336699"/>
                </a:solidFill>
                <a:latin typeface="Wingdings"/>
                <a:ea typeface="Wingdings"/>
              </a:rPr>
              <a:t>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  <a:ea typeface="Times New Roman"/>
              </a:rPr>
              <a:t>  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299" name="Rectangle 10"/>
          <p:cNvSpPr/>
          <p:nvPr/>
        </p:nvSpPr>
        <p:spPr>
          <a:xfrm>
            <a:off x="793080" y="4800240"/>
            <a:ext cx="38746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Arial"/>
                <a:ea typeface="Times New Roman"/>
              </a:rPr>
              <a:t>Jejak di bidang XOZ,  y = 0 </a:t>
            </a:r>
            <a:r>
              <a:rPr b="0" lang="en-US" sz="2100" spc="-1" strike="noStrike">
                <a:solidFill>
                  <a:srgbClr val="336699"/>
                </a:solidFill>
                <a:latin typeface="Wingdings"/>
                <a:ea typeface="Wingdings"/>
              </a:rPr>
              <a:t>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  <a:ea typeface="Times New Roman"/>
              </a:rPr>
              <a:t>  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300" name="Rectangle 11"/>
          <p:cNvSpPr/>
          <p:nvPr/>
        </p:nvSpPr>
        <p:spPr>
          <a:xfrm>
            <a:off x="6203160" y="4267080"/>
            <a:ext cx="26175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 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, berupa  lingkaran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1" name="Object 12"/>
              <p:cNvSpPr txBox="1"/>
              <p:nvPr/>
            </p:nvSpPr>
            <p:spPr>
              <a:xfrm>
                <a:off x="4495680" y="4800600"/>
                <a:ext cx="1524240" cy="4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02" name="Rectangle 13"/>
          <p:cNvSpPr/>
          <p:nvPr/>
        </p:nvSpPr>
        <p:spPr>
          <a:xfrm>
            <a:off x="6203160" y="4800600"/>
            <a:ext cx="26175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 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, berupa  lingkaran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303" name="Rectangle 14"/>
          <p:cNvSpPr/>
          <p:nvPr/>
        </p:nvSpPr>
        <p:spPr>
          <a:xfrm>
            <a:off x="716760" y="5333400"/>
            <a:ext cx="38746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Arial"/>
                <a:ea typeface="Times New Roman"/>
              </a:rPr>
              <a:t>Jejak di bidang YOZ,  x = 0 </a:t>
            </a:r>
            <a:r>
              <a:rPr b="0" lang="en-US" sz="2100" spc="-1" strike="noStrike">
                <a:solidFill>
                  <a:srgbClr val="336699"/>
                </a:solidFill>
                <a:latin typeface="Wingdings"/>
                <a:ea typeface="Wingdings"/>
              </a:rPr>
              <a:t>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  <a:ea typeface="Times New Roman"/>
              </a:rPr>
              <a:t>  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4" name="Object 15"/>
              <p:cNvSpPr txBox="1"/>
              <p:nvPr/>
            </p:nvSpPr>
            <p:spPr>
              <a:xfrm>
                <a:off x="4495680" y="5334120"/>
                <a:ext cx="1524240" cy="42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05" name="Rectangle 16"/>
          <p:cNvSpPr/>
          <p:nvPr/>
        </p:nvSpPr>
        <p:spPr>
          <a:xfrm>
            <a:off x="6203160" y="5334120"/>
            <a:ext cx="26175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 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, berupa  lingkaran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9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2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to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7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4D0F3-4BBC-4415-80E9-08A91D5B8333}" type="datetime">
              <a:rPr b="0" lang="en-US" sz="1200" spc="-1" strike="noStrike">
                <a:solidFill>
                  <a:srgbClr val="898989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888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Verdana"/>
              </a:rPr>
              <a:t>[MA 1124]</a:t>
            </a:r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Verdana"/>
              </a:rPr>
              <a:t>KALKULUS II</a:t>
            </a:r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88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516D0-FA88-47C1-85C0-F9C0B78594B6}" type="slidenum">
              <a:rPr b="0" lang="en-US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890" name="Rectangle 5"/>
          <p:cNvSpPr/>
          <p:nvPr/>
        </p:nvSpPr>
        <p:spPr>
          <a:xfrm>
            <a:off x="736560" y="1828440"/>
            <a:ext cx="320832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  <a:ea typeface="Times New Roman"/>
              </a:rPr>
              <a:t>1.  f(x,y)= x y</a:t>
            </a:r>
            <a:r>
              <a:rPr b="0" lang="en-US" sz="2100" spc="-1" strike="noStrike" baseline="30000">
                <a:solidFill>
                  <a:srgbClr val="336699"/>
                </a:solidFill>
                <a:latin typeface="Verdana"/>
                <a:ea typeface="Times New Roman"/>
              </a:rPr>
              <a:t>3 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  <a:ea typeface="Times New Roman"/>
              </a:rPr>
              <a:t>+ y</a:t>
            </a:r>
            <a:r>
              <a:rPr b="0" lang="en-US" sz="2100" spc="-1" strike="noStrike" baseline="30000">
                <a:solidFill>
                  <a:srgbClr val="336699"/>
                </a:solidFill>
                <a:latin typeface="Verdana"/>
                <a:ea typeface="Times New Roman"/>
              </a:rPr>
              <a:t>3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  <a:ea typeface="Times New Roman"/>
              </a:rPr>
              <a:t>x</a:t>
            </a:r>
            <a:r>
              <a:rPr b="0" lang="en-US" sz="2100" spc="-1" strike="noStrike" baseline="30000">
                <a:solidFill>
                  <a:srgbClr val="336699"/>
                </a:solidFill>
                <a:latin typeface="Verdana"/>
                <a:ea typeface="Times New Roman"/>
              </a:rPr>
              <a:t>2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891" name="Rectangle 10"/>
          <p:cNvSpPr/>
          <p:nvPr/>
        </p:nvSpPr>
        <p:spPr>
          <a:xfrm>
            <a:off x="776160" y="1349280"/>
            <a:ext cx="5548320" cy="4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  <a:ea typeface="Times New Roman"/>
              </a:rPr>
              <a:t>Tentukan f</a:t>
            </a:r>
            <a:r>
              <a:rPr b="0" lang="en-US" sz="2100" spc="-1" strike="noStrike" baseline="-25000">
                <a:solidFill>
                  <a:srgbClr val="336699"/>
                </a:solidFill>
                <a:latin typeface="Verdana"/>
                <a:ea typeface="Times New Roman"/>
              </a:rPr>
              <a:t>xx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  <a:ea typeface="Times New Roman"/>
              </a:rPr>
              <a:t>, f</a:t>
            </a:r>
            <a:r>
              <a:rPr b="0" lang="en-US" sz="2100" spc="-1" strike="noStrike" baseline="-25000">
                <a:solidFill>
                  <a:srgbClr val="336699"/>
                </a:solidFill>
                <a:latin typeface="Verdana"/>
                <a:ea typeface="Times New Roman"/>
              </a:rPr>
              <a:t>yy 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  <a:ea typeface="Times New Roman"/>
              </a:rPr>
              <a:t>,f</a:t>
            </a:r>
            <a:r>
              <a:rPr b="0" lang="en-US" sz="2100" spc="-1" strike="noStrike" baseline="-25000">
                <a:solidFill>
                  <a:srgbClr val="336699"/>
                </a:solidFill>
                <a:latin typeface="Verdana"/>
                <a:ea typeface="Times New Roman"/>
              </a:rPr>
              <a:t>xy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  <a:ea typeface="Times New Roman"/>
              </a:rPr>
              <a:t>, f</a:t>
            </a:r>
            <a:r>
              <a:rPr b="0" lang="en-US" sz="2100" spc="-1" strike="noStrike" baseline="-25000">
                <a:solidFill>
                  <a:srgbClr val="336699"/>
                </a:solidFill>
                <a:latin typeface="Verdana"/>
                <a:ea typeface="Times New Roman"/>
              </a:rPr>
              <a:t>yx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  <a:ea typeface="Times New Roman"/>
              </a:rPr>
              <a:t> 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892" name="Text Box 11"/>
          <p:cNvSpPr/>
          <p:nvPr/>
        </p:nvSpPr>
        <p:spPr>
          <a:xfrm>
            <a:off x="1260360" y="2203560"/>
            <a:ext cx="9273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Jawab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893" name="Text Box 12"/>
          <p:cNvSpPr/>
          <p:nvPr/>
        </p:nvSpPr>
        <p:spPr>
          <a:xfrm>
            <a:off x="1382760" y="2660760"/>
            <a:ext cx="863280" cy="4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f</a:t>
            </a:r>
            <a:r>
              <a:rPr b="0" lang="en-US" sz="2100" spc="-1" strike="noStrike" baseline="-25000">
                <a:solidFill>
                  <a:srgbClr val="336699"/>
                </a:solidFill>
                <a:latin typeface="Verdana"/>
              </a:rPr>
              <a:t>x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(x,y)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894" name="Text Box 13"/>
          <p:cNvSpPr/>
          <p:nvPr/>
        </p:nvSpPr>
        <p:spPr>
          <a:xfrm>
            <a:off x="2411280" y="2682720"/>
            <a:ext cx="14079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= y</a:t>
            </a:r>
            <a:r>
              <a:rPr b="0" lang="en-US" sz="2100" spc="-1" strike="noStrike" baseline="30000">
                <a:solidFill>
                  <a:srgbClr val="336699"/>
                </a:solidFill>
                <a:latin typeface="Verdana"/>
              </a:rPr>
              <a:t>3 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+ 2xy</a:t>
            </a:r>
            <a:r>
              <a:rPr b="0" lang="en-US" sz="2100" spc="-1" strike="noStrike" baseline="30000">
                <a:solidFill>
                  <a:srgbClr val="336699"/>
                </a:solidFill>
                <a:latin typeface="Verdana"/>
              </a:rPr>
              <a:t>3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895" name="Text Box 14"/>
          <p:cNvSpPr/>
          <p:nvPr/>
        </p:nvSpPr>
        <p:spPr>
          <a:xfrm>
            <a:off x="1381680" y="3146400"/>
            <a:ext cx="861840" cy="4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f</a:t>
            </a:r>
            <a:r>
              <a:rPr b="0" lang="en-US" sz="2100" spc="-1" strike="noStrike" baseline="-25000">
                <a:solidFill>
                  <a:srgbClr val="336699"/>
                </a:solidFill>
                <a:latin typeface="Verdana"/>
              </a:rPr>
              <a:t>y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(x,y)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896" name="Text Box 15"/>
          <p:cNvSpPr/>
          <p:nvPr/>
        </p:nvSpPr>
        <p:spPr>
          <a:xfrm>
            <a:off x="2438280" y="3168720"/>
            <a:ext cx="17906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= 3xy</a:t>
            </a:r>
            <a:r>
              <a:rPr b="0" lang="en-US" sz="2100" spc="-1" strike="noStrike" baseline="30000">
                <a:solidFill>
                  <a:srgbClr val="336699"/>
                </a:solidFill>
                <a:latin typeface="Verdana"/>
              </a:rPr>
              <a:t>2 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+ 3x</a:t>
            </a:r>
            <a:r>
              <a:rPr b="0" lang="en-US" sz="2100" spc="-1" strike="noStrike" baseline="30000">
                <a:solidFill>
                  <a:srgbClr val="336699"/>
                </a:solidFill>
                <a:latin typeface="Verdana"/>
              </a:rPr>
              <a:t>2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y</a:t>
            </a:r>
            <a:r>
              <a:rPr b="0" lang="en-US" sz="2100" spc="-1" strike="noStrike" baseline="30000">
                <a:solidFill>
                  <a:srgbClr val="336699"/>
                </a:solidFill>
                <a:latin typeface="Verdana"/>
              </a:rPr>
              <a:t>2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897" name="Text Box 16"/>
          <p:cNvSpPr/>
          <p:nvPr/>
        </p:nvSpPr>
        <p:spPr>
          <a:xfrm>
            <a:off x="1393200" y="3603600"/>
            <a:ext cx="944280" cy="4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f</a:t>
            </a:r>
            <a:r>
              <a:rPr b="0" lang="en-US" sz="2100" spc="-1" strike="noStrike" baseline="-25000">
                <a:solidFill>
                  <a:srgbClr val="336699"/>
                </a:solidFill>
                <a:latin typeface="Verdana"/>
              </a:rPr>
              <a:t>xx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(x,y)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898" name="Text Box 17"/>
          <p:cNvSpPr/>
          <p:nvPr/>
        </p:nvSpPr>
        <p:spPr>
          <a:xfrm>
            <a:off x="2376360" y="3625920"/>
            <a:ext cx="7797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= 2y</a:t>
            </a:r>
            <a:r>
              <a:rPr b="0" lang="en-US" sz="2100" spc="-1" strike="noStrike" baseline="30000">
                <a:solidFill>
                  <a:srgbClr val="336699"/>
                </a:solidFill>
                <a:latin typeface="Verdana"/>
              </a:rPr>
              <a:t>3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899" name="Text Box 18"/>
          <p:cNvSpPr/>
          <p:nvPr/>
        </p:nvSpPr>
        <p:spPr>
          <a:xfrm>
            <a:off x="1398600" y="4137120"/>
            <a:ext cx="942840" cy="4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f</a:t>
            </a:r>
            <a:r>
              <a:rPr b="0" lang="en-US" sz="2100" spc="-1" strike="noStrike" baseline="-25000">
                <a:solidFill>
                  <a:srgbClr val="336699"/>
                </a:solidFill>
                <a:latin typeface="Verdana"/>
              </a:rPr>
              <a:t>xy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(x,y)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900" name="Text Box 19"/>
          <p:cNvSpPr/>
          <p:nvPr/>
        </p:nvSpPr>
        <p:spPr>
          <a:xfrm>
            <a:off x="2475720" y="4159080"/>
            <a:ext cx="15602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= 3y</a:t>
            </a:r>
            <a:r>
              <a:rPr b="0" lang="en-US" sz="2100" spc="-1" strike="noStrike" baseline="30000">
                <a:solidFill>
                  <a:srgbClr val="336699"/>
                </a:solidFill>
                <a:latin typeface="Verdana"/>
              </a:rPr>
              <a:t>2 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+ 6xy</a:t>
            </a:r>
            <a:r>
              <a:rPr b="0" lang="en-US" sz="2100" spc="-1" strike="noStrike" baseline="30000">
                <a:solidFill>
                  <a:srgbClr val="336699"/>
                </a:solidFill>
                <a:latin typeface="Verdana"/>
              </a:rPr>
              <a:t>2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901" name="Text Box 20"/>
          <p:cNvSpPr/>
          <p:nvPr/>
        </p:nvSpPr>
        <p:spPr>
          <a:xfrm>
            <a:off x="1399680" y="4670280"/>
            <a:ext cx="941040" cy="4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f</a:t>
            </a:r>
            <a:r>
              <a:rPr b="0" lang="en-US" sz="2100" spc="-1" strike="noStrike" baseline="-25000">
                <a:solidFill>
                  <a:srgbClr val="336699"/>
                </a:solidFill>
                <a:latin typeface="Verdana"/>
              </a:rPr>
              <a:t>yy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(x,y)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902" name="Text Box 21"/>
          <p:cNvSpPr/>
          <p:nvPr/>
        </p:nvSpPr>
        <p:spPr>
          <a:xfrm>
            <a:off x="2471400" y="4692600"/>
            <a:ext cx="161352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= 6xy</a:t>
            </a:r>
            <a:r>
              <a:rPr b="0" lang="en-US" sz="2100" spc="-1" strike="noStrike" baseline="30000">
                <a:solidFill>
                  <a:srgbClr val="336699"/>
                </a:solidFill>
                <a:latin typeface="Verdana"/>
              </a:rPr>
              <a:t> 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+ 6x</a:t>
            </a:r>
            <a:r>
              <a:rPr b="0" lang="en-US" sz="2100" spc="-1" strike="noStrike" baseline="30000">
                <a:solidFill>
                  <a:srgbClr val="336699"/>
                </a:solidFill>
                <a:latin typeface="Verdana"/>
              </a:rPr>
              <a:t>2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y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903" name="Text Box 22"/>
          <p:cNvSpPr/>
          <p:nvPr/>
        </p:nvSpPr>
        <p:spPr>
          <a:xfrm>
            <a:off x="1450800" y="5257800"/>
            <a:ext cx="942840" cy="4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f</a:t>
            </a:r>
            <a:r>
              <a:rPr b="0" lang="en-US" sz="2100" spc="-1" strike="noStrike" baseline="-25000">
                <a:solidFill>
                  <a:srgbClr val="336699"/>
                </a:solidFill>
                <a:latin typeface="Verdana"/>
              </a:rPr>
              <a:t>yx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(x,y)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904" name="Text Box 23"/>
          <p:cNvSpPr/>
          <p:nvPr/>
        </p:nvSpPr>
        <p:spPr>
          <a:xfrm>
            <a:off x="2552040" y="5280120"/>
            <a:ext cx="15602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= 3y</a:t>
            </a:r>
            <a:r>
              <a:rPr b="0" lang="en-US" sz="2100" spc="-1" strike="noStrike" baseline="30000">
                <a:solidFill>
                  <a:srgbClr val="336699"/>
                </a:solidFill>
                <a:latin typeface="Verdana"/>
              </a:rPr>
              <a:t>2 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+ 6xy</a:t>
            </a:r>
            <a:r>
              <a:rPr b="0" lang="en-US" sz="2100" spc="-1" strike="noStrike" baseline="30000">
                <a:solidFill>
                  <a:srgbClr val="336699"/>
                </a:solidFill>
                <a:latin typeface="Verdana"/>
              </a:rPr>
              <a:t>2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</p:spTree>
  </p:cSld>
  <p:timing>
    <p:tnLst>
      <p:par>
        <p:cTn id="2070" dur="indefinite" restart="never" nodeType="tmRoot">
          <p:childTnLst>
            <p:seq>
              <p:cTn id="2071" dur="indefinite" nodeType="mainSeq">
                <p:childTnLst>
                  <p:par>
                    <p:cTn id="2072" nodeType="clickEffect" fill="hold">
                      <p:stCondLst>
                        <p:cond delay="0"/>
                      </p:stCondLst>
                      <p:childTnLst>
                        <p:par>
                          <p:cTn id="20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4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076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7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8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9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0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8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3" dur="1000" fill="hold"/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4" dur="1000" fill="hold"/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5" dur="1000" fill="hold"/>
                                        <p:tgtEl>
                                          <p:spTgt spid="8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6" dur="1000"/>
                                        <p:tgtEl>
                                          <p:spTgt spid="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7" nodeType="clickEffect" fill="hold">
                      <p:stCondLst>
                        <p:cond delay="indefinite"/>
                      </p:stCondLst>
                      <p:childTnLst>
                        <p:par>
                          <p:cTn id="20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91" dur="80"/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92" dur="80"/>
                                        <p:tgtEl>
                                          <p:spTgt spid="8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93" dur="80"/>
                                        <p:tgtEl>
                                          <p:spTgt spid="8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4" nodeType="clickEffect" fill="hold">
                      <p:stCondLst>
                        <p:cond delay="indefinite"/>
                      </p:stCondLst>
                      <p:childTnLst>
                        <p:par>
                          <p:cTn id="20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8" dur="500"/>
                                        <p:tgtEl>
                                          <p:spTgt spid="8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9" nodeType="clickEffect" fill="hold">
                      <p:stCondLst>
                        <p:cond delay="indefinite"/>
                      </p:stCondLst>
                      <p:childTnLst>
                        <p:par>
                          <p:cTn id="2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3" dur="500" fill="hold"/>
                                        <p:tgtEl>
                                          <p:spTgt spid="8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4" dur="500" fill="hold"/>
                                        <p:tgtEl>
                                          <p:spTgt spid="8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5" dur="500" fill="hold"/>
                                        <p:tgtEl>
                                          <p:spTgt spid="8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6" dur="500" fill="hold"/>
                                        <p:tgtEl>
                                          <p:spTgt spid="8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09" dur="80"/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10" dur="80"/>
                                        <p:tgtEl>
                                          <p:spTgt spid="8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11" dur="80"/>
                                        <p:tgtEl>
                                          <p:spTgt spid="8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2" nodeType="clickEffect" fill="hold">
                      <p:stCondLst>
                        <p:cond delay="indefinite"/>
                      </p:stCondLst>
                      <p:childTnLst>
                        <p:par>
                          <p:cTn id="2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6" dur="500" fill="hold"/>
                                        <p:tgtEl>
                                          <p:spTgt spid="8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7" dur="500" fill="hold"/>
                                        <p:tgtEl>
                                          <p:spTgt spid="8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8" dur="500" fill="hold"/>
                                        <p:tgtEl>
                                          <p:spTgt spid="8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9" dur="500" fill="hold"/>
                                        <p:tgtEl>
                                          <p:spTgt spid="8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22" dur="20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3" nodeType="clickEffect" fill="hold">
                      <p:stCondLst>
                        <p:cond delay="indefinite"/>
                      </p:stCondLst>
                      <p:childTnLst>
                        <p:par>
                          <p:cTn id="2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7" dur="5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8" dur="5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9" dur="5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0" dur="5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33" dur="80"/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34" dur="80"/>
                                        <p:tgtEl>
                                          <p:spTgt spid="8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35" dur="80"/>
                                        <p:tgtEl>
                                          <p:spTgt spid="8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6" nodeType="clickEffect" fill="hold">
                      <p:stCondLst>
                        <p:cond delay="indefinite"/>
                      </p:stCondLst>
                      <p:childTnLst>
                        <p:par>
                          <p:cTn id="2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40" dur="80"/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41" dur="80"/>
                                        <p:tgtEl>
                                          <p:spTgt spid="9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42" dur="80"/>
                                        <p:tgtEl>
                                          <p:spTgt spid="9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45" dur="80"/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46" dur="80"/>
                                        <p:tgtEl>
                                          <p:spTgt spid="9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47" dur="80"/>
                                        <p:tgtEl>
                                          <p:spTgt spid="9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8" nodeType="clickEffect" fill="hold">
                      <p:stCondLst>
                        <p:cond delay="indefinite"/>
                      </p:stCondLst>
                      <p:childTnLst>
                        <p:par>
                          <p:cTn id="2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2" dur="500" fill="hold"/>
                                        <p:tgtEl>
                                          <p:spTgt spid="9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3" dur="500" fill="hold"/>
                                        <p:tgtEl>
                                          <p:spTgt spid="9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4" dur="500" fill="hold"/>
                                        <p:tgtEl>
                                          <p:spTgt spid="9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5" dur="500" fill="hold"/>
                                        <p:tgtEl>
                                          <p:spTgt spid="9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6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8" dur="500" fill="hold"/>
                                        <p:tgtEl>
                                          <p:spTgt spid="9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9" dur="500" fill="hold"/>
                                        <p:tgtEl>
                                          <p:spTgt spid="9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0" dur="500" fill="hold"/>
                                        <p:tgtEl>
                                          <p:spTgt spid="9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1" dur="500" fill="hold"/>
                                        <p:tgtEl>
                                          <p:spTgt spid="9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2" nodeType="clickEffect" fill="hold">
                      <p:stCondLst>
                        <p:cond delay="indefinite"/>
                      </p:stCondLst>
                      <p:childTnLst>
                        <p:par>
                          <p:cTn id="2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66" dur="500"/>
                                        <p:tgtEl>
                                          <p:spTgt spid="9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tiha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E08E4-3B1C-483D-B89D-598735C0C379}" type="datetime">
              <a:rPr b="0" lang="en-US" sz="1200" spc="-1" strike="noStrike">
                <a:solidFill>
                  <a:srgbClr val="898989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907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Verdana"/>
              </a:rPr>
              <a:t>[MA 1124]</a:t>
            </a:r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Verdana"/>
              </a:rPr>
              <a:t>KALKULUS II</a:t>
            </a:r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90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8FBF3-19EF-4126-B65C-21BE0C3CFAF7}" type="slidenum">
              <a:rPr b="0" lang="en-US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909" name="Rectangle 4"/>
          <p:cNvSpPr/>
          <p:nvPr/>
        </p:nvSpPr>
        <p:spPr>
          <a:xfrm>
            <a:off x="776160" y="1349280"/>
            <a:ext cx="5548320" cy="4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  <a:ea typeface="Times New Roman"/>
              </a:rPr>
              <a:t>Tentukan f</a:t>
            </a:r>
            <a:r>
              <a:rPr b="0" lang="en-US" sz="2100" spc="-1" strike="noStrike" baseline="-25000">
                <a:solidFill>
                  <a:srgbClr val="336699"/>
                </a:solidFill>
                <a:latin typeface="Verdana"/>
                <a:ea typeface="Times New Roman"/>
              </a:rPr>
              <a:t>xx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  <a:ea typeface="Times New Roman"/>
              </a:rPr>
              <a:t>, f</a:t>
            </a:r>
            <a:r>
              <a:rPr b="0" lang="en-US" sz="2100" spc="-1" strike="noStrike" baseline="-25000">
                <a:solidFill>
                  <a:srgbClr val="336699"/>
                </a:solidFill>
                <a:latin typeface="Verdana"/>
                <a:ea typeface="Times New Roman"/>
              </a:rPr>
              <a:t>yy 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  <a:ea typeface="Times New Roman"/>
              </a:rPr>
              <a:t>,f</a:t>
            </a:r>
            <a:r>
              <a:rPr b="0" lang="en-US" sz="2100" spc="-1" strike="noStrike" baseline="-25000">
                <a:solidFill>
                  <a:srgbClr val="336699"/>
                </a:solidFill>
                <a:latin typeface="Verdana"/>
                <a:ea typeface="Times New Roman"/>
              </a:rPr>
              <a:t>xy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  <a:ea typeface="Times New Roman"/>
              </a:rPr>
              <a:t>, f</a:t>
            </a:r>
            <a:r>
              <a:rPr b="0" lang="en-US" sz="2100" spc="-1" strike="noStrike" baseline="-25000">
                <a:solidFill>
                  <a:srgbClr val="336699"/>
                </a:solidFill>
                <a:latin typeface="Verdana"/>
                <a:ea typeface="Times New Roman"/>
              </a:rPr>
              <a:t>yx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  <a:ea typeface="Times New Roman"/>
              </a:rPr>
              <a:t> 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910" name="Rectangle 5"/>
          <p:cNvSpPr/>
          <p:nvPr/>
        </p:nvSpPr>
        <p:spPr>
          <a:xfrm>
            <a:off x="841680" y="1980720"/>
            <a:ext cx="42332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  <a:ea typeface="Times New Roman"/>
              </a:rPr>
              <a:t>1.  f(x,y) = x cos(xy) + xy e</a:t>
            </a:r>
            <a:r>
              <a:rPr b="0" lang="en-US" sz="2100" spc="-1" strike="noStrike" baseline="30000">
                <a:solidFill>
                  <a:srgbClr val="336699"/>
                </a:solidFill>
                <a:latin typeface="Verdana"/>
                <a:ea typeface="Times New Roman"/>
              </a:rPr>
              <a:t>x+y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911" name="Rectangle 6"/>
          <p:cNvSpPr/>
          <p:nvPr/>
        </p:nvSpPr>
        <p:spPr>
          <a:xfrm>
            <a:off x="830880" y="2514240"/>
            <a:ext cx="40294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  <a:ea typeface="Times New Roman"/>
              </a:rPr>
              <a:t>2.  f(x,y) = ln(x</a:t>
            </a:r>
            <a:r>
              <a:rPr b="0" lang="en-US" sz="2100" spc="-1" strike="noStrike" baseline="30000">
                <a:solidFill>
                  <a:srgbClr val="336699"/>
                </a:solidFill>
                <a:latin typeface="Verdana"/>
                <a:ea typeface="Times New Roman"/>
              </a:rPr>
              <a:t>2 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  <a:ea typeface="Times New Roman"/>
              </a:rPr>
              <a:t>+ 2 xy + y</a:t>
            </a:r>
            <a:r>
              <a:rPr b="0" lang="en-US" sz="2100" spc="-1" strike="noStrike" baseline="30000">
                <a:solidFill>
                  <a:srgbClr val="336699"/>
                </a:solidFill>
                <a:latin typeface="Verdana"/>
                <a:ea typeface="Times New Roman"/>
              </a:rPr>
              <a:t>3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  <a:ea typeface="Times New Roman"/>
              </a:rPr>
              <a:t>)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912" name="Rectangle 7"/>
          <p:cNvSpPr/>
          <p:nvPr/>
        </p:nvSpPr>
        <p:spPr>
          <a:xfrm>
            <a:off x="714240" y="3047400"/>
            <a:ext cx="33008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  <a:ea typeface="Times New Roman"/>
              </a:rPr>
              <a:t>3.  f(x,y) = tan</a:t>
            </a:r>
            <a:r>
              <a:rPr b="0" lang="en-US" sz="2100" spc="-1" strike="noStrike" baseline="30000">
                <a:solidFill>
                  <a:srgbClr val="336699"/>
                </a:solidFill>
                <a:latin typeface="Verdana"/>
                <a:ea typeface="Times New Roman"/>
              </a:rPr>
              <a:t>-1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  <a:ea typeface="Times New Roman"/>
              </a:rPr>
              <a:t>(y</a:t>
            </a:r>
            <a:r>
              <a:rPr b="0" lang="en-US" sz="2100" spc="-1" strike="noStrike" baseline="30000">
                <a:solidFill>
                  <a:srgbClr val="336699"/>
                </a:solidFill>
                <a:latin typeface="Verdana"/>
                <a:ea typeface="Times New Roman"/>
              </a:rPr>
              <a:t>2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  <a:ea typeface="Times New Roman"/>
              </a:rPr>
              <a:t>/x)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913" name="Rectangle 8"/>
          <p:cNvSpPr/>
          <p:nvPr/>
        </p:nvSpPr>
        <p:spPr>
          <a:xfrm>
            <a:off x="761040" y="3625200"/>
            <a:ext cx="36392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  <a:ea typeface="Times New Roman"/>
              </a:rPr>
              <a:t>4.  f(x,y) =ln(x</a:t>
            </a:r>
            <a:r>
              <a:rPr b="0" lang="en-US" sz="2100" spc="-1" strike="noStrike" baseline="30000">
                <a:solidFill>
                  <a:srgbClr val="336699"/>
                </a:solidFill>
                <a:latin typeface="Verdana"/>
                <a:ea typeface="Times New Roman"/>
              </a:rPr>
              <a:t>2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  <a:ea typeface="Times New Roman"/>
              </a:rPr>
              <a:t>+2xy+y</a:t>
            </a:r>
            <a:r>
              <a:rPr b="0" lang="en-US" sz="2100" spc="-1" strike="noStrike" baseline="30000">
                <a:solidFill>
                  <a:srgbClr val="336699"/>
                </a:solidFill>
                <a:latin typeface="Verdana"/>
                <a:ea typeface="Times New Roman"/>
              </a:rPr>
              <a:t>2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  <a:ea typeface="Times New Roman"/>
              </a:rPr>
              <a:t>)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914" name="Rectangle 9"/>
          <p:cNvSpPr/>
          <p:nvPr/>
        </p:nvSpPr>
        <p:spPr>
          <a:xfrm>
            <a:off x="768240" y="4190400"/>
            <a:ext cx="33404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  <a:ea typeface="Times New Roman"/>
              </a:rPr>
              <a:t>5.  f(x,y) = (2x-y)/(xy)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</p:spTree>
  </p:cSld>
  <p:timing>
    <p:tnLst>
      <p:par>
        <p:cTn id="2167" dur="indefinite" restart="never" nodeType="tmRoot">
          <p:childTnLst>
            <p:seq>
              <p:cTn id="2168" dur="indefinite" nodeType="mainSeq">
                <p:childTnLst>
                  <p:par>
                    <p:cTn id="2169" nodeType="clickEffect" fill="hold">
                      <p:stCondLst>
                        <p:cond delay="indefinite"/>
                      </p:stCondLst>
                      <p:childTnLst>
                        <p:par>
                          <p:cTn id="2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173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4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5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6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7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0" dur="10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1" dur="10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2" dur="10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3" dur="1000"/>
                                        <p:tgtEl>
                                          <p:spTgt spid="9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6" dur="1000" fill="hold"/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7" dur="1000" fill="hold"/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8" dur="1000" fill="hold"/>
                                        <p:tgtEl>
                                          <p:spTgt spid="9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9" dur="1000"/>
                                        <p:tgtEl>
                                          <p:spTgt spid="9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2" dur="1000" fill="hold"/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3" dur="1000" fill="hold"/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4" dur="1000" fill="hold"/>
                                        <p:tgtEl>
                                          <p:spTgt spid="9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5" dur="1000"/>
                                        <p:tgtEl>
                                          <p:spTgt spid="9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8" dur="1000" fill="hold"/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9" dur="1000" fill="hold"/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0" dur="1000" fill="hold"/>
                                        <p:tgtEl>
                                          <p:spTgt spid="9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1" dur="1000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4" dur="1000" fill="hold"/>
                                        <p:tgtEl>
                                          <p:spTgt spid="9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5" dur="1000" fill="hold"/>
                                        <p:tgtEl>
                                          <p:spTgt spid="9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6" dur="1000" fill="hold"/>
                                        <p:tgtEl>
                                          <p:spTgt spid="9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7" dur="1000"/>
                                        <p:tgtEl>
                                          <p:spTgt spid="9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ti Geometri Turunan Parsi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0B415-7FD2-4DC9-A639-41C4DAAB71BB}" type="datetime">
              <a:rPr b="0" lang="en-US" sz="1200" spc="-1" strike="noStrike">
                <a:solidFill>
                  <a:srgbClr val="898989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917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Verdana"/>
              </a:rPr>
              <a:t>[MA 1124]</a:t>
            </a:r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Verdana"/>
              </a:rPr>
              <a:t>KALKULUS II</a:t>
            </a:r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91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80712-45CA-42F7-8CA0-5770C0F487F4}" type="slidenum">
              <a:rPr b="0" lang="en-US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919" name="Rectangle 3"/>
          <p:cNvSpPr/>
          <p:nvPr/>
        </p:nvSpPr>
        <p:spPr>
          <a:xfrm>
            <a:off x="4572000" y="1747440"/>
            <a:ext cx="42670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Perpotongan  bidang  y = b  dengan  fungsi  permukaan  f(x,y)  berupa  sebuah  kurva (lengkungan </a:t>
            </a: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s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) pada  permukaan  tersebut. 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Turunan parsial fungsi f(x,y) terhadap x di titik  (a,b)  merupakan  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ff"/>
                </a:solidFill>
                <a:latin typeface="Verdana"/>
              </a:rPr>
              <a:t>gradien  garis  singgung  terhadap  kurva  </a:t>
            </a:r>
            <a:r>
              <a:rPr b="1" i="1" lang="en-US" sz="2100" spc="-1" strike="noStrike">
                <a:solidFill>
                  <a:srgbClr val="0000ff"/>
                </a:solidFill>
                <a:latin typeface="Verdana"/>
              </a:rPr>
              <a:t>s</a:t>
            </a:r>
            <a:r>
              <a:rPr b="1" lang="en-US" sz="2100" spc="-1" strike="noStrike">
                <a:solidFill>
                  <a:srgbClr val="0000ff"/>
                </a:solidFill>
                <a:latin typeface="Verdana"/>
              </a:rPr>
              <a:t>  pada titik  (a, b, f(a,b))  dalam  arah  sejajar sumbu </a:t>
            </a:r>
            <a:r>
              <a:rPr b="1" i="1" lang="en-US" sz="2100" spc="-1" strike="noStrike">
                <a:solidFill>
                  <a:srgbClr val="0000ff"/>
                </a:solidFill>
                <a:latin typeface="Verdana"/>
              </a:rPr>
              <a:t>x</a:t>
            </a:r>
            <a:r>
              <a:rPr b="1" lang="en-US" sz="2100" spc="-1" strike="noStrike">
                <a:solidFill>
                  <a:srgbClr val="0000ff"/>
                </a:solidFill>
                <a:latin typeface="Verdana"/>
              </a:rPr>
              <a:t>.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grpSp>
        <p:nvGrpSpPr>
          <p:cNvPr id="920" name="Group 20"/>
          <p:cNvGrpSpPr/>
          <p:nvPr/>
        </p:nvGrpSpPr>
        <p:grpSpPr>
          <a:xfrm>
            <a:off x="533520" y="2340000"/>
            <a:ext cx="3454200" cy="2460600"/>
            <a:chOff x="533520" y="2340000"/>
            <a:chExt cx="3454200" cy="2460600"/>
          </a:xfrm>
        </p:grpSpPr>
        <p:sp>
          <p:nvSpPr>
            <p:cNvPr id="921" name="Line 4"/>
            <p:cNvSpPr/>
            <p:nvPr/>
          </p:nvSpPr>
          <p:spPr>
            <a:xfrm flipV="1">
              <a:off x="2095560" y="2441520"/>
              <a:ext cx="0" cy="149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336699"/>
                </a:solidFill>
                <a:latin typeface="Verdana"/>
              </a:endParaRPr>
            </a:p>
          </p:txBody>
        </p:sp>
        <p:sp>
          <p:nvSpPr>
            <p:cNvPr id="922" name="Line 5"/>
            <p:cNvSpPr/>
            <p:nvPr/>
          </p:nvSpPr>
          <p:spPr>
            <a:xfrm>
              <a:off x="1447920" y="3860640"/>
              <a:ext cx="2171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336699"/>
                </a:solidFill>
                <a:latin typeface="Verdana"/>
              </a:endParaRPr>
            </a:p>
          </p:txBody>
        </p:sp>
        <p:sp>
          <p:nvSpPr>
            <p:cNvPr id="923" name="Line 6"/>
            <p:cNvSpPr/>
            <p:nvPr/>
          </p:nvSpPr>
          <p:spPr>
            <a:xfrm flipH="1">
              <a:off x="761760" y="3609360"/>
              <a:ext cx="1778040" cy="1050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336699"/>
                </a:solidFill>
                <a:latin typeface="Verdana"/>
              </a:endParaRPr>
            </a:p>
          </p:txBody>
        </p:sp>
        <p:sp>
          <p:nvSpPr>
            <p:cNvPr id="924" name="Text Box 7"/>
            <p:cNvSpPr/>
            <p:nvPr/>
          </p:nvSpPr>
          <p:spPr>
            <a:xfrm>
              <a:off x="1841400" y="2340000"/>
              <a:ext cx="4572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336699"/>
                  </a:solidFill>
                  <a:latin typeface="Verdana"/>
                </a:rPr>
                <a:t>z</a:t>
              </a:r>
              <a:endParaRPr b="0" lang="en-US" sz="1200" spc="-1" strike="noStrike">
                <a:solidFill>
                  <a:srgbClr val="336699"/>
                </a:solidFill>
                <a:latin typeface="Verdana"/>
              </a:endParaRPr>
            </a:p>
          </p:txBody>
        </p:sp>
        <p:sp>
          <p:nvSpPr>
            <p:cNvPr id="925" name="Text Box 8"/>
            <p:cNvSpPr/>
            <p:nvPr/>
          </p:nvSpPr>
          <p:spPr>
            <a:xfrm>
              <a:off x="533520" y="4457880"/>
              <a:ext cx="4572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6699"/>
                  </a:solidFill>
                  <a:latin typeface="Verdana"/>
                </a:rPr>
                <a:t> </a:t>
              </a:r>
              <a:r>
                <a:rPr b="0" i="1" lang="en-US" sz="1100" spc="-1" strike="noStrike">
                  <a:solidFill>
                    <a:srgbClr val="336699"/>
                  </a:solidFill>
                  <a:latin typeface="Verdana"/>
                </a:rPr>
                <a:t>x</a:t>
              </a:r>
              <a:endParaRPr b="0" lang="en-US" sz="1100" spc="-1" strike="noStrike">
                <a:solidFill>
                  <a:srgbClr val="336699"/>
                </a:solidFill>
                <a:latin typeface="Verdana"/>
              </a:endParaRPr>
            </a:p>
          </p:txBody>
        </p:sp>
        <p:sp>
          <p:nvSpPr>
            <p:cNvPr id="926" name="Text Box 9"/>
            <p:cNvSpPr/>
            <p:nvPr/>
          </p:nvSpPr>
          <p:spPr>
            <a:xfrm>
              <a:off x="3530520" y="3711600"/>
              <a:ext cx="4572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6699"/>
                  </a:solidFill>
                  <a:latin typeface="Verdana"/>
                </a:rPr>
                <a:t> </a:t>
              </a:r>
              <a:r>
                <a:rPr b="0" i="1" lang="en-US" sz="1200" spc="-1" strike="noStrike">
                  <a:solidFill>
                    <a:srgbClr val="336699"/>
                  </a:solidFill>
                  <a:latin typeface="Verdana"/>
                </a:rPr>
                <a:t>y</a:t>
              </a:r>
              <a:endParaRPr b="0" lang="en-US" sz="1200" spc="-1" strike="noStrike">
                <a:solidFill>
                  <a:srgbClr val="336699"/>
                </a:solidFill>
                <a:latin typeface="Verdana"/>
              </a:endParaRPr>
            </a:p>
          </p:txBody>
        </p:sp>
      </p:grpSp>
      <p:sp>
        <p:nvSpPr>
          <p:cNvPr id="927" name="Freeform 10"/>
          <p:cNvSpPr/>
          <p:nvPr/>
        </p:nvSpPr>
        <p:spPr>
          <a:xfrm>
            <a:off x="2095560" y="2720880"/>
            <a:ext cx="1332000" cy="1141560"/>
          </a:xfrm>
          <a:custGeom>
            <a:avLst/>
            <a:gdLst>
              <a:gd name="textAreaLeft" fmla="*/ 0 w 1332000"/>
              <a:gd name="textAreaRight" fmla="*/ 1332360 w 1332000"/>
              <a:gd name="textAreaTop" fmla="*/ 0 h 1141560"/>
              <a:gd name="textAreaBottom" fmla="*/ 1141920 h 1141560"/>
            </a:gdLst>
            <a:ahLst/>
            <a:rect l="textAreaLeft" t="textAreaTop" r="textAreaRight" b="textAreaBottom"/>
            <a:pathLst>
              <a:path w="4140" h="3780">
                <a:moveTo>
                  <a:pt x="0" y="0"/>
                </a:moveTo>
                <a:cubicBezTo>
                  <a:pt x="300" y="45"/>
                  <a:pt x="600" y="90"/>
                  <a:pt x="900" y="180"/>
                </a:cubicBezTo>
                <a:cubicBezTo>
                  <a:pt x="1200" y="270"/>
                  <a:pt x="1560" y="420"/>
                  <a:pt x="1800" y="540"/>
                </a:cubicBezTo>
                <a:cubicBezTo>
                  <a:pt x="2040" y="660"/>
                  <a:pt x="2100" y="690"/>
                  <a:pt x="2340" y="900"/>
                </a:cubicBezTo>
                <a:cubicBezTo>
                  <a:pt x="2580" y="1110"/>
                  <a:pt x="3030" y="1560"/>
                  <a:pt x="3240" y="1800"/>
                </a:cubicBezTo>
                <a:cubicBezTo>
                  <a:pt x="3450" y="2040"/>
                  <a:pt x="3480" y="2130"/>
                  <a:pt x="3600" y="2340"/>
                </a:cubicBezTo>
                <a:cubicBezTo>
                  <a:pt x="3720" y="2550"/>
                  <a:pt x="3870" y="2820"/>
                  <a:pt x="3960" y="3060"/>
                </a:cubicBezTo>
                <a:cubicBezTo>
                  <a:pt x="4050" y="3300"/>
                  <a:pt x="4110" y="3660"/>
                  <a:pt x="4140" y="37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928" name="Freeform 11"/>
          <p:cNvSpPr/>
          <p:nvPr/>
        </p:nvSpPr>
        <p:spPr>
          <a:xfrm>
            <a:off x="1298520" y="2724120"/>
            <a:ext cx="798480" cy="1619280"/>
          </a:xfrm>
          <a:custGeom>
            <a:avLst/>
            <a:gdLst>
              <a:gd name="textAreaLeft" fmla="*/ 0 w 798480"/>
              <a:gd name="textAreaRight" fmla="*/ 798840 w 798480"/>
              <a:gd name="textAreaTop" fmla="*/ 0 h 1619280"/>
              <a:gd name="textAreaBottom" fmla="*/ 1619640 h 1619280"/>
            </a:gdLst>
            <a:ahLst/>
            <a:rect l="textAreaLeft" t="textAreaTop" r="textAreaRight" b="textAreaBottom"/>
            <a:pathLst>
              <a:path w="3240" h="4140">
                <a:moveTo>
                  <a:pt x="0" y="4140"/>
                </a:moveTo>
                <a:cubicBezTo>
                  <a:pt x="45" y="3780"/>
                  <a:pt x="90" y="3420"/>
                  <a:pt x="180" y="3060"/>
                </a:cubicBezTo>
                <a:cubicBezTo>
                  <a:pt x="270" y="2700"/>
                  <a:pt x="360" y="2340"/>
                  <a:pt x="540" y="1980"/>
                </a:cubicBezTo>
                <a:cubicBezTo>
                  <a:pt x="720" y="1620"/>
                  <a:pt x="960" y="1200"/>
                  <a:pt x="1260" y="900"/>
                </a:cubicBezTo>
                <a:cubicBezTo>
                  <a:pt x="1560" y="600"/>
                  <a:pt x="2010" y="330"/>
                  <a:pt x="2340" y="180"/>
                </a:cubicBezTo>
                <a:cubicBezTo>
                  <a:pt x="2670" y="30"/>
                  <a:pt x="3090" y="30"/>
                  <a:pt x="324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929" name="Freeform 12"/>
          <p:cNvSpPr/>
          <p:nvPr/>
        </p:nvSpPr>
        <p:spPr>
          <a:xfrm>
            <a:off x="1828800" y="2841480"/>
            <a:ext cx="787320" cy="1543320"/>
          </a:xfrm>
          <a:custGeom>
            <a:avLst/>
            <a:gdLst>
              <a:gd name="textAreaLeft" fmla="*/ 0 w 787320"/>
              <a:gd name="textAreaRight" fmla="*/ 787680 w 787320"/>
              <a:gd name="textAreaTop" fmla="*/ 0 h 1543320"/>
              <a:gd name="textAreaBottom" fmla="*/ 1543680 h 1543320"/>
            </a:gdLst>
            <a:ahLst/>
            <a:rect l="textAreaLeft" t="textAreaTop" r="textAreaRight" b="textAreaBottom"/>
            <a:pathLst>
              <a:path w="3240" h="4140">
                <a:moveTo>
                  <a:pt x="0" y="4140"/>
                </a:moveTo>
                <a:cubicBezTo>
                  <a:pt x="45" y="3780"/>
                  <a:pt x="90" y="3420"/>
                  <a:pt x="180" y="3060"/>
                </a:cubicBezTo>
                <a:cubicBezTo>
                  <a:pt x="270" y="2700"/>
                  <a:pt x="360" y="2340"/>
                  <a:pt x="540" y="1980"/>
                </a:cubicBezTo>
                <a:cubicBezTo>
                  <a:pt x="720" y="1620"/>
                  <a:pt x="960" y="1200"/>
                  <a:pt x="1260" y="900"/>
                </a:cubicBezTo>
                <a:cubicBezTo>
                  <a:pt x="1560" y="600"/>
                  <a:pt x="2010" y="330"/>
                  <a:pt x="2340" y="180"/>
                </a:cubicBezTo>
                <a:cubicBezTo>
                  <a:pt x="2670" y="30"/>
                  <a:pt x="3090" y="30"/>
                  <a:pt x="324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930" name="Freeform 13"/>
          <p:cNvSpPr/>
          <p:nvPr/>
        </p:nvSpPr>
        <p:spPr>
          <a:xfrm>
            <a:off x="1270080" y="3863880"/>
            <a:ext cx="2160360" cy="515880"/>
          </a:xfrm>
          <a:custGeom>
            <a:avLst/>
            <a:gdLst>
              <a:gd name="textAreaLeft" fmla="*/ 0 w 2160360"/>
              <a:gd name="textAreaRight" fmla="*/ 2160720 w 2160360"/>
              <a:gd name="textAreaTop" fmla="*/ 0 h 515880"/>
              <a:gd name="textAreaBottom" fmla="*/ 516240 h 515880"/>
            </a:gdLst>
            <a:ahLst/>
            <a:rect l="textAreaLeft" t="textAreaTop" r="textAreaRight" b="textAreaBottom"/>
            <a:pathLst>
              <a:path w="4140" h="1290">
                <a:moveTo>
                  <a:pt x="0" y="1260"/>
                </a:moveTo>
                <a:cubicBezTo>
                  <a:pt x="255" y="1275"/>
                  <a:pt x="510" y="1290"/>
                  <a:pt x="900" y="1260"/>
                </a:cubicBezTo>
                <a:cubicBezTo>
                  <a:pt x="1290" y="1230"/>
                  <a:pt x="1950" y="1170"/>
                  <a:pt x="2340" y="1080"/>
                </a:cubicBezTo>
                <a:cubicBezTo>
                  <a:pt x="2730" y="990"/>
                  <a:pt x="2940" y="900"/>
                  <a:pt x="3240" y="720"/>
                </a:cubicBezTo>
                <a:cubicBezTo>
                  <a:pt x="3540" y="540"/>
                  <a:pt x="3990" y="120"/>
                  <a:pt x="414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931" name="Line 14"/>
          <p:cNvSpPr/>
          <p:nvPr/>
        </p:nvSpPr>
        <p:spPr>
          <a:xfrm flipV="1">
            <a:off x="1790640" y="3825720"/>
            <a:ext cx="914400" cy="5716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932" name="Line 15"/>
          <p:cNvSpPr/>
          <p:nvPr/>
        </p:nvSpPr>
        <p:spPr>
          <a:xfrm>
            <a:off x="2629080" y="2889360"/>
            <a:ext cx="0" cy="9712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933" name="Line 16"/>
          <p:cNvSpPr/>
          <p:nvPr/>
        </p:nvSpPr>
        <p:spPr>
          <a:xfrm>
            <a:off x="1994040" y="3483000"/>
            <a:ext cx="0" cy="799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934" name="Line 17"/>
          <p:cNvSpPr/>
          <p:nvPr/>
        </p:nvSpPr>
        <p:spPr>
          <a:xfrm flipV="1">
            <a:off x="1668600" y="2403360"/>
            <a:ext cx="698400" cy="194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935" name="Text Box 18"/>
          <p:cNvSpPr/>
          <p:nvPr/>
        </p:nvSpPr>
        <p:spPr>
          <a:xfrm>
            <a:off x="1892160" y="4165560"/>
            <a:ext cx="11559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336699"/>
                </a:solidFill>
                <a:latin typeface="Verdana"/>
              </a:rPr>
              <a:t>(</a:t>
            </a:r>
            <a:r>
              <a:rPr b="0" i="1" lang="en-US" sz="1200" spc="-1" strike="noStrike">
                <a:solidFill>
                  <a:srgbClr val="336699"/>
                </a:solidFill>
                <a:latin typeface="Verdana"/>
              </a:rPr>
              <a:t>a, b</a:t>
            </a:r>
            <a:r>
              <a:rPr b="0" lang="en-US" sz="1200" spc="-1" strike="noStrike">
                <a:solidFill>
                  <a:srgbClr val="336699"/>
                </a:solidFill>
                <a:latin typeface="Verdana"/>
              </a:rPr>
              <a:t>)</a:t>
            </a:r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936" name="Text Box 19"/>
          <p:cNvSpPr/>
          <p:nvPr/>
        </p:nvSpPr>
        <p:spPr>
          <a:xfrm>
            <a:off x="2286000" y="2860560"/>
            <a:ext cx="4572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Verdana"/>
              </a:rPr>
              <a:t> </a:t>
            </a:r>
            <a:r>
              <a:rPr b="0" i="1" lang="en-US" sz="1400" spc="-1" strike="noStrike">
                <a:solidFill>
                  <a:srgbClr val="336699"/>
                </a:solidFill>
                <a:latin typeface="Verdana"/>
              </a:rPr>
              <a:t>s</a:t>
            </a:r>
            <a:endParaRPr b="0" lang="en-US" sz="1400" spc="-1" strike="noStrike">
              <a:solidFill>
                <a:srgbClr val="336699"/>
              </a:solidFill>
              <a:latin typeface="Verdana"/>
            </a:endParaRPr>
          </a:p>
        </p:txBody>
      </p:sp>
    </p:spTree>
  </p:cSld>
  <p:timing>
    <p:tnLst>
      <p:par>
        <p:cTn id="2208" dur="indefinite" restart="never" nodeType="tmRoot">
          <p:childTnLst>
            <p:seq>
              <p:cTn id="2209" dur="indefinite" nodeType="mainSeq">
                <p:childTnLst>
                  <p:par>
                    <p:cTn id="2210" nodeType="clickEffect" fill="hold">
                      <p:stCondLst>
                        <p:cond delay="indefinite"/>
                      </p:stCondLst>
                      <p:childTnLst>
                        <p:par>
                          <p:cTn id="2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14" dur="80"/>
                                        <p:tgtEl>
                                          <p:spTgt spid="9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15" dur="80"/>
                                        <p:tgtEl>
                                          <p:spTgt spid="9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16" dur="80"/>
                                        <p:tgtEl>
                                          <p:spTgt spid="9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7" nodeType="clickEffect" fill="hold">
                      <p:stCondLst>
                        <p:cond delay="indefinite"/>
                      </p:stCondLst>
                      <p:childTnLst>
                        <p:par>
                          <p:cTn id="2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21" dur="20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2" nodeType="clickEffect" fill="hold">
                      <p:stCondLst>
                        <p:cond delay="indefinite"/>
                      </p:stCondLst>
                      <p:childTnLst>
                        <p:par>
                          <p:cTn id="2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26" dur="20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29" dur="20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32" dur="20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3" nodeType="clickEffect" fill="hold">
                      <p:stCondLst>
                        <p:cond delay="indefinite"/>
                      </p:stCondLst>
                      <p:childTnLst>
                        <p:par>
                          <p:cTn id="2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7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0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1" nodeType="clickEffect" fill="hold">
                      <p:stCondLst>
                        <p:cond delay="indefinite"/>
                      </p:stCondLst>
                      <p:childTnLst>
                        <p:par>
                          <p:cTn id="2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5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6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8" dur="5000" fill="hold"/>
                                        <p:tgtEl>
                                          <p:spTgt spid="9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9" dur="5000" fill="hold"/>
                                        <p:tgtEl>
                                          <p:spTgt spid="9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0" nodeType="clickEffect" fill="hold">
                      <p:stCondLst>
                        <p:cond delay="indefinite"/>
                      </p:stCondLst>
                      <p:childTnLst>
                        <p:par>
                          <p:cTn id="2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54" dur="80"/>
                                        <p:tgtEl>
                                          <p:spTgt spid="9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55" dur="80"/>
                                        <p:tgtEl>
                                          <p:spTgt spid="9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56" dur="80"/>
                                        <p:tgtEl>
                                          <p:spTgt spid="9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7" nodeType="clickEffect" fill="hold">
                      <p:stCondLst>
                        <p:cond delay="indefinite"/>
                      </p:stCondLst>
                      <p:childTnLst>
                        <p:par>
                          <p:cTn id="2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1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4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5" nodeType="clickEffect" fill="hold">
                      <p:stCondLst>
                        <p:cond delay="indefinite"/>
                      </p:stCondLst>
                      <p:childTnLst>
                        <p:par>
                          <p:cTn id="2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69" dur="80"/>
                                        <p:tgtEl>
                                          <p:spTgt spid="9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70" dur="80"/>
                                        <p:tgtEl>
                                          <p:spTgt spid="9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71" dur="80"/>
                                        <p:tgtEl>
                                          <p:spTgt spid="9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2" nodeType="withEffect" fill="hold" presetClass="entr" presetID="22" presetSubtype="4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74" dur="20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rti Geometri Turunan Pertama (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8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54574-9C87-4810-8EE2-108A08C89B3B}" type="datetime">
              <a:rPr b="0" lang="en-US" sz="1200" spc="-1" strike="noStrike">
                <a:solidFill>
                  <a:srgbClr val="898989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939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Verdana"/>
              </a:rPr>
              <a:t>[MA 1124]</a:t>
            </a:r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Verdana"/>
              </a:rPr>
              <a:t>KALKULUS II</a:t>
            </a:r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94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0A999-DDB2-4DA8-84F8-B98AF59E1EBC}" type="slidenum">
              <a:rPr b="0" lang="en-US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941" name="Rectangle 3"/>
          <p:cNvSpPr/>
          <p:nvPr/>
        </p:nvSpPr>
        <p:spPr>
          <a:xfrm>
            <a:off x="4572000" y="1747440"/>
            <a:ext cx="42670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Perpotongan  bidang  x = a  dengan  fungsi  permukaan  f(x,y)  berupa  sebuah  kurva (lengkungan </a:t>
            </a: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s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) pada  permukaan  tersebut. 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Turunan parsial fungsi f(x,y) terhadap y di titik  (a,b)  merupakan  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ff"/>
                </a:solidFill>
                <a:latin typeface="Verdana"/>
              </a:rPr>
              <a:t>gradien  garis  singgung  terhadap  kurva  </a:t>
            </a:r>
            <a:r>
              <a:rPr b="1" i="1" lang="en-US" sz="2100" spc="-1" strike="noStrike">
                <a:solidFill>
                  <a:srgbClr val="0000ff"/>
                </a:solidFill>
                <a:latin typeface="Verdana"/>
              </a:rPr>
              <a:t>s</a:t>
            </a:r>
            <a:r>
              <a:rPr b="1" lang="en-US" sz="2100" spc="-1" strike="noStrike">
                <a:solidFill>
                  <a:srgbClr val="0000ff"/>
                </a:solidFill>
                <a:latin typeface="Verdana"/>
              </a:rPr>
              <a:t>  pada titik  (a, b, f(a,b))  dalam  arah  sejajar sumbu </a:t>
            </a:r>
            <a:r>
              <a:rPr b="1" i="1" lang="en-US" sz="2100" spc="-1" strike="noStrike">
                <a:solidFill>
                  <a:srgbClr val="0000ff"/>
                </a:solidFill>
                <a:latin typeface="Verdana"/>
              </a:rPr>
              <a:t>y</a:t>
            </a:r>
            <a:r>
              <a:rPr b="1" lang="en-US" sz="2100" spc="-1" strike="noStrike">
                <a:solidFill>
                  <a:srgbClr val="0000ff"/>
                </a:solidFill>
                <a:latin typeface="Verdana"/>
              </a:rPr>
              <a:t>.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942" name="Line 4"/>
          <p:cNvSpPr/>
          <p:nvPr/>
        </p:nvSpPr>
        <p:spPr>
          <a:xfrm flipV="1">
            <a:off x="1943280" y="2517480"/>
            <a:ext cx="0" cy="149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943" name="Line 5"/>
          <p:cNvSpPr/>
          <p:nvPr/>
        </p:nvSpPr>
        <p:spPr>
          <a:xfrm>
            <a:off x="1295280" y="3936960"/>
            <a:ext cx="2171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944" name="Line 6"/>
          <p:cNvSpPr/>
          <p:nvPr/>
        </p:nvSpPr>
        <p:spPr>
          <a:xfrm flipH="1">
            <a:off x="609120" y="3686040"/>
            <a:ext cx="1778040" cy="105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945" name="Text Box 7"/>
          <p:cNvSpPr/>
          <p:nvPr/>
        </p:nvSpPr>
        <p:spPr>
          <a:xfrm>
            <a:off x="1689120" y="2416320"/>
            <a:ext cx="4572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336699"/>
                </a:solidFill>
                <a:latin typeface="Verdana"/>
              </a:rPr>
              <a:t>z</a:t>
            </a:r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946" name="Text Box 8"/>
          <p:cNvSpPr/>
          <p:nvPr/>
        </p:nvSpPr>
        <p:spPr>
          <a:xfrm>
            <a:off x="380880" y="4533840"/>
            <a:ext cx="4572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Verdana"/>
              </a:rPr>
              <a:t> </a:t>
            </a:r>
            <a:r>
              <a:rPr b="0" i="1" lang="en-US" sz="1100" spc="-1" strike="noStrike">
                <a:solidFill>
                  <a:srgbClr val="336699"/>
                </a:solidFill>
                <a:latin typeface="Verdana"/>
              </a:rPr>
              <a:t>x</a:t>
            </a:r>
            <a:endParaRPr b="0" lang="en-US" sz="1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947" name="Text Box 9"/>
          <p:cNvSpPr/>
          <p:nvPr/>
        </p:nvSpPr>
        <p:spPr>
          <a:xfrm>
            <a:off x="3378240" y="3787920"/>
            <a:ext cx="4572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Verdana"/>
              </a:rPr>
              <a:t> </a:t>
            </a:r>
            <a:r>
              <a:rPr b="0" i="1" lang="en-US" sz="1200" spc="-1" strike="noStrike">
                <a:solidFill>
                  <a:srgbClr val="336699"/>
                </a:solidFill>
                <a:latin typeface="Verdana"/>
              </a:rPr>
              <a:t>y</a:t>
            </a:r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948" name="Freeform 10"/>
          <p:cNvSpPr/>
          <p:nvPr/>
        </p:nvSpPr>
        <p:spPr>
          <a:xfrm>
            <a:off x="1943280" y="2797200"/>
            <a:ext cx="1331640" cy="1141560"/>
          </a:xfrm>
          <a:custGeom>
            <a:avLst/>
            <a:gdLst>
              <a:gd name="textAreaLeft" fmla="*/ 0 w 1331640"/>
              <a:gd name="textAreaRight" fmla="*/ 1332000 w 1331640"/>
              <a:gd name="textAreaTop" fmla="*/ 0 h 1141560"/>
              <a:gd name="textAreaBottom" fmla="*/ 1141920 h 1141560"/>
            </a:gdLst>
            <a:ahLst/>
            <a:rect l="textAreaLeft" t="textAreaTop" r="textAreaRight" b="textAreaBottom"/>
            <a:pathLst>
              <a:path w="4140" h="3780">
                <a:moveTo>
                  <a:pt x="0" y="0"/>
                </a:moveTo>
                <a:cubicBezTo>
                  <a:pt x="300" y="45"/>
                  <a:pt x="600" y="90"/>
                  <a:pt x="900" y="180"/>
                </a:cubicBezTo>
                <a:cubicBezTo>
                  <a:pt x="1200" y="270"/>
                  <a:pt x="1560" y="420"/>
                  <a:pt x="1800" y="540"/>
                </a:cubicBezTo>
                <a:cubicBezTo>
                  <a:pt x="2040" y="660"/>
                  <a:pt x="2100" y="690"/>
                  <a:pt x="2340" y="900"/>
                </a:cubicBezTo>
                <a:cubicBezTo>
                  <a:pt x="2580" y="1110"/>
                  <a:pt x="3030" y="1560"/>
                  <a:pt x="3240" y="1800"/>
                </a:cubicBezTo>
                <a:cubicBezTo>
                  <a:pt x="3450" y="2040"/>
                  <a:pt x="3480" y="2130"/>
                  <a:pt x="3600" y="2340"/>
                </a:cubicBezTo>
                <a:cubicBezTo>
                  <a:pt x="3720" y="2550"/>
                  <a:pt x="3870" y="2820"/>
                  <a:pt x="3960" y="3060"/>
                </a:cubicBezTo>
                <a:cubicBezTo>
                  <a:pt x="4050" y="3300"/>
                  <a:pt x="4110" y="3660"/>
                  <a:pt x="4140" y="37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949" name="Freeform 11"/>
          <p:cNvSpPr/>
          <p:nvPr/>
        </p:nvSpPr>
        <p:spPr>
          <a:xfrm>
            <a:off x="1146240" y="2798640"/>
            <a:ext cx="798480" cy="1621080"/>
          </a:xfrm>
          <a:custGeom>
            <a:avLst/>
            <a:gdLst>
              <a:gd name="textAreaLeft" fmla="*/ 0 w 798480"/>
              <a:gd name="textAreaRight" fmla="*/ 798840 w 798480"/>
              <a:gd name="textAreaTop" fmla="*/ 0 h 1621080"/>
              <a:gd name="textAreaBottom" fmla="*/ 1621440 h 1621080"/>
            </a:gdLst>
            <a:ahLst/>
            <a:rect l="textAreaLeft" t="textAreaTop" r="textAreaRight" b="textAreaBottom"/>
            <a:pathLst>
              <a:path w="3240" h="4140">
                <a:moveTo>
                  <a:pt x="0" y="4140"/>
                </a:moveTo>
                <a:cubicBezTo>
                  <a:pt x="45" y="3780"/>
                  <a:pt x="90" y="3420"/>
                  <a:pt x="180" y="3060"/>
                </a:cubicBezTo>
                <a:cubicBezTo>
                  <a:pt x="270" y="2700"/>
                  <a:pt x="360" y="2340"/>
                  <a:pt x="540" y="1980"/>
                </a:cubicBezTo>
                <a:cubicBezTo>
                  <a:pt x="720" y="1620"/>
                  <a:pt x="960" y="1200"/>
                  <a:pt x="1260" y="900"/>
                </a:cubicBezTo>
                <a:cubicBezTo>
                  <a:pt x="1560" y="600"/>
                  <a:pt x="2010" y="330"/>
                  <a:pt x="2340" y="180"/>
                </a:cubicBezTo>
                <a:cubicBezTo>
                  <a:pt x="2670" y="30"/>
                  <a:pt x="3090" y="30"/>
                  <a:pt x="324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950" name="Freeform 12"/>
          <p:cNvSpPr/>
          <p:nvPr/>
        </p:nvSpPr>
        <p:spPr>
          <a:xfrm>
            <a:off x="1117440" y="3940200"/>
            <a:ext cx="2160720" cy="514440"/>
          </a:xfrm>
          <a:custGeom>
            <a:avLst/>
            <a:gdLst>
              <a:gd name="textAreaLeft" fmla="*/ 0 w 2160720"/>
              <a:gd name="textAreaRight" fmla="*/ 2161080 w 2160720"/>
              <a:gd name="textAreaTop" fmla="*/ 0 h 514440"/>
              <a:gd name="textAreaBottom" fmla="*/ 514800 h 514440"/>
            </a:gdLst>
            <a:ahLst/>
            <a:rect l="textAreaLeft" t="textAreaTop" r="textAreaRight" b="textAreaBottom"/>
            <a:pathLst>
              <a:path w="4140" h="1290">
                <a:moveTo>
                  <a:pt x="0" y="1260"/>
                </a:moveTo>
                <a:cubicBezTo>
                  <a:pt x="255" y="1275"/>
                  <a:pt x="510" y="1290"/>
                  <a:pt x="900" y="1260"/>
                </a:cubicBezTo>
                <a:cubicBezTo>
                  <a:pt x="1290" y="1230"/>
                  <a:pt x="1950" y="1170"/>
                  <a:pt x="2340" y="1080"/>
                </a:cubicBezTo>
                <a:cubicBezTo>
                  <a:pt x="2730" y="990"/>
                  <a:pt x="2940" y="900"/>
                  <a:pt x="3240" y="720"/>
                </a:cubicBezTo>
                <a:cubicBezTo>
                  <a:pt x="3540" y="540"/>
                  <a:pt x="3990" y="120"/>
                  <a:pt x="414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951" name="Line 13"/>
          <p:cNvSpPr/>
          <p:nvPr/>
        </p:nvSpPr>
        <p:spPr>
          <a:xfrm>
            <a:off x="979560" y="419724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952" name="Line 14"/>
          <p:cNvSpPr/>
          <p:nvPr/>
        </p:nvSpPr>
        <p:spPr>
          <a:xfrm flipH="1">
            <a:off x="1507680" y="3062160"/>
            <a:ext cx="1800" cy="11685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953" name="Text Box 15"/>
          <p:cNvSpPr/>
          <p:nvPr/>
        </p:nvSpPr>
        <p:spPr>
          <a:xfrm>
            <a:off x="1981080" y="3886200"/>
            <a:ext cx="9064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336699"/>
                </a:solidFill>
                <a:latin typeface="Verdana"/>
              </a:rPr>
              <a:t>(</a:t>
            </a:r>
            <a:r>
              <a:rPr b="0" i="1" lang="en-US" sz="1200" spc="-1" strike="noStrike">
                <a:solidFill>
                  <a:srgbClr val="336699"/>
                </a:solidFill>
                <a:latin typeface="Verdana"/>
              </a:rPr>
              <a:t>a, b</a:t>
            </a:r>
            <a:r>
              <a:rPr b="0" lang="en-US" sz="1200" spc="-1" strike="noStrike">
                <a:solidFill>
                  <a:srgbClr val="336699"/>
                </a:solidFill>
                <a:latin typeface="Verdana"/>
              </a:rPr>
              <a:t>)</a:t>
            </a:r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954" name="Text Box 16"/>
          <p:cNvSpPr/>
          <p:nvPr/>
        </p:nvSpPr>
        <p:spPr>
          <a:xfrm>
            <a:off x="1447920" y="3086280"/>
            <a:ext cx="4572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Verdana"/>
              </a:rPr>
              <a:t> </a:t>
            </a:r>
            <a:r>
              <a:rPr b="0" i="1" lang="en-US" sz="1400" spc="-1" strike="noStrike">
                <a:solidFill>
                  <a:srgbClr val="336699"/>
                </a:solidFill>
                <a:latin typeface="Verdana"/>
              </a:rPr>
              <a:t>s</a:t>
            </a:r>
            <a:endParaRPr b="0" lang="en-US" sz="14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955" name="Freeform 17"/>
          <p:cNvSpPr/>
          <p:nvPr/>
        </p:nvSpPr>
        <p:spPr>
          <a:xfrm>
            <a:off x="1484280" y="3102120"/>
            <a:ext cx="1373400" cy="1104840"/>
          </a:xfrm>
          <a:custGeom>
            <a:avLst/>
            <a:gdLst>
              <a:gd name="textAreaLeft" fmla="*/ 0 w 1373400"/>
              <a:gd name="textAreaRight" fmla="*/ 1373760 w 1373400"/>
              <a:gd name="textAreaTop" fmla="*/ 0 h 1104840"/>
              <a:gd name="textAreaBottom" fmla="*/ 1105200 h 1104840"/>
            </a:gdLst>
            <a:ahLst/>
            <a:rect l="textAreaLeft" t="textAreaTop" r="textAreaRight" b="textAreaBottom"/>
            <a:pathLst>
              <a:path w="2163" h="1740">
                <a:moveTo>
                  <a:pt x="0" y="0"/>
                </a:moveTo>
                <a:cubicBezTo>
                  <a:pt x="215" y="82"/>
                  <a:pt x="932" y="205"/>
                  <a:pt x="1293" y="495"/>
                </a:cubicBezTo>
                <a:cubicBezTo>
                  <a:pt x="1654" y="785"/>
                  <a:pt x="1982" y="1481"/>
                  <a:pt x="2163" y="17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956" name="Line 18"/>
          <p:cNvSpPr/>
          <p:nvPr/>
        </p:nvSpPr>
        <p:spPr>
          <a:xfrm flipH="1" flipV="1">
            <a:off x="1785600" y="2892240"/>
            <a:ext cx="1306440" cy="1298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957" name="Line 19"/>
          <p:cNvSpPr/>
          <p:nvPr/>
        </p:nvSpPr>
        <p:spPr>
          <a:xfrm flipH="1">
            <a:off x="2361960" y="3468600"/>
            <a:ext cx="14040" cy="7225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</p:spTree>
  </p:cSld>
  <p:timing>
    <p:tnLst>
      <p:par>
        <p:cTn id="2275" dur="indefinite" restart="never" nodeType="tmRoot">
          <p:childTnLst>
            <p:seq>
              <p:cTn id="2276" dur="indefinite" nodeType="mainSeq">
                <p:childTnLst>
                  <p:par>
                    <p:cTn id="2277" nodeType="clickEffect" fill="hold">
                      <p:stCondLst>
                        <p:cond delay="indefinite"/>
                      </p:stCondLst>
                      <p:childTnLst>
                        <p:par>
                          <p:cTn id="2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81" dur="80"/>
                                        <p:tgtEl>
                                          <p:spTgt spid="9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82" dur="80"/>
                                        <p:tgtEl>
                                          <p:spTgt spid="9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83" dur="80"/>
                                        <p:tgtEl>
                                          <p:spTgt spid="9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4" nodeType="clickEffect" fill="hold">
                      <p:stCondLst>
                        <p:cond delay="indefinite"/>
                      </p:stCondLst>
                      <p:childTnLst>
                        <p:par>
                          <p:cTn id="2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88" dur="20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91" dur="20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94" dur="20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97" dur="20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00" dur="20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03" dur="20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4" nodeType="clickEffect" fill="hold">
                      <p:stCondLst>
                        <p:cond delay="indefinite"/>
                      </p:stCondLst>
                      <p:childTnLst>
                        <p:par>
                          <p:cTn id="2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8" dur="5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1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4" dur="5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5" nodeType="clickEffect" fill="hold">
                      <p:stCondLst>
                        <p:cond delay="indefinite"/>
                      </p:stCondLst>
                      <p:childTnLst>
                        <p:par>
                          <p:cTn id="2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19" dur="5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22" dur="5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3" nodeType="clickEffect" fill="hold">
                      <p:stCondLst>
                        <p:cond delay="indefinite"/>
                      </p:stCondLst>
                      <p:childTnLst>
                        <p:par>
                          <p:cTn id="2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7" dur="5000" fill="hold"/>
                                        <p:tgtEl>
                                          <p:spTgt spid="9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8" dur="5000" fill="hold"/>
                                        <p:tgtEl>
                                          <p:spTgt spid="9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1" dur="5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2" nodeType="clickEffect" fill="hold">
                      <p:stCondLst>
                        <p:cond delay="indefinite"/>
                      </p:stCondLst>
                      <p:childTnLst>
                        <p:par>
                          <p:cTn id="2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36" dur="80"/>
                                        <p:tgtEl>
                                          <p:spTgt spid="9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37" dur="80"/>
                                        <p:tgtEl>
                                          <p:spTgt spid="9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38" dur="80"/>
                                        <p:tgtEl>
                                          <p:spTgt spid="9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1" dur="5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4" dur="5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5" nodeType="clickEffect" fill="hold">
                      <p:stCondLst>
                        <p:cond delay="indefinite"/>
                      </p:stCondLst>
                      <p:childTnLst>
                        <p:par>
                          <p:cTn id="2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49" dur="80"/>
                                        <p:tgtEl>
                                          <p:spTgt spid="9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50" dur="80"/>
                                        <p:tgtEl>
                                          <p:spTgt spid="9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51" dur="80"/>
                                        <p:tgtEl>
                                          <p:spTgt spid="9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2" nodeType="withEffect" fill="hold" presetClass="entr" presetID="22" presetSubtype="4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54" dur="20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ektor Gradi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"/>
          <p:cNvSpPr txBox="1"/>
          <p:nvPr/>
        </p:nvSpPr>
        <p:spPr>
          <a:xfrm>
            <a:off x="609480" y="1587240"/>
            <a:ext cx="8305920" cy="176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isalkan fungsi z = f(x,y) terdefinisi di D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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R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efinisi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Vektor gradien dari fungsi z = f(x,y) di (x,y)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, didefinisikan sebaga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376E6-D16C-439F-83DF-05C225FECFCA}" type="datetime">
              <a:rPr b="0" lang="en-US" sz="1200" spc="-1" strike="noStrike">
                <a:solidFill>
                  <a:srgbClr val="898989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9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Verdana"/>
              </a:rPr>
              <a:t>[MA 1124]</a:t>
            </a:r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Verdana"/>
              </a:rPr>
              <a:t>KALKULUS II</a:t>
            </a:r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9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8680B-A64C-4858-91E5-8A1A60917E96}" type="slidenum">
              <a:rPr b="0" lang="en-US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963" name="Rectangle 4"/>
          <p:cNvSpPr/>
          <p:nvPr/>
        </p:nvSpPr>
        <p:spPr>
          <a:xfrm>
            <a:off x="0" y="325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4" name="Object 5"/>
              <p:cNvSpPr txBox="1"/>
              <p:nvPr/>
            </p:nvSpPr>
            <p:spPr>
              <a:xfrm>
                <a:off x="2058840" y="3048120"/>
                <a:ext cx="4341960" cy="6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∇</m:t>
                        </m:r>
                      </m:e>
                    </m:acc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i</m:t>
                        </m:r>
                      </m:e>
                    </m:acc>
                    <m:r>
                      <m:t xml:space="preserve">+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j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965" name="Rectangle 6"/>
          <p:cNvSpPr/>
          <p:nvPr/>
        </p:nvSpPr>
        <p:spPr>
          <a:xfrm>
            <a:off x="1879560" y="3519000"/>
            <a:ext cx="59702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adalah vektor satuan di arah sumbu x,y positif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966" name="Rectangle 7"/>
          <p:cNvSpPr/>
          <p:nvPr/>
        </p:nvSpPr>
        <p:spPr>
          <a:xfrm>
            <a:off x="1313640" y="3944520"/>
            <a:ext cx="41781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Notasi lain: grad f(x,y), del f(x,y) 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7" name="Object 8"/>
              <p:cNvSpPr txBox="1"/>
              <p:nvPr/>
            </p:nvSpPr>
            <p:spPr>
              <a:xfrm>
                <a:off x="1114560" y="3443400"/>
                <a:ext cx="471240" cy="55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i</m:t>
                        </m:r>
                      </m:e>
                    </m:acc>
                    <m:r>
                      <m:t xml:space="preserve">,</m:t>
                    </m:r>
                    <m:r>
                      <m:t xml:space="preserve"> 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j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968" name="Rectangle 9"/>
          <p:cNvSpPr/>
          <p:nvPr/>
        </p:nvSpPr>
        <p:spPr>
          <a:xfrm>
            <a:off x="533520" y="4433760"/>
            <a:ext cx="80010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800080"/>
              </a:buClr>
              <a:buSzPct val="75000"/>
              <a:buFont typeface="Wingdings" charset="2"/>
              <a:buChar char="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Definisi 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Vektor gradien dari fungsi  f(x,y,z) adalah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9" name="Object 10"/>
              <p:cNvSpPr txBox="1"/>
              <p:nvPr/>
            </p:nvSpPr>
            <p:spPr>
              <a:xfrm>
                <a:off x="1095480" y="5219640"/>
                <a:ext cx="7057800" cy="6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∇</m:t>
                        </m:r>
                      </m:e>
                    </m:acc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,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,</m:t>
                    </m:r>
                    <m:r>
                      <m:t xml:space="preserve">z</m:t>
                    </m:r>
                    <m:r>
                      <m:t xml:space="preserve">)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i</m:t>
                        </m:r>
                      </m:e>
                    </m:acc>
                    <m:r>
                      <m:t xml:space="preserve">+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,</m:t>
                    </m:r>
                    <m:r>
                      <m:t xml:space="preserve">z</m:t>
                    </m:r>
                    <m:r>
                      <m:t xml:space="preserve">)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j</m:t>
                        </m:r>
                      </m:e>
                    </m:acc>
                    <m:r>
                      <m:t xml:space="preserve">+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,</m:t>
                    </m:r>
                    <m:r>
                      <m:t xml:space="preserve">z</m:t>
                    </m:r>
                    <m:r>
                      <m:t xml:space="preserve">)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k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970" name="Rectangle 11"/>
          <p:cNvSpPr/>
          <p:nvPr/>
        </p:nvSpPr>
        <p:spPr>
          <a:xfrm>
            <a:off x="2052000" y="5752440"/>
            <a:ext cx="61671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adalah vektor satuan di arah sumbu x,y,z positif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1" name="Object 12"/>
              <p:cNvSpPr txBox="1"/>
              <p:nvPr/>
            </p:nvSpPr>
            <p:spPr>
              <a:xfrm>
                <a:off x="1104840" y="5676840"/>
                <a:ext cx="795240" cy="55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i</m:t>
                        </m:r>
                      </m:e>
                    </m:acc>
                    <m:r>
                      <m:t xml:space="preserve">,</m:t>
                    </m:r>
                    <m:r>
                      <m:t xml:space="preserve"> 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j</m:t>
                        </m:r>
                      </m:e>
                    </m:acc>
                    <m:r>
                      <m:t xml:space="preserve">,</m:t>
                    </m:r>
                    <m:r>
                      <m:t xml:space="preserve"> 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k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2355" dur="indefinite" restart="never" nodeType="tmRoot">
          <p:childTnLst>
            <p:seq>
              <p:cTn id="2356" dur="indefinite" nodeType="mainSeq">
                <p:childTnLst>
                  <p:par>
                    <p:cTn id="2357" nodeType="clickEffect" fill="hold">
                      <p:stCondLst>
                        <p:cond delay="0"/>
                      </p:stCondLst>
                      <p:childTnLst>
                        <p:par>
                          <p:cTn id="2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9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2" nodeType="clickEffect" fill="hold">
                      <p:stCondLst>
                        <p:cond delay="indefinite"/>
                      </p:stCondLst>
                      <p:childTnLst>
                        <p:par>
                          <p:cTn id="2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7" nodeType="clickEffect" fill="hold">
                      <p:stCondLst>
                        <p:cond delay="indefinite"/>
                      </p:stCondLst>
                      <p:childTnLst>
                        <p:par>
                          <p:cTn id="2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2" nodeType="clickEffect" fill="hold">
                      <p:stCondLst>
                        <p:cond delay="indefinite"/>
                      </p:stCondLst>
                      <p:childTnLst>
                        <p:par>
                          <p:cTn id="2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37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0" dur="2000" fill="hold"/>
                                        <p:tgtEl>
                                          <p:spTgt spid="9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1" dur="2000" fill="hold"/>
                                        <p:tgtEl>
                                          <p:spTgt spid="9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2" dur="2000" fill="hold"/>
                                        <p:tgtEl>
                                          <p:spTgt spid="9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3" dur="20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6" dur="2000" fill="hold"/>
                                        <p:tgtEl>
                                          <p:spTgt spid="9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7" dur="2000" fill="hold"/>
                                        <p:tgtEl>
                                          <p:spTgt spid="9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8" dur="2000" fill="hold"/>
                                        <p:tgtEl>
                                          <p:spTgt spid="9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9" dur="20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2" dur="2000" fill="hold"/>
                                        <p:tgtEl>
                                          <p:spTgt spid="9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3" dur="2000" fill="hold"/>
                                        <p:tgtEl>
                                          <p:spTgt spid="9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4" dur="2000" fill="hold"/>
                                        <p:tgtEl>
                                          <p:spTgt spid="9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5" dur="20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8" dur="2000" fill="hold"/>
                                        <p:tgtEl>
                                          <p:spTgt spid="9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9" dur="2000" fill="hold"/>
                                        <p:tgtEl>
                                          <p:spTgt spid="9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0" dur="2000" fill="hold"/>
                                        <p:tgtEl>
                                          <p:spTgt spid="9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1" dur="20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2" nodeType="clickEffect" fill="hold">
                      <p:stCondLst>
                        <p:cond delay="indefinite"/>
                      </p:stCondLst>
                      <p:childTnLst>
                        <p:par>
                          <p:cTn id="2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6" dur="5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9" dur="1000" fill="hold"/>
                                        <p:tgtEl>
                                          <p:spTgt spid="9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0" dur="1000" fill="hold"/>
                                        <p:tgtEl>
                                          <p:spTgt spid="9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1" dur="1000" fill="hold"/>
                                        <p:tgtEl>
                                          <p:spTgt spid="9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2" dur="10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5" dur="1000" fill="hold"/>
                                        <p:tgtEl>
                                          <p:spTgt spid="9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6" dur="1000" fill="hold"/>
                                        <p:tgtEl>
                                          <p:spTgt spid="9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7" dur="1000" fill="hold"/>
                                        <p:tgtEl>
                                          <p:spTgt spid="9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8" dur="10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1" dur="1000" fill="hold"/>
                                        <p:tgtEl>
                                          <p:spTgt spid="9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2" dur="1000" fill="hold"/>
                                        <p:tgtEl>
                                          <p:spTgt spid="9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3" dur="1000" fill="hold"/>
                                        <p:tgtEl>
                                          <p:spTgt spid="9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4" dur="10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to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3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B20B5-C5B9-4D7E-97D5-7042A97B62C6}" type="datetime">
              <a:rPr b="0" lang="en-US" sz="1200" spc="-1" strike="noStrike">
                <a:solidFill>
                  <a:srgbClr val="898989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974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Verdana"/>
              </a:rPr>
              <a:t>[MA 1124]</a:t>
            </a:r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Verdana"/>
              </a:rPr>
              <a:t>KALKULUS II</a:t>
            </a:r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97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23BB6-413F-4F11-9B8A-032F1BE4E0AB}" type="slidenum">
              <a:rPr b="0" lang="en-US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976" name="Text Box 4"/>
          <p:cNvSpPr/>
          <p:nvPr/>
        </p:nvSpPr>
        <p:spPr>
          <a:xfrm>
            <a:off x="859680" y="1365120"/>
            <a:ext cx="13604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Tentukan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7" name="Object 5"/>
              <p:cNvSpPr txBox="1"/>
              <p:nvPr/>
            </p:nvSpPr>
            <p:spPr>
              <a:xfrm>
                <a:off x="2273400" y="1374840"/>
                <a:ext cx="1111320" cy="42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∇</m:t>
                        </m:r>
                      </m:e>
                    </m:acc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78" name="Text Box 7"/>
          <p:cNvSpPr/>
          <p:nvPr/>
        </p:nvSpPr>
        <p:spPr>
          <a:xfrm>
            <a:off x="3445560" y="1400040"/>
            <a:ext cx="6591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dan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9" name="Object 8"/>
              <p:cNvSpPr txBox="1"/>
              <p:nvPr/>
            </p:nvSpPr>
            <p:spPr>
              <a:xfrm>
                <a:off x="4114800" y="1380960"/>
                <a:ext cx="1263600" cy="41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∇</m:t>
                        </m:r>
                      </m:e>
                    </m:acc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80" name="Text Box 9"/>
          <p:cNvSpPr/>
          <p:nvPr/>
        </p:nvSpPr>
        <p:spPr>
          <a:xfrm>
            <a:off x="5505480" y="1397160"/>
            <a:ext cx="6728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dari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1" name="Object 10"/>
              <p:cNvSpPr txBox="1"/>
              <p:nvPr/>
            </p:nvSpPr>
            <p:spPr>
              <a:xfrm>
                <a:off x="6191280" y="1419120"/>
                <a:ext cx="180972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y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2" name="Object 12"/>
              <p:cNvSpPr txBox="1"/>
              <p:nvPr/>
            </p:nvSpPr>
            <p:spPr>
              <a:xfrm>
                <a:off x="1041480" y="2297160"/>
                <a:ext cx="27813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y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xye</m:t>
                    </m:r>
                    <m:sSup>
                      <m:e>
                        <m:r>
                          <m:t xml:space="preserve"> 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xy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983" name="Text Box 13"/>
          <p:cNvSpPr/>
          <p:nvPr/>
        </p:nvSpPr>
        <p:spPr>
          <a:xfrm>
            <a:off x="879120" y="1828800"/>
            <a:ext cx="9273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Jawab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4" name="Object 14"/>
              <p:cNvSpPr txBox="1"/>
              <p:nvPr/>
            </p:nvSpPr>
            <p:spPr>
              <a:xfrm>
                <a:off x="1027080" y="2871720"/>
                <a:ext cx="20210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e</m:t>
                    </m:r>
                    <m:sSup>
                      <m:e>
                        <m:r>
                          <m:t xml:space="preserve"> 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xy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5" name="Object 16"/>
              <p:cNvSpPr txBox="1"/>
              <p:nvPr/>
            </p:nvSpPr>
            <p:spPr>
              <a:xfrm>
                <a:off x="4913280" y="2293920"/>
                <a:ext cx="2571840" cy="34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e</m:t>
                    </m:r>
                    <m:r>
                      <m:t xml:space="preserve">+</m:t>
                    </m:r>
                    <m:r>
                      <m:t xml:space="preserve">e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e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6" name="Object 17"/>
              <p:cNvSpPr txBox="1"/>
              <p:nvPr/>
            </p:nvSpPr>
            <p:spPr>
              <a:xfrm>
                <a:off x="4929120" y="2870280"/>
                <a:ext cx="16239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e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7" name="Object 18"/>
              <p:cNvSpPr txBox="1"/>
              <p:nvPr/>
            </p:nvSpPr>
            <p:spPr>
              <a:xfrm>
                <a:off x="1003320" y="3925800"/>
                <a:ext cx="425448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∇</m:t>
                        </m:r>
                      </m:e>
                    </m:acc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xy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xye</m:t>
                            </m:r>
                          </m:e>
                          <m:sup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xy</m:t>
                            </m:r>
                          </m:sup>
                        </m:sSup>
                      </m:e>
                    </m:d>
                    <m:r>
                      <m:t xml:space="preserve"> 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i</m:t>
                        </m:r>
                      </m:e>
                    </m:acc>
                    <m:r>
                      <m:t xml:space="preserve">+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xy</m:t>
                        </m:r>
                      </m:sup>
                    </m:sSup>
                    <m:acc>
                      <m:accPr>
                        <m:chr m:val="^"/>
                      </m:accPr>
                      <m:e>
                        <m:r>
                          <m:t xml:space="preserve">j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8" name="Object 19"/>
              <p:cNvSpPr txBox="1"/>
              <p:nvPr/>
            </p:nvSpPr>
            <p:spPr>
              <a:xfrm>
                <a:off x="990720" y="4546440"/>
                <a:ext cx="267804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∇</m:t>
                        </m:r>
                      </m:e>
                    </m:acc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e</m:t>
                    </m:r>
                    <m:r>
                      <m:t xml:space="preserve"> 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i</m:t>
                        </m:r>
                      </m:e>
                    </m:acc>
                    <m:r>
                      <m:t xml:space="preserve">+</m:t>
                    </m:r>
                    <m:r>
                      <m:t xml:space="preserve">e</m:t>
                    </m:r>
                    <m:r>
                      <m:t xml:space="preserve"> 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j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989" name="Text Box 20"/>
          <p:cNvSpPr/>
          <p:nvPr/>
        </p:nvSpPr>
        <p:spPr>
          <a:xfrm>
            <a:off x="4258800" y="2224080"/>
            <a:ext cx="59976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99"/>
                </a:solidFill>
                <a:latin typeface="Wingdings"/>
                <a:ea typeface="Wingdings"/>
              </a:rPr>
              <a:t></a:t>
            </a:r>
            <a:endParaRPr b="0" lang="en-US" sz="33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990" name="Text Box 21"/>
          <p:cNvSpPr/>
          <p:nvPr/>
        </p:nvSpPr>
        <p:spPr>
          <a:xfrm>
            <a:off x="4258800" y="2773440"/>
            <a:ext cx="59976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99"/>
                </a:solidFill>
                <a:latin typeface="Wingdings"/>
                <a:ea typeface="Wingdings"/>
              </a:rPr>
              <a:t></a:t>
            </a:r>
            <a:endParaRPr b="0" lang="en-US" sz="33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991" name="Text Box 22"/>
          <p:cNvSpPr/>
          <p:nvPr/>
        </p:nvSpPr>
        <p:spPr>
          <a:xfrm>
            <a:off x="1103400" y="3422520"/>
            <a:ext cx="27000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Sehingga diperoleh: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</p:spTree>
  </p:cSld>
  <p:timing>
    <p:tnLst>
      <p:par>
        <p:cTn id="2425" dur="indefinite" restart="never" nodeType="tmRoot">
          <p:childTnLst>
            <p:seq>
              <p:cTn id="2426" dur="indefinite" nodeType="mainSeq">
                <p:childTnLst>
                  <p:par>
                    <p:cTn id="2427" nodeType="clickEffect" fill="hold">
                      <p:stCondLst>
                        <p:cond delay="indefinite"/>
                      </p:stCondLst>
                      <p:childTnLst>
                        <p:par>
                          <p:cTn id="2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1" dur="1000"/>
                                        <p:tgtEl>
                                          <p:spTgt spid="9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4" dur="1000"/>
                                        <p:tgtEl>
                                          <p:spTgt spid="9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7" dur="1000"/>
                                        <p:tgtEl>
                                          <p:spTgt spid="9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0" dur="10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3" dur="1000"/>
                                        <p:tgtEl>
                                          <p:spTgt spid="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6" dur="1000"/>
                                        <p:tgtEl>
                                          <p:spTgt spid="9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7" nodeType="clickEffect" fill="hold">
                      <p:stCondLst>
                        <p:cond delay="indefinite"/>
                      </p:stCondLst>
                      <p:childTnLst>
                        <p:par>
                          <p:cTn id="2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51" dur="80"/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52" dur="80"/>
                                        <p:tgtEl>
                                          <p:spTgt spid="9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53" dur="80"/>
                                        <p:tgtEl>
                                          <p:spTgt spid="9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4" nodeType="clickEffect" fill="hold">
                      <p:stCondLst>
                        <p:cond delay="indefinite"/>
                      </p:stCondLst>
                      <p:childTnLst>
                        <p:par>
                          <p:cTn id="2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8" dur="500"/>
                                        <p:tgtEl>
                                          <p:spTgt spid="9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9" nodeType="clickEffect" fill="hold">
                      <p:stCondLst>
                        <p:cond delay="indefinite"/>
                      </p:stCondLst>
                      <p:childTnLst>
                        <p:par>
                          <p:cTn id="2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3" dur="500"/>
                                        <p:tgtEl>
                                          <p:spTgt spid="9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4" nodeType="clickEffect" fill="hold">
                      <p:stCondLst>
                        <p:cond delay="indefinite"/>
                      </p:stCondLst>
                      <p:childTnLst>
                        <p:par>
                          <p:cTn id="2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8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9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0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1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2" nodeType="clickEffect" fill="hold">
                      <p:stCondLst>
                        <p:cond delay="indefinite"/>
                      </p:stCondLst>
                      <p:childTnLst>
                        <p:par>
                          <p:cTn id="2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6" dur="1000" fill="hold"/>
                                        <p:tgtEl>
                                          <p:spTgt spid="9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7" dur="1000" fill="hold"/>
                                        <p:tgtEl>
                                          <p:spTgt spid="9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8" dur="1000" fill="hold"/>
                                        <p:tgtEl>
                                          <p:spTgt spid="9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9" dur="1000" fill="hold"/>
                                        <p:tgtEl>
                                          <p:spTgt spid="9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0" nodeType="clickEffect" fill="hold">
                      <p:stCondLst>
                        <p:cond delay="indefinite"/>
                      </p:stCondLst>
                      <p:childTnLst>
                        <p:par>
                          <p:cTn id="2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4" dur="500" fill="hold"/>
                                        <p:tgtEl>
                                          <p:spTgt spid="9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5" dur="500" fill="hold"/>
                                        <p:tgtEl>
                                          <p:spTgt spid="9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6" dur="500" fill="hold"/>
                                        <p:tgtEl>
                                          <p:spTgt spid="9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7" dur="500"/>
                                        <p:tgtEl>
                                          <p:spTgt spid="9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8" nodeType="clickEffect" fill="hold">
                      <p:stCondLst>
                        <p:cond delay="indefinite"/>
                      </p:stCondLst>
                      <p:childTnLst>
                        <p:par>
                          <p:cTn id="2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2" dur="500" fill="hold"/>
                                        <p:tgtEl>
                                          <p:spTgt spid="9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3" dur="500" fill="hold"/>
                                        <p:tgtEl>
                                          <p:spTgt spid="9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4" dur="500" fill="hold"/>
                                        <p:tgtEl>
                                          <p:spTgt spid="9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5" dur="500" fill="hold"/>
                                        <p:tgtEl>
                                          <p:spTgt spid="9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6" nodeType="clickEffect" fill="hold">
                      <p:stCondLst>
                        <p:cond delay="indefinite"/>
                      </p:stCondLst>
                      <p:childTnLst>
                        <p:par>
                          <p:cTn id="2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00" dur="80"/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01" dur="80"/>
                                        <p:tgtEl>
                                          <p:spTgt spid="9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02" dur="80"/>
                                        <p:tgtEl>
                                          <p:spTgt spid="9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3" nodeType="clickEffect" fill="hold">
                      <p:stCondLst>
                        <p:cond delay="indefinite"/>
                      </p:stCondLst>
                      <p:childTnLst>
                        <p:par>
                          <p:cTn id="2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07" dur="500"/>
                                        <p:tgtEl>
                                          <p:spTgt spid="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8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0" dur="500" fill="hold"/>
                                        <p:tgtEl>
                                          <p:spTgt spid="9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1" dur="500" fill="hold"/>
                                        <p:tgtEl>
                                          <p:spTgt spid="9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2" dur="500" fill="hold"/>
                                        <p:tgtEl>
                                          <p:spTgt spid="9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3" dur="500" fill="hold"/>
                                        <p:tgtEl>
                                          <p:spTgt spid="9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tiha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3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B30CE-5A90-4313-BB1E-630F983FD244}" type="datetime">
              <a:rPr b="0" lang="en-US" sz="1200" spc="-1" strike="noStrike">
                <a:solidFill>
                  <a:srgbClr val="898989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994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Verdana"/>
              </a:rPr>
              <a:t>[MA 1124]</a:t>
            </a:r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Verdana"/>
              </a:rPr>
              <a:t>KALKULUS II</a:t>
            </a:r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99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F21F0-45FA-4684-9F1C-8D8C7023A530}" type="slidenum">
              <a:rPr b="0" lang="en-US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996" name="Text Box 4"/>
          <p:cNvSpPr/>
          <p:nvPr/>
        </p:nvSpPr>
        <p:spPr>
          <a:xfrm>
            <a:off x="606600" y="1365120"/>
            <a:ext cx="159192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I. Tentukan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7" name="Object 5"/>
              <p:cNvSpPr txBox="1"/>
              <p:nvPr/>
            </p:nvSpPr>
            <p:spPr>
              <a:xfrm>
                <a:off x="2376360" y="1319040"/>
                <a:ext cx="471600" cy="4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∇</m:t>
                        </m:r>
                      </m:e>
                    </m:acc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8" name="Text Box 6"/>
          <p:cNvSpPr/>
          <p:nvPr/>
        </p:nvSpPr>
        <p:spPr>
          <a:xfrm>
            <a:off x="2898720" y="1355760"/>
            <a:ext cx="6728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dari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999" name="Text Box 7"/>
          <p:cNvSpPr/>
          <p:nvPr/>
        </p:nvSpPr>
        <p:spPr>
          <a:xfrm>
            <a:off x="867600" y="1905120"/>
            <a:ext cx="4046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1.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0" name="Object 8"/>
              <p:cNvSpPr txBox="1"/>
              <p:nvPr/>
            </p:nvSpPr>
            <p:spPr>
              <a:xfrm>
                <a:off x="1238400" y="1752480"/>
                <a:ext cx="1962000" cy="77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y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y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01" name="Text Box 10"/>
          <p:cNvSpPr/>
          <p:nvPr/>
        </p:nvSpPr>
        <p:spPr>
          <a:xfrm>
            <a:off x="861120" y="2577960"/>
            <a:ext cx="4046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2.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2" name="Object 11"/>
              <p:cNvSpPr txBox="1"/>
              <p:nvPr/>
            </p:nvSpPr>
            <p:spPr>
              <a:xfrm>
                <a:off x="1316160" y="2514600"/>
                <a:ext cx="2630520" cy="48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003" name="Text Box 12"/>
          <p:cNvSpPr/>
          <p:nvPr/>
        </p:nvSpPr>
        <p:spPr>
          <a:xfrm>
            <a:off x="4001400" y="1938240"/>
            <a:ext cx="4046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3.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4" name="Object 13"/>
              <p:cNvSpPr txBox="1"/>
              <p:nvPr/>
            </p:nvSpPr>
            <p:spPr>
              <a:xfrm>
                <a:off x="4495680" y="1947960"/>
                <a:ext cx="2340000" cy="3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y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005" name="Text Box 14"/>
          <p:cNvSpPr/>
          <p:nvPr/>
        </p:nvSpPr>
        <p:spPr>
          <a:xfrm>
            <a:off x="4061520" y="2568600"/>
            <a:ext cx="4046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4.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6" name="Object 15"/>
              <p:cNvSpPr txBox="1"/>
              <p:nvPr/>
            </p:nvSpPr>
            <p:spPr>
              <a:xfrm>
                <a:off x="4513320" y="2562120"/>
                <a:ext cx="27637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xy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y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07" name="Text Box 16"/>
          <p:cNvSpPr/>
          <p:nvPr/>
        </p:nvSpPr>
        <p:spPr>
          <a:xfrm>
            <a:off x="617760" y="3803760"/>
            <a:ext cx="168192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II. Tentukan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8" name="Object 17"/>
              <p:cNvSpPr txBox="1"/>
              <p:nvPr/>
            </p:nvSpPr>
            <p:spPr>
              <a:xfrm>
                <a:off x="2422440" y="3807000"/>
                <a:ext cx="47304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∇</m:t>
                        </m:r>
                      </m:e>
                    </m:acc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09" name="Text Box 18"/>
          <p:cNvSpPr/>
          <p:nvPr/>
        </p:nvSpPr>
        <p:spPr>
          <a:xfrm>
            <a:off x="3003840" y="3835440"/>
            <a:ext cx="28918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di titik yang diberikan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010" name="Text Box 19"/>
          <p:cNvSpPr/>
          <p:nvPr/>
        </p:nvSpPr>
        <p:spPr>
          <a:xfrm>
            <a:off x="937440" y="4349880"/>
            <a:ext cx="4046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1.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1" name="Object 20"/>
              <p:cNvSpPr txBox="1"/>
              <p:nvPr/>
            </p:nvSpPr>
            <p:spPr>
              <a:xfrm>
                <a:off x="1447920" y="4363920"/>
                <a:ext cx="2474640" cy="40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y</m:t>
                    </m:r>
                    <m:r>
                      <m:t xml:space="preserve">−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x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012" name="Text Box 21"/>
          <p:cNvSpPr/>
          <p:nvPr/>
        </p:nvSpPr>
        <p:spPr>
          <a:xfrm>
            <a:off x="937440" y="4997520"/>
            <a:ext cx="4046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2.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3" name="Object 22"/>
              <p:cNvSpPr txBox="1"/>
              <p:nvPr/>
            </p:nvSpPr>
            <p:spPr>
              <a:xfrm>
                <a:off x="1463760" y="4979880"/>
                <a:ext cx="3565440" cy="40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−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x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4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14" name="Text Box 23"/>
          <p:cNvSpPr/>
          <p:nvPr/>
        </p:nvSpPr>
        <p:spPr>
          <a:xfrm>
            <a:off x="975600" y="5721480"/>
            <a:ext cx="4046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3.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5" name="Object 24"/>
              <p:cNvSpPr txBox="1"/>
              <p:nvPr/>
            </p:nvSpPr>
            <p:spPr>
              <a:xfrm>
                <a:off x="1371600" y="5546880"/>
                <a:ext cx="1604880" cy="77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y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16" name="Text Box 25"/>
          <p:cNvSpPr/>
          <p:nvPr/>
        </p:nvSpPr>
        <p:spPr>
          <a:xfrm>
            <a:off x="4402440" y="4368960"/>
            <a:ext cx="15980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di P (– 2,3)  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017" name="Text Box 26"/>
          <p:cNvSpPr/>
          <p:nvPr/>
        </p:nvSpPr>
        <p:spPr>
          <a:xfrm>
            <a:off x="5239440" y="4968720"/>
            <a:ext cx="16682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di P (– 3, 3)  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018" name="Text Box 27"/>
          <p:cNvSpPr/>
          <p:nvPr/>
        </p:nvSpPr>
        <p:spPr>
          <a:xfrm>
            <a:off x="3351240" y="5683320"/>
            <a:ext cx="15980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di P (2, –1)  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019" name="Text Box 28"/>
          <p:cNvSpPr/>
          <p:nvPr/>
        </p:nvSpPr>
        <p:spPr>
          <a:xfrm>
            <a:off x="861120" y="3233880"/>
            <a:ext cx="4046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5.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0" name="Object 29"/>
              <p:cNvSpPr txBox="1"/>
              <p:nvPr/>
            </p:nvSpPr>
            <p:spPr>
              <a:xfrm>
                <a:off x="1332000" y="3246480"/>
                <a:ext cx="2630520" cy="3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,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 </m:t>
                        </m:r>
                        <m:r>
                          <m:t xml:space="preserve">2</m:t>
                        </m:r>
                      </m:sup>
                    </m:sSup>
                    <m:r>
                      <m:t xml:space="preserve">y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 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z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021" name="Text Box 30"/>
          <p:cNvSpPr/>
          <p:nvPr/>
        </p:nvSpPr>
        <p:spPr>
          <a:xfrm>
            <a:off x="4061520" y="3224160"/>
            <a:ext cx="4046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6.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graphicFrame>
        <p:nvGraphicFramePr>
          <p:cNvPr id="1022" name="Object 31"/>
          <p:cNvGraphicFramePr/>
          <p:nvPr/>
        </p:nvGraphicFramePr>
        <p:xfrm>
          <a:off x="4567320" y="3200400"/>
          <a:ext cx="2519280" cy="399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3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67320" y="3200400"/>
                    <a:ext cx="2519280" cy="39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2514" dur="indefinite" restart="never" nodeType="tmRoot">
          <p:childTnLst>
            <p:seq>
              <p:cTn id="2515" dur="indefinite" nodeType="mainSeq">
                <p:childTnLst>
                  <p:par>
                    <p:cTn id="2516" nodeType="clickEffect" fill="hold">
                      <p:stCondLst>
                        <p:cond delay="0"/>
                      </p:stCondLst>
                      <p:childTnLst>
                        <p:par>
                          <p:cTn id="2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0" dur="500" fill="hold"/>
                                        <p:tgtEl>
                                          <p:spTgt spid="9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1" dur="500" fill="hold"/>
                                        <p:tgtEl>
                                          <p:spTgt spid="9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2" dur="500" fill="hold"/>
                                        <p:tgtEl>
                                          <p:spTgt spid="9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3" dur="500"/>
                                        <p:tgtEl>
                                          <p:spTgt spid="9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6" dur="500" fill="hold"/>
                                        <p:tgtEl>
                                          <p:spTgt spid="9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7" dur="500" fill="hold"/>
                                        <p:tgtEl>
                                          <p:spTgt spid="9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8" dur="500" fill="hold"/>
                                        <p:tgtEl>
                                          <p:spTgt spid="9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9" dur="500"/>
                                        <p:tgtEl>
                                          <p:spTgt spid="9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2" dur="500" fill="hold"/>
                                        <p:tgtEl>
                                          <p:spTgt spid="9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3" dur="500" fill="hold"/>
                                        <p:tgtEl>
                                          <p:spTgt spid="9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4" dur="500" fill="hold"/>
                                        <p:tgtEl>
                                          <p:spTgt spid="9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5" dur="500"/>
                                        <p:tgtEl>
                                          <p:spTgt spid="9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8" dur="500" fill="hold"/>
                                        <p:tgtEl>
                                          <p:spTgt spid="9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9" dur="500" fill="hold"/>
                                        <p:tgtEl>
                                          <p:spTgt spid="9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0" dur="500" fill="hold"/>
                                        <p:tgtEl>
                                          <p:spTgt spid="9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1" dur="500"/>
                                        <p:tgtEl>
                                          <p:spTgt spid="9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4" dur="500" fill="hold"/>
                                        <p:tgtEl>
                                          <p:spTgt spid="10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5" dur="500" fill="hold"/>
                                        <p:tgtEl>
                                          <p:spTgt spid="10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6" dur="500" fill="hold"/>
                                        <p:tgtEl>
                                          <p:spTgt spid="10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7" dur="500"/>
                                        <p:tgtEl>
                                          <p:spTgt spid="10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0" dur="500" fill="hold"/>
                                        <p:tgtEl>
                                          <p:spTgt spid="10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1" dur="500" fill="hold"/>
                                        <p:tgtEl>
                                          <p:spTgt spid="10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2" dur="500" fill="hold"/>
                                        <p:tgtEl>
                                          <p:spTgt spid="10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3" dur="500"/>
                                        <p:tgtEl>
                                          <p:spTgt spid="10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6" dur="500" fill="hold"/>
                                        <p:tgtEl>
                                          <p:spTgt spid="10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7" dur="500" fill="hold"/>
                                        <p:tgtEl>
                                          <p:spTgt spid="10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8" dur="500" fill="hold"/>
                                        <p:tgtEl>
                                          <p:spTgt spid="10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9" dur="500"/>
                                        <p:tgtEl>
                                          <p:spTgt spid="1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2" dur="500" fill="hold"/>
                                        <p:tgtEl>
                                          <p:spTgt spid="10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3" dur="500" fill="hold"/>
                                        <p:tgtEl>
                                          <p:spTgt spid="10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4" dur="500" fill="hold"/>
                                        <p:tgtEl>
                                          <p:spTgt spid="10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5" dur="500"/>
                                        <p:tgtEl>
                                          <p:spTgt spid="10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8" dur="500" fill="hold"/>
                                        <p:tgtEl>
                                          <p:spTgt spid="10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9" dur="500" fill="hold"/>
                                        <p:tgtEl>
                                          <p:spTgt spid="10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0" dur="500" fill="hold"/>
                                        <p:tgtEl>
                                          <p:spTgt spid="10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1" dur="500"/>
                                        <p:tgtEl>
                                          <p:spTgt spid="10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4" dur="500" fill="hold"/>
                                        <p:tgtEl>
                                          <p:spTgt spid="10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5" dur="500" fill="hold"/>
                                        <p:tgtEl>
                                          <p:spTgt spid="10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6" dur="500" fill="hold"/>
                                        <p:tgtEl>
                                          <p:spTgt spid="10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7" dur="500"/>
                                        <p:tgtEl>
                                          <p:spTgt spid="10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0" dur="500" fill="hold"/>
                                        <p:tgtEl>
                                          <p:spTgt spid="10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1" dur="500" fill="hold"/>
                                        <p:tgtEl>
                                          <p:spTgt spid="10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2" dur="500" fill="hold"/>
                                        <p:tgtEl>
                                          <p:spTgt spid="10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3" dur="500"/>
                                        <p:tgtEl>
                                          <p:spTgt spid="10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6" dur="500" fill="hold"/>
                                        <p:tgtEl>
                                          <p:spTgt spid="10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7" dur="500" fill="hold"/>
                                        <p:tgtEl>
                                          <p:spTgt spid="10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8" dur="500" fill="hold"/>
                                        <p:tgtEl>
                                          <p:spTgt spid="10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9" dur="500"/>
                                        <p:tgtEl>
                                          <p:spTgt spid="10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2" dur="500" fill="hold"/>
                                        <p:tgtEl>
                                          <p:spTgt spid="10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3" dur="500" fill="hold"/>
                                        <p:tgtEl>
                                          <p:spTgt spid="10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4" dur="500" fill="hold"/>
                                        <p:tgtEl>
                                          <p:spTgt spid="10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5" dur="500"/>
                                        <p:tgtEl>
                                          <p:spTgt spid="10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8" dur="500" fill="hold"/>
                                        <p:tgtEl>
                                          <p:spTgt spid="10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9" dur="500" fill="hold"/>
                                        <p:tgtEl>
                                          <p:spTgt spid="10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0" dur="500" fill="hold"/>
                                        <p:tgtEl>
                                          <p:spTgt spid="10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1" dur="5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4" dur="500" fill="hold"/>
                                        <p:tgtEl>
                                          <p:spTgt spid="10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5" dur="500" fill="hold"/>
                                        <p:tgtEl>
                                          <p:spTgt spid="10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6" dur="500" fill="hold"/>
                                        <p:tgtEl>
                                          <p:spTgt spid="10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7" dur="500"/>
                                        <p:tgtEl>
                                          <p:spTgt spid="10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8" nodeType="clickEffect" fill="hold">
                      <p:stCondLst>
                        <p:cond delay="indefinite"/>
                      </p:stCondLst>
                      <p:childTnLst>
                        <p:par>
                          <p:cTn id="2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2" dur="500" fill="hold"/>
                                        <p:tgtEl>
                                          <p:spTgt spid="10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3" dur="500" fill="hold"/>
                                        <p:tgtEl>
                                          <p:spTgt spid="10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4" dur="500" fill="hold"/>
                                        <p:tgtEl>
                                          <p:spTgt spid="10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5" dur="500" fill="hold"/>
                                        <p:tgtEl>
                                          <p:spTgt spid="10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16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8" dur="500" fill="hold"/>
                                        <p:tgtEl>
                                          <p:spTgt spid="10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9" dur="500" fill="hold"/>
                                        <p:tgtEl>
                                          <p:spTgt spid="10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0" dur="500" fill="hold"/>
                                        <p:tgtEl>
                                          <p:spTgt spid="10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1" dur="500" fill="hold"/>
                                        <p:tgtEl>
                                          <p:spTgt spid="10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22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4" dur="500" fill="hold"/>
                                        <p:tgtEl>
                                          <p:spTgt spid="10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5" dur="500" fill="hold"/>
                                        <p:tgtEl>
                                          <p:spTgt spid="10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6" dur="500" fill="hold"/>
                                        <p:tgtEl>
                                          <p:spTgt spid="10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7" dur="500" fill="hold"/>
                                        <p:tgtEl>
                                          <p:spTgt spid="10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28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0" dur="500" fill="hold"/>
                                        <p:tgtEl>
                                          <p:spTgt spid="10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1" dur="500" fill="hold"/>
                                        <p:tgtEl>
                                          <p:spTgt spid="10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2" dur="500" fill="hold"/>
                                        <p:tgtEl>
                                          <p:spTgt spid="10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3" dur="500" fill="hold"/>
                                        <p:tgtEl>
                                          <p:spTgt spid="10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34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6" dur="500" fill="hold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7" dur="500" fill="hold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8" dur="500" fill="hold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9" dur="500" fill="hold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40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2" dur="500" fill="hold"/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3" dur="500" fill="hold"/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4" dur="500" fill="hold"/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5" dur="500" fill="hold"/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46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8" dur="500" fill="hold"/>
                                        <p:tgtEl>
                                          <p:spTgt spid="10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9" dur="500" fill="hold"/>
                                        <p:tgtEl>
                                          <p:spTgt spid="10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0" dur="500" fill="hold"/>
                                        <p:tgtEl>
                                          <p:spTgt spid="10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1" dur="500" fill="hold"/>
                                        <p:tgtEl>
                                          <p:spTgt spid="10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52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4" dur="500" fill="hold"/>
                                        <p:tgtEl>
                                          <p:spTgt spid="10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5" dur="500" fill="hold"/>
                                        <p:tgtEl>
                                          <p:spTgt spid="10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6" dur="500" fill="hold"/>
                                        <p:tgtEl>
                                          <p:spTgt spid="10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7" dur="500" fill="hold"/>
                                        <p:tgtEl>
                                          <p:spTgt spid="10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58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0" dur="500" fill="hold"/>
                                        <p:tgtEl>
                                          <p:spTgt spid="10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1" dur="500" fill="hold"/>
                                        <p:tgtEl>
                                          <p:spTgt spid="10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2" dur="500" fill="hold"/>
                                        <p:tgtEl>
                                          <p:spTgt spid="10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3" dur="500" fill="hold"/>
                                        <p:tgtEl>
                                          <p:spTgt spid="10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64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6" dur="5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7" dur="5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8" dur="5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9" dur="5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70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2" dur="500" fill="hold"/>
                                        <p:tgtEl>
                                          <p:spTgt spid="10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3" dur="500" fill="hold"/>
                                        <p:tgtEl>
                                          <p:spTgt spid="10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4" dur="500" fill="hold"/>
                                        <p:tgtEl>
                                          <p:spTgt spid="10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5" dur="500" fill="hold"/>
                                        <p:tgtEl>
                                          <p:spTgt spid="10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76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8" dur="500" fill="hold"/>
                                        <p:tgtEl>
                                          <p:spTgt spid="10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9" dur="500" fill="hold"/>
                                        <p:tgtEl>
                                          <p:spTgt spid="10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0" dur="500" fill="hold"/>
                                        <p:tgtEl>
                                          <p:spTgt spid="10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1" dur="500" fill="hold"/>
                                        <p:tgtEl>
                                          <p:spTgt spid="10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turan Ranta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5" name=""/>
          <p:cNvSpPr txBox="1"/>
          <p:nvPr/>
        </p:nvSpPr>
        <p:spPr>
          <a:xfrm>
            <a:off x="609480" y="1511280"/>
            <a:ext cx="8305920" cy="17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Misalkan x=x(t) dan y = y(t) terdeferensialkan di t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dan z = f(x,y) terderensialkan di (x(t), y(t)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Maka z = f(x(t), y(t)) dapat dideferensialkan di t dan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didefinisikan sebagai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6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C9FE9-A4AD-4242-A466-EA89164CF1AF}" type="datetime">
              <a:rPr b="0" lang="en-US" sz="1200" spc="-1" strike="noStrike">
                <a:solidFill>
                  <a:srgbClr val="898989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027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Verdana"/>
              </a:rPr>
              <a:t>[MA 1124]</a:t>
            </a:r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Verdana"/>
              </a:rPr>
              <a:t>KALKULUS II</a:t>
            </a:r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02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8C629-BFFE-4F88-8628-9B12E78B541F}" type="slidenum">
              <a:rPr b="0" lang="en-US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</p:txBody>
      </p:sp>
      <p:graphicFrame>
        <p:nvGraphicFramePr>
          <p:cNvPr id="1029" name="Object 4"/>
          <p:cNvGraphicFramePr/>
          <p:nvPr/>
        </p:nvGraphicFramePr>
        <p:xfrm>
          <a:off x="2951280" y="3314880"/>
          <a:ext cx="2120760" cy="72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51280" y="3314880"/>
                    <a:ext cx="2120760" cy="72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1" name="Rectangle 5"/>
          <p:cNvSpPr/>
          <p:nvPr/>
        </p:nvSpPr>
        <p:spPr>
          <a:xfrm>
            <a:off x="1059480" y="4042800"/>
            <a:ext cx="58896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Misalkan x = x(s,t), y=y(s,t) dan z = f(x,y), maka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2" name="Object 6"/>
              <p:cNvSpPr txBox="1"/>
              <p:nvPr/>
            </p:nvSpPr>
            <p:spPr>
              <a:xfrm>
                <a:off x="609480" y="4572000"/>
                <a:ext cx="412920" cy="49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i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1033" name="Object 7"/>
          <p:cNvGraphicFramePr/>
          <p:nvPr/>
        </p:nvGraphicFramePr>
        <p:xfrm>
          <a:off x="1339920" y="4457880"/>
          <a:ext cx="2097000" cy="723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34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39920" y="4457880"/>
                    <a:ext cx="2097000" cy="72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035" name="Object 8"/>
              <p:cNvSpPr txBox="1"/>
              <p:nvPr/>
            </p:nvSpPr>
            <p:spPr>
              <a:xfrm>
                <a:off x="565200" y="5334120"/>
                <a:ext cx="501480" cy="49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ii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1036" name="Object 9"/>
          <p:cNvGraphicFramePr/>
          <p:nvPr/>
        </p:nvGraphicFramePr>
        <p:xfrm>
          <a:off x="1339920" y="5219640"/>
          <a:ext cx="2097000" cy="723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37" name="Object 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9920" y="5219640"/>
                    <a:ext cx="209700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2682" dur="indefinite" restart="never" nodeType="tmRoot">
          <p:childTnLst>
            <p:seq>
              <p:cTn id="2683" dur="indefinite" nodeType="mainSeq">
                <p:childTnLst>
                  <p:par>
                    <p:cTn id="2684" nodeType="clickEffect" fill="hold">
                      <p:stCondLst>
                        <p:cond delay="0"/>
                      </p:stCondLst>
                      <p:childTnLst>
                        <p:par>
                          <p:cTn id="2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6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9" nodeType="clickEffect" fill="hold">
                      <p:stCondLst>
                        <p:cond delay="indefinite"/>
                      </p:stCondLst>
                      <p:childTnLst>
                        <p:par>
                          <p:cTn id="26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4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7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3" nodeType="clickEffect" fill="hold">
                      <p:stCondLst>
                        <p:cond delay="indefinite"/>
                      </p:stCondLst>
                      <p:childTnLst>
                        <p:par>
                          <p:cTn id="27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7" dur="1000" fill="hold"/>
                                        <p:tgtEl>
                                          <p:spTgt spid="10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8" dur="1000" fill="hold"/>
                                        <p:tgtEl>
                                          <p:spTgt spid="10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9" dur="1000" fill="hold"/>
                                        <p:tgtEl>
                                          <p:spTgt spid="10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0" dur="10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1" nodeType="clickEffect" fill="hold">
                      <p:stCondLst>
                        <p:cond delay="indefinite"/>
                      </p:stCondLst>
                      <p:childTnLst>
                        <p:par>
                          <p:cTn id="27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15" dur="80"/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16" dur="80"/>
                                        <p:tgtEl>
                                          <p:spTgt spid="10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17" dur="80"/>
                                        <p:tgtEl>
                                          <p:spTgt spid="10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0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3" dur="1000" fill="hold"/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4" dur="1000" fill="hold"/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5" dur="1000" fill="hold"/>
                                        <p:tgtEl>
                                          <p:spTgt spid="10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6" dur="10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9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2" dur="1000" fill="hold"/>
                                        <p:tgtEl>
                                          <p:spTgt spid="10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3" dur="1000" fill="hold"/>
                                        <p:tgtEl>
                                          <p:spTgt spid="10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4" dur="1000" fill="hold"/>
                                        <p:tgtEl>
                                          <p:spTgt spid="10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5" dur="10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to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9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AB483-4CB4-4930-82F7-DDD8EF38029C}" type="datetime">
              <a:rPr b="0" lang="en-US" sz="1200" spc="-1" strike="noStrike">
                <a:solidFill>
                  <a:srgbClr val="898989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040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Verdana"/>
              </a:rPr>
              <a:t>[MA 1124]</a:t>
            </a:r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Verdana"/>
              </a:rPr>
              <a:t>KALKULUS II</a:t>
            </a:r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04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4AC69-3E7F-4D0B-BF8C-D390337333DA}" type="slidenum">
              <a:rPr b="0" lang="en-US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042" name="Text Box 4"/>
          <p:cNvSpPr/>
          <p:nvPr/>
        </p:nvSpPr>
        <p:spPr>
          <a:xfrm>
            <a:off x="929880" y="1447920"/>
            <a:ext cx="687312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1. Misalkan w = x</a:t>
            </a:r>
            <a:r>
              <a:rPr b="0" lang="en-US" sz="2100" spc="-1" strike="noStrike" baseline="30000">
                <a:solidFill>
                  <a:srgbClr val="336699"/>
                </a:solidFill>
                <a:latin typeface="Verdana"/>
              </a:rPr>
              <a:t>2 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y</a:t>
            </a:r>
            <a:r>
              <a:rPr b="0" lang="en-US" sz="2100" spc="-1" strike="noStrike" baseline="30000">
                <a:solidFill>
                  <a:srgbClr val="336699"/>
                </a:solidFill>
                <a:latin typeface="Verdana"/>
              </a:rPr>
              <a:t>3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 dengan x = t</a:t>
            </a:r>
            <a:r>
              <a:rPr b="0" lang="en-US" sz="2100" spc="-1" strike="noStrike" baseline="30000">
                <a:solidFill>
                  <a:srgbClr val="336699"/>
                </a:solidFill>
                <a:latin typeface="Verdana"/>
              </a:rPr>
              <a:t>3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 dan y = t</a:t>
            </a:r>
            <a:r>
              <a:rPr b="0" lang="en-US" sz="2100" spc="-1" strike="noStrike" baseline="30000">
                <a:solidFill>
                  <a:srgbClr val="336699"/>
                </a:solidFill>
                <a:latin typeface="Verdana"/>
              </a:rPr>
              <a:t>2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, tentukan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3" name="Object 5"/>
              <p:cNvSpPr txBox="1"/>
              <p:nvPr/>
            </p:nvSpPr>
            <p:spPr>
              <a:xfrm>
                <a:off x="8255160" y="1295280"/>
                <a:ext cx="507960" cy="70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w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44" name="Text Box 7"/>
          <p:cNvSpPr/>
          <p:nvPr/>
        </p:nvSpPr>
        <p:spPr>
          <a:xfrm>
            <a:off x="964080" y="1898640"/>
            <a:ext cx="9990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Jawab: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graphicFrame>
        <p:nvGraphicFramePr>
          <p:cNvPr id="1045" name="Object 8"/>
          <p:cNvGraphicFramePr/>
          <p:nvPr/>
        </p:nvGraphicFramePr>
        <p:xfrm>
          <a:off x="2065320" y="2390760"/>
          <a:ext cx="2274840" cy="72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6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65320" y="2390760"/>
                    <a:ext cx="2274840" cy="72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7" name="Text Box 10"/>
          <p:cNvSpPr/>
          <p:nvPr/>
        </p:nvSpPr>
        <p:spPr>
          <a:xfrm>
            <a:off x="2649240" y="3193920"/>
            <a:ext cx="27482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= 2</a:t>
            </a: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x y</a:t>
            </a:r>
            <a:r>
              <a:rPr b="0" lang="en-US" sz="2100" spc="-1" strike="noStrike" baseline="30000">
                <a:solidFill>
                  <a:srgbClr val="336699"/>
                </a:solidFill>
                <a:latin typeface="Verdana"/>
              </a:rPr>
              <a:t>3 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(3</a:t>
            </a: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t</a:t>
            </a:r>
            <a:r>
              <a:rPr b="0" lang="en-US" sz="2100" spc="-1" strike="noStrike" baseline="30000">
                <a:solidFill>
                  <a:srgbClr val="336699"/>
                </a:solidFill>
                <a:latin typeface="Verdana"/>
              </a:rPr>
              <a:t>2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)+3 </a:t>
            </a: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x</a:t>
            </a:r>
            <a:r>
              <a:rPr b="0" lang="en-US" sz="2100" spc="-1" strike="noStrike" baseline="30000">
                <a:solidFill>
                  <a:srgbClr val="336699"/>
                </a:solidFill>
                <a:latin typeface="Verdana"/>
              </a:rPr>
              <a:t>2 </a:t>
            </a: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y</a:t>
            </a:r>
            <a:r>
              <a:rPr b="0" lang="en-US" sz="2100" spc="-1" strike="noStrike" baseline="30000">
                <a:solidFill>
                  <a:srgbClr val="336699"/>
                </a:solidFill>
                <a:latin typeface="Verdana"/>
              </a:rPr>
              <a:t>2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(2</a:t>
            </a: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t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)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048" name="Text Box 11"/>
          <p:cNvSpPr/>
          <p:nvPr/>
        </p:nvSpPr>
        <p:spPr>
          <a:xfrm>
            <a:off x="2802600" y="3778200"/>
            <a:ext cx="34066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= 2</a:t>
            </a: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t</a:t>
            </a:r>
            <a:r>
              <a:rPr b="0" i="1" lang="en-US" sz="2100" spc="-1" strike="noStrike" baseline="30000">
                <a:solidFill>
                  <a:srgbClr val="336699"/>
                </a:solidFill>
                <a:latin typeface="Verdana"/>
              </a:rPr>
              <a:t>3</a:t>
            </a: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 (t</a:t>
            </a:r>
            <a:r>
              <a:rPr b="0" i="1" lang="en-US" sz="2100" spc="-1" strike="noStrike" baseline="30000">
                <a:solidFill>
                  <a:srgbClr val="336699"/>
                </a:solidFill>
                <a:latin typeface="Verdana"/>
              </a:rPr>
              <a:t>2</a:t>
            </a: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)</a:t>
            </a:r>
            <a:r>
              <a:rPr b="0" lang="en-US" sz="2100" spc="-1" strike="noStrike" baseline="30000">
                <a:solidFill>
                  <a:srgbClr val="336699"/>
                </a:solidFill>
                <a:latin typeface="Verdana"/>
              </a:rPr>
              <a:t>3 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(3</a:t>
            </a: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t</a:t>
            </a:r>
            <a:r>
              <a:rPr b="0" lang="en-US" sz="2100" spc="-1" strike="noStrike" baseline="30000">
                <a:solidFill>
                  <a:srgbClr val="336699"/>
                </a:solidFill>
                <a:latin typeface="Verdana"/>
              </a:rPr>
              <a:t>2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)+3 (</a:t>
            </a: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t</a:t>
            </a:r>
            <a:r>
              <a:rPr b="0" i="1" lang="en-US" sz="2100" spc="-1" strike="noStrike" baseline="30000">
                <a:solidFill>
                  <a:srgbClr val="336699"/>
                </a:solidFill>
                <a:latin typeface="Verdana"/>
              </a:rPr>
              <a:t>3</a:t>
            </a: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)</a:t>
            </a:r>
            <a:r>
              <a:rPr b="0" lang="en-US" sz="2100" spc="-1" strike="noStrike" baseline="30000">
                <a:solidFill>
                  <a:srgbClr val="336699"/>
                </a:solidFill>
                <a:latin typeface="Verdana"/>
              </a:rPr>
              <a:t>2 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(</a:t>
            </a: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t</a:t>
            </a:r>
            <a:r>
              <a:rPr b="0" i="1" lang="en-US" sz="2100" spc="-1" strike="noStrike" baseline="30000">
                <a:solidFill>
                  <a:srgbClr val="336699"/>
                </a:solidFill>
                <a:latin typeface="Verdana"/>
              </a:rPr>
              <a:t>2</a:t>
            </a: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)</a:t>
            </a:r>
            <a:r>
              <a:rPr b="0" lang="en-US" sz="2100" spc="-1" strike="noStrike" baseline="30000">
                <a:solidFill>
                  <a:srgbClr val="336699"/>
                </a:solidFill>
                <a:latin typeface="Verdana"/>
              </a:rPr>
              <a:t>2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(2</a:t>
            </a: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t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)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049" name="Text Box 12"/>
          <p:cNvSpPr/>
          <p:nvPr/>
        </p:nvSpPr>
        <p:spPr>
          <a:xfrm>
            <a:off x="2625840" y="4206960"/>
            <a:ext cx="26902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= 2</a:t>
            </a: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t</a:t>
            </a:r>
            <a:r>
              <a:rPr b="0" i="1" lang="en-US" sz="2100" spc="-1" strike="noStrike" baseline="30000">
                <a:solidFill>
                  <a:srgbClr val="336699"/>
                </a:solidFill>
                <a:latin typeface="Verdana"/>
              </a:rPr>
              <a:t>3</a:t>
            </a: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. t</a:t>
            </a:r>
            <a:r>
              <a:rPr b="0" i="1" lang="en-US" sz="2100" spc="-1" strike="noStrike" baseline="30000">
                <a:solidFill>
                  <a:srgbClr val="336699"/>
                </a:solidFill>
                <a:latin typeface="Verdana"/>
              </a:rPr>
              <a:t>6</a:t>
            </a: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.</a:t>
            </a:r>
            <a:r>
              <a:rPr b="0" lang="en-US" sz="2100" spc="-1" strike="noStrike" baseline="30000">
                <a:solidFill>
                  <a:srgbClr val="336699"/>
                </a:solidFill>
                <a:latin typeface="Verdana"/>
              </a:rPr>
              <a:t> 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3</a:t>
            </a: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t</a:t>
            </a:r>
            <a:r>
              <a:rPr b="0" lang="en-US" sz="2100" spc="-1" strike="noStrike" baseline="30000">
                <a:solidFill>
                  <a:srgbClr val="336699"/>
                </a:solidFill>
                <a:latin typeface="Verdana"/>
              </a:rPr>
              <a:t>2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+3 </a:t>
            </a: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t</a:t>
            </a:r>
            <a:r>
              <a:rPr b="0" i="1" lang="en-US" sz="2100" spc="-1" strike="noStrike" baseline="30000">
                <a:solidFill>
                  <a:srgbClr val="336699"/>
                </a:solidFill>
                <a:latin typeface="Verdana"/>
              </a:rPr>
              <a:t>6</a:t>
            </a: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.</a:t>
            </a:r>
            <a:r>
              <a:rPr b="0" lang="en-US" sz="2100" spc="-1" strike="noStrike" baseline="30000">
                <a:solidFill>
                  <a:srgbClr val="336699"/>
                </a:solidFill>
                <a:latin typeface="Verdana"/>
              </a:rPr>
              <a:t> </a:t>
            </a: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t</a:t>
            </a:r>
            <a:r>
              <a:rPr b="0" i="1" lang="en-US" sz="2100" spc="-1" strike="noStrike" baseline="30000">
                <a:solidFill>
                  <a:srgbClr val="336699"/>
                </a:solidFill>
                <a:latin typeface="Verdana"/>
              </a:rPr>
              <a:t>4</a:t>
            </a: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.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 2</a:t>
            </a: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t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050" name="Text Box 13"/>
          <p:cNvSpPr/>
          <p:nvPr/>
        </p:nvSpPr>
        <p:spPr>
          <a:xfrm>
            <a:off x="2579040" y="4692600"/>
            <a:ext cx="235692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= 6</a:t>
            </a: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t</a:t>
            </a:r>
            <a:r>
              <a:rPr b="0" i="1" lang="en-US" sz="2100" spc="-1" strike="noStrike" baseline="30000">
                <a:solidFill>
                  <a:srgbClr val="336699"/>
                </a:solidFill>
                <a:latin typeface="Verdana"/>
              </a:rPr>
              <a:t>11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+6 </a:t>
            </a: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t</a:t>
            </a:r>
            <a:r>
              <a:rPr b="0" lang="en-US" sz="2100" spc="-1" strike="noStrike" baseline="30000">
                <a:solidFill>
                  <a:srgbClr val="336699"/>
                </a:solidFill>
                <a:latin typeface="Verdana"/>
              </a:rPr>
              <a:t>11 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= 12 </a:t>
            </a: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t</a:t>
            </a:r>
            <a:r>
              <a:rPr b="0" lang="en-US" sz="2100" spc="-1" strike="noStrike" baseline="30000">
                <a:solidFill>
                  <a:srgbClr val="336699"/>
                </a:solidFill>
                <a:latin typeface="Verdana"/>
              </a:rPr>
              <a:t>11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</p:spTree>
  </p:cSld>
  <p:timing>
    <p:tnLst>
      <p:par>
        <p:cTn id="2736" dur="indefinite" restart="never" nodeType="tmRoot">
          <p:childTnLst>
            <p:seq>
              <p:cTn id="2737" dur="indefinite" nodeType="mainSeq">
                <p:childTnLst>
                  <p:par>
                    <p:cTn id="2738" nodeType="clickEffect" fill="hold">
                      <p:stCondLst>
                        <p:cond delay="0"/>
                      </p:stCondLst>
                      <p:childTnLst>
                        <p:par>
                          <p:cTn id="27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2" dur="5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5" dur="5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8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9" nodeType="clickEffect" fill="hold">
                      <p:stCondLst>
                        <p:cond delay="indefinite"/>
                      </p:stCondLst>
                      <p:childTnLst>
                        <p:par>
                          <p:cTn id="27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3" dur="1000" fill="hold"/>
                                        <p:tgtEl>
                                          <p:spTgt spid="10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4" dur="1000" fill="hold"/>
                                        <p:tgtEl>
                                          <p:spTgt spid="10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5" dur="1000" fill="hold"/>
                                        <p:tgtEl>
                                          <p:spTgt spid="10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6" dur="10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7" nodeType="clickEffect" fill="hold">
                      <p:stCondLst>
                        <p:cond delay="indefinite"/>
                      </p:stCondLst>
                      <p:childTnLst>
                        <p:par>
                          <p:cTn id="27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61" dur="80"/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62" dur="80"/>
                                        <p:tgtEl>
                                          <p:spTgt spid="10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63" dur="80"/>
                                        <p:tgtEl>
                                          <p:spTgt spid="10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4" nodeType="clickEffect" fill="hold">
                      <p:stCondLst>
                        <p:cond delay="indefinite"/>
                      </p:stCondLst>
                      <p:childTnLst>
                        <p:par>
                          <p:cTn id="27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68" dur="80"/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69" dur="80"/>
                                        <p:tgtEl>
                                          <p:spTgt spid="10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70" dur="80"/>
                                        <p:tgtEl>
                                          <p:spTgt spid="10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1" nodeType="clickEffect" fill="hold">
                      <p:stCondLst>
                        <p:cond delay="indefinite"/>
                      </p:stCondLst>
                      <p:childTnLst>
                        <p:par>
                          <p:cTn id="27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75" dur="80"/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76" dur="80"/>
                                        <p:tgtEl>
                                          <p:spTgt spid="10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77" dur="80"/>
                                        <p:tgtEl>
                                          <p:spTgt spid="10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8" nodeType="clickEffect" fill="hold">
                      <p:stCondLst>
                        <p:cond delay="indefinite"/>
                      </p:stCondLst>
                      <p:childTnLst>
                        <p:par>
                          <p:cTn id="27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82" dur="80"/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83" dur="80"/>
                                        <p:tgtEl>
                                          <p:spTgt spid="10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84" dur="80"/>
                                        <p:tgtEl>
                                          <p:spTgt spid="10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to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2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5FA67-40E6-4D39-BD27-D8E1B675CE88}" type="datetime">
              <a:rPr b="0" lang="en-US" sz="1200" spc="-1" strike="noStrike">
                <a:solidFill>
                  <a:srgbClr val="898989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05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Verdana"/>
              </a:rPr>
              <a:t>[MA 1124]</a:t>
            </a:r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Verdana"/>
              </a:rPr>
              <a:t>KALKULUS II</a:t>
            </a:r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05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04166-686D-4D63-AE66-CEC08B3323CA}" type="slidenum">
              <a:rPr b="0" lang="en-US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055" name="Text Box 3"/>
          <p:cNvSpPr/>
          <p:nvPr/>
        </p:nvSpPr>
        <p:spPr>
          <a:xfrm>
            <a:off x="1000800" y="1447920"/>
            <a:ext cx="71488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Misalkan z = 3x</a:t>
            </a:r>
            <a:r>
              <a:rPr b="0" lang="en-US" sz="2100" spc="-1" strike="noStrike" baseline="30000">
                <a:solidFill>
                  <a:srgbClr val="336699"/>
                </a:solidFill>
                <a:latin typeface="Verdana"/>
              </a:rPr>
              <a:t>2 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– y</a:t>
            </a:r>
            <a:r>
              <a:rPr b="0" lang="en-US" sz="2100" spc="-1" strike="noStrike" baseline="30000">
                <a:solidFill>
                  <a:srgbClr val="336699"/>
                </a:solidFill>
                <a:latin typeface="Verdana"/>
              </a:rPr>
              <a:t>2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 dengan x = 2 s+7 t dan y = 5 s t, 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graphicFrame>
        <p:nvGraphicFramePr>
          <p:cNvPr id="1056" name="Object 4"/>
          <p:cNvGraphicFramePr/>
          <p:nvPr/>
        </p:nvGraphicFramePr>
        <p:xfrm>
          <a:off x="2389320" y="1839960"/>
          <a:ext cx="352440" cy="67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89320" y="1839960"/>
                    <a:ext cx="352440" cy="67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8" name="Text Box 5"/>
          <p:cNvSpPr/>
          <p:nvPr/>
        </p:nvSpPr>
        <p:spPr>
          <a:xfrm>
            <a:off x="964080" y="2438280"/>
            <a:ext cx="9990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Jawab: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graphicFrame>
        <p:nvGraphicFramePr>
          <p:cNvPr id="1059" name="Object 6"/>
          <p:cNvGraphicFramePr/>
          <p:nvPr/>
        </p:nvGraphicFramePr>
        <p:xfrm>
          <a:off x="1603440" y="2817720"/>
          <a:ext cx="2097000" cy="722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0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03440" y="2817720"/>
                    <a:ext cx="2097000" cy="72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1" name="Text Box 7"/>
          <p:cNvSpPr/>
          <p:nvPr/>
        </p:nvSpPr>
        <p:spPr>
          <a:xfrm>
            <a:off x="1976040" y="4051440"/>
            <a:ext cx="26136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= 42 (2</a:t>
            </a: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s 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+7</a:t>
            </a: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t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) – 50 </a:t>
            </a: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s</a:t>
            </a:r>
            <a:r>
              <a:rPr b="0" lang="en-US" sz="2100" spc="-1" strike="noStrike" baseline="30000">
                <a:solidFill>
                  <a:srgbClr val="336699"/>
                </a:solidFill>
                <a:latin typeface="Verdana"/>
              </a:rPr>
              <a:t>2</a:t>
            </a: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t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062" name="Text Box 8"/>
          <p:cNvSpPr/>
          <p:nvPr/>
        </p:nvSpPr>
        <p:spPr>
          <a:xfrm>
            <a:off x="1947240" y="3645000"/>
            <a:ext cx="224892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= 6x</a:t>
            </a: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. 7</a:t>
            </a:r>
            <a:r>
              <a:rPr b="0" lang="en-US" sz="2100" spc="-1" strike="noStrike" baseline="30000">
                <a:solidFill>
                  <a:srgbClr val="336699"/>
                </a:solidFill>
                <a:latin typeface="Verdana"/>
              </a:rPr>
              <a:t> 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+ (–2y) 5 s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063" name="Rectangle 11"/>
          <p:cNvSpPr/>
          <p:nvPr/>
        </p:nvSpPr>
        <p:spPr>
          <a:xfrm>
            <a:off x="947520" y="1981080"/>
            <a:ext cx="13086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tentukan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graphicFrame>
        <p:nvGraphicFramePr>
          <p:cNvPr id="1064" name="Object 12"/>
          <p:cNvGraphicFramePr/>
          <p:nvPr/>
        </p:nvGraphicFramePr>
        <p:xfrm>
          <a:off x="3659040" y="1839960"/>
          <a:ext cx="352440" cy="679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65" name="Object 1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659040" y="1839960"/>
                    <a:ext cx="352440" cy="67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6" name="Rectangle 13"/>
          <p:cNvSpPr/>
          <p:nvPr/>
        </p:nvSpPr>
        <p:spPr>
          <a:xfrm>
            <a:off x="2905560" y="1981080"/>
            <a:ext cx="6591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dan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graphicFrame>
        <p:nvGraphicFramePr>
          <p:cNvPr id="1067" name="Object 14"/>
          <p:cNvGraphicFramePr/>
          <p:nvPr/>
        </p:nvGraphicFramePr>
        <p:xfrm>
          <a:off x="1600200" y="4524480"/>
          <a:ext cx="2098800" cy="723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68" name="Object 1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00200" y="4524480"/>
                    <a:ext cx="209880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9" name="Text Box 15"/>
          <p:cNvSpPr/>
          <p:nvPr/>
        </p:nvSpPr>
        <p:spPr>
          <a:xfrm>
            <a:off x="1945080" y="5759280"/>
            <a:ext cx="26805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= 12 (2</a:t>
            </a: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s 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+7</a:t>
            </a: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t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) – 50 </a:t>
            </a: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s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 </a:t>
            </a: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t</a:t>
            </a:r>
            <a:r>
              <a:rPr b="0" i="1" lang="en-US" sz="2100" spc="-1" strike="noStrike" baseline="30000">
                <a:solidFill>
                  <a:srgbClr val="336699"/>
                </a:solidFill>
                <a:latin typeface="Verdana"/>
              </a:rPr>
              <a:t>2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070" name="Text Box 16"/>
          <p:cNvSpPr/>
          <p:nvPr/>
        </p:nvSpPr>
        <p:spPr>
          <a:xfrm>
            <a:off x="1913760" y="5353200"/>
            <a:ext cx="21920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= 6</a:t>
            </a: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x. 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2</a:t>
            </a:r>
            <a:r>
              <a:rPr b="0" lang="en-US" sz="2100" spc="-1" strike="noStrike" baseline="30000">
                <a:solidFill>
                  <a:srgbClr val="336699"/>
                </a:solidFill>
                <a:latin typeface="Verdana"/>
              </a:rPr>
              <a:t> 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+ (–2</a:t>
            </a: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y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) 5 </a:t>
            </a: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t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</p:spTree>
  </p:cSld>
  <p:timing>
    <p:tnLst>
      <p:par>
        <p:cTn id="2785" dur="indefinite" restart="never" nodeType="tmRoot">
          <p:childTnLst>
            <p:seq>
              <p:cTn id="2786" dur="indefinite" nodeType="mainSeq">
                <p:childTnLst>
                  <p:par>
                    <p:cTn id="2787" nodeType="clickEffect" fill="hold">
                      <p:stCondLst>
                        <p:cond delay="indefinite"/>
                      </p:stCondLst>
                      <p:childTnLst>
                        <p:par>
                          <p:cTn id="27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91" dur="80"/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92" dur="80"/>
                                        <p:tgtEl>
                                          <p:spTgt spid="10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93" dur="80"/>
                                        <p:tgtEl>
                                          <p:spTgt spid="10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4" nodeType="afterEffect" fill="hold">
                            <p:stCondLst>
                              <p:cond delay="1560"/>
                            </p:stCondLst>
                            <p:childTnLst>
                              <p:par>
                                <p:cTn id="279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97" dur="80"/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98" dur="80"/>
                                        <p:tgtEl>
                                          <p:spTgt spid="10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99" dur="80"/>
                                        <p:tgtEl>
                                          <p:spTgt spid="10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0" nodeType="afterEffect" fill="hold">
                            <p:stCondLst>
                              <p:cond delay="1920"/>
                            </p:stCondLst>
                            <p:childTnLst>
                              <p:par>
                                <p:cTn id="280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3" dur="1000" fill="hold"/>
                                        <p:tgtEl>
                                          <p:spTgt spid="10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4" dur="1000" fill="hold"/>
                                        <p:tgtEl>
                                          <p:spTgt spid="10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5" dur="1000" fill="hold"/>
                                        <p:tgtEl>
                                          <p:spTgt spid="10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6" dur="10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7" nodeType="afterEffect" fill="hold">
                            <p:stCondLst>
                              <p:cond delay="2920"/>
                            </p:stCondLst>
                            <p:childTnLst>
                              <p:par>
                                <p:cTn id="280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10" dur="80"/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11" dur="80"/>
                                        <p:tgtEl>
                                          <p:spTgt spid="10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12" dur="80"/>
                                        <p:tgtEl>
                                          <p:spTgt spid="10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3" nodeType="afterEffect" fill="hold">
                            <p:stCondLst>
                              <p:cond delay="3080"/>
                            </p:stCondLst>
                            <p:childTnLst>
                              <p:par>
                                <p:cTn id="281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6" dur="1000" fill="hold"/>
                                        <p:tgtEl>
                                          <p:spTgt spid="10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7" dur="1000" fill="hold"/>
                                        <p:tgtEl>
                                          <p:spTgt spid="10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8" dur="1000" fill="hold"/>
                                        <p:tgtEl>
                                          <p:spTgt spid="10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9" dur="1000"/>
                                        <p:tgtEl>
                                          <p:spTgt spid="10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0" nodeType="clickEffect" fill="hold">
                      <p:stCondLst>
                        <p:cond delay="indefinite"/>
                      </p:stCondLst>
                      <p:childTnLst>
                        <p:par>
                          <p:cTn id="28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4" dur="5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5" nodeType="clickEffect" fill="hold">
                      <p:stCondLst>
                        <p:cond delay="indefinite"/>
                      </p:stCondLst>
                      <p:childTnLst>
                        <p:par>
                          <p:cTn id="28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9" dur="1000" fill="hold"/>
                                        <p:tgtEl>
                                          <p:spTgt spid="10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0" dur="1000" fill="hold"/>
                                        <p:tgtEl>
                                          <p:spTgt spid="10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1" dur="1000" fill="hold"/>
                                        <p:tgtEl>
                                          <p:spTgt spid="10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2" dur="10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3" nodeType="clickEffect" fill="hold">
                      <p:stCondLst>
                        <p:cond delay="indefinite"/>
                      </p:stCondLst>
                      <p:childTnLst>
                        <p:par>
                          <p:cTn id="28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37" dur="80"/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38" dur="80"/>
                                        <p:tgtEl>
                                          <p:spTgt spid="10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39" dur="80"/>
                                        <p:tgtEl>
                                          <p:spTgt spid="10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0" nodeType="clickEffect" fill="hold">
                      <p:stCondLst>
                        <p:cond delay="indefinite"/>
                      </p:stCondLst>
                      <p:childTnLst>
                        <p:par>
                          <p:cTn id="28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44" dur="80"/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45" dur="80"/>
                                        <p:tgtEl>
                                          <p:spTgt spid="10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46" dur="80"/>
                                        <p:tgtEl>
                                          <p:spTgt spid="10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7" nodeType="clickEffect" fill="hold">
                      <p:stCondLst>
                        <p:cond delay="indefinite"/>
                      </p:stCondLst>
                      <p:childTnLst>
                        <p:par>
                          <p:cTn id="28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1" dur="1000" fill="hold"/>
                                        <p:tgtEl>
                                          <p:spTgt spid="10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2" dur="1000" fill="hold"/>
                                        <p:tgtEl>
                                          <p:spTgt spid="10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3" dur="1000" fill="hold"/>
                                        <p:tgtEl>
                                          <p:spTgt spid="10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4" dur="1000"/>
                                        <p:tgtEl>
                                          <p:spTgt spid="10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5" nodeType="clickEffect" fill="hold">
                      <p:stCondLst>
                        <p:cond delay="indefinite"/>
                      </p:stCondLst>
                      <p:childTnLst>
                        <p:par>
                          <p:cTn id="28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59" dur="80"/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60" dur="80"/>
                                        <p:tgtEl>
                                          <p:spTgt spid="10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61" dur="80"/>
                                        <p:tgtEl>
                                          <p:spTgt spid="10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2" nodeType="clickEffect" fill="hold">
                      <p:stCondLst>
                        <p:cond delay="indefinite"/>
                      </p:stCondLst>
                      <p:childTnLst>
                        <p:par>
                          <p:cTn id="28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66" dur="80"/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67" dur="80"/>
                                        <p:tgtEl>
                                          <p:spTgt spid="10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68" dur="80"/>
                                        <p:tgtEl>
                                          <p:spTgt spid="10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ambar Bol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F32B0-D1F1-43A4-9DAF-1B51E4B1E699}" type="datetime">
              <a:rPr b="0" lang="en-US" sz="1200" spc="-1" strike="noStrike">
                <a:solidFill>
                  <a:srgbClr val="898989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308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Verdana"/>
              </a:rPr>
              <a:t>[MA 1124]</a:t>
            </a:r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Verdana"/>
              </a:rPr>
              <a:t>KALKULUS II</a:t>
            </a:r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30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1B7A0-D908-4AA4-AC48-EBE03FBBBF72}" type="slidenum">
              <a:rPr b="0" lang="en-US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</p:txBody>
      </p:sp>
      <p:grpSp>
        <p:nvGrpSpPr>
          <p:cNvPr id="310" name="Group 3"/>
          <p:cNvGrpSpPr/>
          <p:nvPr/>
        </p:nvGrpSpPr>
        <p:grpSpPr>
          <a:xfrm>
            <a:off x="2085840" y="1930320"/>
            <a:ext cx="4314960" cy="2833560"/>
            <a:chOff x="2085840" y="1930320"/>
            <a:chExt cx="4314960" cy="2833560"/>
          </a:xfrm>
        </p:grpSpPr>
        <p:sp>
          <p:nvSpPr>
            <p:cNvPr id="311" name="Line 4"/>
            <p:cNvSpPr/>
            <p:nvPr/>
          </p:nvSpPr>
          <p:spPr>
            <a:xfrm flipV="1">
              <a:off x="3951000" y="2078280"/>
              <a:ext cx="0" cy="2606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336699"/>
                </a:solidFill>
                <a:latin typeface="Verdana"/>
              </a:endParaRPr>
            </a:p>
          </p:txBody>
        </p:sp>
        <p:sp>
          <p:nvSpPr>
            <p:cNvPr id="312" name="Line 5"/>
            <p:cNvSpPr/>
            <p:nvPr/>
          </p:nvSpPr>
          <p:spPr>
            <a:xfrm>
              <a:off x="2594520" y="3542760"/>
              <a:ext cx="322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336699"/>
                </a:solidFill>
                <a:latin typeface="Verdana"/>
              </a:endParaRPr>
            </a:p>
          </p:txBody>
        </p:sp>
        <p:sp>
          <p:nvSpPr>
            <p:cNvPr id="313" name="Line 6"/>
            <p:cNvSpPr/>
            <p:nvPr/>
          </p:nvSpPr>
          <p:spPr>
            <a:xfrm flipH="1">
              <a:off x="2424240" y="2801880"/>
              <a:ext cx="2637720" cy="1749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336699"/>
                </a:solidFill>
                <a:latin typeface="Verdana"/>
              </a:endParaRPr>
            </a:p>
          </p:txBody>
        </p:sp>
        <p:sp>
          <p:nvSpPr>
            <p:cNvPr id="314" name="Text Box 7"/>
            <p:cNvSpPr/>
            <p:nvPr/>
          </p:nvSpPr>
          <p:spPr>
            <a:xfrm>
              <a:off x="3574080" y="1930320"/>
              <a:ext cx="678240" cy="57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6699"/>
                  </a:solidFill>
                  <a:latin typeface="Verdana"/>
                </a:rPr>
                <a:t>Z</a:t>
              </a:r>
              <a:endParaRPr b="0" lang="en-US" sz="1200" spc="-1" strike="noStrike">
                <a:solidFill>
                  <a:srgbClr val="336699"/>
                </a:solidFill>
                <a:latin typeface="Verdana"/>
              </a:endParaRPr>
            </a:p>
          </p:txBody>
        </p:sp>
        <p:sp>
          <p:nvSpPr>
            <p:cNvPr id="315" name="Text Box 8"/>
            <p:cNvSpPr/>
            <p:nvPr/>
          </p:nvSpPr>
          <p:spPr>
            <a:xfrm>
              <a:off x="2085840" y="4192920"/>
              <a:ext cx="678240" cy="57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6699"/>
                  </a:solidFill>
                  <a:latin typeface="Verdana"/>
                </a:rPr>
                <a:t> </a:t>
              </a:r>
              <a:r>
                <a:rPr b="0" lang="en-US" sz="1100" spc="-1" strike="noStrike">
                  <a:solidFill>
                    <a:srgbClr val="336699"/>
                  </a:solidFill>
                  <a:latin typeface="Verdana"/>
                </a:rPr>
                <a:t>x</a:t>
              </a:r>
              <a:endParaRPr b="0" lang="en-US" sz="1100" spc="-1" strike="noStrike">
                <a:solidFill>
                  <a:srgbClr val="336699"/>
                </a:solidFill>
                <a:latin typeface="Verdana"/>
              </a:endParaRPr>
            </a:p>
          </p:txBody>
        </p:sp>
        <p:sp>
          <p:nvSpPr>
            <p:cNvPr id="316" name="Text Box 9"/>
            <p:cNvSpPr/>
            <p:nvPr/>
          </p:nvSpPr>
          <p:spPr>
            <a:xfrm>
              <a:off x="5722560" y="3325680"/>
              <a:ext cx="678240" cy="57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6699"/>
                  </a:solidFill>
                  <a:latin typeface="Verdana"/>
                </a:rPr>
                <a:t> </a:t>
              </a:r>
              <a:r>
                <a:rPr b="0" lang="en-US" sz="1200" spc="-1" strike="noStrike">
                  <a:solidFill>
                    <a:srgbClr val="336699"/>
                  </a:solidFill>
                  <a:latin typeface="Verdana"/>
                </a:rPr>
                <a:t>y</a:t>
              </a:r>
              <a:endParaRPr b="0" lang="en-US" sz="1200" spc="-1" strike="noStrike">
                <a:solidFill>
                  <a:srgbClr val="336699"/>
                </a:solidFill>
                <a:latin typeface="Verdana"/>
              </a:endParaRPr>
            </a:p>
          </p:txBody>
        </p:sp>
      </p:grpSp>
      <p:sp>
        <p:nvSpPr>
          <p:cNvPr id="317" name="Oval 10"/>
          <p:cNvSpPr/>
          <p:nvPr/>
        </p:nvSpPr>
        <p:spPr>
          <a:xfrm>
            <a:off x="3384720" y="2938320"/>
            <a:ext cx="1187280" cy="1332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318" name="Oval 11"/>
          <p:cNvSpPr/>
          <p:nvPr/>
        </p:nvSpPr>
        <p:spPr>
          <a:xfrm>
            <a:off x="3403440" y="3403440"/>
            <a:ext cx="1143000" cy="3844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319" name="Oval 12"/>
          <p:cNvSpPr/>
          <p:nvPr/>
        </p:nvSpPr>
        <p:spPr>
          <a:xfrm>
            <a:off x="3724200" y="2938320"/>
            <a:ext cx="507960" cy="13320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tiha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2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5A5F5-BAE0-4A51-B743-5E5C017050FD}" type="datetime">
              <a:rPr b="0" lang="en-US" sz="1200" spc="-1" strike="noStrike">
                <a:solidFill>
                  <a:srgbClr val="898989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07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Verdana"/>
              </a:rPr>
              <a:t>[MA 1124]</a:t>
            </a:r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Verdana"/>
              </a:rPr>
              <a:t>KALKULUS II</a:t>
            </a:r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07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E1505-05CB-4FD3-AE01-82E0E1BCFFC6}" type="slidenum">
              <a:rPr b="0" lang="en-US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075" name="Text Box 4"/>
          <p:cNvSpPr/>
          <p:nvPr/>
        </p:nvSpPr>
        <p:spPr>
          <a:xfrm>
            <a:off x="1095840" y="1447920"/>
            <a:ext cx="16545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1. Tentukan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6" name="Object 5"/>
              <p:cNvSpPr txBox="1"/>
              <p:nvPr/>
            </p:nvSpPr>
            <p:spPr>
              <a:xfrm>
                <a:off x="2854440" y="1295280"/>
                <a:ext cx="507960" cy="70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w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77" name="Text Box 6"/>
          <p:cNvSpPr/>
          <p:nvPr/>
        </p:nvSpPr>
        <p:spPr>
          <a:xfrm>
            <a:off x="3448080" y="1441440"/>
            <a:ext cx="12902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(dalam t)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078" name="Text Box 7"/>
          <p:cNvSpPr/>
          <p:nvPr/>
        </p:nvSpPr>
        <p:spPr>
          <a:xfrm>
            <a:off x="1899720" y="2050920"/>
            <a:ext cx="42476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a. </a:t>
            </a: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w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 = </a:t>
            </a: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x</a:t>
            </a:r>
            <a:r>
              <a:rPr b="0" lang="en-US" sz="2100" spc="-1" strike="noStrike" baseline="30000">
                <a:solidFill>
                  <a:srgbClr val="336699"/>
                </a:solidFill>
                <a:latin typeface="Verdana"/>
              </a:rPr>
              <a:t>2 </a:t>
            </a: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y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 – </a:t>
            </a: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y</a:t>
            </a:r>
            <a:r>
              <a:rPr b="0" lang="en-US" sz="2100" spc="-1" strike="noStrike" baseline="30000">
                <a:solidFill>
                  <a:srgbClr val="336699"/>
                </a:solidFill>
                <a:latin typeface="Verdana"/>
              </a:rPr>
              <a:t>2</a:t>
            </a: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x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 ; </a:t>
            </a: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x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 = cos </a:t>
            </a: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t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, </a:t>
            </a: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y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 = sin </a:t>
            </a: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t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079" name="Text Box 8"/>
          <p:cNvSpPr/>
          <p:nvPr/>
        </p:nvSpPr>
        <p:spPr>
          <a:xfrm>
            <a:off x="1915200" y="2482920"/>
            <a:ext cx="443412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b. </a:t>
            </a: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w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 = e</a:t>
            </a:r>
            <a:r>
              <a:rPr b="0" i="1" lang="en-US" sz="2100" spc="-1" strike="noStrike" baseline="30000">
                <a:solidFill>
                  <a:srgbClr val="336699"/>
                </a:solidFill>
                <a:latin typeface="Verdana"/>
              </a:rPr>
              <a:t>x</a:t>
            </a:r>
            <a:r>
              <a:rPr b="0" lang="en-US" sz="2100" spc="-1" strike="noStrike" baseline="30000">
                <a:solidFill>
                  <a:srgbClr val="336699"/>
                </a:solidFill>
                <a:latin typeface="Verdana"/>
              </a:rPr>
              <a:t> 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sin</a:t>
            </a: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y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 – e</a:t>
            </a:r>
            <a:r>
              <a:rPr b="0" i="1" lang="en-US" sz="2100" spc="-1" strike="noStrike" baseline="30000">
                <a:solidFill>
                  <a:srgbClr val="336699"/>
                </a:solidFill>
                <a:latin typeface="Verdana"/>
              </a:rPr>
              <a:t>y</a:t>
            </a: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sin x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 ; </a:t>
            </a: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x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 = 3</a:t>
            </a: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t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, </a:t>
            </a: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y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 = 2</a:t>
            </a: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t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080" name="Text Box 9"/>
          <p:cNvSpPr/>
          <p:nvPr/>
        </p:nvSpPr>
        <p:spPr>
          <a:xfrm>
            <a:off x="1969920" y="2863800"/>
            <a:ext cx="40644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c. </a:t>
            </a: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w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 = sin(</a:t>
            </a: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xyz</a:t>
            </a:r>
            <a:r>
              <a:rPr b="0" i="1" lang="en-US" sz="2100" spc="-1" strike="noStrike" baseline="30000">
                <a:solidFill>
                  <a:srgbClr val="336699"/>
                </a:solidFill>
                <a:latin typeface="Verdana"/>
              </a:rPr>
              <a:t>2</a:t>
            </a: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) 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; </a:t>
            </a: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x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 = </a:t>
            </a: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t</a:t>
            </a:r>
            <a:r>
              <a:rPr b="0" i="1" lang="en-US" sz="2100" spc="-1" strike="noStrike" baseline="30000">
                <a:solidFill>
                  <a:srgbClr val="336699"/>
                </a:solidFill>
                <a:latin typeface="Verdana"/>
              </a:rPr>
              <a:t>3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, </a:t>
            </a: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y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 = </a:t>
            </a: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t</a:t>
            </a:r>
            <a:r>
              <a:rPr b="0" i="1" lang="en-US" sz="2100" spc="-1" strike="noStrike" baseline="30000">
                <a:solidFill>
                  <a:srgbClr val="336699"/>
                </a:solidFill>
                <a:latin typeface="Verdana"/>
              </a:rPr>
              <a:t>2 </a:t>
            </a: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, z =t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081" name="Text Box 10"/>
          <p:cNvSpPr/>
          <p:nvPr/>
        </p:nvSpPr>
        <p:spPr>
          <a:xfrm>
            <a:off x="1095840" y="3352680"/>
            <a:ext cx="16545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2. Tentukan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graphicFrame>
        <p:nvGraphicFramePr>
          <p:cNvPr id="1082" name="Object 11"/>
          <p:cNvGraphicFramePr/>
          <p:nvPr/>
        </p:nvGraphicFramePr>
        <p:xfrm>
          <a:off x="2897280" y="3282840"/>
          <a:ext cx="420480" cy="67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3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7280" y="3282840"/>
                    <a:ext cx="420480" cy="67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4" name="Text Box 12"/>
          <p:cNvSpPr/>
          <p:nvPr/>
        </p:nvSpPr>
        <p:spPr>
          <a:xfrm>
            <a:off x="3485880" y="3346560"/>
            <a:ext cx="20368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(dalam t dan s)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085" name="Text Box 13"/>
          <p:cNvSpPr/>
          <p:nvPr/>
        </p:nvSpPr>
        <p:spPr>
          <a:xfrm>
            <a:off x="1881720" y="3956040"/>
            <a:ext cx="38516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a. </a:t>
            </a: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w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 = </a:t>
            </a: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x</a:t>
            </a:r>
            <a:r>
              <a:rPr b="0" lang="en-US" sz="2100" spc="-1" strike="noStrike" baseline="30000">
                <a:solidFill>
                  <a:srgbClr val="336699"/>
                </a:solidFill>
                <a:latin typeface="Verdana"/>
              </a:rPr>
              <a:t>2 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– </a:t>
            </a: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y lnx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 ; </a:t>
            </a: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x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 = s/</a:t>
            </a: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t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, </a:t>
            </a: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y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 = s</a:t>
            </a:r>
            <a:r>
              <a:rPr b="0" lang="en-US" sz="2100" spc="-1" strike="noStrike" baseline="30000">
                <a:solidFill>
                  <a:srgbClr val="336699"/>
                </a:solidFill>
                <a:latin typeface="Verdana"/>
              </a:rPr>
              <a:t>2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 </a:t>
            </a: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t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086" name="Text Box 14"/>
          <p:cNvSpPr/>
          <p:nvPr/>
        </p:nvSpPr>
        <p:spPr>
          <a:xfrm>
            <a:off x="1940760" y="4387680"/>
            <a:ext cx="427932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b. </a:t>
            </a: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w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 =            ; </a:t>
            </a: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x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 = </a:t>
            </a: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s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 sin </a:t>
            </a: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t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, </a:t>
            </a: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y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 = </a:t>
            </a: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t 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sin</a:t>
            </a: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 s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7" name="Object 16"/>
              <p:cNvSpPr txBox="1"/>
              <p:nvPr/>
            </p:nvSpPr>
            <p:spPr>
              <a:xfrm>
                <a:off x="2473200" y="4267080"/>
                <a:ext cx="959040" cy="50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2869" dur="indefinite" restart="never" nodeType="tmRoot">
          <p:childTnLst>
            <p:seq>
              <p:cTn id="2870" dur="indefinite" nodeType="mainSeq">
                <p:childTnLst>
                  <p:par>
                    <p:cTn id="2871" nodeType="clickEffect" fill="hold">
                      <p:stCondLst>
                        <p:cond delay="0"/>
                      </p:stCondLst>
                      <p:childTnLst>
                        <p:par>
                          <p:cTn id="28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5" dur="500" fill="hold"/>
                                        <p:tgtEl>
                                          <p:spTgt spid="10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6" dur="500" fill="hold"/>
                                        <p:tgtEl>
                                          <p:spTgt spid="10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7" dur="500" fill="hold"/>
                                        <p:tgtEl>
                                          <p:spTgt spid="10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8" dur="500"/>
                                        <p:tgtEl>
                                          <p:spTgt spid="10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1" dur="500" fill="hold"/>
                                        <p:tgtEl>
                                          <p:spTgt spid="10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2" dur="500" fill="hold"/>
                                        <p:tgtEl>
                                          <p:spTgt spid="10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3" dur="500" fill="hold"/>
                                        <p:tgtEl>
                                          <p:spTgt spid="10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4" dur="500"/>
                                        <p:tgtEl>
                                          <p:spTgt spid="10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7" dur="500" fill="hold"/>
                                        <p:tgtEl>
                                          <p:spTgt spid="10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8" dur="500" fill="hold"/>
                                        <p:tgtEl>
                                          <p:spTgt spid="10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9" dur="500" fill="hold"/>
                                        <p:tgtEl>
                                          <p:spTgt spid="10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0" dur="500"/>
                                        <p:tgtEl>
                                          <p:spTgt spid="10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3" dur="500" fill="hold"/>
                                        <p:tgtEl>
                                          <p:spTgt spid="10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4" dur="500" fill="hold"/>
                                        <p:tgtEl>
                                          <p:spTgt spid="10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5" dur="500" fill="hold"/>
                                        <p:tgtEl>
                                          <p:spTgt spid="10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6" dur="500"/>
                                        <p:tgtEl>
                                          <p:spTgt spid="10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9" dur="500" fill="hold"/>
                                        <p:tgtEl>
                                          <p:spTgt spid="10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0" dur="500" fill="hold"/>
                                        <p:tgtEl>
                                          <p:spTgt spid="10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1" dur="500" fill="hold"/>
                                        <p:tgtEl>
                                          <p:spTgt spid="10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2" dur="500"/>
                                        <p:tgtEl>
                                          <p:spTgt spid="10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5" dur="500" fill="hold"/>
                                        <p:tgtEl>
                                          <p:spTgt spid="10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6" dur="500" fill="hold"/>
                                        <p:tgtEl>
                                          <p:spTgt spid="10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7" dur="500" fill="hold"/>
                                        <p:tgtEl>
                                          <p:spTgt spid="10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8" dur="500"/>
                                        <p:tgtEl>
                                          <p:spTgt spid="10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9" nodeType="clickEffect" fill="hold">
                      <p:stCondLst>
                        <p:cond delay="indefinite"/>
                      </p:stCondLst>
                      <p:childTnLst>
                        <p:par>
                          <p:cTn id="29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3" dur="500" fill="hold"/>
                                        <p:tgtEl>
                                          <p:spTgt spid="10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4" dur="500" fill="hold"/>
                                        <p:tgtEl>
                                          <p:spTgt spid="10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5" dur="500" fill="hold"/>
                                        <p:tgtEl>
                                          <p:spTgt spid="10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6" dur="500" fill="hold"/>
                                        <p:tgtEl>
                                          <p:spTgt spid="10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1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9" dur="500" fill="hold"/>
                                        <p:tgtEl>
                                          <p:spTgt spid="10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0" dur="500" fill="hold"/>
                                        <p:tgtEl>
                                          <p:spTgt spid="10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1" dur="500" fill="hold"/>
                                        <p:tgtEl>
                                          <p:spTgt spid="10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2" dur="500" fill="hold"/>
                                        <p:tgtEl>
                                          <p:spTgt spid="10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2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5" dur="500" fill="hold"/>
                                        <p:tgtEl>
                                          <p:spTgt spid="10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6" dur="500" fill="hold"/>
                                        <p:tgtEl>
                                          <p:spTgt spid="10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7" dur="500" fill="hold"/>
                                        <p:tgtEl>
                                          <p:spTgt spid="10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8" dur="500" fill="hold"/>
                                        <p:tgtEl>
                                          <p:spTgt spid="10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2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1" dur="500" fill="hold"/>
                                        <p:tgtEl>
                                          <p:spTgt spid="10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2" dur="500" fill="hold"/>
                                        <p:tgtEl>
                                          <p:spTgt spid="10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3" dur="500" fill="hold"/>
                                        <p:tgtEl>
                                          <p:spTgt spid="10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4" dur="500" fill="hold"/>
                                        <p:tgtEl>
                                          <p:spTgt spid="10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3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7" dur="500" fill="hold"/>
                                        <p:tgtEl>
                                          <p:spTgt spid="10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8" dur="500" fill="hold"/>
                                        <p:tgtEl>
                                          <p:spTgt spid="10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9" dur="500" fill="hold"/>
                                        <p:tgtEl>
                                          <p:spTgt spid="10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0" dur="500" fill="hold"/>
                                        <p:tgtEl>
                                          <p:spTgt spid="10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4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3" dur="500" fill="hold"/>
                                        <p:tgtEl>
                                          <p:spTgt spid="10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4" dur="500" fill="hold"/>
                                        <p:tgtEl>
                                          <p:spTgt spid="10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5" dur="500" fill="hold"/>
                                        <p:tgtEl>
                                          <p:spTgt spid="10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6" dur="500" fill="hold"/>
                                        <p:tgtEl>
                                          <p:spTgt spid="10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urunan Berara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9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D2733-CB36-4CD0-8CFC-7AD4375E2CD3}" type="datetime">
              <a:rPr b="0" lang="en-US" sz="1200" spc="-1" strike="noStrike">
                <a:solidFill>
                  <a:srgbClr val="898989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090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Verdana"/>
              </a:rPr>
              <a:t>[MA 1124]</a:t>
            </a:r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Verdana"/>
              </a:rPr>
              <a:t>KALKULUS II</a:t>
            </a:r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09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512EF-F8C4-4B50-9319-7EBA8CF4D5C1}" type="slidenum">
              <a:rPr b="0" lang="en-US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092" name="Rectangle 3"/>
          <p:cNvSpPr/>
          <p:nvPr/>
        </p:nvSpPr>
        <p:spPr>
          <a:xfrm>
            <a:off x="0" y="2871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3" name="Object 4"/>
              <p:cNvSpPr txBox="1"/>
              <p:nvPr/>
            </p:nvSpPr>
            <p:spPr>
              <a:xfrm>
                <a:off x="6564240" y="1673280"/>
                <a:ext cx="143676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u</m:t>
                        </m:r>
                      </m:e>
                    </m:acc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acc>
                      <m:accPr>
                        <m:chr m:val="^"/>
                      </m:accPr>
                      <m:e>
                        <m:r>
                          <m:t xml:space="preserve">i</m:t>
                        </m:r>
                      </m:e>
                    </m:acc>
                    <m:r>
                      <m:t xml:space="preserve">+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acc>
                      <m:accPr>
                        <m:chr m:val="^"/>
                      </m:accPr>
                      <m:e>
                        <m:r>
                          <m:t xml:space="preserve">j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4" name="Object 5"/>
              <p:cNvSpPr txBox="1"/>
              <p:nvPr/>
            </p:nvSpPr>
            <p:spPr>
              <a:xfrm>
                <a:off x="652320" y="2754360"/>
                <a:ext cx="2087640" cy="4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)</m:t>
                    </m:r>
                    <m:r>
                      <m:t xml:space="preserve">=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∇</m:t>
                        </m:r>
                      </m:e>
                    </m:acc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)</m:t>
                    </m:r>
                    <m:r>
                      <m:t xml:space="preserve">⋅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u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1095" name="Rectangle 6"/>
          <p:cNvSpPr/>
          <p:nvPr/>
        </p:nvSpPr>
        <p:spPr>
          <a:xfrm>
            <a:off x="960120" y="1371240"/>
            <a:ext cx="74304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  <a:ea typeface="Times New Roman"/>
              </a:rPr>
              <a:t>Andaikan  f dapat didiferensialkan di (a, b), maka turunan 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  <a:ea typeface="Times New Roman"/>
              </a:rPr>
              <a:t>berarah di (a, b)  pada arah vektor satuan 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096" name="Rectangle 7"/>
          <p:cNvSpPr/>
          <p:nvPr/>
        </p:nvSpPr>
        <p:spPr>
          <a:xfrm>
            <a:off x="694800" y="2020680"/>
            <a:ext cx="75463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adalah hasilkali 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  <a:ea typeface="Times New Roman"/>
              </a:rPr>
              <a:t>titik antara  vektor gradien dengan  vektor 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  <a:ea typeface="Times New Roman"/>
              </a:rPr>
              <a:t>satuan 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tersebut. 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  <a:ea typeface="Times New Roman"/>
              </a:rPr>
              <a:t>Dengan demikian dapat ditulis :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097" name="Rectangle 8"/>
          <p:cNvSpPr/>
          <p:nvPr/>
        </p:nvSpPr>
        <p:spPr>
          <a:xfrm>
            <a:off x="3101040" y="2714400"/>
            <a:ext cx="4750200" cy="4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Arial"/>
                <a:ea typeface="Times New Roman"/>
              </a:rPr>
              <a:t>atau   </a:t>
            </a:r>
            <a:r>
              <a:rPr b="0" i="1" lang="en-US" sz="2100" spc="-1" strike="noStrike">
                <a:solidFill>
                  <a:srgbClr val="336699"/>
                </a:solidFill>
                <a:latin typeface="Arial"/>
                <a:ea typeface="Times New Roman"/>
              </a:rPr>
              <a:t>D  </a:t>
            </a: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f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(a, b) =</a:t>
            </a: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 f</a:t>
            </a:r>
            <a:r>
              <a:rPr b="0" i="1" lang="en-US" sz="2100" spc="-1" strike="noStrike" baseline="-25000">
                <a:solidFill>
                  <a:srgbClr val="336699"/>
                </a:solidFill>
                <a:latin typeface="Verdana"/>
              </a:rPr>
              <a:t>x</a:t>
            </a: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 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(a, b)u</a:t>
            </a:r>
            <a:r>
              <a:rPr b="0" lang="en-US" sz="2100" spc="-1" strike="noStrike" baseline="-25000">
                <a:solidFill>
                  <a:srgbClr val="336699"/>
                </a:solidFill>
                <a:latin typeface="Verdana"/>
              </a:rPr>
              <a:t>1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 + </a:t>
            </a: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f</a:t>
            </a:r>
            <a:r>
              <a:rPr b="0" i="1" lang="en-US" sz="2100" spc="-1" strike="noStrike" baseline="-25000">
                <a:solidFill>
                  <a:srgbClr val="336699"/>
                </a:solidFill>
                <a:latin typeface="Verdana"/>
              </a:rPr>
              <a:t>y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 (a, b)u</a:t>
            </a:r>
            <a:r>
              <a:rPr b="0" lang="en-US" sz="2100" spc="-1" strike="noStrike" baseline="-25000">
                <a:solidFill>
                  <a:srgbClr val="336699"/>
                </a:solidFill>
                <a:latin typeface="Verdana"/>
              </a:rPr>
              <a:t>2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8" name="Object 9"/>
              <p:cNvSpPr txBox="1"/>
              <p:nvPr/>
            </p:nvSpPr>
            <p:spPr>
              <a:xfrm>
                <a:off x="3684600" y="2990880"/>
                <a:ext cx="168120" cy="22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u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9" name="Object 10"/>
              <p:cNvSpPr txBox="1"/>
              <p:nvPr/>
            </p:nvSpPr>
            <p:spPr>
              <a:xfrm>
                <a:off x="2155680" y="3733920"/>
                <a:ext cx="569304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)</m:t>
                    </m:r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∇</m:t>
                        </m:r>
                      </m:e>
                    </m:acc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)</m:t>
                    </m:r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u</m:t>
                        </m:r>
                      </m:e>
                    </m:acc>
                    <m:r>
                      <m:t xml:space="preserve">=</m:t>
                    </m:r>
                    <m:d>
                      <m:dPr>
                        <m:begChr m:val="‖"/>
                        <m:endChr m:val="‖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∇</m:t>
                            </m:r>
                          </m:e>
                        </m:acc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⋅</m:t>
                    </m:r>
                    <m:d>
                      <m:dPr>
                        <m:begChr m:val="‖"/>
                        <m:endChr m:val="‖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u</m:t>
                            </m:r>
                          </m:e>
                        </m:acc>
                      </m:e>
                    </m:d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θ</m:t>
                    </m:r>
                    <m:r>
                      <m:t xml:space="preserve">=</m:t>
                    </m:r>
                    <m:d>
                      <m:dPr>
                        <m:begChr m:val="‖"/>
                        <m:endChr m:val="‖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∇</m:t>
                            </m:r>
                          </m:e>
                        </m:acc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)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00" name="Rectangle 11"/>
          <p:cNvSpPr/>
          <p:nvPr/>
        </p:nvSpPr>
        <p:spPr>
          <a:xfrm>
            <a:off x="613080" y="3274920"/>
            <a:ext cx="24454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Perhatikan bahwa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101" name="Rectangle 12"/>
          <p:cNvSpPr/>
          <p:nvPr/>
        </p:nvSpPr>
        <p:spPr>
          <a:xfrm>
            <a:off x="925920" y="4281480"/>
            <a:ext cx="753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Verdana"/>
              </a:rPr>
              <a:t>Sehingga, Turunan berarah akan bernilai maksimum (</a:t>
            </a:r>
            <a:r>
              <a:rPr b="0" lang="en-US" sz="2000" spc="-1" strike="noStrike">
                <a:solidFill>
                  <a:srgbClr val="336699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336699"/>
                </a:solidFill>
                <a:latin typeface="Verdana"/>
              </a:rPr>
              <a:t>=0)jika</a:t>
            </a:r>
            <a:endParaRPr b="0" lang="en-US" sz="2000" spc="-1" strike="noStrike">
              <a:solidFill>
                <a:srgbClr val="33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2" name="Object 13"/>
              <p:cNvSpPr txBox="1"/>
              <p:nvPr/>
            </p:nvSpPr>
            <p:spPr>
              <a:xfrm>
                <a:off x="4038480" y="4572000"/>
                <a:ext cx="1297080" cy="89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u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acc>
                          <m:accPr>
                            <m:chr m:val="⃗"/>
                          </m:accPr>
                          <m:e>
                            <m:r>
                              <m:t xml:space="preserve">∇</m:t>
                            </m:r>
                          </m:e>
                        </m:acc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)</m:t>
                        </m:r>
                      </m:num>
                      <m:den>
                        <m:d>
                          <m:dPr>
                            <m:begChr m:val="‖"/>
                            <m:endChr m:val="‖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∇</m:t>
                                </m:r>
                              </m:e>
                            </m:acc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p</m:t>
                            </m:r>
                            <m:r>
                              <m:t xml:space="preserve">)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03" name="Rectangle 14"/>
          <p:cNvSpPr/>
          <p:nvPr/>
        </p:nvSpPr>
        <p:spPr>
          <a:xfrm>
            <a:off x="710280" y="5378400"/>
            <a:ext cx="40500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Sebaliknya akan minimum jika 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4" name="Object 15"/>
              <p:cNvSpPr txBox="1"/>
              <p:nvPr/>
            </p:nvSpPr>
            <p:spPr>
              <a:xfrm>
                <a:off x="5029200" y="5229360"/>
                <a:ext cx="1473120" cy="89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u</m:t>
                        </m:r>
                      </m:e>
                    </m:acc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acc>
                          <m:accPr>
                            <m:chr m:val="⃗"/>
                          </m:accPr>
                          <m:e>
                            <m:r>
                              <m:t xml:space="preserve">∇</m:t>
                            </m:r>
                          </m:e>
                        </m:acc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)</m:t>
                        </m:r>
                      </m:num>
                      <m:den>
                        <m:d>
                          <m:dPr>
                            <m:begChr m:val="‖"/>
                            <m:endChr m:val="‖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∇</m:t>
                                </m:r>
                              </m:e>
                            </m:acc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p</m:t>
                            </m:r>
                            <m:r>
                              <m:t xml:space="preserve">)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2947" dur="indefinite" restart="never" nodeType="tmRoot">
          <p:childTnLst>
            <p:seq>
              <p:cTn id="2948" dur="indefinite" nodeType="mainSeq">
                <p:childTnLst>
                  <p:par>
                    <p:cTn id="2949" nodeType="clickEffect" fill="hold">
                      <p:stCondLst>
                        <p:cond delay="indefinite"/>
                      </p:stCondLst>
                      <p:childTnLst>
                        <p:par>
                          <p:cTn id="29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3" dur="1000"/>
                                        <p:tgtEl>
                                          <p:spTgt spid="10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6" dur="1000"/>
                                        <p:tgtEl>
                                          <p:spTgt spid="10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9" dur="1000"/>
                                        <p:tgtEl>
                                          <p:spTgt spid="10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2" dur="1000"/>
                                        <p:tgtEl>
                                          <p:spTgt spid="10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5" dur="1000"/>
                                        <p:tgtEl>
                                          <p:spTgt spid="10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8" dur="1000"/>
                                        <p:tgtEl>
                                          <p:spTgt spid="10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9" nodeType="clickEffect" fill="hold">
                      <p:stCondLst>
                        <p:cond delay="indefinite"/>
                      </p:stCondLst>
                      <p:childTnLst>
                        <p:par>
                          <p:cTn id="29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3" dur="1000"/>
                                        <p:tgtEl>
                                          <p:spTgt spid="1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6" dur="1000"/>
                                        <p:tgtEl>
                                          <p:spTgt spid="10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7" nodeType="clickEffect" fill="hold">
                      <p:stCondLst>
                        <p:cond delay="indefinite"/>
                      </p:stCondLst>
                      <p:childTnLst>
                        <p:par>
                          <p:cTn id="29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1" dur="1000"/>
                                        <p:tgtEl>
                                          <p:spTgt spid="1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4" dur="1000"/>
                                        <p:tgtEl>
                                          <p:spTgt spid="1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5" nodeType="clickEffect" fill="hold">
                      <p:stCondLst>
                        <p:cond delay="indefinite"/>
                      </p:stCondLst>
                      <p:childTnLst>
                        <p:par>
                          <p:cTn id="29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9" dur="1000"/>
                                        <p:tgtEl>
                                          <p:spTgt spid="1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2" dur="1000"/>
                                        <p:tgtEl>
                                          <p:spTgt spid="1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to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6" name=""/>
          <p:cNvSpPr txBox="1"/>
          <p:nvPr/>
        </p:nvSpPr>
        <p:spPr>
          <a:xfrm>
            <a:off x="609480" y="1305000"/>
            <a:ext cx="8305920" cy="8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6520" indent="-23652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entukan turunan berarah dari f(x,y) = 4</a:t>
            </a:r>
            <a:r>
              <a:rPr b="0" i="1" lang="en-US" sz="27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en-US" sz="27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i="1" lang="en-US" sz="2700" spc="-1" strike="noStrike">
                <a:solidFill>
                  <a:srgbClr val="000000"/>
                </a:solidFill>
                <a:latin typeface="Calibri"/>
              </a:rPr>
              <a:t>y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pada titik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857160" indent="-5061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(2,1) dalam arah vekt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7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49BC4-A275-451C-B9FE-B3A5DCD5932A}" type="datetime">
              <a:rPr b="0" lang="en-US" sz="1200" spc="-1" strike="noStrike">
                <a:solidFill>
                  <a:srgbClr val="898989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108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Verdana"/>
              </a:rPr>
              <a:t>[MA 1124]</a:t>
            </a:r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Verdana"/>
              </a:rPr>
              <a:t>KALKULUS II</a:t>
            </a:r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10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E9FB6-A940-417C-A20D-80400B9A1236}" type="slidenum">
              <a:rPr b="0" lang="en-US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0" name="Object 7"/>
              <p:cNvSpPr txBox="1"/>
              <p:nvPr/>
            </p:nvSpPr>
            <p:spPr>
              <a:xfrm>
                <a:off x="4654440" y="1665360"/>
                <a:ext cx="1594080" cy="45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 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i</m:t>
                        </m:r>
                      </m:e>
                    </m:acc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 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j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1111" name="Text Box 8"/>
          <p:cNvSpPr/>
          <p:nvPr/>
        </p:nvSpPr>
        <p:spPr>
          <a:xfrm>
            <a:off x="1040400" y="2127240"/>
            <a:ext cx="9990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Jawab: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2" name="Object 10"/>
              <p:cNvSpPr txBox="1"/>
              <p:nvPr/>
            </p:nvSpPr>
            <p:spPr>
              <a:xfrm>
                <a:off x="1219320" y="2533680"/>
                <a:ext cx="421776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u</m:t>
                            </m:r>
                          </m:e>
                        </m:acc>
                      </m:sub>
                    </m:sSub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13" name="Text Box 11"/>
          <p:cNvSpPr/>
          <p:nvPr/>
        </p:nvSpPr>
        <p:spPr>
          <a:xfrm>
            <a:off x="1364040" y="2965320"/>
            <a:ext cx="64764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Vektor </a:t>
            </a:r>
            <a:r>
              <a:rPr b="1" lang="en-US" sz="2100" spc="-1" strike="noStrike">
                <a:solidFill>
                  <a:srgbClr val="336699"/>
                </a:solidFill>
                <a:latin typeface="Verdana"/>
              </a:rPr>
              <a:t>u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 diperoleh dengan menormalkan vektor </a:t>
            </a:r>
            <a:r>
              <a:rPr b="1" lang="en-US" sz="2100" spc="-1" strike="noStrike">
                <a:solidFill>
                  <a:srgbClr val="336699"/>
                </a:solidFill>
                <a:latin typeface="Verdana"/>
              </a:rPr>
              <a:t>a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114" name="Text Box 12"/>
          <p:cNvSpPr/>
          <p:nvPr/>
        </p:nvSpPr>
        <p:spPr>
          <a:xfrm>
            <a:off x="1595520" y="4114800"/>
            <a:ext cx="1938240" cy="4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f</a:t>
            </a:r>
            <a:r>
              <a:rPr b="0" i="1" lang="en-US" sz="2100" spc="-1" strike="noStrike" baseline="-25000">
                <a:solidFill>
                  <a:srgbClr val="336699"/>
                </a:solidFill>
                <a:latin typeface="Verdana"/>
              </a:rPr>
              <a:t>x 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(x,y)</a:t>
            </a: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= 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12</a:t>
            </a: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 x</a:t>
            </a:r>
            <a:r>
              <a:rPr b="0" i="1" lang="en-US" sz="2100" spc="-1" strike="noStrike" baseline="30000">
                <a:solidFill>
                  <a:srgbClr val="336699"/>
                </a:solidFill>
                <a:latin typeface="Verdana"/>
              </a:rPr>
              <a:t>2 </a:t>
            </a: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y 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5" name="Object 13"/>
              <p:cNvSpPr txBox="1"/>
              <p:nvPr/>
            </p:nvSpPr>
            <p:spPr>
              <a:xfrm>
                <a:off x="2448000" y="3284640"/>
                <a:ext cx="3800520" cy="92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u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</m:num>
                      <m:den>
                        <m:d>
                          <m:dPr>
                            <m:begChr m:val="‖"/>
                            <m:endChr m:val="‖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</m:e>
                        </m: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 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i</m:t>
                            </m:r>
                          </m:e>
                        </m:acc>
                        <m:r>
                          <m:t xml:space="preserve">+</m:t>
                        </m:r>
                        <m:r>
                          <m:t xml:space="preserve">3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j</m:t>
                            </m:r>
                          </m:e>
                        </m:acc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 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i</m:t>
                        </m:r>
                      </m:e>
                    </m:acc>
                    <m:r>
                      <m:t xml:space="preserve">+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acc>
                      <m:accPr>
                        <m:chr m:val="^"/>
                      </m:accPr>
                      <m:e>
                        <m:r>
                          <m:t xml:space="preserve">j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1116" name="Text Box 14"/>
          <p:cNvSpPr/>
          <p:nvPr/>
        </p:nvSpPr>
        <p:spPr>
          <a:xfrm>
            <a:off x="4783320" y="4114800"/>
            <a:ext cx="2643840" cy="4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f</a:t>
            </a:r>
            <a:r>
              <a:rPr b="0" i="1" lang="en-US" sz="2100" spc="-1" strike="noStrike" baseline="-25000">
                <a:solidFill>
                  <a:srgbClr val="336699"/>
                </a:solidFill>
                <a:latin typeface="Verdana"/>
              </a:rPr>
              <a:t>x 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(2, 1)</a:t>
            </a: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= 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12.2</a:t>
            </a:r>
            <a:r>
              <a:rPr b="0" i="1" lang="en-US" sz="2100" spc="-1" strike="noStrike" baseline="30000">
                <a:solidFill>
                  <a:srgbClr val="336699"/>
                </a:solidFill>
                <a:latin typeface="Verdana"/>
              </a:rPr>
              <a:t>2</a:t>
            </a: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.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1 =48</a:t>
            </a: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117" name="Text Box 15"/>
          <p:cNvSpPr/>
          <p:nvPr/>
        </p:nvSpPr>
        <p:spPr>
          <a:xfrm>
            <a:off x="1508040" y="4540320"/>
            <a:ext cx="1547640" cy="4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f</a:t>
            </a:r>
            <a:r>
              <a:rPr b="0" i="1" lang="en-US" sz="2100" spc="-1" strike="noStrike" baseline="-25000">
                <a:solidFill>
                  <a:srgbClr val="336699"/>
                </a:solidFill>
                <a:latin typeface="Verdana"/>
              </a:rPr>
              <a:t>y 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(x,y)</a:t>
            </a: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= 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4</a:t>
            </a: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 x</a:t>
            </a:r>
            <a:r>
              <a:rPr b="0" i="1" lang="en-US" sz="2100" spc="-1" strike="noStrike" baseline="30000">
                <a:solidFill>
                  <a:srgbClr val="336699"/>
                </a:solidFill>
                <a:latin typeface="Verdana"/>
              </a:rPr>
              <a:t>3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118" name="Text Box 16"/>
          <p:cNvSpPr/>
          <p:nvPr/>
        </p:nvSpPr>
        <p:spPr>
          <a:xfrm>
            <a:off x="4710600" y="4540320"/>
            <a:ext cx="2270520" cy="4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f</a:t>
            </a:r>
            <a:r>
              <a:rPr b="0" i="1" lang="en-US" sz="2100" spc="-1" strike="noStrike" baseline="-25000">
                <a:solidFill>
                  <a:srgbClr val="336699"/>
                </a:solidFill>
                <a:latin typeface="Verdana"/>
              </a:rPr>
              <a:t>x 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(2, 1)</a:t>
            </a: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= 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4.2</a:t>
            </a:r>
            <a:r>
              <a:rPr b="0" i="1" lang="en-US" sz="2100" spc="-1" strike="noStrike" baseline="30000">
                <a:solidFill>
                  <a:srgbClr val="336699"/>
                </a:solidFill>
                <a:latin typeface="Verdana"/>
              </a:rPr>
              <a:t>3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 =32</a:t>
            </a: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9" name="Object 17"/>
              <p:cNvSpPr txBox="1"/>
              <p:nvPr/>
            </p:nvSpPr>
            <p:spPr>
              <a:xfrm>
                <a:off x="2743200" y="4952880"/>
                <a:ext cx="421812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u</m:t>
                            </m:r>
                          </m:e>
                        </m:acc>
                      </m:sub>
                    </m:sSub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20" name="Text Box 19"/>
          <p:cNvSpPr/>
          <p:nvPr/>
        </p:nvSpPr>
        <p:spPr>
          <a:xfrm>
            <a:off x="1180080" y="4921200"/>
            <a:ext cx="135432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Sehingga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121" name="Text Box 20"/>
          <p:cNvSpPr/>
          <p:nvPr/>
        </p:nvSpPr>
        <p:spPr>
          <a:xfrm>
            <a:off x="4128120" y="5403960"/>
            <a:ext cx="27896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=48 . (4/5) + 32 . (3/5)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122" name="Text Box 21"/>
          <p:cNvSpPr/>
          <p:nvPr/>
        </p:nvSpPr>
        <p:spPr>
          <a:xfrm>
            <a:off x="3901680" y="5835600"/>
            <a:ext cx="11120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= 288/5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123" name="Text Box 22"/>
          <p:cNvSpPr/>
          <p:nvPr/>
        </p:nvSpPr>
        <p:spPr>
          <a:xfrm>
            <a:off x="3714120" y="4052880"/>
            <a:ext cx="59976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99"/>
                </a:solidFill>
                <a:latin typeface="Wingdings"/>
                <a:ea typeface="Wingdings"/>
              </a:rPr>
              <a:t></a:t>
            </a:r>
            <a:endParaRPr b="0" lang="en-US" sz="33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124" name="Text Box 23"/>
          <p:cNvSpPr/>
          <p:nvPr/>
        </p:nvSpPr>
        <p:spPr>
          <a:xfrm>
            <a:off x="3712680" y="4465800"/>
            <a:ext cx="59976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99"/>
                </a:solidFill>
                <a:latin typeface="Wingdings"/>
                <a:ea typeface="Wingdings"/>
              </a:rPr>
              <a:t></a:t>
            </a:r>
            <a:endParaRPr b="0" lang="en-US" sz="3300" spc="-1" strike="noStrike">
              <a:solidFill>
                <a:srgbClr val="336699"/>
              </a:solidFill>
              <a:latin typeface="Verdana"/>
            </a:endParaRPr>
          </a:p>
        </p:txBody>
      </p:sp>
    </p:spTree>
  </p:cSld>
  <p:timing>
    <p:tnLst>
      <p:par>
        <p:cTn id="2993" dur="indefinite" restart="never" nodeType="tmRoot">
          <p:childTnLst>
            <p:seq>
              <p:cTn id="2994" dur="indefinite" nodeType="mainSeq">
                <p:childTnLst>
                  <p:par>
                    <p:cTn id="2995" nodeType="clickEffect" fill="hold">
                      <p:stCondLst>
                        <p:cond delay="0"/>
                      </p:stCondLst>
                      <p:childTnLst>
                        <p:par>
                          <p:cTn id="29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7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0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3" dur="500"/>
                                        <p:tgtEl>
                                          <p:spTgt spid="1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7" dur="500"/>
                                        <p:tgtEl>
                                          <p:spTgt spid="1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0" dur="500"/>
                                        <p:tgtEl>
                                          <p:spTgt spid="1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1" nodeType="clickEffect" fill="hold">
                      <p:stCondLst>
                        <p:cond delay="indefinite"/>
                      </p:stCondLst>
                      <p:childTnLst>
                        <p:par>
                          <p:cTn id="30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15" dur="80"/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16" dur="80"/>
                                        <p:tgtEl>
                                          <p:spTgt spid="11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17" dur="80"/>
                                        <p:tgtEl>
                                          <p:spTgt spid="11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8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0" dur="500" fill="hold"/>
                                        <p:tgtEl>
                                          <p:spTgt spid="1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1" dur="500" fill="hold"/>
                                        <p:tgtEl>
                                          <p:spTgt spid="1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2" dur="500" fill="hold"/>
                                        <p:tgtEl>
                                          <p:spTgt spid="1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3" dur="500" fill="hold"/>
                                        <p:tgtEl>
                                          <p:spTgt spid="1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4" nodeType="clickEffect" fill="hold">
                      <p:stCondLst>
                        <p:cond delay="indefinite"/>
                      </p:stCondLst>
                      <p:childTnLst>
                        <p:par>
                          <p:cTn id="30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28" dur="80"/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29" dur="80"/>
                                        <p:tgtEl>
                                          <p:spTgt spid="11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30" dur="80"/>
                                        <p:tgtEl>
                                          <p:spTgt spid="11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3" dur="500" fill="hold"/>
                                        <p:tgtEl>
                                          <p:spTgt spid="1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4" dur="500" fill="hold"/>
                                        <p:tgtEl>
                                          <p:spTgt spid="1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5" dur="500" fill="hold"/>
                                        <p:tgtEl>
                                          <p:spTgt spid="1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6" dur="500" fill="hold"/>
                                        <p:tgtEl>
                                          <p:spTgt spid="1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7" nodeType="clickEffect" fill="hold">
                      <p:stCondLst>
                        <p:cond delay="indefinite"/>
                      </p:stCondLst>
                      <p:childTnLst>
                        <p:par>
                          <p:cTn id="30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41" dur="80"/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42" dur="80"/>
                                        <p:tgtEl>
                                          <p:spTgt spid="11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43" dur="80"/>
                                        <p:tgtEl>
                                          <p:spTgt spid="11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4" nodeType="clickEffect" fill="hold">
                      <p:stCondLst>
                        <p:cond delay="indefinite"/>
                      </p:stCondLst>
                      <p:childTnLst>
                        <p:par>
                          <p:cTn id="30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8" dur="1000" fill="hold"/>
                                        <p:tgtEl>
                                          <p:spTgt spid="1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9" dur="1000" fill="hold"/>
                                        <p:tgtEl>
                                          <p:spTgt spid="1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0" dur="1000" fill="hold"/>
                                        <p:tgtEl>
                                          <p:spTgt spid="1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1" dur="1000"/>
                                        <p:tgtEl>
                                          <p:spTgt spid="1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54" dur="80"/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55" dur="80"/>
                                        <p:tgtEl>
                                          <p:spTgt spid="11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56" dur="80"/>
                                        <p:tgtEl>
                                          <p:spTgt spid="11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7" nodeType="clickEffect" fill="hold">
                      <p:stCondLst>
                        <p:cond delay="indefinite"/>
                      </p:stCondLst>
                      <p:childTnLst>
                        <p:par>
                          <p:cTn id="30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61" dur="80"/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62" dur="80"/>
                                        <p:tgtEl>
                                          <p:spTgt spid="11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63" dur="80"/>
                                        <p:tgtEl>
                                          <p:spTgt spid="11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4" nodeType="clickEffect" fill="hold">
                      <p:stCondLst>
                        <p:cond delay="indefinite"/>
                      </p:stCondLst>
                      <p:childTnLst>
                        <p:par>
                          <p:cTn id="30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8" dur="500" fill="hold"/>
                                        <p:tgtEl>
                                          <p:spTgt spid="1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9" dur="500" fill="hold"/>
                                        <p:tgtEl>
                                          <p:spTgt spid="1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0" dur="500" fill="hold"/>
                                        <p:tgtEl>
                                          <p:spTgt spid="1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1" dur="500"/>
                                        <p:tgtEl>
                                          <p:spTgt spid="1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74" dur="80"/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75" dur="80"/>
                                        <p:tgtEl>
                                          <p:spTgt spid="11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76" dur="80"/>
                                        <p:tgtEl>
                                          <p:spTgt spid="11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7" nodeType="clickEffect" fill="hold">
                      <p:stCondLst>
                        <p:cond delay="indefinite"/>
                      </p:stCondLst>
                      <p:childTnLst>
                        <p:par>
                          <p:cTn id="30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81" dur="80"/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82" dur="80"/>
                                        <p:tgtEl>
                                          <p:spTgt spid="11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83" dur="80"/>
                                        <p:tgtEl>
                                          <p:spTgt spid="11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84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6" dur="500" fill="hold"/>
                                        <p:tgtEl>
                                          <p:spTgt spid="1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7" dur="500" fill="hold"/>
                                        <p:tgtEl>
                                          <p:spTgt spid="1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8" dur="500" fill="hold"/>
                                        <p:tgtEl>
                                          <p:spTgt spid="1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9" dur="500" fill="hold"/>
                                        <p:tgtEl>
                                          <p:spTgt spid="1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0" nodeType="clickEffect" fill="hold">
                      <p:stCondLst>
                        <p:cond delay="indefinite"/>
                      </p:stCondLst>
                      <p:childTnLst>
                        <p:par>
                          <p:cTn id="30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4" dur="80"/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95" dur="80"/>
                                        <p:tgtEl>
                                          <p:spTgt spid="11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96" dur="80"/>
                                        <p:tgtEl>
                                          <p:spTgt spid="11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7" nodeType="clickEffect" fill="hold">
                      <p:stCondLst>
                        <p:cond delay="indefinite"/>
                      </p:stCondLst>
                      <p:childTnLst>
                        <p:par>
                          <p:cTn id="30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01" dur="80"/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2" dur="80"/>
                                        <p:tgtEl>
                                          <p:spTgt spid="11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03" dur="80"/>
                                        <p:tgtEl>
                                          <p:spTgt spid="11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to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6" name=""/>
          <p:cNvSpPr txBox="1"/>
          <p:nvPr/>
        </p:nvSpPr>
        <p:spPr>
          <a:xfrm>
            <a:off x="609480" y="837720"/>
            <a:ext cx="8305920" cy="105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9960" indent="-399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ntukan turunan berarah dari f(x,y,z) =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xy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n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pada titik P(1,2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/2) dalam arah vek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7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BAECE-A784-4145-A2E8-5B2933858BE3}" type="datetime">
              <a:rPr b="0" lang="en-US" sz="1200" spc="-1" strike="noStrike">
                <a:solidFill>
                  <a:srgbClr val="898989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128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Verdana"/>
              </a:rPr>
              <a:t>[MA 1124]</a:t>
            </a:r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Verdana"/>
              </a:rPr>
              <a:t>KALKULUS II</a:t>
            </a:r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12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A248A-F5E9-4E98-8B34-CA01944F3D31}" type="slidenum">
              <a:rPr b="0" lang="en-US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0" name="Object 4"/>
              <p:cNvSpPr txBox="1"/>
              <p:nvPr/>
            </p:nvSpPr>
            <p:spPr>
              <a:xfrm>
                <a:off x="6629400" y="1752480"/>
                <a:ext cx="2027160" cy="45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=</m:t>
                    </m:r>
                    <m:r>
                      <m:t xml:space="preserve"> 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i</m:t>
                        </m:r>
                      </m:e>
                    </m:acc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 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j</m:t>
                        </m:r>
                      </m:e>
                    </m:acc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 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k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1131" name="Text Box 5"/>
          <p:cNvSpPr/>
          <p:nvPr/>
        </p:nvSpPr>
        <p:spPr>
          <a:xfrm>
            <a:off x="919440" y="1998720"/>
            <a:ext cx="9990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Jawab: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2" name="Object 6"/>
              <p:cNvSpPr txBox="1"/>
              <p:nvPr/>
            </p:nvSpPr>
            <p:spPr>
              <a:xfrm>
                <a:off x="1047600" y="2382840"/>
                <a:ext cx="7137720" cy="73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u</m:t>
                            </m:r>
                          </m:e>
                        </m:acc>
                      </m:sub>
                    </m:sSub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2</m:t>
                    </m:r>
                    <m:r>
                      <m:t xml:space="preserve">,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2</m:t>
                    </m:r>
                    <m:r>
                      <m:t xml:space="preserve">,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)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2</m:t>
                    </m:r>
                    <m:r>
                      <m:t xml:space="preserve">,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)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2</m:t>
                    </m:r>
                    <m:r>
                      <m:t xml:space="preserve">,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)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33" name="Text Box 7"/>
          <p:cNvSpPr/>
          <p:nvPr/>
        </p:nvSpPr>
        <p:spPr>
          <a:xfrm>
            <a:off x="1243080" y="3138480"/>
            <a:ext cx="64764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Vektor </a:t>
            </a:r>
            <a:r>
              <a:rPr b="1" lang="en-US" sz="2100" spc="-1" strike="noStrike">
                <a:solidFill>
                  <a:srgbClr val="336699"/>
                </a:solidFill>
                <a:latin typeface="Verdana"/>
              </a:rPr>
              <a:t>u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 diperoleh dengan menormalkan vektor </a:t>
            </a:r>
            <a:r>
              <a:rPr b="1" lang="en-US" sz="2100" spc="-1" strike="noStrike">
                <a:solidFill>
                  <a:srgbClr val="336699"/>
                </a:solidFill>
                <a:latin typeface="Verdana"/>
              </a:rPr>
              <a:t>a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134" name="Text Box 8"/>
          <p:cNvSpPr/>
          <p:nvPr/>
        </p:nvSpPr>
        <p:spPr>
          <a:xfrm>
            <a:off x="1456200" y="4430880"/>
            <a:ext cx="2061360" cy="4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f</a:t>
            </a:r>
            <a:r>
              <a:rPr b="0" i="1" lang="en-US" sz="2100" spc="-1" strike="noStrike" baseline="-25000">
                <a:solidFill>
                  <a:srgbClr val="336699"/>
                </a:solidFill>
                <a:latin typeface="Verdana"/>
              </a:rPr>
              <a:t>x 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(x,y,z)</a:t>
            </a: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= y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 sinz</a:t>
            </a: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5" name="Object 9"/>
              <p:cNvSpPr txBox="1"/>
              <p:nvPr/>
            </p:nvSpPr>
            <p:spPr>
              <a:xfrm>
                <a:off x="1838160" y="3537000"/>
                <a:ext cx="5051520" cy="92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u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</m:num>
                      <m:den>
                        <m:d>
                          <m:dPr>
                            <m:begChr m:val="‖"/>
                            <m:endChr m:val="‖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</m:e>
                        </m: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 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i</m:t>
                            </m:r>
                          </m:e>
                        </m:acc>
                        <m:r>
                          <m:t xml:space="preserve">+</m:t>
                        </m:r>
                        <m:r>
                          <m:t xml:space="preserve">2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j</m:t>
                            </m:r>
                          </m:e>
                        </m:acc>
                        <m:r>
                          <m:t xml:space="preserve">+</m:t>
                        </m:r>
                        <m:r>
                          <m:t xml:space="preserve">2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9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 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i</m:t>
                        </m:r>
                      </m:e>
                    </m:acc>
                    <m:r>
                      <m:t xml:space="preserve">+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acc>
                      <m:accPr>
                        <m:chr m:val="^"/>
                      </m:accPr>
                      <m:e>
                        <m:r>
                          <m:t xml:space="preserve">j</m:t>
                        </m:r>
                      </m:e>
                    </m:acc>
                    <m:r>
                      <m:t xml:space="preserve">+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acc>
                      <m:accPr>
                        <m:chr m:val="^"/>
                      </m:accPr>
                      <m:e>
                        <m:r>
                          <m:t xml:space="preserve">k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1136" name="Text Box 10"/>
          <p:cNvSpPr/>
          <p:nvPr/>
        </p:nvSpPr>
        <p:spPr>
          <a:xfrm>
            <a:off x="4689000" y="4432320"/>
            <a:ext cx="3198240" cy="4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f</a:t>
            </a:r>
            <a:r>
              <a:rPr b="0" i="1" lang="en-US" sz="2100" spc="-1" strike="noStrike" baseline="-25000">
                <a:solidFill>
                  <a:srgbClr val="336699"/>
                </a:solidFill>
                <a:latin typeface="Verdana"/>
              </a:rPr>
              <a:t>x 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(1,2,</a:t>
            </a:r>
            <a:r>
              <a:rPr b="0" lang="en-US" sz="2100" spc="-1" strike="noStrike">
                <a:solidFill>
                  <a:srgbClr val="336699"/>
                </a:solidFill>
                <a:latin typeface="Symbol"/>
                <a:ea typeface="Symbol"/>
              </a:rPr>
              <a:t>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/2)</a:t>
            </a: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= 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2 sin(</a:t>
            </a:r>
            <a:r>
              <a:rPr b="0" lang="en-US" sz="2100" spc="-1" strike="noStrike">
                <a:solidFill>
                  <a:srgbClr val="336699"/>
                </a:solidFill>
                <a:latin typeface="Symbol"/>
                <a:ea typeface="Symbol"/>
              </a:rPr>
              <a:t>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/2) =2</a:t>
            </a: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137" name="Text Box 11"/>
          <p:cNvSpPr/>
          <p:nvPr/>
        </p:nvSpPr>
        <p:spPr>
          <a:xfrm>
            <a:off x="1405440" y="4902120"/>
            <a:ext cx="1986480" cy="4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f</a:t>
            </a:r>
            <a:r>
              <a:rPr b="0" i="1" lang="en-US" sz="2100" spc="-1" strike="noStrike" baseline="-25000">
                <a:solidFill>
                  <a:srgbClr val="336699"/>
                </a:solidFill>
                <a:latin typeface="Verdana"/>
              </a:rPr>
              <a:t>y 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(x,y,z)</a:t>
            </a: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= x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 sin</a:t>
            </a: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z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138" name="Text Box 12"/>
          <p:cNvSpPr/>
          <p:nvPr/>
        </p:nvSpPr>
        <p:spPr>
          <a:xfrm>
            <a:off x="4660200" y="4903920"/>
            <a:ext cx="3269880" cy="4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f</a:t>
            </a:r>
            <a:r>
              <a:rPr b="0" i="1" lang="en-US" sz="2100" spc="-1" strike="noStrike" baseline="-25000">
                <a:solidFill>
                  <a:srgbClr val="336699"/>
                </a:solidFill>
                <a:latin typeface="Verdana"/>
              </a:rPr>
              <a:t>x 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(1,2, </a:t>
            </a:r>
            <a:r>
              <a:rPr b="0" lang="en-US" sz="2100" spc="-1" strike="noStrike">
                <a:solidFill>
                  <a:srgbClr val="336699"/>
                </a:solidFill>
                <a:latin typeface="Symbol"/>
                <a:ea typeface="Symbol"/>
              </a:rPr>
              <a:t>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/2)</a:t>
            </a: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= 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1.sin(</a:t>
            </a:r>
            <a:r>
              <a:rPr b="0" lang="en-US" sz="2100" spc="-1" strike="noStrike">
                <a:solidFill>
                  <a:srgbClr val="336699"/>
                </a:solidFill>
                <a:latin typeface="Symbol"/>
                <a:ea typeface="Symbol"/>
              </a:rPr>
              <a:t>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/2) =1</a:t>
            </a: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139" name="Text Box 17"/>
          <p:cNvSpPr/>
          <p:nvPr/>
        </p:nvSpPr>
        <p:spPr>
          <a:xfrm>
            <a:off x="3780720" y="4368960"/>
            <a:ext cx="59976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99"/>
                </a:solidFill>
                <a:latin typeface="Wingdings"/>
                <a:ea typeface="Wingdings"/>
              </a:rPr>
              <a:t></a:t>
            </a:r>
            <a:endParaRPr b="0" lang="en-US" sz="33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140" name="Text Box 18"/>
          <p:cNvSpPr/>
          <p:nvPr/>
        </p:nvSpPr>
        <p:spPr>
          <a:xfrm>
            <a:off x="3779280" y="4827600"/>
            <a:ext cx="59976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99"/>
                </a:solidFill>
                <a:latin typeface="Wingdings"/>
                <a:ea typeface="Wingdings"/>
              </a:rPr>
              <a:t></a:t>
            </a:r>
            <a:endParaRPr b="0" lang="en-US" sz="33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141" name="Text Box 19"/>
          <p:cNvSpPr/>
          <p:nvPr/>
        </p:nvSpPr>
        <p:spPr>
          <a:xfrm>
            <a:off x="1403280" y="5394240"/>
            <a:ext cx="2165040" cy="4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f</a:t>
            </a:r>
            <a:r>
              <a:rPr b="0" i="1" lang="en-US" sz="2100" spc="-1" strike="noStrike" baseline="-25000">
                <a:solidFill>
                  <a:srgbClr val="336699"/>
                </a:solidFill>
                <a:latin typeface="Verdana"/>
              </a:rPr>
              <a:t>z 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(x,y,z)</a:t>
            </a: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= xy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 cos</a:t>
            </a: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z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142" name="Text Box 20"/>
          <p:cNvSpPr/>
          <p:nvPr/>
        </p:nvSpPr>
        <p:spPr>
          <a:xfrm>
            <a:off x="4664520" y="5396040"/>
            <a:ext cx="3542760" cy="4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f</a:t>
            </a:r>
            <a:r>
              <a:rPr b="0" i="1" lang="en-US" sz="2100" spc="-1" strike="noStrike" baseline="-25000">
                <a:solidFill>
                  <a:srgbClr val="336699"/>
                </a:solidFill>
                <a:latin typeface="Verdana"/>
              </a:rPr>
              <a:t>z 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(1,2, </a:t>
            </a:r>
            <a:r>
              <a:rPr b="0" lang="en-US" sz="2100" spc="-1" strike="noStrike">
                <a:solidFill>
                  <a:srgbClr val="336699"/>
                </a:solidFill>
                <a:latin typeface="Symbol"/>
                <a:ea typeface="Symbol"/>
              </a:rPr>
              <a:t>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/2)</a:t>
            </a: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= 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1.2 cos(</a:t>
            </a:r>
            <a:r>
              <a:rPr b="0" lang="en-US" sz="2100" spc="-1" strike="noStrike">
                <a:solidFill>
                  <a:srgbClr val="336699"/>
                </a:solidFill>
                <a:latin typeface="Symbol"/>
                <a:ea typeface="Symbol"/>
              </a:rPr>
              <a:t>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/2) =0</a:t>
            </a: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143" name="Text Box 21"/>
          <p:cNvSpPr/>
          <p:nvPr/>
        </p:nvSpPr>
        <p:spPr>
          <a:xfrm>
            <a:off x="3763440" y="5319720"/>
            <a:ext cx="59976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99"/>
                </a:solidFill>
                <a:latin typeface="Wingdings"/>
                <a:ea typeface="Wingdings"/>
              </a:rPr>
              <a:t></a:t>
            </a:r>
            <a:endParaRPr b="0" lang="en-US" sz="3300" spc="-1" strike="noStrike">
              <a:solidFill>
                <a:srgbClr val="336699"/>
              </a:solidFill>
              <a:latin typeface="Verdana"/>
            </a:endParaRPr>
          </a:p>
        </p:txBody>
      </p:sp>
    </p:spTree>
  </p:cSld>
  <p:timing>
    <p:tnLst>
      <p:par>
        <p:cTn id="3104" dur="indefinite" restart="never" nodeType="tmRoot">
          <p:childTnLst>
            <p:seq>
              <p:cTn id="3105" dur="indefinite" nodeType="mainSeq">
                <p:childTnLst>
                  <p:par>
                    <p:cTn id="3106" nodeType="clickEffect" fill="hold">
                      <p:stCondLst>
                        <p:cond delay="0"/>
                      </p:stCondLst>
                      <p:childTnLst>
                        <p:par>
                          <p:cTn id="3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8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1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4" dur="500"/>
                                        <p:tgtEl>
                                          <p:spTgt spid="1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7" dur="500"/>
                                        <p:tgtEl>
                                          <p:spTgt spid="1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8" nodeType="clickEffect" fill="hold">
                      <p:stCondLst>
                        <p:cond delay="indefinite"/>
                      </p:stCondLst>
                      <p:childTnLst>
                        <p:par>
                          <p:cTn id="3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22" dur="80"/>
                                        <p:tgtEl>
                                          <p:spTgt spid="11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23" dur="80"/>
                                        <p:tgtEl>
                                          <p:spTgt spid="11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24" dur="80"/>
                                        <p:tgtEl>
                                          <p:spTgt spid="11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2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7" dur="500" fill="hold"/>
                                        <p:tgtEl>
                                          <p:spTgt spid="1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8" dur="500" fill="hold"/>
                                        <p:tgtEl>
                                          <p:spTgt spid="1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9" dur="500" fill="hold"/>
                                        <p:tgtEl>
                                          <p:spTgt spid="1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0" dur="500" fill="hold"/>
                                        <p:tgtEl>
                                          <p:spTgt spid="1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1" nodeType="clickEffect" fill="hold">
                      <p:stCondLst>
                        <p:cond delay="indefinite"/>
                      </p:stCondLst>
                      <p:childTnLst>
                        <p:par>
                          <p:cTn id="3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35" dur="80"/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36" dur="80"/>
                                        <p:tgtEl>
                                          <p:spTgt spid="11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37" dur="80"/>
                                        <p:tgtEl>
                                          <p:spTgt spid="11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8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0" dur="500" fill="hold"/>
                                        <p:tgtEl>
                                          <p:spTgt spid="1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1" dur="500" fill="hold"/>
                                        <p:tgtEl>
                                          <p:spTgt spid="1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2" dur="500" fill="hold"/>
                                        <p:tgtEl>
                                          <p:spTgt spid="1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3" dur="500" fill="hold"/>
                                        <p:tgtEl>
                                          <p:spTgt spid="1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4" nodeType="clickEffect" fill="hold">
                      <p:stCondLst>
                        <p:cond delay="indefinite"/>
                      </p:stCondLst>
                      <p:childTnLst>
                        <p:par>
                          <p:cTn id="3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48" dur="80"/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49" dur="80"/>
                                        <p:tgtEl>
                                          <p:spTgt spid="11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50" dur="80"/>
                                        <p:tgtEl>
                                          <p:spTgt spid="11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1" nodeType="clickEffect" fill="hold">
                      <p:stCondLst>
                        <p:cond delay="indefinite"/>
                      </p:stCondLst>
                      <p:childTnLst>
                        <p:par>
                          <p:cTn id="3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5" dur="1000" fill="hold"/>
                                        <p:tgtEl>
                                          <p:spTgt spid="1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6" dur="1000" fill="hold"/>
                                        <p:tgtEl>
                                          <p:spTgt spid="1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7" dur="1000" fill="hold"/>
                                        <p:tgtEl>
                                          <p:spTgt spid="1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8" dur="1000"/>
                                        <p:tgtEl>
                                          <p:spTgt spid="1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61" dur="80"/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2" dur="80"/>
                                        <p:tgtEl>
                                          <p:spTgt spid="11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63" dur="80"/>
                                        <p:tgtEl>
                                          <p:spTgt spid="11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4" nodeType="clickEffect" fill="hold">
                      <p:stCondLst>
                        <p:cond delay="indefinite"/>
                      </p:stCondLst>
                      <p:childTnLst>
                        <p:par>
                          <p:cTn id="3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68" dur="80"/>
                                        <p:tgtEl>
                                          <p:spTgt spid="11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9" dur="80"/>
                                        <p:tgtEl>
                                          <p:spTgt spid="11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0" dur="80"/>
                                        <p:tgtEl>
                                          <p:spTgt spid="11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1" nodeType="clickEffect" fill="hold">
                      <p:stCondLst>
                        <p:cond delay="indefinite"/>
                      </p:stCondLst>
                      <p:childTnLst>
                        <p:par>
                          <p:cTn id="3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5" dur="500" fill="hold"/>
                                        <p:tgtEl>
                                          <p:spTgt spid="1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6" dur="500" fill="hold"/>
                                        <p:tgtEl>
                                          <p:spTgt spid="1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7" dur="500" fill="hold"/>
                                        <p:tgtEl>
                                          <p:spTgt spid="1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8" dur="500"/>
                                        <p:tgtEl>
                                          <p:spTgt spid="1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81" dur="80"/>
                                        <p:tgtEl>
                                          <p:spTgt spid="113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82" dur="80"/>
                                        <p:tgtEl>
                                          <p:spTgt spid="11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83" dur="80"/>
                                        <p:tgtEl>
                                          <p:spTgt spid="11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4" nodeType="clickEffect" fill="hold">
                      <p:stCondLst>
                        <p:cond delay="indefinite"/>
                      </p:stCondLst>
                      <p:childTnLst>
                        <p:par>
                          <p:cTn id="3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88" dur="80"/>
                                        <p:tgtEl>
                                          <p:spTgt spid="11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89" dur="80"/>
                                        <p:tgtEl>
                                          <p:spTgt spid="11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90" dur="80"/>
                                        <p:tgtEl>
                                          <p:spTgt spid="11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1" nodeType="clickEffect" fill="hold">
                      <p:stCondLst>
                        <p:cond delay="indefinite"/>
                      </p:stCondLst>
                      <p:childTnLst>
                        <p:par>
                          <p:cTn id="3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5" dur="500" fill="hold"/>
                                        <p:tgtEl>
                                          <p:spTgt spid="1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6" dur="500" fill="hold"/>
                                        <p:tgtEl>
                                          <p:spTgt spid="1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7" dur="500" fill="hold"/>
                                        <p:tgtEl>
                                          <p:spTgt spid="1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8" dur="500"/>
                                        <p:tgtEl>
                                          <p:spTgt spid="1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01" dur="80"/>
                                        <p:tgtEl>
                                          <p:spTgt spid="11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02" dur="80"/>
                                        <p:tgtEl>
                                          <p:spTgt spid="11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03" dur="80"/>
                                        <p:tgtEl>
                                          <p:spTgt spid="11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toh (Lanjutan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3390C-959C-4DD3-BD5F-E1FD9B256189}" type="datetime">
              <a:rPr b="0" lang="en-US" sz="1200" spc="-1" strike="noStrike">
                <a:solidFill>
                  <a:srgbClr val="898989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14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Verdana"/>
              </a:rPr>
              <a:t>[MA 1124]</a:t>
            </a:r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Verdana"/>
              </a:rPr>
              <a:t>KALKULUS II</a:t>
            </a:r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14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30FD8-E7BF-4CFA-AF79-18D58A37FDEB}" type="slidenum">
              <a:rPr b="0" lang="en-US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8" name="Object 13"/>
              <p:cNvSpPr txBox="1"/>
              <p:nvPr/>
            </p:nvSpPr>
            <p:spPr>
              <a:xfrm>
                <a:off x="1281240" y="1870200"/>
                <a:ext cx="7138800" cy="73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u</m:t>
                            </m:r>
                          </m:e>
                        </m:acc>
                      </m:sub>
                    </m:sSub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2</m:t>
                    </m:r>
                    <m:r>
                      <m:t xml:space="preserve">,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2</m:t>
                    </m:r>
                    <m:r>
                      <m:t xml:space="preserve">,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)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2</m:t>
                    </m:r>
                    <m:r>
                      <m:t xml:space="preserve">,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)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2</m:t>
                    </m:r>
                    <m:r>
                      <m:t xml:space="preserve">,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)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49" name="Text Box 14"/>
          <p:cNvSpPr/>
          <p:nvPr/>
        </p:nvSpPr>
        <p:spPr>
          <a:xfrm>
            <a:off x="1103760" y="1523880"/>
            <a:ext cx="135432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Sehingga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150" name="Text Box 15"/>
          <p:cNvSpPr/>
          <p:nvPr/>
        </p:nvSpPr>
        <p:spPr>
          <a:xfrm>
            <a:off x="4276440" y="2631960"/>
            <a:ext cx="37072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=2 . (1/3) + 1 . (2/3) + 0 . (2/3)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151" name="Text Box 16"/>
          <p:cNvSpPr/>
          <p:nvPr/>
        </p:nvSpPr>
        <p:spPr>
          <a:xfrm>
            <a:off x="3881160" y="3111480"/>
            <a:ext cx="80712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= 4/3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</p:spTree>
  </p:cSld>
  <p:timing>
    <p:tnLst>
      <p:par>
        <p:cTn id="3204" dur="indefinite" restart="never" nodeType="tmRoot">
          <p:childTnLst>
            <p:seq>
              <p:cTn id="3205" dur="indefinite" nodeType="mainSeq">
                <p:childTnLst>
                  <p:par>
                    <p:cTn id="3206" nodeType="clickEffect" fill="hold">
                      <p:stCondLst>
                        <p:cond delay="0"/>
                      </p:stCondLst>
                      <p:childTnLst>
                        <p:par>
                          <p:cTn id="3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8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1" nodeType="clickEffect" fill="hold">
                      <p:stCondLst>
                        <p:cond delay="indefinite"/>
                      </p:stCondLst>
                      <p:childTnLst>
                        <p:par>
                          <p:cTn id="3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5" dur="80"/>
                                        <p:tgtEl>
                                          <p:spTgt spid="11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16" dur="80"/>
                                        <p:tgtEl>
                                          <p:spTgt spid="11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17" dur="80"/>
                                        <p:tgtEl>
                                          <p:spTgt spid="11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18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0" dur="500" fill="hold"/>
                                        <p:tgtEl>
                                          <p:spTgt spid="1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1" dur="500" fill="hold"/>
                                        <p:tgtEl>
                                          <p:spTgt spid="1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2" dur="500" fill="hold"/>
                                        <p:tgtEl>
                                          <p:spTgt spid="1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3" dur="500" fill="hold"/>
                                        <p:tgtEl>
                                          <p:spTgt spid="1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4" nodeType="clickEffect" fill="hold">
                      <p:stCondLst>
                        <p:cond delay="indefinite"/>
                      </p:stCondLst>
                      <p:childTnLst>
                        <p:par>
                          <p:cTn id="3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28" dur="80"/>
                                        <p:tgtEl>
                                          <p:spTgt spid="11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9" dur="80"/>
                                        <p:tgtEl>
                                          <p:spTgt spid="11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0" dur="80"/>
                                        <p:tgtEl>
                                          <p:spTgt spid="11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1" nodeType="clickEffect" fill="hold">
                      <p:stCondLst>
                        <p:cond delay="indefinite"/>
                      </p:stCondLst>
                      <p:childTnLst>
                        <p:par>
                          <p:cTn id="3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35" dur="80"/>
                                        <p:tgtEl>
                                          <p:spTgt spid="11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36" dur="80"/>
                                        <p:tgtEl>
                                          <p:spTgt spid="11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7" dur="80"/>
                                        <p:tgtEl>
                                          <p:spTgt spid="11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tiha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3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0AB62-F8A8-4ABC-93F3-C1E49F6E1791}" type="datetime">
              <a:rPr b="0" lang="en-US" sz="1200" spc="-1" strike="noStrike">
                <a:solidFill>
                  <a:srgbClr val="898989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154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Verdana"/>
              </a:rPr>
              <a:t>[MA 1124]</a:t>
            </a:r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Verdana"/>
              </a:rPr>
              <a:t>KALKULUS II</a:t>
            </a:r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15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0800B-B25C-47B0-80C6-1DF7B841E13F}" type="slidenum">
              <a:rPr b="0" lang="en-US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156" name="Text Box 3"/>
          <p:cNvSpPr/>
          <p:nvPr/>
        </p:nvSpPr>
        <p:spPr>
          <a:xfrm>
            <a:off x="419760" y="1365120"/>
            <a:ext cx="7272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Tentukan turunan berarah fungsi </a:t>
            </a: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f 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 pada titik P yang 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diberikan dalam vektor </a:t>
            </a:r>
            <a:r>
              <a:rPr b="1" lang="en-US" sz="2100" spc="-1" strike="noStrike">
                <a:solidFill>
                  <a:srgbClr val="336699"/>
                </a:solidFill>
                <a:latin typeface="Verdana"/>
              </a:rPr>
              <a:t>a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157" name="Text Box 4"/>
          <p:cNvSpPr/>
          <p:nvPr/>
        </p:nvSpPr>
        <p:spPr>
          <a:xfrm>
            <a:off x="1188720" y="2050920"/>
            <a:ext cx="457272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a. </a:t>
            </a: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f(x,y) = y</a:t>
            </a:r>
            <a:r>
              <a:rPr b="0" i="1" lang="en-US" sz="2100" spc="-1" strike="noStrike" baseline="30000">
                <a:solidFill>
                  <a:srgbClr val="336699"/>
                </a:solidFill>
                <a:latin typeface="Verdana"/>
              </a:rPr>
              <a:t>2 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ln</a:t>
            </a: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x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 ,  P(1, 4), </a:t>
            </a:r>
            <a:r>
              <a:rPr b="1" lang="en-US" sz="2100" spc="-1" strike="noStrike">
                <a:solidFill>
                  <a:srgbClr val="336699"/>
                </a:solidFill>
                <a:latin typeface="Verdana"/>
              </a:rPr>
              <a:t>a 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= -3 </a:t>
            </a:r>
            <a:r>
              <a:rPr b="1" lang="en-US" sz="2100" spc="-1" strike="noStrike">
                <a:solidFill>
                  <a:srgbClr val="336699"/>
                </a:solidFill>
                <a:latin typeface="Verdana"/>
              </a:rPr>
              <a:t>i 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+ 3 </a:t>
            </a:r>
            <a:r>
              <a:rPr b="1" lang="en-US" sz="2100" spc="-1" strike="noStrike">
                <a:solidFill>
                  <a:srgbClr val="336699"/>
                </a:solidFill>
                <a:latin typeface="Verdana"/>
              </a:rPr>
              <a:t>j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158" name="Text Box 5"/>
          <p:cNvSpPr/>
          <p:nvPr/>
        </p:nvSpPr>
        <p:spPr>
          <a:xfrm>
            <a:off x="1225800" y="2416320"/>
            <a:ext cx="47444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b. </a:t>
            </a: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f(x,y) = xe</a:t>
            </a:r>
            <a:r>
              <a:rPr b="0" i="1" lang="en-US" sz="2100" spc="-1" strike="noStrike" baseline="30000">
                <a:solidFill>
                  <a:srgbClr val="336699"/>
                </a:solidFill>
                <a:latin typeface="Verdana"/>
              </a:rPr>
              <a:t>y </a:t>
            </a: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–</a:t>
            </a:r>
            <a:r>
              <a:rPr b="0" i="1" lang="en-US" sz="2100" spc="-1" strike="noStrike" baseline="30000">
                <a:solidFill>
                  <a:srgbClr val="336699"/>
                </a:solidFill>
                <a:latin typeface="Verdana"/>
              </a:rPr>
              <a:t> </a:t>
            </a: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ye</a:t>
            </a:r>
            <a:r>
              <a:rPr b="0" i="1" lang="en-US" sz="2100" spc="-1" strike="noStrike" baseline="30000">
                <a:solidFill>
                  <a:srgbClr val="336699"/>
                </a:solidFill>
                <a:latin typeface="Verdana"/>
              </a:rPr>
              <a:t>x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 ,  P(0, 0), </a:t>
            </a:r>
            <a:r>
              <a:rPr b="1" lang="en-US" sz="2100" spc="-1" strike="noStrike">
                <a:solidFill>
                  <a:srgbClr val="336699"/>
                </a:solidFill>
                <a:latin typeface="Verdana"/>
              </a:rPr>
              <a:t>a 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= 5 </a:t>
            </a:r>
            <a:r>
              <a:rPr b="1" lang="en-US" sz="2100" spc="-1" strike="noStrike">
                <a:solidFill>
                  <a:srgbClr val="336699"/>
                </a:solidFill>
                <a:latin typeface="Verdana"/>
              </a:rPr>
              <a:t>i 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– 2 </a:t>
            </a:r>
            <a:r>
              <a:rPr b="1" lang="en-US" sz="2100" spc="-1" strike="noStrike">
                <a:solidFill>
                  <a:srgbClr val="336699"/>
                </a:solidFill>
                <a:latin typeface="Verdana"/>
              </a:rPr>
              <a:t>j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159" name="Text Box 6"/>
          <p:cNvSpPr/>
          <p:nvPr/>
        </p:nvSpPr>
        <p:spPr>
          <a:xfrm>
            <a:off x="1242360" y="2827440"/>
            <a:ext cx="45068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c. </a:t>
            </a: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f(x,y) = e </a:t>
            </a:r>
            <a:r>
              <a:rPr b="0" lang="en-US" sz="2100" spc="-1" strike="noStrike" baseline="30000">
                <a:solidFill>
                  <a:srgbClr val="336699"/>
                </a:solidFill>
                <a:latin typeface="Verdana"/>
              </a:rPr>
              <a:t>–</a:t>
            </a:r>
            <a:r>
              <a:rPr b="0" i="1" lang="en-US" sz="2100" spc="-1" strike="noStrike" baseline="30000">
                <a:solidFill>
                  <a:srgbClr val="336699"/>
                </a:solidFill>
                <a:latin typeface="Verdana"/>
              </a:rPr>
              <a:t>xy 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,  P(1, –1), </a:t>
            </a:r>
            <a:r>
              <a:rPr b="1" lang="en-US" sz="2100" spc="-1" strike="noStrike">
                <a:solidFill>
                  <a:srgbClr val="336699"/>
                </a:solidFill>
                <a:latin typeface="Verdana"/>
              </a:rPr>
              <a:t>a 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= – </a:t>
            </a:r>
            <a:r>
              <a:rPr b="1" lang="en-US" sz="2100" spc="-1" strike="noStrike">
                <a:solidFill>
                  <a:srgbClr val="336699"/>
                </a:solidFill>
                <a:latin typeface="Verdana"/>
              </a:rPr>
              <a:t>i 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+ </a:t>
            </a:r>
            <a:r>
              <a:rPr b="0" lang="en-US" sz="2100" spc="-1" strike="noStrike">
                <a:solidFill>
                  <a:srgbClr val="336699"/>
                </a:solidFill>
                <a:latin typeface="Symbol"/>
                <a:ea typeface="Symbol"/>
              </a:rPr>
              <a:t>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3 </a:t>
            </a:r>
            <a:r>
              <a:rPr b="1" lang="en-US" sz="2100" spc="-1" strike="noStrike">
                <a:solidFill>
                  <a:srgbClr val="336699"/>
                </a:solidFill>
                <a:latin typeface="Verdana"/>
              </a:rPr>
              <a:t>j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160" name="Text Box 7"/>
          <p:cNvSpPr/>
          <p:nvPr/>
        </p:nvSpPr>
        <p:spPr>
          <a:xfrm>
            <a:off x="1370520" y="3198960"/>
            <a:ext cx="684072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d. </a:t>
            </a: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f(x,y) = x/(x+y)</a:t>
            </a:r>
            <a:r>
              <a:rPr b="0" i="1" lang="en-US" sz="2100" spc="-1" strike="noStrike" baseline="30000">
                <a:solidFill>
                  <a:srgbClr val="336699"/>
                </a:solidFill>
                <a:latin typeface="Verdana"/>
              </a:rPr>
              <a:t> 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,  di P(1, 1) dalam arah ke titik Q(-1,-1)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161" name="Text Box 8"/>
          <p:cNvSpPr/>
          <p:nvPr/>
        </p:nvSpPr>
        <p:spPr>
          <a:xfrm>
            <a:off x="1305360" y="3579840"/>
            <a:ext cx="70614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e. </a:t>
            </a: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f(x,y,z) = xy+z</a:t>
            </a:r>
            <a:r>
              <a:rPr b="0" i="1" lang="en-US" sz="2100" spc="-1" strike="noStrike" baseline="30000">
                <a:solidFill>
                  <a:srgbClr val="336699"/>
                </a:solidFill>
                <a:latin typeface="Verdana"/>
              </a:rPr>
              <a:t>2 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, di P(1,1,1) dalam arah ke titik Q(5,-3,3)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162" name="Text Box 9"/>
          <p:cNvSpPr/>
          <p:nvPr/>
        </p:nvSpPr>
        <p:spPr>
          <a:xfrm>
            <a:off x="-5400" y="3962520"/>
            <a:ext cx="924408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Tentukan suatu vektor satuan </a:t>
            </a:r>
            <a:r>
              <a:rPr b="1" lang="en-US" sz="2100" spc="-1" strike="noStrike">
                <a:solidFill>
                  <a:srgbClr val="336699"/>
                </a:solidFill>
                <a:latin typeface="Verdana"/>
              </a:rPr>
              <a:t>u 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dalam arah mana </a:t>
            </a: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f 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bertambah (dan berkurang)paling cepat di titik P dan berapa 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laju perubahan dalam arah ini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163" name="Text Box 10"/>
          <p:cNvSpPr/>
          <p:nvPr/>
        </p:nvSpPr>
        <p:spPr>
          <a:xfrm>
            <a:off x="1112400" y="4952880"/>
            <a:ext cx="31770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a. </a:t>
            </a: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f(x,y) = x</a:t>
            </a:r>
            <a:r>
              <a:rPr b="0" i="1" lang="en-US" sz="2100" spc="-1" strike="noStrike" baseline="30000">
                <a:solidFill>
                  <a:srgbClr val="336699"/>
                </a:solidFill>
                <a:latin typeface="Verdana"/>
              </a:rPr>
              <a:t>3 </a:t>
            </a: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– y</a:t>
            </a:r>
            <a:r>
              <a:rPr b="0" i="1" lang="en-US" sz="2100" spc="-1" strike="noStrike" baseline="30000">
                <a:solidFill>
                  <a:srgbClr val="336699"/>
                </a:solidFill>
                <a:latin typeface="Verdana"/>
              </a:rPr>
              <a:t>5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 ,  P(2, –1)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164" name="Text Box 11"/>
          <p:cNvSpPr/>
          <p:nvPr/>
        </p:nvSpPr>
        <p:spPr>
          <a:xfrm>
            <a:off x="1073160" y="5303880"/>
            <a:ext cx="35272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b. </a:t>
            </a: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f(x,y) = e</a:t>
            </a:r>
            <a:r>
              <a:rPr b="0" i="1" lang="en-US" sz="2100" spc="-1" strike="noStrike" baseline="30000">
                <a:solidFill>
                  <a:srgbClr val="336699"/>
                </a:solidFill>
                <a:latin typeface="Verdana"/>
              </a:rPr>
              <a:t>y 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sin </a:t>
            </a: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x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 ,  P(5</a:t>
            </a:r>
            <a:r>
              <a:rPr b="0" lang="en-US" sz="2100" spc="-1" strike="noStrike">
                <a:solidFill>
                  <a:srgbClr val="336699"/>
                </a:solidFill>
                <a:latin typeface="Symbol"/>
                <a:ea typeface="Symbol"/>
              </a:rPr>
              <a:t>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/6,0)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165" name="Text Box 12"/>
          <p:cNvSpPr/>
          <p:nvPr/>
        </p:nvSpPr>
        <p:spPr>
          <a:xfrm>
            <a:off x="1069200" y="5683320"/>
            <a:ext cx="29937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c. </a:t>
            </a: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f(x,y) = 4x</a:t>
            </a:r>
            <a:r>
              <a:rPr b="0" i="1" lang="en-US" sz="2100" spc="-1" strike="noStrike" baseline="30000">
                <a:solidFill>
                  <a:srgbClr val="336699"/>
                </a:solidFill>
                <a:latin typeface="Verdana"/>
              </a:rPr>
              <a:t>3</a:t>
            </a: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y</a:t>
            </a:r>
            <a:r>
              <a:rPr b="0" i="1" lang="en-US" sz="2100" spc="-1" strike="noStrike" baseline="30000">
                <a:solidFill>
                  <a:srgbClr val="336699"/>
                </a:solidFill>
                <a:latin typeface="Verdana"/>
              </a:rPr>
              <a:t>2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 ,  P(–1,1)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166" name="Text Box 13"/>
          <p:cNvSpPr/>
          <p:nvPr/>
        </p:nvSpPr>
        <p:spPr>
          <a:xfrm>
            <a:off x="5228640" y="4952880"/>
            <a:ext cx="32868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d. </a:t>
            </a: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f(x,y) = 1–x</a:t>
            </a:r>
            <a:r>
              <a:rPr b="0" i="1" lang="en-US" sz="2100" spc="-1" strike="noStrike" baseline="30000">
                <a:solidFill>
                  <a:srgbClr val="336699"/>
                </a:solidFill>
                <a:latin typeface="Verdana"/>
              </a:rPr>
              <a:t>2</a:t>
            </a: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–y</a:t>
            </a:r>
            <a:r>
              <a:rPr b="0" i="1" lang="en-US" sz="2100" spc="-1" strike="noStrike" baseline="30000">
                <a:solidFill>
                  <a:srgbClr val="336699"/>
                </a:solidFill>
                <a:latin typeface="Verdana"/>
              </a:rPr>
              <a:t>2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 ,  P(–1,2)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</p:spTree>
  </p:cSld>
  <p:timing>
    <p:tnLst>
      <p:par>
        <p:cTn id="3238" dur="indefinite" restart="never" nodeType="tmRoot">
          <p:childTnLst>
            <p:seq>
              <p:cTn id="3239" dur="indefinite" nodeType="mainSeq">
                <p:childTnLst>
                  <p:par>
                    <p:cTn id="3240" nodeType="clickEffect" fill="hold">
                      <p:stCondLst>
                        <p:cond delay="0"/>
                      </p:stCondLst>
                      <p:childTnLst>
                        <p:par>
                          <p:cTn id="3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5" nodeType="clickEffect" fill="hold">
                      <p:stCondLst>
                        <p:cond delay="indefinite"/>
                      </p:stCondLst>
                      <p:childTnLst>
                        <p:par>
                          <p:cTn id="3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9" dur="500" fill="hold"/>
                                        <p:tgtEl>
                                          <p:spTgt spid="1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0" dur="500" fill="hold"/>
                                        <p:tgtEl>
                                          <p:spTgt spid="1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1" dur="500" fill="hold"/>
                                        <p:tgtEl>
                                          <p:spTgt spid="1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2" dur="500"/>
                                        <p:tgtEl>
                                          <p:spTgt spid="1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5" dur="500" fill="hold"/>
                                        <p:tgtEl>
                                          <p:spTgt spid="1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6" dur="500" fill="hold"/>
                                        <p:tgtEl>
                                          <p:spTgt spid="1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7" dur="500" fill="hold"/>
                                        <p:tgtEl>
                                          <p:spTgt spid="1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8" dur="500"/>
                                        <p:tgtEl>
                                          <p:spTgt spid="1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1" dur="500" fill="hold"/>
                                        <p:tgtEl>
                                          <p:spTgt spid="1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2" dur="500" fill="hold"/>
                                        <p:tgtEl>
                                          <p:spTgt spid="1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3" dur="500" fill="hold"/>
                                        <p:tgtEl>
                                          <p:spTgt spid="1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4" dur="500"/>
                                        <p:tgtEl>
                                          <p:spTgt spid="1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7" dur="500" fill="hold"/>
                                        <p:tgtEl>
                                          <p:spTgt spid="1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8" dur="500" fill="hold"/>
                                        <p:tgtEl>
                                          <p:spTgt spid="1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9" dur="500" fill="hold"/>
                                        <p:tgtEl>
                                          <p:spTgt spid="1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0" dur="500"/>
                                        <p:tgtEl>
                                          <p:spTgt spid="1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3" dur="500" fill="hold"/>
                                        <p:tgtEl>
                                          <p:spTgt spid="1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4" dur="500" fill="hold"/>
                                        <p:tgtEl>
                                          <p:spTgt spid="1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5" dur="500" fill="hold"/>
                                        <p:tgtEl>
                                          <p:spTgt spid="1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6" dur="500"/>
                                        <p:tgtEl>
                                          <p:spTgt spid="1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9" dur="500" fill="hold"/>
                                        <p:tgtEl>
                                          <p:spTgt spid="1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0" dur="500" fill="hold"/>
                                        <p:tgtEl>
                                          <p:spTgt spid="1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1" dur="500" fill="hold"/>
                                        <p:tgtEl>
                                          <p:spTgt spid="1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2" dur="500"/>
                                        <p:tgtEl>
                                          <p:spTgt spid="1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3" nodeType="clickEffect" fill="hold">
                      <p:stCondLst>
                        <p:cond delay="indefinite"/>
                      </p:stCondLst>
                      <p:childTnLst>
                        <p:par>
                          <p:cTn id="3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7" dur="500" fill="hold"/>
                                        <p:tgtEl>
                                          <p:spTgt spid="1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8" dur="500" fill="hold"/>
                                        <p:tgtEl>
                                          <p:spTgt spid="1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9" dur="500" fill="hold"/>
                                        <p:tgtEl>
                                          <p:spTgt spid="1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0" dur="500" fill="hold"/>
                                        <p:tgtEl>
                                          <p:spTgt spid="1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9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3" dur="500" fill="hold"/>
                                        <p:tgtEl>
                                          <p:spTgt spid="1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4" dur="500" fill="hold"/>
                                        <p:tgtEl>
                                          <p:spTgt spid="1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5" dur="500" fill="hold"/>
                                        <p:tgtEl>
                                          <p:spTgt spid="1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6" dur="500" fill="hold"/>
                                        <p:tgtEl>
                                          <p:spTgt spid="1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9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9" dur="500" fill="hold"/>
                                        <p:tgtEl>
                                          <p:spTgt spid="1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0" dur="500" fill="hold"/>
                                        <p:tgtEl>
                                          <p:spTgt spid="1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1" dur="500" fill="hold"/>
                                        <p:tgtEl>
                                          <p:spTgt spid="1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2" dur="500" fill="hold"/>
                                        <p:tgtEl>
                                          <p:spTgt spid="1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0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5" dur="500" fill="hold"/>
                                        <p:tgtEl>
                                          <p:spTgt spid="1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6" dur="500" fill="hold"/>
                                        <p:tgtEl>
                                          <p:spTgt spid="1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7" dur="500" fill="hold"/>
                                        <p:tgtEl>
                                          <p:spTgt spid="1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8" dur="500" fill="hold"/>
                                        <p:tgtEl>
                                          <p:spTgt spid="1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0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1" dur="500" fill="hold"/>
                                        <p:tgtEl>
                                          <p:spTgt spid="1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2" dur="500" fill="hold"/>
                                        <p:tgtEl>
                                          <p:spTgt spid="1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3" dur="500" fill="hold"/>
                                        <p:tgtEl>
                                          <p:spTgt spid="1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4" dur="500" fill="hold"/>
                                        <p:tgtEl>
                                          <p:spTgt spid="1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tihan (lanjutan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8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5C1EB-9118-4396-942F-34E79F84FFFC}" type="datetime">
              <a:rPr b="0" lang="en-US" sz="1200" spc="-1" strike="noStrike">
                <a:solidFill>
                  <a:srgbClr val="898989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169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Verdana"/>
              </a:rPr>
              <a:t>[MA 1124]</a:t>
            </a:r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Verdana"/>
              </a:rPr>
              <a:t>KALKULUS II</a:t>
            </a:r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17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86AC3-CAB7-4771-BF45-840780350C61}" type="slidenum">
              <a:rPr b="0" lang="en-US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171" name="Text Box 5"/>
          <p:cNvSpPr/>
          <p:nvPr/>
        </p:nvSpPr>
        <p:spPr>
          <a:xfrm>
            <a:off x="208800" y="1447920"/>
            <a:ext cx="129492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Misal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2" name="Object 17"/>
              <p:cNvSpPr txBox="1"/>
              <p:nvPr/>
            </p:nvSpPr>
            <p:spPr>
              <a:xfrm>
                <a:off x="1447920" y="1290600"/>
                <a:ext cx="2039760" cy="78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y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y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73" name="Text Box 19"/>
          <p:cNvSpPr/>
          <p:nvPr/>
        </p:nvSpPr>
        <p:spPr>
          <a:xfrm>
            <a:off x="3115440" y="1433520"/>
            <a:ext cx="23464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.Tentukan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4" name="Object 20"/>
              <p:cNvSpPr txBox="1"/>
              <p:nvPr/>
            </p:nvSpPr>
            <p:spPr>
              <a:xfrm>
                <a:off x="5002200" y="1463760"/>
                <a:ext cx="255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u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1175" name="Text Box 21"/>
          <p:cNvSpPr/>
          <p:nvPr/>
        </p:nvSpPr>
        <p:spPr>
          <a:xfrm>
            <a:off x="4825800" y="1447920"/>
            <a:ext cx="22503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sehingga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6" name="Object 22"/>
              <p:cNvSpPr txBox="1"/>
              <p:nvPr/>
            </p:nvSpPr>
            <p:spPr>
              <a:xfrm>
                <a:off x="6630840" y="1488960"/>
                <a:ext cx="171936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u</m:t>
                            </m:r>
                          </m:e>
                        </m:acc>
                      </m:sub>
                    </m:sSub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77" name="Text Box 23"/>
          <p:cNvSpPr/>
          <p:nvPr/>
        </p:nvSpPr>
        <p:spPr>
          <a:xfrm>
            <a:off x="269280" y="2192400"/>
            <a:ext cx="10706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Jika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8" name="Object 24"/>
              <p:cNvSpPr txBox="1"/>
              <p:nvPr/>
            </p:nvSpPr>
            <p:spPr>
              <a:xfrm>
                <a:off x="1371600" y="2184480"/>
                <a:ext cx="247968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∇</m:t>
                        </m:r>
                      </m:e>
                    </m:acc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i</m:t>
                        </m:r>
                      </m:e>
                    </m:acc>
                    <m:r>
                      <m:t xml:space="preserve">−</m:t>
                    </m:r>
                    <m:r>
                      <m:t xml:space="preserve">2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j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1179" name="Text Box 25"/>
          <p:cNvSpPr/>
          <p:nvPr/>
        </p:nvSpPr>
        <p:spPr>
          <a:xfrm>
            <a:off x="3334680" y="2193840"/>
            <a:ext cx="23464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,Tentukan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0" name="Object 26"/>
              <p:cNvSpPr txBox="1"/>
              <p:nvPr/>
            </p:nvSpPr>
            <p:spPr>
              <a:xfrm>
                <a:off x="5221440" y="2224080"/>
                <a:ext cx="255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u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1181" name="Text Box 27"/>
          <p:cNvSpPr/>
          <p:nvPr/>
        </p:nvSpPr>
        <p:spPr>
          <a:xfrm>
            <a:off x="5044680" y="2208240"/>
            <a:ext cx="22503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sehingga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2" name="Object 28"/>
              <p:cNvSpPr txBox="1"/>
              <p:nvPr/>
            </p:nvSpPr>
            <p:spPr>
              <a:xfrm>
                <a:off x="6883560" y="2249640"/>
                <a:ext cx="218412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u</m:t>
                            </m:r>
                          </m:e>
                        </m:acc>
                      </m:sub>
                    </m:sSub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83" name="Text Box 29"/>
          <p:cNvSpPr/>
          <p:nvPr/>
        </p:nvSpPr>
        <p:spPr>
          <a:xfrm>
            <a:off x="264600" y="2800440"/>
            <a:ext cx="18374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Diketahui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184" name="Text Box 31"/>
          <p:cNvSpPr/>
          <p:nvPr/>
        </p:nvSpPr>
        <p:spPr>
          <a:xfrm>
            <a:off x="3678480" y="2801880"/>
            <a:ext cx="152352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jika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5" name="Object 34"/>
              <p:cNvSpPr txBox="1"/>
              <p:nvPr/>
            </p:nvSpPr>
            <p:spPr>
              <a:xfrm>
                <a:off x="2286000" y="2835360"/>
                <a:ext cx="185904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u</m:t>
                            </m:r>
                          </m:e>
                        </m:acc>
                      </m:sub>
                    </m:sSub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86" name="Text Box 35"/>
          <p:cNvSpPr/>
          <p:nvPr/>
        </p:nvSpPr>
        <p:spPr>
          <a:xfrm>
            <a:off x="3678480" y="3497400"/>
            <a:ext cx="152352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jika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7" name="Object 36"/>
              <p:cNvSpPr txBox="1"/>
              <p:nvPr/>
            </p:nvSpPr>
            <p:spPr>
              <a:xfrm>
                <a:off x="2286000" y="3530520"/>
                <a:ext cx="185904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sub>
                    </m:sSub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88" name="Rectangle 37"/>
          <p:cNvSpPr/>
          <p:nvPr/>
        </p:nvSpPr>
        <p:spPr>
          <a:xfrm>
            <a:off x="6639480" y="2787480"/>
            <a:ext cx="6591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dan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9" name="Object 38"/>
              <p:cNvSpPr txBox="1"/>
              <p:nvPr/>
            </p:nvSpPr>
            <p:spPr>
              <a:xfrm>
                <a:off x="4786200" y="2654280"/>
                <a:ext cx="1719360" cy="73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u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acc>
                      <m:accPr>
                        <m:chr m:val="^"/>
                      </m:accPr>
                      <m:e>
                        <m:r>
                          <m:t xml:space="preserve">i</m:t>
                        </m:r>
                      </m:e>
                    </m:acc>
                    <m:r>
                      <m:t xml:space="preserve">−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acc>
                      <m:accPr>
                        <m:chr m:val="^"/>
                      </m:accPr>
                      <m:e>
                        <m:r>
                          <m:t xml:space="preserve">j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0" name="Object 40"/>
              <p:cNvSpPr txBox="1"/>
              <p:nvPr/>
            </p:nvSpPr>
            <p:spPr>
              <a:xfrm>
                <a:off x="4826160" y="3352680"/>
                <a:ext cx="1719000" cy="73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acc>
                      <m:accPr>
                        <m:chr m:val="^"/>
                      </m:accPr>
                      <m:e>
                        <m:r>
                          <m:t xml:space="preserve">i</m:t>
                        </m:r>
                      </m:e>
                    </m:acc>
                    <m:r>
                      <m:t xml:space="preserve">+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acc>
                      <m:accPr>
                        <m:chr m:val="^"/>
                      </m:accPr>
                      <m:e>
                        <m:r>
                          <m:t xml:space="preserve">j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1191" name="Text Box 46"/>
          <p:cNvSpPr/>
          <p:nvPr/>
        </p:nvSpPr>
        <p:spPr>
          <a:xfrm>
            <a:off x="1100160" y="4083120"/>
            <a:ext cx="3758760" cy="4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a. Tentukan f</a:t>
            </a:r>
            <a:r>
              <a:rPr b="0" lang="en-US" sz="2100" spc="-1" strike="noStrike" baseline="-25000">
                <a:solidFill>
                  <a:srgbClr val="336699"/>
                </a:solidFill>
                <a:latin typeface="Verdana"/>
              </a:rPr>
              <a:t>x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(1,2) dan f</a:t>
            </a:r>
            <a:r>
              <a:rPr b="0" lang="en-US" sz="2100" spc="-1" strike="noStrike" baseline="-25000">
                <a:solidFill>
                  <a:srgbClr val="336699"/>
                </a:solidFill>
                <a:latin typeface="Verdana"/>
              </a:rPr>
              <a:t>y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(1,2)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192" name="Text Box 47"/>
          <p:cNvSpPr/>
          <p:nvPr/>
        </p:nvSpPr>
        <p:spPr>
          <a:xfrm>
            <a:off x="1238400" y="4616280"/>
            <a:ext cx="735732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b. Tentukan turunan berarah f di (1,2) dalam arah ke (0,0)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</p:spTree>
  </p:cSld>
  <p:timing>
    <p:tnLst>
      <p:par>
        <p:cTn id="3315" dur="indefinite" restart="never" nodeType="tmRoot">
          <p:childTnLst>
            <p:seq>
              <p:cTn id="3316" dur="indefinite" nodeType="mainSeq">
                <p:childTnLst>
                  <p:par>
                    <p:cTn id="3317" nodeType="clickEffect" fill="hold">
                      <p:stCondLst>
                        <p:cond delay="0"/>
                      </p:stCondLst>
                      <p:childTnLst>
                        <p:par>
                          <p:cTn id="3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9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2" nodeType="clickEffect" fill="hold">
                      <p:stCondLst>
                        <p:cond delay="indefinite"/>
                      </p:stCondLst>
                      <p:childTnLst>
                        <p:par>
                          <p:cTn id="3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6" dur="1000" fill="hold"/>
                                        <p:tgtEl>
                                          <p:spTgt spid="1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7" dur="1000" fill="hold"/>
                                        <p:tgtEl>
                                          <p:spTgt spid="1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8" dur="1000" fill="hold"/>
                                        <p:tgtEl>
                                          <p:spTgt spid="1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9" dur="1000" fill="hold"/>
                                        <p:tgtEl>
                                          <p:spTgt spid="1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30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2" dur="1000" fill="hold"/>
                                        <p:tgtEl>
                                          <p:spTgt spid="1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3" dur="1000" fill="hold"/>
                                        <p:tgtEl>
                                          <p:spTgt spid="1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4" dur="1000" fill="hold"/>
                                        <p:tgtEl>
                                          <p:spTgt spid="1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5" dur="1000" fill="hold"/>
                                        <p:tgtEl>
                                          <p:spTgt spid="1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36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8" dur="1000" fill="hold"/>
                                        <p:tgtEl>
                                          <p:spTgt spid="1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9" dur="1000" fill="hold"/>
                                        <p:tgtEl>
                                          <p:spTgt spid="1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0" dur="1000" fill="hold"/>
                                        <p:tgtEl>
                                          <p:spTgt spid="1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1" dur="1000" fill="hold"/>
                                        <p:tgtEl>
                                          <p:spTgt spid="1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42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4" dur="1000" fill="hold"/>
                                        <p:tgtEl>
                                          <p:spTgt spid="1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5" dur="1000" fill="hold"/>
                                        <p:tgtEl>
                                          <p:spTgt spid="1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6" dur="1000" fill="hold"/>
                                        <p:tgtEl>
                                          <p:spTgt spid="1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7" dur="1000" fill="hold"/>
                                        <p:tgtEl>
                                          <p:spTgt spid="1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48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0" dur="1000" fill="hold"/>
                                        <p:tgtEl>
                                          <p:spTgt spid="1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1" dur="1000" fill="hold"/>
                                        <p:tgtEl>
                                          <p:spTgt spid="1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2" dur="1000" fill="hold"/>
                                        <p:tgtEl>
                                          <p:spTgt spid="1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3" dur="1000" fill="hold"/>
                                        <p:tgtEl>
                                          <p:spTgt spid="1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54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6" dur="1000" fill="hold"/>
                                        <p:tgtEl>
                                          <p:spTgt spid="1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7" dur="1000" fill="hold"/>
                                        <p:tgtEl>
                                          <p:spTgt spid="1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8" dur="1000" fill="hold"/>
                                        <p:tgtEl>
                                          <p:spTgt spid="1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9" dur="1000" fill="hold"/>
                                        <p:tgtEl>
                                          <p:spTgt spid="1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0" nodeType="clickEffect" fill="hold">
                      <p:stCondLst>
                        <p:cond delay="indefinite"/>
                      </p:stCondLst>
                      <p:childTnLst>
                        <p:par>
                          <p:cTn id="3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4" dur="1000" fill="hold"/>
                                        <p:tgtEl>
                                          <p:spTgt spid="1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5" dur="1000" fill="hold"/>
                                        <p:tgtEl>
                                          <p:spTgt spid="1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6" dur="1000" fill="hold"/>
                                        <p:tgtEl>
                                          <p:spTgt spid="1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7" dur="1000" fill="hold"/>
                                        <p:tgtEl>
                                          <p:spTgt spid="1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68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0" dur="1000" fill="hold"/>
                                        <p:tgtEl>
                                          <p:spTgt spid="1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1" dur="1000" fill="hold"/>
                                        <p:tgtEl>
                                          <p:spTgt spid="1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2" dur="1000" fill="hold"/>
                                        <p:tgtEl>
                                          <p:spTgt spid="1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3" dur="1000" fill="hold"/>
                                        <p:tgtEl>
                                          <p:spTgt spid="1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74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6" dur="1000" fill="hold"/>
                                        <p:tgtEl>
                                          <p:spTgt spid="1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7" dur="1000" fill="hold"/>
                                        <p:tgtEl>
                                          <p:spTgt spid="1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8" dur="1000" fill="hold"/>
                                        <p:tgtEl>
                                          <p:spTgt spid="1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9" dur="1000" fill="hold"/>
                                        <p:tgtEl>
                                          <p:spTgt spid="1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80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2" dur="1000" fill="hold"/>
                                        <p:tgtEl>
                                          <p:spTgt spid="1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3" dur="1000" fill="hold"/>
                                        <p:tgtEl>
                                          <p:spTgt spid="1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4" dur="1000" fill="hold"/>
                                        <p:tgtEl>
                                          <p:spTgt spid="1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5" dur="1000" fill="hold"/>
                                        <p:tgtEl>
                                          <p:spTgt spid="1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86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8" dur="1000" fill="hold"/>
                                        <p:tgtEl>
                                          <p:spTgt spid="1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9" dur="1000" fill="hold"/>
                                        <p:tgtEl>
                                          <p:spTgt spid="1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0" dur="1000" fill="hold"/>
                                        <p:tgtEl>
                                          <p:spTgt spid="1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1" dur="1000" fill="hold"/>
                                        <p:tgtEl>
                                          <p:spTgt spid="1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92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4" dur="1000" fill="hold"/>
                                        <p:tgtEl>
                                          <p:spTgt spid="1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5" dur="1000" fill="hold"/>
                                        <p:tgtEl>
                                          <p:spTgt spid="1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6" dur="1000" fill="hold"/>
                                        <p:tgtEl>
                                          <p:spTgt spid="1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7" dur="1000" fill="hold"/>
                                        <p:tgtEl>
                                          <p:spTgt spid="1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8" nodeType="clickEffect" fill="hold">
                      <p:stCondLst>
                        <p:cond delay="indefinite"/>
                      </p:stCondLst>
                      <p:childTnLst>
                        <p:par>
                          <p:cTn id="3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2" dur="500"/>
                                        <p:tgtEl>
                                          <p:spTgt spid="1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6" dur="500"/>
                                        <p:tgtEl>
                                          <p:spTgt spid="1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0" dur="500"/>
                                        <p:tgtEl>
                                          <p:spTgt spid="1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4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4" dur="500"/>
                                        <p:tgtEl>
                                          <p:spTgt spid="1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4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8" dur="500"/>
                                        <p:tgtEl>
                                          <p:spTgt spid="1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4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2" dur="500"/>
                                        <p:tgtEl>
                                          <p:spTgt spid="1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4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6" dur="500"/>
                                        <p:tgtEl>
                                          <p:spTgt spid="1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4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30" dur="5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4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34" dur="5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4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38" dur="5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dang Singgu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4" name=""/>
          <p:cNvSpPr txBox="1"/>
          <p:nvPr/>
        </p:nvSpPr>
        <p:spPr>
          <a:xfrm>
            <a:off x="361440" y="1600200"/>
            <a:ext cx="80010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75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c0504d"/>
                </a:solidFill>
                <a:latin typeface="Calibri"/>
              </a:rPr>
              <a:t>Definisi: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Misalkan suatu permukaan S mempunyai persamaan F(x,y,z) = k. Maka bidang singgung dari S pada titik P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(a,b,c) adalah sebuah bidang yang melalui P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dan tegak lurus pada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0D867-3C79-4DE3-A66F-A21B81D91685}" type="datetime">
              <a:rPr b="0" lang="en-US" sz="1200" spc="-1" strike="noStrike">
                <a:solidFill>
                  <a:srgbClr val="898989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19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Verdana"/>
              </a:rPr>
              <a:t>[MA 1124]</a:t>
            </a:r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Verdana"/>
              </a:rPr>
              <a:t>KALKULUS II</a:t>
            </a:r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19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B796F-5BF0-467A-B23E-E00235CE932A}" type="slidenum">
              <a:rPr b="0" lang="en-US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8" name="Object 4"/>
              <p:cNvSpPr txBox="1"/>
              <p:nvPr/>
            </p:nvSpPr>
            <p:spPr>
              <a:xfrm>
                <a:off x="5257800" y="2620800"/>
                <a:ext cx="1371600" cy="51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∇</m:t>
                        </m:r>
                      </m:e>
                    </m:acc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,</m:t>
                    </m:r>
                    <m:r>
                      <m:t xml:space="preserve">c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99" name="Rectangle 5"/>
          <p:cNvSpPr/>
          <p:nvPr/>
        </p:nvSpPr>
        <p:spPr>
          <a:xfrm>
            <a:off x="871560" y="3150000"/>
            <a:ext cx="6732360" cy="28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c0504d"/>
                </a:solidFill>
                <a:latin typeface="Verdana"/>
              </a:rPr>
              <a:t>Teorema: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Untuk permukaan F(x, y, z) = k,  persamaan  bidang 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singgung di  titik  (a, b, c) adalah :  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F</a:t>
            </a:r>
            <a:r>
              <a:rPr b="0" i="1" lang="en-US" sz="2100" spc="-1" strike="noStrike" baseline="-25000">
                <a:solidFill>
                  <a:srgbClr val="336699"/>
                </a:solidFill>
                <a:latin typeface="Verdana"/>
              </a:rPr>
              <a:t>x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(a,b,c) (</a:t>
            </a: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x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–a) + F</a:t>
            </a:r>
            <a:r>
              <a:rPr b="0" i="1" lang="en-US" sz="2100" spc="-1" strike="noStrike" baseline="-25000">
                <a:solidFill>
                  <a:srgbClr val="336699"/>
                </a:solidFill>
                <a:latin typeface="Verdana"/>
              </a:rPr>
              <a:t>y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(a,b,c) (</a:t>
            </a: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y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–b) + F</a:t>
            </a:r>
            <a:r>
              <a:rPr b="0" i="1" lang="en-US" sz="2100" spc="-1" strike="noStrike" baseline="-25000">
                <a:solidFill>
                  <a:srgbClr val="336699"/>
                </a:solidFill>
                <a:latin typeface="Verdana"/>
              </a:rPr>
              <a:t>z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(a,b,c) (</a:t>
            </a: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z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–c) = 0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Jika permukaan  </a:t>
            </a: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z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 = f(</a:t>
            </a: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x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, </a:t>
            </a: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y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) maka  persamaan bidang  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singgung di (a, b, f(a, b)) adalah : 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          </a:t>
            </a: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z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 – f(a,b)  =  f</a:t>
            </a:r>
            <a:r>
              <a:rPr b="0" i="1" lang="en-US" sz="2100" spc="-1" strike="noStrike" baseline="-25000">
                <a:solidFill>
                  <a:srgbClr val="336699"/>
                </a:solidFill>
                <a:latin typeface="Verdana"/>
              </a:rPr>
              <a:t>x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(a,b) (</a:t>
            </a: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x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 – a) + f</a:t>
            </a:r>
            <a:r>
              <a:rPr b="0" i="1" lang="en-US" sz="2100" spc="-1" strike="noStrike" baseline="-25000">
                <a:solidFill>
                  <a:srgbClr val="336699"/>
                </a:solidFill>
                <a:latin typeface="Verdana"/>
              </a:rPr>
              <a:t>y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(a,b) (</a:t>
            </a: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y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 – b)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</p:spTree>
  </p:cSld>
  <p:timing>
    <p:tnLst>
      <p:par>
        <p:cTn id="3439" dur="indefinite" restart="never" nodeType="tmRoot">
          <p:childTnLst>
            <p:seq>
              <p:cTn id="3440" dur="indefinite" nodeType="mainSeq">
                <p:childTnLst>
                  <p:par>
                    <p:cTn id="3441" nodeType="clickEffect" fill="hold">
                      <p:stCondLst>
                        <p:cond delay="0"/>
                      </p:stCondLst>
                      <p:childTnLst>
                        <p:par>
                          <p:cTn id="3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5" dur="10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6" nodeType="clickEffect" fill="hold">
                      <p:stCondLst>
                        <p:cond delay="indefinite"/>
                      </p:stCondLst>
                      <p:childTnLst>
                        <p:par>
                          <p:cTn id="3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8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45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7" dur="3000"/>
                                        <p:tgtEl>
                                          <p:spTgt spid="1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60" dur="3000"/>
                                        <p:tgtEl>
                                          <p:spTgt spid="1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63" dur="3000"/>
                                        <p:tgtEl>
                                          <p:spTgt spid="1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4" nodeType="clickEffect" fill="hold">
                      <p:stCondLst>
                        <p:cond delay="indefinite"/>
                      </p:stCondLst>
                      <p:childTnLst>
                        <p:par>
                          <p:cTn id="3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68" dur="1000"/>
                                        <p:tgtEl>
                                          <p:spTgt spid="1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71" dur="1000"/>
                                        <p:tgtEl>
                                          <p:spTgt spid="1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74" dur="1000"/>
                                        <p:tgtEl>
                                          <p:spTgt spid="11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to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1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A55D7-47B6-44D8-BB6D-E16388F89E5B}" type="datetime">
              <a:rPr b="0" lang="en-US" sz="1200" spc="-1" strike="noStrike">
                <a:solidFill>
                  <a:srgbClr val="898989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202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Verdana"/>
              </a:rPr>
              <a:t>[MA 1124]</a:t>
            </a:r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Verdana"/>
              </a:rPr>
              <a:t>KALKULUS II</a:t>
            </a:r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20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FB33F-5B92-42F8-9B94-30BE31B7170E}" type="slidenum">
              <a:rPr b="0" lang="en-US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204" name="Text Box 4"/>
          <p:cNvSpPr/>
          <p:nvPr/>
        </p:nvSpPr>
        <p:spPr>
          <a:xfrm>
            <a:off x="866880" y="1441440"/>
            <a:ext cx="75675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1. Tentukan persamaan bidang singgung dari garis normal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205" name="Text Box 5"/>
          <p:cNvSpPr/>
          <p:nvPr/>
        </p:nvSpPr>
        <p:spPr>
          <a:xfrm>
            <a:off x="1467000" y="1797120"/>
            <a:ext cx="542412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permukaan x</a:t>
            </a:r>
            <a:r>
              <a:rPr b="0" lang="en-US" sz="2100" spc="-1" strike="noStrike" baseline="30000">
                <a:solidFill>
                  <a:srgbClr val="336699"/>
                </a:solidFill>
                <a:latin typeface="Verdana"/>
              </a:rPr>
              <a:t>2 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+ y</a:t>
            </a:r>
            <a:r>
              <a:rPr b="0" lang="en-US" sz="2100" spc="-1" strike="noStrike" baseline="30000">
                <a:solidFill>
                  <a:srgbClr val="336699"/>
                </a:solidFill>
                <a:latin typeface="Verdana"/>
              </a:rPr>
              <a:t>2 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+ 2z</a:t>
            </a:r>
            <a:r>
              <a:rPr b="0" lang="en-US" sz="2100" spc="-1" strike="noStrike" baseline="30000">
                <a:solidFill>
                  <a:srgbClr val="336699"/>
                </a:solidFill>
                <a:latin typeface="Verdana"/>
              </a:rPr>
              <a:t>2 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= 23 di titik (1, 2, 3)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206" name="Text Box 6"/>
          <p:cNvSpPr/>
          <p:nvPr/>
        </p:nvSpPr>
        <p:spPr>
          <a:xfrm>
            <a:off x="1422720" y="2330280"/>
            <a:ext cx="47350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Jawab: Misalkan F(x,y,z) = x</a:t>
            </a:r>
            <a:r>
              <a:rPr b="0" lang="en-US" sz="2100" spc="-1" strike="noStrike" baseline="30000">
                <a:solidFill>
                  <a:srgbClr val="336699"/>
                </a:solidFill>
                <a:latin typeface="Verdana"/>
              </a:rPr>
              <a:t>2 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+ y</a:t>
            </a:r>
            <a:r>
              <a:rPr b="0" lang="en-US" sz="2100" spc="-1" strike="noStrike" baseline="30000">
                <a:solidFill>
                  <a:srgbClr val="336699"/>
                </a:solidFill>
                <a:latin typeface="Verdana"/>
              </a:rPr>
              <a:t>2 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+ 2z</a:t>
            </a:r>
            <a:r>
              <a:rPr b="0" lang="en-US" sz="2100" spc="-1" strike="noStrike" baseline="30000">
                <a:solidFill>
                  <a:srgbClr val="336699"/>
                </a:solidFill>
                <a:latin typeface="Verdana"/>
              </a:rPr>
              <a:t>2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7" name="Object 8"/>
              <p:cNvSpPr txBox="1"/>
              <p:nvPr/>
            </p:nvSpPr>
            <p:spPr>
              <a:xfrm>
                <a:off x="1290600" y="2857680"/>
                <a:ext cx="3890880" cy="45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∇</m:t>
                        </m:r>
                      </m:e>
                    </m:acc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,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 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i</m:t>
                        </m:r>
                      </m:e>
                    </m:acc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y</m:t>
                    </m:r>
                    <m:r>
                      <m:t xml:space="preserve"> 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j</m:t>
                        </m:r>
                      </m:e>
                    </m:acc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z</m:t>
                    </m:r>
                    <m:r>
                      <m:t xml:space="preserve"> 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k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1208" name="Text Box 11"/>
          <p:cNvSpPr/>
          <p:nvPr/>
        </p:nvSpPr>
        <p:spPr>
          <a:xfrm>
            <a:off x="1300320" y="3917880"/>
            <a:ext cx="65145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Jadi persamaan bidang singgung di (1, 2, 3) adalah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9" name="Object 12"/>
              <p:cNvSpPr txBox="1"/>
              <p:nvPr/>
            </p:nvSpPr>
            <p:spPr>
              <a:xfrm>
                <a:off x="1295280" y="3384720"/>
                <a:ext cx="3407040" cy="45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∇</m:t>
                        </m:r>
                      </m:e>
                    </m:acc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2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 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i</m:t>
                        </m:r>
                      </m:e>
                    </m:acc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 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j</m:t>
                        </m:r>
                      </m:e>
                    </m:acc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 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k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1210" name="Text Box 13"/>
          <p:cNvSpPr/>
          <p:nvPr/>
        </p:nvSpPr>
        <p:spPr>
          <a:xfrm>
            <a:off x="1895760" y="4435560"/>
            <a:ext cx="414612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2(x – 1) + 4(y + 2) + 12 (z – 2) = 0 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211" name="Text Box 14"/>
          <p:cNvSpPr/>
          <p:nvPr/>
        </p:nvSpPr>
        <p:spPr>
          <a:xfrm>
            <a:off x="1599120" y="4997520"/>
            <a:ext cx="251532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2x + 4y + 12 z = 46 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</p:spTree>
  </p:cSld>
  <p:timing>
    <p:tnLst>
      <p:par>
        <p:cTn id="3475" dur="indefinite" restart="never" nodeType="tmRoot">
          <p:childTnLst>
            <p:seq>
              <p:cTn id="3476" dur="indefinite" nodeType="mainSeq">
                <p:childTnLst>
                  <p:par>
                    <p:cTn id="3477" nodeType="clickEffect" fill="hold">
                      <p:stCondLst>
                        <p:cond delay="0"/>
                      </p:stCondLst>
                      <p:childTnLst>
                        <p:par>
                          <p:cTn id="3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81" dur="80"/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82" dur="80"/>
                                        <p:tgtEl>
                                          <p:spTgt spid="12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83" dur="80"/>
                                        <p:tgtEl>
                                          <p:spTgt spid="12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8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86" dur="80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87" dur="80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88" dur="80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9" nodeType="clickEffect" fill="hold">
                      <p:stCondLst>
                        <p:cond delay="indefinite"/>
                      </p:stCondLst>
                      <p:childTnLst>
                        <p:par>
                          <p:cTn id="3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93" dur="80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94" dur="80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95" dur="80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6" nodeType="clickEffect" fill="hold">
                      <p:stCondLst>
                        <p:cond delay="indefinite"/>
                      </p:stCondLst>
                      <p:childTnLst>
                        <p:par>
                          <p:cTn id="3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0" dur="5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1" dur="5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2" dur="5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3" dur="5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4" nodeType="clickEffect" fill="hold">
                      <p:stCondLst>
                        <p:cond delay="indefinite"/>
                      </p:stCondLst>
                      <p:childTnLst>
                        <p:par>
                          <p:cTn id="3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8" dur="5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9" dur="5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0" dur="5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1" dur="5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2" nodeType="clickEffect" fill="hold">
                      <p:stCondLst>
                        <p:cond delay="indefinite"/>
                      </p:stCondLst>
                      <p:childTnLst>
                        <p:par>
                          <p:cTn id="3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6" dur="80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17" dur="80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18" dur="80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9" nodeType="clickEffect" fill="hold">
                      <p:stCondLst>
                        <p:cond delay="indefinite"/>
                      </p:stCondLst>
                      <p:childTnLst>
                        <p:par>
                          <p:cTn id="3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23" dur="5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4" nodeType="clickEffect" fill="hold">
                      <p:stCondLst>
                        <p:cond delay="indefinite"/>
                      </p:stCondLst>
                      <p:childTnLst>
                        <p:par>
                          <p:cTn id="3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28" dur="5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toh (Lanjutan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3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60EE2-926E-4786-89FD-586BC07A1633}" type="datetime">
              <a:rPr b="0" lang="en-US" sz="1200" spc="-1" strike="noStrike">
                <a:solidFill>
                  <a:srgbClr val="898989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214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Verdana"/>
              </a:rPr>
              <a:t>[MA 1124]</a:t>
            </a:r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Verdana"/>
              </a:rPr>
              <a:t>KALKULUS II</a:t>
            </a:r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21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BAB9A-5F84-42D9-AD75-274836C9A47C}" type="slidenum">
              <a:rPr b="0" lang="en-US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216" name="Text Box 11"/>
          <p:cNvSpPr/>
          <p:nvPr/>
        </p:nvSpPr>
        <p:spPr>
          <a:xfrm>
            <a:off x="1131480" y="1447920"/>
            <a:ext cx="61030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Jadi persamaan parameter garis normal adalah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7" name="Object 12"/>
              <p:cNvSpPr txBox="1"/>
              <p:nvPr/>
            </p:nvSpPr>
            <p:spPr>
              <a:xfrm>
                <a:off x="3103560" y="3013200"/>
                <a:ext cx="270360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y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z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18" name="Text Box 13"/>
          <p:cNvSpPr/>
          <p:nvPr/>
        </p:nvSpPr>
        <p:spPr>
          <a:xfrm>
            <a:off x="2475360" y="2000160"/>
            <a:ext cx="401832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x = 1+2</a:t>
            </a: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t, 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y = 2 + 4</a:t>
            </a: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t ,  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z = 3 + 12 </a:t>
            </a: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t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219" name="Text Box 14"/>
          <p:cNvSpPr/>
          <p:nvPr/>
        </p:nvSpPr>
        <p:spPr>
          <a:xfrm>
            <a:off x="1149120" y="2479680"/>
            <a:ext cx="626292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Atau bisa ditulis persamaan simetri garis normal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</p:spTree>
  </p:cSld>
  <p:timing>
    <p:tnLst>
      <p:par>
        <p:cTn id="3529" dur="indefinite" restart="never" nodeType="tmRoot">
          <p:childTnLst>
            <p:seq>
              <p:cTn id="3530" dur="indefinite" nodeType="mainSeq">
                <p:childTnLst>
                  <p:par>
                    <p:cTn id="3531" nodeType="clickEffect" fill="hold">
                      <p:stCondLst>
                        <p:cond delay="indefinite"/>
                      </p:stCondLst>
                      <p:childTnLst>
                        <p:par>
                          <p:cTn id="3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35" dur="80"/>
                                        <p:tgtEl>
                                          <p:spTgt spid="12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36" dur="80"/>
                                        <p:tgtEl>
                                          <p:spTgt spid="12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7" dur="80"/>
                                        <p:tgtEl>
                                          <p:spTgt spid="12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8" nodeType="clickEffect" fill="hold">
                      <p:stCondLst>
                        <p:cond delay="indefinite"/>
                      </p:stCondLst>
                      <p:childTnLst>
                        <p:par>
                          <p:cTn id="3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2" dur="3000" fill="hold"/>
                                        <p:tgtEl>
                                          <p:spTgt spid="1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3" dur="3000" fill="hold"/>
                                        <p:tgtEl>
                                          <p:spTgt spid="1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4" dur="3000" fill="hold"/>
                                        <p:tgtEl>
                                          <p:spTgt spid="12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5" dur="3000"/>
                                        <p:tgtEl>
                                          <p:spTgt spid="1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6" nodeType="clickEffect" fill="hold">
                      <p:stCondLst>
                        <p:cond delay="indefinite"/>
                      </p:stCondLst>
                      <p:childTnLst>
                        <p:par>
                          <p:cTn id="3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50" dur="80"/>
                                        <p:tgtEl>
                                          <p:spTgt spid="12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51" dur="80"/>
                                        <p:tgtEl>
                                          <p:spTgt spid="12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52" dur="80"/>
                                        <p:tgtEl>
                                          <p:spTgt spid="12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3" nodeType="clickEffect" fill="hold">
                      <p:stCondLst>
                        <p:cond delay="indefinite"/>
                      </p:stCondLst>
                      <p:childTnLst>
                        <p:par>
                          <p:cTn id="3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7" dur="500" fill="hold"/>
                                        <p:tgtEl>
                                          <p:spTgt spid="1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8" dur="500" fill="hold"/>
                                        <p:tgtEl>
                                          <p:spTgt spid="1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9" dur="500" fill="hold"/>
                                        <p:tgtEl>
                                          <p:spTgt spid="1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0" dur="500" fill="hold"/>
                                        <p:tgtEl>
                                          <p:spTgt spid="1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mukaan di Rua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09480" y="1591920"/>
            <a:ext cx="8305920" cy="61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Calibri"/>
              </a:rPr>
              <a:t>2.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lipsoida,  mempunyai bentuk umum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CCA37-2448-4824-B38C-09084BE69313}" type="datetime">
              <a:rPr b="0" lang="en-US" sz="1200" spc="-1" strike="noStrike">
                <a:solidFill>
                  <a:srgbClr val="898989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32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Verdana"/>
              </a:rPr>
              <a:t>[MA 1124]</a:t>
            </a:r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Verdana"/>
              </a:rPr>
              <a:t>KALKULUS II</a:t>
            </a:r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32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84210-6522-456C-BA48-42B8B750FB9F}" type="slidenum">
              <a:rPr b="0" lang="en-US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325" name="Rectangle 4"/>
          <p:cNvSpPr/>
          <p:nvPr/>
        </p:nvSpPr>
        <p:spPr>
          <a:xfrm>
            <a:off x="0" y="3083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6" name="Object 5"/>
              <p:cNvSpPr txBox="1"/>
              <p:nvPr/>
            </p:nvSpPr>
            <p:spPr>
              <a:xfrm>
                <a:off x="2514600" y="2235240"/>
                <a:ext cx="2263680" cy="81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 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 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 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 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 </m:t>
                        </m:r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7" name="Rectangle 6"/>
          <p:cNvSpPr/>
          <p:nvPr/>
        </p:nvSpPr>
        <p:spPr>
          <a:xfrm>
            <a:off x="4890240" y="2369520"/>
            <a:ext cx="15858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Arial"/>
                <a:ea typeface="Times New Roman"/>
              </a:rPr>
              <a:t>, a, b, c &gt; 0</a:t>
            </a:r>
            <a:r>
              <a:rPr b="0" lang="en-US" sz="2100" spc="-1" strike="noStrike">
                <a:solidFill>
                  <a:srgbClr val="336699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8" name="Object 7"/>
              <p:cNvSpPr txBox="1"/>
              <p:nvPr/>
            </p:nvSpPr>
            <p:spPr>
              <a:xfrm>
                <a:off x="4740120" y="2973240"/>
                <a:ext cx="1498680" cy="78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f>
                      <m:num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9" name="Rectangle 8"/>
          <p:cNvSpPr/>
          <p:nvPr/>
        </p:nvSpPr>
        <p:spPr>
          <a:xfrm>
            <a:off x="1024200" y="3123720"/>
            <a:ext cx="38901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Arial"/>
                <a:ea typeface="Times New Roman"/>
              </a:rPr>
              <a:t>Jejak di bidang XOY,  z = 0 </a:t>
            </a:r>
            <a:r>
              <a:rPr b="0" lang="en-US" sz="2100" spc="-1" strike="noStrike">
                <a:solidFill>
                  <a:srgbClr val="336699"/>
                </a:solidFill>
                <a:latin typeface="Wingdings"/>
                <a:ea typeface="Wingdings"/>
              </a:rPr>
              <a:t>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  <a:ea typeface="Times New Roman"/>
              </a:rPr>
              <a:t>  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330" name="Rectangle 9"/>
          <p:cNvSpPr/>
          <p:nvPr/>
        </p:nvSpPr>
        <p:spPr>
          <a:xfrm>
            <a:off x="6198480" y="3162240"/>
            <a:ext cx="20826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 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, berupa  Ellips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1" name="Object 10"/>
              <p:cNvSpPr txBox="1"/>
              <p:nvPr/>
            </p:nvSpPr>
            <p:spPr>
              <a:xfrm>
                <a:off x="4748040" y="3733920"/>
                <a:ext cx="1476720" cy="78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f>
                      <m:num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2" name="Rectangle 11"/>
          <p:cNvSpPr/>
          <p:nvPr/>
        </p:nvSpPr>
        <p:spPr>
          <a:xfrm>
            <a:off x="1021680" y="3884040"/>
            <a:ext cx="38746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Arial"/>
                <a:ea typeface="Times New Roman"/>
              </a:rPr>
              <a:t>Jejak di bidang XOZ,  y = 0 </a:t>
            </a:r>
            <a:r>
              <a:rPr b="0" lang="en-US" sz="2100" spc="-1" strike="noStrike">
                <a:solidFill>
                  <a:srgbClr val="336699"/>
                </a:solidFill>
                <a:latin typeface="Wingdings"/>
                <a:ea typeface="Wingdings"/>
              </a:rPr>
              <a:t>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  <a:ea typeface="Times New Roman"/>
              </a:rPr>
              <a:t>  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333" name="Rectangle 12"/>
          <p:cNvSpPr/>
          <p:nvPr/>
        </p:nvSpPr>
        <p:spPr>
          <a:xfrm>
            <a:off x="6195240" y="3922560"/>
            <a:ext cx="20826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 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, berupa  Ellips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4" name="Object 13"/>
              <p:cNvSpPr txBox="1"/>
              <p:nvPr/>
            </p:nvSpPr>
            <p:spPr>
              <a:xfrm>
                <a:off x="4824360" y="4629240"/>
                <a:ext cx="1474920" cy="78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f>
                      <m:num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5" name="Rectangle 14"/>
          <p:cNvSpPr/>
          <p:nvPr/>
        </p:nvSpPr>
        <p:spPr>
          <a:xfrm>
            <a:off x="996120" y="4876200"/>
            <a:ext cx="38746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Arial"/>
                <a:ea typeface="Times New Roman"/>
              </a:rPr>
              <a:t>Jejak di bidang YOZ,  x = 0 </a:t>
            </a:r>
            <a:r>
              <a:rPr b="0" lang="en-US" sz="2100" spc="-1" strike="noStrike">
                <a:solidFill>
                  <a:srgbClr val="336699"/>
                </a:solidFill>
                <a:latin typeface="Wingdings"/>
                <a:ea typeface="Wingdings"/>
              </a:rPr>
              <a:t>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  <a:ea typeface="Times New Roman"/>
              </a:rPr>
              <a:t>  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336" name="Rectangle 15"/>
          <p:cNvSpPr/>
          <p:nvPr/>
        </p:nvSpPr>
        <p:spPr>
          <a:xfrm>
            <a:off x="6347520" y="4818240"/>
            <a:ext cx="20826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 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, berupa  Ellips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6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3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8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0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5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to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1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A6EDC-CDF2-4E06-8730-4D9F26BD34F9}" type="datetime">
              <a:rPr b="0" lang="en-US" sz="1200" spc="-1" strike="noStrike">
                <a:solidFill>
                  <a:srgbClr val="898989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222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Verdana"/>
              </a:rPr>
              <a:t>[MA 1124]</a:t>
            </a:r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Verdana"/>
              </a:rPr>
              <a:t>KALKULUS II</a:t>
            </a:r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22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38893-1D15-4BC3-8A87-6CA6DB4A8979}" type="slidenum">
              <a:rPr b="0" lang="en-US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224" name="Text Box 4"/>
          <p:cNvSpPr/>
          <p:nvPr/>
        </p:nvSpPr>
        <p:spPr>
          <a:xfrm>
            <a:off x="866880" y="1441440"/>
            <a:ext cx="75675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2. Tentukan persamaan bidang singgung dari garis normal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225" name="Text Box 5"/>
          <p:cNvSpPr/>
          <p:nvPr/>
        </p:nvSpPr>
        <p:spPr>
          <a:xfrm>
            <a:off x="1587600" y="1797120"/>
            <a:ext cx="65606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permukaan z = f(x,y)=x</a:t>
            </a:r>
            <a:r>
              <a:rPr b="0" lang="en-US" sz="2100" spc="-1" strike="noStrike" baseline="30000">
                <a:solidFill>
                  <a:srgbClr val="336699"/>
                </a:solidFill>
                <a:latin typeface="Verdana"/>
              </a:rPr>
              <a:t>2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+2xy-3xy</a:t>
            </a:r>
            <a:r>
              <a:rPr b="0" lang="en-US" sz="2100" spc="-1" strike="noStrike" baseline="30000">
                <a:solidFill>
                  <a:srgbClr val="336699"/>
                </a:solidFill>
                <a:latin typeface="Verdana"/>
              </a:rPr>
              <a:t>2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 +2 di titik (1, 2, -5)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226" name="Text Box 6"/>
          <p:cNvSpPr/>
          <p:nvPr/>
        </p:nvSpPr>
        <p:spPr>
          <a:xfrm>
            <a:off x="1040400" y="2203560"/>
            <a:ext cx="9990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Jawab: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7" name="Object 7"/>
              <p:cNvSpPr txBox="1"/>
              <p:nvPr/>
            </p:nvSpPr>
            <p:spPr>
              <a:xfrm>
                <a:off x="1341360" y="2752560"/>
                <a:ext cx="29448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y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228" name="Text Box 8"/>
          <p:cNvSpPr/>
          <p:nvPr/>
        </p:nvSpPr>
        <p:spPr>
          <a:xfrm>
            <a:off x="1352880" y="3774960"/>
            <a:ext cx="65998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Jadi persamaan bidang singgung di (1, 2, -5) adalah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9" name="Object 9"/>
              <p:cNvSpPr txBox="1"/>
              <p:nvPr/>
            </p:nvSpPr>
            <p:spPr>
              <a:xfrm>
                <a:off x="1295280" y="3300480"/>
                <a:ext cx="2440080" cy="42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xy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30" name="Text Box 10"/>
          <p:cNvSpPr/>
          <p:nvPr/>
        </p:nvSpPr>
        <p:spPr>
          <a:xfrm>
            <a:off x="1801800" y="4260960"/>
            <a:ext cx="35244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(z + 5) = –6(x – 1) –10(y – 2) 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231" name="Text Box 11"/>
          <p:cNvSpPr/>
          <p:nvPr/>
        </p:nvSpPr>
        <p:spPr>
          <a:xfrm>
            <a:off x="1622880" y="4844880"/>
            <a:ext cx="22928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6x + 10y + z = 21 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2" name="Object 16"/>
              <p:cNvSpPr txBox="1"/>
              <p:nvPr/>
            </p:nvSpPr>
            <p:spPr>
              <a:xfrm>
                <a:off x="5257800" y="2746440"/>
                <a:ext cx="2987640" cy="38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1,2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3" name="Object 17"/>
              <p:cNvSpPr txBox="1"/>
              <p:nvPr/>
            </p:nvSpPr>
            <p:spPr>
              <a:xfrm>
                <a:off x="5214960" y="3282840"/>
                <a:ext cx="274788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1,2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34" name="Text Box 18"/>
          <p:cNvSpPr/>
          <p:nvPr/>
        </p:nvSpPr>
        <p:spPr>
          <a:xfrm>
            <a:off x="4527000" y="2668680"/>
            <a:ext cx="59976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99"/>
                </a:solidFill>
                <a:latin typeface="Wingdings"/>
                <a:ea typeface="Wingdings"/>
              </a:rPr>
              <a:t></a:t>
            </a:r>
            <a:endParaRPr b="0" lang="en-US" sz="33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235" name="Text Box 19"/>
          <p:cNvSpPr/>
          <p:nvPr/>
        </p:nvSpPr>
        <p:spPr>
          <a:xfrm>
            <a:off x="4506480" y="3208320"/>
            <a:ext cx="59976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99"/>
                </a:solidFill>
                <a:latin typeface="Wingdings"/>
                <a:ea typeface="Wingdings"/>
              </a:rPr>
              <a:t></a:t>
            </a:r>
            <a:endParaRPr b="0" lang="en-US" sz="3300" spc="-1" strike="noStrike">
              <a:solidFill>
                <a:srgbClr val="336699"/>
              </a:solidFill>
              <a:latin typeface="Verdana"/>
            </a:endParaRPr>
          </a:p>
        </p:txBody>
      </p:sp>
    </p:spTree>
  </p:cSld>
  <p:timing>
    <p:tnLst>
      <p:par>
        <p:cTn id="3561" dur="indefinite" restart="never" nodeType="tmRoot">
          <p:childTnLst>
            <p:seq>
              <p:cTn id="3562" dur="indefinite" nodeType="mainSeq">
                <p:childTnLst>
                  <p:par>
                    <p:cTn id="3563" nodeType="clickEffect" fill="hold">
                      <p:stCondLst>
                        <p:cond delay="0"/>
                      </p:stCondLst>
                      <p:childTnLst>
                        <p:par>
                          <p:cTn id="3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67" dur="80"/>
                                        <p:tgtEl>
                                          <p:spTgt spid="12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68" dur="80"/>
                                        <p:tgtEl>
                                          <p:spTgt spid="12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69" dur="80"/>
                                        <p:tgtEl>
                                          <p:spTgt spid="12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2" dur="80"/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73" dur="80"/>
                                        <p:tgtEl>
                                          <p:spTgt spid="12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74" dur="80"/>
                                        <p:tgtEl>
                                          <p:spTgt spid="12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5" nodeType="clickEffect" fill="hold">
                      <p:stCondLst>
                        <p:cond delay="indefinite"/>
                      </p:stCondLst>
                      <p:childTnLst>
                        <p:par>
                          <p:cTn id="3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9" dur="80"/>
                                        <p:tgtEl>
                                          <p:spTgt spid="12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0" dur="80"/>
                                        <p:tgtEl>
                                          <p:spTgt spid="12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81" dur="80"/>
                                        <p:tgtEl>
                                          <p:spTgt spid="12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2" nodeType="clickEffect" fill="hold">
                      <p:stCondLst>
                        <p:cond delay="indefinite"/>
                      </p:stCondLst>
                      <p:childTnLst>
                        <p:par>
                          <p:cTn id="3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6" dur="500" fill="hold"/>
                                        <p:tgtEl>
                                          <p:spTgt spid="1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7" dur="500" fill="hold"/>
                                        <p:tgtEl>
                                          <p:spTgt spid="1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8" dur="500" fill="hold"/>
                                        <p:tgtEl>
                                          <p:spTgt spid="1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9" dur="500" fill="hold"/>
                                        <p:tgtEl>
                                          <p:spTgt spid="1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0" nodeType="clickEffect" fill="hold">
                      <p:stCondLst>
                        <p:cond delay="indefinite"/>
                      </p:stCondLst>
                      <p:childTnLst>
                        <p:par>
                          <p:cTn id="3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4" dur="500" fill="hold"/>
                                        <p:tgtEl>
                                          <p:spTgt spid="1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5" dur="500" fill="hold"/>
                                        <p:tgtEl>
                                          <p:spTgt spid="1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6" dur="500" fill="hold"/>
                                        <p:tgtEl>
                                          <p:spTgt spid="1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7" dur="500" fill="hold"/>
                                        <p:tgtEl>
                                          <p:spTgt spid="1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8" nodeType="clickEffect" fill="hold">
                      <p:stCondLst>
                        <p:cond delay="indefinite"/>
                      </p:stCondLst>
                      <p:childTnLst>
                        <p:par>
                          <p:cTn id="3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2" dur="500" fill="hold"/>
                                        <p:tgtEl>
                                          <p:spTgt spid="1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3" dur="500" fill="hold"/>
                                        <p:tgtEl>
                                          <p:spTgt spid="1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4" dur="500" fill="hold"/>
                                        <p:tgtEl>
                                          <p:spTgt spid="12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5" dur="500"/>
                                        <p:tgtEl>
                                          <p:spTgt spid="1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6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8" dur="500" fill="hold"/>
                                        <p:tgtEl>
                                          <p:spTgt spid="1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9" dur="500" fill="hold"/>
                                        <p:tgtEl>
                                          <p:spTgt spid="1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0" dur="500" fill="hold"/>
                                        <p:tgtEl>
                                          <p:spTgt spid="1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1" dur="500" fill="hold"/>
                                        <p:tgtEl>
                                          <p:spTgt spid="1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2" nodeType="clickEffect" fill="hold">
                      <p:stCondLst>
                        <p:cond delay="indefinite"/>
                      </p:stCondLst>
                      <p:childTnLst>
                        <p:par>
                          <p:cTn id="3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6" dur="500" fill="hold"/>
                                        <p:tgtEl>
                                          <p:spTgt spid="1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7" dur="500" fill="hold"/>
                                        <p:tgtEl>
                                          <p:spTgt spid="1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8" dur="500" fill="hold"/>
                                        <p:tgtEl>
                                          <p:spTgt spid="12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9" dur="500"/>
                                        <p:tgtEl>
                                          <p:spTgt spid="1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0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2" dur="500" fill="hold"/>
                                        <p:tgtEl>
                                          <p:spTgt spid="1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3" dur="500" fill="hold"/>
                                        <p:tgtEl>
                                          <p:spTgt spid="1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4" dur="500" fill="hold"/>
                                        <p:tgtEl>
                                          <p:spTgt spid="1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5" dur="500" fill="hold"/>
                                        <p:tgtEl>
                                          <p:spTgt spid="1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6" nodeType="clickEffect" fill="hold">
                      <p:stCondLst>
                        <p:cond delay="indefinite"/>
                      </p:stCondLst>
                      <p:childTnLst>
                        <p:par>
                          <p:cTn id="3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0" dur="80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31" dur="80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32" dur="80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3" nodeType="clickEffect" fill="hold">
                      <p:stCondLst>
                        <p:cond delay="indefinite"/>
                      </p:stCondLst>
                      <p:childTnLst>
                        <p:par>
                          <p:cTn id="3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7" dur="5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8" nodeType="clickEffect" fill="hold">
                      <p:stCondLst>
                        <p:cond delay="indefinite"/>
                      </p:stCondLst>
                      <p:childTnLst>
                        <p:par>
                          <p:cTn id="36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42" dur="5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to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7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8F5EA-A71A-4137-9B7D-861B023CB78E}" type="datetime">
              <a:rPr b="0" lang="en-US" sz="1200" spc="-1" strike="noStrike">
                <a:solidFill>
                  <a:srgbClr val="898989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238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Verdana"/>
              </a:rPr>
              <a:t>[MA 1124]</a:t>
            </a:r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Verdana"/>
              </a:rPr>
              <a:t>KALKULUS II</a:t>
            </a:r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23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F5F82-570F-4316-ACBA-D10566CF5147}" type="slidenum">
              <a:rPr b="0" lang="en-US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240" name="Text Box 11"/>
          <p:cNvSpPr/>
          <p:nvPr/>
        </p:nvSpPr>
        <p:spPr>
          <a:xfrm>
            <a:off x="1220400" y="1447920"/>
            <a:ext cx="61030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Jadi persamaan parameter garis normal adalah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1" name="Object 12"/>
              <p:cNvSpPr txBox="1"/>
              <p:nvPr/>
            </p:nvSpPr>
            <p:spPr>
              <a:xfrm>
                <a:off x="3192480" y="2949480"/>
                <a:ext cx="270360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t xml:space="preserve">6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y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z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42" name="Text Box 13"/>
          <p:cNvSpPr/>
          <p:nvPr/>
        </p:nvSpPr>
        <p:spPr>
          <a:xfrm>
            <a:off x="2539440" y="1949400"/>
            <a:ext cx="372852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x = 1-6</a:t>
            </a: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t, 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y = 2 - 10</a:t>
            </a: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t ,  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z = –5 - </a:t>
            </a: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t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243" name="Text Box 14"/>
          <p:cNvSpPr/>
          <p:nvPr/>
        </p:nvSpPr>
        <p:spPr>
          <a:xfrm>
            <a:off x="1238040" y="2444760"/>
            <a:ext cx="626292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Atau bisa ditulis persamaan simetri garis normal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</p:spTree>
  </p:cSld>
  <p:timing>
    <p:tnLst>
      <p:par>
        <p:cTn id="3643" dur="indefinite" restart="never" nodeType="tmRoot">
          <p:childTnLst>
            <p:seq>
              <p:cTn id="3644" dur="indefinite" nodeType="mainSeq">
                <p:childTnLst>
                  <p:par>
                    <p:cTn id="3645" nodeType="clickEffect" fill="hold">
                      <p:stCondLst>
                        <p:cond delay="indefinite"/>
                      </p:stCondLst>
                      <p:childTnLst>
                        <p:par>
                          <p:cTn id="3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49" dur="80"/>
                                        <p:tgtEl>
                                          <p:spTgt spid="12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50" dur="80"/>
                                        <p:tgtEl>
                                          <p:spTgt spid="12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1" dur="80"/>
                                        <p:tgtEl>
                                          <p:spTgt spid="12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2" nodeType="clickEffect" fill="hold">
                      <p:stCondLst>
                        <p:cond delay="indefinite"/>
                      </p:stCondLst>
                      <p:childTnLst>
                        <p:par>
                          <p:cTn id="36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6" dur="3000" fill="hold"/>
                                        <p:tgtEl>
                                          <p:spTgt spid="1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7" dur="3000" fill="hold"/>
                                        <p:tgtEl>
                                          <p:spTgt spid="1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8" dur="3000" fill="hold"/>
                                        <p:tgtEl>
                                          <p:spTgt spid="1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59" dur="3000"/>
                                        <p:tgtEl>
                                          <p:spTgt spid="1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0" nodeType="clickEffect" fill="hold">
                      <p:stCondLst>
                        <p:cond delay="indefinite"/>
                      </p:stCondLst>
                      <p:childTnLst>
                        <p:par>
                          <p:cTn id="36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64" dur="80"/>
                                        <p:tgtEl>
                                          <p:spTgt spid="12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65" dur="80"/>
                                        <p:tgtEl>
                                          <p:spTgt spid="12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66" dur="80"/>
                                        <p:tgtEl>
                                          <p:spTgt spid="12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7" nodeType="clickEffect" fill="hold">
                      <p:stCondLst>
                        <p:cond delay="indefinite"/>
                      </p:stCondLst>
                      <p:childTnLst>
                        <p:par>
                          <p:cTn id="3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1" dur="500" fill="hold"/>
                                        <p:tgtEl>
                                          <p:spTgt spid="1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2" dur="500" fill="hold"/>
                                        <p:tgtEl>
                                          <p:spTgt spid="1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3" dur="500" fill="hold"/>
                                        <p:tgtEl>
                                          <p:spTgt spid="1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4" dur="500" fill="hold"/>
                                        <p:tgtEl>
                                          <p:spTgt spid="1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tiha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A1FEB-D865-422A-867C-1E8A5CD977F7}" type="datetime">
              <a:rPr b="0" lang="en-US" sz="1200" spc="-1" strike="noStrike">
                <a:solidFill>
                  <a:srgbClr val="898989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24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Verdana"/>
              </a:rPr>
              <a:t>[MA 1124]</a:t>
            </a:r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Verdana"/>
              </a:rPr>
              <a:t>KALKULUS II</a:t>
            </a:r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24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A7B1B-8DE1-4681-B0A9-6415E6BADC3A}" type="slidenum">
              <a:rPr b="0" lang="en-US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248" name="Text Box 4"/>
          <p:cNvSpPr/>
          <p:nvPr/>
        </p:nvSpPr>
        <p:spPr>
          <a:xfrm>
            <a:off x="708120" y="1295280"/>
            <a:ext cx="75675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1. Tentukan persamaan bidang singgung dari garis normal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249" name="Text Box 5"/>
          <p:cNvSpPr/>
          <p:nvPr/>
        </p:nvSpPr>
        <p:spPr>
          <a:xfrm>
            <a:off x="853200" y="1650960"/>
            <a:ext cx="16254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permukaan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250" name="Rectangle 8"/>
          <p:cNvSpPr/>
          <p:nvPr/>
        </p:nvSpPr>
        <p:spPr>
          <a:xfrm>
            <a:off x="1274400" y="2044800"/>
            <a:ext cx="42440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a. </a:t>
            </a: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x</a:t>
            </a:r>
            <a:r>
              <a:rPr b="0" lang="en-US" sz="2100" spc="-1" strike="noStrike" baseline="30000">
                <a:solidFill>
                  <a:srgbClr val="336699"/>
                </a:solidFill>
                <a:latin typeface="Verdana"/>
              </a:rPr>
              <a:t>2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 + </a:t>
            </a: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y</a:t>
            </a:r>
            <a:r>
              <a:rPr b="0" lang="en-US" sz="2100" spc="-1" strike="noStrike" baseline="30000">
                <a:solidFill>
                  <a:srgbClr val="336699"/>
                </a:solidFill>
                <a:latin typeface="Verdana"/>
              </a:rPr>
              <a:t>2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 – 3</a:t>
            </a: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z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  = 2 di titik (-1, -4, 6)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251" name="Rectangle 9"/>
          <p:cNvSpPr/>
          <p:nvPr/>
        </p:nvSpPr>
        <p:spPr>
          <a:xfrm>
            <a:off x="1145880" y="2324160"/>
            <a:ext cx="35913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b. </a:t>
            </a: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y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 = e</a:t>
            </a:r>
            <a:r>
              <a:rPr b="0" i="1" lang="en-US" sz="2100" spc="-1" strike="noStrike" baseline="30000">
                <a:solidFill>
                  <a:srgbClr val="336699"/>
                </a:solidFill>
                <a:latin typeface="Verdana"/>
              </a:rPr>
              <a:t>x</a:t>
            </a:r>
            <a:r>
              <a:rPr b="0" lang="en-US" sz="2100" spc="-1" strike="noStrike" baseline="30000">
                <a:solidFill>
                  <a:srgbClr val="336699"/>
                </a:solidFill>
                <a:latin typeface="Verdana"/>
              </a:rPr>
              <a:t> 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cos </a:t>
            </a: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z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 di titik (1, e, 0)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252" name="Rectangle 10"/>
          <p:cNvSpPr/>
          <p:nvPr/>
        </p:nvSpPr>
        <p:spPr>
          <a:xfrm>
            <a:off x="1355760" y="2638440"/>
            <a:ext cx="444492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c. </a:t>
            </a: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x</a:t>
            </a:r>
            <a:r>
              <a:rPr b="0" lang="en-US" sz="2100" spc="-1" strike="noStrike" baseline="30000">
                <a:solidFill>
                  <a:srgbClr val="336699"/>
                </a:solidFill>
                <a:latin typeface="Verdana"/>
              </a:rPr>
              <a:t>1/2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 + </a:t>
            </a: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y</a:t>
            </a:r>
            <a:r>
              <a:rPr b="0" lang="en-US" sz="2100" spc="-1" strike="noStrike" baseline="30000">
                <a:solidFill>
                  <a:srgbClr val="336699"/>
                </a:solidFill>
                <a:latin typeface="Verdana"/>
              </a:rPr>
              <a:t>1/2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 + </a:t>
            </a: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z</a:t>
            </a:r>
            <a:r>
              <a:rPr b="0" lang="en-US" sz="2100" spc="-1" strike="noStrike" baseline="30000">
                <a:solidFill>
                  <a:srgbClr val="336699"/>
                </a:solidFill>
                <a:latin typeface="Verdana"/>
              </a:rPr>
              <a:t>1/2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  = 4 di titik (4, 1, 1)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253" name="Rectangle 11"/>
          <p:cNvSpPr/>
          <p:nvPr/>
        </p:nvSpPr>
        <p:spPr>
          <a:xfrm>
            <a:off x="1197720" y="2943360"/>
            <a:ext cx="424512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d. </a:t>
            </a: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z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= 2e</a:t>
            </a:r>
            <a:r>
              <a:rPr b="0" i="1" lang="en-US" sz="2100" spc="-1" strike="noStrike" baseline="30000">
                <a:solidFill>
                  <a:srgbClr val="336699"/>
                </a:solidFill>
                <a:latin typeface="Verdana"/>
              </a:rPr>
              <a:t>3y</a:t>
            </a:r>
            <a:r>
              <a:rPr b="0" lang="en-US" sz="2100" spc="-1" strike="noStrike" baseline="30000">
                <a:solidFill>
                  <a:srgbClr val="336699"/>
                </a:solidFill>
                <a:latin typeface="Verdana"/>
              </a:rPr>
              <a:t> 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cos 2</a:t>
            </a: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x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 di titik (</a:t>
            </a:r>
            <a:r>
              <a:rPr b="0" lang="en-US" sz="2100" spc="-1" strike="noStrike">
                <a:solidFill>
                  <a:srgbClr val="336699"/>
                </a:solidFill>
                <a:latin typeface="Symbol"/>
                <a:ea typeface="Symbol"/>
              </a:rPr>
              <a:t>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/3, 0, -1)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254" name="Text Box 12"/>
          <p:cNvSpPr/>
          <p:nvPr/>
        </p:nvSpPr>
        <p:spPr>
          <a:xfrm>
            <a:off x="963360" y="3352680"/>
            <a:ext cx="76856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2. Tentukan semua titik pada permukaan </a:t>
            </a: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z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=</a:t>
            </a: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x</a:t>
            </a:r>
            <a:r>
              <a:rPr b="0" lang="en-US" sz="2100" spc="-1" strike="noStrike" baseline="30000">
                <a:solidFill>
                  <a:srgbClr val="336699"/>
                </a:solidFill>
                <a:latin typeface="Verdana"/>
              </a:rPr>
              <a:t>2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–2</a:t>
            </a: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xy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–</a:t>
            </a: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y</a:t>
            </a:r>
            <a:r>
              <a:rPr b="0" lang="en-US" sz="2100" spc="-1" strike="noStrike" baseline="30000">
                <a:solidFill>
                  <a:srgbClr val="336699"/>
                </a:solidFill>
                <a:latin typeface="Verdana"/>
              </a:rPr>
              <a:t>2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–8</a:t>
            </a: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x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+4</a:t>
            </a: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y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    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dimana bidang singgungnya mendatar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255" name="Text Box 13"/>
          <p:cNvSpPr/>
          <p:nvPr/>
        </p:nvSpPr>
        <p:spPr>
          <a:xfrm>
            <a:off x="1129320" y="4191120"/>
            <a:ext cx="714420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3. Perlihatkan bahwa permukaan </a:t>
            </a: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x</a:t>
            </a:r>
            <a:r>
              <a:rPr b="0" lang="en-US" sz="2100" spc="-1" strike="noStrike" baseline="30000">
                <a:solidFill>
                  <a:srgbClr val="336699"/>
                </a:solidFill>
                <a:latin typeface="Verdana"/>
              </a:rPr>
              <a:t>2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+4</a:t>
            </a: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y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+</a:t>
            </a: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z</a:t>
            </a:r>
            <a:r>
              <a:rPr b="0" lang="en-US" sz="2100" spc="-1" strike="noStrike" baseline="30000">
                <a:solidFill>
                  <a:srgbClr val="336699"/>
                </a:solidFill>
                <a:latin typeface="Verdana"/>
              </a:rPr>
              <a:t>2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=0 dan 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    </a:t>
            </a: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x</a:t>
            </a:r>
            <a:r>
              <a:rPr b="0" lang="en-US" sz="2100" spc="-1" strike="noStrike" baseline="30000">
                <a:solidFill>
                  <a:srgbClr val="336699"/>
                </a:solidFill>
                <a:latin typeface="Verdana"/>
              </a:rPr>
              <a:t>2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+</a:t>
            </a: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y</a:t>
            </a:r>
            <a:r>
              <a:rPr b="0" lang="en-US" sz="2100" spc="-1" strike="noStrike" baseline="30000">
                <a:solidFill>
                  <a:srgbClr val="336699"/>
                </a:solidFill>
                <a:latin typeface="Verdana"/>
              </a:rPr>
              <a:t>2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+</a:t>
            </a: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z</a:t>
            </a:r>
            <a:r>
              <a:rPr b="0" lang="en-US" sz="2100" spc="-1" strike="noStrike" baseline="30000">
                <a:solidFill>
                  <a:srgbClr val="336699"/>
                </a:solidFill>
                <a:latin typeface="Verdana"/>
              </a:rPr>
              <a:t>2 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– 6</a:t>
            </a: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z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+7 =0 saling menyinggung di titik (0, -1,2).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    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yaitu perlihatkan bidang singgungnya sama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256" name="Text Box 14"/>
          <p:cNvSpPr/>
          <p:nvPr/>
        </p:nvSpPr>
        <p:spPr>
          <a:xfrm>
            <a:off x="945720" y="5257800"/>
            <a:ext cx="732528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4. Tentukan sebuah titik pada permukaan </a:t>
            </a: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x</a:t>
            </a:r>
            <a:r>
              <a:rPr b="0" lang="en-US" sz="2100" spc="-1" strike="noStrike" baseline="30000">
                <a:solidFill>
                  <a:srgbClr val="336699"/>
                </a:solidFill>
                <a:latin typeface="Verdana"/>
              </a:rPr>
              <a:t>2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+2</a:t>
            </a: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y</a:t>
            </a:r>
            <a:r>
              <a:rPr b="0" lang="en-US" sz="2100" spc="-1" strike="noStrike" baseline="30000">
                <a:solidFill>
                  <a:srgbClr val="336699"/>
                </a:solidFill>
                <a:latin typeface="Verdana"/>
              </a:rPr>
              <a:t>2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+3</a:t>
            </a: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z</a:t>
            </a:r>
            <a:r>
              <a:rPr b="0" lang="en-US" sz="2100" spc="-1" strike="noStrike" baseline="30000">
                <a:solidFill>
                  <a:srgbClr val="336699"/>
                </a:solidFill>
                <a:latin typeface="Verdana"/>
              </a:rPr>
              <a:t>2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=12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    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di mana bidang singgungnya tegak lurus garis dengan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    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persamaan parameter: </a:t>
            </a: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x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=1+2</a:t>
            </a: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t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, </a:t>
            </a: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y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=3+8</a:t>
            </a: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t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, </a:t>
            </a: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z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=2 – 6</a:t>
            </a: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t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</p:spTree>
  </p:cSld>
  <p:timing>
    <p:tnLst>
      <p:par>
        <p:cTn id="3675" dur="indefinite" restart="never" nodeType="tmRoot">
          <p:childTnLst>
            <p:seq>
              <p:cTn id="3676" dur="indefinite" nodeType="mainSeq">
                <p:childTnLst>
                  <p:par>
                    <p:cTn id="3677" nodeType="clickEffect" fill="hold">
                      <p:stCondLst>
                        <p:cond delay="0"/>
                      </p:stCondLst>
                      <p:childTnLst>
                        <p:par>
                          <p:cTn id="36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1" dur="500" fill="hold"/>
                                        <p:tgtEl>
                                          <p:spTgt spid="1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2" dur="500" fill="hold"/>
                                        <p:tgtEl>
                                          <p:spTgt spid="1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3" dur="500" fill="hold"/>
                                        <p:tgtEl>
                                          <p:spTgt spid="1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4" dur="500" fill="hold"/>
                                        <p:tgtEl>
                                          <p:spTgt spid="1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8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7" dur="500" fill="hold"/>
                                        <p:tgtEl>
                                          <p:spTgt spid="1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8" dur="500" fill="hold"/>
                                        <p:tgtEl>
                                          <p:spTgt spid="1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9" dur="500" fill="hold"/>
                                        <p:tgtEl>
                                          <p:spTgt spid="1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0" dur="500" fill="hold"/>
                                        <p:tgtEl>
                                          <p:spTgt spid="1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9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3" dur="500" fill="hold"/>
                                        <p:tgtEl>
                                          <p:spTgt spid="1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4" dur="500" fill="hold"/>
                                        <p:tgtEl>
                                          <p:spTgt spid="1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5" dur="500" fill="hold"/>
                                        <p:tgtEl>
                                          <p:spTgt spid="1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6" dur="500" fill="hold"/>
                                        <p:tgtEl>
                                          <p:spTgt spid="1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9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9" dur="500" fill="hold"/>
                                        <p:tgtEl>
                                          <p:spTgt spid="1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0" dur="500" fill="hold"/>
                                        <p:tgtEl>
                                          <p:spTgt spid="1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1" dur="500" fill="hold"/>
                                        <p:tgtEl>
                                          <p:spTgt spid="1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2" dur="500" fill="hold"/>
                                        <p:tgtEl>
                                          <p:spTgt spid="1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0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5" dur="500" fill="hold"/>
                                        <p:tgtEl>
                                          <p:spTgt spid="1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6" dur="500" fill="hold"/>
                                        <p:tgtEl>
                                          <p:spTgt spid="1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7" dur="500" fill="hold"/>
                                        <p:tgtEl>
                                          <p:spTgt spid="1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8" dur="500" fill="hold"/>
                                        <p:tgtEl>
                                          <p:spTgt spid="1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0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1" dur="500" fill="hold"/>
                                        <p:tgtEl>
                                          <p:spTgt spid="1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2" dur="500" fill="hold"/>
                                        <p:tgtEl>
                                          <p:spTgt spid="1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3" dur="500" fill="hold"/>
                                        <p:tgtEl>
                                          <p:spTgt spid="1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4" dur="500" fill="hold"/>
                                        <p:tgtEl>
                                          <p:spTgt spid="1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5" nodeType="clickEffect" fill="hold">
                      <p:stCondLst>
                        <p:cond delay="indefinite"/>
                      </p:stCondLst>
                      <p:childTnLst>
                        <p:par>
                          <p:cTn id="37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19" dur="500"/>
                                        <p:tgtEl>
                                          <p:spTgt spid="1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0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2" dur="500" fill="hold"/>
                                        <p:tgtEl>
                                          <p:spTgt spid="1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3" dur="500" fill="hold"/>
                                        <p:tgtEl>
                                          <p:spTgt spid="1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4" dur="500" fill="hold"/>
                                        <p:tgtEl>
                                          <p:spTgt spid="1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5" dur="500" fill="hold"/>
                                        <p:tgtEl>
                                          <p:spTgt spid="1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26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8" dur="500" fill="hold"/>
                                        <p:tgtEl>
                                          <p:spTgt spid="1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9" dur="500" fill="hold"/>
                                        <p:tgtEl>
                                          <p:spTgt spid="1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0" dur="500" fill="hold"/>
                                        <p:tgtEl>
                                          <p:spTgt spid="1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1" dur="500" fill="hold"/>
                                        <p:tgtEl>
                                          <p:spTgt spid="1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ksimum dan Minimu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ngsi Dua Peuba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Definisi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isalkan 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mak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 adalah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nilai maksimum global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dari f pada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jika f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f(x,y)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(x,y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 adalah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nilai minimum global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dari f pada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jika f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f(x,y)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(x,y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 adalah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nilai ekstrim global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dari f pada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jika ia merupakan nilai maksimum global atau nilai minimum global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Definisi yang sama berlaku dengan kata </a:t>
            </a:r>
            <a:r>
              <a:rPr b="0" i="1" lang="en-US" sz="2700" spc="-1" strike="noStrike">
                <a:solidFill>
                  <a:srgbClr val="000000"/>
                </a:solidFill>
                <a:latin typeface="Calibri"/>
              </a:rPr>
              <a:t>global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diganti dengan </a:t>
            </a:r>
            <a:r>
              <a:rPr b="0" i="1" lang="en-US" sz="2700" spc="-1" strike="noStrike">
                <a:solidFill>
                  <a:srgbClr val="000000"/>
                </a:solidFill>
                <a:latin typeface="Calibri"/>
              </a:rPr>
              <a:t>lokal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, pada (i) dan (ii), kita hanya memerlukan bahwa pertidaksamaan berlaku pada </a:t>
            </a:r>
            <a:r>
              <a:rPr b="0" i="1" lang="en-US" sz="27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7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, dengan </a:t>
            </a:r>
            <a:r>
              <a:rPr b="0" i="1" lang="en-US" sz="27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suatu daerah di sekitar (x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, y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9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0D392-586A-413E-BD8C-F49CDB978894}" type="datetime">
              <a:rPr b="0" lang="en-US" sz="1200" spc="-1" strike="noStrike">
                <a:solidFill>
                  <a:srgbClr val="898989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260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Verdana"/>
              </a:rPr>
              <a:t>[MA 1124]</a:t>
            </a:r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Verdana"/>
              </a:rPr>
              <a:t>KALKULUS II</a:t>
            </a:r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26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9A063-0166-4536-8BD4-7F8854C3EE6D}" type="slidenum">
              <a:rPr b="0" lang="en-US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i mana nilai ekstrim muncu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3" name=""/>
          <p:cNvSpPr txBox="1"/>
          <p:nvPr/>
        </p:nvSpPr>
        <p:spPr>
          <a:xfrm>
            <a:off x="609480" y="1533600"/>
            <a:ext cx="8305920" cy="49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tik di mana kemungkinan terjadinya nilai ekstrim disebut titik kriti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tik Kritis ada 3 (tiga), yait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itik-titik batas 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itik Stasion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itik Singula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4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22DE1-63A1-4A45-B192-6E6E6270D505}" type="datetime">
              <a:rPr b="0" lang="en-US" sz="1200" spc="-1" strike="noStrike">
                <a:solidFill>
                  <a:srgbClr val="898989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26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Verdana"/>
              </a:rPr>
              <a:t>[MA 1124]</a:t>
            </a:r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Verdana"/>
              </a:rPr>
              <a:t>KALKULUS II</a:t>
            </a:r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26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7E797-A26C-4AF6-8FF4-4311F868488D}" type="slidenum">
              <a:rPr b="0" lang="en-US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Uji Nilai Ekstri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8" name=""/>
          <p:cNvSpPr txBox="1"/>
          <p:nvPr/>
        </p:nvSpPr>
        <p:spPr>
          <a:xfrm>
            <a:off x="566640" y="1066680"/>
            <a:ext cx="81964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ntuk menguji apakah di titik kritis terjadi nilai ekstrim, kita gunakan uji turunan parsial kedua, yaitu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isalkan f(x,y) mempunyai turunan parsial kedua yang kontinu di sekitar 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9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83E83-361F-4A3A-9749-2F1F847D7257}" type="datetime">
              <a:rPr b="0" lang="en-US" sz="1200" spc="-1" strike="noStrike">
                <a:solidFill>
                  <a:srgbClr val="898989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270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Verdana"/>
              </a:rPr>
              <a:t>[MA 1124]</a:t>
            </a:r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Verdana"/>
              </a:rPr>
              <a:t>KALKULUS II</a:t>
            </a:r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27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C815B-CBD5-473A-9E70-360A1AF3D963}" type="slidenum">
              <a:rPr b="0" lang="en-US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2" name="Object 5"/>
              <p:cNvSpPr txBox="1"/>
              <p:nvPr/>
            </p:nvSpPr>
            <p:spPr>
              <a:xfrm>
                <a:off x="3276720" y="2133720"/>
                <a:ext cx="1734840" cy="49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∇</m:t>
                        </m:r>
                      </m:e>
                    </m:acc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3" name="Rectangle 6"/>
          <p:cNvSpPr/>
          <p:nvPr/>
        </p:nvSpPr>
        <p:spPr>
          <a:xfrm>
            <a:off x="933480" y="3719520"/>
            <a:ext cx="12952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maka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4" name="Object 7"/>
              <p:cNvSpPr txBox="1"/>
              <p:nvPr/>
            </p:nvSpPr>
            <p:spPr>
              <a:xfrm>
                <a:off x="2133720" y="3643200"/>
                <a:ext cx="5627520" cy="4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D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xx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yy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−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xy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275" name="Rectangle 8"/>
          <p:cNvSpPr/>
          <p:nvPr/>
        </p:nvSpPr>
        <p:spPr>
          <a:xfrm>
            <a:off x="895320" y="4191120"/>
            <a:ext cx="7692840" cy="4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1. Jika D &gt;0 dan                 ,maka f(x</a:t>
            </a:r>
            <a:r>
              <a:rPr b="0" lang="en-US" sz="2100" spc="-1" strike="noStrike" baseline="-25000">
                <a:solidFill>
                  <a:srgbClr val="336699"/>
                </a:solidFill>
                <a:latin typeface="Verdana"/>
              </a:rPr>
              <a:t>0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,y</a:t>
            </a:r>
            <a:r>
              <a:rPr b="0" lang="en-US" sz="2100" spc="-1" strike="noStrike" baseline="-25000">
                <a:solidFill>
                  <a:srgbClr val="336699"/>
                </a:solidFill>
                <a:latin typeface="Verdana"/>
              </a:rPr>
              <a:t>0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) nilai maksimum lokal.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6" name="Object 9"/>
              <p:cNvSpPr txBox="1"/>
              <p:nvPr/>
            </p:nvSpPr>
            <p:spPr>
              <a:xfrm>
                <a:off x="2590920" y="4222800"/>
                <a:ext cx="156024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xx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&l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7" name="Rectangle 10"/>
          <p:cNvSpPr/>
          <p:nvPr/>
        </p:nvSpPr>
        <p:spPr>
          <a:xfrm>
            <a:off x="892440" y="4648320"/>
            <a:ext cx="7578360" cy="4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2. Jika D&gt;0, dan                 ,maka f(x</a:t>
            </a:r>
            <a:r>
              <a:rPr b="0" lang="en-US" sz="2100" spc="-1" strike="noStrike" baseline="-25000">
                <a:solidFill>
                  <a:srgbClr val="336699"/>
                </a:solidFill>
                <a:latin typeface="Verdana"/>
              </a:rPr>
              <a:t>0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,y</a:t>
            </a:r>
            <a:r>
              <a:rPr b="0" lang="en-US" sz="2100" spc="-1" strike="noStrike" baseline="-25000">
                <a:solidFill>
                  <a:srgbClr val="336699"/>
                </a:solidFill>
                <a:latin typeface="Verdana"/>
              </a:rPr>
              <a:t>0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) nilai minimum lokal .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8" name="Object 11"/>
              <p:cNvSpPr txBox="1"/>
              <p:nvPr/>
            </p:nvSpPr>
            <p:spPr>
              <a:xfrm>
                <a:off x="2554200" y="4724280"/>
                <a:ext cx="156060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xx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9" name="Rectangle 12"/>
          <p:cNvSpPr/>
          <p:nvPr/>
        </p:nvSpPr>
        <p:spPr>
          <a:xfrm>
            <a:off x="688680" y="5052960"/>
            <a:ext cx="631836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3. Jika D&lt;0, maka f(x</a:t>
            </a:r>
            <a:r>
              <a:rPr b="0" lang="en-US" sz="2100" spc="-1" strike="noStrike" baseline="-25000">
                <a:solidFill>
                  <a:srgbClr val="336699"/>
                </a:solidFill>
                <a:latin typeface="Verdana"/>
              </a:rPr>
              <a:t>0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,y</a:t>
            </a:r>
            <a:r>
              <a:rPr b="0" lang="en-US" sz="2100" spc="-1" strike="noStrike" baseline="-25000">
                <a:solidFill>
                  <a:srgbClr val="336699"/>
                </a:solidFill>
                <a:latin typeface="Verdana"/>
              </a:rPr>
              <a:t>0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) bukan nilai ekstrim atau 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    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(0,0) titik pelana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280" name="Rectangle 13"/>
          <p:cNvSpPr/>
          <p:nvPr/>
        </p:nvSpPr>
        <p:spPr>
          <a:xfrm>
            <a:off x="560880" y="5835600"/>
            <a:ext cx="54950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4. Jika D=0, tidak dapat ditarik kesimpulan.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</p:spTree>
  </p:cSld>
  <p:timing>
    <p:tnLst>
      <p:par>
        <p:cTn id="3732" dur="indefinite" restart="never" nodeType="tmRoot">
          <p:childTnLst>
            <p:seq>
              <p:cTn id="3733" dur="indefinite" nodeType="mainSeq">
                <p:childTnLst>
                  <p:par>
                    <p:cTn id="3734" nodeType="clickEffect" fill="hold">
                      <p:stCondLst>
                        <p:cond delay="0"/>
                      </p:stCondLst>
                      <p:childTnLst>
                        <p:par>
                          <p:cTn id="37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38" dur="2000"/>
                                        <p:tgtEl>
                                          <p:spTgt spid="1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1" dur="2000"/>
                                        <p:tgtEl>
                                          <p:spTgt spid="1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2" nodeType="clickEffect" fill="hold">
                      <p:stCondLst>
                        <p:cond delay="indefinite"/>
                      </p:stCondLst>
                      <p:childTnLst>
                        <p:par>
                          <p:cTn id="37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6" dur="3000"/>
                                        <p:tgtEl>
                                          <p:spTgt spid="1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7" nodeType="clickEffect" fill="hold">
                      <p:stCondLst>
                        <p:cond delay="indefinite"/>
                      </p:stCondLst>
                      <p:childTnLst>
                        <p:par>
                          <p:cTn id="3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1" dur="1000" fill="hold"/>
                                        <p:tgtEl>
                                          <p:spTgt spid="1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2" dur="1000" fill="hold"/>
                                        <p:tgtEl>
                                          <p:spTgt spid="1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53" dur="1000"/>
                                        <p:tgtEl>
                                          <p:spTgt spid="1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6" dur="1000" fill="hold"/>
                                        <p:tgtEl>
                                          <p:spTgt spid="1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7" dur="1000" fill="hold"/>
                                        <p:tgtEl>
                                          <p:spTgt spid="1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58" dur="1000"/>
                                        <p:tgtEl>
                                          <p:spTgt spid="1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61" dur="3000"/>
                                        <p:tgtEl>
                                          <p:spTgt spid="1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64" dur="3000"/>
                                        <p:tgtEl>
                                          <p:spTgt spid="1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7" dur="1000" fill="hold"/>
                                        <p:tgtEl>
                                          <p:spTgt spid="1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8" dur="1000" fill="hold"/>
                                        <p:tgtEl>
                                          <p:spTgt spid="1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9" dur="1000" fill="hold"/>
                                        <p:tgtEl>
                                          <p:spTgt spid="12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70" dur="1000"/>
                                        <p:tgtEl>
                                          <p:spTgt spid="1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3" dur="1000" fill="hold"/>
                                        <p:tgtEl>
                                          <p:spTgt spid="1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4" dur="1000" fill="hold"/>
                                        <p:tgtEl>
                                          <p:spTgt spid="1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5" dur="1000" fill="hold"/>
                                        <p:tgtEl>
                                          <p:spTgt spid="12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76" dur="1000"/>
                                        <p:tgtEl>
                                          <p:spTgt spid="1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to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2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D892D-B3C4-41C7-B1C7-92AA356BE4EE}" type="datetime">
              <a:rPr b="0" lang="en-US" sz="1200" spc="-1" strike="noStrike">
                <a:solidFill>
                  <a:srgbClr val="898989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28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Verdana"/>
              </a:rPr>
              <a:t>[MA 1124]</a:t>
            </a:r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Verdana"/>
              </a:rPr>
              <a:t>KALKULUS II</a:t>
            </a:r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28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6F95B-6ABF-4D74-820A-F17BF84E118F}" type="slidenum">
              <a:rPr b="0" lang="en-US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285" name="Text Box 4"/>
          <p:cNvSpPr/>
          <p:nvPr/>
        </p:nvSpPr>
        <p:spPr>
          <a:xfrm>
            <a:off x="843480" y="1327320"/>
            <a:ext cx="55422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1. Tentukan nilai ekstrim dan jenisnya, dari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286" name="Text Box 5"/>
          <p:cNvSpPr/>
          <p:nvPr/>
        </p:nvSpPr>
        <p:spPr>
          <a:xfrm>
            <a:off x="3570120" y="1797120"/>
            <a:ext cx="22845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f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(</a:t>
            </a: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x,y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) = 2</a:t>
            </a: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x</a:t>
            </a:r>
            <a:r>
              <a:rPr b="0" lang="en-US" sz="2100" spc="-1" strike="noStrike" baseline="30000">
                <a:solidFill>
                  <a:srgbClr val="336699"/>
                </a:solidFill>
                <a:latin typeface="Verdana"/>
              </a:rPr>
              <a:t>4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–</a:t>
            </a: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x</a:t>
            </a:r>
            <a:r>
              <a:rPr b="0" lang="en-US" sz="2100" spc="-1" strike="noStrike" baseline="30000">
                <a:solidFill>
                  <a:srgbClr val="336699"/>
                </a:solidFill>
                <a:latin typeface="Verdana"/>
              </a:rPr>
              <a:t>2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+3</a:t>
            </a: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y</a:t>
            </a:r>
            <a:r>
              <a:rPr b="0" lang="en-US" sz="2100" spc="-1" strike="noStrike" baseline="30000">
                <a:solidFill>
                  <a:srgbClr val="336699"/>
                </a:solidFill>
                <a:latin typeface="Verdana"/>
              </a:rPr>
              <a:t>2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287" name="Text Box 6"/>
          <p:cNvSpPr/>
          <p:nvPr/>
        </p:nvSpPr>
        <p:spPr>
          <a:xfrm>
            <a:off x="1043640" y="2133720"/>
            <a:ext cx="9990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Jawab: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288" name="Text Box 7"/>
          <p:cNvSpPr/>
          <p:nvPr/>
        </p:nvSpPr>
        <p:spPr>
          <a:xfrm>
            <a:off x="1370160" y="2603520"/>
            <a:ext cx="2014200" cy="4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f</a:t>
            </a:r>
            <a:r>
              <a:rPr b="0" i="1" lang="en-US" sz="2100" spc="-1" strike="noStrike" baseline="-25000">
                <a:solidFill>
                  <a:srgbClr val="336699"/>
                </a:solidFill>
                <a:latin typeface="Verdana"/>
              </a:rPr>
              <a:t>x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(</a:t>
            </a: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x,y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) = 8</a:t>
            </a: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x</a:t>
            </a:r>
            <a:r>
              <a:rPr b="0" lang="en-US" sz="2100" spc="-1" strike="noStrike" baseline="30000">
                <a:solidFill>
                  <a:srgbClr val="336699"/>
                </a:solidFill>
                <a:latin typeface="Verdana"/>
              </a:rPr>
              <a:t>3 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– 2</a:t>
            </a: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x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289" name="Text Box 8"/>
          <p:cNvSpPr/>
          <p:nvPr/>
        </p:nvSpPr>
        <p:spPr>
          <a:xfrm>
            <a:off x="3995640" y="2577960"/>
            <a:ext cx="1392120" cy="4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f</a:t>
            </a:r>
            <a:r>
              <a:rPr b="0" i="1" lang="en-US" sz="2100" spc="-1" strike="noStrike" baseline="-25000">
                <a:solidFill>
                  <a:srgbClr val="336699"/>
                </a:solidFill>
                <a:latin typeface="Verdana"/>
              </a:rPr>
              <a:t>y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(</a:t>
            </a: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x,y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) = 6</a:t>
            </a: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y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290" name="Text Box 9"/>
          <p:cNvSpPr/>
          <p:nvPr/>
        </p:nvSpPr>
        <p:spPr>
          <a:xfrm>
            <a:off x="1378440" y="2962440"/>
            <a:ext cx="2111760" cy="4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f</a:t>
            </a:r>
            <a:r>
              <a:rPr b="0" i="1" lang="en-US" sz="2100" spc="-1" strike="noStrike" baseline="-25000">
                <a:solidFill>
                  <a:srgbClr val="336699"/>
                </a:solidFill>
                <a:latin typeface="Verdana"/>
              </a:rPr>
              <a:t>xx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(</a:t>
            </a: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x,y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) = 24</a:t>
            </a: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x</a:t>
            </a:r>
            <a:r>
              <a:rPr b="0" lang="en-US" sz="2100" spc="-1" strike="noStrike" baseline="30000">
                <a:solidFill>
                  <a:srgbClr val="336699"/>
                </a:solidFill>
                <a:latin typeface="Verdana"/>
              </a:rPr>
              <a:t>2 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– 2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291" name="Text Box 10"/>
          <p:cNvSpPr/>
          <p:nvPr/>
        </p:nvSpPr>
        <p:spPr>
          <a:xfrm>
            <a:off x="3981960" y="2962440"/>
            <a:ext cx="1338840" cy="4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f</a:t>
            </a:r>
            <a:r>
              <a:rPr b="0" i="1" lang="en-US" sz="2100" spc="-1" strike="noStrike" baseline="-25000">
                <a:solidFill>
                  <a:srgbClr val="336699"/>
                </a:solidFill>
                <a:latin typeface="Verdana"/>
              </a:rPr>
              <a:t>yy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(</a:t>
            </a: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x,y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) = 6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292" name="Text Box 11"/>
          <p:cNvSpPr/>
          <p:nvPr/>
        </p:nvSpPr>
        <p:spPr>
          <a:xfrm>
            <a:off x="1296000" y="3406680"/>
            <a:ext cx="1341720" cy="4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f</a:t>
            </a:r>
            <a:r>
              <a:rPr b="0" i="1" lang="en-US" sz="2100" spc="-1" strike="noStrike" baseline="-25000">
                <a:solidFill>
                  <a:srgbClr val="336699"/>
                </a:solidFill>
                <a:latin typeface="Verdana"/>
              </a:rPr>
              <a:t>xy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(</a:t>
            </a: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x,y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) = 0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293" name="Text Box 12"/>
          <p:cNvSpPr/>
          <p:nvPr/>
        </p:nvSpPr>
        <p:spPr>
          <a:xfrm>
            <a:off x="1408320" y="3892680"/>
            <a:ext cx="6785640" cy="10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Titik kritisnya (dalam hal ini titik stasioner) diperoleh 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dengan menyelesaikan persamaan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 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f</a:t>
            </a:r>
            <a:r>
              <a:rPr b="0" lang="en-US" sz="2100" spc="-1" strike="noStrike" baseline="-25000">
                <a:solidFill>
                  <a:srgbClr val="336699"/>
                </a:solidFill>
                <a:latin typeface="Verdana"/>
              </a:rPr>
              <a:t>x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(x,y) = 0 dan f</a:t>
            </a:r>
            <a:r>
              <a:rPr b="0" lang="en-US" sz="2100" spc="-1" strike="noStrike" baseline="-25000">
                <a:solidFill>
                  <a:srgbClr val="336699"/>
                </a:solidFill>
                <a:latin typeface="Verdana"/>
              </a:rPr>
              <a:t>y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(x,y)=0, yaitu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294" name="Text Box 13"/>
          <p:cNvSpPr/>
          <p:nvPr/>
        </p:nvSpPr>
        <p:spPr>
          <a:xfrm>
            <a:off x="1328040" y="5073480"/>
            <a:ext cx="13820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8</a:t>
            </a: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x</a:t>
            </a:r>
            <a:r>
              <a:rPr b="0" lang="en-US" sz="2100" spc="-1" strike="noStrike" baseline="30000">
                <a:solidFill>
                  <a:srgbClr val="336699"/>
                </a:solidFill>
                <a:latin typeface="Verdana"/>
              </a:rPr>
              <a:t>3 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– 2</a:t>
            </a: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x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=0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295" name="Text Box 14"/>
          <p:cNvSpPr/>
          <p:nvPr/>
        </p:nvSpPr>
        <p:spPr>
          <a:xfrm>
            <a:off x="2809440" y="5043600"/>
            <a:ext cx="59976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99"/>
                </a:solidFill>
                <a:latin typeface="Wingdings"/>
                <a:ea typeface="Wingdings"/>
              </a:rPr>
              <a:t></a:t>
            </a:r>
            <a:endParaRPr b="0" lang="en-US" sz="33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296" name="Text Box 15"/>
          <p:cNvSpPr/>
          <p:nvPr/>
        </p:nvSpPr>
        <p:spPr>
          <a:xfrm>
            <a:off x="3461760" y="5105520"/>
            <a:ext cx="17661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2</a:t>
            </a: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x 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(4</a:t>
            </a: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x</a:t>
            </a:r>
            <a:r>
              <a:rPr b="0" lang="en-US" sz="2100" spc="-1" strike="noStrike" baseline="30000">
                <a:solidFill>
                  <a:srgbClr val="336699"/>
                </a:solidFill>
                <a:latin typeface="Verdana"/>
              </a:rPr>
              <a:t>2 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– 1)=0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297" name="Text Box 16"/>
          <p:cNvSpPr/>
          <p:nvPr/>
        </p:nvSpPr>
        <p:spPr>
          <a:xfrm>
            <a:off x="5284080" y="5043600"/>
            <a:ext cx="59976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99"/>
                </a:solidFill>
                <a:latin typeface="Wingdings"/>
                <a:ea typeface="Wingdings"/>
              </a:rPr>
              <a:t></a:t>
            </a:r>
            <a:endParaRPr b="0" lang="en-US" sz="33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298" name="Text Box 17"/>
          <p:cNvSpPr/>
          <p:nvPr/>
        </p:nvSpPr>
        <p:spPr>
          <a:xfrm>
            <a:off x="5924160" y="5073480"/>
            <a:ext cx="16772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x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=0 , </a:t>
            </a: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x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 =± ½ 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299" name="Text Box 18"/>
          <p:cNvSpPr/>
          <p:nvPr/>
        </p:nvSpPr>
        <p:spPr>
          <a:xfrm>
            <a:off x="1343160" y="5454720"/>
            <a:ext cx="8326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6</a:t>
            </a: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y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 =0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300" name="Text Box 19"/>
          <p:cNvSpPr/>
          <p:nvPr/>
        </p:nvSpPr>
        <p:spPr>
          <a:xfrm>
            <a:off x="2782440" y="5424480"/>
            <a:ext cx="59976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99"/>
                </a:solidFill>
                <a:latin typeface="Wingdings"/>
                <a:ea typeface="Wingdings"/>
              </a:rPr>
              <a:t></a:t>
            </a:r>
            <a:endParaRPr b="0" lang="en-US" sz="33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301" name="Text Box 20"/>
          <p:cNvSpPr/>
          <p:nvPr/>
        </p:nvSpPr>
        <p:spPr>
          <a:xfrm>
            <a:off x="3479760" y="5454720"/>
            <a:ext cx="7506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y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 = 0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302" name="Text Box 21"/>
          <p:cNvSpPr/>
          <p:nvPr/>
        </p:nvSpPr>
        <p:spPr>
          <a:xfrm>
            <a:off x="1655640" y="5987880"/>
            <a:ext cx="66531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Jadi titik-titik stasioner adalah (0, 0), (½, 0) dan (-½,0)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</p:spTree>
  </p:cSld>
  <p:timing>
    <p:tnLst>
      <p:par>
        <p:cTn id="3777" dur="indefinite" restart="never" nodeType="tmRoot">
          <p:childTnLst>
            <p:seq>
              <p:cTn id="3778" dur="indefinite" nodeType="mainSeq">
                <p:childTnLst>
                  <p:par>
                    <p:cTn id="3779" nodeType="clickEffect" fill="hold">
                      <p:stCondLst>
                        <p:cond delay="0"/>
                      </p:stCondLst>
                      <p:childTnLst>
                        <p:par>
                          <p:cTn id="37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83" dur="80"/>
                                        <p:tgtEl>
                                          <p:spTgt spid="12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84" dur="80"/>
                                        <p:tgtEl>
                                          <p:spTgt spid="12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85" dur="80"/>
                                        <p:tgtEl>
                                          <p:spTgt spid="12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8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88" dur="80"/>
                                        <p:tgtEl>
                                          <p:spTgt spid="12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89" dur="80"/>
                                        <p:tgtEl>
                                          <p:spTgt spid="12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90" dur="80"/>
                                        <p:tgtEl>
                                          <p:spTgt spid="12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1" nodeType="clickEffect" fill="hold">
                      <p:stCondLst>
                        <p:cond delay="indefinite"/>
                      </p:stCondLst>
                      <p:childTnLst>
                        <p:par>
                          <p:cTn id="37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5" dur="500"/>
                                        <p:tgtEl>
                                          <p:spTgt spid="1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6" nodeType="clickEffect" fill="hold">
                      <p:stCondLst>
                        <p:cond delay="indefinite"/>
                      </p:stCondLst>
                      <p:childTnLst>
                        <p:par>
                          <p:cTn id="37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0" dur="500" fill="hold"/>
                                        <p:tgtEl>
                                          <p:spTgt spid="1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1" dur="500" fill="hold"/>
                                        <p:tgtEl>
                                          <p:spTgt spid="1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2" dur="500" fill="hold"/>
                                        <p:tgtEl>
                                          <p:spTgt spid="1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3" dur="500" fill="hold"/>
                                        <p:tgtEl>
                                          <p:spTgt spid="1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4" nodeType="clickEffect" fill="hold">
                      <p:stCondLst>
                        <p:cond delay="indefinite"/>
                      </p:stCondLst>
                      <p:childTnLst>
                        <p:par>
                          <p:cTn id="38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8" dur="500" fill="hold"/>
                                        <p:tgtEl>
                                          <p:spTgt spid="1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9" dur="500" fill="hold"/>
                                        <p:tgtEl>
                                          <p:spTgt spid="1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0" dur="500" fill="hold"/>
                                        <p:tgtEl>
                                          <p:spTgt spid="1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1" dur="500" fill="hold"/>
                                        <p:tgtEl>
                                          <p:spTgt spid="1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2" nodeType="clickEffect" fill="hold">
                      <p:stCondLst>
                        <p:cond delay="indefinite"/>
                      </p:stCondLst>
                      <p:childTnLst>
                        <p:par>
                          <p:cTn id="38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6" dur="500" fill="hold"/>
                                        <p:tgtEl>
                                          <p:spTgt spid="1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7" dur="500" fill="hold"/>
                                        <p:tgtEl>
                                          <p:spTgt spid="1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8" dur="500" fill="hold"/>
                                        <p:tgtEl>
                                          <p:spTgt spid="1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9" dur="500" fill="hold"/>
                                        <p:tgtEl>
                                          <p:spTgt spid="1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0" nodeType="clickEffect" fill="hold">
                      <p:stCondLst>
                        <p:cond delay="indefinite"/>
                      </p:stCondLst>
                      <p:childTnLst>
                        <p:par>
                          <p:cTn id="38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4" dur="500" fill="hold"/>
                                        <p:tgtEl>
                                          <p:spTgt spid="1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5" dur="500" fill="hold"/>
                                        <p:tgtEl>
                                          <p:spTgt spid="1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6" dur="500" fill="hold"/>
                                        <p:tgtEl>
                                          <p:spTgt spid="1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7" dur="500" fill="hold"/>
                                        <p:tgtEl>
                                          <p:spTgt spid="1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8" nodeType="clickEffect" fill="hold">
                      <p:stCondLst>
                        <p:cond delay="indefinite"/>
                      </p:stCondLst>
                      <p:childTnLst>
                        <p:par>
                          <p:cTn id="38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2" dur="500" fill="hold"/>
                                        <p:tgtEl>
                                          <p:spTgt spid="1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3" dur="500" fill="hold"/>
                                        <p:tgtEl>
                                          <p:spTgt spid="1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4" dur="500" fill="hold"/>
                                        <p:tgtEl>
                                          <p:spTgt spid="1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5" dur="500" fill="hold"/>
                                        <p:tgtEl>
                                          <p:spTgt spid="1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6" nodeType="clickEffect" fill="hold">
                      <p:stCondLst>
                        <p:cond delay="indefinite"/>
                      </p:stCondLst>
                      <p:childTnLst>
                        <p:par>
                          <p:cTn id="38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40" dur="80"/>
                                        <p:tgtEl>
                                          <p:spTgt spid="12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41" dur="80"/>
                                        <p:tgtEl>
                                          <p:spTgt spid="12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42" dur="80"/>
                                        <p:tgtEl>
                                          <p:spTgt spid="12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3" nodeType="clickEffect" fill="hold">
                      <p:stCondLst>
                        <p:cond delay="indefinite"/>
                      </p:stCondLst>
                      <p:childTnLst>
                        <p:par>
                          <p:cTn id="38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7" dur="500"/>
                                        <p:tgtEl>
                                          <p:spTgt spid="1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8" nodeType="clickEffect" fill="hold">
                      <p:stCondLst>
                        <p:cond delay="indefinite"/>
                      </p:stCondLst>
                      <p:childTnLst>
                        <p:par>
                          <p:cTn id="38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2" dur="500" fill="hold"/>
                                        <p:tgtEl>
                                          <p:spTgt spid="1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3" dur="500" fill="hold"/>
                                        <p:tgtEl>
                                          <p:spTgt spid="1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4" dur="500" fill="hold"/>
                                        <p:tgtEl>
                                          <p:spTgt spid="12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55" dur="500"/>
                                        <p:tgtEl>
                                          <p:spTgt spid="1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8" dur="500"/>
                                        <p:tgtEl>
                                          <p:spTgt spid="1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9" nodeType="clickEffect" fill="hold">
                      <p:stCondLst>
                        <p:cond delay="indefinite"/>
                      </p:stCondLst>
                      <p:childTnLst>
                        <p:par>
                          <p:cTn id="38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3" dur="500" fill="hold"/>
                                        <p:tgtEl>
                                          <p:spTgt spid="1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4" dur="500" fill="hold"/>
                                        <p:tgtEl>
                                          <p:spTgt spid="1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5" dur="500" fill="hold"/>
                                        <p:tgtEl>
                                          <p:spTgt spid="12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6" dur="500"/>
                                        <p:tgtEl>
                                          <p:spTgt spid="1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69" dur="500"/>
                                        <p:tgtEl>
                                          <p:spTgt spid="1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0" nodeType="clickEffect" fill="hold">
                      <p:stCondLst>
                        <p:cond delay="indefinite"/>
                      </p:stCondLst>
                      <p:childTnLst>
                        <p:par>
                          <p:cTn id="38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4" dur="500"/>
                                        <p:tgtEl>
                                          <p:spTgt spid="1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5" nodeType="clickEffect" fill="hold">
                      <p:stCondLst>
                        <p:cond delay="indefinite"/>
                      </p:stCondLst>
                      <p:childTnLst>
                        <p:par>
                          <p:cTn id="38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9" dur="500" fill="hold"/>
                                        <p:tgtEl>
                                          <p:spTgt spid="1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0" dur="500" fill="hold"/>
                                        <p:tgtEl>
                                          <p:spTgt spid="1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1" dur="500" fill="hold"/>
                                        <p:tgtEl>
                                          <p:spTgt spid="13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2" dur="500"/>
                                        <p:tgtEl>
                                          <p:spTgt spid="1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5" dur="500"/>
                                        <p:tgtEl>
                                          <p:spTgt spid="1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6" nodeType="clickEffect" fill="hold">
                      <p:stCondLst>
                        <p:cond delay="indefinite"/>
                      </p:stCondLst>
                      <p:childTnLst>
                        <p:par>
                          <p:cTn id="38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90" dur="80"/>
                                        <p:tgtEl>
                                          <p:spTgt spid="13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91" dur="80"/>
                                        <p:tgtEl>
                                          <p:spTgt spid="13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92" dur="80"/>
                                        <p:tgtEl>
                                          <p:spTgt spid="13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87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toh (lanjutan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04" name=""/>
          <p:cNvGraphicFramePr/>
          <p:nvPr/>
        </p:nvGraphicFramePr>
        <p:xfrm>
          <a:off x="609480" y="2057400"/>
          <a:ext cx="7315200" cy="3260880"/>
        </p:xfrm>
        <a:graphic>
          <a:graphicData uri="http://schemas.openxmlformats.org/drawingml/2006/table">
            <a:tbl>
              <a:tblPr/>
              <a:tblGrid>
                <a:gridCol w="1219320"/>
                <a:gridCol w="762120"/>
                <a:gridCol w="685800"/>
                <a:gridCol w="761760"/>
                <a:gridCol w="914400"/>
                <a:gridCol w="2971800"/>
              </a:tblGrid>
              <a:tr h="73152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336699"/>
                          </a:solidFill>
                          <a:latin typeface="Verdana"/>
                        </a:rPr>
                        <a:t>Titik sta</a:t>
                      </a:r>
                      <a:endParaRPr b="0" lang="en-US" sz="2100" spc="-1" strike="noStrike">
                        <a:solidFill>
                          <a:srgbClr val="33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336699"/>
                          </a:solidFill>
                          <a:latin typeface="Verdana"/>
                          <a:ea typeface="Times New Roman"/>
                        </a:rPr>
                        <a:t>f</a:t>
                      </a:r>
                      <a:r>
                        <a:rPr b="0" lang="en-US" sz="2100" spc="-1" strike="noStrike" baseline="-30000">
                          <a:solidFill>
                            <a:srgbClr val="336699"/>
                          </a:solidFill>
                          <a:latin typeface="Verdana"/>
                          <a:ea typeface="Times New Roman"/>
                        </a:rPr>
                        <a:t>xx</a:t>
                      </a:r>
                      <a:endParaRPr b="0" lang="en-US" sz="2100" spc="-1" strike="noStrike">
                        <a:solidFill>
                          <a:srgbClr val="33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336699"/>
                          </a:solidFill>
                          <a:latin typeface="Verdana"/>
                          <a:ea typeface="Times New Roman"/>
                        </a:rPr>
                        <a:t>f</a:t>
                      </a:r>
                      <a:r>
                        <a:rPr b="0" lang="en-US" sz="2100" spc="-1" strike="noStrike" baseline="-30000">
                          <a:solidFill>
                            <a:srgbClr val="336699"/>
                          </a:solidFill>
                          <a:latin typeface="Verdana"/>
                          <a:ea typeface="Times New Roman"/>
                        </a:rPr>
                        <a:t>yy</a:t>
                      </a:r>
                      <a:endParaRPr b="0" lang="en-US" sz="2100" spc="-1" strike="noStrike">
                        <a:solidFill>
                          <a:srgbClr val="33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336699"/>
                          </a:solidFill>
                          <a:latin typeface="Verdana"/>
                          <a:ea typeface="Times New Roman"/>
                        </a:rPr>
                        <a:t>f</a:t>
                      </a:r>
                      <a:r>
                        <a:rPr b="0" lang="en-US" sz="2100" spc="-1" strike="noStrike" baseline="-30000">
                          <a:solidFill>
                            <a:srgbClr val="336699"/>
                          </a:solidFill>
                          <a:latin typeface="Verdana"/>
                          <a:ea typeface="Times New Roman"/>
                        </a:rPr>
                        <a:t>xy</a:t>
                      </a:r>
                      <a:endParaRPr b="0" lang="en-US" sz="2100" spc="-1" strike="noStrike">
                        <a:solidFill>
                          <a:srgbClr val="33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336699"/>
                          </a:solidFill>
                          <a:latin typeface="Verdana"/>
                          <a:ea typeface="Times New Roman"/>
                        </a:rPr>
                        <a:t>D</a:t>
                      </a:r>
                      <a:endParaRPr b="0" lang="en-US" sz="2100" spc="-1" strike="noStrike">
                        <a:solidFill>
                          <a:srgbClr val="33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336699"/>
                          </a:solidFill>
                          <a:latin typeface="Verdana"/>
                          <a:ea typeface="Times New Roman"/>
                        </a:rPr>
                        <a:t>Keterangan</a:t>
                      </a:r>
                      <a:endParaRPr b="0" lang="en-US" sz="2100" spc="-1" strike="noStrike">
                        <a:solidFill>
                          <a:srgbClr val="33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5192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336699"/>
                          </a:solidFill>
                          <a:latin typeface="Verdana"/>
                          <a:ea typeface="Times New Roman"/>
                        </a:rPr>
                        <a:t>(0,0)</a:t>
                      </a:r>
                      <a:endParaRPr b="0" lang="en-US" sz="2100" spc="-1" strike="noStrike">
                        <a:solidFill>
                          <a:srgbClr val="33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336699"/>
                          </a:solidFill>
                          <a:latin typeface="Verdana"/>
                          <a:ea typeface="Times New Roman"/>
                        </a:rPr>
                        <a:t>– </a:t>
                      </a:r>
                      <a:r>
                        <a:rPr b="0" lang="en-US" sz="2100" spc="-1" strike="noStrike">
                          <a:solidFill>
                            <a:srgbClr val="336699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2100" spc="-1" strike="noStrike">
                        <a:solidFill>
                          <a:srgbClr val="33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336699"/>
                          </a:solidFill>
                          <a:latin typeface="Verdana"/>
                          <a:ea typeface="Times New Roman"/>
                        </a:rPr>
                        <a:t>6</a:t>
                      </a:r>
                      <a:endParaRPr b="0" lang="en-US" sz="2100" spc="-1" strike="noStrike">
                        <a:solidFill>
                          <a:srgbClr val="33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336699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100" spc="-1" strike="noStrike">
                        <a:solidFill>
                          <a:srgbClr val="33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336699"/>
                          </a:solidFill>
                          <a:latin typeface="Verdana"/>
                          <a:ea typeface="Times New Roman"/>
                        </a:rPr>
                        <a:t>–</a:t>
                      </a:r>
                      <a:r>
                        <a:rPr b="0" lang="en-US" sz="2100" spc="-1" strike="noStrike">
                          <a:solidFill>
                            <a:srgbClr val="336699"/>
                          </a:solidFill>
                          <a:latin typeface="Verdana"/>
                          <a:ea typeface="Times New Roman"/>
                        </a:rPr>
                        <a:t>12</a:t>
                      </a:r>
                      <a:endParaRPr b="0" lang="en-US" sz="2100" spc="-1" strike="noStrike">
                        <a:solidFill>
                          <a:srgbClr val="33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336699"/>
                          </a:solidFill>
                          <a:latin typeface="Verdana"/>
                          <a:ea typeface="Times New Roman"/>
                        </a:rPr>
                        <a:t>f(0,0) bukan nilai ekstrim atau </a:t>
                      </a:r>
                      <a:endParaRPr b="0" lang="en-US" sz="2100" spc="-1" strike="noStrike">
                        <a:solidFill>
                          <a:srgbClr val="336699"/>
                        </a:solidFill>
                        <a:latin typeface="Verdana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336699"/>
                          </a:solidFill>
                          <a:latin typeface="Verdana"/>
                          <a:ea typeface="Times New Roman"/>
                        </a:rPr>
                        <a:t>(0,0) Titik pelana</a:t>
                      </a:r>
                      <a:endParaRPr b="0" lang="en-US" sz="2100" spc="-1" strike="noStrike">
                        <a:solidFill>
                          <a:srgbClr val="33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336699"/>
                          </a:solidFill>
                          <a:latin typeface="Verdana"/>
                          <a:ea typeface="Times New Roman"/>
                        </a:rPr>
                        <a:t>(½, 0)</a:t>
                      </a:r>
                      <a:endParaRPr b="0" lang="en-US" sz="2100" spc="-1" strike="noStrike">
                        <a:solidFill>
                          <a:srgbClr val="33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336699"/>
                          </a:solidFill>
                          <a:latin typeface="Verdana"/>
                          <a:ea typeface="Times New Roman"/>
                        </a:rPr>
                        <a:t>4</a:t>
                      </a:r>
                      <a:endParaRPr b="0" lang="en-US" sz="2100" spc="-1" strike="noStrike">
                        <a:solidFill>
                          <a:srgbClr val="33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336699"/>
                          </a:solidFill>
                          <a:latin typeface="Verdana"/>
                          <a:ea typeface="Times New Roman"/>
                        </a:rPr>
                        <a:t>6</a:t>
                      </a:r>
                      <a:endParaRPr b="0" lang="en-US" sz="2100" spc="-1" strike="noStrike">
                        <a:solidFill>
                          <a:srgbClr val="33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336699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100" spc="-1" strike="noStrike">
                        <a:solidFill>
                          <a:srgbClr val="33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336699"/>
                          </a:solidFill>
                          <a:latin typeface="Verdana"/>
                          <a:ea typeface="Times New Roman"/>
                        </a:rPr>
                        <a:t>24</a:t>
                      </a:r>
                      <a:endParaRPr b="0" lang="en-US" sz="2100" spc="-1" strike="noStrike">
                        <a:solidFill>
                          <a:srgbClr val="33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336699"/>
                          </a:solidFill>
                          <a:latin typeface="Verdana"/>
                          <a:ea typeface="Times New Roman"/>
                        </a:rPr>
                        <a:t>f(1/2,0) nilai Minimum lokal </a:t>
                      </a:r>
                      <a:endParaRPr b="0" lang="en-US" sz="2100" spc="-1" strike="noStrike">
                        <a:solidFill>
                          <a:srgbClr val="33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556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336699"/>
                          </a:solidFill>
                          <a:latin typeface="Verdana"/>
                          <a:ea typeface="Times New Roman"/>
                        </a:rPr>
                        <a:t>(-½, 0)</a:t>
                      </a:r>
                      <a:endParaRPr b="0" lang="en-US" sz="2100" spc="-1" strike="noStrike">
                        <a:solidFill>
                          <a:srgbClr val="33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336699"/>
                          </a:solidFill>
                          <a:latin typeface="Verdana"/>
                          <a:ea typeface="Times New Roman"/>
                        </a:rPr>
                        <a:t>4</a:t>
                      </a:r>
                      <a:endParaRPr b="0" lang="en-US" sz="2100" spc="-1" strike="noStrike">
                        <a:solidFill>
                          <a:srgbClr val="33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336699"/>
                          </a:solidFill>
                          <a:latin typeface="Verdana"/>
                          <a:ea typeface="Times New Roman"/>
                        </a:rPr>
                        <a:t>6</a:t>
                      </a:r>
                      <a:endParaRPr b="0" lang="en-US" sz="2100" spc="-1" strike="noStrike">
                        <a:solidFill>
                          <a:srgbClr val="33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336699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100" spc="-1" strike="noStrike">
                        <a:solidFill>
                          <a:srgbClr val="33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336699"/>
                          </a:solidFill>
                          <a:latin typeface="Verdana"/>
                          <a:ea typeface="Times New Roman"/>
                        </a:rPr>
                        <a:t>24</a:t>
                      </a:r>
                      <a:endParaRPr b="0" lang="en-US" sz="2100" spc="-1" strike="noStrike">
                        <a:solidFill>
                          <a:srgbClr val="33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336699"/>
                          </a:solidFill>
                          <a:latin typeface="Verdana"/>
                          <a:ea typeface="Times New Roman"/>
                        </a:rPr>
                        <a:t>f(-1/2,0) nilai Minimum lokal</a:t>
                      </a:r>
                      <a:endParaRPr b="0" lang="en-US" sz="2100" spc="-1" strike="noStrike">
                        <a:solidFill>
                          <a:srgbClr val="33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0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303BB-EF44-40DC-B1DA-C79FA949FE90}" type="datetime">
              <a:rPr b="0" lang="en-US" sz="1200" spc="-1" strike="noStrike">
                <a:solidFill>
                  <a:srgbClr val="898989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30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Verdana"/>
              </a:rPr>
              <a:t>[MA 1124]</a:t>
            </a:r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Verdana"/>
              </a:rPr>
              <a:t>KALKULUS II</a:t>
            </a:r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30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26F36-AA89-4EA4-8AC5-7B9BA695104C}" type="slidenum">
              <a:rPr b="0" lang="en-US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308" name="Text Box 354"/>
          <p:cNvSpPr/>
          <p:nvPr/>
        </p:nvSpPr>
        <p:spPr>
          <a:xfrm>
            <a:off x="875880" y="1441440"/>
            <a:ext cx="76302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Mengenai jenis nilai ekstrim, bisa dilihat pada tabel berikut: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309" name="Text Box 355"/>
          <p:cNvSpPr/>
          <p:nvPr/>
        </p:nvSpPr>
        <p:spPr>
          <a:xfrm>
            <a:off x="876240" y="5591160"/>
            <a:ext cx="77137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Jadi nilai minimum lokal = -1/8 dicapai pada (½,0) dan (-½,0), 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sedangkan (0,0) merupakan titik pelana.  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</p:spTree>
  </p:cSld>
  <p:timing>
    <p:tnLst>
      <p:par>
        <p:cTn id="3893" dur="indefinite" restart="never" nodeType="tmRoot">
          <p:childTnLst>
            <p:seq>
              <p:cTn id="3894" dur="indefinite" nodeType="mainSeq">
                <p:childTnLst>
                  <p:par>
                    <p:cTn id="3895" nodeType="clickEffect" fill="hold">
                      <p:stCondLst>
                        <p:cond delay="0"/>
                      </p:stCondLst>
                      <p:childTnLst>
                        <p:par>
                          <p:cTn id="38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99" dur="80"/>
                                        <p:tgtEl>
                                          <p:spTgt spid="13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00" dur="80"/>
                                        <p:tgtEl>
                                          <p:spTgt spid="13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01" dur="80"/>
                                        <p:tgtEl>
                                          <p:spTgt spid="13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2" nodeType="clickEffect" fill="hold">
                      <p:stCondLst>
                        <p:cond delay="indefinite"/>
                      </p:stCondLst>
                      <p:childTnLst>
                        <p:par>
                          <p:cTn id="39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6" dur="500" fill="hold"/>
                                        <p:tgtEl>
                                          <p:spTgt spid="1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7" dur="500" fill="hold"/>
                                        <p:tgtEl>
                                          <p:spTgt spid="1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8" dur="500" fill="hold"/>
                                        <p:tgtEl>
                                          <p:spTgt spid="1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9" dur="500" fill="hold"/>
                                        <p:tgtEl>
                                          <p:spTgt spid="1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0" nodeType="clickEffect" fill="hold">
                      <p:stCondLst>
                        <p:cond delay="indefinite"/>
                      </p:stCondLst>
                      <p:childTnLst>
                        <p:par>
                          <p:cTn id="39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14" dur="80"/>
                                        <p:tgtEl>
                                          <p:spTgt spid="13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15" dur="80"/>
                                        <p:tgtEl>
                                          <p:spTgt spid="13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16" dur="80"/>
                                        <p:tgtEl>
                                          <p:spTgt spid="13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to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1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37C7B-3E8C-4098-AD1E-F151AD30E2CE}" type="datetime">
              <a:rPr b="0" lang="en-US" sz="1200" spc="-1" strike="noStrike">
                <a:solidFill>
                  <a:srgbClr val="898989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312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Verdana"/>
              </a:rPr>
              <a:t>[MA 1124]</a:t>
            </a:r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Verdana"/>
              </a:rPr>
              <a:t>KALKULUS II</a:t>
            </a:r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31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413CE-56CD-47D8-9825-662817A3F642}" type="slidenum">
              <a:rPr b="0" lang="en-US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314" name="Text Box 3"/>
          <p:cNvSpPr/>
          <p:nvPr/>
        </p:nvSpPr>
        <p:spPr>
          <a:xfrm>
            <a:off x="749160" y="1327320"/>
            <a:ext cx="63896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2. Tentukan nilai ekstrim global dan jenisnya, dari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315" name="Text Box 4"/>
          <p:cNvSpPr/>
          <p:nvPr/>
        </p:nvSpPr>
        <p:spPr>
          <a:xfrm>
            <a:off x="1270800" y="1747800"/>
            <a:ext cx="50320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f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(</a:t>
            </a: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x,y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) =</a:t>
            </a: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x</a:t>
            </a:r>
            <a:r>
              <a:rPr b="0" lang="en-US" sz="2100" spc="-1" strike="noStrike" baseline="30000">
                <a:solidFill>
                  <a:srgbClr val="336699"/>
                </a:solidFill>
                <a:latin typeface="Verdana"/>
              </a:rPr>
              <a:t>2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–</a:t>
            </a: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y</a:t>
            </a:r>
            <a:r>
              <a:rPr b="0" lang="en-US" sz="2100" spc="-1" strike="noStrike" baseline="30000">
                <a:solidFill>
                  <a:srgbClr val="336699"/>
                </a:solidFill>
                <a:latin typeface="Verdana"/>
              </a:rPr>
              <a:t>2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+1 pada S={(x,y)| x</a:t>
            </a:r>
            <a:r>
              <a:rPr b="0" lang="en-US" sz="2100" spc="-1" strike="noStrike" baseline="30000">
                <a:solidFill>
                  <a:srgbClr val="336699"/>
                </a:solidFill>
                <a:latin typeface="Verdana"/>
              </a:rPr>
              <a:t>2 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+ y</a:t>
            </a:r>
            <a:r>
              <a:rPr b="0" lang="en-US" sz="2100" spc="-1" strike="noStrike" baseline="30000">
                <a:solidFill>
                  <a:srgbClr val="336699"/>
                </a:solidFill>
                <a:latin typeface="Verdana"/>
              </a:rPr>
              <a:t>2 </a:t>
            </a:r>
            <a:r>
              <a:rPr b="0" lang="en-US" sz="2100" spc="-1" strike="noStrike">
                <a:solidFill>
                  <a:srgbClr val="336699"/>
                </a:solidFill>
                <a:latin typeface="Symbol"/>
                <a:ea typeface="Symbol"/>
              </a:rPr>
              <a:t>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 1}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316" name="Text Box 5"/>
          <p:cNvSpPr/>
          <p:nvPr/>
        </p:nvSpPr>
        <p:spPr>
          <a:xfrm>
            <a:off x="775080" y="2133720"/>
            <a:ext cx="9990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Jawab: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317" name="Text Box 6"/>
          <p:cNvSpPr/>
          <p:nvPr/>
        </p:nvSpPr>
        <p:spPr>
          <a:xfrm>
            <a:off x="1020600" y="2540160"/>
            <a:ext cx="1411560" cy="4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f</a:t>
            </a:r>
            <a:r>
              <a:rPr b="0" i="1" lang="en-US" sz="2100" spc="-1" strike="noStrike" baseline="-25000">
                <a:solidFill>
                  <a:srgbClr val="336699"/>
                </a:solidFill>
                <a:latin typeface="Verdana"/>
              </a:rPr>
              <a:t>x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(</a:t>
            </a: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x,y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) = 2x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318" name="Text Box 7"/>
          <p:cNvSpPr/>
          <p:nvPr/>
        </p:nvSpPr>
        <p:spPr>
          <a:xfrm>
            <a:off x="3751920" y="2514600"/>
            <a:ext cx="1607040" cy="4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f</a:t>
            </a:r>
            <a:r>
              <a:rPr b="0" i="1" lang="en-US" sz="2100" spc="-1" strike="noStrike" baseline="-25000">
                <a:solidFill>
                  <a:srgbClr val="336699"/>
                </a:solidFill>
                <a:latin typeface="Verdana"/>
              </a:rPr>
              <a:t>y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(</a:t>
            </a: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x,y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) = – 2y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319" name="Text Box 8"/>
          <p:cNvSpPr/>
          <p:nvPr/>
        </p:nvSpPr>
        <p:spPr>
          <a:xfrm>
            <a:off x="1037880" y="2851200"/>
            <a:ext cx="1414800" cy="4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f</a:t>
            </a:r>
            <a:r>
              <a:rPr b="0" i="1" lang="en-US" sz="2100" spc="-1" strike="noStrike" baseline="-25000">
                <a:solidFill>
                  <a:srgbClr val="336699"/>
                </a:solidFill>
                <a:latin typeface="Verdana"/>
              </a:rPr>
              <a:t>xx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(</a:t>
            </a: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x,y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) =  2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320" name="Text Box 9"/>
          <p:cNvSpPr/>
          <p:nvPr/>
        </p:nvSpPr>
        <p:spPr>
          <a:xfrm>
            <a:off x="3731400" y="2851200"/>
            <a:ext cx="1472760" cy="4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f</a:t>
            </a:r>
            <a:r>
              <a:rPr b="0" i="1" lang="en-US" sz="2100" spc="-1" strike="noStrike" baseline="-25000">
                <a:solidFill>
                  <a:srgbClr val="336699"/>
                </a:solidFill>
                <a:latin typeface="Verdana"/>
              </a:rPr>
              <a:t>yy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(</a:t>
            </a: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x,y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) = –2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321" name="Text Box 10"/>
          <p:cNvSpPr/>
          <p:nvPr/>
        </p:nvSpPr>
        <p:spPr>
          <a:xfrm>
            <a:off x="1027800" y="3232080"/>
            <a:ext cx="1341720" cy="4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f</a:t>
            </a:r>
            <a:r>
              <a:rPr b="0" i="1" lang="en-US" sz="2100" spc="-1" strike="noStrike" baseline="-25000">
                <a:solidFill>
                  <a:srgbClr val="336699"/>
                </a:solidFill>
                <a:latin typeface="Verdana"/>
              </a:rPr>
              <a:t>xy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(</a:t>
            </a: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x,y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) = 0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322" name="Text Box 11"/>
          <p:cNvSpPr/>
          <p:nvPr/>
        </p:nvSpPr>
        <p:spPr>
          <a:xfrm>
            <a:off x="1254600" y="3686040"/>
            <a:ext cx="67903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Titik stasionernya diperoleh dengan menyelesaikan 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persamaan f</a:t>
            </a:r>
            <a:r>
              <a:rPr b="0" lang="en-US" sz="2100" spc="-1" strike="noStrike" baseline="-25000">
                <a:solidFill>
                  <a:srgbClr val="336699"/>
                </a:solidFill>
                <a:latin typeface="Verdana"/>
              </a:rPr>
              <a:t>x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(x,y) = 0 dan f</a:t>
            </a:r>
            <a:r>
              <a:rPr b="0" lang="en-US" sz="2100" spc="-1" strike="noStrike" baseline="-25000">
                <a:solidFill>
                  <a:srgbClr val="336699"/>
                </a:solidFill>
                <a:latin typeface="Verdana"/>
              </a:rPr>
              <a:t>y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(x,y)=0, yaitu didapat (0,0)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323" name="Text Box 20"/>
          <p:cNvSpPr/>
          <p:nvPr/>
        </p:nvSpPr>
        <p:spPr>
          <a:xfrm>
            <a:off x="1240200" y="4460760"/>
            <a:ext cx="73256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Jadi titik-titik kritisnya adalah (0, 0)(</a:t>
            </a:r>
            <a:r>
              <a:rPr b="0" lang="en-US" sz="2100" spc="-1" strike="noStrike">
                <a:solidFill>
                  <a:srgbClr val="336699"/>
                </a:solidFill>
                <a:latin typeface="Wingdings"/>
                <a:ea typeface="Wingdings"/>
              </a:rPr>
              <a:t></a:t>
            </a: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 </a:t>
            </a:r>
            <a:r>
              <a:rPr b="0" i="1" lang="en-US" sz="2100" spc="-1" strike="noStrike" u="sng">
                <a:solidFill>
                  <a:srgbClr val="336699"/>
                </a:solidFill>
                <a:uFillTx/>
                <a:latin typeface="Verdana"/>
              </a:rPr>
              <a:t>terletak di dalam S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), 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324" name="Text Box 21"/>
          <p:cNvSpPr/>
          <p:nvPr/>
        </p:nvSpPr>
        <p:spPr>
          <a:xfrm>
            <a:off x="1047600" y="5181480"/>
            <a:ext cx="68374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Untuk titik-titik batasnya, misalkan x=cos t dan y=sint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(karena S adalah lingkaran satuan), sehingga didapat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325" name="Text Box 22"/>
          <p:cNvSpPr/>
          <p:nvPr/>
        </p:nvSpPr>
        <p:spPr>
          <a:xfrm>
            <a:off x="2971440" y="5911920"/>
            <a:ext cx="244872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f(t)=cos</a:t>
            </a:r>
            <a:r>
              <a:rPr b="0" lang="en-US" sz="2100" spc="-1" strike="noStrike" baseline="30000">
                <a:solidFill>
                  <a:srgbClr val="336699"/>
                </a:solidFill>
                <a:latin typeface="Verdana"/>
              </a:rPr>
              <a:t>2 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t – sin</a:t>
            </a:r>
            <a:r>
              <a:rPr b="0" lang="en-US" sz="2100" spc="-1" strike="noStrike" baseline="30000">
                <a:solidFill>
                  <a:srgbClr val="336699"/>
                </a:solidFill>
                <a:latin typeface="Verdana"/>
              </a:rPr>
              <a:t>2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t+1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326" name="TextBox 18"/>
          <p:cNvSpPr/>
          <p:nvPr/>
        </p:nvSpPr>
        <p:spPr>
          <a:xfrm>
            <a:off x="845640" y="4876920"/>
            <a:ext cx="17658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Dan f(0,0)=1.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</p:spTree>
  </p:cSld>
  <p:timing>
    <p:tnLst>
      <p:par>
        <p:cTn id="3917" dur="indefinite" restart="never" nodeType="tmRoot">
          <p:childTnLst>
            <p:seq>
              <p:cTn id="3918" dur="indefinite" nodeType="mainSeq">
                <p:childTnLst>
                  <p:par>
                    <p:cTn id="3919" nodeType="clickEffect" fill="hold">
                      <p:stCondLst>
                        <p:cond delay="0"/>
                      </p:stCondLst>
                      <p:childTnLst>
                        <p:par>
                          <p:cTn id="39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23" dur="80"/>
                                        <p:tgtEl>
                                          <p:spTgt spid="13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24" dur="80"/>
                                        <p:tgtEl>
                                          <p:spTgt spid="13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25" dur="80"/>
                                        <p:tgtEl>
                                          <p:spTgt spid="13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2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28" dur="80"/>
                                        <p:tgtEl>
                                          <p:spTgt spid="13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29" dur="80"/>
                                        <p:tgtEl>
                                          <p:spTgt spid="13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30" dur="80"/>
                                        <p:tgtEl>
                                          <p:spTgt spid="13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1" nodeType="clickEffect" fill="hold">
                      <p:stCondLst>
                        <p:cond delay="indefinite"/>
                      </p:stCondLst>
                      <p:childTnLst>
                        <p:par>
                          <p:cTn id="39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35" dur="500"/>
                                        <p:tgtEl>
                                          <p:spTgt spid="1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6" nodeType="clickEffect" fill="hold">
                      <p:stCondLst>
                        <p:cond delay="indefinite"/>
                      </p:stCondLst>
                      <p:childTnLst>
                        <p:par>
                          <p:cTn id="39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0" dur="500" fill="hold"/>
                                        <p:tgtEl>
                                          <p:spTgt spid="1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1" dur="500" fill="hold"/>
                                        <p:tgtEl>
                                          <p:spTgt spid="1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2" dur="500" fill="hold"/>
                                        <p:tgtEl>
                                          <p:spTgt spid="1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3" dur="500" fill="hold"/>
                                        <p:tgtEl>
                                          <p:spTgt spid="1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4" nodeType="clickEffect" fill="hold">
                      <p:stCondLst>
                        <p:cond delay="indefinite"/>
                      </p:stCondLst>
                      <p:childTnLst>
                        <p:par>
                          <p:cTn id="39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8" dur="500" fill="hold"/>
                                        <p:tgtEl>
                                          <p:spTgt spid="1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9" dur="500" fill="hold"/>
                                        <p:tgtEl>
                                          <p:spTgt spid="1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0" dur="500" fill="hold"/>
                                        <p:tgtEl>
                                          <p:spTgt spid="1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1" dur="500" fill="hold"/>
                                        <p:tgtEl>
                                          <p:spTgt spid="1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2" nodeType="clickEffect" fill="hold">
                      <p:stCondLst>
                        <p:cond delay="indefinite"/>
                      </p:stCondLst>
                      <p:childTnLst>
                        <p:par>
                          <p:cTn id="39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6" dur="500" fill="hold"/>
                                        <p:tgtEl>
                                          <p:spTgt spid="1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7" dur="500" fill="hold"/>
                                        <p:tgtEl>
                                          <p:spTgt spid="1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8" dur="500" fill="hold"/>
                                        <p:tgtEl>
                                          <p:spTgt spid="1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9" dur="500" fill="hold"/>
                                        <p:tgtEl>
                                          <p:spTgt spid="1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0" nodeType="clickEffect" fill="hold">
                      <p:stCondLst>
                        <p:cond delay="indefinite"/>
                      </p:stCondLst>
                      <p:childTnLst>
                        <p:par>
                          <p:cTn id="39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4" dur="500" fill="hold"/>
                                        <p:tgtEl>
                                          <p:spTgt spid="1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5" dur="500" fill="hold"/>
                                        <p:tgtEl>
                                          <p:spTgt spid="1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6" dur="500" fill="hold"/>
                                        <p:tgtEl>
                                          <p:spTgt spid="1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7" dur="500" fill="hold"/>
                                        <p:tgtEl>
                                          <p:spTgt spid="1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8" nodeType="clickEffect" fill="hold">
                      <p:stCondLst>
                        <p:cond delay="indefinite"/>
                      </p:stCondLst>
                      <p:childTnLst>
                        <p:par>
                          <p:cTn id="39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2" dur="500" fill="hold"/>
                                        <p:tgtEl>
                                          <p:spTgt spid="1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3" dur="500" fill="hold"/>
                                        <p:tgtEl>
                                          <p:spTgt spid="1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4" dur="500" fill="hold"/>
                                        <p:tgtEl>
                                          <p:spTgt spid="1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5" dur="500" fill="hold"/>
                                        <p:tgtEl>
                                          <p:spTgt spid="1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6" nodeType="clickEffect" fill="hold">
                      <p:stCondLst>
                        <p:cond delay="indefinite"/>
                      </p:stCondLst>
                      <p:childTnLst>
                        <p:par>
                          <p:cTn id="39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80" dur="80"/>
                                        <p:tgtEl>
                                          <p:spTgt spid="13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81" dur="80"/>
                                        <p:tgtEl>
                                          <p:spTgt spid="13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82" dur="80"/>
                                        <p:tgtEl>
                                          <p:spTgt spid="13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3" nodeType="clickEffect" fill="hold">
                      <p:stCondLst>
                        <p:cond delay="indefinite"/>
                      </p:stCondLst>
                      <p:childTnLst>
                        <p:par>
                          <p:cTn id="39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87" dur="80"/>
                                        <p:tgtEl>
                                          <p:spTgt spid="13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88" dur="80"/>
                                        <p:tgtEl>
                                          <p:spTgt spid="13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89" dur="80"/>
                                        <p:tgtEl>
                                          <p:spTgt spid="13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0" nodeType="clickEffect" fill="hold">
                      <p:stCondLst>
                        <p:cond delay="indefinite"/>
                      </p:stCondLst>
                      <p:childTnLst>
                        <p:par>
                          <p:cTn id="39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94" dur="2000"/>
                                        <p:tgtEl>
                                          <p:spTgt spid="1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5" nodeType="clickEffect" fill="hold">
                      <p:stCondLst>
                        <p:cond delay="indefinite"/>
                      </p:stCondLst>
                      <p:childTnLst>
                        <p:par>
                          <p:cTn id="39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99" dur="2000"/>
                                        <p:tgtEl>
                                          <p:spTgt spid="1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0" nodeType="clickEffect" fill="hold">
                      <p:stCondLst>
                        <p:cond delay="indefinite"/>
                      </p:stCondLst>
                      <p:childTnLst>
                        <p:par>
                          <p:cTn id="40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4" dur="500" fill="hold"/>
                                        <p:tgtEl>
                                          <p:spTgt spid="1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5" dur="500" fill="hold"/>
                                        <p:tgtEl>
                                          <p:spTgt spid="1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6" dur="500" fill="hold"/>
                                        <p:tgtEl>
                                          <p:spTgt spid="1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7" dur="500" fill="hold"/>
                                        <p:tgtEl>
                                          <p:spTgt spid="1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toh (lanjutan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"/>
          <p:cNvSpPr txBox="1"/>
          <p:nvPr/>
        </p:nvSpPr>
        <p:spPr>
          <a:xfrm>
            <a:off x="380880" y="1305000"/>
            <a:ext cx="8305920" cy="75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Untuk mendapatkan nilai maksimun dan minimun f pada S, turunkan f, yaitu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9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CB94A-6E57-4E7D-9683-E36F152FDEB4}" type="datetime">
              <a:rPr b="0" lang="en-US" sz="1200" spc="-1" strike="noStrike">
                <a:solidFill>
                  <a:srgbClr val="898989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330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Verdana"/>
              </a:rPr>
              <a:t>[MA 1124]</a:t>
            </a:r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Verdana"/>
              </a:rPr>
              <a:t>KALKULUS II</a:t>
            </a:r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33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FF440-F521-4448-86BF-284C88EDCBB9}" type="slidenum">
              <a:rPr b="0" lang="en-US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332" name="Text Box 4"/>
          <p:cNvSpPr/>
          <p:nvPr/>
        </p:nvSpPr>
        <p:spPr>
          <a:xfrm>
            <a:off x="885960" y="2209680"/>
            <a:ext cx="41493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f’(t)=–2 cos</a:t>
            </a:r>
            <a:r>
              <a:rPr b="0" lang="en-US" sz="2100" spc="-1" strike="noStrike" baseline="30000">
                <a:solidFill>
                  <a:srgbClr val="336699"/>
                </a:solidFill>
                <a:latin typeface="Verdana"/>
              </a:rPr>
              <a:t> 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t sint – 2 sint cost = 0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333" name="Text Box 5"/>
          <p:cNvSpPr/>
          <p:nvPr/>
        </p:nvSpPr>
        <p:spPr>
          <a:xfrm>
            <a:off x="6242040" y="2209680"/>
            <a:ext cx="18586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4 cos</a:t>
            </a:r>
            <a:r>
              <a:rPr b="0" lang="en-US" sz="2100" spc="-1" strike="noStrike" baseline="30000">
                <a:solidFill>
                  <a:srgbClr val="336699"/>
                </a:solidFill>
                <a:latin typeface="Verdana"/>
              </a:rPr>
              <a:t> 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t sint= 0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334" name="Text Box 6"/>
          <p:cNvSpPr/>
          <p:nvPr/>
        </p:nvSpPr>
        <p:spPr>
          <a:xfrm>
            <a:off x="5541480" y="2133720"/>
            <a:ext cx="59976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99"/>
                </a:solidFill>
                <a:latin typeface="Wingdings"/>
                <a:ea typeface="Wingdings"/>
              </a:rPr>
              <a:t></a:t>
            </a:r>
            <a:endParaRPr b="0" lang="en-US" sz="33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335" name="Text Box 7"/>
          <p:cNvSpPr/>
          <p:nvPr/>
        </p:nvSpPr>
        <p:spPr>
          <a:xfrm>
            <a:off x="552240" y="2711520"/>
            <a:ext cx="116532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sin2t= 0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336" name="Text Box 8"/>
          <p:cNvSpPr/>
          <p:nvPr/>
        </p:nvSpPr>
        <p:spPr>
          <a:xfrm>
            <a:off x="2241000" y="3124080"/>
            <a:ext cx="59976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99"/>
                </a:solidFill>
                <a:latin typeface="Wingdings"/>
                <a:ea typeface="Wingdings"/>
              </a:rPr>
              <a:t></a:t>
            </a:r>
            <a:endParaRPr b="0" lang="en-US" sz="33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337" name="Text Box 9"/>
          <p:cNvSpPr/>
          <p:nvPr/>
        </p:nvSpPr>
        <p:spPr>
          <a:xfrm>
            <a:off x="2368080" y="2712960"/>
            <a:ext cx="19724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2t= 0, </a:t>
            </a:r>
            <a:r>
              <a:rPr b="0" lang="en-US" sz="2100" spc="-1" strike="noStrike">
                <a:solidFill>
                  <a:srgbClr val="336699"/>
                </a:solidFill>
                <a:latin typeface="Symbol"/>
                <a:ea typeface="Symbol"/>
              </a:rPr>
              <a:t>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, 2</a:t>
            </a:r>
            <a:r>
              <a:rPr b="0" lang="en-US" sz="2100" spc="-1" strike="noStrike">
                <a:solidFill>
                  <a:srgbClr val="336699"/>
                </a:solidFill>
                <a:latin typeface="Symbol"/>
                <a:ea typeface="Symbol"/>
              </a:rPr>
              <a:t>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, 3</a:t>
            </a:r>
            <a:r>
              <a:rPr b="0" lang="en-US" sz="2100" spc="-1" strike="noStrike">
                <a:solidFill>
                  <a:srgbClr val="336699"/>
                </a:solidFill>
                <a:latin typeface="Symbol"/>
                <a:ea typeface="Symbol"/>
              </a:rPr>
              <a:t>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338" name="Text Box 10"/>
          <p:cNvSpPr/>
          <p:nvPr/>
        </p:nvSpPr>
        <p:spPr>
          <a:xfrm>
            <a:off x="4415760" y="2654280"/>
            <a:ext cx="59976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99"/>
                </a:solidFill>
                <a:latin typeface="Wingdings"/>
                <a:ea typeface="Wingdings"/>
              </a:rPr>
              <a:t></a:t>
            </a:r>
            <a:endParaRPr b="0" lang="en-US" sz="33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339" name="Text Box 11"/>
          <p:cNvSpPr/>
          <p:nvPr/>
        </p:nvSpPr>
        <p:spPr>
          <a:xfrm>
            <a:off x="5150160" y="2712960"/>
            <a:ext cx="21708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t= 0, </a:t>
            </a:r>
            <a:r>
              <a:rPr b="0" lang="en-US" sz="2100" spc="-1" strike="noStrike">
                <a:solidFill>
                  <a:srgbClr val="336699"/>
                </a:solidFill>
                <a:latin typeface="Symbol"/>
                <a:ea typeface="Symbol"/>
              </a:rPr>
              <a:t>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/2, </a:t>
            </a:r>
            <a:r>
              <a:rPr b="0" lang="en-US" sz="2100" spc="-1" strike="noStrike">
                <a:solidFill>
                  <a:srgbClr val="336699"/>
                </a:solidFill>
                <a:latin typeface="Symbol"/>
                <a:ea typeface="Symbol"/>
              </a:rPr>
              <a:t>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, 3</a:t>
            </a:r>
            <a:r>
              <a:rPr b="0" lang="en-US" sz="2100" spc="-1" strike="noStrike">
                <a:solidFill>
                  <a:srgbClr val="336699"/>
                </a:solidFill>
                <a:latin typeface="Symbol"/>
                <a:ea typeface="Symbol"/>
              </a:rPr>
              <a:t>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/2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340" name="Text Box 12"/>
          <p:cNvSpPr/>
          <p:nvPr/>
        </p:nvSpPr>
        <p:spPr>
          <a:xfrm>
            <a:off x="551520" y="3193920"/>
            <a:ext cx="16239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Untuk t = 0 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341" name="Text Box 15"/>
          <p:cNvSpPr/>
          <p:nvPr/>
        </p:nvSpPr>
        <p:spPr>
          <a:xfrm>
            <a:off x="2916000" y="3193920"/>
            <a:ext cx="14896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x = 1, y = 0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342" name="Text Box 16"/>
          <p:cNvSpPr/>
          <p:nvPr/>
        </p:nvSpPr>
        <p:spPr>
          <a:xfrm>
            <a:off x="4527000" y="3124080"/>
            <a:ext cx="59976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99"/>
                </a:solidFill>
                <a:latin typeface="Wingdings"/>
                <a:ea typeface="Wingdings"/>
              </a:rPr>
              <a:t></a:t>
            </a:r>
            <a:endParaRPr b="0" lang="en-US" sz="33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343" name="Text Box 17"/>
          <p:cNvSpPr/>
          <p:nvPr/>
        </p:nvSpPr>
        <p:spPr>
          <a:xfrm>
            <a:off x="5178600" y="3200400"/>
            <a:ext cx="13251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f(1, 0) = 2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344" name="Text Box 19"/>
          <p:cNvSpPr/>
          <p:nvPr/>
        </p:nvSpPr>
        <p:spPr>
          <a:xfrm>
            <a:off x="1731240" y="2617920"/>
            <a:ext cx="59976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99"/>
                </a:solidFill>
                <a:latin typeface="Wingdings"/>
                <a:ea typeface="Wingdings"/>
              </a:rPr>
              <a:t></a:t>
            </a:r>
            <a:endParaRPr b="0" lang="en-US" sz="33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345" name="Text Box 20"/>
          <p:cNvSpPr/>
          <p:nvPr/>
        </p:nvSpPr>
        <p:spPr>
          <a:xfrm>
            <a:off x="2369520" y="3595680"/>
            <a:ext cx="59976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99"/>
                </a:solidFill>
                <a:latin typeface="Wingdings"/>
                <a:ea typeface="Wingdings"/>
              </a:rPr>
              <a:t></a:t>
            </a:r>
            <a:endParaRPr b="0" lang="en-US" sz="33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346" name="Text Box 21"/>
          <p:cNvSpPr/>
          <p:nvPr/>
        </p:nvSpPr>
        <p:spPr>
          <a:xfrm>
            <a:off x="578160" y="3666960"/>
            <a:ext cx="186912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Untuk t = </a:t>
            </a:r>
            <a:r>
              <a:rPr b="0" lang="en-US" sz="2100" spc="-1" strike="noStrike">
                <a:solidFill>
                  <a:srgbClr val="336699"/>
                </a:solidFill>
                <a:latin typeface="Symbol"/>
                <a:ea typeface="Symbol"/>
              </a:rPr>
              <a:t>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/2 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347" name="Text Box 22"/>
          <p:cNvSpPr/>
          <p:nvPr/>
        </p:nvSpPr>
        <p:spPr>
          <a:xfrm>
            <a:off x="3044520" y="3665520"/>
            <a:ext cx="14896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x = 0, y = 1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348" name="Text Box 23"/>
          <p:cNvSpPr/>
          <p:nvPr/>
        </p:nvSpPr>
        <p:spPr>
          <a:xfrm>
            <a:off x="4655520" y="3595680"/>
            <a:ext cx="59976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99"/>
                </a:solidFill>
                <a:latin typeface="Wingdings"/>
                <a:ea typeface="Wingdings"/>
              </a:rPr>
              <a:t></a:t>
            </a:r>
            <a:endParaRPr b="0" lang="en-US" sz="33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349" name="Text Box 24"/>
          <p:cNvSpPr/>
          <p:nvPr/>
        </p:nvSpPr>
        <p:spPr>
          <a:xfrm>
            <a:off x="5307120" y="3672000"/>
            <a:ext cx="13251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f(0, 1) = 0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350" name="Text Box 30"/>
          <p:cNvSpPr/>
          <p:nvPr/>
        </p:nvSpPr>
        <p:spPr>
          <a:xfrm>
            <a:off x="2256840" y="4114800"/>
            <a:ext cx="59976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99"/>
                </a:solidFill>
                <a:latin typeface="Wingdings"/>
                <a:ea typeface="Wingdings"/>
              </a:rPr>
              <a:t></a:t>
            </a:r>
            <a:endParaRPr b="0" lang="en-US" sz="33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351" name="Text Box 31"/>
          <p:cNvSpPr/>
          <p:nvPr/>
        </p:nvSpPr>
        <p:spPr>
          <a:xfrm>
            <a:off x="546840" y="4186080"/>
            <a:ext cx="15476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Untuk t = </a:t>
            </a:r>
            <a:r>
              <a:rPr b="0" lang="en-US" sz="2100" spc="-1" strike="noStrike">
                <a:solidFill>
                  <a:srgbClr val="336699"/>
                </a:solidFill>
                <a:latin typeface="Symbol"/>
                <a:ea typeface="Symbol"/>
              </a:rPr>
              <a:t>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352" name="Text Box 32"/>
          <p:cNvSpPr/>
          <p:nvPr/>
        </p:nvSpPr>
        <p:spPr>
          <a:xfrm>
            <a:off x="2949120" y="4184640"/>
            <a:ext cx="15753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x = -1, y = 0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353" name="Text Box 33"/>
          <p:cNvSpPr/>
          <p:nvPr/>
        </p:nvSpPr>
        <p:spPr>
          <a:xfrm>
            <a:off x="4542840" y="4114800"/>
            <a:ext cx="59976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99"/>
                </a:solidFill>
                <a:latin typeface="Wingdings"/>
                <a:ea typeface="Wingdings"/>
              </a:rPr>
              <a:t></a:t>
            </a:r>
            <a:endParaRPr b="0" lang="en-US" sz="33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354" name="Text Box 34"/>
          <p:cNvSpPr/>
          <p:nvPr/>
        </p:nvSpPr>
        <p:spPr>
          <a:xfrm>
            <a:off x="5212080" y="4191120"/>
            <a:ext cx="14104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f(-1, 0) = 2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355" name="Text Box 35"/>
          <p:cNvSpPr/>
          <p:nvPr/>
        </p:nvSpPr>
        <p:spPr>
          <a:xfrm>
            <a:off x="2521800" y="4662360"/>
            <a:ext cx="59976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99"/>
                </a:solidFill>
                <a:latin typeface="Wingdings"/>
                <a:ea typeface="Wingdings"/>
              </a:rPr>
              <a:t></a:t>
            </a:r>
            <a:endParaRPr b="0" lang="en-US" sz="33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356" name="Text Box 36"/>
          <p:cNvSpPr/>
          <p:nvPr/>
        </p:nvSpPr>
        <p:spPr>
          <a:xfrm>
            <a:off x="587160" y="4734000"/>
            <a:ext cx="20214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Untuk t = 3</a:t>
            </a:r>
            <a:r>
              <a:rPr b="0" lang="en-US" sz="2100" spc="-1" strike="noStrike">
                <a:solidFill>
                  <a:srgbClr val="336699"/>
                </a:solidFill>
                <a:latin typeface="Symbol"/>
                <a:ea typeface="Symbol"/>
              </a:rPr>
              <a:t>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/2 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357" name="Text Box 37"/>
          <p:cNvSpPr/>
          <p:nvPr/>
        </p:nvSpPr>
        <p:spPr>
          <a:xfrm>
            <a:off x="3214440" y="4732200"/>
            <a:ext cx="15753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x = 0, y = -1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358" name="Text Box 38"/>
          <p:cNvSpPr/>
          <p:nvPr/>
        </p:nvSpPr>
        <p:spPr>
          <a:xfrm>
            <a:off x="4807800" y="4662360"/>
            <a:ext cx="59976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99"/>
                </a:solidFill>
                <a:latin typeface="Wingdings"/>
                <a:ea typeface="Wingdings"/>
              </a:rPr>
              <a:t></a:t>
            </a:r>
            <a:endParaRPr b="0" lang="en-US" sz="33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359" name="Text Box 39"/>
          <p:cNvSpPr/>
          <p:nvPr/>
        </p:nvSpPr>
        <p:spPr>
          <a:xfrm>
            <a:off x="5477400" y="4738680"/>
            <a:ext cx="14104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f(0, -1) = 0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360" name="Text Box 40"/>
          <p:cNvSpPr/>
          <p:nvPr/>
        </p:nvSpPr>
        <p:spPr>
          <a:xfrm>
            <a:off x="916200" y="5327640"/>
            <a:ext cx="71514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Jadi nilai maksimum global = 2 pada titik (1,0) dan (-1,0),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361" name="Text Box 41"/>
          <p:cNvSpPr/>
          <p:nvPr/>
        </p:nvSpPr>
        <p:spPr>
          <a:xfrm>
            <a:off x="945360" y="5708520"/>
            <a:ext cx="76788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Sedangkan nilai minimun global=0 pada titik (0,1) dan (0,-1) 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</p:spTree>
  </p:cSld>
  <p:timing>
    <p:tnLst>
      <p:par>
        <p:cTn id="4008" dur="indefinite" restart="never" nodeType="tmRoot">
          <p:childTnLst>
            <p:seq>
              <p:cTn id="4009" dur="indefinite" nodeType="mainSeq">
                <p:childTnLst>
                  <p:par>
                    <p:cTn id="4010" nodeType="clickEffect" fill="hold">
                      <p:stCondLst>
                        <p:cond delay="indefinite"/>
                      </p:stCondLst>
                      <p:childTnLst>
                        <p:par>
                          <p:cTn id="40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4" dur="500" fill="hold"/>
                                        <p:tgtEl>
                                          <p:spTgt spid="1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5" dur="500" fill="hold"/>
                                        <p:tgtEl>
                                          <p:spTgt spid="1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6" dur="500" fill="hold"/>
                                        <p:tgtEl>
                                          <p:spTgt spid="1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7" dur="500" fill="hold"/>
                                        <p:tgtEl>
                                          <p:spTgt spid="1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8" nodeType="clickEffect" fill="hold">
                      <p:stCondLst>
                        <p:cond delay="indefinite"/>
                      </p:stCondLst>
                      <p:childTnLst>
                        <p:par>
                          <p:cTn id="40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2" dur="500" fill="hold"/>
                                        <p:tgtEl>
                                          <p:spTgt spid="1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3" dur="500" fill="hold"/>
                                        <p:tgtEl>
                                          <p:spTgt spid="1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4" dur="500" fill="hold"/>
                                        <p:tgtEl>
                                          <p:spTgt spid="13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5" dur="500"/>
                                        <p:tgtEl>
                                          <p:spTgt spid="1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6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8" dur="500" fill="hold"/>
                                        <p:tgtEl>
                                          <p:spTgt spid="1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9" dur="500" fill="hold"/>
                                        <p:tgtEl>
                                          <p:spTgt spid="1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0" dur="500" fill="hold"/>
                                        <p:tgtEl>
                                          <p:spTgt spid="1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1" dur="500" fill="hold"/>
                                        <p:tgtEl>
                                          <p:spTgt spid="1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2" nodeType="clickEffect" fill="hold">
                      <p:stCondLst>
                        <p:cond delay="indefinite"/>
                      </p:stCondLst>
                      <p:childTnLst>
                        <p:par>
                          <p:cTn id="40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6" dur="500" fill="hold"/>
                                        <p:tgtEl>
                                          <p:spTgt spid="1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7" dur="500" fill="hold"/>
                                        <p:tgtEl>
                                          <p:spTgt spid="1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8" dur="500" fill="hold"/>
                                        <p:tgtEl>
                                          <p:spTgt spid="1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9" dur="500" fill="hold"/>
                                        <p:tgtEl>
                                          <p:spTgt spid="1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0" nodeType="clickEffect" fill="hold">
                      <p:stCondLst>
                        <p:cond delay="indefinite"/>
                      </p:stCondLst>
                      <p:childTnLst>
                        <p:par>
                          <p:cTn id="40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2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4" dur="500" fill="hold"/>
                                        <p:tgtEl>
                                          <p:spTgt spid="1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5" dur="500" fill="hold"/>
                                        <p:tgtEl>
                                          <p:spTgt spid="1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6" dur="500" fill="hold"/>
                                        <p:tgtEl>
                                          <p:spTgt spid="13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47" dur="500"/>
                                        <p:tgtEl>
                                          <p:spTgt spid="1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8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0" dur="500" fill="hold"/>
                                        <p:tgtEl>
                                          <p:spTgt spid="1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1" dur="500" fill="hold"/>
                                        <p:tgtEl>
                                          <p:spTgt spid="1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2" dur="500" fill="hold"/>
                                        <p:tgtEl>
                                          <p:spTgt spid="1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3" dur="500" fill="hold"/>
                                        <p:tgtEl>
                                          <p:spTgt spid="1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4" nodeType="clickEffect" fill="hold">
                      <p:stCondLst>
                        <p:cond delay="indefinite"/>
                      </p:stCondLst>
                      <p:childTnLst>
                        <p:par>
                          <p:cTn id="40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8" dur="500" fill="hold"/>
                                        <p:tgtEl>
                                          <p:spTgt spid="1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9" dur="500" fill="hold"/>
                                        <p:tgtEl>
                                          <p:spTgt spid="1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0" dur="500" fill="hold"/>
                                        <p:tgtEl>
                                          <p:spTgt spid="13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61" dur="500"/>
                                        <p:tgtEl>
                                          <p:spTgt spid="1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2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4" dur="500" fill="hold"/>
                                        <p:tgtEl>
                                          <p:spTgt spid="1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5" dur="500" fill="hold"/>
                                        <p:tgtEl>
                                          <p:spTgt spid="1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6" dur="500" fill="hold"/>
                                        <p:tgtEl>
                                          <p:spTgt spid="1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7" dur="500" fill="hold"/>
                                        <p:tgtEl>
                                          <p:spTgt spid="1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8" nodeType="clickEffect" fill="hold">
                      <p:stCondLst>
                        <p:cond delay="indefinite"/>
                      </p:stCondLst>
                      <p:childTnLst>
                        <p:par>
                          <p:cTn id="40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72" dur="80"/>
                                        <p:tgtEl>
                                          <p:spTgt spid="13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73" dur="80"/>
                                        <p:tgtEl>
                                          <p:spTgt spid="13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74" dur="80"/>
                                        <p:tgtEl>
                                          <p:spTgt spid="13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5" nodeType="afterEffect" fill="hold">
                            <p:stCondLst>
                              <p:cond delay="360"/>
                            </p:stCondLst>
                            <p:childTnLst>
                              <p:par>
                                <p:cTn id="4076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8" dur="500" fill="hold"/>
                                        <p:tgtEl>
                                          <p:spTgt spid="1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9" dur="500" fill="hold"/>
                                        <p:tgtEl>
                                          <p:spTgt spid="1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0" dur="500" fill="hold"/>
                                        <p:tgtEl>
                                          <p:spTgt spid="13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1" dur="500"/>
                                        <p:tgtEl>
                                          <p:spTgt spid="1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2" nodeType="afterEffect" fill="hold">
                            <p:stCondLst>
                              <p:cond delay="860"/>
                            </p:stCondLst>
                            <p:childTnLst>
                              <p:par>
                                <p:cTn id="408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85" dur="80"/>
                                        <p:tgtEl>
                                          <p:spTgt spid="13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86" dur="80"/>
                                        <p:tgtEl>
                                          <p:spTgt spid="13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87" dur="80"/>
                                        <p:tgtEl>
                                          <p:spTgt spid="13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8" nodeType="afterEffect" fill="hold">
                            <p:stCondLst>
                              <p:cond delay="940"/>
                            </p:stCondLst>
                            <p:childTnLst>
                              <p:par>
                                <p:cTn id="408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91" dur="80"/>
                                        <p:tgtEl>
                                          <p:spTgt spid="13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92" dur="80"/>
                                        <p:tgtEl>
                                          <p:spTgt spid="13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93" dur="80"/>
                                        <p:tgtEl>
                                          <p:spTgt spid="13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4" nodeType="afterEffect" fill="hold">
                            <p:stCondLst>
                              <p:cond delay="1260"/>
                            </p:stCondLst>
                            <p:childTnLst>
                              <p:par>
                                <p:cTn id="409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7" dur="500" fill="hold"/>
                                        <p:tgtEl>
                                          <p:spTgt spid="1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8" dur="500" fill="hold"/>
                                        <p:tgtEl>
                                          <p:spTgt spid="1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9" dur="500" fill="hold"/>
                                        <p:tgtEl>
                                          <p:spTgt spid="13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00" dur="500"/>
                                        <p:tgtEl>
                                          <p:spTgt spid="1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1" nodeType="afterEffect" fill="hold">
                            <p:stCondLst>
                              <p:cond delay="1760"/>
                            </p:stCondLst>
                            <p:childTnLst>
                              <p:par>
                                <p:cTn id="410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04" dur="80"/>
                                        <p:tgtEl>
                                          <p:spTgt spid="13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05" dur="80"/>
                                        <p:tgtEl>
                                          <p:spTgt spid="13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06" dur="80"/>
                                        <p:tgtEl>
                                          <p:spTgt spid="13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7" nodeType="afterEffect" fill="hold">
                            <p:stCondLst>
                              <p:cond delay="2120"/>
                            </p:stCondLst>
                            <p:childTnLst>
                              <p:par>
                                <p:cTn id="410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10" dur="80"/>
                                        <p:tgtEl>
                                          <p:spTgt spid="13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11" dur="80"/>
                                        <p:tgtEl>
                                          <p:spTgt spid="13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12" dur="80"/>
                                        <p:tgtEl>
                                          <p:spTgt spid="13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3" nodeType="clickEffect" fill="hold">
                      <p:stCondLst>
                        <p:cond delay="indefinite"/>
                      </p:stCondLst>
                      <p:childTnLst>
                        <p:par>
                          <p:cTn id="4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17" dur="80"/>
                                        <p:tgtEl>
                                          <p:spTgt spid="13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18" dur="80"/>
                                        <p:tgtEl>
                                          <p:spTgt spid="13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19" dur="80"/>
                                        <p:tgtEl>
                                          <p:spTgt spid="13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0" nodeType="afterEffect" fill="hold">
                            <p:stCondLst>
                              <p:cond delay="440"/>
                            </p:stCondLst>
                            <p:childTnLst>
                              <p:par>
                                <p:cTn id="4121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3" dur="500" fill="hold"/>
                                        <p:tgtEl>
                                          <p:spTgt spid="1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4" dur="500" fill="hold"/>
                                        <p:tgtEl>
                                          <p:spTgt spid="1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5" dur="500" fill="hold"/>
                                        <p:tgtEl>
                                          <p:spTgt spid="13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26" dur="500"/>
                                        <p:tgtEl>
                                          <p:spTgt spid="1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7" nodeType="afterEffect" fill="hold">
                            <p:stCondLst>
                              <p:cond delay="940"/>
                            </p:stCondLst>
                            <p:childTnLst>
                              <p:par>
                                <p:cTn id="412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30" dur="80"/>
                                        <p:tgtEl>
                                          <p:spTgt spid="13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31" dur="80"/>
                                        <p:tgtEl>
                                          <p:spTgt spid="13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32" dur="80"/>
                                        <p:tgtEl>
                                          <p:spTgt spid="13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3" nodeType="afterEffect" fill="hold">
                            <p:stCondLst>
                              <p:cond delay="1020"/>
                            </p:stCondLst>
                            <p:childTnLst>
                              <p:par>
                                <p:cTn id="413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36" dur="80"/>
                                        <p:tgtEl>
                                          <p:spTgt spid="13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37" dur="80"/>
                                        <p:tgtEl>
                                          <p:spTgt spid="13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38" dur="80"/>
                                        <p:tgtEl>
                                          <p:spTgt spid="13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9" nodeType="afterEffect" fill="hold">
                            <p:stCondLst>
                              <p:cond delay="1340"/>
                            </p:stCondLst>
                            <p:childTnLst>
                              <p:par>
                                <p:cTn id="414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2" dur="500" fill="hold"/>
                                        <p:tgtEl>
                                          <p:spTgt spid="1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3" dur="500" fill="hold"/>
                                        <p:tgtEl>
                                          <p:spTgt spid="1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4" dur="500" fill="hold"/>
                                        <p:tgtEl>
                                          <p:spTgt spid="13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45" dur="500"/>
                                        <p:tgtEl>
                                          <p:spTgt spid="1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6" nodeType="afterEffect" fill="hold">
                            <p:stCondLst>
                              <p:cond delay="1840"/>
                            </p:stCondLst>
                            <p:childTnLst>
                              <p:par>
                                <p:cTn id="414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49" dur="80"/>
                                        <p:tgtEl>
                                          <p:spTgt spid="13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50" dur="80"/>
                                        <p:tgtEl>
                                          <p:spTgt spid="13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51" dur="80"/>
                                        <p:tgtEl>
                                          <p:spTgt spid="13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2" nodeType="clickEffect" fill="hold">
                      <p:stCondLst>
                        <p:cond delay="indefinite"/>
                      </p:stCondLst>
                      <p:childTnLst>
                        <p:par>
                          <p:cTn id="4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56" dur="80"/>
                                        <p:tgtEl>
                                          <p:spTgt spid="13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57" dur="80"/>
                                        <p:tgtEl>
                                          <p:spTgt spid="13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58" dur="80"/>
                                        <p:tgtEl>
                                          <p:spTgt spid="13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9" nodeType="afterEffect" fill="hold">
                            <p:stCondLst>
                              <p:cond delay="360"/>
                            </p:stCondLst>
                            <p:childTnLst>
                              <p:par>
                                <p:cTn id="4160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2" dur="500" fill="hold"/>
                                        <p:tgtEl>
                                          <p:spTgt spid="1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3" dur="500" fill="hold"/>
                                        <p:tgtEl>
                                          <p:spTgt spid="1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4" dur="500" fill="hold"/>
                                        <p:tgtEl>
                                          <p:spTgt spid="13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65" dur="500"/>
                                        <p:tgtEl>
                                          <p:spTgt spid="1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6" nodeType="afterEffect" fill="hold">
                            <p:stCondLst>
                              <p:cond delay="860"/>
                            </p:stCondLst>
                            <p:childTnLst>
                              <p:par>
                                <p:cTn id="416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69" dur="80"/>
                                        <p:tgtEl>
                                          <p:spTgt spid="13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70" dur="80"/>
                                        <p:tgtEl>
                                          <p:spTgt spid="13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71" dur="80"/>
                                        <p:tgtEl>
                                          <p:spTgt spid="13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2" nodeType="afterEffect" fill="hold">
                            <p:stCondLst>
                              <p:cond delay="940"/>
                            </p:stCondLst>
                            <p:childTnLst>
                              <p:par>
                                <p:cTn id="417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75" dur="80"/>
                                        <p:tgtEl>
                                          <p:spTgt spid="13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76" dur="80"/>
                                        <p:tgtEl>
                                          <p:spTgt spid="13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77" dur="80"/>
                                        <p:tgtEl>
                                          <p:spTgt spid="13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8" nodeType="afterEffect" fill="hold">
                            <p:stCondLst>
                              <p:cond delay="1300"/>
                            </p:stCondLst>
                            <p:childTnLst>
                              <p:par>
                                <p:cTn id="417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1" dur="500" fill="hold"/>
                                        <p:tgtEl>
                                          <p:spTgt spid="1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2" dur="500" fill="hold"/>
                                        <p:tgtEl>
                                          <p:spTgt spid="1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3" dur="500" fill="hold"/>
                                        <p:tgtEl>
                                          <p:spTgt spid="13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84" dur="500"/>
                                        <p:tgtEl>
                                          <p:spTgt spid="1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5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418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88" dur="80"/>
                                        <p:tgtEl>
                                          <p:spTgt spid="13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89" dur="80"/>
                                        <p:tgtEl>
                                          <p:spTgt spid="13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90" dur="80"/>
                                        <p:tgtEl>
                                          <p:spTgt spid="13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1" nodeType="clickEffect" fill="hold">
                      <p:stCondLst>
                        <p:cond delay="indefinite"/>
                      </p:stCondLst>
                      <p:childTnLst>
                        <p:par>
                          <p:cTn id="4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95" dur="80"/>
                                        <p:tgtEl>
                                          <p:spTgt spid="13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96" dur="80"/>
                                        <p:tgtEl>
                                          <p:spTgt spid="13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97" dur="80"/>
                                        <p:tgtEl>
                                          <p:spTgt spid="13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8" nodeType="afterEffect" fill="hold">
                            <p:stCondLst>
                              <p:cond delay="480"/>
                            </p:stCondLst>
                            <p:childTnLst>
                              <p:par>
                                <p:cTn id="4199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1" dur="500" fill="hold"/>
                                        <p:tgtEl>
                                          <p:spTgt spid="1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2" dur="500" fill="hold"/>
                                        <p:tgtEl>
                                          <p:spTgt spid="1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3" dur="500" fill="hold"/>
                                        <p:tgtEl>
                                          <p:spTgt spid="13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04" dur="500"/>
                                        <p:tgtEl>
                                          <p:spTgt spid="1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5" nodeType="afterEffect" fill="hold">
                            <p:stCondLst>
                              <p:cond delay="980"/>
                            </p:stCondLst>
                            <p:childTnLst>
                              <p:par>
                                <p:cTn id="420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08" dur="80"/>
                                        <p:tgtEl>
                                          <p:spTgt spid="13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09" dur="80"/>
                                        <p:tgtEl>
                                          <p:spTgt spid="13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10" dur="80"/>
                                        <p:tgtEl>
                                          <p:spTgt spid="13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1" nodeType="afterEffect" fill="hold">
                            <p:stCondLst>
                              <p:cond delay="1060"/>
                            </p:stCondLst>
                            <p:childTnLst>
                              <p:par>
                                <p:cTn id="421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14" dur="80"/>
                                        <p:tgtEl>
                                          <p:spTgt spid="13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15" dur="80"/>
                                        <p:tgtEl>
                                          <p:spTgt spid="13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16" dur="80"/>
                                        <p:tgtEl>
                                          <p:spTgt spid="13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7" nodeType="afterEffect" fill="hold">
                            <p:stCondLst>
                              <p:cond delay="1420"/>
                            </p:stCondLst>
                            <p:childTnLst>
                              <p:par>
                                <p:cTn id="421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0" dur="500" fill="hold"/>
                                        <p:tgtEl>
                                          <p:spTgt spid="1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1" dur="500" fill="hold"/>
                                        <p:tgtEl>
                                          <p:spTgt spid="1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2" dur="500" fill="hold"/>
                                        <p:tgtEl>
                                          <p:spTgt spid="13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23" dur="500"/>
                                        <p:tgtEl>
                                          <p:spTgt spid="1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4" nodeType="afterEffect" fill="hold">
                            <p:stCondLst>
                              <p:cond delay="1920"/>
                            </p:stCondLst>
                            <p:childTnLst>
                              <p:par>
                                <p:cTn id="42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27" dur="80"/>
                                        <p:tgtEl>
                                          <p:spTgt spid="13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28" dur="80"/>
                                        <p:tgtEl>
                                          <p:spTgt spid="13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29" dur="80"/>
                                        <p:tgtEl>
                                          <p:spTgt spid="13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0" nodeType="clickEffect" fill="hold">
                      <p:stCondLst>
                        <p:cond delay="indefinite"/>
                      </p:stCondLst>
                      <p:childTnLst>
                        <p:par>
                          <p:cTn id="4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34" dur="80"/>
                                        <p:tgtEl>
                                          <p:spTgt spid="13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35" dur="80"/>
                                        <p:tgtEl>
                                          <p:spTgt spid="13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36" dur="80"/>
                                        <p:tgtEl>
                                          <p:spTgt spid="13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23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40" dur="80"/>
                                        <p:tgtEl>
                                          <p:spTgt spid="13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41" dur="80"/>
                                        <p:tgtEl>
                                          <p:spTgt spid="13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42" dur="80"/>
                                        <p:tgtEl>
                                          <p:spTgt spid="13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ambar Ellipsoid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3960E-9A58-4785-ABDE-6B75538F7385}" type="datetime">
              <a:rPr b="0" lang="en-US" sz="1200" spc="-1" strike="noStrike">
                <a:solidFill>
                  <a:srgbClr val="898989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339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Verdana"/>
              </a:rPr>
              <a:t>[MA 1124]</a:t>
            </a:r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Verdana"/>
              </a:rPr>
              <a:t>KALKULUS II</a:t>
            </a:r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34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7B9C3-B6B7-409B-A643-DEEBD2B92E11}" type="slidenum">
              <a:rPr b="0" lang="en-US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</p:txBody>
      </p:sp>
      <p:grpSp>
        <p:nvGrpSpPr>
          <p:cNvPr id="341" name="Group 4"/>
          <p:cNvGrpSpPr/>
          <p:nvPr/>
        </p:nvGrpSpPr>
        <p:grpSpPr>
          <a:xfrm>
            <a:off x="1952640" y="2209680"/>
            <a:ext cx="4343040" cy="2895480"/>
            <a:chOff x="1952640" y="2209680"/>
            <a:chExt cx="4343040" cy="2895480"/>
          </a:xfrm>
        </p:grpSpPr>
        <p:sp>
          <p:nvSpPr>
            <p:cNvPr id="342" name="Line 5"/>
            <p:cNvSpPr/>
            <p:nvPr/>
          </p:nvSpPr>
          <p:spPr>
            <a:xfrm flipV="1">
              <a:off x="3830400" y="2360160"/>
              <a:ext cx="0" cy="26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336699"/>
                </a:solidFill>
                <a:latin typeface="Verdana"/>
              </a:endParaRPr>
            </a:p>
          </p:txBody>
        </p:sp>
        <p:sp>
          <p:nvSpPr>
            <p:cNvPr id="343" name="Line 6"/>
            <p:cNvSpPr/>
            <p:nvPr/>
          </p:nvSpPr>
          <p:spPr>
            <a:xfrm>
              <a:off x="2464560" y="3857040"/>
              <a:ext cx="3243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336699"/>
                </a:solidFill>
                <a:latin typeface="Verdana"/>
              </a:endParaRPr>
            </a:p>
          </p:txBody>
        </p:sp>
        <p:sp>
          <p:nvSpPr>
            <p:cNvPr id="344" name="Line 7"/>
            <p:cNvSpPr/>
            <p:nvPr/>
          </p:nvSpPr>
          <p:spPr>
            <a:xfrm flipH="1">
              <a:off x="2293920" y="3100320"/>
              <a:ext cx="2655360" cy="1788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336699"/>
                </a:solidFill>
                <a:latin typeface="Verdana"/>
              </a:endParaRPr>
            </a:p>
          </p:txBody>
        </p:sp>
        <p:sp>
          <p:nvSpPr>
            <p:cNvPr id="345" name="Text Box 8"/>
            <p:cNvSpPr/>
            <p:nvPr/>
          </p:nvSpPr>
          <p:spPr>
            <a:xfrm>
              <a:off x="3450960" y="2209680"/>
              <a:ext cx="682560" cy="58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6699"/>
                  </a:solidFill>
                  <a:latin typeface="Verdana"/>
                </a:rPr>
                <a:t>Z</a:t>
              </a:r>
              <a:endParaRPr b="0" lang="en-US" sz="1200" spc="-1" strike="noStrike">
                <a:solidFill>
                  <a:srgbClr val="336699"/>
                </a:solidFill>
                <a:latin typeface="Verdana"/>
              </a:endParaRPr>
            </a:p>
          </p:txBody>
        </p:sp>
        <p:sp>
          <p:nvSpPr>
            <p:cNvPr id="346" name="Text Box 9"/>
            <p:cNvSpPr/>
            <p:nvPr/>
          </p:nvSpPr>
          <p:spPr>
            <a:xfrm>
              <a:off x="1952640" y="4521600"/>
              <a:ext cx="682560" cy="58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6699"/>
                  </a:solidFill>
                  <a:latin typeface="Verdana"/>
                </a:rPr>
                <a:t> </a:t>
              </a:r>
              <a:r>
                <a:rPr b="0" lang="en-US" sz="1100" spc="-1" strike="noStrike">
                  <a:solidFill>
                    <a:srgbClr val="336699"/>
                  </a:solidFill>
                  <a:latin typeface="Verdana"/>
                </a:rPr>
                <a:t>x</a:t>
              </a:r>
              <a:endParaRPr b="0" lang="en-US" sz="1100" spc="-1" strike="noStrike">
                <a:solidFill>
                  <a:srgbClr val="336699"/>
                </a:solidFill>
                <a:latin typeface="Verdana"/>
              </a:endParaRPr>
            </a:p>
          </p:txBody>
        </p:sp>
        <p:sp>
          <p:nvSpPr>
            <p:cNvPr id="347" name="Text Box 10"/>
            <p:cNvSpPr/>
            <p:nvPr/>
          </p:nvSpPr>
          <p:spPr>
            <a:xfrm>
              <a:off x="5613120" y="3635640"/>
              <a:ext cx="682560" cy="58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6699"/>
                  </a:solidFill>
                  <a:latin typeface="Verdana"/>
                </a:rPr>
                <a:t> </a:t>
              </a:r>
              <a:r>
                <a:rPr b="0" lang="en-US" sz="1200" spc="-1" strike="noStrike">
                  <a:solidFill>
                    <a:srgbClr val="336699"/>
                  </a:solidFill>
                  <a:latin typeface="Verdana"/>
                </a:rPr>
                <a:t>y</a:t>
              </a:r>
              <a:endParaRPr b="0" lang="en-US" sz="1200" spc="-1" strike="noStrike">
                <a:solidFill>
                  <a:srgbClr val="336699"/>
                </a:solidFill>
                <a:latin typeface="Verdana"/>
              </a:endParaRPr>
            </a:p>
          </p:txBody>
        </p:sp>
      </p:grpSp>
      <p:sp>
        <p:nvSpPr>
          <p:cNvPr id="348" name="Oval 11"/>
          <p:cNvSpPr/>
          <p:nvPr/>
        </p:nvSpPr>
        <p:spPr>
          <a:xfrm>
            <a:off x="2739960" y="3162240"/>
            <a:ext cx="2219400" cy="13622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349" name="Oval 12"/>
          <p:cNvSpPr/>
          <p:nvPr/>
        </p:nvSpPr>
        <p:spPr>
          <a:xfrm>
            <a:off x="2739960" y="3595680"/>
            <a:ext cx="2219400" cy="5824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350" name="Oval 13"/>
          <p:cNvSpPr/>
          <p:nvPr/>
        </p:nvSpPr>
        <p:spPr>
          <a:xfrm>
            <a:off x="3346560" y="3159000"/>
            <a:ext cx="919080" cy="13622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0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7" dur="2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tiha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3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3CA72-8F11-4866-94AB-1349BD98C4C6}" type="datetime">
              <a:rPr b="0" lang="en-US" sz="1200" spc="-1" strike="noStrike">
                <a:solidFill>
                  <a:srgbClr val="898989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364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Verdana"/>
              </a:rPr>
              <a:t>[MA 1124]</a:t>
            </a:r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Verdana"/>
              </a:rPr>
              <a:t>KALKULUS II</a:t>
            </a:r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36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61850-886D-4F61-8B51-5A51D88D3128}" type="slidenum">
              <a:rPr b="0" lang="en-US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366" name="Text Box 7"/>
          <p:cNvSpPr/>
          <p:nvPr/>
        </p:nvSpPr>
        <p:spPr>
          <a:xfrm>
            <a:off x="853920" y="1403280"/>
            <a:ext cx="55422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1. Tentukan nilai ekstrim dan jenisnya, dari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367" name="Text Box 8"/>
          <p:cNvSpPr/>
          <p:nvPr/>
        </p:nvSpPr>
        <p:spPr>
          <a:xfrm>
            <a:off x="1387080" y="1873080"/>
            <a:ext cx="24069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a</a:t>
            </a: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. f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(</a:t>
            </a: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x,y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) = </a:t>
            </a: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x</a:t>
            </a:r>
            <a:r>
              <a:rPr b="0" lang="en-US" sz="2100" spc="-1" strike="noStrike" baseline="30000">
                <a:solidFill>
                  <a:srgbClr val="336699"/>
                </a:solidFill>
                <a:latin typeface="Verdana"/>
              </a:rPr>
              <a:t>3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+</a:t>
            </a: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y</a:t>
            </a:r>
            <a:r>
              <a:rPr b="0" lang="en-US" sz="2100" spc="-1" strike="noStrike" baseline="30000">
                <a:solidFill>
                  <a:srgbClr val="336699"/>
                </a:solidFill>
                <a:latin typeface="Verdana"/>
              </a:rPr>
              <a:t>3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-6</a:t>
            </a: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xy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368" name="Text Box 9"/>
          <p:cNvSpPr/>
          <p:nvPr/>
        </p:nvSpPr>
        <p:spPr>
          <a:xfrm>
            <a:off x="1446120" y="2254320"/>
            <a:ext cx="292212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b</a:t>
            </a: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. f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(</a:t>
            </a: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x,y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) = </a:t>
            </a: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xy</a:t>
            </a:r>
            <a:r>
              <a:rPr b="0" i="1" lang="en-US" sz="2100" spc="-1" strike="noStrike" baseline="30000">
                <a:solidFill>
                  <a:srgbClr val="336699"/>
                </a:solidFill>
                <a:latin typeface="Verdana"/>
              </a:rPr>
              <a:t>2</a:t>
            </a: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 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–6 </a:t>
            </a: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x</a:t>
            </a:r>
            <a:r>
              <a:rPr b="0" i="1" lang="en-US" sz="2100" spc="-1" strike="noStrike" baseline="30000">
                <a:solidFill>
                  <a:srgbClr val="336699"/>
                </a:solidFill>
                <a:latin typeface="Verdana"/>
              </a:rPr>
              <a:t>2 </a:t>
            </a: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– 6y</a:t>
            </a:r>
            <a:r>
              <a:rPr b="0" i="1" lang="en-US" sz="2100" spc="-1" strike="noStrike" baseline="30000">
                <a:solidFill>
                  <a:srgbClr val="336699"/>
                </a:solidFill>
                <a:latin typeface="Verdana"/>
              </a:rPr>
              <a:t>2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369" name="Text Box 11"/>
          <p:cNvSpPr/>
          <p:nvPr/>
        </p:nvSpPr>
        <p:spPr>
          <a:xfrm>
            <a:off x="1537560" y="2616120"/>
            <a:ext cx="35622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c</a:t>
            </a: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. f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(</a:t>
            </a: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x,y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) = </a:t>
            </a: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x</a:t>
            </a:r>
            <a:r>
              <a:rPr b="0" i="1" lang="en-US" sz="2100" spc="-1" strike="noStrike" baseline="30000">
                <a:solidFill>
                  <a:srgbClr val="336699"/>
                </a:solidFill>
                <a:latin typeface="Verdana"/>
              </a:rPr>
              <a:t>2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 +4 </a:t>
            </a: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y</a:t>
            </a:r>
            <a:r>
              <a:rPr b="0" i="1" lang="en-US" sz="2100" spc="-1" strike="noStrike" baseline="30000">
                <a:solidFill>
                  <a:srgbClr val="336699"/>
                </a:solidFill>
                <a:latin typeface="Verdana"/>
              </a:rPr>
              <a:t>2</a:t>
            </a:r>
            <a:r>
              <a:rPr b="0" lang="en-US" sz="2100" spc="-1" strike="noStrike" baseline="30000">
                <a:solidFill>
                  <a:srgbClr val="336699"/>
                </a:solidFill>
                <a:latin typeface="Verdana"/>
              </a:rPr>
              <a:t> 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– 2</a:t>
            </a: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x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+8</a:t>
            </a: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y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 – 1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370" name="Text Box 12"/>
          <p:cNvSpPr/>
          <p:nvPr/>
        </p:nvSpPr>
        <p:spPr>
          <a:xfrm>
            <a:off x="1533240" y="3016080"/>
            <a:ext cx="32529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d</a:t>
            </a: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. f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(</a:t>
            </a: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x,y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) = 3</a:t>
            </a: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x</a:t>
            </a:r>
            <a:r>
              <a:rPr b="0" i="1" lang="en-US" sz="2100" spc="-1" strike="noStrike" baseline="30000">
                <a:solidFill>
                  <a:srgbClr val="336699"/>
                </a:solidFill>
                <a:latin typeface="Verdana"/>
              </a:rPr>
              <a:t>3</a:t>
            </a: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 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+y</a:t>
            </a:r>
            <a:r>
              <a:rPr b="0" i="1" lang="en-US" sz="2100" spc="-1" strike="noStrike" baseline="30000">
                <a:solidFill>
                  <a:srgbClr val="336699"/>
                </a:solidFill>
                <a:latin typeface="Verdana"/>
              </a:rPr>
              <a:t>2 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– 9</a:t>
            </a: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x 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+ 4</a:t>
            </a: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y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1" name="Object 16"/>
              <p:cNvSpPr txBox="1"/>
              <p:nvPr/>
            </p:nvSpPr>
            <p:spPr>
              <a:xfrm>
                <a:off x="5715000" y="1676520"/>
                <a:ext cx="3013200" cy="76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xy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y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2" name="Object 18"/>
              <p:cNvSpPr txBox="1"/>
              <p:nvPr/>
            </p:nvSpPr>
            <p:spPr>
              <a:xfrm>
                <a:off x="5813280" y="2390760"/>
                <a:ext cx="281484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373" name="Text Box 19"/>
          <p:cNvSpPr/>
          <p:nvPr/>
        </p:nvSpPr>
        <p:spPr>
          <a:xfrm>
            <a:off x="930240" y="3510000"/>
            <a:ext cx="63896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2. Tentukan nilai ekstrim global dan jenisnya, dari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374" name="Text Box 20"/>
          <p:cNvSpPr/>
          <p:nvPr/>
        </p:nvSpPr>
        <p:spPr>
          <a:xfrm>
            <a:off x="1753920" y="4038480"/>
            <a:ext cx="61916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a.</a:t>
            </a: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 f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(</a:t>
            </a: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x,y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) =</a:t>
            </a: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x</a:t>
            </a:r>
            <a:r>
              <a:rPr b="0" lang="en-US" sz="2100" spc="-1" strike="noStrike" baseline="30000">
                <a:solidFill>
                  <a:srgbClr val="336699"/>
                </a:solidFill>
                <a:latin typeface="Verdana"/>
              </a:rPr>
              <a:t>2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–6x+</a:t>
            </a: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y</a:t>
            </a:r>
            <a:r>
              <a:rPr b="0" lang="en-US" sz="2100" spc="-1" strike="noStrike" baseline="30000">
                <a:solidFill>
                  <a:srgbClr val="336699"/>
                </a:solidFill>
                <a:latin typeface="Verdana"/>
              </a:rPr>
              <a:t>2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–8y+7 pada S={(x,y)| x</a:t>
            </a:r>
            <a:r>
              <a:rPr b="0" lang="en-US" sz="2100" spc="-1" strike="noStrike" baseline="30000">
                <a:solidFill>
                  <a:srgbClr val="336699"/>
                </a:solidFill>
                <a:latin typeface="Verdana"/>
              </a:rPr>
              <a:t>2 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+ y</a:t>
            </a:r>
            <a:r>
              <a:rPr b="0" lang="en-US" sz="2100" spc="-1" strike="noStrike" baseline="30000">
                <a:solidFill>
                  <a:srgbClr val="336699"/>
                </a:solidFill>
                <a:latin typeface="Verdana"/>
              </a:rPr>
              <a:t>2 </a:t>
            </a:r>
            <a:r>
              <a:rPr b="0" lang="en-US" sz="2100" spc="-1" strike="noStrike">
                <a:solidFill>
                  <a:srgbClr val="336699"/>
                </a:solidFill>
                <a:latin typeface="Symbol"/>
                <a:ea typeface="Symbol"/>
              </a:rPr>
              <a:t>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 1}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375" name="Text Box 21"/>
          <p:cNvSpPr/>
          <p:nvPr/>
        </p:nvSpPr>
        <p:spPr>
          <a:xfrm>
            <a:off x="1551600" y="4616280"/>
            <a:ext cx="63230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b.</a:t>
            </a: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 f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(</a:t>
            </a: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x,y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) =3</a:t>
            </a: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x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+</a:t>
            </a: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4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y pada S={(x,y)| 0</a:t>
            </a:r>
            <a:r>
              <a:rPr b="0" lang="en-US" sz="2100" spc="-1" strike="noStrike">
                <a:solidFill>
                  <a:srgbClr val="336699"/>
                </a:solidFill>
                <a:latin typeface="Symbol"/>
                <a:ea typeface="Symbol"/>
              </a:rPr>
              <a:t>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 x </a:t>
            </a:r>
            <a:r>
              <a:rPr b="0" lang="en-US" sz="2100" spc="-1" strike="noStrike">
                <a:solidFill>
                  <a:srgbClr val="336699"/>
                </a:solidFill>
                <a:latin typeface="Symbol"/>
                <a:ea typeface="Symbol"/>
              </a:rPr>
              <a:t>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1, –1</a:t>
            </a:r>
            <a:r>
              <a:rPr b="0" lang="en-US" sz="2100" spc="-1" strike="noStrike">
                <a:solidFill>
                  <a:srgbClr val="336699"/>
                </a:solidFill>
                <a:latin typeface="Symbol"/>
                <a:ea typeface="Symbol"/>
              </a:rPr>
              <a:t>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 y</a:t>
            </a:r>
            <a:r>
              <a:rPr b="0" lang="en-US" sz="2100" spc="-1" strike="noStrike" baseline="30000">
                <a:solidFill>
                  <a:srgbClr val="336699"/>
                </a:solidFill>
                <a:latin typeface="Verdana"/>
              </a:rPr>
              <a:t> </a:t>
            </a:r>
            <a:r>
              <a:rPr b="0" lang="en-US" sz="2100" spc="-1" strike="noStrike">
                <a:solidFill>
                  <a:srgbClr val="336699"/>
                </a:solidFill>
                <a:latin typeface="Symbol"/>
                <a:ea typeface="Symbol"/>
              </a:rPr>
              <a:t>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 1}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</p:spTree>
  </p:cSld>
  <p:timing>
    <p:tnLst>
      <p:par>
        <p:cTn id="4243" dur="indefinite" restart="never" nodeType="tmRoot">
          <p:childTnLst>
            <p:seq>
              <p:cTn id="4244" dur="indefinite" nodeType="mainSeq">
                <p:childTnLst>
                  <p:par>
                    <p:cTn id="4245" nodeType="clickEffect" fill="hold">
                      <p:stCondLst>
                        <p:cond delay="indefinite"/>
                      </p:stCondLst>
                      <p:childTnLst>
                        <p:par>
                          <p:cTn id="4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9" dur="500" fill="hold"/>
                                        <p:tgtEl>
                                          <p:spTgt spid="1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0" dur="500" fill="hold"/>
                                        <p:tgtEl>
                                          <p:spTgt spid="1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1" dur="500" fill="hold"/>
                                        <p:tgtEl>
                                          <p:spTgt spid="1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2" dur="500" fill="hold"/>
                                        <p:tgtEl>
                                          <p:spTgt spid="1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5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5" dur="500" fill="hold"/>
                                        <p:tgtEl>
                                          <p:spTgt spid="1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6" dur="500" fill="hold"/>
                                        <p:tgtEl>
                                          <p:spTgt spid="1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7" dur="500" fill="hold"/>
                                        <p:tgtEl>
                                          <p:spTgt spid="1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8" dur="500" fill="hold"/>
                                        <p:tgtEl>
                                          <p:spTgt spid="1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5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1" dur="500" fill="hold"/>
                                        <p:tgtEl>
                                          <p:spTgt spid="1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2" dur="500" fill="hold"/>
                                        <p:tgtEl>
                                          <p:spTgt spid="1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3" dur="500" fill="hold"/>
                                        <p:tgtEl>
                                          <p:spTgt spid="1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4" dur="500" fill="hold"/>
                                        <p:tgtEl>
                                          <p:spTgt spid="1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6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7" dur="500" fill="hold"/>
                                        <p:tgtEl>
                                          <p:spTgt spid="1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8" dur="500" fill="hold"/>
                                        <p:tgtEl>
                                          <p:spTgt spid="1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9" dur="500" fill="hold"/>
                                        <p:tgtEl>
                                          <p:spTgt spid="1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0" dur="500" fill="hold"/>
                                        <p:tgtEl>
                                          <p:spTgt spid="1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7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3" dur="500" fill="hold"/>
                                        <p:tgtEl>
                                          <p:spTgt spid="1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4" dur="500" fill="hold"/>
                                        <p:tgtEl>
                                          <p:spTgt spid="1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5" dur="500" fill="hold"/>
                                        <p:tgtEl>
                                          <p:spTgt spid="1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6" dur="500" fill="hold"/>
                                        <p:tgtEl>
                                          <p:spTgt spid="1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7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9" dur="500" fill="hold"/>
                                        <p:tgtEl>
                                          <p:spTgt spid="1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0" dur="500" fill="hold"/>
                                        <p:tgtEl>
                                          <p:spTgt spid="1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1" dur="500" fill="hold"/>
                                        <p:tgtEl>
                                          <p:spTgt spid="1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2" dur="500" fill="hold"/>
                                        <p:tgtEl>
                                          <p:spTgt spid="1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8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5" dur="500" fill="hold"/>
                                        <p:tgtEl>
                                          <p:spTgt spid="1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6" dur="500" fill="hold"/>
                                        <p:tgtEl>
                                          <p:spTgt spid="1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7" dur="500" fill="hold"/>
                                        <p:tgtEl>
                                          <p:spTgt spid="1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8" dur="500" fill="hold"/>
                                        <p:tgtEl>
                                          <p:spTgt spid="1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9" nodeType="clickEffect" fill="hold">
                      <p:stCondLst>
                        <p:cond delay="indefinite"/>
                      </p:stCondLst>
                      <p:childTnLst>
                        <p:par>
                          <p:cTn id="4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3" dur="500" fill="hold"/>
                                        <p:tgtEl>
                                          <p:spTgt spid="1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4" dur="500" fill="hold"/>
                                        <p:tgtEl>
                                          <p:spTgt spid="1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5" dur="500" fill="hold"/>
                                        <p:tgtEl>
                                          <p:spTgt spid="13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96" dur="500"/>
                                        <p:tgtEl>
                                          <p:spTgt spid="1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9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9" dur="500" fill="hold"/>
                                        <p:tgtEl>
                                          <p:spTgt spid="1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0" dur="500" fill="hold"/>
                                        <p:tgtEl>
                                          <p:spTgt spid="1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1" dur="500" fill="hold"/>
                                        <p:tgtEl>
                                          <p:spTgt spid="13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02" dur="500"/>
                                        <p:tgtEl>
                                          <p:spTgt spid="1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5" dur="500" fill="hold"/>
                                        <p:tgtEl>
                                          <p:spTgt spid="1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6" dur="500" fill="hold"/>
                                        <p:tgtEl>
                                          <p:spTgt spid="1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7" dur="500" fill="hold"/>
                                        <p:tgtEl>
                                          <p:spTgt spid="13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08" dur="500"/>
                                        <p:tgtEl>
                                          <p:spTgt spid="1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etode Lagrang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7" name=""/>
          <p:cNvSpPr txBox="1"/>
          <p:nvPr/>
        </p:nvSpPr>
        <p:spPr>
          <a:xfrm>
            <a:off x="597960" y="1485720"/>
            <a:ext cx="800100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Untuk mencari nilai ektrim terkendala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Misalkan z =f(x,y) dengan kendala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g(x,y) = 0. Akan dicari ektrim f terhadap kendala g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Perhatikan  kurva ketinggian dari suatu fungsi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US" sz="2700" spc="-1" strike="noStrike">
                <a:solidFill>
                  <a:srgbClr val="000000"/>
                </a:solidFill>
                <a:latin typeface="Calibri"/>
              </a:rPr>
              <a:t>f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US" sz="2700" spc="-1" strike="noStrike">
                <a:solidFill>
                  <a:srgbClr val="000000"/>
                </a:solidFill>
                <a:latin typeface="Calibri"/>
              </a:rPr>
              <a:t>x,y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) = 9 – </a:t>
            </a:r>
            <a:r>
              <a:rPr b="0" i="1" lang="en-US" sz="27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i="1" lang="en-US" sz="2700" spc="-1" strike="noStrike">
                <a:solidFill>
                  <a:srgbClr val="000000"/>
                </a:solidFill>
                <a:latin typeface="Calibri"/>
              </a:rPr>
              <a:t>y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 berikut :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8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8BB9E-67C0-4C65-834B-F8F3DCF90E62}" type="datetime">
              <a:rPr b="0" lang="en-US" sz="1200" spc="-1" strike="noStrike">
                <a:solidFill>
                  <a:srgbClr val="898989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379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Verdana"/>
              </a:rPr>
              <a:t>[MA 1124]</a:t>
            </a:r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Verdana"/>
              </a:rPr>
              <a:t>KALKULUS II</a:t>
            </a:r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38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AA9AF-5478-4393-B5FE-FE0DB8169F59}" type="slidenum">
              <a:rPr b="0" lang="en-US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</p:txBody>
      </p:sp>
      <p:pic>
        <p:nvPicPr>
          <p:cNvPr id="1381" name="Picture 2" descr=""/>
          <p:cNvPicPr/>
          <p:nvPr/>
        </p:nvPicPr>
        <p:blipFill>
          <a:blip r:embed="rId1"/>
          <a:stretch/>
        </p:blipFill>
        <p:spPr>
          <a:xfrm>
            <a:off x="6359400" y="-95400"/>
            <a:ext cx="2524320" cy="2695680"/>
          </a:xfrm>
          <a:prstGeom prst="rect">
            <a:avLst/>
          </a:prstGeom>
          <a:ln w="0">
            <a:noFill/>
          </a:ln>
        </p:spPr>
      </p:pic>
      <p:sp>
        <p:nvSpPr>
          <p:cNvPr id="1382" name="Text Box 3"/>
          <p:cNvSpPr/>
          <p:nvPr/>
        </p:nvSpPr>
        <p:spPr>
          <a:xfrm>
            <a:off x="8048520" y="79200"/>
            <a:ext cx="13716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336699"/>
                </a:solidFill>
                <a:latin typeface="Verdana"/>
              </a:rPr>
              <a:t>g </a:t>
            </a:r>
            <a:r>
              <a:rPr b="1" lang="en-US" sz="1200" spc="-1" strike="noStrike">
                <a:solidFill>
                  <a:srgbClr val="336699"/>
                </a:solidFill>
                <a:latin typeface="Verdana"/>
              </a:rPr>
              <a:t>(</a:t>
            </a:r>
            <a:r>
              <a:rPr b="1" i="1" lang="en-US" sz="1200" spc="-1" strike="noStrike">
                <a:solidFill>
                  <a:srgbClr val="336699"/>
                </a:solidFill>
                <a:latin typeface="Verdana"/>
              </a:rPr>
              <a:t>x, y</a:t>
            </a:r>
            <a:r>
              <a:rPr b="1" lang="en-US" sz="1200" spc="-1" strike="noStrike">
                <a:solidFill>
                  <a:srgbClr val="336699"/>
                </a:solidFill>
                <a:latin typeface="Verdana"/>
              </a:rPr>
              <a:t>) = 0</a:t>
            </a:r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383" name="Text Box 6"/>
          <p:cNvSpPr/>
          <p:nvPr/>
        </p:nvSpPr>
        <p:spPr>
          <a:xfrm>
            <a:off x="1020600" y="3298680"/>
            <a:ext cx="7742520" cy="14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Untuk memaksimumkan f thd kendala g(x,y) =0 </a:t>
            </a:r>
            <a:r>
              <a:rPr b="0" lang="en-US" sz="2100" spc="-1" strike="noStrike">
                <a:solidFill>
                  <a:srgbClr val="336699"/>
                </a:solidFill>
                <a:latin typeface="Wingdings"/>
                <a:ea typeface="Wingdings"/>
              </a:rPr>
              <a:t>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 sama dengan mencari perpotongan kurva ketinggian    f (x, y) = k dengan  fungsi  kendala  g (x, y) = 0  sehingga  diperoleh  k  ≥  f (x, y) untuk  setiap           x, y </a:t>
            </a:r>
            <a:r>
              <a:rPr b="0" lang="en-US" sz="2100" spc="-1" strike="noStrike">
                <a:solidFill>
                  <a:srgbClr val="336699"/>
                </a:solidFill>
                <a:latin typeface="Symbol"/>
                <a:ea typeface="Symbol"/>
              </a:rPr>
              <a:t>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 D</a:t>
            </a:r>
            <a:r>
              <a:rPr b="0" lang="en-US" sz="2100" spc="-1" strike="noStrike" baseline="-25000">
                <a:solidFill>
                  <a:srgbClr val="336699"/>
                </a:solidFill>
                <a:latin typeface="Verdana"/>
              </a:rPr>
              <a:t>f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  sepanjang g (x, y) = 0 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384" name="Rectangle 7"/>
          <p:cNvSpPr/>
          <p:nvPr/>
        </p:nvSpPr>
        <p:spPr>
          <a:xfrm>
            <a:off x="990720" y="4929120"/>
            <a:ext cx="769608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Karena kurva ketinggian dan kurva kendala saling menyinggung </a:t>
            </a:r>
            <a:r>
              <a:rPr b="0" lang="en-US" sz="2100" spc="-1" strike="noStrike">
                <a:solidFill>
                  <a:srgbClr val="336699"/>
                </a:solidFill>
                <a:latin typeface="Wingdings"/>
                <a:ea typeface="Wingdings"/>
              </a:rPr>
              <a:t>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 garis tegak lurusnya sama karena kurva ketinggian 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5" name="Object 8"/>
              <p:cNvSpPr txBox="1"/>
              <p:nvPr/>
            </p:nvSpPr>
            <p:spPr>
              <a:xfrm>
                <a:off x="2028960" y="5964120"/>
                <a:ext cx="2313000" cy="39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∇</m:t>
                        </m:r>
                      </m:e>
                    </m:acc>
                    <m:r>
                      <m:t xml:space="preserve"> </m:t>
                    </m:r>
                    <m:r>
                      <m:t xml:space="preserve">f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λ</m:t>
                    </m:r>
                    <m:r>
                      <m:t xml:space="preserve"> 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∇</m:t>
                        </m:r>
                      </m:e>
                    </m:acc>
                    <m:r>
                      <m:t xml:space="preserve"> </m:t>
                    </m:r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6" name="Object 9"/>
              <p:cNvSpPr txBox="1"/>
              <p:nvPr/>
            </p:nvSpPr>
            <p:spPr>
              <a:xfrm>
                <a:off x="3355920" y="5597640"/>
                <a:ext cx="666720" cy="39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∇</m:t>
                        </m:r>
                      </m:e>
                    </m:acc>
                    <m:r>
                      <m:t xml:space="preserve"> </m:t>
                    </m:r>
                    <m:r>
                      <m:t xml:space="preserve">f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87" name="Rectangle 10"/>
          <p:cNvSpPr/>
          <p:nvPr/>
        </p:nvSpPr>
        <p:spPr>
          <a:xfrm>
            <a:off x="4005720" y="5587920"/>
            <a:ext cx="24897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dan kurva kendala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388" name="Rectangle 11"/>
          <p:cNvSpPr/>
          <p:nvPr/>
        </p:nvSpPr>
        <p:spPr>
          <a:xfrm>
            <a:off x="1009080" y="5918040"/>
            <a:ext cx="8712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maka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389" name="Oval 12"/>
          <p:cNvSpPr/>
          <p:nvPr/>
        </p:nvSpPr>
        <p:spPr>
          <a:xfrm>
            <a:off x="8112240" y="352440"/>
            <a:ext cx="1143000" cy="7621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390" name="Line 13"/>
          <p:cNvSpPr/>
          <p:nvPr/>
        </p:nvSpPr>
        <p:spPr>
          <a:xfrm flipH="1">
            <a:off x="7959600" y="860400"/>
            <a:ext cx="216000" cy="63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</p:spTree>
  </p:cSld>
  <p:timing>
    <p:tnLst>
      <p:par>
        <p:cTn id="4309" dur="indefinite" restart="never" nodeType="tmRoot">
          <p:childTnLst>
            <p:seq>
              <p:cTn id="4310" dur="indefinite" nodeType="mainSeq">
                <p:childTnLst>
                  <p:par>
                    <p:cTn id="4311" nodeType="clickEffect" fill="hold">
                      <p:stCondLst>
                        <p:cond delay="0"/>
                      </p:stCondLst>
                      <p:childTnLst>
                        <p:par>
                          <p:cTn id="4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3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6" nodeType="clickEffect" fill="hold">
                      <p:stCondLst>
                        <p:cond delay="indefinite"/>
                      </p:stCondLst>
                      <p:childTnLst>
                        <p:par>
                          <p:cTn id="4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4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7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35" dur="500"/>
                                        <p:tgtEl>
                                          <p:spTgt spid="1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38" dur="500"/>
                                        <p:tgtEl>
                                          <p:spTgt spid="1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41" dur="500"/>
                                        <p:tgtEl>
                                          <p:spTgt spid="1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44" dur="500"/>
                                        <p:tgtEl>
                                          <p:spTgt spid="1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47" dur="500"/>
                                        <p:tgtEl>
                                          <p:spTgt spid="1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8" nodeType="clickEffect" fill="hold">
                      <p:stCondLst>
                        <p:cond delay="indefinite"/>
                      </p:stCondLst>
                      <p:childTnLst>
                        <p:par>
                          <p:cTn id="4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52" dur="500"/>
                                        <p:tgtEl>
                                          <p:spTgt spid="1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5" dur="500" fill="hold"/>
                                        <p:tgtEl>
                                          <p:spTgt spid="1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6" dur="500" fill="hold"/>
                                        <p:tgtEl>
                                          <p:spTgt spid="1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7" dur="500" fill="hold"/>
                                        <p:tgtEl>
                                          <p:spTgt spid="13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58" dur="500"/>
                                        <p:tgtEl>
                                          <p:spTgt spid="1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1" dur="500" fill="hold"/>
                                        <p:tgtEl>
                                          <p:spTgt spid="1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2" dur="500" fill="hold"/>
                                        <p:tgtEl>
                                          <p:spTgt spid="1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3" dur="500" fill="hold"/>
                                        <p:tgtEl>
                                          <p:spTgt spid="13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64" dur="500"/>
                                        <p:tgtEl>
                                          <p:spTgt spid="1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67" dur="500"/>
                                        <p:tgtEl>
                                          <p:spTgt spid="1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70" dur="500"/>
                                        <p:tgtEl>
                                          <p:spTgt spid="1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etode Lagrang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2" name=""/>
          <p:cNvSpPr txBox="1"/>
          <p:nvPr/>
        </p:nvSpPr>
        <p:spPr>
          <a:xfrm>
            <a:off x="609480" y="1523520"/>
            <a:ext cx="8305920" cy="229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ntuk memaksimumkan/meminimumkan f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 terhadap kendala g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=0, selesaika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3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FFBC8-1337-4DA4-8E98-FA790BD94624}" type="datetime">
              <a:rPr b="0" lang="en-US" sz="1200" spc="-1" strike="noStrike">
                <a:solidFill>
                  <a:srgbClr val="898989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394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Verdana"/>
              </a:rPr>
              <a:t>[MA 1124]</a:t>
            </a:r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Verdana"/>
              </a:rPr>
              <a:t>KALKULUS II</a:t>
            </a:r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39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D94B5-1FCC-4C6A-B2EE-F28CEF212F6E}" type="slidenum">
              <a:rPr b="0" lang="en-US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6" name="Object 4"/>
              <p:cNvSpPr txBox="1"/>
              <p:nvPr/>
            </p:nvSpPr>
            <p:spPr>
              <a:xfrm>
                <a:off x="1182600" y="2446200"/>
                <a:ext cx="590400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∇</m:t>
                        </m:r>
                      </m:e>
                    </m:acc>
                    <m:r>
                      <m:t xml:space="preserve"> </m:t>
                    </m:r>
                    <m:r>
                      <m:t xml:space="preserve">f</m:t>
                    </m:r>
                    <m:r>
                      <m:t xml:space="preserve"> 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λ</m:t>
                    </m:r>
                    <m:r>
                      <m:t xml:space="preserve"> 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∇</m:t>
                        </m:r>
                      </m:e>
                    </m:acc>
                    <m:r>
                      <m:t xml:space="preserve"> </m:t>
                    </m:r>
                    <m:r>
                      <m:t xml:space="preserve">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an</m:t>
                    </m:r>
                    <m:r>
                      <m:t xml:space="preserve"> </m:t>
                    </m:r>
                    <m:r>
                      <m:t xml:space="preserve">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97" name="Rectangle 5"/>
          <p:cNvSpPr/>
          <p:nvPr/>
        </p:nvSpPr>
        <p:spPr>
          <a:xfrm>
            <a:off x="1362240" y="3046320"/>
            <a:ext cx="5836680" cy="4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dengan (x</a:t>
            </a:r>
            <a:r>
              <a:rPr b="0" lang="en-US" sz="2100" spc="-1" strike="noStrike" baseline="-25000">
                <a:solidFill>
                  <a:srgbClr val="336699"/>
                </a:solidFill>
                <a:latin typeface="Verdana"/>
              </a:rPr>
              <a:t>0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,y</a:t>
            </a:r>
            <a:r>
              <a:rPr b="0" lang="en-US" sz="2100" spc="-1" strike="noStrike" baseline="-25000">
                <a:solidFill>
                  <a:srgbClr val="336699"/>
                </a:solidFill>
                <a:latin typeface="Verdana"/>
              </a:rPr>
              <a:t>0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) titik kritis, </a:t>
            </a:r>
            <a:r>
              <a:rPr b="0" lang="en-US" sz="2100" spc="-1" strike="noStrike">
                <a:solidFill>
                  <a:srgbClr val="336699"/>
                </a:solidFill>
                <a:latin typeface="Symbol"/>
                <a:ea typeface="Symbol"/>
              </a:rPr>
              <a:t>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 pengali langrange 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398" name="Rectangle 7"/>
          <p:cNvSpPr/>
          <p:nvPr/>
        </p:nvSpPr>
        <p:spPr>
          <a:xfrm>
            <a:off x="685800" y="3505320"/>
            <a:ext cx="8305920" cy="22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800080"/>
              </a:buClr>
              <a:buSzPct val="75000"/>
              <a:buFont typeface="Wingdings" charset="2"/>
              <a:buChar char="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Untuk memaksimumkan/meminimumkan f(x</a:t>
            </a:r>
            <a:r>
              <a:rPr b="0" lang="en-US" sz="2100" spc="-1" strike="noStrike" baseline="-25000">
                <a:solidFill>
                  <a:srgbClr val="336699"/>
                </a:solidFill>
                <a:latin typeface="Verdana"/>
              </a:rPr>
              <a:t>0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,y</a:t>
            </a:r>
            <a:r>
              <a:rPr b="0" lang="en-US" sz="2100" spc="-1" strike="noStrike" baseline="-25000">
                <a:solidFill>
                  <a:srgbClr val="336699"/>
                </a:solidFill>
                <a:latin typeface="Verdana"/>
              </a:rPr>
              <a:t>0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) terhadap kendala g(x</a:t>
            </a:r>
            <a:r>
              <a:rPr b="0" lang="en-US" sz="2100" spc="-1" strike="noStrike" baseline="-25000">
                <a:solidFill>
                  <a:srgbClr val="336699"/>
                </a:solidFill>
                <a:latin typeface="Verdana"/>
              </a:rPr>
              <a:t>0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,y</a:t>
            </a:r>
            <a:r>
              <a:rPr b="0" lang="en-US" sz="2100" spc="-1" strike="noStrike" baseline="-25000">
                <a:solidFill>
                  <a:srgbClr val="336699"/>
                </a:solidFill>
                <a:latin typeface="Verdana"/>
              </a:rPr>
              <a:t>0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)=0 dan h(x</a:t>
            </a:r>
            <a:r>
              <a:rPr b="0" lang="en-US" sz="2100" spc="-1" strike="noStrike" baseline="-25000">
                <a:solidFill>
                  <a:srgbClr val="336699"/>
                </a:solidFill>
                <a:latin typeface="Verdana"/>
              </a:rPr>
              <a:t>0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,y</a:t>
            </a:r>
            <a:r>
              <a:rPr b="0" lang="en-US" sz="2100" spc="-1" strike="noStrike" baseline="-25000">
                <a:solidFill>
                  <a:srgbClr val="336699"/>
                </a:solidFill>
                <a:latin typeface="Verdana"/>
              </a:rPr>
              <a:t>0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)=0, selesaikan 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9" name="Object 8"/>
              <p:cNvSpPr txBox="1"/>
              <p:nvPr/>
            </p:nvSpPr>
            <p:spPr>
              <a:xfrm>
                <a:off x="804960" y="4427640"/>
                <a:ext cx="48085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∇</m:t>
                        </m:r>
                      </m:e>
                    </m:acc>
                    <m:r>
                      <m:t xml:space="preserve"> </m:t>
                    </m:r>
                    <m:r>
                      <m:t xml:space="preserve">f</m:t>
                    </m:r>
                    <m:r>
                      <m:t xml:space="preserve"> 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λ</m:t>
                    </m:r>
                    <m:r>
                      <m:t xml:space="preserve"> 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∇</m:t>
                        </m:r>
                      </m:e>
                    </m:acc>
                    <m:r>
                      <m:t xml:space="preserve"> </m:t>
                    </m:r>
                    <m:r>
                      <m:t xml:space="preserve">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μ</m:t>
                    </m:r>
                    <m:r>
                      <m:t xml:space="preserve"> 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∇</m:t>
                        </m:r>
                      </m:e>
                    </m:acc>
                    <m:r>
                      <m:t xml:space="preserve"> </m:t>
                    </m:r>
                    <m:r>
                      <m:t xml:space="preserve">h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00" name="Rectangle 9"/>
          <p:cNvSpPr/>
          <p:nvPr/>
        </p:nvSpPr>
        <p:spPr>
          <a:xfrm>
            <a:off x="1438560" y="5027760"/>
            <a:ext cx="5836680" cy="4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dengan (x</a:t>
            </a:r>
            <a:r>
              <a:rPr b="0" lang="en-US" sz="2100" spc="-1" strike="noStrike" baseline="-25000">
                <a:solidFill>
                  <a:srgbClr val="336699"/>
                </a:solidFill>
                <a:latin typeface="Verdana"/>
              </a:rPr>
              <a:t>0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,y</a:t>
            </a:r>
            <a:r>
              <a:rPr b="0" lang="en-US" sz="2100" spc="-1" strike="noStrike" baseline="-25000">
                <a:solidFill>
                  <a:srgbClr val="336699"/>
                </a:solidFill>
                <a:latin typeface="Verdana"/>
              </a:rPr>
              <a:t>0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) titik kritis, </a:t>
            </a:r>
            <a:r>
              <a:rPr b="0" lang="en-US" sz="2100" spc="-1" strike="noStrike">
                <a:solidFill>
                  <a:srgbClr val="336699"/>
                </a:solidFill>
                <a:latin typeface="Symbol"/>
                <a:ea typeface="Symbol"/>
              </a:rPr>
              <a:t>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 pengali langrange 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401" name="Text Box 10"/>
          <p:cNvSpPr/>
          <p:nvPr/>
        </p:nvSpPr>
        <p:spPr>
          <a:xfrm>
            <a:off x="5923440" y="4422600"/>
            <a:ext cx="2778480" cy="4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, g(x</a:t>
            </a:r>
            <a:r>
              <a:rPr b="0" lang="en-US" sz="2100" spc="-1" strike="noStrike" baseline="-25000">
                <a:solidFill>
                  <a:srgbClr val="336699"/>
                </a:solidFill>
                <a:latin typeface="Verdana"/>
              </a:rPr>
              <a:t>0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,y</a:t>
            </a:r>
            <a:r>
              <a:rPr b="0" lang="en-US" sz="2100" spc="-1" strike="noStrike" baseline="-25000">
                <a:solidFill>
                  <a:srgbClr val="336699"/>
                </a:solidFill>
                <a:latin typeface="Verdana"/>
              </a:rPr>
              <a:t>0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)=0, h(x</a:t>
            </a:r>
            <a:r>
              <a:rPr b="0" lang="en-US" sz="2100" spc="-1" strike="noStrike" baseline="-25000">
                <a:solidFill>
                  <a:srgbClr val="336699"/>
                </a:solidFill>
                <a:latin typeface="Verdana"/>
              </a:rPr>
              <a:t>0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,y</a:t>
            </a:r>
            <a:r>
              <a:rPr b="0" lang="en-US" sz="2100" spc="-1" strike="noStrike" baseline="-25000">
                <a:solidFill>
                  <a:srgbClr val="336699"/>
                </a:solidFill>
                <a:latin typeface="Verdana"/>
              </a:rPr>
              <a:t>0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)=0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</p:spTree>
  </p:cSld>
  <p:timing>
    <p:tnLst>
      <p:par>
        <p:cTn id="4371" dur="indefinite" restart="never" nodeType="tmRoot">
          <p:childTnLst>
            <p:seq>
              <p:cTn id="4372" dur="indefinite" nodeType="mainSeq">
                <p:childTnLst>
                  <p:par>
                    <p:cTn id="4373" nodeType="clickEffect" fill="hold">
                      <p:stCondLst>
                        <p:cond delay="0"/>
                      </p:stCondLst>
                      <p:childTnLst>
                        <p:par>
                          <p:cTn id="4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8" nodeType="clickEffect" fill="hold">
                      <p:stCondLst>
                        <p:cond delay="indefinite"/>
                      </p:stCondLst>
                      <p:childTnLst>
                        <p:par>
                          <p:cTn id="4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2" dur="500" fill="hold"/>
                                        <p:tgtEl>
                                          <p:spTgt spid="1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3" dur="500" fill="hold"/>
                                        <p:tgtEl>
                                          <p:spTgt spid="1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4" dur="500" fill="hold"/>
                                        <p:tgtEl>
                                          <p:spTgt spid="1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5" dur="500" fill="hold"/>
                                        <p:tgtEl>
                                          <p:spTgt spid="1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86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8" dur="500" fill="hold"/>
                                        <p:tgtEl>
                                          <p:spTgt spid="1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9" dur="500" fill="hold"/>
                                        <p:tgtEl>
                                          <p:spTgt spid="1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0" dur="500" fill="hold"/>
                                        <p:tgtEl>
                                          <p:spTgt spid="1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1" dur="500" fill="hold"/>
                                        <p:tgtEl>
                                          <p:spTgt spid="1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92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4" dur="500" fill="hold"/>
                                        <p:tgtEl>
                                          <p:spTgt spid="1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5" dur="500" fill="hold"/>
                                        <p:tgtEl>
                                          <p:spTgt spid="1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6" dur="500" fill="hold"/>
                                        <p:tgtEl>
                                          <p:spTgt spid="1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7" dur="500" fill="hold"/>
                                        <p:tgtEl>
                                          <p:spTgt spid="1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8" nodeType="clickEffect" fill="hold">
                      <p:stCondLst>
                        <p:cond delay="indefinite"/>
                      </p:stCondLst>
                      <p:childTnLst>
                        <p:par>
                          <p:cTn id="4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2" dur="500" fill="hold"/>
                                        <p:tgtEl>
                                          <p:spTgt spid="1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3" dur="500" fill="hold"/>
                                        <p:tgtEl>
                                          <p:spTgt spid="1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4" dur="500" fill="hold"/>
                                        <p:tgtEl>
                                          <p:spTgt spid="1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5" dur="500" fill="hold"/>
                                        <p:tgtEl>
                                          <p:spTgt spid="1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06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8" dur="500" fill="hold"/>
                                        <p:tgtEl>
                                          <p:spTgt spid="1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9" dur="500" fill="hold"/>
                                        <p:tgtEl>
                                          <p:spTgt spid="1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0" dur="500" fill="hold"/>
                                        <p:tgtEl>
                                          <p:spTgt spid="1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1" dur="500" fill="hold"/>
                                        <p:tgtEl>
                                          <p:spTgt spid="1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12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4" dur="500" fill="hold"/>
                                        <p:tgtEl>
                                          <p:spTgt spid="1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5" dur="500" fill="hold"/>
                                        <p:tgtEl>
                                          <p:spTgt spid="1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6" dur="500" fill="hold"/>
                                        <p:tgtEl>
                                          <p:spTgt spid="1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7" dur="500" fill="hold"/>
                                        <p:tgtEl>
                                          <p:spTgt spid="1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18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0" dur="500" fill="hold"/>
                                        <p:tgtEl>
                                          <p:spTgt spid="1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1" dur="500" fill="hold"/>
                                        <p:tgtEl>
                                          <p:spTgt spid="1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2" dur="500" fill="hold"/>
                                        <p:tgtEl>
                                          <p:spTgt spid="1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3" dur="500" fill="hold"/>
                                        <p:tgtEl>
                                          <p:spTgt spid="1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to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3" name=""/>
          <p:cNvSpPr txBox="1"/>
          <p:nvPr/>
        </p:nvSpPr>
        <p:spPr>
          <a:xfrm>
            <a:off x="380880" y="11426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unakan metode lagrange untuk mencari nilai-nilai maksimun dan minimun dar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 f(x,y)= 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– y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+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da lingkaran 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+y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=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4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C6A36-D5FA-4983-8F39-63DAF7D79BAF}" type="datetime">
              <a:rPr b="0" lang="en-US" sz="1200" spc="-1" strike="noStrike">
                <a:solidFill>
                  <a:srgbClr val="898989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40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Verdana"/>
              </a:rPr>
              <a:t>[MA 1124]</a:t>
            </a:r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Verdana"/>
              </a:rPr>
              <a:t>KALKULUS II</a:t>
            </a:r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40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9955A-DA41-459B-9444-BE276D220CF1}" type="slidenum">
              <a:rPr b="0" lang="en-US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407" name="Text Box 4"/>
          <p:cNvSpPr/>
          <p:nvPr/>
        </p:nvSpPr>
        <p:spPr>
          <a:xfrm>
            <a:off x="903600" y="2819520"/>
            <a:ext cx="9990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Jawab: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408" name="Text Box 5"/>
          <p:cNvSpPr/>
          <p:nvPr/>
        </p:nvSpPr>
        <p:spPr>
          <a:xfrm>
            <a:off x="1240560" y="3228840"/>
            <a:ext cx="72536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Titik-titik kritis didapat dengan memecahkan persamaan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lagrange berikut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9" name="Object 6"/>
              <p:cNvSpPr txBox="1"/>
              <p:nvPr/>
            </p:nvSpPr>
            <p:spPr>
              <a:xfrm>
                <a:off x="1820880" y="3921120"/>
                <a:ext cx="2730600" cy="39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∇</m:t>
                        </m:r>
                      </m:e>
                    </m:acc>
                    <m:r>
                      <m:t xml:space="preserve"> </m:t>
                    </m:r>
                    <m:r>
                      <m:t xml:space="preserve">f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λ</m:t>
                    </m:r>
                    <m:r>
                      <m:t xml:space="preserve"> 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∇</m:t>
                        </m:r>
                      </m:e>
                    </m:acc>
                    <m:r>
                      <m:t xml:space="preserve"> </m:t>
                    </m:r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0" name="Object 7"/>
              <p:cNvSpPr txBox="1"/>
              <p:nvPr/>
            </p:nvSpPr>
            <p:spPr>
              <a:xfrm>
                <a:off x="5372280" y="3948120"/>
                <a:ext cx="133344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11" name="Text Box 8"/>
          <p:cNvSpPr/>
          <p:nvPr/>
        </p:nvSpPr>
        <p:spPr>
          <a:xfrm>
            <a:off x="4653360" y="3882960"/>
            <a:ext cx="6591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dan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412" name="Text Box 9"/>
          <p:cNvSpPr/>
          <p:nvPr/>
        </p:nvSpPr>
        <p:spPr>
          <a:xfrm>
            <a:off x="1101600" y="4295880"/>
            <a:ext cx="86652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yaitu: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413" name="Text Box 10"/>
          <p:cNvSpPr/>
          <p:nvPr/>
        </p:nvSpPr>
        <p:spPr>
          <a:xfrm>
            <a:off x="1995480" y="4602240"/>
            <a:ext cx="21542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2x = </a:t>
            </a:r>
            <a:r>
              <a:rPr b="0" lang="en-US" sz="2100" spc="-1" strike="noStrike">
                <a:solidFill>
                  <a:srgbClr val="336699"/>
                </a:solidFill>
                <a:latin typeface="Symbol"/>
                <a:ea typeface="Symbol"/>
              </a:rPr>
              <a:t>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 2x …….(1)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414" name="Text Box 11"/>
          <p:cNvSpPr/>
          <p:nvPr/>
        </p:nvSpPr>
        <p:spPr>
          <a:xfrm>
            <a:off x="1818360" y="4956120"/>
            <a:ext cx="234612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– 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2y = </a:t>
            </a:r>
            <a:r>
              <a:rPr b="0" lang="en-US" sz="2100" spc="-1" strike="noStrike">
                <a:solidFill>
                  <a:srgbClr val="336699"/>
                </a:solidFill>
                <a:latin typeface="Symbol"/>
                <a:ea typeface="Symbol"/>
              </a:rPr>
              <a:t>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 2y …….(2)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415" name="Text Box 12"/>
          <p:cNvSpPr/>
          <p:nvPr/>
        </p:nvSpPr>
        <p:spPr>
          <a:xfrm>
            <a:off x="1980000" y="5286240"/>
            <a:ext cx="21502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x</a:t>
            </a:r>
            <a:r>
              <a:rPr b="0" lang="en-US" sz="2100" spc="-1" strike="noStrike" baseline="30000">
                <a:solidFill>
                  <a:srgbClr val="336699"/>
                </a:solidFill>
                <a:latin typeface="Verdana"/>
              </a:rPr>
              <a:t>2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+y</a:t>
            </a:r>
            <a:r>
              <a:rPr b="0" lang="en-US" sz="2100" spc="-1" strike="noStrike" baseline="30000">
                <a:solidFill>
                  <a:srgbClr val="336699"/>
                </a:solidFill>
                <a:latin typeface="Verdana"/>
              </a:rPr>
              <a:t>2 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= 1 ……..(3)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6" name="Object 16"/>
              <p:cNvSpPr txBox="1"/>
              <p:nvPr/>
            </p:nvSpPr>
            <p:spPr>
              <a:xfrm>
                <a:off x="2362320" y="2743200"/>
                <a:ext cx="268920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∇</m:t>
                        </m:r>
                      </m:e>
                    </m:acc>
                    <m:r>
                      <m:t xml:space="preserve"> </m:t>
                    </m:r>
                    <m:r>
                      <m:t xml:space="preserve">f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 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i</m:t>
                        </m:r>
                      </m:e>
                    </m:acc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y</m:t>
                    </m:r>
                    <m:r>
                      <m:t xml:space="preserve"> 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j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7" name="Object 18"/>
              <p:cNvSpPr txBox="1"/>
              <p:nvPr/>
            </p:nvSpPr>
            <p:spPr>
              <a:xfrm>
                <a:off x="5562720" y="2743200"/>
                <a:ext cx="268920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∇</m:t>
                        </m:r>
                      </m:e>
                    </m:acc>
                    <m:r>
                      <m:t xml:space="preserve"> </m:t>
                    </m:r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 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i</m:t>
                        </m:r>
                      </m:e>
                    </m:acc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y</m:t>
                    </m:r>
                    <m:r>
                      <m:t xml:space="preserve"> 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j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4424" dur="indefinite" restart="never" nodeType="tmRoot">
          <p:childTnLst>
            <p:seq>
              <p:cTn id="4425" dur="indefinite" nodeType="mainSeq">
                <p:childTnLst>
                  <p:par>
                    <p:cTn id="4426" nodeType="clickEffect" fill="hold">
                      <p:stCondLst>
                        <p:cond delay="0"/>
                      </p:stCondLst>
                      <p:childTnLst>
                        <p:par>
                          <p:cTn id="4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8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4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7" nodeType="clickEffect" fill="hold">
                      <p:stCondLst>
                        <p:cond delay="indefinite"/>
                      </p:stCondLst>
                      <p:childTnLst>
                        <p:par>
                          <p:cTn id="4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41" dur="80"/>
                                        <p:tgtEl>
                                          <p:spTgt spid="14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42" dur="80"/>
                                        <p:tgtEl>
                                          <p:spTgt spid="14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43" dur="80"/>
                                        <p:tgtEl>
                                          <p:spTgt spid="14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4" nodeType="clickEffect" fill="hold">
                      <p:stCondLst>
                        <p:cond delay="indefinite"/>
                      </p:stCondLst>
                      <p:childTnLst>
                        <p:par>
                          <p:cTn id="4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8" dur="500" fill="hold"/>
                                        <p:tgtEl>
                                          <p:spTgt spid="1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9" dur="500" fill="hold"/>
                                        <p:tgtEl>
                                          <p:spTgt spid="1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0" dur="500" fill="hold"/>
                                        <p:tgtEl>
                                          <p:spTgt spid="1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1" dur="500" fill="hold"/>
                                        <p:tgtEl>
                                          <p:spTgt spid="1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52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4" dur="500" fill="hold"/>
                                        <p:tgtEl>
                                          <p:spTgt spid="1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5" dur="500" fill="hold"/>
                                        <p:tgtEl>
                                          <p:spTgt spid="1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6" dur="500" fill="hold"/>
                                        <p:tgtEl>
                                          <p:spTgt spid="1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7" dur="500" fill="hold"/>
                                        <p:tgtEl>
                                          <p:spTgt spid="1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8" nodeType="clickEffect" fill="hold">
                      <p:stCondLst>
                        <p:cond delay="indefinite"/>
                      </p:stCondLst>
                      <p:childTnLst>
                        <p:par>
                          <p:cTn id="4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62" dur="500"/>
                                        <p:tgtEl>
                                          <p:spTgt spid="1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3" nodeType="clickEffect" fill="hold">
                      <p:stCondLst>
                        <p:cond delay="indefinite"/>
                      </p:stCondLst>
                      <p:childTnLst>
                        <p:par>
                          <p:cTn id="4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7" dur="500" fill="hold"/>
                                        <p:tgtEl>
                                          <p:spTgt spid="1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8" dur="500" fill="hold"/>
                                        <p:tgtEl>
                                          <p:spTgt spid="1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9" dur="500" fill="hold"/>
                                        <p:tgtEl>
                                          <p:spTgt spid="1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0" dur="500" fill="hold"/>
                                        <p:tgtEl>
                                          <p:spTgt spid="1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7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3" dur="500" fill="hold"/>
                                        <p:tgtEl>
                                          <p:spTgt spid="1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4" dur="500" fill="hold"/>
                                        <p:tgtEl>
                                          <p:spTgt spid="1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5" dur="500" fill="hold"/>
                                        <p:tgtEl>
                                          <p:spTgt spid="1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6" dur="500" fill="hold"/>
                                        <p:tgtEl>
                                          <p:spTgt spid="1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7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9" dur="500" fill="hold"/>
                                        <p:tgtEl>
                                          <p:spTgt spid="1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0" dur="500" fill="hold"/>
                                        <p:tgtEl>
                                          <p:spTgt spid="1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1" dur="500" fill="hold"/>
                                        <p:tgtEl>
                                          <p:spTgt spid="1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2" dur="500" fill="hold"/>
                                        <p:tgtEl>
                                          <p:spTgt spid="1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8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85" dur="80"/>
                                        <p:tgtEl>
                                          <p:spTgt spid="14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86" dur="80"/>
                                        <p:tgtEl>
                                          <p:spTgt spid="14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87" dur="80"/>
                                        <p:tgtEl>
                                          <p:spTgt spid="14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8" nodeType="clickEffect" fill="hold">
                      <p:stCondLst>
                        <p:cond delay="indefinite"/>
                      </p:stCondLst>
                      <p:childTnLst>
                        <p:par>
                          <p:cTn id="4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92" dur="500"/>
                                        <p:tgtEl>
                                          <p:spTgt spid="1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3" nodeType="clickEffect" fill="hold">
                      <p:stCondLst>
                        <p:cond delay="indefinite"/>
                      </p:stCondLst>
                      <p:childTnLst>
                        <p:par>
                          <p:cTn id="4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97" dur="500"/>
                                        <p:tgtEl>
                                          <p:spTgt spid="1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8" nodeType="clickEffect" fill="hold">
                      <p:stCondLst>
                        <p:cond delay="indefinite"/>
                      </p:stCondLst>
                      <p:childTnLst>
                        <p:par>
                          <p:cTn id="4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02" dur="500"/>
                                        <p:tgtEl>
                                          <p:spTgt spid="1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toh (lanjutan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9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5F486-F2AB-47B0-8212-EBDF53083F64}" type="datetime">
              <a:rPr b="0" lang="en-US" sz="1200" spc="-1" strike="noStrike">
                <a:solidFill>
                  <a:srgbClr val="898989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420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Verdana"/>
              </a:rPr>
              <a:t>[MA 1124]</a:t>
            </a:r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Verdana"/>
              </a:rPr>
              <a:t>KALKULUS II</a:t>
            </a:r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42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8C3AB-8D69-4221-96F5-06C9D01B408F}" type="slidenum">
              <a:rPr b="0" lang="en-US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422" name="Text Box 5"/>
          <p:cNvSpPr/>
          <p:nvPr/>
        </p:nvSpPr>
        <p:spPr>
          <a:xfrm>
            <a:off x="1134720" y="1523880"/>
            <a:ext cx="69123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Dari persamaan (3), nilai x dan y tidak mungkin sama-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sama nol, sehingga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423" name="Text Box 6"/>
          <p:cNvSpPr/>
          <p:nvPr/>
        </p:nvSpPr>
        <p:spPr>
          <a:xfrm>
            <a:off x="1222560" y="2205000"/>
            <a:ext cx="6778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Untuk x </a:t>
            </a:r>
            <a:r>
              <a:rPr b="0" lang="en-US" sz="2100" spc="-1" strike="noStrike">
                <a:solidFill>
                  <a:srgbClr val="336699"/>
                </a:solidFill>
                <a:latin typeface="Symbol"/>
                <a:ea typeface="Symbol"/>
              </a:rPr>
              <a:t>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 0, dari (1) di dapat </a:t>
            </a:r>
            <a:r>
              <a:rPr b="0" lang="en-US" sz="2100" spc="-1" strike="noStrike">
                <a:solidFill>
                  <a:srgbClr val="336699"/>
                </a:solidFill>
                <a:latin typeface="Symbol"/>
                <a:ea typeface="Symbol"/>
              </a:rPr>
              <a:t>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 = 1, kemudian dari (2)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di dapat y = 0, dan dari (3) di dapat x</a:t>
            </a:r>
            <a:r>
              <a:rPr b="0" lang="en-US" sz="2100" spc="-1" strike="noStrike" baseline="30000">
                <a:solidFill>
                  <a:srgbClr val="336699"/>
                </a:solidFill>
                <a:latin typeface="Verdana"/>
              </a:rPr>
              <a:t>2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=1 </a:t>
            </a:r>
            <a:r>
              <a:rPr b="0" lang="en-US" sz="2100" spc="-1" strike="noStrike">
                <a:solidFill>
                  <a:srgbClr val="336699"/>
                </a:solidFill>
                <a:latin typeface="Wingdings"/>
                <a:ea typeface="Wingdings"/>
              </a:rPr>
              <a:t>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 x = ± 1 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424" name="Text Box 7"/>
          <p:cNvSpPr/>
          <p:nvPr/>
        </p:nvSpPr>
        <p:spPr>
          <a:xfrm>
            <a:off x="1267200" y="3000240"/>
            <a:ext cx="68572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Untuk y </a:t>
            </a:r>
            <a:r>
              <a:rPr b="0" lang="en-US" sz="2100" spc="-1" strike="noStrike">
                <a:solidFill>
                  <a:srgbClr val="336699"/>
                </a:solidFill>
                <a:latin typeface="Symbol"/>
                <a:ea typeface="Symbol"/>
              </a:rPr>
              <a:t>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 0, dari (2) di dapat </a:t>
            </a:r>
            <a:r>
              <a:rPr b="0" lang="en-US" sz="2100" spc="-1" strike="noStrike">
                <a:solidFill>
                  <a:srgbClr val="336699"/>
                </a:solidFill>
                <a:latin typeface="Symbol"/>
                <a:ea typeface="Symbol"/>
              </a:rPr>
              <a:t>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 = -1, kemudian dari (1)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di dapat x = 0, dan dari (3) di dapat y</a:t>
            </a:r>
            <a:r>
              <a:rPr b="0" lang="en-US" sz="2100" spc="-1" strike="noStrike" baseline="30000">
                <a:solidFill>
                  <a:srgbClr val="336699"/>
                </a:solidFill>
                <a:latin typeface="Verdana"/>
              </a:rPr>
              <a:t>2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=1 </a:t>
            </a:r>
            <a:r>
              <a:rPr b="0" lang="en-US" sz="2100" spc="-1" strike="noStrike">
                <a:solidFill>
                  <a:srgbClr val="336699"/>
                </a:solidFill>
                <a:latin typeface="Wingdings"/>
                <a:ea typeface="Wingdings"/>
              </a:rPr>
              <a:t>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 y = ± 1 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425" name="Text Box 8"/>
          <p:cNvSpPr/>
          <p:nvPr/>
        </p:nvSpPr>
        <p:spPr>
          <a:xfrm>
            <a:off x="1415880" y="3727440"/>
            <a:ext cx="59216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Titik-titik kritis yaitu (1,0), (-1,0), (0,1) dan (0,-1)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426" name="Text Box 18"/>
          <p:cNvSpPr/>
          <p:nvPr/>
        </p:nvSpPr>
        <p:spPr>
          <a:xfrm>
            <a:off x="2579040" y="4114800"/>
            <a:ext cx="59976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99"/>
                </a:solidFill>
                <a:latin typeface="Wingdings"/>
                <a:ea typeface="Wingdings"/>
              </a:rPr>
              <a:t></a:t>
            </a:r>
            <a:endParaRPr b="0" lang="en-US" sz="33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427" name="Text Box 19"/>
          <p:cNvSpPr/>
          <p:nvPr/>
        </p:nvSpPr>
        <p:spPr>
          <a:xfrm>
            <a:off x="3243240" y="4191120"/>
            <a:ext cx="13968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f(1, 0) = 2,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428" name="Text Box 27"/>
          <p:cNvSpPr/>
          <p:nvPr/>
        </p:nvSpPr>
        <p:spPr>
          <a:xfrm>
            <a:off x="994680" y="4184640"/>
            <a:ext cx="15508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Untuk (1,0)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429" name="Text Box 28"/>
          <p:cNvSpPr/>
          <p:nvPr/>
        </p:nvSpPr>
        <p:spPr>
          <a:xfrm>
            <a:off x="6408000" y="4114800"/>
            <a:ext cx="59976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99"/>
                </a:solidFill>
                <a:latin typeface="Wingdings"/>
                <a:ea typeface="Wingdings"/>
              </a:rPr>
              <a:t></a:t>
            </a:r>
            <a:endParaRPr b="0" lang="en-US" sz="33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430" name="Text Box 29"/>
          <p:cNvSpPr/>
          <p:nvPr/>
        </p:nvSpPr>
        <p:spPr>
          <a:xfrm>
            <a:off x="7077600" y="4191120"/>
            <a:ext cx="14104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f(-1, 0) = 2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431" name="Text Box 30"/>
          <p:cNvSpPr/>
          <p:nvPr/>
        </p:nvSpPr>
        <p:spPr>
          <a:xfrm>
            <a:off x="4843080" y="4184640"/>
            <a:ext cx="16056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untuk (-1,0)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432" name="Text Box 31"/>
          <p:cNvSpPr/>
          <p:nvPr/>
        </p:nvSpPr>
        <p:spPr>
          <a:xfrm>
            <a:off x="2598120" y="4510080"/>
            <a:ext cx="59976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99"/>
                </a:solidFill>
                <a:latin typeface="Wingdings"/>
                <a:ea typeface="Wingdings"/>
              </a:rPr>
              <a:t></a:t>
            </a:r>
            <a:endParaRPr b="0" lang="en-US" sz="33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433" name="Text Box 32"/>
          <p:cNvSpPr/>
          <p:nvPr/>
        </p:nvSpPr>
        <p:spPr>
          <a:xfrm>
            <a:off x="3262320" y="4586400"/>
            <a:ext cx="13968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f(0, 1) = 0,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434" name="Text Box 33"/>
          <p:cNvSpPr/>
          <p:nvPr/>
        </p:nvSpPr>
        <p:spPr>
          <a:xfrm>
            <a:off x="1013760" y="4579920"/>
            <a:ext cx="15508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Untuk (0,1)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435" name="Text Box 34"/>
          <p:cNvSpPr/>
          <p:nvPr/>
        </p:nvSpPr>
        <p:spPr>
          <a:xfrm>
            <a:off x="6427080" y="4510080"/>
            <a:ext cx="59976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99"/>
                </a:solidFill>
                <a:latin typeface="Wingdings"/>
                <a:ea typeface="Wingdings"/>
              </a:rPr>
              <a:t></a:t>
            </a:r>
            <a:endParaRPr b="0" lang="en-US" sz="33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436" name="Text Box 35"/>
          <p:cNvSpPr/>
          <p:nvPr/>
        </p:nvSpPr>
        <p:spPr>
          <a:xfrm>
            <a:off x="7084440" y="4586400"/>
            <a:ext cx="13406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f(0,-1) = 0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437" name="Text Box 36"/>
          <p:cNvSpPr/>
          <p:nvPr/>
        </p:nvSpPr>
        <p:spPr>
          <a:xfrm>
            <a:off x="4862160" y="4579920"/>
            <a:ext cx="16056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untuk (0,-1)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438" name="Text Box 37"/>
          <p:cNvSpPr/>
          <p:nvPr/>
        </p:nvSpPr>
        <p:spPr>
          <a:xfrm>
            <a:off x="1371600" y="5029200"/>
            <a:ext cx="71514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Jadi nilai maksimum global = 2 pada titik (1,0) dan (-1,0),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439" name="Text Box 38"/>
          <p:cNvSpPr/>
          <p:nvPr/>
        </p:nvSpPr>
        <p:spPr>
          <a:xfrm>
            <a:off x="1281240" y="5410080"/>
            <a:ext cx="64368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Sedangkan nilai minimun global=0 pada titik (0,1) 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dan (0,-1) 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</p:spTree>
  </p:cSld>
  <p:timing>
    <p:tnLst>
      <p:par>
        <p:cTn id="4503" dur="indefinite" restart="never" nodeType="tmRoot">
          <p:childTnLst>
            <p:seq>
              <p:cTn id="4504" dur="indefinite" nodeType="mainSeq">
                <p:childTnLst>
                  <p:par>
                    <p:cTn id="4505" nodeType="clickEffect" fill="hold">
                      <p:stCondLst>
                        <p:cond delay="indefinite"/>
                      </p:stCondLst>
                      <p:childTnLst>
                        <p:par>
                          <p:cTn id="4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09" dur="500"/>
                                        <p:tgtEl>
                                          <p:spTgt spid="1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0" nodeType="clickEffect" fill="hold">
                      <p:stCondLst>
                        <p:cond delay="indefinite"/>
                      </p:stCondLst>
                      <p:childTnLst>
                        <p:par>
                          <p:cTn id="4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14" dur="500"/>
                                        <p:tgtEl>
                                          <p:spTgt spid="1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5" nodeType="clickEffect" fill="hold">
                      <p:stCondLst>
                        <p:cond delay="indefinite"/>
                      </p:stCondLst>
                      <p:childTnLst>
                        <p:par>
                          <p:cTn id="4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19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0" nodeType="clickEffect" fill="hold">
                      <p:stCondLst>
                        <p:cond delay="indefinite"/>
                      </p:stCondLst>
                      <p:childTnLst>
                        <p:par>
                          <p:cTn id="4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24" dur="80"/>
                                        <p:tgtEl>
                                          <p:spTgt spid="14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25" dur="80"/>
                                        <p:tgtEl>
                                          <p:spTgt spid="14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26" dur="80"/>
                                        <p:tgtEl>
                                          <p:spTgt spid="14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7" nodeType="clickEffect" fill="hold">
                      <p:stCondLst>
                        <p:cond delay="indefinite"/>
                      </p:stCondLst>
                      <p:childTnLst>
                        <p:par>
                          <p:cTn id="4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31" dur="500"/>
                                        <p:tgtEl>
                                          <p:spTgt spid="1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3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5" dur="500" fill="hold"/>
                                        <p:tgtEl>
                                          <p:spTgt spid="14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6" dur="500" fill="hold"/>
                                        <p:tgtEl>
                                          <p:spTgt spid="14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7" dur="500" fill="hold"/>
                                        <p:tgtEl>
                                          <p:spTgt spid="14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38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54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42" dur="80"/>
                                        <p:tgtEl>
                                          <p:spTgt spid="14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43" dur="80"/>
                                        <p:tgtEl>
                                          <p:spTgt spid="14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44" dur="80"/>
                                        <p:tgtEl>
                                          <p:spTgt spid="14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5" nodeType="clickEffect" fill="hold">
                      <p:stCondLst>
                        <p:cond delay="indefinite"/>
                      </p:stCondLst>
                      <p:childTnLst>
                        <p:par>
                          <p:cTn id="4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49" dur="500"/>
                                        <p:tgtEl>
                                          <p:spTgt spid="1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5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3" dur="500" fill="hold"/>
                                        <p:tgtEl>
                                          <p:spTgt spid="1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4" dur="500" fill="hold"/>
                                        <p:tgtEl>
                                          <p:spTgt spid="14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5" dur="500" fill="hold"/>
                                        <p:tgtEl>
                                          <p:spTgt spid="14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56" dur="500"/>
                                        <p:tgtEl>
                                          <p:spTgt spid="1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55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60" dur="80"/>
                                        <p:tgtEl>
                                          <p:spTgt spid="14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61" dur="80"/>
                                        <p:tgtEl>
                                          <p:spTgt spid="14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62" dur="80"/>
                                        <p:tgtEl>
                                          <p:spTgt spid="14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3" nodeType="clickEffect" fill="hold">
                      <p:stCondLst>
                        <p:cond delay="indefinite"/>
                      </p:stCondLst>
                      <p:childTnLst>
                        <p:par>
                          <p:cTn id="4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67" dur="500"/>
                                        <p:tgtEl>
                                          <p:spTgt spid="1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6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1" dur="500" fill="hold"/>
                                        <p:tgtEl>
                                          <p:spTgt spid="14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2" dur="500" fill="hold"/>
                                        <p:tgtEl>
                                          <p:spTgt spid="14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3" dur="500" fill="hold"/>
                                        <p:tgtEl>
                                          <p:spTgt spid="14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74" dur="500"/>
                                        <p:tgtEl>
                                          <p:spTgt spid="1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57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78" dur="80"/>
                                        <p:tgtEl>
                                          <p:spTgt spid="14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79" dur="80"/>
                                        <p:tgtEl>
                                          <p:spTgt spid="14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80" dur="80"/>
                                        <p:tgtEl>
                                          <p:spTgt spid="14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1" nodeType="clickEffect" fill="hold">
                      <p:stCondLst>
                        <p:cond delay="indefinite"/>
                      </p:stCondLst>
                      <p:childTnLst>
                        <p:par>
                          <p:cTn id="4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85" dur="500"/>
                                        <p:tgtEl>
                                          <p:spTgt spid="1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8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9" dur="500" fill="hold"/>
                                        <p:tgtEl>
                                          <p:spTgt spid="14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0" dur="500" fill="hold"/>
                                        <p:tgtEl>
                                          <p:spTgt spid="14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1" dur="500" fill="hold"/>
                                        <p:tgtEl>
                                          <p:spTgt spid="14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92" dur="500"/>
                                        <p:tgtEl>
                                          <p:spTgt spid="1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59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96" dur="80"/>
                                        <p:tgtEl>
                                          <p:spTgt spid="14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97" dur="80"/>
                                        <p:tgtEl>
                                          <p:spTgt spid="14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98" dur="80"/>
                                        <p:tgtEl>
                                          <p:spTgt spid="14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9" nodeType="clickEffect" fill="hold">
                      <p:stCondLst>
                        <p:cond delay="indefinite"/>
                      </p:stCondLst>
                      <p:childTnLst>
                        <p:par>
                          <p:cTn id="4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03" dur="80"/>
                                        <p:tgtEl>
                                          <p:spTgt spid="143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04" dur="80"/>
                                        <p:tgtEl>
                                          <p:spTgt spid="14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05" dur="80"/>
                                        <p:tgtEl>
                                          <p:spTgt spid="14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6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09" dur="80"/>
                                        <p:tgtEl>
                                          <p:spTgt spid="14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10" dur="80"/>
                                        <p:tgtEl>
                                          <p:spTgt spid="14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11" dur="80"/>
                                        <p:tgtEl>
                                          <p:spTgt spid="14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1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C01C2-DF80-44ED-A510-1D6557724E99}" type="datetime">
              <a:rPr b="0" lang="en-US" sz="1200" spc="-1" strike="noStrike">
                <a:solidFill>
                  <a:srgbClr val="898989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442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Verdana"/>
              </a:rPr>
              <a:t>[MA 1124]</a:t>
            </a:r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Verdana"/>
              </a:rPr>
              <a:t>KALKULUS II</a:t>
            </a:r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44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6AF28-A877-47DA-98D0-FB9CA2F33937}" type="slidenum">
              <a:rPr b="0" lang="en-US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</p:txBody>
      </p:sp>
      <p:pic>
        <p:nvPicPr>
          <p:cNvPr id="1444" name="Picture 3" descr=""/>
          <p:cNvPicPr/>
          <p:nvPr/>
        </p:nvPicPr>
        <p:blipFill>
          <a:blip r:embed="rId1"/>
          <a:stretch/>
        </p:blipFill>
        <p:spPr>
          <a:xfrm>
            <a:off x="533520" y="1066680"/>
            <a:ext cx="4800600" cy="480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to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6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C2E1E-5EEC-4E02-83F0-B2A3D5911131}" type="datetime">
              <a:rPr b="0" lang="en-US" sz="1200" spc="-1" strike="noStrike">
                <a:solidFill>
                  <a:srgbClr val="898989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447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Verdana"/>
              </a:rPr>
              <a:t>[MA 1124]</a:t>
            </a:r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Verdana"/>
              </a:rPr>
              <a:t>KALKULUS II</a:t>
            </a:r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44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C8BC9-B79F-4182-B8FD-C300A055BF5D}" type="slidenum">
              <a:rPr b="0" lang="en-US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449" name="Rectangle 4"/>
          <p:cNvSpPr/>
          <p:nvPr/>
        </p:nvSpPr>
        <p:spPr>
          <a:xfrm>
            <a:off x="1023840" y="1447920"/>
            <a:ext cx="6336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2. f(x,y,z)= x + 2y+3z  pada elips yang merupakan 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    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perpotongan x</a:t>
            </a:r>
            <a:r>
              <a:rPr b="0" lang="en-US" sz="2100" spc="-1" strike="noStrike" baseline="30000">
                <a:solidFill>
                  <a:srgbClr val="336699"/>
                </a:solidFill>
                <a:latin typeface="Verdana"/>
              </a:rPr>
              <a:t>2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+y</a:t>
            </a:r>
            <a:r>
              <a:rPr b="0" lang="en-US" sz="2100" spc="-1" strike="noStrike" baseline="30000">
                <a:solidFill>
                  <a:srgbClr val="336699"/>
                </a:solidFill>
                <a:latin typeface="Verdana"/>
              </a:rPr>
              <a:t>2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=2 dan bidang y + z = 1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450" name="Text Box 5"/>
          <p:cNvSpPr/>
          <p:nvPr/>
        </p:nvSpPr>
        <p:spPr>
          <a:xfrm>
            <a:off x="979920" y="2057400"/>
            <a:ext cx="9990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Jawab: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451" name="Text Box 6"/>
          <p:cNvSpPr/>
          <p:nvPr/>
        </p:nvSpPr>
        <p:spPr>
          <a:xfrm>
            <a:off x="1227600" y="2819520"/>
            <a:ext cx="72536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Titik-titik kritis didapat dengan memecahkan persamaan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lagrange berikut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2" name="Object 7"/>
              <p:cNvSpPr txBox="1"/>
              <p:nvPr/>
            </p:nvSpPr>
            <p:spPr>
              <a:xfrm>
                <a:off x="1149480" y="3511440"/>
                <a:ext cx="5064120" cy="39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∇</m:t>
                        </m:r>
                      </m:e>
                    </m:acc>
                    <m:r>
                      <m:t xml:space="preserve"> </m:t>
                    </m:r>
                    <m:r>
                      <m:t xml:space="preserve">f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,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λ</m:t>
                    </m:r>
                    <m:r>
                      <m:t xml:space="preserve"> 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∇</m:t>
                        </m:r>
                      </m:e>
                    </m:acc>
                    <m:r>
                      <m:t xml:space="preserve"> </m:t>
                    </m:r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,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μ</m:t>
                    </m:r>
                    <m:r>
                      <m:t xml:space="preserve"> 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∇</m:t>
                        </m:r>
                      </m:e>
                    </m:acc>
                    <m:r>
                      <m:t xml:space="preserve"> 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,</m:t>
                    </m:r>
                    <m:r>
                      <m:t xml:space="preserve">z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3" name="Object 8"/>
              <p:cNvSpPr txBox="1"/>
              <p:nvPr/>
            </p:nvSpPr>
            <p:spPr>
              <a:xfrm>
                <a:off x="6375240" y="3538440"/>
                <a:ext cx="1625760" cy="35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,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54" name="Text Box 9"/>
          <p:cNvSpPr/>
          <p:nvPr/>
        </p:nvSpPr>
        <p:spPr>
          <a:xfrm>
            <a:off x="6126120" y="3473280"/>
            <a:ext cx="2523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,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455" name="Text Box 10"/>
          <p:cNvSpPr/>
          <p:nvPr/>
        </p:nvSpPr>
        <p:spPr>
          <a:xfrm>
            <a:off x="1089000" y="4267080"/>
            <a:ext cx="86652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yaitu: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456" name="Text Box 11"/>
          <p:cNvSpPr/>
          <p:nvPr/>
        </p:nvSpPr>
        <p:spPr>
          <a:xfrm>
            <a:off x="1974240" y="4495680"/>
            <a:ext cx="257292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1 = 2</a:t>
            </a:r>
            <a:r>
              <a:rPr b="0" lang="en-US" sz="2100" spc="-1" strike="noStrike">
                <a:solidFill>
                  <a:srgbClr val="336699"/>
                </a:solidFill>
                <a:latin typeface="Symbol"/>
                <a:ea typeface="Symbol"/>
              </a:rPr>
              <a:t>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x …………….(1)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457" name="Text Box 12"/>
          <p:cNvSpPr/>
          <p:nvPr/>
        </p:nvSpPr>
        <p:spPr>
          <a:xfrm>
            <a:off x="2017440" y="4849920"/>
            <a:ext cx="25167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2 = 2</a:t>
            </a:r>
            <a:r>
              <a:rPr b="0" lang="en-US" sz="2100" spc="-1" strike="noStrike">
                <a:solidFill>
                  <a:srgbClr val="336699"/>
                </a:solidFill>
                <a:latin typeface="Symbol"/>
                <a:ea typeface="Symbol"/>
              </a:rPr>
              <a:t>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y + </a:t>
            </a:r>
            <a:r>
              <a:rPr b="0" lang="en-US" sz="2100" spc="-1" strike="noStrike">
                <a:solidFill>
                  <a:srgbClr val="336699"/>
                </a:solidFill>
                <a:latin typeface="Symbol"/>
                <a:ea typeface="Symbol"/>
              </a:rPr>
              <a:t>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 …….(2)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458" name="Text Box 13"/>
          <p:cNvSpPr/>
          <p:nvPr/>
        </p:nvSpPr>
        <p:spPr>
          <a:xfrm>
            <a:off x="1995840" y="5562720"/>
            <a:ext cx="25038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x</a:t>
            </a:r>
            <a:r>
              <a:rPr b="0" lang="en-US" sz="2100" spc="-1" strike="noStrike" baseline="30000">
                <a:solidFill>
                  <a:srgbClr val="336699"/>
                </a:solidFill>
                <a:latin typeface="Verdana"/>
              </a:rPr>
              <a:t>2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+y</a:t>
            </a:r>
            <a:r>
              <a:rPr b="0" lang="en-US" sz="2100" spc="-1" strike="noStrike" baseline="30000">
                <a:solidFill>
                  <a:srgbClr val="336699"/>
                </a:solidFill>
                <a:latin typeface="Verdana"/>
              </a:rPr>
              <a:t>2 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= 2 ……..…..(4)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9" name="Object 14"/>
              <p:cNvSpPr txBox="1"/>
              <p:nvPr/>
            </p:nvSpPr>
            <p:spPr>
              <a:xfrm>
                <a:off x="960480" y="2411280"/>
                <a:ext cx="2751120" cy="41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∇</m:t>
                        </m:r>
                      </m:e>
                    </m:acc>
                    <m:r>
                      <m:t xml:space="preserve"> </m:t>
                    </m:r>
                    <m:r>
                      <m:t xml:space="preserve">f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 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i</m:t>
                        </m:r>
                      </m:e>
                    </m:acc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 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j</m:t>
                        </m:r>
                      </m:e>
                    </m:acc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 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k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0" name="Object 15"/>
              <p:cNvSpPr txBox="1"/>
              <p:nvPr/>
            </p:nvSpPr>
            <p:spPr>
              <a:xfrm>
                <a:off x="4038480" y="2401920"/>
                <a:ext cx="268920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∇</m:t>
                        </m:r>
                      </m:e>
                    </m:acc>
                    <m:r>
                      <m:t xml:space="preserve"> </m:t>
                    </m:r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 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i</m:t>
                        </m:r>
                      </m:e>
                    </m:acc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y</m:t>
                    </m:r>
                    <m:r>
                      <m:t xml:space="preserve"> 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j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1" name="Object 16"/>
              <p:cNvSpPr txBox="1"/>
              <p:nvPr/>
            </p:nvSpPr>
            <p:spPr>
              <a:xfrm>
                <a:off x="6927840" y="2438280"/>
                <a:ext cx="2063880" cy="41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∇</m:t>
                        </m:r>
                      </m:e>
                    </m:acc>
                    <m:r>
                      <m:t xml:space="preserve"> </m:t>
                    </m:r>
                    <m:r>
                      <m:t xml:space="preserve">h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 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j</m:t>
                        </m:r>
                      </m:e>
                    </m:acc>
                    <m:r>
                      <m:t xml:space="preserve">+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k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2" name="Object 18"/>
              <p:cNvSpPr txBox="1"/>
              <p:nvPr/>
            </p:nvSpPr>
            <p:spPr>
              <a:xfrm>
                <a:off x="4038480" y="3884760"/>
                <a:ext cx="160524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,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63" name="Text Box 20"/>
          <p:cNvSpPr/>
          <p:nvPr/>
        </p:nvSpPr>
        <p:spPr>
          <a:xfrm>
            <a:off x="3362760" y="3825720"/>
            <a:ext cx="6591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dan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464" name="Text Box 21"/>
          <p:cNvSpPr/>
          <p:nvPr/>
        </p:nvSpPr>
        <p:spPr>
          <a:xfrm>
            <a:off x="2014200" y="5911920"/>
            <a:ext cx="24501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y + z</a:t>
            </a:r>
            <a:r>
              <a:rPr b="0" lang="en-US" sz="2100" spc="-1" strike="noStrike" baseline="30000">
                <a:solidFill>
                  <a:srgbClr val="336699"/>
                </a:solidFill>
                <a:latin typeface="Verdana"/>
              </a:rPr>
              <a:t> 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= 1 ……..…..(5)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465" name="Text Box 22"/>
          <p:cNvSpPr/>
          <p:nvPr/>
        </p:nvSpPr>
        <p:spPr>
          <a:xfrm>
            <a:off x="1957680" y="5226120"/>
            <a:ext cx="26312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3 = </a:t>
            </a:r>
            <a:r>
              <a:rPr b="0" lang="en-US" sz="2100" spc="-1" strike="noStrike">
                <a:solidFill>
                  <a:srgbClr val="336699"/>
                </a:solidFill>
                <a:latin typeface="Symbol"/>
                <a:ea typeface="Symbol"/>
              </a:rPr>
              <a:t>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 ……………….(3)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</p:spTree>
  </p:cSld>
  <p:timing>
    <p:tnLst>
      <p:par>
        <p:cTn id="4612" dur="indefinite" restart="never" nodeType="tmRoot">
          <p:childTnLst>
            <p:seq>
              <p:cTn id="4613" dur="indefinite" nodeType="mainSeq">
                <p:childTnLst>
                  <p:par>
                    <p:cTn id="4614" nodeType="clickEffect" fill="hold">
                      <p:stCondLst>
                        <p:cond delay="0"/>
                      </p:stCondLst>
                      <p:childTnLst>
                        <p:par>
                          <p:cTn id="4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18" dur="80"/>
                                        <p:tgtEl>
                                          <p:spTgt spid="14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19" dur="80"/>
                                        <p:tgtEl>
                                          <p:spTgt spid="14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20" dur="80"/>
                                        <p:tgtEl>
                                          <p:spTgt spid="14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1" nodeType="clickEffect" fill="hold">
                      <p:stCondLst>
                        <p:cond delay="indefinite"/>
                      </p:stCondLst>
                      <p:childTnLst>
                        <p:par>
                          <p:cTn id="4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25" dur="80"/>
                                        <p:tgtEl>
                                          <p:spTgt spid="14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26" dur="80"/>
                                        <p:tgtEl>
                                          <p:spTgt spid="14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27" dur="80"/>
                                        <p:tgtEl>
                                          <p:spTgt spid="14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8" nodeType="clickEffect" fill="hold">
                      <p:stCondLst>
                        <p:cond delay="indefinite"/>
                      </p:stCondLst>
                      <p:childTnLst>
                        <p:par>
                          <p:cTn id="46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2" dur="500" fill="hold"/>
                                        <p:tgtEl>
                                          <p:spTgt spid="14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3" dur="500" fill="hold"/>
                                        <p:tgtEl>
                                          <p:spTgt spid="14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4" dur="500" fill="hold"/>
                                        <p:tgtEl>
                                          <p:spTgt spid="1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5" dur="500" fill="hold"/>
                                        <p:tgtEl>
                                          <p:spTgt spid="1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36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8" dur="500" fill="hold"/>
                                        <p:tgtEl>
                                          <p:spTgt spid="14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9" dur="500" fill="hold"/>
                                        <p:tgtEl>
                                          <p:spTgt spid="14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0" dur="500" fill="hold"/>
                                        <p:tgtEl>
                                          <p:spTgt spid="1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1" dur="500" fill="hold"/>
                                        <p:tgtEl>
                                          <p:spTgt spid="1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42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4" dur="500" fill="hold"/>
                                        <p:tgtEl>
                                          <p:spTgt spid="14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5" dur="500" fill="hold"/>
                                        <p:tgtEl>
                                          <p:spTgt spid="14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6" dur="500" fill="hold"/>
                                        <p:tgtEl>
                                          <p:spTgt spid="1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7" dur="500" fill="hold"/>
                                        <p:tgtEl>
                                          <p:spTgt spid="1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8" nodeType="clickEffect" fill="hold">
                      <p:stCondLst>
                        <p:cond delay="indefinite"/>
                      </p:stCondLst>
                      <p:childTnLst>
                        <p:par>
                          <p:cTn id="46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52" dur="500"/>
                                        <p:tgtEl>
                                          <p:spTgt spid="1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3" nodeType="clickEffect" fill="hold">
                      <p:stCondLst>
                        <p:cond delay="indefinite"/>
                      </p:stCondLst>
                      <p:childTnLst>
                        <p:par>
                          <p:cTn id="4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7" dur="500" fill="hold"/>
                                        <p:tgtEl>
                                          <p:spTgt spid="14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8" dur="500" fill="hold"/>
                                        <p:tgtEl>
                                          <p:spTgt spid="14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9" dur="500" fill="hold"/>
                                        <p:tgtEl>
                                          <p:spTgt spid="1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0" dur="500" fill="hold"/>
                                        <p:tgtEl>
                                          <p:spTgt spid="1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6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3" dur="500" fill="hold"/>
                                        <p:tgtEl>
                                          <p:spTgt spid="14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4" dur="500" fill="hold"/>
                                        <p:tgtEl>
                                          <p:spTgt spid="14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5" dur="500" fill="hold"/>
                                        <p:tgtEl>
                                          <p:spTgt spid="1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6" dur="500" fill="hold"/>
                                        <p:tgtEl>
                                          <p:spTgt spid="1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6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9" dur="500" fill="hold"/>
                                        <p:tgtEl>
                                          <p:spTgt spid="14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0" dur="500" fill="hold"/>
                                        <p:tgtEl>
                                          <p:spTgt spid="14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1" dur="500" fill="hold"/>
                                        <p:tgtEl>
                                          <p:spTgt spid="1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2" dur="500" fill="hold"/>
                                        <p:tgtEl>
                                          <p:spTgt spid="1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7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5" dur="500" fill="hold"/>
                                        <p:tgtEl>
                                          <p:spTgt spid="14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6" dur="500" fill="hold"/>
                                        <p:tgtEl>
                                          <p:spTgt spid="14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7" dur="500" fill="hold"/>
                                        <p:tgtEl>
                                          <p:spTgt spid="1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8" dur="500" fill="hold"/>
                                        <p:tgtEl>
                                          <p:spTgt spid="1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7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1" dur="500" fill="hold"/>
                                        <p:tgtEl>
                                          <p:spTgt spid="14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2" dur="500" fill="hold"/>
                                        <p:tgtEl>
                                          <p:spTgt spid="14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3" dur="500" fill="hold"/>
                                        <p:tgtEl>
                                          <p:spTgt spid="1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4" dur="500" fill="hold"/>
                                        <p:tgtEl>
                                          <p:spTgt spid="1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5" nodeType="clickEffect" fill="hold">
                      <p:stCondLst>
                        <p:cond delay="indefinite"/>
                      </p:stCondLst>
                      <p:childTnLst>
                        <p:par>
                          <p:cTn id="4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89" dur="80"/>
                                        <p:tgtEl>
                                          <p:spTgt spid="14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90" dur="80"/>
                                        <p:tgtEl>
                                          <p:spTgt spid="14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91" dur="80"/>
                                        <p:tgtEl>
                                          <p:spTgt spid="14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2" nodeType="clickEffect" fill="hold">
                      <p:stCondLst>
                        <p:cond delay="indefinite"/>
                      </p:stCondLst>
                      <p:childTnLst>
                        <p:par>
                          <p:cTn id="46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96" dur="500"/>
                                        <p:tgtEl>
                                          <p:spTgt spid="1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7" nodeType="clickEffect" fill="hold">
                      <p:stCondLst>
                        <p:cond delay="indefinite"/>
                      </p:stCondLst>
                      <p:childTnLst>
                        <p:par>
                          <p:cTn id="4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01" dur="500"/>
                                        <p:tgtEl>
                                          <p:spTgt spid="1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2" nodeType="clickEffect" fill="hold">
                      <p:stCondLst>
                        <p:cond delay="indefinite"/>
                      </p:stCondLst>
                      <p:childTnLst>
                        <p:par>
                          <p:cTn id="47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06" dur="500"/>
                                        <p:tgtEl>
                                          <p:spTgt spid="1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7" nodeType="clickEffect" fill="hold">
                      <p:stCondLst>
                        <p:cond delay="indefinite"/>
                      </p:stCondLst>
                      <p:childTnLst>
                        <p:par>
                          <p:cTn id="47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11" dur="500"/>
                                        <p:tgtEl>
                                          <p:spTgt spid="1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2" nodeType="clickEffect" fill="hold">
                      <p:stCondLst>
                        <p:cond delay="indefinite"/>
                      </p:stCondLst>
                      <p:childTnLst>
                        <p:par>
                          <p:cTn id="47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16" dur="500"/>
                                        <p:tgtEl>
                                          <p:spTgt spid="1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toh (lanjutan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7" name=""/>
          <p:cNvSpPr txBox="1"/>
          <p:nvPr/>
        </p:nvSpPr>
        <p:spPr>
          <a:xfrm>
            <a:off x="609480" y="1304640"/>
            <a:ext cx="8305920" cy="151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Dari (1), x = 1/(2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), dari (2) dan (3), y = -1/(2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). Jadi dari (4), didapat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= ± ½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Untuk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= ½, didapatkan titik kritis (1, -1, 2)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Untuk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= -½, didapatkan titik kritis (-1, 1, 0)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8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8E606-0C60-4DAA-9DC7-E635F9E60D0A}" type="datetime">
              <a:rPr b="0" lang="en-US" sz="1200" spc="-1" strike="noStrike">
                <a:solidFill>
                  <a:srgbClr val="898989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469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Verdana"/>
              </a:rPr>
              <a:t>[MA 1124]</a:t>
            </a:r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Verdana"/>
              </a:rPr>
              <a:t>KALKULUS II</a:t>
            </a:r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47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DA863-C871-4B08-B97A-D1F0165BC99E}" type="slidenum">
              <a:rPr b="0" lang="en-US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471" name="Text Box 4"/>
          <p:cNvSpPr/>
          <p:nvPr/>
        </p:nvSpPr>
        <p:spPr>
          <a:xfrm>
            <a:off x="973080" y="2895480"/>
            <a:ext cx="53715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Jadi nilai maksimum = 5 pada titik (1,-1,2),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472" name="Text Box 5"/>
          <p:cNvSpPr/>
          <p:nvPr/>
        </p:nvSpPr>
        <p:spPr>
          <a:xfrm>
            <a:off x="1026720" y="3276720"/>
            <a:ext cx="67460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Sedangkan nilai minimun global=1 pada titik (-1,1,0) 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</p:spTree>
  </p:cSld>
  <p:timing>
    <p:tnLst>
      <p:par>
        <p:cTn id="4717" dur="indefinite" restart="never" nodeType="tmRoot">
          <p:childTnLst>
            <p:seq>
              <p:cTn id="4718" dur="indefinite" nodeType="mainSeq">
                <p:childTnLst>
                  <p:par>
                    <p:cTn id="4719" nodeType="clickEffect" fill="hold">
                      <p:stCondLst>
                        <p:cond delay="indefinite"/>
                      </p:stCondLst>
                      <p:childTnLst>
                        <p:par>
                          <p:cTn id="4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23" dur="80"/>
                                        <p:tgtEl>
                                          <p:spTgt spid="14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24" dur="80"/>
                                        <p:tgtEl>
                                          <p:spTgt spid="14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25" dur="80"/>
                                        <p:tgtEl>
                                          <p:spTgt spid="14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6" nodeType="afterEffect" fill="hold">
                            <p:stCondLst>
                              <p:cond delay="1520"/>
                            </p:stCondLst>
                            <p:childTnLst>
                              <p:par>
                                <p:cTn id="472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29" dur="80"/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30" dur="80"/>
                                        <p:tgtEl>
                                          <p:spTgt spid="14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31" dur="80"/>
                                        <p:tgtEl>
                                          <p:spTgt spid="14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tiha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4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757E2-42E1-4828-A74B-5CCA2D2015D4}" type="datetime">
              <a:rPr b="0" lang="en-US" sz="1200" spc="-1" strike="noStrike">
                <a:solidFill>
                  <a:srgbClr val="898989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47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Verdana"/>
              </a:rPr>
              <a:t>[MA 1124]</a:t>
            </a:r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Verdana"/>
              </a:rPr>
              <a:t>KALKULUS II</a:t>
            </a:r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47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9CF9D-E88E-4370-9C4F-E7A4705F34D8}" type="slidenum">
              <a:rPr b="0" lang="en-US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477" name="Rectangle 4"/>
          <p:cNvSpPr/>
          <p:nvPr/>
        </p:nvSpPr>
        <p:spPr>
          <a:xfrm>
            <a:off x="609480" y="1457280"/>
            <a:ext cx="8305920" cy="24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Gunakan metode lagrange untuk mencari nilai-nilai maksimun dan minimun dari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buClr>
                <a:srgbClr val="80008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f(x,y) = x</a:t>
            </a:r>
            <a:r>
              <a:rPr b="0" lang="en-US" sz="2100" spc="-1" strike="noStrike" baseline="30000">
                <a:solidFill>
                  <a:srgbClr val="336699"/>
                </a:solidFill>
                <a:latin typeface="Verdana"/>
              </a:rPr>
              <a:t>2 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+ y</a:t>
            </a:r>
            <a:r>
              <a:rPr b="0" lang="en-US" sz="2100" spc="-1" strike="noStrike" baseline="30000">
                <a:solidFill>
                  <a:srgbClr val="336699"/>
                </a:solidFill>
                <a:latin typeface="Verdana"/>
              </a:rPr>
              <a:t>2 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pada kendala g(x,y)= xy – 3 = 0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buClr>
                <a:srgbClr val="80008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f(x,y) = xy pada lingkaran x</a:t>
            </a:r>
            <a:r>
              <a:rPr b="0" lang="en-US" sz="2100" spc="-1" strike="noStrike" baseline="30000">
                <a:solidFill>
                  <a:srgbClr val="336699"/>
                </a:solidFill>
                <a:latin typeface="Verdana"/>
              </a:rPr>
              <a:t>2 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+ y</a:t>
            </a:r>
            <a:r>
              <a:rPr b="0" lang="en-US" sz="2100" spc="-1" strike="noStrike" baseline="30000">
                <a:solidFill>
                  <a:srgbClr val="336699"/>
                </a:solidFill>
                <a:latin typeface="Verdana"/>
              </a:rPr>
              <a:t>2 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= 1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buClr>
                <a:srgbClr val="80008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f(x,y) = 4x</a:t>
            </a:r>
            <a:r>
              <a:rPr b="0" lang="en-US" sz="2100" spc="-1" strike="noStrike" baseline="30000">
                <a:solidFill>
                  <a:srgbClr val="336699"/>
                </a:solidFill>
                <a:latin typeface="Verdana"/>
              </a:rPr>
              <a:t>2 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– 4xy+ y</a:t>
            </a:r>
            <a:r>
              <a:rPr b="0" lang="en-US" sz="2100" spc="-1" strike="noStrike" baseline="30000">
                <a:solidFill>
                  <a:srgbClr val="336699"/>
                </a:solidFill>
                <a:latin typeface="Verdana"/>
              </a:rPr>
              <a:t>2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 pada kendala x</a:t>
            </a:r>
            <a:r>
              <a:rPr b="0" lang="en-US" sz="2100" spc="-1" strike="noStrike" baseline="30000">
                <a:solidFill>
                  <a:srgbClr val="336699"/>
                </a:solidFill>
                <a:latin typeface="Verdana"/>
              </a:rPr>
              <a:t>2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+y</a:t>
            </a:r>
            <a:r>
              <a:rPr b="0" lang="en-US" sz="2100" spc="-1" strike="noStrike" baseline="30000">
                <a:solidFill>
                  <a:srgbClr val="336699"/>
                </a:solidFill>
                <a:latin typeface="Verdana"/>
              </a:rPr>
              <a:t>2 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= 1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buClr>
                <a:srgbClr val="80008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f(x,y) = x</a:t>
            </a:r>
            <a:r>
              <a:rPr b="0" lang="en-US" sz="2100" spc="-1" strike="noStrike" baseline="30000">
                <a:solidFill>
                  <a:srgbClr val="336699"/>
                </a:solidFill>
                <a:latin typeface="Verdana"/>
              </a:rPr>
              <a:t>2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+y</a:t>
            </a:r>
            <a:r>
              <a:rPr b="0" lang="en-US" sz="2100" spc="-1" strike="noStrike" baseline="30000">
                <a:solidFill>
                  <a:srgbClr val="336699"/>
                </a:solidFill>
                <a:latin typeface="Verdana"/>
              </a:rPr>
              <a:t>2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+z</a:t>
            </a:r>
            <a:r>
              <a:rPr b="0" lang="en-US" sz="2100" spc="-1" strike="noStrike" baseline="30000">
                <a:solidFill>
                  <a:srgbClr val="336699"/>
                </a:solidFill>
                <a:latin typeface="Verdana"/>
              </a:rPr>
              <a:t>2  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pada kendala x + 3y – 2z = 12 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</p:spTree>
  </p:cSld>
  <p:timing>
    <p:tnLst>
      <p:par>
        <p:cTn id="4732" dur="indefinite" restart="never" nodeType="tmRoot">
          <p:childTnLst>
            <p:seq>
              <p:cTn id="4733" dur="indefinite" nodeType="mainSeq">
                <p:childTnLst>
                  <p:par>
                    <p:cTn id="4734" nodeType="clickEffect" fill="hold">
                      <p:stCondLst>
                        <p:cond delay="0"/>
                      </p:stCondLst>
                      <p:childTnLst>
                        <p:par>
                          <p:cTn id="47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6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3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39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4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5" nodeType="clickEffect" fill="hold">
                      <p:stCondLst>
                        <p:cond delay="indefinite"/>
                      </p:stCondLst>
                      <p:childTnLst>
                        <p:par>
                          <p:cTn id="47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0" nodeType="clickEffect" fill="hold">
                      <p:stCondLst>
                        <p:cond delay="indefinite"/>
                      </p:stCondLst>
                      <p:childTnLst>
                        <p:par>
                          <p:cTn id="47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mukaan di R</a:t>
            </a:r>
            <a:r>
              <a:rPr b="0" lang="en-US" sz="44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609480" y="1600200"/>
            <a:ext cx="8305920" cy="49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Calibri"/>
              </a:rPr>
              <a:t>3.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iperboloida berdaun satu, mempunyai </a:t>
            </a:r>
            <a:r>
              <a:rPr b="0" lang="id-ID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entuk umum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E6C2C-4F51-4BFE-99E7-B1AC58FCE7E8}" type="datetime">
              <a:rPr b="0" lang="en-US" sz="1200" spc="-1" strike="noStrike">
                <a:solidFill>
                  <a:srgbClr val="898989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354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Verdana"/>
              </a:rPr>
              <a:t>[MA 1124]</a:t>
            </a:r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Verdana"/>
              </a:rPr>
              <a:t>KALKULUS II</a:t>
            </a:r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35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3A7BE-E08A-4536-8B84-66608F10054A}" type="slidenum">
              <a:rPr b="0" lang="en-US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356" name="Rectangle 4"/>
          <p:cNvSpPr/>
          <p:nvPr/>
        </p:nvSpPr>
        <p:spPr>
          <a:xfrm>
            <a:off x="0" y="3083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7" name="Object 5"/>
              <p:cNvSpPr txBox="1"/>
              <p:nvPr/>
            </p:nvSpPr>
            <p:spPr>
              <a:xfrm>
                <a:off x="3801960" y="2286000"/>
                <a:ext cx="252252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 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 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 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 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 </m:t>
                        </m:r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58" name="Rectangle 6"/>
          <p:cNvSpPr/>
          <p:nvPr/>
        </p:nvSpPr>
        <p:spPr>
          <a:xfrm>
            <a:off x="6325200" y="2514240"/>
            <a:ext cx="15858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Arial"/>
                <a:ea typeface="Times New Roman"/>
              </a:rPr>
              <a:t>, a, b, c &gt; 0</a:t>
            </a:r>
            <a:r>
              <a:rPr b="0" lang="en-US" sz="2100" spc="-1" strike="noStrike">
                <a:solidFill>
                  <a:srgbClr val="336699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9" name="Object 7"/>
              <p:cNvSpPr txBox="1"/>
              <p:nvPr/>
            </p:nvSpPr>
            <p:spPr>
              <a:xfrm>
                <a:off x="4508640" y="3181320"/>
                <a:ext cx="1498320" cy="78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f>
                      <m:num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0" name="Rectangle 8"/>
          <p:cNvSpPr/>
          <p:nvPr/>
        </p:nvSpPr>
        <p:spPr>
          <a:xfrm>
            <a:off x="792360" y="3331800"/>
            <a:ext cx="38901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Arial"/>
                <a:ea typeface="Times New Roman"/>
              </a:rPr>
              <a:t>Jejak di bidang XOY,  z = 0 </a:t>
            </a:r>
            <a:r>
              <a:rPr b="0" lang="en-US" sz="2100" spc="-1" strike="noStrike">
                <a:solidFill>
                  <a:srgbClr val="336699"/>
                </a:solidFill>
                <a:latin typeface="Wingdings"/>
                <a:ea typeface="Wingdings"/>
              </a:rPr>
              <a:t>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  <a:ea typeface="Times New Roman"/>
              </a:rPr>
              <a:t>  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361" name="Rectangle 9"/>
          <p:cNvSpPr/>
          <p:nvPr/>
        </p:nvSpPr>
        <p:spPr>
          <a:xfrm>
            <a:off x="5966640" y="3370320"/>
            <a:ext cx="20826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 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, berupa  Ellips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2" name="Object 10"/>
              <p:cNvSpPr txBox="1"/>
              <p:nvPr/>
            </p:nvSpPr>
            <p:spPr>
              <a:xfrm>
                <a:off x="4519440" y="4019400"/>
                <a:ext cx="1474920" cy="78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 </m:t>
                    </m:r>
                    <m:f>
                      <m:num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3" name="Rectangle 11"/>
          <p:cNvSpPr/>
          <p:nvPr/>
        </p:nvSpPr>
        <p:spPr>
          <a:xfrm>
            <a:off x="793080" y="4169880"/>
            <a:ext cx="38746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Arial"/>
                <a:ea typeface="Times New Roman"/>
              </a:rPr>
              <a:t>Jejak di bidang XOZ,  y = 0 </a:t>
            </a:r>
            <a:r>
              <a:rPr b="0" lang="en-US" sz="2100" spc="-1" strike="noStrike">
                <a:solidFill>
                  <a:srgbClr val="336699"/>
                </a:solidFill>
                <a:latin typeface="Wingdings"/>
                <a:ea typeface="Wingdings"/>
              </a:rPr>
              <a:t>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  <a:ea typeface="Times New Roman"/>
              </a:rPr>
              <a:t>  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364" name="Rectangle 12"/>
          <p:cNvSpPr/>
          <p:nvPr/>
        </p:nvSpPr>
        <p:spPr>
          <a:xfrm>
            <a:off x="5966640" y="4208400"/>
            <a:ext cx="27334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 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, berupa  Hiperbolik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5" name="Object 13"/>
              <p:cNvSpPr txBox="1"/>
              <p:nvPr/>
            </p:nvSpPr>
            <p:spPr>
              <a:xfrm>
                <a:off x="4522680" y="4933800"/>
                <a:ext cx="1474920" cy="78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 </m:t>
                    </m:r>
                    <m:f>
                      <m:num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6" name="Rectangle 14"/>
          <p:cNvSpPr/>
          <p:nvPr/>
        </p:nvSpPr>
        <p:spPr>
          <a:xfrm>
            <a:off x="796320" y="5084280"/>
            <a:ext cx="38746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Arial"/>
                <a:ea typeface="Times New Roman"/>
              </a:rPr>
              <a:t>Jejak di bidang YOZ,  x = 0 </a:t>
            </a:r>
            <a:r>
              <a:rPr b="0" lang="en-US" sz="2100" spc="-1" strike="noStrike">
                <a:solidFill>
                  <a:srgbClr val="336699"/>
                </a:solidFill>
                <a:latin typeface="Wingdings"/>
                <a:ea typeface="Wingdings"/>
              </a:rPr>
              <a:t>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  <a:ea typeface="Times New Roman"/>
              </a:rPr>
              <a:t>  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367" name="Rectangle 15"/>
          <p:cNvSpPr/>
          <p:nvPr/>
        </p:nvSpPr>
        <p:spPr>
          <a:xfrm>
            <a:off x="5969880" y="5122800"/>
            <a:ext cx="27334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 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, berupa  Hiperbolik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</p:spTree>
  </p:cSld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0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8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3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5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0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2" dur="1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7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ambar Hiperbolik Berdaun Sat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33896-2534-4E6B-A775-8F76F56F2F74}" type="datetime">
              <a:rPr b="0" lang="en-US" sz="1200" spc="-1" strike="noStrike">
                <a:solidFill>
                  <a:srgbClr val="898989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370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Verdana"/>
              </a:rPr>
              <a:t>[MA 1124]</a:t>
            </a:r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Verdana"/>
              </a:rPr>
              <a:t>KALKULUS II</a:t>
            </a:r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37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10195-C549-4416-8C07-D72C44372369}" type="slidenum">
              <a:rPr b="0" lang="en-US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372" name="AutoShape 4"/>
          <p:cNvSpPr/>
          <p:nvPr/>
        </p:nvSpPr>
        <p:spPr>
          <a:xfrm>
            <a:off x="2438280" y="2152800"/>
            <a:ext cx="4648320" cy="27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373" name="Rectangle 5"/>
          <p:cNvSpPr/>
          <p:nvPr/>
        </p:nvSpPr>
        <p:spPr>
          <a:xfrm>
            <a:off x="2437920" y="2157480"/>
            <a:ext cx="61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9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374" name="Rectangle 11"/>
          <p:cNvSpPr/>
          <p:nvPr/>
        </p:nvSpPr>
        <p:spPr>
          <a:xfrm>
            <a:off x="2584080" y="4390920"/>
            <a:ext cx="61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9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375" name="Rectangle 13"/>
          <p:cNvSpPr/>
          <p:nvPr/>
        </p:nvSpPr>
        <p:spPr>
          <a:xfrm>
            <a:off x="2758320" y="4405320"/>
            <a:ext cx="58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336699"/>
              </a:solidFill>
              <a:latin typeface="Verdana"/>
            </a:endParaRPr>
          </a:p>
        </p:txBody>
      </p:sp>
      <p:grpSp>
        <p:nvGrpSpPr>
          <p:cNvPr id="376" name="Group 22"/>
          <p:cNvGrpSpPr/>
          <p:nvPr/>
        </p:nvGrpSpPr>
        <p:grpSpPr>
          <a:xfrm>
            <a:off x="2647440" y="2235240"/>
            <a:ext cx="4031640" cy="2566800"/>
            <a:chOff x="2647440" y="2235240"/>
            <a:chExt cx="4031640" cy="2566800"/>
          </a:xfrm>
        </p:grpSpPr>
        <p:sp>
          <p:nvSpPr>
            <p:cNvPr id="377" name="Freeform 6"/>
            <p:cNvSpPr/>
            <p:nvPr/>
          </p:nvSpPr>
          <p:spPr>
            <a:xfrm>
              <a:off x="4381560" y="2292480"/>
              <a:ext cx="122040" cy="2509560"/>
            </a:xfrm>
            <a:custGeom>
              <a:avLst/>
              <a:gdLst>
                <a:gd name="textAreaLeft" fmla="*/ 0 w 122040"/>
                <a:gd name="textAreaRight" fmla="*/ 122400 w 122040"/>
                <a:gd name="textAreaTop" fmla="*/ 0 h 2509560"/>
                <a:gd name="textAreaBottom" fmla="*/ 2509920 h 2509560"/>
              </a:gdLst>
              <a:ahLst/>
              <a:rect l="textAreaLeft" t="textAreaTop" r="textAreaRight" b="textAreaBottom"/>
              <a:pathLst>
                <a:path w="400" h="8250">
                  <a:moveTo>
                    <a:pt x="167" y="8217"/>
                  </a:moveTo>
                  <a:lnTo>
                    <a:pt x="167" y="333"/>
                  </a:lnTo>
                  <a:cubicBezTo>
                    <a:pt x="167" y="315"/>
                    <a:pt x="182" y="300"/>
                    <a:pt x="200" y="300"/>
                  </a:cubicBezTo>
                  <a:cubicBezTo>
                    <a:pt x="219" y="300"/>
                    <a:pt x="233" y="315"/>
                    <a:pt x="233" y="333"/>
                  </a:cubicBezTo>
                  <a:lnTo>
                    <a:pt x="233" y="8217"/>
                  </a:lnTo>
                  <a:cubicBezTo>
                    <a:pt x="233" y="8235"/>
                    <a:pt x="219" y="8250"/>
                    <a:pt x="200" y="8250"/>
                  </a:cubicBezTo>
                  <a:cubicBezTo>
                    <a:pt x="182" y="8250"/>
                    <a:pt x="167" y="8235"/>
                    <a:pt x="167" y="8217"/>
                  </a:cubicBezTo>
                  <a:close/>
                  <a:moveTo>
                    <a:pt x="0" y="400"/>
                  </a:moveTo>
                  <a:lnTo>
                    <a:pt x="200" y="0"/>
                  </a:lnTo>
                  <a:lnTo>
                    <a:pt x="400" y="400"/>
                  </a:lnTo>
                  <a:lnTo>
                    <a:pt x="0" y="400"/>
                  </a:lnTo>
                  <a:close/>
                </a:path>
              </a:pathLst>
            </a:custGeom>
            <a:solidFill>
              <a:srgbClr val="000000"/>
            </a:solidFill>
            <a:ln w="468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336699"/>
                </a:solidFill>
                <a:latin typeface="Verdana"/>
              </a:endParaRPr>
            </a:p>
          </p:txBody>
        </p:sp>
        <p:sp>
          <p:nvSpPr>
            <p:cNvPr id="378" name="Freeform 7"/>
            <p:cNvSpPr/>
            <p:nvPr/>
          </p:nvSpPr>
          <p:spPr>
            <a:xfrm>
              <a:off x="2971800" y="3635280"/>
              <a:ext cx="3478320" cy="122400"/>
            </a:xfrm>
            <a:custGeom>
              <a:avLst/>
              <a:gdLst>
                <a:gd name="textAreaLeft" fmla="*/ 0 w 3478320"/>
                <a:gd name="textAreaRight" fmla="*/ 3478680 w 3478320"/>
                <a:gd name="textAreaTop" fmla="*/ 0 h 122400"/>
                <a:gd name="textAreaBottom" fmla="*/ 122760 h 122400"/>
              </a:gdLst>
              <a:ahLst/>
              <a:rect l="textAreaLeft" t="textAreaTop" r="textAreaRight" b="textAreaBottom"/>
              <a:pathLst>
                <a:path w="11433" h="400">
                  <a:moveTo>
                    <a:pt x="33" y="166"/>
                  </a:moveTo>
                  <a:lnTo>
                    <a:pt x="11100" y="166"/>
                  </a:lnTo>
                  <a:cubicBezTo>
                    <a:pt x="11118" y="166"/>
                    <a:pt x="11133" y="181"/>
                    <a:pt x="11133" y="200"/>
                  </a:cubicBezTo>
                  <a:cubicBezTo>
                    <a:pt x="11133" y="218"/>
                    <a:pt x="11118" y="233"/>
                    <a:pt x="11100" y="233"/>
                  </a:cubicBezTo>
                  <a:lnTo>
                    <a:pt x="33" y="233"/>
                  </a:lnTo>
                  <a:cubicBezTo>
                    <a:pt x="15" y="233"/>
                    <a:pt x="0" y="218"/>
                    <a:pt x="0" y="200"/>
                  </a:cubicBezTo>
                  <a:cubicBezTo>
                    <a:pt x="0" y="181"/>
                    <a:pt x="15" y="166"/>
                    <a:pt x="33" y="166"/>
                  </a:cubicBezTo>
                  <a:close/>
                  <a:moveTo>
                    <a:pt x="11033" y="0"/>
                  </a:moveTo>
                  <a:lnTo>
                    <a:pt x="11433" y="200"/>
                  </a:lnTo>
                  <a:lnTo>
                    <a:pt x="11033" y="400"/>
                  </a:lnTo>
                  <a:lnTo>
                    <a:pt x="11033" y="0"/>
                  </a:lnTo>
                  <a:close/>
                </a:path>
              </a:pathLst>
            </a:custGeom>
            <a:solidFill>
              <a:srgbClr val="000000"/>
            </a:solidFill>
            <a:ln w="468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336699"/>
                </a:solidFill>
                <a:latin typeface="Verdana"/>
              </a:endParaRPr>
            </a:p>
          </p:txBody>
        </p:sp>
        <p:sp>
          <p:nvSpPr>
            <p:cNvPr id="379" name="Freeform 8"/>
            <p:cNvSpPr/>
            <p:nvPr/>
          </p:nvSpPr>
          <p:spPr>
            <a:xfrm>
              <a:off x="2800440" y="2975040"/>
              <a:ext cx="2851200" cy="1689120"/>
            </a:xfrm>
            <a:custGeom>
              <a:avLst/>
              <a:gdLst>
                <a:gd name="textAreaLeft" fmla="*/ 0 w 2851200"/>
                <a:gd name="textAreaRight" fmla="*/ 2851560 w 2851200"/>
                <a:gd name="textAreaTop" fmla="*/ 0 h 1689120"/>
                <a:gd name="textAreaBottom" fmla="*/ 1689480 h 1689120"/>
              </a:gdLst>
              <a:ahLst/>
              <a:rect l="textAreaLeft" t="textAreaTop" r="textAreaRight" b="textAreaBottom"/>
              <a:pathLst>
                <a:path w="9372" h="5555">
                  <a:moveTo>
                    <a:pt x="9350" y="67"/>
                  </a:moveTo>
                  <a:lnTo>
                    <a:pt x="304" y="5414"/>
                  </a:lnTo>
                  <a:cubicBezTo>
                    <a:pt x="288" y="5424"/>
                    <a:pt x="268" y="5418"/>
                    <a:pt x="258" y="5402"/>
                  </a:cubicBezTo>
                  <a:cubicBezTo>
                    <a:pt x="249" y="5387"/>
                    <a:pt x="254" y="5366"/>
                    <a:pt x="270" y="5357"/>
                  </a:cubicBezTo>
                  <a:lnTo>
                    <a:pt x="9317" y="10"/>
                  </a:lnTo>
                  <a:cubicBezTo>
                    <a:pt x="9332" y="0"/>
                    <a:pt x="9353" y="6"/>
                    <a:pt x="9362" y="22"/>
                  </a:cubicBezTo>
                  <a:cubicBezTo>
                    <a:pt x="9372" y="37"/>
                    <a:pt x="9366" y="58"/>
                    <a:pt x="9350" y="67"/>
                  </a:cubicBezTo>
                  <a:close/>
                  <a:moveTo>
                    <a:pt x="446" y="5524"/>
                  </a:moveTo>
                  <a:lnTo>
                    <a:pt x="0" y="5555"/>
                  </a:lnTo>
                  <a:lnTo>
                    <a:pt x="243" y="5179"/>
                  </a:lnTo>
                  <a:lnTo>
                    <a:pt x="446" y="5524"/>
                  </a:lnTo>
                  <a:close/>
                </a:path>
              </a:pathLst>
            </a:custGeom>
            <a:solidFill>
              <a:srgbClr val="000000"/>
            </a:solidFill>
            <a:ln w="468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336699"/>
                </a:solidFill>
                <a:latin typeface="Verdana"/>
              </a:endParaRPr>
            </a:p>
          </p:txBody>
        </p:sp>
        <p:sp>
          <p:nvSpPr>
            <p:cNvPr id="380" name="Rectangle 9"/>
            <p:cNvSpPr/>
            <p:nvPr/>
          </p:nvSpPr>
          <p:spPr>
            <a:xfrm>
              <a:off x="4185720" y="2235240"/>
              <a:ext cx="148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1900" spc="-1" strike="noStrike">
                <a:solidFill>
                  <a:srgbClr val="336699"/>
                </a:solidFill>
                <a:latin typeface="Verdana"/>
              </a:endParaRPr>
            </a:p>
          </p:txBody>
        </p:sp>
        <p:sp>
          <p:nvSpPr>
            <p:cNvPr id="381" name="Rectangle 10"/>
            <p:cNvSpPr/>
            <p:nvPr/>
          </p:nvSpPr>
          <p:spPr>
            <a:xfrm>
              <a:off x="4331880" y="2235240"/>
              <a:ext cx="6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900" spc="-1" strike="noStrike">
                <a:solidFill>
                  <a:srgbClr val="336699"/>
                </a:solidFill>
                <a:latin typeface="Verdana"/>
              </a:endParaRPr>
            </a:p>
          </p:txBody>
        </p:sp>
        <p:sp>
          <p:nvSpPr>
            <p:cNvPr id="382" name="Rectangle 12"/>
            <p:cNvSpPr/>
            <p:nvPr/>
          </p:nvSpPr>
          <p:spPr>
            <a:xfrm>
              <a:off x="2647440" y="440532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336699"/>
                </a:solidFill>
                <a:latin typeface="Verdana"/>
              </a:endParaRPr>
            </a:p>
          </p:txBody>
        </p:sp>
        <p:sp>
          <p:nvSpPr>
            <p:cNvPr id="383" name="Rectangle 14"/>
            <p:cNvSpPr/>
            <p:nvPr/>
          </p:nvSpPr>
          <p:spPr>
            <a:xfrm>
              <a:off x="6497280" y="3573360"/>
              <a:ext cx="1818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1900" spc="-1" strike="noStrike">
                <a:solidFill>
                  <a:srgbClr val="336699"/>
                </a:solidFill>
                <a:latin typeface="Verdana"/>
              </a:endParaRPr>
            </a:p>
          </p:txBody>
        </p:sp>
      </p:grpSp>
      <p:sp>
        <p:nvSpPr>
          <p:cNvPr id="384" name="Rectangle 15"/>
          <p:cNvSpPr/>
          <p:nvPr/>
        </p:nvSpPr>
        <p:spPr>
          <a:xfrm>
            <a:off x="6671880" y="3573360"/>
            <a:ext cx="61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9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385" name="Oval 16"/>
          <p:cNvSpPr/>
          <p:nvPr/>
        </p:nvSpPr>
        <p:spPr>
          <a:xfrm>
            <a:off x="3854520" y="2759040"/>
            <a:ext cx="1173240" cy="182520"/>
          </a:xfrm>
          <a:prstGeom prst="ellipse">
            <a:avLst/>
          </a:prstGeom>
          <a:noFill/>
          <a:ln cap="rnd"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386" name="Freeform 17"/>
          <p:cNvSpPr/>
          <p:nvPr/>
        </p:nvSpPr>
        <p:spPr>
          <a:xfrm>
            <a:off x="3851280" y="4272120"/>
            <a:ext cx="1182600" cy="196560"/>
          </a:xfrm>
          <a:custGeom>
            <a:avLst/>
            <a:gdLst>
              <a:gd name="textAreaLeft" fmla="*/ 0 w 1182600"/>
              <a:gd name="textAreaRight" fmla="*/ 1182960 w 1182600"/>
              <a:gd name="textAreaTop" fmla="*/ 0 h 196560"/>
              <a:gd name="textAreaBottom" fmla="*/ 196920 h 196560"/>
            </a:gdLst>
            <a:ahLst/>
            <a:rect l="textAreaLeft" t="textAreaTop" r="textAreaRight" b="textAreaBottom"/>
            <a:pathLst>
              <a:path w="3891" h="649">
                <a:moveTo>
                  <a:pt x="2088" y="51"/>
                </a:moveTo>
                <a:lnTo>
                  <a:pt x="2088" y="51"/>
                </a:lnTo>
                <a:cubicBezTo>
                  <a:pt x="2074" y="51"/>
                  <a:pt x="2063" y="39"/>
                  <a:pt x="2063" y="25"/>
                </a:cubicBezTo>
                <a:cubicBezTo>
                  <a:pt x="2064" y="12"/>
                  <a:pt x="2075" y="1"/>
                  <a:pt x="2089" y="1"/>
                </a:cubicBezTo>
                <a:cubicBezTo>
                  <a:pt x="2103" y="1"/>
                  <a:pt x="2114" y="13"/>
                  <a:pt x="2113" y="26"/>
                </a:cubicBezTo>
                <a:cubicBezTo>
                  <a:pt x="2113" y="40"/>
                  <a:pt x="2102" y="51"/>
                  <a:pt x="2088" y="51"/>
                </a:cubicBezTo>
                <a:close/>
                <a:moveTo>
                  <a:pt x="1988" y="50"/>
                </a:moveTo>
                <a:lnTo>
                  <a:pt x="1988" y="50"/>
                </a:lnTo>
                <a:cubicBezTo>
                  <a:pt x="1974" y="50"/>
                  <a:pt x="1963" y="38"/>
                  <a:pt x="1963" y="24"/>
                </a:cubicBezTo>
                <a:cubicBezTo>
                  <a:pt x="1964" y="11"/>
                  <a:pt x="1975" y="0"/>
                  <a:pt x="1989" y="0"/>
                </a:cubicBezTo>
                <a:cubicBezTo>
                  <a:pt x="2003" y="0"/>
                  <a:pt x="2014" y="12"/>
                  <a:pt x="2013" y="25"/>
                </a:cubicBezTo>
                <a:cubicBezTo>
                  <a:pt x="2013" y="39"/>
                  <a:pt x="2002" y="50"/>
                  <a:pt x="1988" y="50"/>
                </a:cubicBezTo>
                <a:close/>
                <a:moveTo>
                  <a:pt x="1889" y="50"/>
                </a:moveTo>
                <a:lnTo>
                  <a:pt x="1889" y="50"/>
                </a:lnTo>
                <a:cubicBezTo>
                  <a:pt x="1875" y="50"/>
                  <a:pt x="1863" y="39"/>
                  <a:pt x="1863" y="25"/>
                </a:cubicBezTo>
                <a:cubicBezTo>
                  <a:pt x="1863" y="11"/>
                  <a:pt x="1874" y="0"/>
                  <a:pt x="1888" y="0"/>
                </a:cubicBezTo>
                <a:cubicBezTo>
                  <a:pt x="1902" y="0"/>
                  <a:pt x="1913" y="11"/>
                  <a:pt x="1913" y="25"/>
                </a:cubicBezTo>
                <a:cubicBezTo>
                  <a:pt x="1914" y="39"/>
                  <a:pt x="1902" y="50"/>
                  <a:pt x="1889" y="50"/>
                </a:cubicBezTo>
                <a:close/>
                <a:moveTo>
                  <a:pt x="1789" y="51"/>
                </a:moveTo>
                <a:lnTo>
                  <a:pt x="1789" y="51"/>
                </a:lnTo>
                <a:cubicBezTo>
                  <a:pt x="1775" y="51"/>
                  <a:pt x="1763" y="40"/>
                  <a:pt x="1763" y="26"/>
                </a:cubicBezTo>
                <a:cubicBezTo>
                  <a:pt x="1763" y="12"/>
                  <a:pt x="1774" y="1"/>
                  <a:pt x="1788" y="1"/>
                </a:cubicBezTo>
                <a:cubicBezTo>
                  <a:pt x="1802" y="1"/>
                  <a:pt x="1813" y="12"/>
                  <a:pt x="1813" y="26"/>
                </a:cubicBezTo>
                <a:cubicBezTo>
                  <a:pt x="1813" y="40"/>
                  <a:pt x="1802" y="51"/>
                  <a:pt x="1789" y="51"/>
                </a:cubicBezTo>
                <a:close/>
                <a:moveTo>
                  <a:pt x="1689" y="53"/>
                </a:moveTo>
                <a:lnTo>
                  <a:pt x="1689" y="53"/>
                </a:lnTo>
                <a:cubicBezTo>
                  <a:pt x="1675" y="53"/>
                  <a:pt x="1664" y="42"/>
                  <a:pt x="1663" y="28"/>
                </a:cubicBezTo>
                <a:cubicBezTo>
                  <a:pt x="1663" y="14"/>
                  <a:pt x="1674" y="3"/>
                  <a:pt x="1688" y="3"/>
                </a:cubicBezTo>
                <a:cubicBezTo>
                  <a:pt x="1702" y="2"/>
                  <a:pt x="1713" y="13"/>
                  <a:pt x="1713" y="27"/>
                </a:cubicBezTo>
                <a:cubicBezTo>
                  <a:pt x="1714" y="41"/>
                  <a:pt x="1703" y="52"/>
                  <a:pt x="1689" y="53"/>
                </a:cubicBezTo>
                <a:close/>
                <a:moveTo>
                  <a:pt x="1589" y="55"/>
                </a:moveTo>
                <a:lnTo>
                  <a:pt x="1589" y="55"/>
                </a:lnTo>
                <a:cubicBezTo>
                  <a:pt x="1575" y="55"/>
                  <a:pt x="1563" y="44"/>
                  <a:pt x="1563" y="30"/>
                </a:cubicBezTo>
                <a:cubicBezTo>
                  <a:pt x="1563" y="16"/>
                  <a:pt x="1574" y="5"/>
                  <a:pt x="1588" y="5"/>
                </a:cubicBezTo>
                <a:cubicBezTo>
                  <a:pt x="1602" y="4"/>
                  <a:pt x="1613" y="15"/>
                  <a:pt x="1613" y="29"/>
                </a:cubicBezTo>
                <a:cubicBezTo>
                  <a:pt x="1614" y="43"/>
                  <a:pt x="1603" y="54"/>
                  <a:pt x="1589" y="55"/>
                </a:cubicBezTo>
                <a:close/>
                <a:moveTo>
                  <a:pt x="1489" y="58"/>
                </a:moveTo>
                <a:lnTo>
                  <a:pt x="1489" y="58"/>
                </a:lnTo>
                <a:cubicBezTo>
                  <a:pt x="1475" y="59"/>
                  <a:pt x="1464" y="48"/>
                  <a:pt x="1463" y="34"/>
                </a:cubicBezTo>
                <a:cubicBezTo>
                  <a:pt x="1463" y="20"/>
                  <a:pt x="1473" y="9"/>
                  <a:pt x="1487" y="8"/>
                </a:cubicBezTo>
                <a:cubicBezTo>
                  <a:pt x="1501" y="8"/>
                  <a:pt x="1513" y="18"/>
                  <a:pt x="1513" y="32"/>
                </a:cubicBezTo>
                <a:cubicBezTo>
                  <a:pt x="1514" y="46"/>
                  <a:pt x="1503" y="58"/>
                  <a:pt x="1489" y="58"/>
                </a:cubicBezTo>
                <a:close/>
                <a:moveTo>
                  <a:pt x="1389" y="63"/>
                </a:moveTo>
                <a:lnTo>
                  <a:pt x="1389" y="63"/>
                </a:lnTo>
                <a:cubicBezTo>
                  <a:pt x="1375" y="63"/>
                  <a:pt x="1364" y="52"/>
                  <a:pt x="1363" y="39"/>
                </a:cubicBezTo>
                <a:cubicBezTo>
                  <a:pt x="1363" y="25"/>
                  <a:pt x="1374" y="13"/>
                  <a:pt x="1387" y="13"/>
                </a:cubicBezTo>
                <a:cubicBezTo>
                  <a:pt x="1401" y="12"/>
                  <a:pt x="1413" y="23"/>
                  <a:pt x="1413" y="37"/>
                </a:cubicBezTo>
                <a:cubicBezTo>
                  <a:pt x="1414" y="50"/>
                  <a:pt x="1403" y="62"/>
                  <a:pt x="1389" y="63"/>
                </a:cubicBezTo>
                <a:close/>
                <a:moveTo>
                  <a:pt x="1290" y="68"/>
                </a:moveTo>
                <a:lnTo>
                  <a:pt x="1290" y="68"/>
                </a:lnTo>
                <a:cubicBezTo>
                  <a:pt x="1276" y="69"/>
                  <a:pt x="1264" y="58"/>
                  <a:pt x="1263" y="44"/>
                </a:cubicBezTo>
                <a:cubicBezTo>
                  <a:pt x="1263" y="30"/>
                  <a:pt x="1273" y="19"/>
                  <a:pt x="1287" y="18"/>
                </a:cubicBezTo>
                <a:cubicBezTo>
                  <a:pt x="1301" y="17"/>
                  <a:pt x="1313" y="28"/>
                  <a:pt x="1313" y="42"/>
                </a:cubicBezTo>
                <a:cubicBezTo>
                  <a:pt x="1314" y="56"/>
                  <a:pt x="1303" y="67"/>
                  <a:pt x="1290" y="68"/>
                </a:cubicBezTo>
                <a:close/>
                <a:moveTo>
                  <a:pt x="1190" y="74"/>
                </a:moveTo>
                <a:lnTo>
                  <a:pt x="1190" y="74"/>
                </a:lnTo>
                <a:cubicBezTo>
                  <a:pt x="1176" y="74"/>
                  <a:pt x="1164" y="64"/>
                  <a:pt x="1164" y="50"/>
                </a:cubicBezTo>
                <a:cubicBezTo>
                  <a:pt x="1163" y="37"/>
                  <a:pt x="1173" y="25"/>
                  <a:pt x="1187" y="24"/>
                </a:cubicBezTo>
                <a:cubicBezTo>
                  <a:pt x="1201" y="23"/>
                  <a:pt x="1213" y="33"/>
                  <a:pt x="1213" y="47"/>
                </a:cubicBezTo>
                <a:cubicBezTo>
                  <a:pt x="1214" y="61"/>
                  <a:pt x="1204" y="73"/>
                  <a:pt x="1190" y="74"/>
                </a:cubicBezTo>
                <a:close/>
                <a:moveTo>
                  <a:pt x="1090" y="81"/>
                </a:moveTo>
                <a:lnTo>
                  <a:pt x="1090" y="81"/>
                </a:lnTo>
                <a:cubicBezTo>
                  <a:pt x="1077" y="82"/>
                  <a:pt x="1065" y="71"/>
                  <a:pt x="1064" y="57"/>
                </a:cubicBezTo>
                <a:cubicBezTo>
                  <a:pt x="1063" y="44"/>
                  <a:pt x="1073" y="32"/>
                  <a:pt x="1087" y="31"/>
                </a:cubicBezTo>
                <a:cubicBezTo>
                  <a:pt x="1101" y="30"/>
                  <a:pt x="1113" y="40"/>
                  <a:pt x="1114" y="54"/>
                </a:cubicBezTo>
                <a:cubicBezTo>
                  <a:pt x="1115" y="68"/>
                  <a:pt x="1104" y="80"/>
                  <a:pt x="1090" y="81"/>
                </a:cubicBezTo>
                <a:close/>
                <a:moveTo>
                  <a:pt x="991" y="89"/>
                </a:moveTo>
                <a:lnTo>
                  <a:pt x="991" y="89"/>
                </a:lnTo>
                <a:cubicBezTo>
                  <a:pt x="977" y="90"/>
                  <a:pt x="965" y="80"/>
                  <a:pt x="964" y="66"/>
                </a:cubicBezTo>
                <a:cubicBezTo>
                  <a:pt x="963" y="52"/>
                  <a:pt x="973" y="40"/>
                  <a:pt x="987" y="39"/>
                </a:cubicBezTo>
                <a:cubicBezTo>
                  <a:pt x="1001" y="38"/>
                  <a:pt x="1013" y="48"/>
                  <a:pt x="1014" y="61"/>
                </a:cubicBezTo>
                <a:cubicBezTo>
                  <a:pt x="1015" y="75"/>
                  <a:pt x="1005" y="87"/>
                  <a:pt x="991" y="89"/>
                </a:cubicBezTo>
                <a:close/>
                <a:moveTo>
                  <a:pt x="892" y="98"/>
                </a:moveTo>
                <a:lnTo>
                  <a:pt x="892" y="98"/>
                </a:lnTo>
                <a:cubicBezTo>
                  <a:pt x="878" y="99"/>
                  <a:pt x="866" y="89"/>
                  <a:pt x="864" y="75"/>
                </a:cubicBezTo>
                <a:cubicBezTo>
                  <a:pt x="863" y="61"/>
                  <a:pt x="873" y="49"/>
                  <a:pt x="887" y="48"/>
                </a:cubicBezTo>
                <a:cubicBezTo>
                  <a:pt x="901" y="47"/>
                  <a:pt x="913" y="57"/>
                  <a:pt x="914" y="71"/>
                </a:cubicBezTo>
                <a:cubicBezTo>
                  <a:pt x="916" y="85"/>
                  <a:pt x="905" y="97"/>
                  <a:pt x="892" y="98"/>
                </a:cubicBezTo>
                <a:close/>
                <a:moveTo>
                  <a:pt x="793" y="109"/>
                </a:moveTo>
                <a:lnTo>
                  <a:pt x="793" y="109"/>
                </a:lnTo>
                <a:cubicBezTo>
                  <a:pt x="779" y="111"/>
                  <a:pt x="767" y="101"/>
                  <a:pt x="765" y="87"/>
                </a:cubicBezTo>
                <a:cubicBezTo>
                  <a:pt x="764" y="74"/>
                  <a:pt x="773" y="61"/>
                  <a:pt x="787" y="60"/>
                </a:cubicBezTo>
                <a:cubicBezTo>
                  <a:pt x="801" y="58"/>
                  <a:pt x="813" y="68"/>
                  <a:pt x="815" y="81"/>
                </a:cubicBezTo>
                <a:cubicBezTo>
                  <a:pt x="816" y="95"/>
                  <a:pt x="807" y="108"/>
                  <a:pt x="793" y="109"/>
                </a:cubicBezTo>
                <a:close/>
                <a:moveTo>
                  <a:pt x="694" y="122"/>
                </a:moveTo>
                <a:lnTo>
                  <a:pt x="694" y="122"/>
                </a:lnTo>
                <a:cubicBezTo>
                  <a:pt x="680" y="124"/>
                  <a:pt x="668" y="114"/>
                  <a:pt x="666" y="100"/>
                </a:cubicBezTo>
                <a:cubicBezTo>
                  <a:pt x="664" y="87"/>
                  <a:pt x="674" y="74"/>
                  <a:pt x="687" y="72"/>
                </a:cubicBezTo>
                <a:cubicBezTo>
                  <a:pt x="701" y="70"/>
                  <a:pt x="714" y="80"/>
                  <a:pt x="716" y="93"/>
                </a:cubicBezTo>
                <a:cubicBezTo>
                  <a:pt x="717" y="107"/>
                  <a:pt x="708" y="120"/>
                  <a:pt x="694" y="122"/>
                </a:cubicBezTo>
                <a:close/>
                <a:moveTo>
                  <a:pt x="595" y="135"/>
                </a:moveTo>
                <a:lnTo>
                  <a:pt x="595" y="135"/>
                </a:lnTo>
                <a:cubicBezTo>
                  <a:pt x="581" y="137"/>
                  <a:pt x="569" y="128"/>
                  <a:pt x="567" y="114"/>
                </a:cubicBezTo>
                <a:cubicBezTo>
                  <a:pt x="565" y="100"/>
                  <a:pt x="575" y="88"/>
                  <a:pt x="588" y="86"/>
                </a:cubicBezTo>
                <a:cubicBezTo>
                  <a:pt x="602" y="84"/>
                  <a:pt x="615" y="94"/>
                  <a:pt x="616" y="107"/>
                </a:cubicBezTo>
                <a:cubicBezTo>
                  <a:pt x="618" y="121"/>
                  <a:pt x="609" y="134"/>
                  <a:pt x="595" y="135"/>
                </a:cubicBezTo>
                <a:close/>
                <a:moveTo>
                  <a:pt x="497" y="152"/>
                </a:moveTo>
                <a:lnTo>
                  <a:pt x="497" y="152"/>
                </a:lnTo>
                <a:cubicBezTo>
                  <a:pt x="483" y="154"/>
                  <a:pt x="470" y="144"/>
                  <a:pt x="468" y="131"/>
                </a:cubicBezTo>
                <a:cubicBezTo>
                  <a:pt x="466" y="117"/>
                  <a:pt x="475" y="104"/>
                  <a:pt x="489" y="102"/>
                </a:cubicBezTo>
                <a:cubicBezTo>
                  <a:pt x="503" y="100"/>
                  <a:pt x="515" y="109"/>
                  <a:pt x="518" y="123"/>
                </a:cubicBezTo>
                <a:cubicBezTo>
                  <a:pt x="520" y="137"/>
                  <a:pt x="510" y="149"/>
                  <a:pt x="497" y="152"/>
                </a:cubicBezTo>
                <a:close/>
                <a:moveTo>
                  <a:pt x="400" y="171"/>
                </a:moveTo>
                <a:lnTo>
                  <a:pt x="400" y="171"/>
                </a:lnTo>
                <a:cubicBezTo>
                  <a:pt x="386" y="173"/>
                  <a:pt x="373" y="165"/>
                  <a:pt x="370" y="151"/>
                </a:cubicBezTo>
                <a:cubicBezTo>
                  <a:pt x="367" y="138"/>
                  <a:pt x="376" y="125"/>
                  <a:pt x="390" y="122"/>
                </a:cubicBezTo>
                <a:cubicBezTo>
                  <a:pt x="403" y="119"/>
                  <a:pt x="416" y="128"/>
                  <a:pt x="419" y="141"/>
                </a:cubicBezTo>
                <a:cubicBezTo>
                  <a:pt x="422" y="155"/>
                  <a:pt x="413" y="168"/>
                  <a:pt x="400" y="171"/>
                </a:cubicBezTo>
                <a:close/>
                <a:moveTo>
                  <a:pt x="303" y="193"/>
                </a:moveTo>
                <a:lnTo>
                  <a:pt x="303" y="193"/>
                </a:lnTo>
                <a:cubicBezTo>
                  <a:pt x="290" y="196"/>
                  <a:pt x="276" y="188"/>
                  <a:pt x="273" y="175"/>
                </a:cubicBezTo>
                <a:cubicBezTo>
                  <a:pt x="270" y="161"/>
                  <a:pt x="278" y="148"/>
                  <a:pt x="291" y="144"/>
                </a:cubicBezTo>
                <a:cubicBezTo>
                  <a:pt x="305" y="141"/>
                  <a:pt x="318" y="149"/>
                  <a:pt x="322" y="163"/>
                </a:cubicBezTo>
                <a:cubicBezTo>
                  <a:pt x="325" y="176"/>
                  <a:pt x="317" y="190"/>
                  <a:pt x="303" y="193"/>
                </a:cubicBezTo>
                <a:close/>
                <a:moveTo>
                  <a:pt x="209" y="220"/>
                </a:moveTo>
                <a:lnTo>
                  <a:pt x="209" y="220"/>
                </a:lnTo>
                <a:cubicBezTo>
                  <a:pt x="196" y="224"/>
                  <a:pt x="182" y="217"/>
                  <a:pt x="177" y="204"/>
                </a:cubicBezTo>
                <a:cubicBezTo>
                  <a:pt x="173" y="191"/>
                  <a:pt x="180" y="177"/>
                  <a:pt x="193" y="173"/>
                </a:cubicBezTo>
                <a:cubicBezTo>
                  <a:pt x="207" y="168"/>
                  <a:pt x="221" y="175"/>
                  <a:pt x="225" y="189"/>
                </a:cubicBezTo>
                <a:cubicBezTo>
                  <a:pt x="229" y="202"/>
                  <a:pt x="222" y="216"/>
                  <a:pt x="209" y="220"/>
                </a:cubicBezTo>
                <a:close/>
                <a:moveTo>
                  <a:pt x="117" y="255"/>
                </a:moveTo>
                <a:lnTo>
                  <a:pt x="117" y="255"/>
                </a:lnTo>
                <a:cubicBezTo>
                  <a:pt x="105" y="261"/>
                  <a:pt x="90" y="255"/>
                  <a:pt x="85" y="242"/>
                </a:cubicBezTo>
                <a:cubicBezTo>
                  <a:pt x="80" y="229"/>
                  <a:pt x="86" y="214"/>
                  <a:pt x="98" y="209"/>
                </a:cubicBezTo>
                <a:cubicBezTo>
                  <a:pt x="111" y="204"/>
                  <a:pt x="126" y="210"/>
                  <a:pt x="131" y="223"/>
                </a:cubicBezTo>
                <a:cubicBezTo>
                  <a:pt x="136" y="236"/>
                  <a:pt x="130" y="250"/>
                  <a:pt x="117" y="255"/>
                </a:cubicBezTo>
                <a:close/>
                <a:moveTo>
                  <a:pt x="45" y="308"/>
                </a:moveTo>
                <a:lnTo>
                  <a:pt x="45" y="308"/>
                </a:lnTo>
                <a:cubicBezTo>
                  <a:pt x="35" y="317"/>
                  <a:pt x="19" y="317"/>
                  <a:pt x="9" y="307"/>
                </a:cubicBezTo>
                <a:cubicBezTo>
                  <a:pt x="0" y="298"/>
                  <a:pt x="0" y="282"/>
                  <a:pt x="10" y="272"/>
                </a:cubicBezTo>
                <a:cubicBezTo>
                  <a:pt x="19" y="262"/>
                  <a:pt x="35" y="262"/>
                  <a:pt x="45" y="272"/>
                </a:cubicBezTo>
                <a:cubicBezTo>
                  <a:pt x="55" y="282"/>
                  <a:pt x="55" y="298"/>
                  <a:pt x="45" y="308"/>
                </a:cubicBezTo>
                <a:close/>
                <a:moveTo>
                  <a:pt x="62" y="359"/>
                </a:moveTo>
                <a:lnTo>
                  <a:pt x="62" y="359"/>
                </a:lnTo>
                <a:cubicBezTo>
                  <a:pt x="72" y="369"/>
                  <a:pt x="72" y="385"/>
                  <a:pt x="62" y="395"/>
                </a:cubicBezTo>
                <a:cubicBezTo>
                  <a:pt x="52" y="404"/>
                  <a:pt x="36" y="404"/>
                  <a:pt x="26" y="394"/>
                </a:cubicBezTo>
                <a:cubicBezTo>
                  <a:pt x="17" y="384"/>
                  <a:pt x="17" y="369"/>
                  <a:pt x="27" y="359"/>
                </a:cubicBezTo>
                <a:cubicBezTo>
                  <a:pt x="37" y="349"/>
                  <a:pt x="52" y="350"/>
                  <a:pt x="62" y="359"/>
                </a:cubicBezTo>
                <a:close/>
                <a:moveTo>
                  <a:pt x="140" y="404"/>
                </a:moveTo>
                <a:lnTo>
                  <a:pt x="140" y="404"/>
                </a:lnTo>
                <a:cubicBezTo>
                  <a:pt x="153" y="409"/>
                  <a:pt x="159" y="424"/>
                  <a:pt x="153" y="437"/>
                </a:cubicBezTo>
                <a:cubicBezTo>
                  <a:pt x="148" y="449"/>
                  <a:pt x="133" y="455"/>
                  <a:pt x="120" y="449"/>
                </a:cubicBezTo>
                <a:cubicBezTo>
                  <a:pt x="108" y="444"/>
                  <a:pt x="102" y="429"/>
                  <a:pt x="107" y="416"/>
                </a:cubicBezTo>
                <a:cubicBezTo>
                  <a:pt x="113" y="404"/>
                  <a:pt x="128" y="398"/>
                  <a:pt x="140" y="404"/>
                </a:cubicBezTo>
                <a:close/>
                <a:moveTo>
                  <a:pt x="232" y="437"/>
                </a:moveTo>
                <a:lnTo>
                  <a:pt x="232" y="437"/>
                </a:lnTo>
                <a:cubicBezTo>
                  <a:pt x="245" y="441"/>
                  <a:pt x="252" y="455"/>
                  <a:pt x="248" y="468"/>
                </a:cubicBezTo>
                <a:cubicBezTo>
                  <a:pt x="244" y="481"/>
                  <a:pt x="230" y="488"/>
                  <a:pt x="217" y="484"/>
                </a:cubicBezTo>
                <a:cubicBezTo>
                  <a:pt x="204" y="480"/>
                  <a:pt x="196" y="466"/>
                  <a:pt x="200" y="453"/>
                </a:cubicBezTo>
                <a:cubicBezTo>
                  <a:pt x="204" y="440"/>
                  <a:pt x="218" y="432"/>
                  <a:pt x="232" y="437"/>
                </a:cubicBezTo>
                <a:close/>
                <a:moveTo>
                  <a:pt x="327" y="463"/>
                </a:moveTo>
                <a:lnTo>
                  <a:pt x="327" y="463"/>
                </a:lnTo>
                <a:cubicBezTo>
                  <a:pt x="340" y="466"/>
                  <a:pt x="348" y="480"/>
                  <a:pt x="345" y="493"/>
                </a:cubicBezTo>
                <a:cubicBezTo>
                  <a:pt x="342" y="506"/>
                  <a:pt x="328" y="514"/>
                  <a:pt x="315" y="511"/>
                </a:cubicBezTo>
                <a:cubicBezTo>
                  <a:pt x="301" y="508"/>
                  <a:pt x="293" y="494"/>
                  <a:pt x="296" y="481"/>
                </a:cubicBezTo>
                <a:cubicBezTo>
                  <a:pt x="300" y="467"/>
                  <a:pt x="313" y="459"/>
                  <a:pt x="327" y="463"/>
                </a:cubicBezTo>
                <a:close/>
                <a:moveTo>
                  <a:pt x="423" y="484"/>
                </a:moveTo>
                <a:lnTo>
                  <a:pt x="423" y="484"/>
                </a:lnTo>
                <a:cubicBezTo>
                  <a:pt x="437" y="486"/>
                  <a:pt x="446" y="500"/>
                  <a:pt x="443" y="513"/>
                </a:cubicBezTo>
                <a:cubicBezTo>
                  <a:pt x="440" y="527"/>
                  <a:pt x="427" y="535"/>
                  <a:pt x="414" y="533"/>
                </a:cubicBezTo>
                <a:cubicBezTo>
                  <a:pt x="400" y="530"/>
                  <a:pt x="391" y="517"/>
                  <a:pt x="394" y="503"/>
                </a:cubicBezTo>
                <a:cubicBezTo>
                  <a:pt x="397" y="490"/>
                  <a:pt x="410" y="481"/>
                  <a:pt x="423" y="484"/>
                </a:cubicBezTo>
                <a:close/>
                <a:moveTo>
                  <a:pt x="521" y="501"/>
                </a:moveTo>
                <a:lnTo>
                  <a:pt x="521" y="501"/>
                </a:lnTo>
                <a:cubicBezTo>
                  <a:pt x="534" y="504"/>
                  <a:pt x="544" y="516"/>
                  <a:pt x="542" y="530"/>
                </a:cubicBezTo>
                <a:cubicBezTo>
                  <a:pt x="539" y="544"/>
                  <a:pt x="527" y="553"/>
                  <a:pt x="513" y="551"/>
                </a:cubicBezTo>
                <a:cubicBezTo>
                  <a:pt x="499" y="549"/>
                  <a:pt x="490" y="536"/>
                  <a:pt x="492" y="522"/>
                </a:cubicBezTo>
                <a:cubicBezTo>
                  <a:pt x="494" y="509"/>
                  <a:pt x="507" y="499"/>
                  <a:pt x="521" y="501"/>
                </a:cubicBezTo>
                <a:close/>
                <a:moveTo>
                  <a:pt x="619" y="517"/>
                </a:moveTo>
                <a:lnTo>
                  <a:pt x="619" y="517"/>
                </a:lnTo>
                <a:cubicBezTo>
                  <a:pt x="633" y="519"/>
                  <a:pt x="642" y="532"/>
                  <a:pt x="640" y="545"/>
                </a:cubicBezTo>
                <a:cubicBezTo>
                  <a:pt x="639" y="559"/>
                  <a:pt x="626" y="569"/>
                  <a:pt x="612" y="567"/>
                </a:cubicBezTo>
                <a:cubicBezTo>
                  <a:pt x="599" y="565"/>
                  <a:pt x="589" y="552"/>
                  <a:pt x="591" y="538"/>
                </a:cubicBezTo>
                <a:cubicBezTo>
                  <a:pt x="593" y="525"/>
                  <a:pt x="605" y="515"/>
                  <a:pt x="619" y="517"/>
                </a:cubicBezTo>
                <a:close/>
                <a:moveTo>
                  <a:pt x="718" y="532"/>
                </a:moveTo>
                <a:lnTo>
                  <a:pt x="718" y="532"/>
                </a:lnTo>
                <a:cubicBezTo>
                  <a:pt x="732" y="533"/>
                  <a:pt x="741" y="546"/>
                  <a:pt x="739" y="560"/>
                </a:cubicBezTo>
                <a:cubicBezTo>
                  <a:pt x="738" y="573"/>
                  <a:pt x="725" y="583"/>
                  <a:pt x="711" y="581"/>
                </a:cubicBezTo>
                <a:cubicBezTo>
                  <a:pt x="698" y="579"/>
                  <a:pt x="688" y="567"/>
                  <a:pt x="690" y="553"/>
                </a:cubicBezTo>
                <a:cubicBezTo>
                  <a:pt x="692" y="539"/>
                  <a:pt x="704" y="530"/>
                  <a:pt x="718" y="532"/>
                </a:cubicBezTo>
                <a:close/>
                <a:moveTo>
                  <a:pt x="817" y="543"/>
                </a:moveTo>
                <a:lnTo>
                  <a:pt x="817" y="543"/>
                </a:lnTo>
                <a:cubicBezTo>
                  <a:pt x="831" y="544"/>
                  <a:pt x="840" y="557"/>
                  <a:pt x="839" y="571"/>
                </a:cubicBezTo>
                <a:cubicBezTo>
                  <a:pt x="837" y="584"/>
                  <a:pt x="825" y="594"/>
                  <a:pt x="811" y="593"/>
                </a:cubicBezTo>
                <a:cubicBezTo>
                  <a:pt x="798" y="591"/>
                  <a:pt x="788" y="579"/>
                  <a:pt x="789" y="565"/>
                </a:cubicBezTo>
                <a:cubicBezTo>
                  <a:pt x="791" y="551"/>
                  <a:pt x="803" y="541"/>
                  <a:pt x="817" y="543"/>
                </a:cubicBezTo>
                <a:close/>
                <a:moveTo>
                  <a:pt x="916" y="553"/>
                </a:moveTo>
                <a:lnTo>
                  <a:pt x="916" y="553"/>
                </a:lnTo>
                <a:cubicBezTo>
                  <a:pt x="930" y="555"/>
                  <a:pt x="940" y="567"/>
                  <a:pt x="938" y="580"/>
                </a:cubicBezTo>
                <a:cubicBezTo>
                  <a:pt x="937" y="594"/>
                  <a:pt x="925" y="604"/>
                  <a:pt x="911" y="603"/>
                </a:cubicBezTo>
                <a:cubicBezTo>
                  <a:pt x="898" y="602"/>
                  <a:pt x="887" y="590"/>
                  <a:pt x="889" y="576"/>
                </a:cubicBezTo>
                <a:cubicBezTo>
                  <a:pt x="890" y="562"/>
                  <a:pt x="902" y="552"/>
                  <a:pt x="916" y="553"/>
                </a:cubicBezTo>
                <a:close/>
                <a:moveTo>
                  <a:pt x="1015" y="563"/>
                </a:moveTo>
                <a:lnTo>
                  <a:pt x="1015" y="563"/>
                </a:lnTo>
                <a:cubicBezTo>
                  <a:pt x="1029" y="564"/>
                  <a:pt x="1039" y="576"/>
                  <a:pt x="1038" y="590"/>
                </a:cubicBezTo>
                <a:cubicBezTo>
                  <a:pt x="1037" y="604"/>
                  <a:pt x="1025" y="614"/>
                  <a:pt x="1011" y="612"/>
                </a:cubicBezTo>
                <a:cubicBezTo>
                  <a:pt x="997" y="611"/>
                  <a:pt x="987" y="599"/>
                  <a:pt x="988" y="585"/>
                </a:cubicBezTo>
                <a:cubicBezTo>
                  <a:pt x="989" y="572"/>
                  <a:pt x="1002" y="561"/>
                  <a:pt x="1015" y="563"/>
                </a:cubicBezTo>
                <a:close/>
                <a:moveTo>
                  <a:pt x="1115" y="570"/>
                </a:moveTo>
                <a:lnTo>
                  <a:pt x="1115" y="570"/>
                </a:lnTo>
                <a:cubicBezTo>
                  <a:pt x="1128" y="571"/>
                  <a:pt x="1139" y="583"/>
                  <a:pt x="1138" y="597"/>
                </a:cubicBezTo>
                <a:cubicBezTo>
                  <a:pt x="1137" y="610"/>
                  <a:pt x="1125" y="621"/>
                  <a:pt x="1111" y="620"/>
                </a:cubicBezTo>
                <a:cubicBezTo>
                  <a:pt x="1097" y="619"/>
                  <a:pt x="1087" y="607"/>
                  <a:pt x="1088" y="593"/>
                </a:cubicBezTo>
                <a:cubicBezTo>
                  <a:pt x="1089" y="579"/>
                  <a:pt x="1101" y="569"/>
                  <a:pt x="1115" y="570"/>
                </a:cubicBezTo>
                <a:close/>
                <a:moveTo>
                  <a:pt x="1214" y="577"/>
                </a:moveTo>
                <a:lnTo>
                  <a:pt x="1214" y="577"/>
                </a:lnTo>
                <a:cubicBezTo>
                  <a:pt x="1228" y="578"/>
                  <a:pt x="1239" y="590"/>
                  <a:pt x="1238" y="603"/>
                </a:cubicBezTo>
                <a:cubicBezTo>
                  <a:pt x="1237" y="617"/>
                  <a:pt x="1225" y="628"/>
                  <a:pt x="1211" y="627"/>
                </a:cubicBezTo>
                <a:cubicBezTo>
                  <a:pt x="1197" y="626"/>
                  <a:pt x="1187" y="614"/>
                  <a:pt x="1188" y="600"/>
                </a:cubicBezTo>
                <a:cubicBezTo>
                  <a:pt x="1189" y="587"/>
                  <a:pt x="1200" y="576"/>
                  <a:pt x="1214" y="577"/>
                </a:cubicBezTo>
                <a:close/>
                <a:moveTo>
                  <a:pt x="1314" y="583"/>
                </a:moveTo>
                <a:lnTo>
                  <a:pt x="1314" y="583"/>
                </a:lnTo>
                <a:cubicBezTo>
                  <a:pt x="1328" y="584"/>
                  <a:pt x="1338" y="596"/>
                  <a:pt x="1338" y="609"/>
                </a:cubicBezTo>
                <a:cubicBezTo>
                  <a:pt x="1337" y="623"/>
                  <a:pt x="1325" y="634"/>
                  <a:pt x="1311" y="633"/>
                </a:cubicBezTo>
                <a:cubicBezTo>
                  <a:pt x="1297" y="632"/>
                  <a:pt x="1287" y="620"/>
                  <a:pt x="1288" y="607"/>
                </a:cubicBezTo>
                <a:cubicBezTo>
                  <a:pt x="1288" y="593"/>
                  <a:pt x="1300" y="582"/>
                  <a:pt x="1314" y="583"/>
                </a:cubicBezTo>
                <a:close/>
                <a:moveTo>
                  <a:pt x="1413" y="588"/>
                </a:moveTo>
                <a:lnTo>
                  <a:pt x="1413" y="588"/>
                </a:lnTo>
                <a:cubicBezTo>
                  <a:pt x="1427" y="589"/>
                  <a:pt x="1438" y="600"/>
                  <a:pt x="1438" y="614"/>
                </a:cubicBezTo>
                <a:cubicBezTo>
                  <a:pt x="1437" y="628"/>
                  <a:pt x="1426" y="639"/>
                  <a:pt x="1412" y="638"/>
                </a:cubicBezTo>
                <a:cubicBezTo>
                  <a:pt x="1398" y="638"/>
                  <a:pt x="1387" y="626"/>
                  <a:pt x="1388" y="612"/>
                </a:cubicBezTo>
                <a:cubicBezTo>
                  <a:pt x="1388" y="599"/>
                  <a:pt x="1399" y="588"/>
                  <a:pt x="1413" y="588"/>
                </a:cubicBezTo>
                <a:close/>
                <a:moveTo>
                  <a:pt x="1513" y="592"/>
                </a:moveTo>
                <a:lnTo>
                  <a:pt x="1513" y="592"/>
                </a:lnTo>
                <a:cubicBezTo>
                  <a:pt x="1527" y="592"/>
                  <a:pt x="1538" y="604"/>
                  <a:pt x="1538" y="618"/>
                </a:cubicBezTo>
                <a:cubicBezTo>
                  <a:pt x="1537" y="631"/>
                  <a:pt x="1526" y="642"/>
                  <a:pt x="1512" y="642"/>
                </a:cubicBezTo>
                <a:cubicBezTo>
                  <a:pt x="1498" y="642"/>
                  <a:pt x="1487" y="630"/>
                  <a:pt x="1487" y="616"/>
                </a:cubicBezTo>
                <a:cubicBezTo>
                  <a:pt x="1488" y="602"/>
                  <a:pt x="1499" y="592"/>
                  <a:pt x="1513" y="592"/>
                </a:cubicBezTo>
                <a:close/>
                <a:moveTo>
                  <a:pt x="1613" y="595"/>
                </a:moveTo>
                <a:lnTo>
                  <a:pt x="1613" y="595"/>
                </a:lnTo>
                <a:cubicBezTo>
                  <a:pt x="1627" y="595"/>
                  <a:pt x="1638" y="606"/>
                  <a:pt x="1638" y="620"/>
                </a:cubicBezTo>
                <a:cubicBezTo>
                  <a:pt x="1637" y="634"/>
                  <a:pt x="1626" y="645"/>
                  <a:pt x="1612" y="645"/>
                </a:cubicBezTo>
                <a:cubicBezTo>
                  <a:pt x="1598" y="644"/>
                  <a:pt x="1587" y="633"/>
                  <a:pt x="1587" y="619"/>
                </a:cubicBezTo>
                <a:cubicBezTo>
                  <a:pt x="1588" y="605"/>
                  <a:pt x="1599" y="594"/>
                  <a:pt x="1613" y="595"/>
                </a:cubicBezTo>
                <a:close/>
                <a:moveTo>
                  <a:pt x="1713" y="597"/>
                </a:moveTo>
                <a:lnTo>
                  <a:pt x="1713" y="597"/>
                </a:lnTo>
                <a:cubicBezTo>
                  <a:pt x="1727" y="597"/>
                  <a:pt x="1738" y="608"/>
                  <a:pt x="1738" y="622"/>
                </a:cubicBezTo>
                <a:cubicBezTo>
                  <a:pt x="1737" y="636"/>
                  <a:pt x="1726" y="647"/>
                  <a:pt x="1712" y="647"/>
                </a:cubicBezTo>
                <a:cubicBezTo>
                  <a:pt x="1698" y="647"/>
                  <a:pt x="1687" y="635"/>
                  <a:pt x="1688" y="621"/>
                </a:cubicBezTo>
                <a:cubicBezTo>
                  <a:pt x="1688" y="608"/>
                  <a:pt x="1699" y="597"/>
                  <a:pt x="1713" y="597"/>
                </a:cubicBezTo>
                <a:close/>
                <a:moveTo>
                  <a:pt x="1813" y="598"/>
                </a:moveTo>
                <a:lnTo>
                  <a:pt x="1813" y="598"/>
                </a:lnTo>
                <a:cubicBezTo>
                  <a:pt x="1827" y="598"/>
                  <a:pt x="1838" y="610"/>
                  <a:pt x="1838" y="623"/>
                </a:cubicBezTo>
                <a:cubicBezTo>
                  <a:pt x="1837" y="637"/>
                  <a:pt x="1826" y="648"/>
                  <a:pt x="1812" y="648"/>
                </a:cubicBezTo>
                <a:cubicBezTo>
                  <a:pt x="1798" y="648"/>
                  <a:pt x="1787" y="637"/>
                  <a:pt x="1788" y="623"/>
                </a:cubicBezTo>
                <a:cubicBezTo>
                  <a:pt x="1788" y="609"/>
                  <a:pt x="1799" y="598"/>
                  <a:pt x="1813" y="598"/>
                </a:cubicBezTo>
                <a:close/>
                <a:moveTo>
                  <a:pt x="1913" y="599"/>
                </a:moveTo>
                <a:lnTo>
                  <a:pt x="1913" y="599"/>
                </a:lnTo>
                <a:cubicBezTo>
                  <a:pt x="1927" y="599"/>
                  <a:pt x="1938" y="611"/>
                  <a:pt x="1938" y="624"/>
                </a:cubicBezTo>
                <a:cubicBezTo>
                  <a:pt x="1938" y="638"/>
                  <a:pt x="1926" y="649"/>
                  <a:pt x="1912" y="649"/>
                </a:cubicBezTo>
                <a:cubicBezTo>
                  <a:pt x="1899" y="649"/>
                  <a:pt x="1887" y="638"/>
                  <a:pt x="1888" y="624"/>
                </a:cubicBezTo>
                <a:cubicBezTo>
                  <a:pt x="1888" y="610"/>
                  <a:pt x="1899" y="599"/>
                  <a:pt x="1913" y="599"/>
                </a:cubicBezTo>
                <a:close/>
                <a:moveTo>
                  <a:pt x="2012" y="599"/>
                </a:moveTo>
                <a:lnTo>
                  <a:pt x="2012" y="599"/>
                </a:lnTo>
                <a:cubicBezTo>
                  <a:pt x="2026" y="598"/>
                  <a:pt x="2037" y="609"/>
                  <a:pt x="2038" y="623"/>
                </a:cubicBezTo>
                <a:cubicBezTo>
                  <a:pt x="2038" y="637"/>
                  <a:pt x="2027" y="648"/>
                  <a:pt x="2013" y="649"/>
                </a:cubicBezTo>
                <a:cubicBezTo>
                  <a:pt x="1999" y="649"/>
                  <a:pt x="1988" y="638"/>
                  <a:pt x="1988" y="624"/>
                </a:cubicBezTo>
                <a:cubicBezTo>
                  <a:pt x="1987" y="610"/>
                  <a:pt x="1998" y="599"/>
                  <a:pt x="2012" y="599"/>
                </a:cubicBezTo>
                <a:close/>
                <a:moveTo>
                  <a:pt x="2112" y="598"/>
                </a:moveTo>
                <a:lnTo>
                  <a:pt x="2112" y="598"/>
                </a:lnTo>
                <a:cubicBezTo>
                  <a:pt x="2126" y="597"/>
                  <a:pt x="2137" y="608"/>
                  <a:pt x="2138" y="622"/>
                </a:cubicBezTo>
                <a:cubicBezTo>
                  <a:pt x="2138" y="636"/>
                  <a:pt x="2127" y="647"/>
                  <a:pt x="2113" y="648"/>
                </a:cubicBezTo>
                <a:cubicBezTo>
                  <a:pt x="2099" y="648"/>
                  <a:pt x="2088" y="637"/>
                  <a:pt x="2088" y="623"/>
                </a:cubicBezTo>
                <a:cubicBezTo>
                  <a:pt x="2087" y="609"/>
                  <a:pt x="2098" y="598"/>
                  <a:pt x="2112" y="598"/>
                </a:cubicBezTo>
                <a:close/>
                <a:moveTo>
                  <a:pt x="2212" y="596"/>
                </a:moveTo>
                <a:lnTo>
                  <a:pt x="2212" y="596"/>
                </a:lnTo>
                <a:cubicBezTo>
                  <a:pt x="2226" y="596"/>
                  <a:pt x="2237" y="606"/>
                  <a:pt x="2238" y="620"/>
                </a:cubicBezTo>
                <a:cubicBezTo>
                  <a:pt x="2238" y="634"/>
                  <a:pt x="2227" y="646"/>
                  <a:pt x="2214" y="646"/>
                </a:cubicBezTo>
                <a:lnTo>
                  <a:pt x="2213" y="646"/>
                </a:lnTo>
                <a:cubicBezTo>
                  <a:pt x="2200" y="646"/>
                  <a:pt x="2188" y="635"/>
                  <a:pt x="2188" y="622"/>
                </a:cubicBezTo>
                <a:cubicBezTo>
                  <a:pt x="2187" y="608"/>
                  <a:pt x="2198" y="596"/>
                  <a:pt x="2212" y="596"/>
                </a:cubicBezTo>
                <a:close/>
                <a:moveTo>
                  <a:pt x="2312" y="594"/>
                </a:moveTo>
                <a:lnTo>
                  <a:pt x="2312" y="594"/>
                </a:lnTo>
                <a:cubicBezTo>
                  <a:pt x="2326" y="593"/>
                  <a:pt x="2337" y="604"/>
                  <a:pt x="2338" y="618"/>
                </a:cubicBezTo>
                <a:cubicBezTo>
                  <a:pt x="2338" y="632"/>
                  <a:pt x="2327" y="643"/>
                  <a:pt x="2314" y="644"/>
                </a:cubicBezTo>
                <a:lnTo>
                  <a:pt x="2313" y="644"/>
                </a:lnTo>
                <a:cubicBezTo>
                  <a:pt x="2300" y="644"/>
                  <a:pt x="2288" y="633"/>
                  <a:pt x="2288" y="620"/>
                </a:cubicBezTo>
                <a:cubicBezTo>
                  <a:pt x="2287" y="606"/>
                  <a:pt x="2298" y="594"/>
                  <a:pt x="2312" y="594"/>
                </a:cubicBezTo>
                <a:close/>
                <a:moveTo>
                  <a:pt x="2412" y="590"/>
                </a:moveTo>
                <a:lnTo>
                  <a:pt x="2412" y="590"/>
                </a:lnTo>
                <a:cubicBezTo>
                  <a:pt x="2426" y="590"/>
                  <a:pt x="2437" y="601"/>
                  <a:pt x="2438" y="614"/>
                </a:cubicBezTo>
                <a:cubicBezTo>
                  <a:pt x="2438" y="628"/>
                  <a:pt x="2428" y="640"/>
                  <a:pt x="2414" y="640"/>
                </a:cubicBezTo>
                <a:cubicBezTo>
                  <a:pt x="2400" y="641"/>
                  <a:pt x="2388" y="630"/>
                  <a:pt x="2388" y="616"/>
                </a:cubicBezTo>
                <a:cubicBezTo>
                  <a:pt x="2387" y="603"/>
                  <a:pt x="2398" y="591"/>
                  <a:pt x="2412" y="590"/>
                </a:cubicBezTo>
                <a:close/>
                <a:moveTo>
                  <a:pt x="2512" y="587"/>
                </a:moveTo>
                <a:lnTo>
                  <a:pt x="2512" y="587"/>
                </a:lnTo>
                <a:cubicBezTo>
                  <a:pt x="2526" y="586"/>
                  <a:pt x="2537" y="597"/>
                  <a:pt x="2538" y="611"/>
                </a:cubicBezTo>
                <a:cubicBezTo>
                  <a:pt x="2538" y="624"/>
                  <a:pt x="2528" y="636"/>
                  <a:pt x="2514" y="637"/>
                </a:cubicBezTo>
                <a:cubicBezTo>
                  <a:pt x="2500" y="637"/>
                  <a:pt x="2488" y="626"/>
                  <a:pt x="2488" y="613"/>
                </a:cubicBezTo>
                <a:cubicBezTo>
                  <a:pt x="2487" y="599"/>
                  <a:pt x="2498" y="587"/>
                  <a:pt x="2512" y="587"/>
                </a:cubicBezTo>
                <a:close/>
                <a:moveTo>
                  <a:pt x="2611" y="580"/>
                </a:moveTo>
                <a:lnTo>
                  <a:pt x="2611" y="580"/>
                </a:lnTo>
                <a:cubicBezTo>
                  <a:pt x="2625" y="580"/>
                  <a:pt x="2637" y="590"/>
                  <a:pt x="2638" y="604"/>
                </a:cubicBezTo>
                <a:cubicBezTo>
                  <a:pt x="2639" y="617"/>
                  <a:pt x="2628" y="629"/>
                  <a:pt x="2614" y="630"/>
                </a:cubicBezTo>
                <a:cubicBezTo>
                  <a:pt x="2601" y="631"/>
                  <a:pt x="2589" y="621"/>
                  <a:pt x="2588" y="607"/>
                </a:cubicBezTo>
                <a:cubicBezTo>
                  <a:pt x="2587" y="593"/>
                  <a:pt x="2597" y="581"/>
                  <a:pt x="2611" y="580"/>
                </a:cubicBezTo>
                <a:close/>
                <a:moveTo>
                  <a:pt x="2710" y="574"/>
                </a:moveTo>
                <a:lnTo>
                  <a:pt x="2711" y="574"/>
                </a:lnTo>
                <a:cubicBezTo>
                  <a:pt x="2724" y="573"/>
                  <a:pt x="2736" y="583"/>
                  <a:pt x="2737" y="597"/>
                </a:cubicBezTo>
                <a:cubicBezTo>
                  <a:pt x="2738" y="611"/>
                  <a:pt x="2728" y="623"/>
                  <a:pt x="2714" y="624"/>
                </a:cubicBezTo>
                <a:cubicBezTo>
                  <a:pt x="2701" y="625"/>
                  <a:pt x="2689" y="615"/>
                  <a:pt x="2687" y="601"/>
                </a:cubicBezTo>
                <a:cubicBezTo>
                  <a:pt x="2686" y="587"/>
                  <a:pt x="2697" y="575"/>
                  <a:pt x="2710" y="574"/>
                </a:cubicBezTo>
                <a:close/>
                <a:moveTo>
                  <a:pt x="2810" y="567"/>
                </a:moveTo>
                <a:lnTo>
                  <a:pt x="2810" y="567"/>
                </a:lnTo>
                <a:cubicBezTo>
                  <a:pt x="2824" y="566"/>
                  <a:pt x="2836" y="576"/>
                  <a:pt x="2837" y="590"/>
                </a:cubicBezTo>
                <a:cubicBezTo>
                  <a:pt x="2838" y="604"/>
                  <a:pt x="2828" y="616"/>
                  <a:pt x="2814" y="617"/>
                </a:cubicBezTo>
                <a:cubicBezTo>
                  <a:pt x="2800" y="618"/>
                  <a:pt x="2788" y="608"/>
                  <a:pt x="2787" y="594"/>
                </a:cubicBezTo>
                <a:cubicBezTo>
                  <a:pt x="2786" y="580"/>
                  <a:pt x="2796" y="568"/>
                  <a:pt x="2810" y="567"/>
                </a:cubicBezTo>
                <a:close/>
                <a:moveTo>
                  <a:pt x="2909" y="559"/>
                </a:moveTo>
                <a:lnTo>
                  <a:pt x="2909" y="559"/>
                </a:lnTo>
                <a:cubicBezTo>
                  <a:pt x="2923" y="557"/>
                  <a:pt x="2935" y="567"/>
                  <a:pt x="2937" y="581"/>
                </a:cubicBezTo>
                <a:cubicBezTo>
                  <a:pt x="2938" y="595"/>
                  <a:pt x="2928" y="607"/>
                  <a:pt x="2914" y="608"/>
                </a:cubicBezTo>
                <a:cubicBezTo>
                  <a:pt x="2901" y="610"/>
                  <a:pt x="2888" y="600"/>
                  <a:pt x="2887" y="586"/>
                </a:cubicBezTo>
                <a:cubicBezTo>
                  <a:pt x="2886" y="572"/>
                  <a:pt x="2896" y="560"/>
                  <a:pt x="2909" y="559"/>
                </a:cubicBezTo>
                <a:close/>
                <a:moveTo>
                  <a:pt x="3009" y="549"/>
                </a:moveTo>
                <a:lnTo>
                  <a:pt x="3009" y="549"/>
                </a:lnTo>
                <a:cubicBezTo>
                  <a:pt x="3023" y="548"/>
                  <a:pt x="3035" y="558"/>
                  <a:pt x="3036" y="572"/>
                </a:cubicBezTo>
                <a:cubicBezTo>
                  <a:pt x="3038" y="585"/>
                  <a:pt x="3028" y="598"/>
                  <a:pt x="3014" y="599"/>
                </a:cubicBezTo>
                <a:cubicBezTo>
                  <a:pt x="3000" y="600"/>
                  <a:pt x="2988" y="590"/>
                  <a:pt x="2987" y="577"/>
                </a:cubicBezTo>
                <a:cubicBezTo>
                  <a:pt x="2985" y="563"/>
                  <a:pt x="2995" y="551"/>
                  <a:pt x="3009" y="549"/>
                </a:cubicBezTo>
                <a:close/>
                <a:moveTo>
                  <a:pt x="3108" y="538"/>
                </a:moveTo>
                <a:lnTo>
                  <a:pt x="3108" y="538"/>
                </a:lnTo>
                <a:cubicBezTo>
                  <a:pt x="3122" y="537"/>
                  <a:pt x="3134" y="546"/>
                  <a:pt x="3136" y="560"/>
                </a:cubicBezTo>
                <a:cubicBezTo>
                  <a:pt x="3137" y="574"/>
                  <a:pt x="3128" y="586"/>
                  <a:pt x="3114" y="588"/>
                </a:cubicBezTo>
                <a:cubicBezTo>
                  <a:pt x="3100" y="589"/>
                  <a:pt x="3088" y="580"/>
                  <a:pt x="3086" y="566"/>
                </a:cubicBezTo>
                <a:cubicBezTo>
                  <a:pt x="3084" y="552"/>
                  <a:pt x="3094" y="540"/>
                  <a:pt x="3108" y="538"/>
                </a:cubicBezTo>
                <a:close/>
                <a:moveTo>
                  <a:pt x="3206" y="526"/>
                </a:moveTo>
                <a:lnTo>
                  <a:pt x="3207" y="526"/>
                </a:lnTo>
                <a:cubicBezTo>
                  <a:pt x="3220" y="523"/>
                  <a:pt x="3233" y="533"/>
                  <a:pt x="3235" y="547"/>
                </a:cubicBezTo>
                <a:cubicBezTo>
                  <a:pt x="3237" y="560"/>
                  <a:pt x="3228" y="573"/>
                  <a:pt x="3214" y="575"/>
                </a:cubicBezTo>
                <a:cubicBezTo>
                  <a:pt x="3200" y="577"/>
                  <a:pt x="3187" y="568"/>
                  <a:pt x="3185" y="554"/>
                </a:cubicBezTo>
                <a:cubicBezTo>
                  <a:pt x="3183" y="540"/>
                  <a:pt x="3193" y="528"/>
                  <a:pt x="3206" y="526"/>
                </a:cubicBezTo>
                <a:close/>
                <a:moveTo>
                  <a:pt x="3305" y="511"/>
                </a:moveTo>
                <a:lnTo>
                  <a:pt x="3305" y="511"/>
                </a:lnTo>
                <a:cubicBezTo>
                  <a:pt x="3319" y="509"/>
                  <a:pt x="3332" y="518"/>
                  <a:pt x="3334" y="531"/>
                </a:cubicBezTo>
                <a:cubicBezTo>
                  <a:pt x="3336" y="545"/>
                  <a:pt x="3327" y="558"/>
                  <a:pt x="3313" y="560"/>
                </a:cubicBezTo>
                <a:cubicBezTo>
                  <a:pt x="3300" y="563"/>
                  <a:pt x="3287" y="553"/>
                  <a:pt x="3284" y="540"/>
                </a:cubicBezTo>
                <a:cubicBezTo>
                  <a:pt x="3282" y="526"/>
                  <a:pt x="3291" y="513"/>
                  <a:pt x="3305" y="511"/>
                </a:cubicBezTo>
                <a:close/>
                <a:moveTo>
                  <a:pt x="3404" y="494"/>
                </a:moveTo>
                <a:lnTo>
                  <a:pt x="3404" y="494"/>
                </a:lnTo>
                <a:cubicBezTo>
                  <a:pt x="3417" y="492"/>
                  <a:pt x="3430" y="501"/>
                  <a:pt x="3433" y="515"/>
                </a:cubicBezTo>
                <a:cubicBezTo>
                  <a:pt x="3435" y="529"/>
                  <a:pt x="3426" y="541"/>
                  <a:pt x="3412" y="544"/>
                </a:cubicBezTo>
                <a:cubicBezTo>
                  <a:pt x="3398" y="546"/>
                  <a:pt x="3385" y="537"/>
                  <a:pt x="3383" y="523"/>
                </a:cubicBezTo>
                <a:cubicBezTo>
                  <a:pt x="3381" y="510"/>
                  <a:pt x="3390" y="497"/>
                  <a:pt x="3404" y="494"/>
                </a:cubicBezTo>
                <a:close/>
                <a:moveTo>
                  <a:pt x="3501" y="475"/>
                </a:moveTo>
                <a:lnTo>
                  <a:pt x="3501" y="475"/>
                </a:lnTo>
                <a:cubicBezTo>
                  <a:pt x="3514" y="472"/>
                  <a:pt x="3528" y="481"/>
                  <a:pt x="3530" y="494"/>
                </a:cubicBezTo>
                <a:cubicBezTo>
                  <a:pt x="3533" y="508"/>
                  <a:pt x="3525" y="521"/>
                  <a:pt x="3511" y="524"/>
                </a:cubicBezTo>
                <a:cubicBezTo>
                  <a:pt x="3498" y="527"/>
                  <a:pt x="3484" y="518"/>
                  <a:pt x="3481" y="505"/>
                </a:cubicBezTo>
                <a:cubicBezTo>
                  <a:pt x="3479" y="491"/>
                  <a:pt x="3487" y="478"/>
                  <a:pt x="3501" y="475"/>
                </a:cubicBezTo>
                <a:close/>
                <a:moveTo>
                  <a:pt x="3597" y="452"/>
                </a:moveTo>
                <a:lnTo>
                  <a:pt x="3597" y="452"/>
                </a:lnTo>
                <a:cubicBezTo>
                  <a:pt x="3610" y="448"/>
                  <a:pt x="3624" y="456"/>
                  <a:pt x="3627" y="470"/>
                </a:cubicBezTo>
                <a:cubicBezTo>
                  <a:pt x="3631" y="483"/>
                  <a:pt x="3623" y="497"/>
                  <a:pt x="3610" y="500"/>
                </a:cubicBezTo>
                <a:cubicBezTo>
                  <a:pt x="3596" y="504"/>
                  <a:pt x="3583" y="496"/>
                  <a:pt x="3579" y="483"/>
                </a:cubicBezTo>
                <a:cubicBezTo>
                  <a:pt x="3575" y="469"/>
                  <a:pt x="3583" y="456"/>
                  <a:pt x="3597" y="452"/>
                </a:cubicBezTo>
                <a:close/>
                <a:moveTo>
                  <a:pt x="3691" y="424"/>
                </a:moveTo>
                <a:lnTo>
                  <a:pt x="3691" y="424"/>
                </a:lnTo>
                <a:cubicBezTo>
                  <a:pt x="3705" y="420"/>
                  <a:pt x="3719" y="427"/>
                  <a:pt x="3723" y="440"/>
                </a:cubicBezTo>
                <a:cubicBezTo>
                  <a:pt x="3727" y="453"/>
                  <a:pt x="3720" y="467"/>
                  <a:pt x="3707" y="471"/>
                </a:cubicBezTo>
                <a:cubicBezTo>
                  <a:pt x="3694" y="476"/>
                  <a:pt x="3679" y="468"/>
                  <a:pt x="3675" y="455"/>
                </a:cubicBezTo>
                <a:cubicBezTo>
                  <a:pt x="3671" y="442"/>
                  <a:pt x="3678" y="428"/>
                  <a:pt x="3691" y="424"/>
                </a:cubicBezTo>
                <a:close/>
                <a:moveTo>
                  <a:pt x="3778" y="387"/>
                </a:moveTo>
                <a:lnTo>
                  <a:pt x="3778" y="387"/>
                </a:lnTo>
                <a:cubicBezTo>
                  <a:pt x="3790" y="380"/>
                  <a:pt x="3805" y="384"/>
                  <a:pt x="3812" y="396"/>
                </a:cubicBezTo>
                <a:cubicBezTo>
                  <a:pt x="3820" y="408"/>
                  <a:pt x="3816" y="423"/>
                  <a:pt x="3804" y="430"/>
                </a:cubicBezTo>
                <a:cubicBezTo>
                  <a:pt x="3792" y="437"/>
                  <a:pt x="3776" y="433"/>
                  <a:pt x="3769" y="421"/>
                </a:cubicBezTo>
                <a:cubicBezTo>
                  <a:pt x="3762" y="409"/>
                  <a:pt x="3766" y="394"/>
                  <a:pt x="3778" y="387"/>
                </a:cubicBezTo>
                <a:close/>
                <a:moveTo>
                  <a:pt x="3839" y="336"/>
                </a:moveTo>
                <a:lnTo>
                  <a:pt x="3839" y="336"/>
                </a:lnTo>
                <a:cubicBezTo>
                  <a:pt x="3843" y="323"/>
                  <a:pt x="3857" y="316"/>
                  <a:pt x="3871" y="320"/>
                </a:cubicBezTo>
                <a:cubicBezTo>
                  <a:pt x="3884" y="324"/>
                  <a:pt x="3891" y="338"/>
                  <a:pt x="3887" y="351"/>
                </a:cubicBezTo>
                <a:cubicBezTo>
                  <a:pt x="3883" y="364"/>
                  <a:pt x="3869" y="371"/>
                  <a:pt x="3856" y="367"/>
                </a:cubicBezTo>
                <a:cubicBezTo>
                  <a:pt x="3843" y="363"/>
                  <a:pt x="3835" y="349"/>
                  <a:pt x="3839" y="336"/>
                </a:cubicBezTo>
                <a:close/>
                <a:moveTo>
                  <a:pt x="3812" y="283"/>
                </a:moveTo>
                <a:lnTo>
                  <a:pt x="3812" y="283"/>
                </a:lnTo>
                <a:cubicBezTo>
                  <a:pt x="3800" y="275"/>
                  <a:pt x="3796" y="260"/>
                  <a:pt x="3803" y="248"/>
                </a:cubicBezTo>
                <a:cubicBezTo>
                  <a:pt x="3811" y="236"/>
                  <a:pt x="3826" y="233"/>
                  <a:pt x="3838" y="240"/>
                </a:cubicBezTo>
                <a:cubicBezTo>
                  <a:pt x="3850" y="247"/>
                  <a:pt x="3853" y="262"/>
                  <a:pt x="3846" y="274"/>
                </a:cubicBezTo>
                <a:cubicBezTo>
                  <a:pt x="3839" y="286"/>
                  <a:pt x="3824" y="290"/>
                  <a:pt x="3812" y="283"/>
                </a:cubicBezTo>
                <a:close/>
                <a:moveTo>
                  <a:pt x="3726" y="239"/>
                </a:moveTo>
                <a:lnTo>
                  <a:pt x="3726" y="239"/>
                </a:lnTo>
                <a:cubicBezTo>
                  <a:pt x="3714" y="234"/>
                  <a:pt x="3708" y="219"/>
                  <a:pt x="3713" y="206"/>
                </a:cubicBezTo>
                <a:cubicBezTo>
                  <a:pt x="3718" y="193"/>
                  <a:pt x="3733" y="187"/>
                  <a:pt x="3746" y="193"/>
                </a:cubicBezTo>
                <a:cubicBezTo>
                  <a:pt x="3758" y="198"/>
                  <a:pt x="3764" y="213"/>
                  <a:pt x="3759" y="225"/>
                </a:cubicBezTo>
                <a:cubicBezTo>
                  <a:pt x="3754" y="238"/>
                  <a:pt x="3739" y="244"/>
                  <a:pt x="3726" y="239"/>
                </a:cubicBezTo>
                <a:close/>
                <a:moveTo>
                  <a:pt x="3634" y="207"/>
                </a:moveTo>
                <a:lnTo>
                  <a:pt x="3634" y="207"/>
                </a:lnTo>
                <a:cubicBezTo>
                  <a:pt x="3620" y="202"/>
                  <a:pt x="3613" y="188"/>
                  <a:pt x="3618" y="175"/>
                </a:cubicBezTo>
                <a:cubicBezTo>
                  <a:pt x="3622" y="162"/>
                  <a:pt x="3636" y="155"/>
                  <a:pt x="3649" y="159"/>
                </a:cubicBezTo>
                <a:lnTo>
                  <a:pt x="3650" y="159"/>
                </a:lnTo>
                <a:cubicBezTo>
                  <a:pt x="3663" y="164"/>
                  <a:pt x="3670" y="178"/>
                  <a:pt x="3665" y="191"/>
                </a:cubicBezTo>
                <a:cubicBezTo>
                  <a:pt x="3661" y="204"/>
                  <a:pt x="3647" y="211"/>
                  <a:pt x="3634" y="207"/>
                </a:cubicBezTo>
                <a:close/>
                <a:moveTo>
                  <a:pt x="3539" y="183"/>
                </a:moveTo>
                <a:lnTo>
                  <a:pt x="3538" y="183"/>
                </a:lnTo>
                <a:cubicBezTo>
                  <a:pt x="3525" y="179"/>
                  <a:pt x="3517" y="166"/>
                  <a:pt x="3520" y="152"/>
                </a:cubicBezTo>
                <a:cubicBezTo>
                  <a:pt x="3524" y="139"/>
                  <a:pt x="3537" y="131"/>
                  <a:pt x="3551" y="134"/>
                </a:cubicBezTo>
                <a:cubicBezTo>
                  <a:pt x="3564" y="138"/>
                  <a:pt x="3572" y="151"/>
                  <a:pt x="3569" y="165"/>
                </a:cubicBezTo>
                <a:cubicBezTo>
                  <a:pt x="3565" y="178"/>
                  <a:pt x="3552" y="186"/>
                  <a:pt x="3539" y="183"/>
                </a:cubicBezTo>
                <a:close/>
                <a:moveTo>
                  <a:pt x="3441" y="162"/>
                </a:moveTo>
                <a:lnTo>
                  <a:pt x="3441" y="162"/>
                </a:lnTo>
                <a:cubicBezTo>
                  <a:pt x="3428" y="159"/>
                  <a:pt x="3419" y="145"/>
                  <a:pt x="3422" y="132"/>
                </a:cubicBezTo>
                <a:cubicBezTo>
                  <a:pt x="3425" y="118"/>
                  <a:pt x="3439" y="110"/>
                  <a:pt x="3452" y="113"/>
                </a:cubicBezTo>
                <a:cubicBezTo>
                  <a:pt x="3466" y="116"/>
                  <a:pt x="3474" y="129"/>
                  <a:pt x="3471" y="143"/>
                </a:cubicBezTo>
                <a:cubicBezTo>
                  <a:pt x="3468" y="156"/>
                  <a:pt x="3455" y="165"/>
                  <a:pt x="3441" y="162"/>
                </a:cubicBezTo>
                <a:close/>
                <a:moveTo>
                  <a:pt x="3344" y="144"/>
                </a:moveTo>
                <a:lnTo>
                  <a:pt x="3344" y="144"/>
                </a:lnTo>
                <a:cubicBezTo>
                  <a:pt x="3330" y="142"/>
                  <a:pt x="3321" y="129"/>
                  <a:pt x="3324" y="116"/>
                </a:cubicBezTo>
                <a:cubicBezTo>
                  <a:pt x="3326" y="102"/>
                  <a:pt x="3339" y="93"/>
                  <a:pt x="3352" y="95"/>
                </a:cubicBezTo>
                <a:cubicBezTo>
                  <a:pt x="3366" y="97"/>
                  <a:pt x="3375" y="110"/>
                  <a:pt x="3373" y="124"/>
                </a:cubicBezTo>
                <a:cubicBezTo>
                  <a:pt x="3371" y="138"/>
                  <a:pt x="3358" y="147"/>
                  <a:pt x="3344" y="144"/>
                </a:cubicBezTo>
                <a:close/>
                <a:moveTo>
                  <a:pt x="3246" y="130"/>
                </a:moveTo>
                <a:lnTo>
                  <a:pt x="3246" y="130"/>
                </a:lnTo>
                <a:cubicBezTo>
                  <a:pt x="3232" y="128"/>
                  <a:pt x="3223" y="115"/>
                  <a:pt x="3225" y="101"/>
                </a:cubicBezTo>
                <a:cubicBezTo>
                  <a:pt x="3227" y="88"/>
                  <a:pt x="3239" y="78"/>
                  <a:pt x="3253" y="80"/>
                </a:cubicBezTo>
                <a:cubicBezTo>
                  <a:pt x="3267" y="82"/>
                  <a:pt x="3276" y="95"/>
                  <a:pt x="3274" y="108"/>
                </a:cubicBezTo>
                <a:cubicBezTo>
                  <a:pt x="3272" y="122"/>
                  <a:pt x="3259" y="132"/>
                  <a:pt x="3246" y="130"/>
                </a:cubicBezTo>
                <a:close/>
                <a:moveTo>
                  <a:pt x="3147" y="116"/>
                </a:moveTo>
                <a:lnTo>
                  <a:pt x="3147" y="116"/>
                </a:lnTo>
                <a:cubicBezTo>
                  <a:pt x="3133" y="114"/>
                  <a:pt x="3124" y="102"/>
                  <a:pt x="3125" y="88"/>
                </a:cubicBezTo>
                <a:cubicBezTo>
                  <a:pt x="3127" y="75"/>
                  <a:pt x="3140" y="65"/>
                  <a:pt x="3153" y="67"/>
                </a:cubicBezTo>
                <a:cubicBezTo>
                  <a:pt x="3167" y="68"/>
                  <a:pt x="3177" y="81"/>
                  <a:pt x="3175" y="95"/>
                </a:cubicBezTo>
                <a:cubicBezTo>
                  <a:pt x="3173" y="108"/>
                  <a:pt x="3161" y="118"/>
                  <a:pt x="3147" y="116"/>
                </a:cubicBezTo>
                <a:close/>
                <a:moveTo>
                  <a:pt x="3048" y="104"/>
                </a:moveTo>
                <a:lnTo>
                  <a:pt x="3048" y="104"/>
                </a:lnTo>
                <a:cubicBezTo>
                  <a:pt x="3034" y="102"/>
                  <a:pt x="3024" y="90"/>
                  <a:pt x="3026" y="76"/>
                </a:cubicBezTo>
                <a:cubicBezTo>
                  <a:pt x="3028" y="62"/>
                  <a:pt x="3040" y="53"/>
                  <a:pt x="3054" y="54"/>
                </a:cubicBezTo>
                <a:cubicBezTo>
                  <a:pt x="3068" y="56"/>
                  <a:pt x="3077" y="69"/>
                  <a:pt x="3076" y="82"/>
                </a:cubicBezTo>
                <a:cubicBezTo>
                  <a:pt x="3074" y="96"/>
                  <a:pt x="3061" y="106"/>
                  <a:pt x="3048" y="104"/>
                </a:cubicBezTo>
                <a:close/>
                <a:moveTo>
                  <a:pt x="2949" y="94"/>
                </a:moveTo>
                <a:lnTo>
                  <a:pt x="2949" y="94"/>
                </a:lnTo>
                <a:cubicBezTo>
                  <a:pt x="2935" y="93"/>
                  <a:pt x="2925" y="80"/>
                  <a:pt x="2926" y="67"/>
                </a:cubicBezTo>
                <a:cubicBezTo>
                  <a:pt x="2928" y="53"/>
                  <a:pt x="2940" y="43"/>
                  <a:pt x="2954" y="44"/>
                </a:cubicBezTo>
                <a:cubicBezTo>
                  <a:pt x="2968" y="46"/>
                  <a:pt x="2978" y="58"/>
                  <a:pt x="2976" y="71"/>
                </a:cubicBezTo>
                <a:cubicBezTo>
                  <a:pt x="2975" y="85"/>
                  <a:pt x="2963" y="95"/>
                  <a:pt x="2949" y="94"/>
                </a:cubicBezTo>
                <a:close/>
                <a:moveTo>
                  <a:pt x="2850" y="85"/>
                </a:moveTo>
                <a:lnTo>
                  <a:pt x="2850" y="85"/>
                </a:lnTo>
                <a:cubicBezTo>
                  <a:pt x="2836" y="84"/>
                  <a:pt x="2826" y="72"/>
                  <a:pt x="2827" y="58"/>
                </a:cubicBezTo>
                <a:cubicBezTo>
                  <a:pt x="2828" y="44"/>
                  <a:pt x="2840" y="34"/>
                  <a:pt x="2854" y="35"/>
                </a:cubicBezTo>
                <a:cubicBezTo>
                  <a:pt x="2867" y="36"/>
                  <a:pt x="2878" y="48"/>
                  <a:pt x="2877" y="62"/>
                </a:cubicBezTo>
                <a:cubicBezTo>
                  <a:pt x="2876" y="76"/>
                  <a:pt x="2864" y="86"/>
                  <a:pt x="2850" y="85"/>
                </a:cubicBezTo>
                <a:close/>
                <a:moveTo>
                  <a:pt x="2750" y="78"/>
                </a:moveTo>
                <a:lnTo>
                  <a:pt x="2750" y="78"/>
                </a:lnTo>
                <a:cubicBezTo>
                  <a:pt x="2736" y="77"/>
                  <a:pt x="2726" y="65"/>
                  <a:pt x="2727" y="51"/>
                </a:cubicBezTo>
                <a:cubicBezTo>
                  <a:pt x="2728" y="37"/>
                  <a:pt x="2740" y="27"/>
                  <a:pt x="2754" y="28"/>
                </a:cubicBezTo>
                <a:cubicBezTo>
                  <a:pt x="2768" y="29"/>
                  <a:pt x="2778" y="41"/>
                  <a:pt x="2777" y="55"/>
                </a:cubicBezTo>
                <a:cubicBezTo>
                  <a:pt x="2776" y="68"/>
                  <a:pt x="2764" y="79"/>
                  <a:pt x="2750" y="78"/>
                </a:cubicBezTo>
                <a:close/>
                <a:moveTo>
                  <a:pt x="2651" y="71"/>
                </a:moveTo>
                <a:lnTo>
                  <a:pt x="2651" y="71"/>
                </a:lnTo>
                <a:cubicBezTo>
                  <a:pt x="2637" y="70"/>
                  <a:pt x="2626" y="59"/>
                  <a:pt x="2627" y="45"/>
                </a:cubicBezTo>
                <a:cubicBezTo>
                  <a:pt x="2628" y="31"/>
                  <a:pt x="2640" y="20"/>
                  <a:pt x="2654" y="21"/>
                </a:cubicBezTo>
                <a:cubicBezTo>
                  <a:pt x="2667" y="22"/>
                  <a:pt x="2678" y="34"/>
                  <a:pt x="2677" y="48"/>
                </a:cubicBezTo>
                <a:cubicBezTo>
                  <a:pt x="2676" y="61"/>
                  <a:pt x="2664" y="72"/>
                  <a:pt x="2651" y="71"/>
                </a:cubicBezTo>
                <a:close/>
                <a:moveTo>
                  <a:pt x="2551" y="66"/>
                </a:moveTo>
                <a:lnTo>
                  <a:pt x="2551" y="66"/>
                </a:lnTo>
                <a:cubicBezTo>
                  <a:pt x="2537" y="65"/>
                  <a:pt x="2526" y="53"/>
                  <a:pt x="2527" y="39"/>
                </a:cubicBezTo>
                <a:cubicBezTo>
                  <a:pt x="2528" y="25"/>
                  <a:pt x="2540" y="15"/>
                  <a:pt x="2554" y="16"/>
                </a:cubicBezTo>
                <a:cubicBezTo>
                  <a:pt x="2568" y="16"/>
                  <a:pt x="2578" y="28"/>
                  <a:pt x="2577" y="42"/>
                </a:cubicBezTo>
                <a:cubicBezTo>
                  <a:pt x="2576" y="56"/>
                  <a:pt x="2565" y="66"/>
                  <a:pt x="2551" y="66"/>
                </a:cubicBezTo>
                <a:close/>
                <a:moveTo>
                  <a:pt x="2451" y="61"/>
                </a:moveTo>
                <a:lnTo>
                  <a:pt x="2451" y="61"/>
                </a:lnTo>
                <a:cubicBezTo>
                  <a:pt x="2437" y="60"/>
                  <a:pt x="2427" y="48"/>
                  <a:pt x="2427" y="35"/>
                </a:cubicBezTo>
                <a:cubicBezTo>
                  <a:pt x="2428" y="21"/>
                  <a:pt x="2440" y="10"/>
                  <a:pt x="2454" y="11"/>
                </a:cubicBezTo>
                <a:cubicBezTo>
                  <a:pt x="2467" y="11"/>
                  <a:pt x="2478" y="23"/>
                  <a:pt x="2477" y="37"/>
                </a:cubicBezTo>
                <a:cubicBezTo>
                  <a:pt x="2477" y="51"/>
                  <a:pt x="2465" y="61"/>
                  <a:pt x="2451" y="61"/>
                </a:cubicBezTo>
                <a:close/>
                <a:moveTo>
                  <a:pt x="2351" y="56"/>
                </a:moveTo>
                <a:lnTo>
                  <a:pt x="2351" y="56"/>
                </a:lnTo>
                <a:cubicBezTo>
                  <a:pt x="2337" y="56"/>
                  <a:pt x="2327" y="44"/>
                  <a:pt x="2327" y="30"/>
                </a:cubicBezTo>
                <a:cubicBezTo>
                  <a:pt x="2328" y="16"/>
                  <a:pt x="2340" y="6"/>
                  <a:pt x="2354" y="6"/>
                </a:cubicBezTo>
                <a:cubicBezTo>
                  <a:pt x="2367" y="7"/>
                  <a:pt x="2378" y="19"/>
                  <a:pt x="2377" y="33"/>
                </a:cubicBezTo>
                <a:cubicBezTo>
                  <a:pt x="2377" y="46"/>
                  <a:pt x="2365" y="57"/>
                  <a:pt x="2351" y="56"/>
                </a:cubicBezTo>
                <a:close/>
                <a:moveTo>
                  <a:pt x="2252" y="54"/>
                </a:moveTo>
                <a:lnTo>
                  <a:pt x="2252" y="54"/>
                </a:lnTo>
                <a:cubicBezTo>
                  <a:pt x="2238" y="53"/>
                  <a:pt x="2227" y="42"/>
                  <a:pt x="2227" y="28"/>
                </a:cubicBezTo>
                <a:cubicBezTo>
                  <a:pt x="2228" y="14"/>
                  <a:pt x="2239" y="3"/>
                  <a:pt x="2253" y="4"/>
                </a:cubicBezTo>
                <a:cubicBezTo>
                  <a:pt x="2267" y="4"/>
                  <a:pt x="2278" y="16"/>
                  <a:pt x="2277" y="30"/>
                </a:cubicBezTo>
                <a:cubicBezTo>
                  <a:pt x="2277" y="43"/>
                  <a:pt x="2265" y="54"/>
                  <a:pt x="2252" y="54"/>
                </a:cubicBezTo>
                <a:close/>
                <a:moveTo>
                  <a:pt x="2152" y="52"/>
                </a:moveTo>
                <a:lnTo>
                  <a:pt x="2152" y="52"/>
                </a:lnTo>
                <a:cubicBezTo>
                  <a:pt x="2138" y="51"/>
                  <a:pt x="2127" y="40"/>
                  <a:pt x="2127" y="26"/>
                </a:cubicBezTo>
                <a:cubicBezTo>
                  <a:pt x="2128" y="12"/>
                  <a:pt x="2139" y="1"/>
                  <a:pt x="2153" y="2"/>
                </a:cubicBezTo>
                <a:cubicBezTo>
                  <a:pt x="2167" y="2"/>
                  <a:pt x="2178" y="14"/>
                  <a:pt x="2177" y="27"/>
                </a:cubicBezTo>
                <a:cubicBezTo>
                  <a:pt x="2177" y="41"/>
                  <a:pt x="2165" y="52"/>
                  <a:pt x="2152" y="52"/>
                </a:cubicBezTo>
                <a:close/>
              </a:path>
            </a:pathLst>
          </a:custGeom>
          <a:solidFill>
            <a:srgbClr val="000000"/>
          </a:solidFill>
          <a:ln w="468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387" name="Freeform 18"/>
          <p:cNvSpPr/>
          <p:nvPr/>
        </p:nvSpPr>
        <p:spPr>
          <a:xfrm>
            <a:off x="4708440" y="2860560"/>
            <a:ext cx="309600" cy="1481400"/>
          </a:xfrm>
          <a:custGeom>
            <a:avLst/>
            <a:gdLst>
              <a:gd name="textAreaLeft" fmla="*/ 0 w 309600"/>
              <a:gd name="textAreaRight" fmla="*/ 309960 w 309600"/>
              <a:gd name="textAreaTop" fmla="*/ 0 h 1481400"/>
              <a:gd name="textAreaBottom" fmla="*/ 1481760 h 1481400"/>
            </a:gdLst>
            <a:ahLst/>
            <a:rect l="textAreaLeft" t="textAreaTop" r="textAreaRight" b="textAreaBottom"/>
            <a:pathLst>
              <a:path w="195" h="933">
                <a:moveTo>
                  <a:pt x="195" y="0"/>
                </a:moveTo>
                <a:cubicBezTo>
                  <a:pt x="87" y="0"/>
                  <a:pt x="0" y="209"/>
                  <a:pt x="0" y="467"/>
                </a:cubicBezTo>
                <a:cubicBezTo>
                  <a:pt x="0" y="715"/>
                  <a:pt x="81" y="920"/>
                  <a:pt x="185" y="933"/>
                </a:cubicBezTo>
              </a:path>
            </a:pathLst>
          </a:custGeom>
          <a:noFill/>
          <a:ln cap="rnd"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388" name="Freeform 19"/>
          <p:cNvSpPr/>
          <p:nvPr/>
        </p:nvSpPr>
        <p:spPr>
          <a:xfrm>
            <a:off x="3827520" y="2881440"/>
            <a:ext cx="311040" cy="1481040"/>
          </a:xfrm>
          <a:custGeom>
            <a:avLst/>
            <a:gdLst>
              <a:gd name="textAreaLeft" fmla="*/ 0 w 311040"/>
              <a:gd name="textAreaRight" fmla="*/ 311400 w 311040"/>
              <a:gd name="textAreaTop" fmla="*/ 0 h 1481040"/>
              <a:gd name="textAreaBottom" fmla="*/ 1481400 h 1481040"/>
            </a:gdLst>
            <a:ahLst/>
            <a:rect l="textAreaLeft" t="textAreaTop" r="textAreaRight" b="textAreaBottom"/>
            <a:pathLst>
              <a:path w="196" h="933">
                <a:moveTo>
                  <a:pt x="0" y="933"/>
                </a:moveTo>
                <a:cubicBezTo>
                  <a:pt x="108" y="933"/>
                  <a:pt x="196" y="724"/>
                  <a:pt x="196" y="466"/>
                </a:cubicBezTo>
                <a:cubicBezTo>
                  <a:pt x="196" y="218"/>
                  <a:pt x="115" y="13"/>
                  <a:pt x="11" y="0"/>
                </a:cubicBezTo>
              </a:path>
            </a:pathLst>
          </a:custGeom>
          <a:noFill/>
          <a:ln cap="rnd"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389" name="Freeform 20"/>
          <p:cNvSpPr/>
          <p:nvPr/>
        </p:nvSpPr>
        <p:spPr>
          <a:xfrm>
            <a:off x="4595760" y="2779560"/>
            <a:ext cx="128520" cy="1487520"/>
          </a:xfrm>
          <a:custGeom>
            <a:avLst/>
            <a:gdLst>
              <a:gd name="textAreaLeft" fmla="*/ 0 w 128520"/>
              <a:gd name="textAreaRight" fmla="*/ 128880 w 128520"/>
              <a:gd name="textAreaTop" fmla="*/ 0 h 1487520"/>
              <a:gd name="textAreaBottom" fmla="*/ 1487880 h 1487520"/>
            </a:gdLst>
            <a:ahLst/>
            <a:rect l="textAreaLeft" t="textAreaTop" r="textAreaRight" b="textAreaBottom"/>
            <a:pathLst>
              <a:path w="423" h="4890">
                <a:moveTo>
                  <a:pt x="264" y="34"/>
                </a:moveTo>
                <a:lnTo>
                  <a:pt x="264" y="34"/>
                </a:lnTo>
                <a:cubicBezTo>
                  <a:pt x="260" y="47"/>
                  <a:pt x="246" y="55"/>
                  <a:pt x="233" y="52"/>
                </a:cubicBezTo>
                <a:cubicBezTo>
                  <a:pt x="220" y="48"/>
                  <a:pt x="212" y="35"/>
                  <a:pt x="215" y="21"/>
                </a:cubicBezTo>
                <a:cubicBezTo>
                  <a:pt x="219" y="8"/>
                  <a:pt x="232" y="0"/>
                  <a:pt x="246" y="3"/>
                </a:cubicBezTo>
                <a:cubicBezTo>
                  <a:pt x="259" y="7"/>
                  <a:pt x="267" y="20"/>
                  <a:pt x="264" y="34"/>
                </a:cubicBezTo>
                <a:close/>
                <a:moveTo>
                  <a:pt x="239" y="130"/>
                </a:moveTo>
                <a:lnTo>
                  <a:pt x="239" y="130"/>
                </a:lnTo>
                <a:cubicBezTo>
                  <a:pt x="236" y="144"/>
                  <a:pt x="223" y="152"/>
                  <a:pt x="209" y="149"/>
                </a:cubicBezTo>
                <a:cubicBezTo>
                  <a:pt x="196" y="146"/>
                  <a:pt x="187" y="132"/>
                  <a:pt x="190" y="119"/>
                </a:cubicBezTo>
                <a:cubicBezTo>
                  <a:pt x="194" y="105"/>
                  <a:pt x="207" y="97"/>
                  <a:pt x="220" y="100"/>
                </a:cubicBezTo>
                <a:cubicBezTo>
                  <a:pt x="234" y="103"/>
                  <a:pt x="242" y="117"/>
                  <a:pt x="239" y="130"/>
                </a:cubicBezTo>
                <a:close/>
                <a:moveTo>
                  <a:pt x="217" y="228"/>
                </a:moveTo>
                <a:lnTo>
                  <a:pt x="217" y="228"/>
                </a:lnTo>
                <a:cubicBezTo>
                  <a:pt x="214" y="241"/>
                  <a:pt x="201" y="250"/>
                  <a:pt x="187" y="246"/>
                </a:cubicBezTo>
                <a:cubicBezTo>
                  <a:pt x="174" y="243"/>
                  <a:pt x="166" y="230"/>
                  <a:pt x="169" y="216"/>
                </a:cubicBezTo>
                <a:cubicBezTo>
                  <a:pt x="172" y="203"/>
                  <a:pt x="185" y="195"/>
                  <a:pt x="199" y="198"/>
                </a:cubicBezTo>
                <a:cubicBezTo>
                  <a:pt x="212" y="201"/>
                  <a:pt x="220" y="214"/>
                  <a:pt x="217" y="228"/>
                </a:cubicBezTo>
                <a:close/>
                <a:moveTo>
                  <a:pt x="198" y="325"/>
                </a:moveTo>
                <a:lnTo>
                  <a:pt x="198" y="325"/>
                </a:lnTo>
                <a:cubicBezTo>
                  <a:pt x="195" y="339"/>
                  <a:pt x="182" y="348"/>
                  <a:pt x="168" y="345"/>
                </a:cubicBezTo>
                <a:cubicBezTo>
                  <a:pt x="155" y="342"/>
                  <a:pt x="146" y="329"/>
                  <a:pt x="149" y="315"/>
                </a:cubicBezTo>
                <a:cubicBezTo>
                  <a:pt x="152" y="302"/>
                  <a:pt x="165" y="293"/>
                  <a:pt x="178" y="296"/>
                </a:cubicBezTo>
                <a:cubicBezTo>
                  <a:pt x="192" y="299"/>
                  <a:pt x="201" y="312"/>
                  <a:pt x="198" y="325"/>
                </a:cubicBezTo>
                <a:close/>
                <a:moveTo>
                  <a:pt x="180" y="423"/>
                </a:moveTo>
                <a:lnTo>
                  <a:pt x="180" y="423"/>
                </a:lnTo>
                <a:cubicBezTo>
                  <a:pt x="178" y="437"/>
                  <a:pt x="165" y="446"/>
                  <a:pt x="151" y="443"/>
                </a:cubicBezTo>
                <a:cubicBezTo>
                  <a:pt x="137" y="441"/>
                  <a:pt x="128" y="428"/>
                  <a:pt x="131" y="414"/>
                </a:cubicBezTo>
                <a:cubicBezTo>
                  <a:pt x="133" y="401"/>
                  <a:pt x="146" y="392"/>
                  <a:pt x="160" y="394"/>
                </a:cubicBezTo>
                <a:cubicBezTo>
                  <a:pt x="173" y="396"/>
                  <a:pt x="183" y="409"/>
                  <a:pt x="180" y="423"/>
                </a:cubicBezTo>
                <a:close/>
                <a:moveTo>
                  <a:pt x="164" y="521"/>
                </a:moveTo>
                <a:lnTo>
                  <a:pt x="164" y="521"/>
                </a:lnTo>
                <a:cubicBezTo>
                  <a:pt x="162" y="535"/>
                  <a:pt x="149" y="544"/>
                  <a:pt x="136" y="542"/>
                </a:cubicBezTo>
                <a:cubicBezTo>
                  <a:pt x="122" y="540"/>
                  <a:pt x="113" y="527"/>
                  <a:pt x="115" y="514"/>
                </a:cubicBezTo>
                <a:lnTo>
                  <a:pt x="115" y="513"/>
                </a:lnTo>
                <a:cubicBezTo>
                  <a:pt x="117" y="500"/>
                  <a:pt x="130" y="491"/>
                  <a:pt x="143" y="493"/>
                </a:cubicBezTo>
                <a:cubicBezTo>
                  <a:pt x="157" y="495"/>
                  <a:pt x="166" y="508"/>
                  <a:pt x="164" y="521"/>
                </a:cubicBezTo>
                <a:close/>
                <a:moveTo>
                  <a:pt x="150" y="620"/>
                </a:moveTo>
                <a:lnTo>
                  <a:pt x="150" y="620"/>
                </a:lnTo>
                <a:cubicBezTo>
                  <a:pt x="148" y="634"/>
                  <a:pt x="136" y="643"/>
                  <a:pt x="122" y="641"/>
                </a:cubicBezTo>
                <a:cubicBezTo>
                  <a:pt x="108" y="639"/>
                  <a:pt x="99" y="627"/>
                  <a:pt x="101" y="613"/>
                </a:cubicBezTo>
                <a:cubicBezTo>
                  <a:pt x="102" y="599"/>
                  <a:pt x="115" y="590"/>
                  <a:pt x="129" y="592"/>
                </a:cubicBezTo>
                <a:cubicBezTo>
                  <a:pt x="142" y="594"/>
                  <a:pt x="152" y="606"/>
                  <a:pt x="150" y="620"/>
                </a:cubicBezTo>
                <a:close/>
                <a:moveTo>
                  <a:pt x="137" y="719"/>
                </a:moveTo>
                <a:lnTo>
                  <a:pt x="137" y="719"/>
                </a:lnTo>
                <a:cubicBezTo>
                  <a:pt x="136" y="732"/>
                  <a:pt x="123" y="742"/>
                  <a:pt x="110" y="741"/>
                </a:cubicBezTo>
                <a:cubicBezTo>
                  <a:pt x="96" y="739"/>
                  <a:pt x="86" y="726"/>
                  <a:pt x="88" y="713"/>
                </a:cubicBezTo>
                <a:cubicBezTo>
                  <a:pt x="89" y="699"/>
                  <a:pt x="102" y="689"/>
                  <a:pt x="115" y="691"/>
                </a:cubicBezTo>
                <a:cubicBezTo>
                  <a:pt x="129" y="692"/>
                  <a:pt x="139" y="705"/>
                  <a:pt x="137" y="719"/>
                </a:cubicBezTo>
                <a:close/>
                <a:moveTo>
                  <a:pt x="126" y="818"/>
                </a:moveTo>
                <a:lnTo>
                  <a:pt x="126" y="818"/>
                </a:lnTo>
                <a:cubicBezTo>
                  <a:pt x="125" y="832"/>
                  <a:pt x="112" y="842"/>
                  <a:pt x="99" y="840"/>
                </a:cubicBezTo>
                <a:cubicBezTo>
                  <a:pt x="85" y="838"/>
                  <a:pt x="75" y="826"/>
                  <a:pt x="77" y="812"/>
                </a:cubicBezTo>
                <a:cubicBezTo>
                  <a:pt x="78" y="798"/>
                  <a:pt x="91" y="789"/>
                  <a:pt x="104" y="790"/>
                </a:cubicBezTo>
                <a:cubicBezTo>
                  <a:pt x="118" y="792"/>
                  <a:pt x="128" y="804"/>
                  <a:pt x="126" y="818"/>
                </a:cubicBezTo>
                <a:close/>
                <a:moveTo>
                  <a:pt x="115" y="917"/>
                </a:moveTo>
                <a:lnTo>
                  <a:pt x="115" y="917"/>
                </a:lnTo>
                <a:cubicBezTo>
                  <a:pt x="114" y="931"/>
                  <a:pt x="101" y="941"/>
                  <a:pt x="88" y="939"/>
                </a:cubicBezTo>
                <a:cubicBezTo>
                  <a:pt x="74" y="938"/>
                  <a:pt x="64" y="925"/>
                  <a:pt x="66" y="912"/>
                </a:cubicBezTo>
                <a:cubicBezTo>
                  <a:pt x="67" y="898"/>
                  <a:pt x="80" y="888"/>
                  <a:pt x="93" y="890"/>
                </a:cubicBezTo>
                <a:cubicBezTo>
                  <a:pt x="107" y="891"/>
                  <a:pt x="117" y="904"/>
                  <a:pt x="115" y="917"/>
                </a:cubicBezTo>
                <a:close/>
                <a:moveTo>
                  <a:pt x="105" y="1016"/>
                </a:moveTo>
                <a:lnTo>
                  <a:pt x="105" y="1016"/>
                </a:lnTo>
                <a:cubicBezTo>
                  <a:pt x="104" y="1030"/>
                  <a:pt x="92" y="1040"/>
                  <a:pt x="78" y="1039"/>
                </a:cubicBezTo>
                <a:cubicBezTo>
                  <a:pt x="64" y="1038"/>
                  <a:pt x="54" y="1026"/>
                  <a:pt x="55" y="1012"/>
                </a:cubicBezTo>
                <a:cubicBezTo>
                  <a:pt x="56" y="998"/>
                  <a:pt x="69" y="988"/>
                  <a:pt x="82" y="989"/>
                </a:cubicBezTo>
                <a:cubicBezTo>
                  <a:pt x="96" y="990"/>
                  <a:pt x="106" y="1002"/>
                  <a:pt x="105" y="1016"/>
                </a:cubicBezTo>
                <a:close/>
                <a:moveTo>
                  <a:pt x="97" y="1116"/>
                </a:moveTo>
                <a:lnTo>
                  <a:pt x="97" y="1116"/>
                </a:lnTo>
                <a:cubicBezTo>
                  <a:pt x="96" y="1130"/>
                  <a:pt x="83" y="1140"/>
                  <a:pt x="70" y="1139"/>
                </a:cubicBezTo>
                <a:cubicBezTo>
                  <a:pt x="56" y="1137"/>
                  <a:pt x="46" y="1125"/>
                  <a:pt x="47" y="1112"/>
                </a:cubicBezTo>
                <a:cubicBezTo>
                  <a:pt x="48" y="1098"/>
                  <a:pt x="60" y="1088"/>
                  <a:pt x="74" y="1089"/>
                </a:cubicBezTo>
                <a:cubicBezTo>
                  <a:pt x="88" y="1090"/>
                  <a:pt x="98" y="1102"/>
                  <a:pt x="97" y="1116"/>
                </a:cubicBezTo>
                <a:close/>
                <a:moveTo>
                  <a:pt x="88" y="1216"/>
                </a:moveTo>
                <a:lnTo>
                  <a:pt x="88" y="1216"/>
                </a:lnTo>
                <a:cubicBezTo>
                  <a:pt x="87" y="1229"/>
                  <a:pt x="75" y="1240"/>
                  <a:pt x="61" y="1238"/>
                </a:cubicBezTo>
                <a:cubicBezTo>
                  <a:pt x="48" y="1237"/>
                  <a:pt x="37" y="1225"/>
                  <a:pt x="39" y="1211"/>
                </a:cubicBezTo>
                <a:cubicBezTo>
                  <a:pt x="40" y="1197"/>
                  <a:pt x="52" y="1187"/>
                  <a:pt x="66" y="1189"/>
                </a:cubicBezTo>
                <a:cubicBezTo>
                  <a:pt x="79" y="1190"/>
                  <a:pt x="90" y="1202"/>
                  <a:pt x="88" y="1216"/>
                </a:cubicBezTo>
                <a:close/>
                <a:moveTo>
                  <a:pt x="81" y="1315"/>
                </a:moveTo>
                <a:lnTo>
                  <a:pt x="81" y="1315"/>
                </a:lnTo>
                <a:cubicBezTo>
                  <a:pt x="80" y="1328"/>
                  <a:pt x="68" y="1339"/>
                  <a:pt x="54" y="1338"/>
                </a:cubicBezTo>
                <a:cubicBezTo>
                  <a:pt x="41" y="1337"/>
                  <a:pt x="30" y="1326"/>
                  <a:pt x="31" y="1312"/>
                </a:cubicBezTo>
                <a:cubicBezTo>
                  <a:pt x="32" y="1298"/>
                  <a:pt x="44" y="1287"/>
                  <a:pt x="57" y="1288"/>
                </a:cubicBezTo>
                <a:cubicBezTo>
                  <a:pt x="71" y="1289"/>
                  <a:pt x="82" y="1301"/>
                  <a:pt x="81" y="1315"/>
                </a:cubicBezTo>
                <a:close/>
                <a:moveTo>
                  <a:pt x="75" y="1415"/>
                </a:moveTo>
                <a:lnTo>
                  <a:pt x="75" y="1415"/>
                </a:lnTo>
                <a:cubicBezTo>
                  <a:pt x="74" y="1428"/>
                  <a:pt x="63" y="1439"/>
                  <a:pt x="49" y="1438"/>
                </a:cubicBezTo>
                <a:cubicBezTo>
                  <a:pt x="35" y="1437"/>
                  <a:pt x="24" y="1425"/>
                  <a:pt x="25" y="1412"/>
                </a:cubicBezTo>
                <a:cubicBezTo>
                  <a:pt x="26" y="1398"/>
                  <a:pt x="38" y="1387"/>
                  <a:pt x="52" y="1388"/>
                </a:cubicBezTo>
                <a:cubicBezTo>
                  <a:pt x="65" y="1389"/>
                  <a:pt x="76" y="1401"/>
                  <a:pt x="75" y="1415"/>
                </a:cubicBezTo>
                <a:close/>
                <a:moveTo>
                  <a:pt x="69" y="1514"/>
                </a:moveTo>
                <a:lnTo>
                  <a:pt x="69" y="1514"/>
                </a:lnTo>
                <a:cubicBezTo>
                  <a:pt x="69" y="1528"/>
                  <a:pt x="57" y="1539"/>
                  <a:pt x="43" y="1538"/>
                </a:cubicBezTo>
                <a:cubicBezTo>
                  <a:pt x="29" y="1537"/>
                  <a:pt x="19" y="1525"/>
                  <a:pt x="20" y="1512"/>
                </a:cubicBezTo>
                <a:lnTo>
                  <a:pt x="20" y="1511"/>
                </a:lnTo>
                <a:cubicBezTo>
                  <a:pt x="20" y="1498"/>
                  <a:pt x="32" y="1487"/>
                  <a:pt x="46" y="1488"/>
                </a:cubicBezTo>
                <a:cubicBezTo>
                  <a:pt x="60" y="1489"/>
                  <a:pt x="70" y="1501"/>
                  <a:pt x="69" y="1514"/>
                </a:cubicBezTo>
                <a:close/>
                <a:moveTo>
                  <a:pt x="64" y="1614"/>
                </a:moveTo>
                <a:lnTo>
                  <a:pt x="64" y="1614"/>
                </a:lnTo>
                <a:cubicBezTo>
                  <a:pt x="64" y="1628"/>
                  <a:pt x="52" y="1638"/>
                  <a:pt x="38" y="1638"/>
                </a:cubicBezTo>
                <a:cubicBezTo>
                  <a:pt x="24" y="1637"/>
                  <a:pt x="14" y="1626"/>
                  <a:pt x="14" y="1612"/>
                </a:cubicBezTo>
                <a:cubicBezTo>
                  <a:pt x="15" y="1598"/>
                  <a:pt x="26" y="1587"/>
                  <a:pt x="40" y="1588"/>
                </a:cubicBezTo>
                <a:cubicBezTo>
                  <a:pt x="54" y="1588"/>
                  <a:pt x="65" y="1600"/>
                  <a:pt x="64" y="1614"/>
                </a:cubicBezTo>
                <a:close/>
                <a:moveTo>
                  <a:pt x="61" y="1714"/>
                </a:moveTo>
                <a:lnTo>
                  <a:pt x="61" y="1714"/>
                </a:lnTo>
                <a:cubicBezTo>
                  <a:pt x="60" y="1728"/>
                  <a:pt x="49" y="1738"/>
                  <a:pt x="35" y="1738"/>
                </a:cubicBezTo>
                <a:cubicBezTo>
                  <a:pt x="21" y="1737"/>
                  <a:pt x="10" y="1726"/>
                  <a:pt x="11" y="1712"/>
                </a:cubicBezTo>
                <a:cubicBezTo>
                  <a:pt x="11" y="1698"/>
                  <a:pt x="23" y="1687"/>
                  <a:pt x="37" y="1688"/>
                </a:cubicBezTo>
                <a:cubicBezTo>
                  <a:pt x="51" y="1688"/>
                  <a:pt x="61" y="1700"/>
                  <a:pt x="61" y="1714"/>
                </a:cubicBezTo>
                <a:close/>
                <a:moveTo>
                  <a:pt x="57" y="1814"/>
                </a:moveTo>
                <a:lnTo>
                  <a:pt x="57" y="1814"/>
                </a:lnTo>
                <a:cubicBezTo>
                  <a:pt x="57" y="1828"/>
                  <a:pt x="45" y="1838"/>
                  <a:pt x="31" y="1838"/>
                </a:cubicBezTo>
                <a:cubicBezTo>
                  <a:pt x="18" y="1837"/>
                  <a:pt x="7" y="1826"/>
                  <a:pt x="7" y="1812"/>
                </a:cubicBezTo>
                <a:cubicBezTo>
                  <a:pt x="8" y="1798"/>
                  <a:pt x="20" y="1787"/>
                  <a:pt x="33" y="1788"/>
                </a:cubicBezTo>
                <a:cubicBezTo>
                  <a:pt x="47" y="1788"/>
                  <a:pt x="58" y="1800"/>
                  <a:pt x="57" y="1814"/>
                </a:cubicBezTo>
                <a:close/>
                <a:moveTo>
                  <a:pt x="54" y="1914"/>
                </a:moveTo>
                <a:lnTo>
                  <a:pt x="54" y="1914"/>
                </a:lnTo>
                <a:cubicBezTo>
                  <a:pt x="53" y="1928"/>
                  <a:pt x="42" y="1938"/>
                  <a:pt x="28" y="1938"/>
                </a:cubicBezTo>
                <a:cubicBezTo>
                  <a:pt x="14" y="1937"/>
                  <a:pt x="4" y="1926"/>
                  <a:pt x="4" y="1912"/>
                </a:cubicBezTo>
                <a:cubicBezTo>
                  <a:pt x="5" y="1898"/>
                  <a:pt x="16" y="1887"/>
                  <a:pt x="30" y="1888"/>
                </a:cubicBezTo>
                <a:cubicBezTo>
                  <a:pt x="44" y="1888"/>
                  <a:pt x="55" y="1900"/>
                  <a:pt x="54" y="1914"/>
                </a:cubicBezTo>
                <a:close/>
                <a:moveTo>
                  <a:pt x="52" y="2013"/>
                </a:moveTo>
                <a:lnTo>
                  <a:pt x="52" y="2013"/>
                </a:lnTo>
                <a:cubicBezTo>
                  <a:pt x="52" y="2027"/>
                  <a:pt x="41" y="2038"/>
                  <a:pt x="27" y="2038"/>
                </a:cubicBezTo>
                <a:cubicBezTo>
                  <a:pt x="13" y="2038"/>
                  <a:pt x="2" y="2026"/>
                  <a:pt x="2" y="2012"/>
                </a:cubicBezTo>
                <a:lnTo>
                  <a:pt x="3" y="2012"/>
                </a:lnTo>
                <a:cubicBezTo>
                  <a:pt x="3" y="1999"/>
                  <a:pt x="14" y="1988"/>
                  <a:pt x="28" y="1988"/>
                </a:cubicBezTo>
                <a:cubicBezTo>
                  <a:pt x="42" y="1988"/>
                  <a:pt x="53" y="2000"/>
                  <a:pt x="52" y="2013"/>
                </a:cubicBezTo>
                <a:close/>
                <a:moveTo>
                  <a:pt x="51" y="2113"/>
                </a:moveTo>
                <a:lnTo>
                  <a:pt x="51" y="2113"/>
                </a:lnTo>
                <a:cubicBezTo>
                  <a:pt x="51" y="2127"/>
                  <a:pt x="40" y="2138"/>
                  <a:pt x="26" y="2138"/>
                </a:cubicBezTo>
                <a:cubicBezTo>
                  <a:pt x="12" y="2138"/>
                  <a:pt x="1" y="2126"/>
                  <a:pt x="1" y="2112"/>
                </a:cubicBezTo>
                <a:cubicBezTo>
                  <a:pt x="2" y="2099"/>
                  <a:pt x="13" y="2088"/>
                  <a:pt x="27" y="2088"/>
                </a:cubicBezTo>
                <a:cubicBezTo>
                  <a:pt x="41" y="2088"/>
                  <a:pt x="52" y="2100"/>
                  <a:pt x="51" y="2113"/>
                </a:cubicBezTo>
                <a:close/>
                <a:moveTo>
                  <a:pt x="50" y="2213"/>
                </a:moveTo>
                <a:lnTo>
                  <a:pt x="50" y="2214"/>
                </a:lnTo>
                <a:cubicBezTo>
                  <a:pt x="50" y="2227"/>
                  <a:pt x="38" y="2238"/>
                  <a:pt x="25" y="2238"/>
                </a:cubicBezTo>
                <a:cubicBezTo>
                  <a:pt x="11" y="2238"/>
                  <a:pt x="0" y="2226"/>
                  <a:pt x="0" y="2213"/>
                </a:cubicBezTo>
                <a:lnTo>
                  <a:pt x="0" y="2212"/>
                </a:lnTo>
                <a:cubicBezTo>
                  <a:pt x="0" y="2199"/>
                  <a:pt x="12" y="2188"/>
                  <a:pt x="26" y="2188"/>
                </a:cubicBezTo>
                <a:cubicBezTo>
                  <a:pt x="39" y="2188"/>
                  <a:pt x="50" y="2200"/>
                  <a:pt x="50" y="2213"/>
                </a:cubicBezTo>
                <a:close/>
                <a:moveTo>
                  <a:pt x="50" y="2313"/>
                </a:moveTo>
                <a:lnTo>
                  <a:pt x="50" y="2313"/>
                </a:lnTo>
                <a:cubicBezTo>
                  <a:pt x="50" y="2327"/>
                  <a:pt x="39" y="2338"/>
                  <a:pt x="25" y="2338"/>
                </a:cubicBezTo>
                <a:cubicBezTo>
                  <a:pt x="11" y="2338"/>
                  <a:pt x="0" y="2327"/>
                  <a:pt x="0" y="2313"/>
                </a:cubicBezTo>
                <a:cubicBezTo>
                  <a:pt x="0" y="2299"/>
                  <a:pt x="11" y="2288"/>
                  <a:pt x="25" y="2288"/>
                </a:cubicBezTo>
                <a:cubicBezTo>
                  <a:pt x="39" y="2288"/>
                  <a:pt x="50" y="2299"/>
                  <a:pt x="50" y="2313"/>
                </a:cubicBezTo>
                <a:close/>
                <a:moveTo>
                  <a:pt x="51" y="2413"/>
                </a:moveTo>
                <a:lnTo>
                  <a:pt x="51" y="2413"/>
                </a:lnTo>
                <a:cubicBezTo>
                  <a:pt x="51" y="2427"/>
                  <a:pt x="39" y="2438"/>
                  <a:pt x="26" y="2438"/>
                </a:cubicBezTo>
                <a:cubicBezTo>
                  <a:pt x="12" y="2438"/>
                  <a:pt x="1" y="2427"/>
                  <a:pt x="1" y="2413"/>
                </a:cubicBezTo>
                <a:cubicBezTo>
                  <a:pt x="1" y="2399"/>
                  <a:pt x="12" y="2388"/>
                  <a:pt x="26" y="2388"/>
                </a:cubicBezTo>
                <a:cubicBezTo>
                  <a:pt x="39" y="2388"/>
                  <a:pt x="51" y="2399"/>
                  <a:pt x="51" y="2413"/>
                </a:cubicBezTo>
                <a:close/>
                <a:moveTo>
                  <a:pt x="51" y="2513"/>
                </a:moveTo>
                <a:lnTo>
                  <a:pt x="51" y="2513"/>
                </a:lnTo>
                <a:cubicBezTo>
                  <a:pt x="51" y="2527"/>
                  <a:pt x="40" y="2538"/>
                  <a:pt x="26" y="2538"/>
                </a:cubicBezTo>
                <a:cubicBezTo>
                  <a:pt x="13" y="2538"/>
                  <a:pt x="1" y="2527"/>
                  <a:pt x="1" y="2513"/>
                </a:cubicBezTo>
                <a:cubicBezTo>
                  <a:pt x="1" y="2499"/>
                  <a:pt x="13" y="2488"/>
                  <a:pt x="26" y="2488"/>
                </a:cubicBezTo>
                <a:cubicBezTo>
                  <a:pt x="40" y="2488"/>
                  <a:pt x="51" y="2499"/>
                  <a:pt x="51" y="2513"/>
                </a:cubicBezTo>
                <a:close/>
                <a:moveTo>
                  <a:pt x="54" y="2613"/>
                </a:moveTo>
                <a:lnTo>
                  <a:pt x="54" y="2613"/>
                </a:lnTo>
                <a:cubicBezTo>
                  <a:pt x="54" y="2626"/>
                  <a:pt x="43" y="2638"/>
                  <a:pt x="29" y="2638"/>
                </a:cubicBezTo>
                <a:cubicBezTo>
                  <a:pt x="15" y="2638"/>
                  <a:pt x="4" y="2627"/>
                  <a:pt x="4" y="2614"/>
                </a:cubicBezTo>
                <a:cubicBezTo>
                  <a:pt x="4" y="2600"/>
                  <a:pt x="14" y="2588"/>
                  <a:pt x="28" y="2588"/>
                </a:cubicBezTo>
                <a:cubicBezTo>
                  <a:pt x="42" y="2588"/>
                  <a:pt x="54" y="2599"/>
                  <a:pt x="54" y="2613"/>
                </a:cubicBezTo>
                <a:close/>
                <a:moveTo>
                  <a:pt x="57" y="2713"/>
                </a:moveTo>
                <a:lnTo>
                  <a:pt x="57" y="2713"/>
                </a:lnTo>
                <a:cubicBezTo>
                  <a:pt x="57" y="2726"/>
                  <a:pt x="46" y="2738"/>
                  <a:pt x="32" y="2738"/>
                </a:cubicBezTo>
                <a:cubicBezTo>
                  <a:pt x="18" y="2738"/>
                  <a:pt x="7" y="2727"/>
                  <a:pt x="7" y="2714"/>
                </a:cubicBezTo>
                <a:cubicBezTo>
                  <a:pt x="6" y="2700"/>
                  <a:pt x="17" y="2688"/>
                  <a:pt x="31" y="2688"/>
                </a:cubicBezTo>
                <a:cubicBezTo>
                  <a:pt x="45" y="2688"/>
                  <a:pt x="56" y="2699"/>
                  <a:pt x="57" y="2713"/>
                </a:cubicBezTo>
                <a:close/>
                <a:moveTo>
                  <a:pt x="60" y="2812"/>
                </a:moveTo>
                <a:lnTo>
                  <a:pt x="60" y="2812"/>
                </a:lnTo>
                <a:cubicBezTo>
                  <a:pt x="60" y="2826"/>
                  <a:pt x="50" y="2838"/>
                  <a:pt x="36" y="2838"/>
                </a:cubicBezTo>
                <a:cubicBezTo>
                  <a:pt x="22" y="2839"/>
                  <a:pt x="10" y="2828"/>
                  <a:pt x="10" y="2814"/>
                </a:cubicBezTo>
                <a:cubicBezTo>
                  <a:pt x="9" y="2800"/>
                  <a:pt x="20" y="2789"/>
                  <a:pt x="34" y="2788"/>
                </a:cubicBezTo>
                <a:cubicBezTo>
                  <a:pt x="48" y="2788"/>
                  <a:pt x="59" y="2798"/>
                  <a:pt x="60" y="2812"/>
                </a:cubicBezTo>
                <a:close/>
                <a:moveTo>
                  <a:pt x="64" y="2912"/>
                </a:moveTo>
                <a:lnTo>
                  <a:pt x="64" y="2912"/>
                </a:lnTo>
                <a:cubicBezTo>
                  <a:pt x="64" y="2926"/>
                  <a:pt x="54" y="2938"/>
                  <a:pt x="40" y="2938"/>
                </a:cubicBezTo>
                <a:cubicBezTo>
                  <a:pt x="26" y="2939"/>
                  <a:pt x="14" y="2928"/>
                  <a:pt x="14" y="2914"/>
                </a:cubicBezTo>
                <a:cubicBezTo>
                  <a:pt x="13" y="2900"/>
                  <a:pt x="24" y="2889"/>
                  <a:pt x="38" y="2888"/>
                </a:cubicBezTo>
                <a:cubicBezTo>
                  <a:pt x="52" y="2888"/>
                  <a:pt x="63" y="2898"/>
                  <a:pt x="64" y="2912"/>
                </a:cubicBezTo>
                <a:close/>
                <a:moveTo>
                  <a:pt x="68" y="3012"/>
                </a:moveTo>
                <a:lnTo>
                  <a:pt x="68" y="3012"/>
                </a:lnTo>
                <a:cubicBezTo>
                  <a:pt x="68" y="3026"/>
                  <a:pt x="58" y="3038"/>
                  <a:pt x="44" y="3038"/>
                </a:cubicBezTo>
                <a:cubicBezTo>
                  <a:pt x="30" y="3039"/>
                  <a:pt x="18" y="3028"/>
                  <a:pt x="18" y="3014"/>
                </a:cubicBezTo>
                <a:cubicBezTo>
                  <a:pt x="17" y="3000"/>
                  <a:pt x="28" y="2989"/>
                  <a:pt x="42" y="2988"/>
                </a:cubicBezTo>
                <a:cubicBezTo>
                  <a:pt x="56" y="2988"/>
                  <a:pt x="67" y="2998"/>
                  <a:pt x="68" y="3012"/>
                </a:cubicBezTo>
                <a:close/>
                <a:moveTo>
                  <a:pt x="74" y="3111"/>
                </a:moveTo>
                <a:lnTo>
                  <a:pt x="74" y="3112"/>
                </a:lnTo>
                <a:cubicBezTo>
                  <a:pt x="74" y="3125"/>
                  <a:pt x="64" y="3137"/>
                  <a:pt x="50" y="3138"/>
                </a:cubicBezTo>
                <a:cubicBezTo>
                  <a:pt x="36" y="3139"/>
                  <a:pt x="24" y="3128"/>
                  <a:pt x="24" y="3114"/>
                </a:cubicBezTo>
                <a:cubicBezTo>
                  <a:pt x="23" y="3101"/>
                  <a:pt x="33" y="3089"/>
                  <a:pt x="47" y="3088"/>
                </a:cubicBezTo>
                <a:cubicBezTo>
                  <a:pt x="61" y="3087"/>
                  <a:pt x="73" y="3098"/>
                  <a:pt x="74" y="3111"/>
                </a:cubicBezTo>
                <a:close/>
                <a:moveTo>
                  <a:pt x="80" y="3211"/>
                </a:moveTo>
                <a:lnTo>
                  <a:pt x="80" y="3211"/>
                </a:lnTo>
                <a:cubicBezTo>
                  <a:pt x="80" y="3225"/>
                  <a:pt x="70" y="3237"/>
                  <a:pt x="56" y="3238"/>
                </a:cubicBezTo>
                <a:cubicBezTo>
                  <a:pt x="42" y="3239"/>
                  <a:pt x="30" y="3228"/>
                  <a:pt x="30" y="3214"/>
                </a:cubicBezTo>
                <a:cubicBezTo>
                  <a:pt x="29" y="3201"/>
                  <a:pt x="39" y="3189"/>
                  <a:pt x="53" y="3188"/>
                </a:cubicBezTo>
                <a:cubicBezTo>
                  <a:pt x="67" y="3187"/>
                  <a:pt x="79" y="3198"/>
                  <a:pt x="80" y="3211"/>
                </a:cubicBezTo>
                <a:close/>
                <a:moveTo>
                  <a:pt x="87" y="3311"/>
                </a:moveTo>
                <a:lnTo>
                  <a:pt x="87" y="3311"/>
                </a:lnTo>
                <a:cubicBezTo>
                  <a:pt x="88" y="3324"/>
                  <a:pt x="77" y="3337"/>
                  <a:pt x="64" y="3338"/>
                </a:cubicBezTo>
                <a:cubicBezTo>
                  <a:pt x="50" y="3339"/>
                  <a:pt x="38" y="3328"/>
                  <a:pt x="37" y="3315"/>
                </a:cubicBezTo>
                <a:cubicBezTo>
                  <a:pt x="36" y="3301"/>
                  <a:pt x="46" y="3289"/>
                  <a:pt x="60" y="3288"/>
                </a:cubicBezTo>
                <a:cubicBezTo>
                  <a:pt x="73" y="3287"/>
                  <a:pt x="85" y="3297"/>
                  <a:pt x="87" y="3311"/>
                </a:cubicBezTo>
                <a:close/>
                <a:moveTo>
                  <a:pt x="95" y="3410"/>
                </a:moveTo>
                <a:lnTo>
                  <a:pt x="95" y="3410"/>
                </a:lnTo>
                <a:cubicBezTo>
                  <a:pt x="96" y="3424"/>
                  <a:pt x="85" y="3436"/>
                  <a:pt x="72" y="3437"/>
                </a:cubicBezTo>
                <a:cubicBezTo>
                  <a:pt x="58" y="3438"/>
                  <a:pt x="46" y="3428"/>
                  <a:pt x="45" y="3414"/>
                </a:cubicBezTo>
                <a:cubicBezTo>
                  <a:pt x="44" y="3401"/>
                  <a:pt x="54" y="3389"/>
                  <a:pt x="68" y="3387"/>
                </a:cubicBezTo>
                <a:cubicBezTo>
                  <a:pt x="81" y="3386"/>
                  <a:pt x="93" y="3397"/>
                  <a:pt x="95" y="3410"/>
                </a:cubicBezTo>
                <a:close/>
                <a:moveTo>
                  <a:pt x="103" y="3510"/>
                </a:moveTo>
                <a:lnTo>
                  <a:pt x="103" y="3510"/>
                </a:lnTo>
                <a:cubicBezTo>
                  <a:pt x="104" y="3523"/>
                  <a:pt x="94" y="3536"/>
                  <a:pt x="81" y="3537"/>
                </a:cubicBezTo>
                <a:cubicBezTo>
                  <a:pt x="67" y="3538"/>
                  <a:pt x="55" y="3528"/>
                  <a:pt x="53" y="3515"/>
                </a:cubicBezTo>
                <a:lnTo>
                  <a:pt x="53" y="3514"/>
                </a:lnTo>
                <a:cubicBezTo>
                  <a:pt x="52" y="3501"/>
                  <a:pt x="62" y="3489"/>
                  <a:pt x="76" y="3487"/>
                </a:cubicBezTo>
                <a:cubicBezTo>
                  <a:pt x="89" y="3486"/>
                  <a:pt x="102" y="3496"/>
                  <a:pt x="103" y="3510"/>
                </a:cubicBezTo>
                <a:close/>
                <a:moveTo>
                  <a:pt x="113" y="3609"/>
                </a:moveTo>
                <a:lnTo>
                  <a:pt x="113" y="3609"/>
                </a:lnTo>
                <a:cubicBezTo>
                  <a:pt x="114" y="3623"/>
                  <a:pt x="104" y="3635"/>
                  <a:pt x="90" y="3637"/>
                </a:cubicBezTo>
                <a:cubicBezTo>
                  <a:pt x="77" y="3638"/>
                  <a:pt x="64" y="3628"/>
                  <a:pt x="63" y="3614"/>
                </a:cubicBezTo>
                <a:cubicBezTo>
                  <a:pt x="62" y="3600"/>
                  <a:pt x="72" y="3588"/>
                  <a:pt x="85" y="3587"/>
                </a:cubicBezTo>
                <a:cubicBezTo>
                  <a:pt x="99" y="3585"/>
                  <a:pt x="111" y="3595"/>
                  <a:pt x="113" y="3609"/>
                </a:cubicBezTo>
                <a:close/>
                <a:moveTo>
                  <a:pt x="123" y="3708"/>
                </a:moveTo>
                <a:lnTo>
                  <a:pt x="123" y="3708"/>
                </a:lnTo>
                <a:cubicBezTo>
                  <a:pt x="125" y="3722"/>
                  <a:pt x="115" y="3734"/>
                  <a:pt x="101" y="3736"/>
                </a:cubicBezTo>
                <a:cubicBezTo>
                  <a:pt x="87" y="3738"/>
                  <a:pt x="75" y="3728"/>
                  <a:pt x="73" y="3714"/>
                </a:cubicBezTo>
                <a:cubicBezTo>
                  <a:pt x="72" y="3700"/>
                  <a:pt x="81" y="3688"/>
                  <a:pt x="95" y="3686"/>
                </a:cubicBezTo>
                <a:cubicBezTo>
                  <a:pt x="109" y="3685"/>
                  <a:pt x="121" y="3694"/>
                  <a:pt x="123" y="3708"/>
                </a:cubicBezTo>
                <a:close/>
                <a:moveTo>
                  <a:pt x="135" y="3807"/>
                </a:moveTo>
                <a:lnTo>
                  <a:pt x="135" y="3808"/>
                </a:lnTo>
                <a:cubicBezTo>
                  <a:pt x="137" y="3821"/>
                  <a:pt x="127" y="3834"/>
                  <a:pt x="113" y="3835"/>
                </a:cubicBezTo>
                <a:cubicBezTo>
                  <a:pt x="100" y="3837"/>
                  <a:pt x="87" y="3827"/>
                  <a:pt x="86" y="3813"/>
                </a:cubicBezTo>
                <a:cubicBezTo>
                  <a:pt x="84" y="3800"/>
                  <a:pt x="94" y="3787"/>
                  <a:pt x="108" y="3786"/>
                </a:cubicBezTo>
                <a:cubicBezTo>
                  <a:pt x="121" y="3784"/>
                  <a:pt x="134" y="3794"/>
                  <a:pt x="135" y="3807"/>
                </a:cubicBezTo>
                <a:close/>
                <a:moveTo>
                  <a:pt x="148" y="3906"/>
                </a:moveTo>
                <a:lnTo>
                  <a:pt x="148" y="3906"/>
                </a:lnTo>
                <a:cubicBezTo>
                  <a:pt x="150" y="3920"/>
                  <a:pt x="140" y="3933"/>
                  <a:pt x="127" y="3934"/>
                </a:cubicBezTo>
                <a:cubicBezTo>
                  <a:pt x="113" y="3936"/>
                  <a:pt x="100" y="3927"/>
                  <a:pt x="98" y="3913"/>
                </a:cubicBezTo>
                <a:cubicBezTo>
                  <a:pt x="96" y="3899"/>
                  <a:pt x="106" y="3887"/>
                  <a:pt x="120" y="3885"/>
                </a:cubicBezTo>
                <a:cubicBezTo>
                  <a:pt x="133" y="3883"/>
                  <a:pt x="146" y="3893"/>
                  <a:pt x="148" y="3906"/>
                </a:cubicBezTo>
                <a:close/>
                <a:moveTo>
                  <a:pt x="162" y="4005"/>
                </a:moveTo>
                <a:lnTo>
                  <a:pt x="162" y="4005"/>
                </a:lnTo>
                <a:cubicBezTo>
                  <a:pt x="164" y="4019"/>
                  <a:pt x="155" y="4032"/>
                  <a:pt x="141" y="4033"/>
                </a:cubicBezTo>
                <a:cubicBezTo>
                  <a:pt x="127" y="4035"/>
                  <a:pt x="115" y="4026"/>
                  <a:pt x="113" y="4012"/>
                </a:cubicBezTo>
                <a:cubicBezTo>
                  <a:pt x="111" y="3998"/>
                  <a:pt x="120" y="3986"/>
                  <a:pt x="134" y="3984"/>
                </a:cubicBezTo>
                <a:cubicBezTo>
                  <a:pt x="148" y="3982"/>
                  <a:pt x="160" y="3992"/>
                  <a:pt x="162" y="4005"/>
                </a:cubicBezTo>
                <a:close/>
                <a:moveTo>
                  <a:pt x="177" y="4103"/>
                </a:moveTo>
                <a:lnTo>
                  <a:pt x="177" y="4103"/>
                </a:lnTo>
                <a:cubicBezTo>
                  <a:pt x="180" y="4117"/>
                  <a:pt x="171" y="4130"/>
                  <a:pt x="157" y="4132"/>
                </a:cubicBezTo>
                <a:cubicBezTo>
                  <a:pt x="144" y="4135"/>
                  <a:pt x="131" y="4126"/>
                  <a:pt x="128" y="4112"/>
                </a:cubicBezTo>
                <a:cubicBezTo>
                  <a:pt x="126" y="4098"/>
                  <a:pt x="135" y="4085"/>
                  <a:pt x="148" y="4083"/>
                </a:cubicBezTo>
                <a:cubicBezTo>
                  <a:pt x="162" y="4080"/>
                  <a:pt x="175" y="4089"/>
                  <a:pt x="177" y="4103"/>
                </a:cubicBezTo>
                <a:close/>
                <a:moveTo>
                  <a:pt x="195" y="4202"/>
                </a:moveTo>
                <a:lnTo>
                  <a:pt x="195" y="4202"/>
                </a:lnTo>
                <a:cubicBezTo>
                  <a:pt x="198" y="4215"/>
                  <a:pt x="189" y="4228"/>
                  <a:pt x="175" y="4231"/>
                </a:cubicBezTo>
                <a:cubicBezTo>
                  <a:pt x="162" y="4233"/>
                  <a:pt x="149" y="4224"/>
                  <a:pt x="146" y="4210"/>
                </a:cubicBezTo>
                <a:cubicBezTo>
                  <a:pt x="144" y="4197"/>
                  <a:pt x="153" y="4184"/>
                  <a:pt x="166" y="4181"/>
                </a:cubicBezTo>
                <a:cubicBezTo>
                  <a:pt x="180" y="4179"/>
                  <a:pt x="193" y="4188"/>
                  <a:pt x="195" y="4202"/>
                </a:cubicBezTo>
                <a:close/>
                <a:moveTo>
                  <a:pt x="215" y="4299"/>
                </a:moveTo>
                <a:lnTo>
                  <a:pt x="215" y="4299"/>
                </a:lnTo>
                <a:cubicBezTo>
                  <a:pt x="218" y="4312"/>
                  <a:pt x="209" y="4326"/>
                  <a:pt x="196" y="4329"/>
                </a:cubicBezTo>
                <a:cubicBezTo>
                  <a:pt x="182" y="4331"/>
                  <a:pt x="169" y="4323"/>
                  <a:pt x="166" y="4309"/>
                </a:cubicBezTo>
                <a:cubicBezTo>
                  <a:pt x="163" y="4296"/>
                  <a:pt x="172" y="4282"/>
                  <a:pt x="185" y="4280"/>
                </a:cubicBezTo>
                <a:cubicBezTo>
                  <a:pt x="199" y="4277"/>
                  <a:pt x="212" y="4285"/>
                  <a:pt x="215" y="4299"/>
                </a:cubicBezTo>
                <a:close/>
                <a:moveTo>
                  <a:pt x="236" y="4397"/>
                </a:moveTo>
                <a:lnTo>
                  <a:pt x="236" y="4397"/>
                </a:lnTo>
                <a:cubicBezTo>
                  <a:pt x="239" y="4410"/>
                  <a:pt x="230" y="4424"/>
                  <a:pt x="217" y="4426"/>
                </a:cubicBezTo>
                <a:cubicBezTo>
                  <a:pt x="203" y="4429"/>
                  <a:pt x="190" y="4421"/>
                  <a:pt x="187" y="4407"/>
                </a:cubicBezTo>
                <a:cubicBezTo>
                  <a:pt x="184" y="4393"/>
                  <a:pt x="193" y="4380"/>
                  <a:pt x="206" y="4377"/>
                </a:cubicBezTo>
                <a:cubicBezTo>
                  <a:pt x="220" y="4375"/>
                  <a:pt x="233" y="4383"/>
                  <a:pt x="236" y="4397"/>
                </a:cubicBezTo>
                <a:close/>
                <a:moveTo>
                  <a:pt x="261" y="4493"/>
                </a:moveTo>
                <a:lnTo>
                  <a:pt x="261" y="4493"/>
                </a:lnTo>
                <a:cubicBezTo>
                  <a:pt x="264" y="4506"/>
                  <a:pt x="256" y="4520"/>
                  <a:pt x="243" y="4523"/>
                </a:cubicBezTo>
                <a:cubicBezTo>
                  <a:pt x="229" y="4526"/>
                  <a:pt x="216" y="4518"/>
                  <a:pt x="212" y="4505"/>
                </a:cubicBezTo>
                <a:cubicBezTo>
                  <a:pt x="209" y="4491"/>
                  <a:pt x="217" y="4478"/>
                  <a:pt x="230" y="4475"/>
                </a:cubicBezTo>
                <a:cubicBezTo>
                  <a:pt x="244" y="4471"/>
                  <a:pt x="257" y="4479"/>
                  <a:pt x="261" y="4493"/>
                </a:cubicBezTo>
                <a:close/>
                <a:moveTo>
                  <a:pt x="289" y="4587"/>
                </a:moveTo>
                <a:lnTo>
                  <a:pt x="289" y="4587"/>
                </a:lnTo>
                <a:cubicBezTo>
                  <a:pt x="293" y="4600"/>
                  <a:pt x="286" y="4614"/>
                  <a:pt x="273" y="4618"/>
                </a:cubicBezTo>
                <a:cubicBezTo>
                  <a:pt x="260" y="4623"/>
                  <a:pt x="246" y="4616"/>
                  <a:pt x="241" y="4602"/>
                </a:cubicBezTo>
                <a:cubicBezTo>
                  <a:pt x="237" y="4589"/>
                  <a:pt x="244" y="4575"/>
                  <a:pt x="257" y="4571"/>
                </a:cubicBezTo>
                <a:cubicBezTo>
                  <a:pt x="270" y="4566"/>
                  <a:pt x="284" y="4574"/>
                  <a:pt x="289" y="4587"/>
                </a:cubicBezTo>
                <a:close/>
                <a:moveTo>
                  <a:pt x="322" y="4679"/>
                </a:moveTo>
                <a:lnTo>
                  <a:pt x="322" y="4679"/>
                </a:lnTo>
                <a:cubicBezTo>
                  <a:pt x="327" y="4692"/>
                  <a:pt x="321" y="4707"/>
                  <a:pt x="308" y="4712"/>
                </a:cubicBezTo>
                <a:cubicBezTo>
                  <a:pt x="295" y="4717"/>
                  <a:pt x="281" y="4711"/>
                  <a:pt x="275" y="4698"/>
                </a:cubicBezTo>
                <a:cubicBezTo>
                  <a:pt x="270" y="4685"/>
                  <a:pt x="276" y="4671"/>
                  <a:pt x="289" y="4666"/>
                </a:cubicBezTo>
                <a:cubicBezTo>
                  <a:pt x="302" y="4660"/>
                  <a:pt x="317" y="4667"/>
                  <a:pt x="322" y="4679"/>
                </a:cubicBezTo>
                <a:close/>
                <a:moveTo>
                  <a:pt x="362" y="4767"/>
                </a:moveTo>
                <a:lnTo>
                  <a:pt x="362" y="4767"/>
                </a:lnTo>
                <a:cubicBezTo>
                  <a:pt x="369" y="4779"/>
                  <a:pt x="365" y="4794"/>
                  <a:pt x="353" y="4801"/>
                </a:cubicBezTo>
                <a:cubicBezTo>
                  <a:pt x="341" y="4808"/>
                  <a:pt x="325" y="4804"/>
                  <a:pt x="318" y="4792"/>
                </a:cubicBezTo>
                <a:cubicBezTo>
                  <a:pt x="312" y="4780"/>
                  <a:pt x="316" y="4765"/>
                  <a:pt x="328" y="4758"/>
                </a:cubicBezTo>
                <a:cubicBezTo>
                  <a:pt x="339" y="4751"/>
                  <a:pt x="355" y="4755"/>
                  <a:pt x="362" y="4767"/>
                </a:cubicBezTo>
                <a:close/>
                <a:moveTo>
                  <a:pt x="413" y="4845"/>
                </a:moveTo>
                <a:lnTo>
                  <a:pt x="413" y="4845"/>
                </a:lnTo>
                <a:cubicBezTo>
                  <a:pt x="423" y="4855"/>
                  <a:pt x="423" y="4870"/>
                  <a:pt x="413" y="4880"/>
                </a:cubicBezTo>
                <a:cubicBezTo>
                  <a:pt x="403" y="4890"/>
                  <a:pt x="388" y="4890"/>
                  <a:pt x="378" y="4880"/>
                </a:cubicBezTo>
                <a:cubicBezTo>
                  <a:pt x="368" y="4870"/>
                  <a:pt x="368" y="4855"/>
                  <a:pt x="378" y="4845"/>
                </a:cubicBezTo>
                <a:cubicBezTo>
                  <a:pt x="388" y="4835"/>
                  <a:pt x="403" y="4835"/>
                  <a:pt x="413" y="4845"/>
                </a:cubicBezTo>
                <a:close/>
              </a:path>
            </a:pathLst>
          </a:custGeom>
          <a:solidFill>
            <a:srgbClr val="000000"/>
          </a:solidFill>
          <a:ln w="468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390" name="Freeform 21"/>
          <p:cNvSpPr/>
          <p:nvPr/>
        </p:nvSpPr>
        <p:spPr>
          <a:xfrm>
            <a:off x="4125960" y="2946240"/>
            <a:ext cx="129960" cy="1484640"/>
          </a:xfrm>
          <a:custGeom>
            <a:avLst/>
            <a:gdLst>
              <a:gd name="textAreaLeft" fmla="*/ 0 w 129960"/>
              <a:gd name="textAreaRight" fmla="*/ 130320 w 129960"/>
              <a:gd name="textAreaTop" fmla="*/ 0 h 1484640"/>
              <a:gd name="textAreaBottom" fmla="*/ 1485000 h 1484640"/>
            </a:gdLst>
            <a:ahLst/>
            <a:rect l="textAreaLeft" t="textAreaTop" r="textAreaRight" b="textAreaBottom"/>
            <a:pathLst>
              <a:path w="82" h="935">
                <a:moveTo>
                  <a:pt x="41" y="935"/>
                </a:moveTo>
                <a:cubicBezTo>
                  <a:pt x="67" y="843"/>
                  <a:pt x="82" y="680"/>
                  <a:pt x="82" y="505"/>
                </a:cubicBezTo>
                <a:cubicBezTo>
                  <a:pt x="82" y="237"/>
                  <a:pt x="46" y="15"/>
                  <a:pt x="0" y="0"/>
                </a:cubicBezTo>
              </a:path>
            </a:pathLst>
          </a:custGeom>
          <a:noFill/>
          <a:ln cap="rnd"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</p:spTree>
  </p:cSld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0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9" dur="2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mukaan di R</a:t>
            </a:r>
            <a:r>
              <a:rPr b="0" lang="en-US" sz="44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533160" y="1371600"/>
            <a:ext cx="8305560" cy="49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Calibri"/>
              </a:rPr>
              <a:t>4.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iperboloida berdaun dua, mempunyai bentuk umum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AE1F1-4C84-4683-BBD3-36EA880BF78D}" type="datetime">
              <a:rPr b="0" lang="en-US" sz="1200" spc="-1" strike="noStrike">
                <a:solidFill>
                  <a:srgbClr val="898989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394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Verdana"/>
              </a:rPr>
              <a:t>[MA 1124]</a:t>
            </a:r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Verdana"/>
              </a:rPr>
              <a:t>KALKULUS II</a:t>
            </a:r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39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5ECCA-1932-4686-A8E4-AA6F901B6D61}" type="slidenum">
              <a:rPr b="0" lang="en-US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6" name="Object 4"/>
              <p:cNvSpPr txBox="1"/>
              <p:nvPr/>
            </p:nvSpPr>
            <p:spPr>
              <a:xfrm>
                <a:off x="3911760" y="1905120"/>
                <a:ext cx="2412720" cy="87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 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 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 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 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 </m:t>
                        </m:r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97" name="Rectangle 5"/>
          <p:cNvSpPr/>
          <p:nvPr/>
        </p:nvSpPr>
        <p:spPr>
          <a:xfrm>
            <a:off x="6553800" y="2133000"/>
            <a:ext cx="15858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Arial"/>
                <a:ea typeface="Times New Roman"/>
              </a:rPr>
              <a:t>, a, b, c &gt; 0</a:t>
            </a:r>
            <a:r>
              <a:rPr b="0" lang="en-US" sz="2100" spc="-1" strike="noStrike">
                <a:solidFill>
                  <a:srgbClr val="336699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8" name="Object 6"/>
              <p:cNvSpPr txBox="1"/>
              <p:nvPr/>
            </p:nvSpPr>
            <p:spPr>
              <a:xfrm>
                <a:off x="4432320" y="3324240"/>
                <a:ext cx="1498680" cy="78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 </m:t>
                    </m:r>
                    <m:f>
                      <m:num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99" name="Rectangle 7"/>
          <p:cNvSpPr/>
          <p:nvPr/>
        </p:nvSpPr>
        <p:spPr>
          <a:xfrm>
            <a:off x="716400" y="3474360"/>
            <a:ext cx="38901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Arial"/>
                <a:ea typeface="Times New Roman"/>
              </a:rPr>
              <a:t>Jejak di bidang XOY,  z = 0 </a:t>
            </a:r>
            <a:r>
              <a:rPr b="0" lang="en-US" sz="2100" spc="-1" strike="noStrike">
                <a:solidFill>
                  <a:srgbClr val="336699"/>
                </a:solidFill>
                <a:latin typeface="Wingdings"/>
                <a:ea typeface="Wingdings"/>
              </a:rPr>
              <a:t>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  <a:ea typeface="Times New Roman"/>
              </a:rPr>
              <a:t>  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400" name="Rectangle 8"/>
          <p:cNvSpPr/>
          <p:nvPr/>
        </p:nvSpPr>
        <p:spPr>
          <a:xfrm>
            <a:off x="5890320" y="3513240"/>
            <a:ext cx="27334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 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, berupa  Hiperbolik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1" name="Object 9"/>
              <p:cNvSpPr txBox="1"/>
              <p:nvPr/>
            </p:nvSpPr>
            <p:spPr>
              <a:xfrm>
                <a:off x="4443480" y="4162320"/>
                <a:ext cx="1474560" cy="78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 </m:t>
                    </m:r>
                    <m:f>
                      <m:num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02" name="Rectangle 10"/>
          <p:cNvSpPr/>
          <p:nvPr/>
        </p:nvSpPr>
        <p:spPr>
          <a:xfrm>
            <a:off x="716760" y="4312800"/>
            <a:ext cx="38746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Arial"/>
                <a:ea typeface="Times New Roman"/>
              </a:rPr>
              <a:t>Jejak di bidang XOZ,  y = 0 </a:t>
            </a:r>
            <a:r>
              <a:rPr b="0" lang="en-US" sz="2100" spc="-1" strike="noStrike">
                <a:solidFill>
                  <a:srgbClr val="336699"/>
                </a:solidFill>
                <a:latin typeface="Wingdings"/>
                <a:ea typeface="Wingdings"/>
              </a:rPr>
              <a:t>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  <a:ea typeface="Times New Roman"/>
              </a:rPr>
              <a:t>  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403" name="Rectangle 11"/>
          <p:cNvSpPr/>
          <p:nvPr/>
        </p:nvSpPr>
        <p:spPr>
          <a:xfrm>
            <a:off x="5890320" y="4351320"/>
            <a:ext cx="27334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 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, berupa  Hiperbolik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4" name="Object 12"/>
              <p:cNvSpPr txBox="1"/>
              <p:nvPr/>
            </p:nvSpPr>
            <p:spPr>
              <a:xfrm>
                <a:off x="4352760" y="4861080"/>
                <a:ext cx="1662120" cy="78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 </m:t>
                    </m:r>
                    <m:f>
                      <m:num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05" name="Rectangle 13"/>
          <p:cNvSpPr/>
          <p:nvPr/>
        </p:nvSpPr>
        <p:spPr>
          <a:xfrm>
            <a:off x="720000" y="5011200"/>
            <a:ext cx="38746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Arial"/>
                <a:ea typeface="Times New Roman"/>
              </a:rPr>
              <a:t>Jejak di bidang YOZ,  x = 0 </a:t>
            </a:r>
            <a:r>
              <a:rPr b="0" lang="en-US" sz="2100" spc="-1" strike="noStrike">
                <a:solidFill>
                  <a:srgbClr val="336699"/>
                </a:solidFill>
                <a:latin typeface="Wingdings"/>
                <a:ea typeface="Wingdings"/>
              </a:rPr>
              <a:t>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  <a:ea typeface="Times New Roman"/>
              </a:rPr>
              <a:t>  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406" name="Rectangle 14"/>
          <p:cNvSpPr/>
          <p:nvPr/>
        </p:nvSpPr>
        <p:spPr>
          <a:xfrm>
            <a:off x="5927400" y="5049720"/>
            <a:ext cx="21956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 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, tidak ada jejak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7" name="Object 15"/>
              <p:cNvSpPr txBox="1"/>
              <p:nvPr/>
            </p:nvSpPr>
            <p:spPr>
              <a:xfrm>
                <a:off x="685800" y="2697120"/>
                <a:ext cx="2114640" cy="79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 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 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 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 </m:t>
                        </m:r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 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 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08" name="Rectangle 16"/>
          <p:cNvSpPr/>
          <p:nvPr/>
        </p:nvSpPr>
        <p:spPr>
          <a:xfrm>
            <a:off x="3151800" y="2831400"/>
            <a:ext cx="52264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Arial"/>
                <a:ea typeface="Times New Roman"/>
              </a:rPr>
              <a:t>, 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maka terdefinisi saat x </a:t>
            </a:r>
            <a:r>
              <a:rPr b="0" lang="en-US" sz="2100" spc="-1" strike="noStrike">
                <a:solidFill>
                  <a:srgbClr val="336699"/>
                </a:solidFill>
                <a:latin typeface="Symbol"/>
                <a:ea typeface="Symbol"/>
              </a:rPr>
              <a:t>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 - a atau x </a:t>
            </a:r>
            <a:r>
              <a:rPr b="0" lang="en-US" sz="2100" spc="-1" strike="noStrike">
                <a:solidFill>
                  <a:srgbClr val="336699"/>
                </a:solidFill>
                <a:latin typeface="Symbol"/>
                <a:ea typeface="Symbol"/>
              </a:rPr>
              <a:t>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 a 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409" name="Rectangle 17"/>
          <p:cNvSpPr/>
          <p:nvPr/>
        </p:nvSpPr>
        <p:spPr>
          <a:xfrm>
            <a:off x="1357200" y="5544720"/>
            <a:ext cx="68709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Jejak di bidang,  x = k (konstanta),  k &gt; a  atau  k &lt; - a , 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berupa  ellips 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</p:spTree>
  </p:cSld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nodeType="clickEffect" fill="hold">
                      <p:stCondLst>
                        <p:cond delay="0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2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7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9" dur="1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4" dur="1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6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1" dur="1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6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1" dur="1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1T04:34:32Z</dcterms:created>
  <dc:creator>Selma</dc:creator>
  <dc:description/>
  <dc:language>en-US</dc:language>
  <cp:lastModifiedBy>SONY</cp:lastModifiedBy>
  <dcterms:modified xsi:type="dcterms:W3CDTF">2014-04-11T03:09:02Z</dcterms:modified>
  <cp:revision>167</cp:revision>
  <dc:subject/>
  <dc:title>Your Headline Here </dc:title>
</cp:coreProperties>
</file>