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6AA8-9B4F-4CF5-91F8-3F0137613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046A-01AF-47CB-B770-30853D1E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451A-3304-4921-BA65-634B3F03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3EFF-4BCD-4038-84A2-FBCA33FCF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8F5B-3EFF-45A5-99D2-D52E65473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B63F-AD2E-4290-B54B-15CFF76C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2357-00DB-4BC1-BDED-9C9FA550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E6E5-BE55-45F4-81D7-223666B2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0C4C-B040-4027-A493-7D465A17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8440-61F8-4F7C-9DE8-2CE0BDCB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72EC-5156-48A5-8092-9893FFBE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0658-EFCE-44D4-B952-4824DF2A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6BFA-AE84-476B-AAC0-455EB4F9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D686-5264-421B-B306-8C421E70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F355-F73D-4EFE-9F30-543FED79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44AE-587F-43C3-B05F-7B3870487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DAF3-27D4-4E6D-BE84-ECD7945AC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1205-DD03-445C-8491-CEE81601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5669-A560-48D6-962B-FC365503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138B32-7CCD-4221-9F81-A6476BD1A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E30E-1BE7-4F45-BA94-50BA274A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933CB7-559F-45A3-B977-BDC58029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064D16-AC9E-4448-B9B9-855DE623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B804DC-FF60-4725-849B-2023F148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56A395-7FFA-4F8A-93F7-3CC16532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9CA8BC-4142-489C-9563-9596FF13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AB1DB0-DB1C-469F-BFE9-E4EB0937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AC8653-22F6-402D-A578-B064039E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3DDD72-7472-4FCB-B483-9CED402C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864996-9F03-45AC-AD00-E249E132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48D5DA-FEC1-4EA6-9A7C-E271D901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C658-C0AF-4EC8-AB6A-F57AAA0E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54D726-8B7C-4E84-8744-B7C84D804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83931C-72DE-4BCA-9A38-F993C01FF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11FF19-94E5-413D-ADDB-9F02CFA2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3477F9-CE19-46B1-A6F6-4656006B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0C0613-3BE2-44FD-B28C-90D8B7ED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BA9231-8B37-41E6-A023-B902C493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B842E7-DB9F-4757-A1C0-C5A7F2C1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09FAB3-66E9-4904-A7AE-0E0CDCFF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85B886-8E03-4FEF-9E02-11EF2AE6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C8B47F-54FB-44AE-BDE9-308AB0EF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4C1C-7EC9-498F-A387-E2A1BAB7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C9AE91-1647-44B7-8341-B8F56AA4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86452B-B197-4C5E-BE21-A6CCC973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333BEC-989E-4BBC-BF22-25DCDA2CD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4C27-842F-4F91-A935-4F24EA4D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0776-A02C-40B5-8ADD-F41401DB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305000"/>
            <a:ext cx="830592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3366"/>
              </a:buClr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3366"/>
              </a:buClr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336699"/>
              </a:buClr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336699"/>
              </a:buClr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5CD4-73B3-4A24-AF71-119AB848227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[MA 1124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KALKULUS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3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2AFE-9970-4F27-BA1C-7F1D5F1BF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logosttt"/>
          <p:cNvPicPr/>
          <p:nvPr/>
        </p:nvPicPr>
        <p:blipFill>
          <a:blip r:embed="rId3"/>
          <a:stretch/>
        </p:blipFill>
        <p:spPr>
          <a:xfrm>
            <a:off x="8191440" y="304920"/>
            <a:ext cx="723960" cy="8287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-380880" y="457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2FB9-126F-4831-8922-61072765634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[MA 112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KALKULU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2BA4-D29F-4B04-A09D-7D72CEFA96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7" descr="logosttt"/>
          <p:cNvPicPr/>
          <p:nvPr/>
        </p:nvPicPr>
        <p:blipFill>
          <a:blip r:embed="rId2"/>
          <a:stretch/>
        </p:blipFill>
        <p:spPr>
          <a:xfrm>
            <a:off x="8191440" y="304920"/>
            <a:ext cx="723960" cy="82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logosttt"/>
          <p:cNvPicPr/>
          <p:nvPr/>
        </p:nvPicPr>
        <p:blipFill>
          <a:blip r:embed="rId3">
            <a:lum contrast="-28000"/>
          </a:blip>
          <a:stretch/>
        </p:blipFill>
        <p:spPr>
          <a:xfrm>
            <a:off x="190440" y="304920"/>
            <a:ext cx="723960" cy="828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901800" y="520560"/>
            <a:ext cx="426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Program Perkuliahan Dasar Umum</a:t>
            </a: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Sekolah Tinggi Teknologi Telkom</a:t>
            </a: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09480" y="1305000"/>
            <a:ext cx="830592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3366"/>
              </a:buClr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3366"/>
              </a:buClr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336699"/>
              </a:buClr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336699"/>
              </a:buClr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3124080" y="6229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[MA1124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KALKULUS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logosttt"/>
          <p:cNvPicPr/>
          <p:nvPr/>
        </p:nvPicPr>
        <p:blipFill>
          <a:blip r:embed="rId3">
            <a:lum contrast="-28000"/>
          </a:blip>
          <a:stretch/>
        </p:blipFill>
        <p:spPr>
          <a:xfrm>
            <a:off x="190440" y="304920"/>
            <a:ext cx="723960" cy="8287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901800" y="520560"/>
            <a:ext cx="426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Program Perkuliahan Dasar Umum</a:t>
            </a: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Sekolah Tinggi Teknologi Telkom</a:t>
            </a: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8"/>
          </p:nvPr>
        </p:nvSpPr>
        <p:spPr>
          <a:xfrm>
            <a:off x="3124080" y="6229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Times New Roman"/>
              </a:rPr>
              <a:t>[MA1124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Times New Roman"/>
              </a:rPr>
              <a:t>KALKULU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logosttt"/>
          <p:cNvPicPr/>
          <p:nvPr/>
        </p:nvPicPr>
        <p:blipFill>
          <a:blip r:embed="rId2"/>
          <a:stretch/>
        </p:blipFill>
        <p:spPr>
          <a:xfrm>
            <a:off x="8191440" y="304920"/>
            <a:ext cx="723960" cy="8287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380B-8E0F-436A-A78E-E8FAFA3E774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[MA 112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KALKULU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3058-A483-4CD1-82B3-EB7D950018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7" descr="logosttt"/>
          <p:cNvPicPr/>
          <p:nvPr/>
        </p:nvPicPr>
        <p:blipFill>
          <a:blip r:embed="rId2"/>
          <a:stretch/>
        </p:blipFill>
        <p:spPr>
          <a:xfrm>
            <a:off x="8191440" y="304920"/>
            <a:ext cx="723960" cy="8287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C1A9-4FF3-4928-9F33-0A1855826B3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[MA 112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KALKULU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A225-DDEA-41AB-B7D8-B084745CDC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48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Fungsi Dua Peubah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3124080" y="6229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[MA1124] 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mbar Hiperbolik Berdaun Du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135D-D4AD-4E2F-875D-5D58A57841FE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FA87-983F-4E85-BE62-382584781A1F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14" name="Freeform 5"/>
          <p:cNvSpPr/>
          <p:nvPr/>
        </p:nvSpPr>
        <p:spPr>
          <a:xfrm>
            <a:off x="5079960" y="2755800"/>
            <a:ext cx="635040" cy="1166760"/>
          </a:xfrm>
          <a:custGeom>
            <a:avLst/>
            <a:gdLst>
              <a:gd name="textAreaLeft" fmla="*/ 0 w 635040"/>
              <a:gd name="textAreaRight" fmla="*/ 635040 w 635040"/>
              <a:gd name="textAreaTop" fmla="*/ 0 h 1166760"/>
              <a:gd name="textAreaBottom" fmla="*/ 1167120 h 1166760"/>
            </a:gdLst>
            <a:ahLst/>
            <a:rect l="textAreaLeft" t="textAreaTop" r="textAreaRight" b="textAreaBottom"/>
            <a:pathLst>
              <a:path w="400" h="735">
                <a:moveTo>
                  <a:pt x="400" y="712"/>
                </a:moveTo>
                <a:cubicBezTo>
                  <a:pt x="335" y="696"/>
                  <a:pt x="16" y="735"/>
                  <a:pt x="8" y="616"/>
                </a:cubicBezTo>
                <a:cubicBezTo>
                  <a:pt x="0" y="497"/>
                  <a:pt x="280" y="128"/>
                  <a:pt x="3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15" name="Freeform 6"/>
          <p:cNvSpPr/>
          <p:nvPr/>
        </p:nvSpPr>
        <p:spPr>
          <a:xfrm>
            <a:off x="3686040" y="4056120"/>
            <a:ext cx="628920" cy="1138320"/>
          </a:xfrm>
          <a:custGeom>
            <a:avLst/>
            <a:gdLst>
              <a:gd name="textAreaLeft" fmla="*/ 0 w 628920"/>
              <a:gd name="textAreaRight" fmla="*/ 629280 w 628920"/>
              <a:gd name="textAreaTop" fmla="*/ 0 h 1138320"/>
              <a:gd name="textAreaBottom" fmla="*/ 1138680 h 1138320"/>
            </a:gdLst>
            <a:ahLst/>
            <a:rect l="textAreaLeft" t="textAreaTop" r="textAreaRight" b="textAreaBottom"/>
            <a:pathLst>
              <a:path w="396" h="717">
                <a:moveTo>
                  <a:pt x="0" y="20"/>
                </a:moveTo>
                <a:cubicBezTo>
                  <a:pt x="65" y="36"/>
                  <a:pt x="388" y="0"/>
                  <a:pt x="392" y="116"/>
                </a:cubicBezTo>
                <a:cubicBezTo>
                  <a:pt x="396" y="232"/>
                  <a:pt x="101" y="592"/>
                  <a:pt x="24" y="71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16" name="AutoShape 7"/>
          <p:cNvSpPr/>
          <p:nvPr/>
        </p:nvSpPr>
        <p:spPr>
          <a:xfrm>
            <a:off x="2209680" y="2098800"/>
            <a:ext cx="571500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17" name="Rectangle 9"/>
          <p:cNvSpPr/>
          <p:nvPr/>
        </p:nvSpPr>
        <p:spPr>
          <a:xfrm>
            <a:off x="2269800" y="209880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18" name="Rectangle 15"/>
          <p:cNvSpPr/>
          <p:nvPr/>
        </p:nvSpPr>
        <p:spPr>
          <a:xfrm>
            <a:off x="2449080" y="484488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6699"/>
              </a:solidFill>
              <a:latin typeface="Verdana"/>
            </a:endParaRPr>
          </a:p>
        </p:txBody>
      </p:sp>
      <p:grpSp>
        <p:nvGrpSpPr>
          <p:cNvPr id="419" name="Group 24"/>
          <p:cNvGrpSpPr/>
          <p:nvPr/>
        </p:nvGrpSpPr>
        <p:grpSpPr>
          <a:xfrm>
            <a:off x="2525400" y="2193840"/>
            <a:ext cx="5026680" cy="3162240"/>
            <a:chOff x="2525400" y="2193840"/>
            <a:chExt cx="5026680" cy="3162240"/>
          </a:xfrm>
        </p:grpSpPr>
        <p:sp>
          <p:nvSpPr>
            <p:cNvPr id="420" name="Freeform 10"/>
            <p:cNvSpPr/>
            <p:nvPr/>
          </p:nvSpPr>
          <p:spPr>
            <a:xfrm>
              <a:off x="4599000" y="2270160"/>
              <a:ext cx="149040" cy="30859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3085920"/>
                <a:gd name="textAreaBottom" fmla="*/ 3086280 h 3085920"/>
              </a:gdLst>
              <a:ahLst/>
              <a:rect l="textAreaLeft" t="textAreaTop" r="textAreaRight" b="textAreaBottom"/>
              <a:pathLst>
                <a:path w="400" h="8250">
                  <a:moveTo>
                    <a:pt x="167" y="8217"/>
                  </a:moveTo>
                  <a:lnTo>
                    <a:pt x="167" y="333"/>
                  </a:lnTo>
                  <a:cubicBezTo>
                    <a:pt x="167" y="315"/>
                    <a:pt x="182" y="300"/>
                    <a:pt x="200" y="300"/>
                  </a:cubicBezTo>
                  <a:cubicBezTo>
                    <a:pt x="219" y="300"/>
                    <a:pt x="233" y="315"/>
                    <a:pt x="233" y="333"/>
                  </a:cubicBezTo>
                  <a:lnTo>
                    <a:pt x="233" y="8217"/>
                  </a:lnTo>
                  <a:cubicBezTo>
                    <a:pt x="233" y="8235"/>
                    <a:pt x="219" y="8250"/>
                    <a:pt x="200" y="8250"/>
                  </a:cubicBezTo>
                  <a:cubicBezTo>
                    <a:pt x="182" y="8250"/>
                    <a:pt x="167" y="8235"/>
                    <a:pt x="167" y="8217"/>
                  </a:cubicBezTo>
                  <a:close/>
                  <a:moveTo>
                    <a:pt x="0" y="400"/>
                  </a:moveTo>
                  <a:lnTo>
                    <a:pt x="200" y="0"/>
                  </a:lnTo>
                  <a:lnTo>
                    <a:pt x="400" y="40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421" name="Freeform 11"/>
            <p:cNvSpPr/>
            <p:nvPr/>
          </p:nvSpPr>
          <p:spPr>
            <a:xfrm>
              <a:off x="2867040" y="3922560"/>
              <a:ext cx="4275000" cy="149400"/>
            </a:xfrm>
            <a:custGeom>
              <a:avLst/>
              <a:gdLst>
                <a:gd name="textAreaLeft" fmla="*/ 0 w 4275000"/>
                <a:gd name="textAreaRight" fmla="*/ 4275360 w 427500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11433" h="400">
                  <a:moveTo>
                    <a:pt x="33" y="166"/>
                  </a:moveTo>
                  <a:lnTo>
                    <a:pt x="11100" y="166"/>
                  </a:lnTo>
                  <a:cubicBezTo>
                    <a:pt x="11118" y="166"/>
                    <a:pt x="11133" y="181"/>
                    <a:pt x="11133" y="200"/>
                  </a:cubicBezTo>
                  <a:cubicBezTo>
                    <a:pt x="11133" y="218"/>
                    <a:pt x="11118" y="233"/>
                    <a:pt x="11100" y="233"/>
                  </a:cubicBezTo>
                  <a:lnTo>
                    <a:pt x="33" y="233"/>
                  </a:lnTo>
                  <a:cubicBezTo>
                    <a:pt x="15" y="233"/>
                    <a:pt x="0" y="218"/>
                    <a:pt x="0" y="200"/>
                  </a:cubicBezTo>
                  <a:cubicBezTo>
                    <a:pt x="0" y="181"/>
                    <a:pt x="15" y="166"/>
                    <a:pt x="33" y="166"/>
                  </a:cubicBezTo>
                  <a:close/>
                  <a:moveTo>
                    <a:pt x="11033" y="0"/>
                  </a:moveTo>
                  <a:lnTo>
                    <a:pt x="11433" y="200"/>
                  </a:lnTo>
                  <a:lnTo>
                    <a:pt x="11033" y="400"/>
                  </a:lnTo>
                  <a:lnTo>
                    <a:pt x="1103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422" name="Freeform 12"/>
            <p:cNvSpPr/>
            <p:nvPr/>
          </p:nvSpPr>
          <p:spPr>
            <a:xfrm>
              <a:off x="2666880" y="3110040"/>
              <a:ext cx="3505320" cy="2077920"/>
            </a:xfrm>
            <a:custGeom>
              <a:avLst/>
              <a:gdLst>
                <a:gd name="textAreaLeft" fmla="*/ 0 w 3505320"/>
                <a:gd name="textAreaRight" fmla="*/ 3505680 w 3505320"/>
                <a:gd name="textAreaTop" fmla="*/ 0 h 2077920"/>
                <a:gd name="textAreaBottom" fmla="*/ 2078280 h 2077920"/>
              </a:gdLst>
              <a:ahLst/>
              <a:rect l="textAreaLeft" t="textAreaTop" r="textAreaRight" b="textAreaBottom"/>
              <a:pathLst>
                <a:path w="9372" h="5555">
                  <a:moveTo>
                    <a:pt x="9350" y="67"/>
                  </a:moveTo>
                  <a:lnTo>
                    <a:pt x="304" y="5414"/>
                  </a:lnTo>
                  <a:cubicBezTo>
                    <a:pt x="288" y="5424"/>
                    <a:pt x="268" y="5418"/>
                    <a:pt x="258" y="5402"/>
                  </a:cubicBezTo>
                  <a:cubicBezTo>
                    <a:pt x="249" y="5387"/>
                    <a:pt x="254" y="5366"/>
                    <a:pt x="270" y="5357"/>
                  </a:cubicBezTo>
                  <a:lnTo>
                    <a:pt x="9317" y="10"/>
                  </a:lnTo>
                  <a:cubicBezTo>
                    <a:pt x="9332" y="0"/>
                    <a:pt x="9353" y="6"/>
                    <a:pt x="9362" y="22"/>
                  </a:cubicBezTo>
                  <a:cubicBezTo>
                    <a:pt x="9372" y="37"/>
                    <a:pt x="9366" y="58"/>
                    <a:pt x="9350" y="67"/>
                  </a:cubicBezTo>
                  <a:close/>
                  <a:moveTo>
                    <a:pt x="446" y="5524"/>
                  </a:moveTo>
                  <a:lnTo>
                    <a:pt x="0" y="5555"/>
                  </a:lnTo>
                  <a:lnTo>
                    <a:pt x="243" y="5179"/>
                  </a:lnTo>
                  <a:lnTo>
                    <a:pt x="446" y="5524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423" name="Rectangle 13"/>
            <p:cNvSpPr/>
            <p:nvPr/>
          </p:nvSpPr>
          <p:spPr>
            <a:xfrm>
              <a:off x="4416120" y="219384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424" name="Rectangle 14"/>
            <p:cNvSpPr/>
            <p:nvPr/>
          </p:nvSpPr>
          <p:spPr>
            <a:xfrm>
              <a:off x="4597200" y="219384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425" name="Rectangle 16"/>
            <p:cNvSpPr/>
            <p:nvPr/>
          </p:nvSpPr>
          <p:spPr>
            <a:xfrm>
              <a:off x="2525400" y="486900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2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426" name="Rectangle 17"/>
            <p:cNvSpPr/>
            <p:nvPr/>
          </p:nvSpPr>
          <p:spPr>
            <a:xfrm>
              <a:off x="2661840" y="486900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427" name="Rectangle 18"/>
            <p:cNvSpPr/>
            <p:nvPr/>
          </p:nvSpPr>
          <p:spPr>
            <a:xfrm>
              <a:off x="7259400" y="384012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428" name="Rectangle 19"/>
            <p:cNvSpPr/>
            <p:nvPr/>
          </p:nvSpPr>
          <p:spPr>
            <a:xfrm>
              <a:off x="7475040" y="384012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336699"/>
                </a:solidFill>
                <a:latin typeface="Verdana"/>
              </a:endParaRPr>
            </a:p>
          </p:txBody>
        </p:sp>
      </p:grpSp>
      <p:sp>
        <p:nvSpPr>
          <p:cNvPr id="429" name="Oval 20"/>
          <p:cNvSpPr/>
          <p:nvPr/>
        </p:nvSpPr>
        <p:spPr>
          <a:xfrm>
            <a:off x="3308400" y="4089240"/>
            <a:ext cx="569880" cy="1122480"/>
          </a:xfrm>
          <a:prstGeom prst="ellipse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30" name="Freeform 21"/>
          <p:cNvSpPr/>
          <p:nvPr/>
        </p:nvSpPr>
        <p:spPr>
          <a:xfrm>
            <a:off x="5459400" y="2733840"/>
            <a:ext cx="569880" cy="1139760"/>
          </a:xfrm>
          <a:custGeom>
            <a:avLst/>
            <a:gdLst>
              <a:gd name="textAreaLeft" fmla="*/ 0 w 569880"/>
              <a:gd name="textAreaRight" fmla="*/ 570240 w 569880"/>
              <a:gd name="textAreaTop" fmla="*/ 0 h 1139760"/>
              <a:gd name="textAreaBottom" fmla="*/ 1140120 h 1139760"/>
            </a:gdLst>
            <a:ahLst/>
            <a:rect l="textAreaLeft" t="textAreaTop" r="textAreaRight" b="textAreaBottom"/>
            <a:pathLst>
              <a:path w="1526" h="3045">
                <a:moveTo>
                  <a:pt x="787" y="51"/>
                </a:moveTo>
                <a:lnTo>
                  <a:pt x="787" y="51"/>
                </a:lnTo>
                <a:cubicBezTo>
                  <a:pt x="773" y="50"/>
                  <a:pt x="763" y="37"/>
                  <a:pt x="765" y="24"/>
                </a:cubicBezTo>
                <a:cubicBezTo>
                  <a:pt x="766" y="10"/>
                  <a:pt x="779" y="0"/>
                  <a:pt x="792" y="1"/>
                </a:cubicBezTo>
                <a:cubicBezTo>
                  <a:pt x="806" y="3"/>
                  <a:pt x="816" y="15"/>
                  <a:pt x="815" y="29"/>
                </a:cubicBezTo>
                <a:cubicBezTo>
                  <a:pt x="813" y="43"/>
                  <a:pt x="801" y="53"/>
                  <a:pt x="787" y="51"/>
                </a:cubicBezTo>
                <a:close/>
                <a:moveTo>
                  <a:pt x="693" y="56"/>
                </a:moveTo>
                <a:lnTo>
                  <a:pt x="693" y="56"/>
                </a:lnTo>
                <a:cubicBezTo>
                  <a:pt x="679" y="57"/>
                  <a:pt x="667" y="47"/>
                  <a:pt x="665" y="34"/>
                </a:cubicBezTo>
                <a:cubicBezTo>
                  <a:pt x="664" y="20"/>
                  <a:pt x="674" y="8"/>
                  <a:pt x="688" y="6"/>
                </a:cubicBezTo>
                <a:cubicBezTo>
                  <a:pt x="701" y="5"/>
                  <a:pt x="714" y="15"/>
                  <a:pt x="715" y="29"/>
                </a:cubicBezTo>
                <a:cubicBezTo>
                  <a:pt x="717" y="42"/>
                  <a:pt x="707" y="55"/>
                  <a:pt x="693" y="56"/>
                </a:cubicBezTo>
                <a:close/>
                <a:moveTo>
                  <a:pt x="607" y="85"/>
                </a:moveTo>
                <a:lnTo>
                  <a:pt x="607" y="85"/>
                </a:lnTo>
                <a:cubicBezTo>
                  <a:pt x="595" y="92"/>
                  <a:pt x="580" y="87"/>
                  <a:pt x="574" y="75"/>
                </a:cubicBezTo>
                <a:cubicBezTo>
                  <a:pt x="567" y="62"/>
                  <a:pt x="572" y="47"/>
                  <a:pt x="584" y="41"/>
                </a:cubicBezTo>
                <a:cubicBezTo>
                  <a:pt x="597" y="35"/>
                  <a:pt x="612" y="39"/>
                  <a:pt x="618" y="52"/>
                </a:cubicBezTo>
                <a:cubicBezTo>
                  <a:pt x="624" y="64"/>
                  <a:pt x="620" y="79"/>
                  <a:pt x="607" y="85"/>
                </a:cubicBezTo>
                <a:close/>
                <a:moveTo>
                  <a:pt x="526" y="135"/>
                </a:moveTo>
                <a:lnTo>
                  <a:pt x="526" y="135"/>
                </a:lnTo>
                <a:cubicBezTo>
                  <a:pt x="515" y="143"/>
                  <a:pt x="499" y="141"/>
                  <a:pt x="491" y="130"/>
                </a:cubicBezTo>
                <a:cubicBezTo>
                  <a:pt x="482" y="119"/>
                  <a:pt x="485" y="103"/>
                  <a:pt x="496" y="95"/>
                </a:cubicBezTo>
                <a:cubicBezTo>
                  <a:pt x="507" y="87"/>
                  <a:pt x="522" y="89"/>
                  <a:pt x="531" y="100"/>
                </a:cubicBezTo>
                <a:cubicBezTo>
                  <a:pt x="539" y="111"/>
                  <a:pt x="537" y="127"/>
                  <a:pt x="526" y="135"/>
                </a:cubicBezTo>
                <a:close/>
                <a:moveTo>
                  <a:pt x="453" y="199"/>
                </a:moveTo>
                <a:lnTo>
                  <a:pt x="453" y="199"/>
                </a:lnTo>
                <a:cubicBezTo>
                  <a:pt x="443" y="208"/>
                  <a:pt x="427" y="208"/>
                  <a:pt x="418" y="198"/>
                </a:cubicBezTo>
                <a:cubicBezTo>
                  <a:pt x="408" y="188"/>
                  <a:pt x="408" y="172"/>
                  <a:pt x="418" y="163"/>
                </a:cubicBezTo>
                <a:cubicBezTo>
                  <a:pt x="428" y="153"/>
                  <a:pt x="444" y="153"/>
                  <a:pt x="453" y="163"/>
                </a:cubicBezTo>
                <a:cubicBezTo>
                  <a:pt x="463" y="173"/>
                  <a:pt x="463" y="189"/>
                  <a:pt x="453" y="199"/>
                </a:cubicBezTo>
                <a:close/>
                <a:moveTo>
                  <a:pt x="389" y="272"/>
                </a:moveTo>
                <a:lnTo>
                  <a:pt x="389" y="272"/>
                </a:lnTo>
                <a:cubicBezTo>
                  <a:pt x="380" y="283"/>
                  <a:pt x="364" y="284"/>
                  <a:pt x="354" y="275"/>
                </a:cubicBezTo>
                <a:cubicBezTo>
                  <a:pt x="343" y="266"/>
                  <a:pt x="342" y="251"/>
                  <a:pt x="350" y="240"/>
                </a:cubicBezTo>
                <a:cubicBezTo>
                  <a:pt x="359" y="229"/>
                  <a:pt x="375" y="228"/>
                  <a:pt x="386" y="237"/>
                </a:cubicBezTo>
                <a:cubicBezTo>
                  <a:pt x="396" y="246"/>
                  <a:pt x="398" y="261"/>
                  <a:pt x="389" y="272"/>
                </a:cubicBezTo>
                <a:close/>
                <a:moveTo>
                  <a:pt x="333" y="352"/>
                </a:moveTo>
                <a:lnTo>
                  <a:pt x="333" y="352"/>
                </a:lnTo>
                <a:cubicBezTo>
                  <a:pt x="325" y="363"/>
                  <a:pt x="310" y="366"/>
                  <a:pt x="298" y="358"/>
                </a:cubicBezTo>
                <a:cubicBezTo>
                  <a:pt x="287" y="351"/>
                  <a:pt x="284" y="335"/>
                  <a:pt x="292" y="324"/>
                </a:cubicBezTo>
                <a:cubicBezTo>
                  <a:pt x="299" y="312"/>
                  <a:pt x="315" y="309"/>
                  <a:pt x="326" y="317"/>
                </a:cubicBezTo>
                <a:cubicBezTo>
                  <a:pt x="338" y="325"/>
                  <a:pt x="341" y="340"/>
                  <a:pt x="333" y="352"/>
                </a:cubicBezTo>
                <a:close/>
                <a:moveTo>
                  <a:pt x="284" y="436"/>
                </a:moveTo>
                <a:lnTo>
                  <a:pt x="284" y="436"/>
                </a:lnTo>
                <a:cubicBezTo>
                  <a:pt x="277" y="448"/>
                  <a:pt x="262" y="453"/>
                  <a:pt x="250" y="446"/>
                </a:cubicBezTo>
                <a:cubicBezTo>
                  <a:pt x="238" y="439"/>
                  <a:pt x="233" y="424"/>
                  <a:pt x="240" y="412"/>
                </a:cubicBezTo>
                <a:cubicBezTo>
                  <a:pt x="247" y="400"/>
                  <a:pt x="262" y="396"/>
                  <a:pt x="274" y="402"/>
                </a:cubicBezTo>
                <a:cubicBezTo>
                  <a:pt x="286" y="409"/>
                  <a:pt x="291" y="424"/>
                  <a:pt x="284" y="436"/>
                </a:cubicBezTo>
                <a:close/>
                <a:moveTo>
                  <a:pt x="241" y="524"/>
                </a:moveTo>
                <a:lnTo>
                  <a:pt x="241" y="524"/>
                </a:lnTo>
                <a:cubicBezTo>
                  <a:pt x="235" y="537"/>
                  <a:pt x="220" y="542"/>
                  <a:pt x="208" y="537"/>
                </a:cubicBezTo>
                <a:cubicBezTo>
                  <a:pt x="195" y="531"/>
                  <a:pt x="190" y="516"/>
                  <a:pt x="195" y="504"/>
                </a:cubicBezTo>
                <a:cubicBezTo>
                  <a:pt x="201" y="491"/>
                  <a:pt x="216" y="485"/>
                  <a:pt x="228" y="491"/>
                </a:cubicBezTo>
                <a:cubicBezTo>
                  <a:pt x="241" y="497"/>
                  <a:pt x="247" y="512"/>
                  <a:pt x="241" y="524"/>
                </a:cubicBezTo>
                <a:close/>
                <a:moveTo>
                  <a:pt x="203" y="615"/>
                </a:moveTo>
                <a:lnTo>
                  <a:pt x="203" y="615"/>
                </a:lnTo>
                <a:cubicBezTo>
                  <a:pt x="198" y="628"/>
                  <a:pt x="184" y="635"/>
                  <a:pt x="171" y="630"/>
                </a:cubicBezTo>
                <a:cubicBezTo>
                  <a:pt x="158" y="625"/>
                  <a:pt x="152" y="611"/>
                  <a:pt x="156" y="598"/>
                </a:cubicBezTo>
                <a:cubicBezTo>
                  <a:pt x="161" y="585"/>
                  <a:pt x="176" y="578"/>
                  <a:pt x="189" y="583"/>
                </a:cubicBezTo>
                <a:cubicBezTo>
                  <a:pt x="202" y="588"/>
                  <a:pt x="208" y="602"/>
                  <a:pt x="203" y="615"/>
                </a:cubicBezTo>
                <a:close/>
                <a:moveTo>
                  <a:pt x="170" y="708"/>
                </a:moveTo>
                <a:lnTo>
                  <a:pt x="170" y="708"/>
                </a:lnTo>
                <a:cubicBezTo>
                  <a:pt x="166" y="721"/>
                  <a:pt x="152" y="728"/>
                  <a:pt x="139" y="724"/>
                </a:cubicBezTo>
                <a:cubicBezTo>
                  <a:pt x="125" y="720"/>
                  <a:pt x="118" y="706"/>
                  <a:pt x="122" y="693"/>
                </a:cubicBezTo>
                <a:cubicBezTo>
                  <a:pt x="126" y="680"/>
                  <a:pt x="140" y="673"/>
                  <a:pt x="153" y="677"/>
                </a:cubicBezTo>
                <a:cubicBezTo>
                  <a:pt x="166" y="681"/>
                  <a:pt x="174" y="695"/>
                  <a:pt x="170" y="708"/>
                </a:cubicBezTo>
                <a:close/>
                <a:moveTo>
                  <a:pt x="141" y="804"/>
                </a:moveTo>
                <a:lnTo>
                  <a:pt x="141" y="804"/>
                </a:lnTo>
                <a:cubicBezTo>
                  <a:pt x="137" y="817"/>
                  <a:pt x="123" y="824"/>
                  <a:pt x="110" y="820"/>
                </a:cubicBezTo>
                <a:cubicBezTo>
                  <a:pt x="97" y="816"/>
                  <a:pt x="89" y="802"/>
                  <a:pt x="93" y="789"/>
                </a:cubicBezTo>
                <a:cubicBezTo>
                  <a:pt x="97" y="776"/>
                  <a:pt x="111" y="768"/>
                  <a:pt x="124" y="772"/>
                </a:cubicBezTo>
                <a:cubicBezTo>
                  <a:pt x="138" y="776"/>
                  <a:pt x="145" y="790"/>
                  <a:pt x="141" y="804"/>
                </a:cubicBezTo>
                <a:close/>
                <a:moveTo>
                  <a:pt x="118" y="899"/>
                </a:moveTo>
                <a:lnTo>
                  <a:pt x="118" y="899"/>
                </a:lnTo>
                <a:cubicBezTo>
                  <a:pt x="114" y="913"/>
                  <a:pt x="101" y="921"/>
                  <a:pt x="87" y="918"/>
                </a:cubicBezTo>
                <a:cubicBezTo>
                  <a:pt x="74" y="915"/>
                  <a:pt x="66" y="901"/>
                  <a:pt x="69" y="888"/>
                </a:cubicBezTo>
                <a:cubicBezTo>
                  <a:pt x="72" y="874"/>
                  <a:pt x="86" y="866"/>
                  <a:pt x="99" y="869"/>
                </a:cubicBezTo>
                <a:cubicBezTo>
                  <a:pt x="113" y="872"/>
                  <a:pt x="121" y="886"/>
                  <a:pt x="118" y="899"/>
                </a:cubicBezTo>
                <a:close/>
                <a:moveTo>
                  <a:pt x="98" y="996"/>
                </a:moveTo>
                <a:lnTo>
                  <a:pt x="98" y="996"/>
                </a:lnTo>
                <a:cubicBezTo>
                  <a:pt x="95" y="1010"/>
                  <a:pt x="82" y="1019"/>
                  <a:pt x="68" y="1016"/>
                </a:cubicBezTo>
                <a:cubicBezTo>
                  <a:pt x="55" y="1013"/>
                  <a:pt x="46" y="1000"/>
                  <a:pt x="49" y="987"/>
                </a:cubicBezTo>
                <a:lnTo>
                  <a:pt x="49" y="986"/>
                </a:lnTo>
                <a:cubicBezTo>
                  <a:pt x="51" y="973"/>
                  <a:pt x="64" y="964"/>
                  <a:pt x="78" y="967"/>
                </a:cubicBezTo>
                <a:cubicBezTo>
                  <a:pt x="91" y="970"/>
                  <a:pt x="100" y="983"/>
                  <a:pt x="98" y="996"/>
                </a:cubicBezTo>
                <a:close/>
                <a:moveTo>
                  <a:pt x="81" y="1093"/>
                </a:moveTo>
                <a:lnTo>
                  <a:pt x="81" y="1093"/>
                </a:lnTo>
                <a:cubicBezTo>
                  <a:pt x="79" y="1107"/>
                  <a:pt x="66" y="1117"/>
                  <a:pt x="52" y="1115"/>
                </a:cubicBezTo>
                <a:cubicBezTo>
                  <a:pt x="39" y="1113"/>
                  <a:pt x="29" y="1100"/>
                  <a:pt x="31" y="1087"/>
                </a:cubicBezTo>
                <a:cubicBezTo>
                  <a:pt x="33" y="1073"/>
                  <a:pt x="46" y="1063"/>
                  <a:pt x="59" y="1065"/>
                </a:cubicBezTo>
                <a:cubicBezTo>
                  <a:pt x="73" y="1067"/>
                  <a:pt x="83" y="1080"/>
                  <a:pt x="81" y="1093"/>
                </a:cubicBezTo>
                <a:close/>
                <a:moveTo>
                  <a:pt x="68" y="1193"/>
                </a:moveTo>
                <a:lnTo>
                  <a:pt x="68" y="1193"/>
                </a:lnTo>
                <a:cubicBezTo>
                  <a:pt x="66" y="1206"/>
                  <a:pt x="54" y="1216"/>
                  <a:pt x="40" y="1214"/>
                </a:cubicBezTo>
                <a:cubicBezTo>
                  <a:pt x="26" y="1212"/>
                  <a:pt x="17" y="1200"/>
                  <a:pt x="19" y="1186"/>
                </a:cubicBezTo>
                <a:cubicBezTo>
                  <a:pt x="21" y="1172"/>
                  <a:pt x="33" y="1163"/>
                  <a:pt x="47" y="1164"/>
                </a:cubicBezTo>
                <a:cubicBezTo>
                  <a:pt x="61" y="1166"/>
                  <a:pt x="70" y="1179"/>
                  <a:pt x="68" y="1193"/>
                </a:cubicBezTo>
                <a:close/>
                <a:moveTo>
                  <a:pt x="59" y="1291"/>
                </a:moveTo>
                <a:lnTo>
                  <a:pt x="59" y="1291"/>
                </a:lnTo>
                <a:cubicBezTo>
                  <a:pt x="58" y="1305"/>
                  <a:pt x="46" y="1315"/>
                  <a:pt x="33" y="1314"/>
                </a:cubicBezTo>
                <a:cubicBezTo>
                  <a:pt x="19" y="1313"/>
                  <a:pt x="8" y="1301"/>
                  <a:pt x="10" y="1287"/>
                </a:cubicBezTo>
                <a:cubicBezTo>
                  <a:pt x="11" y="1273"/>
                  <a:pt x="23" y="1263"/>
                  <a:pt x="36" y="1264"/>
                </a:cubicBezTo>
                <a:cubicBezTo>
                  <a:pt x="50" y="1265"/>
                  <a:pt x="60" y="1277"/>
                  <a:pt x="59" y="1291"/>
                </a:cubicBezTo>
                <a:close/>
                <a:moveTo>
                  <a:pt x="53" y="1390"/>
                </a:moveTo>
                <a:lnTo>
                  <a:pt x="53" y="1390"/>
                </a:lnTo>
                <a:cubicBezTo>
                  <a:pt x="52" y="1403"/>
                  <a:pt x="41" y="1414"/>
                  <a:pt x="27" y="1414"/>
                </a:cubicBezTo>
                <a:cubicBezTo>
                  <a:pt x="13" y="1413"/>
                  <a:pt x="2" y="1402"/>
                  <a:pt x="3" y="1388"/>
                </a:cubicBezTo>
                <a:cubicBezTo>
                  <a:pt x="4" y="1374"/>
                  <a:pt x="15" y="1363"/>
                  <a:pt x="29" y="1364"/>
                </a:cubicBezTo>
                <a:cubicBezTo>
                  <a:pt x="43" y="1364"/>
                  <a:pt x="54" y="1376"/>
                  <a:pt x="53" y="1390"/>
                </a:cubicBezTo>
                <a:close/>
                <a:moveTo>
                  <a:pt x="50" y="1490"/>
                </a:moveTo>
                <a:lnTo>
                  <a:pt x="50" y="1490"/>
                </a:lnTo>
                <a:cubicBezTo>
                  <a:pt x="50" y="1503"/>
                  <a:pt x="38" y="1514"/>
                  <a:pt x="24" y="1514"/>
                </a:cubicBezTo>
                <a:cubicBezTo>
                  <a:pt x="11" y="1513"/>
                  <a:pt x="0" y="1502"/>
                  <a:pt x="0" y="1488"/>
                </a:cubicBezTo>
                <a:cubicBezTo>
                  <a:pt x="1" y="1474"/>
                  <a:pt x="13" y="1463"/>
                  <a:pt x="26" y="1464"/>
                </a:cubicBezTo>
                <a:cubicBezTo>
                  <a:pt x="40" y="1464"/>
                  <a:pt x="51" y="1476"/>
                  <a:pt x="50" y="1490"/>
                </a:cubicBezTo>
                <a:close/>
                <a:moveTo>
                  <a:pt x="51" y="1588"/>
                </a:moveTo>
                <a:lnTo>
                  <a:pt x="51" y="1588"/>
                </a:lnTo>
                <a:cubicBezTo>
                  <a:pt x="51" y="1602"/>
                  <a:pt x="40" y="1613"/>
                  <a:pt x="27" y="1614"/>
                </a:cubicBezTo>
                <a:cubicBezTo>
                  <a:pt x="13" y="1614"/>
                  <a:pt x="1" y="1603"/>
                  <a:pt x="1" y="1589"/>
                </a:cubicBezTo>
                <a:cubicBezTo>
                  <a:pt x="1" y="1575"/>
                  <a:pt x="12" y="1564"/>
                  <a:pt x="26" y="1564"/>
                </a:cubicBezTo>
                <a:cubicBezTo>
                  <a:pt x="39" y="1563"/>
                  <a:pt x="51" y="1574"/>
                  <a:pt x="51" y="1588"/>
                </a:cubicBezTo>
                <a:close/>
                <a:moveTo>
                  <a:pt x="54" y="1687"/>
                </a:moveTo>
                <a:lnTo>
                  <a:pt x="54" y="1687"/>
                </a:lnTo>
                <a:cubicBezTo>
                  <a:pt x="55" y="1701"/>
                  <a:pt x="45" y="1713"/>
                  <a:pt x="31" y="1714"/>
                </a:cubicBezTo>
                <a:cubicBezTo>
                  <a:pt x="17" y="1714"/>
                  <a:pt x="5" y="1704"/>
                  <a:pt x="4" y="1690"/>
                </a:cubicBezTo>
                <a:cubicBezTo>
                  <a:pt x="4" y="1676"/>
                  <a:pt x="14" y="1665"/>
                  <a:pt x="28" y="1664"/>
                </a:cubicBezTo>
                <a:cubicBezTo>
                  <a:pt x="42" y="1663"/>
                  <a:pt x="54" y="1673"/>
                  <a:pt x="54" y="1687"/>
                </a:cubicBezTo>
                <a:close/>
                <a:moveTo>
                  <a:pt x="62" y="1787"/>
                </a:moveTo>
                <a:lnTo>
                  <a:pt x="62" y="1787"/>
                </a:lnTo>
                <a:cubicBezTo>
                  <a:pt x="63" y="1801"/>
                  <a:pt x="52" y="1813"/>
                  <a:pt x="38" y="1813"/>
                </a:cubicBezTo>
                <a:cubicBezTo>
                  <a:pt x="24" y="1814"/>
                  <a:pt x="13" y="1804"/>
                  <a:pt x="12" y="1790"/>
                </a:cubicBezTo>
                <a:cubicBezTo>
                  <a:pt x="11" y="1776"/>
                  <a:pt x="21" y="1764"/>
                  <a:pt x="35" y="1763"/>
                </a:cubicBezTo>
                <a:cubicBezTo>
                  <a:pt x="49" y="1763"/>
                  <a:pt x="61" y="1773"/>
                  <a:pt x="62" y="1787"/>
                </a:cubicBezTo>
                <a:close/>
                <a:moveTo>
                  <a:pt x="72" y="1885"/>
                </a:moveTo>
                <a:lnTo>
                  <a:pt x="72" y="1885"/>
                </a:lnTo>
                <a:cubicBezTo>
                  <a:pt x="74" y="1899"/>
                  <a:pt x="64" y="1911"/>
                  <a:pt x="50" y="1913"/>
                </a:cubicBezTo>
                <a:cubicBezTo>
                  <a:pt x="37" y="1914"/>
                  <a:pt x="24" y="1905"/>
                  <a:pt x="22" y="1891"/>
                </a:cubicBezTo>
                <a:cubicBezTo>
                  <a:pt x="21" y="1877"/>
                  <a:pt x="31" y="1865"/>
                  <a:pt x="44" y="1863"/>
                </a:cubicBezTo>
                <a:cubicBezTo>
                  <a:pt x="58" y="1861"/>
                  <a:pt x="70" y="1871"/>
                  <a:pt x="72" y="1885"/>
                </a:cubicBezTo>
                <a:close/>
                <a:moveTo>
                  <a:pt x="85" y="1983"/>
                </a:moveTo>
                <a:lnTo>
                  <a:pt x="85" y="1983"/>
                </a:lnTo>
                <a:cubicBezTo>
                  <a:pt x="88" y="1996"/>
                  <a:pt x="79" y="2009"/>
                  <a:pt x="65" y="2012"/>
                </a:cubicBezTo>
                <a:cubicBezTo>
                  <a:pt x="51" y="2014"/>
                  <a:pt x="38" y="2005"/>
                  <a:pt x="36" y="1991"/>
                </a:cubicBezTo>
                <a:cubicBezTo>
                  <a:pt x="34" y="1978"/>
                  <a:pt x="43" y="1965"/>
                  <a:pt x="56" y="1962"/>
                </a:cubicBezTo>
                <a:cubicBezTo>
                  <a:pt x="70" y="1960"/>
                  <a:pt x="83" y="1969"/>
                  <a:pt x="85" y="1983"/>
                </a:cubicBezTo>
                <a:close/>
                <a:moveTo>
                  <a:pt x="103" y="2081"/>
                </a:moveTo>
                <a:lnTo>
                  <a:pt x="103" y="2081"/>
                </a:lnTo>
                <a:cubicBezTo>
                  <a:pt x="106" y="2095"/>
                  <a:pt x="96" y="2108"/>
                  <a:pt x="83" y="2110"/>
                </a:cubicBezTo>
                <a:cubicBezTo>
                  <a:pt x="69" y="2113"/>
                  <a:pt x="56" y="2104"/>
                  <a:pt x="54" y="2090"/>
                </a:cubicBezTo>
                <a:cubicBezTo>
                  <a:pt x="51" y="2076"/>
                  <a:pt x="60" y="2063"/>
                  <a:pt x="74" y="2061"/>
                </a:cubicBezTo>
                <a:cubicBezTo>
                  <a:pt x="88" y="2058"/>
                  <a:pt x="101" y="2067"/>
                  <a:pt x="103" y="2081"/>
                </a:cubicBezTo>
                <a:close/>
                <a:moveTo>
                  <a:pt x="125" y="2178"/>
                </a:moveTo>
                <a:lnTo>
                  <a:pt x="125" y="2178"/>
                </a:lnTo>
                <a:cubicBezTo>
                  <a:pt x="128" y="2191"/>
                  <a:pt x="119" y="2205"/>
                  <a:pt x="106" y="2208"/>
                </a:cubicBezTo>
                <a:cubicBezTo>
                  <a:pt x="92" y="2211"/>
                  <a:pt x="79" y="2202"/>
                  <a:pt x="76" y="2189"/>
                </a:cubicBezTo>
                <a:lnTo>
                  <a:pt x="76" y="2188"/>
                </a:lnTo>
                <a:cubicBezTo>
                  <a:pt x="73" y="2175"/>
                  <a:pt x="81" y="2162"/>
                  <a:pt x="95" y="2159"/>
                </a:cubicBezTo>
                <a:cubicBezTo>
                  <a:pt x="108" y="2156"/>
                  <a:pt x="122" y="2164"/>
                  <a:pt x="125" y="2178"/>
                </a:cubicBezTo>
                <a:close/>
                <a:moveTo>
                  <a:pt x="150" y="2273"/>
                </a:moveTo>
                <a:lnTo>
                  <a:pt x="150" y="2273"/>
                </a:lnTo>
                <a:cubicBezTo>
                  <a:pt x="154" y="2286"/>
                  <a:pt x="146" y="2300"/>
                  <a:pt x="133" y="2304"/>
                </a:cubicBezTo>
                <a:cubicBezTo>
                  <a:pt x="119" y="2308"/>
                  <a:pt x="106" y="2300"/>
                  <a:pt x="102" y="2287"/>
                </a:cubicBezTo>
                <a:cubicBezTo>
                  <a:pt x="98" y="2273"/>
                  <a:pt x="106" y="2260"/>
                  <a:pt x="119" y="2256"/>
                </a:cubicBezTo>
                <a:cubicBezTo>
                  <a:pt x="132" y="2252"/>
                  <a:pt x="146" y="2260"/>
                  <a:pt x="150" y="2273"/>
                </a:cubicBezTo>
                <a:close/>
                <a:moveTo>
                  <a:pt x="179" y="2367"/>
                </a:moveTo>
                <a:lnTo>
                  <a:pt x="179" y="2367"/>
                </a:lnTo>
                <a:cubicBezTo>
                  <a:pt x="183" y="2380"/>
                  <a:pt x="177" y="2394"/>
                  <a:pt x="164" y="2399"/>
                </a:cubicBezTo>
                <a:cubicBezTo>
                  <a:pt x="151" y="2404"/>
                  <a:pt x="136" y="2397"/>
                  <a:pt x="132" y="2384"/>
                </a:cubicBezTo>
                <a:cubicBezTo>
                  <a:pt x="127" y="2371"/>
                  <a:pt x="134" y="2356"/>
                  <a:pt x="147" y="2352"/>
                </a:cubicBezTo>
                <a:cubicBezTo>
                  <a:pt x="160" y="2347"/>
                  <a:pt x="174" y="2354"/>
                  <a:pt x="179" y="2367"/>
                </a:cubicBezTo>
                <a:close/>
                <a:moveTo>
                  <a:pt x="214" y="2461"/>
                </a:moveTo>
                <a:lnTo>
                  <a:pt x="214" y="2461"/>
                </a:lnTo>
                <a:cubicBezTo>
                  <a:pt x="219" y="2474"/>
                  <a:pt x="212" y="2488"/>
                  <a:pt x="199" y="2493"/>
                </a:cubicBezTo>
                <a:cubicBezTo>
                  <a:pt x="186" y="2497"/>
                  <a:pt x="171" y="2491"/>
                  <a:pt x="167" y="2478"/>
                </a:cubicBezTo>
                <a:cubicBezTo>
                  <a:pt x="162" y="2465"/>
                  <a:pt x="169" y="2450"/>
                  <a:pt x="182" y="2446"/>
                </a:cubicBezTo>
                <a:cubicBezTo>
                  <a:pt x="195" y="2441"/>
                  <a:pt x="209" y="2448"/>
                  <a:pt x="214" y="2461"/>
                </a:cubicBezTo>
                <a:close/>
                <a:moveTo>
                  <a:pt x="253" y="2551"/>
                </a:moveTo>
                <a:lnTo>
                  <a:pt x="253" y="2551"/>
                </a:lnTo>
                <a:cubicBezTo>
                  <a:pt x="259" y="2564"/>
                  <a:pt x="253" y="2578"/>
                  <a:pt x="240" y="2584"/>
                </a:cubicBezTo>
                <a:cubicBezTo>
                  <a:pt x="227" y="2589"/>
                  <a:pt x="213" y="2583"/>
                  <a:pt x="207" y="2571"/>
                </a:cubicBezTo>
                <a:cubicBezTo>
                  <a:pt x="202" y="2558"/>
                  <a:pt x="208" y="2543"/>
                  <a:pt x="220" y="2538"/>
                </a:cubicBezTo>
                <a:cubicBezTo>
                  <a:pt x="233" y="2532"/>
                  <a:pt x="248" y="2538"/>
                  <a:pt x="253" y="2551"/>
                </a:cubicBezTo>
                <a:close/>
                <a:moveTo>
                  <a:pt x="298" y="2638"/>
                </a:moveTo>
                <a:lnTo>
                  <a:pt x="298" y="2638"/>
                </a:lnTo>
                <a:cubicBezTo>
                  <a:pt x="305" y="2650"/>
                  <a:pt x="300" y="2665"/>
                  <a:pt x="288" y="2672"/>
                </a:cubicBezTo>
                <a:cubicBezTo>
                  <a:pt x="276" y="2678"/>
                  <a:pt x="261" y="2674"/>
                  <a:pt x="254" y="2662"/>
                </a:cubicBezTo>
                <a:cubicBezTo>
                  <a:pt x="248" y="2649"/>
                  <a:pt x="252" y="2634"/>
                  <a:pt x="264" y="2628"/>
                </a:cubicBezTo>
                <a:cubicBezTo>
                  <a:pt x="276" y="2621"/>
                  <a:pt x="292" y="2626"/>
                  <a:pt x="298" y="2638"/>
                </a:cubicBezTo>
                <a:close/>
                <a:moveTo>
                  <a:pt x="350" y="2721"/>
                </a:moveTo>
                <a:lnTo>
                  <a:pt x="350" y="2721"/>
                </a:lnTo>
                <a:cubicBezTo>
                  <a:pt x="357" y="2732"/>
                  <a:pt x="354" y="2748"/>
                  <a:pt x="342" y="2756"/>
                </a:cubicBezTo>
                <a:cubicBezTo>
                  <a:pt x="331" y="2763"/>
                  <a:pt x="315" y="2760"/>
                  <a:pt x="308" y="2748"/>
                </a:cubicBezTo>
                <a:cubicBezTo>
                  <a:pt x="300" y="2737"/>
                  <a:pt x="303" y="2721"/>
                  <a:pt x="315" y="2714"/>
                </a:cubicBezTo>
                <a:cubicBezTo>
                  <a:pt x="326" y="2706"/>
                  <a:pt x="342" y="2709"/>
                  <a:pt x="350" y="2721"/>
                </a:cubicBezTo>
                <a:close/>
                <a:moveTo>
                  <a:pt x="408" y="2799"/>
                </a:moveTo>
                <a:lnTo>
                  <a:pt x="408" y="2799"/>
                </a:lnTo>
                <a:cubicBezTo>
                  <a:pt x="417" y="2810"/>
                  <a:pt x="415" y="2825"/>
                  <a:pt x="405" y="2834"/>
                </a:cubicBezTo>
                <a:cubicBezTo>
                  <a:pt x="394" y="2843"/>
                  <a:pt x="378" y="2841"/>
                  <a:pt x="369" y="2830"/>
                </a:cubicBezTo>
                <a:cubicBezTo>
                  <a:pt x="361" y="2820"/>
                  <a:pt x="362" y="2804"/>
                  <a:pt x="373" y="2795"/>
                </a:cubicBezTo>
                <a:cubicBezTo>
                  <a:pt x="384" y="2786"/>
                  <a:pt x="399" y="2788"/>
                  <a:pt x="408" y="2799"/>
                </a:cubicBezTo>
                <a:close/>
                <a:moveTo>
                  <a:pt x="475" y="2870"/>
                </a:moveTo>
                <a:lnTo>
                  <a:pt x="475" y="2870"/>
                </a:lnTo>
                <a:cubicBezTo>
                  <a:pt x="485" y="2879"/>
                  <a:pt x="485" y="2895"/>
                  <a:pt x="475" y="2905"/>
                </a:cubicBezTo>
                <a:cubicBezTo>
                  <a:pt x="465" y="2915"/>
                  <a:pt x="449" y="2915"/>
                  <a:pt x="440" y="2905"/>
                </a:cubicBezTo>
                <a:cubicBezTo>
                  <a:pt x="430" y="2896"/>
                  <a:pt x="430" y="2880"/>
                  <a:pt x="439" y="2870"/>
                </a:cubicBezTo>
                <a:cubicBezTo>
                  <a:pt x="449" y="2860"/>
                  <a:pt x="465" y="2860"/>
                  <a:pt x="475" y="2870"/>
                </a:cubicBezTo>
                <a:close/>
                <a:moveTo>
                  <a:pt x="550" y="2930"/>
                </a:moveTo>
                <a:lnTo>
                  <a:pt x="550" y="2930"/>
                </a:lnTo>
                <a:cubicBezTo>
                  <a:pt x="561" y="2939"/>
                  <a:pt x="563" y="2954"/>
                  <a:pt x="555" y="2965"/>
                </a:cubicBezTo>
                <a:cubicBezTo>
                  <a:pt x="546" y="2976"/>
                  <a:pt x="531" y="2978"/>
                  <a:pt x="520" y="2970"/>
                </a:cubicBezTo>
                <a:cubicBezTo>
                  <a:pt x="509" y="2962"/>
                  <a:pt x="507" y="2946"/>
                  <a:pt x="515" y="2935"/>
                </a:cubicBezTo>
                <a:cubicBezTo>
                  <a:pt x="523" y="2924"/>
                  <a:pt x="539" y="2922"/>
                  <a:pt x="550" y="2930"/>
                </a:cubicBezTo>
                <a:close/>
                <a:moveTo>
                  <a:pt x="630" y="2972"/>
                </a:moveTo>
                <a:lnTo>
                  <a:pt x="631" y="2972"/>
                </a:lnTo>
                <a:cubicBezTo>
                  <a:pt x="644" y="2976"/>
                  <a:pt x="651" y="2990"/>
                  <a:pt x="647" y="3003"/>
                </a:cubicBezTo>
                <a:cubicBezTo>
                  <a:pt x="643" y="3016"/>
                  <a:pt x="630" y="3024"/>
                  <a:pt x="616" y="3020"/>
                </a:cubicBezTo>
                <a:cubicBezTo>
                  <a:pt x="603" y="3016"/>
                  <a:pt x="595" y="3002"/>
                  <a:pt x="599" y="2989"/>
                </a:cubicBezTo>
                <a:cubicBezTo>
                  <a:pt x="603" y="2976"/>
                  <a:pt x="617" y="2968"/>
                  <a:pt x="630" y="2972"/>
                </a:cubicBezTo>
                <a:close/>
                <a:moveTo>
                  <a:pt x="723" y="2994"/>
                </a:moveTo>
                <a:lnTo>
                  <a:pt x="723" y="2994"/>
                </a:lnTo>
                <a:cubicBezTo>
                  <a:pt x="737" y="2995"/>
                  <a:pt x="747" y="3008"/>
                  <a:pt x="745" y="3021"/>
                </a:cubicBezTo>
                <a:cubicBezTo>
                  <a:pt x="744" y="3035"/>
                  <a:pt x="732" y="3045"/>
                  <a:pt x="718" y="3044"/>
                </a:cubicBezTo>
                <a:cubicBezTo>
                  <a:pt x="704" y="3042"/>
                  <a:pt x="694" y="3030"/>
                  <a:pt x="696" y="3016"/>
                </a:cubicBezTo>
                <a:cubicBezTo>
                  <a:pt x="697" y="3003"/>
                  <a:pt x="709" y="2993"/>
                  <a:pt x="723" y="2994"/>
                </a:cubicBezTo>
                <a:close/>
                <a:moveTo>
                  <a:pt x="817" y="2993"/>
                </a:moveTo>
                <a:lnTo>
                  <a:pt x="817" y="2993"/>
                </a:lnTo>
                <a:cubicBezTo>
                  <a:pt x="831" y="2991"/>
                  <a:pt x="843" y="3001"/>
                  <a:pt x="845" y="3015"/>
                </a:cubicBezTo>
                <a:cubicBezTo>
                  <a:pt x="846" y="3029"/>
                  <a:pt x="836" y="3041"/>
                  <a:pt x="823" y="3042"/>
                </a:cubicBezTo>
                <a:cubicBezTo>
                  <a:pt x="809" y="3044"/>
                  <a:pt x="797" y="3034"/>
                  <a:pt x="795" y="3020"/>
                </a:cubicBezTo>
                <a:cubicBezTo>
                  <a:pt x="794" y="3007"/>
                  <a:pt x="803" y="2994"/>
                  <a:pt x="817" y="2993"/>
                </a:cubicBezTo>
                <a:close/>
                <a:moveTo>
                  <a:pt x="904" y="2970"/>
                </a:moveTo>
                <a:lnTo>
                  <a:pt x="904" y="2969"/>
                </a:lnTo>
                <a:cubicBezTo>
                  <a:pt x="917" y="2963"/>
                  <a:pt x="932" y="2968"/>
                  <a:pt x="938" y="2980"/>
                </a:cubicBezTo>
                <a:cubicBezTo>
                  <a:pt x="945" y="2992"/>
                  <a:pt x="940" y="3007"/>
                  <a:pt x="928" y="3014"/>
                </a:cubicBezTo>
                <a:cubicBezTo>
                  <a:pt x="916" y="3020"/>
                  <a:pt x="901" y="3016"/>
                  <a:pt x="894" y="3003"/>
                </a:cubicBezTo>
                <a:cubicBezTo>
                  <a:pt x="888" y="2991"/>
                  <a:pt x="892" y="2976"/>
                  <a:pt x="904" y="2970"/>
                </a:cubicBezTo>
                <a:close/>
                <a:moveTo>
                  <a:pt x="987" y="2922"/>
                </a:moveTo>
                <a:lnTo>
                  <a:pt x="987" y="2922"/>
                </a:lnTo>
                <a:cubicBezTo>
                  <a:pt x="998" y="2914"/>
                  <a:pt x="1014" y="2916"/>
                  <a:pt x="1022" y="2926"/>
                </a:cubicBezTo>
                <a:cubicBezTo>
                  <a:pt x="1031" y="2937"/>
                  <a:pt x="1029" y="2953"/>
                  <a:pt x="1018" y="2961"/>
                </a:cubicBezTo>
                <a:lnTo>
                  <a:pt x="1018" y="2962"/>
                </a:lnTo>
                <a:cubicBezTo>
                  <a:pt x="1007" y="2970"/>
                  <a:pt x="992" y="2968"/>
                  <a:pt x="983" y="2957"/>
                </a:cubicBezTo>
                <a:cubicBezTo>
                  <a:pt x="974" y="2946"/>
                  <a:pt x="976" y="2931"/>
                  <a:pt x="987" y="2922"/>
                </a:cubicBezTo>
                <a:close/>
                <a:moveTo>
                  <a:pt x="1061" y="2860"/>
                </a:moveTo>
                <a:lnTo>
                  <a:pt x="1062" y="2860"/>
                </a:lnTo>
                <a:cubicBezTo>
                  <a:pt x="1071" y="2850"/>
                  <a:pt x="1087" y="2850"/>
                  <a:pt x="1097" y="2860"/>
                </a:cubicBezTo>
                <a:cubicBezTo>
                  <a:pt x="1107" y="2870"/>
                  <a:pt x="1107" y="2886"/>
                  <a:pt x="1097" y="2895"/>
                </a:cubicBezTo>
                <a:cubicBezTo>
                  <a:pt x="1087" y="2905"/>
                  <a:pt x="1071" y="2905"/>
                  <a:pt x="1061" y="2895"/>
                </a:cubicBezTo>
                <a:cubicBezTo>
                  <a:pt x="1052" y="2886"/>
                  <a:pt x="1052" y="2870"/>
                  <a:pt x="1061" y="2860"/>
                </a:cubicBezTo>
                <a:close/>
                <a:moveTo>
                  <a:pt x="1127" y="2788"/>
                </a:moveTo>
                <a:lnTo>
                  <a:pt x="1127" y="2788"/>
                </a:lnTo>
                <a:cubicBezTo>
                  <a:pt x="1136" y="2778"/>
                  <a:pt x="1152" y="2776"/>
                  <a:pt x="1162" y="2785"/>
                </a:cubicBezTo>
                <a:cubicBezTo>
                  <a:pt x="1173" y="2793"/>
                  <a:pt x="1175" y="2809"/>
                  <a:pt x="1166" y="2820"/>
                </a:cubicBezTo>
                <a:cubicBezTo>
                  <a:pt x="1158" y="2830"/>
                  <a:pt x="1142" y="2832"/>
                  <a:pt x="1131" y="2824"/>
                </a:cubicBezTo>
                <a:cubicBezTo>
                  <a:pt x="1120" y="2815"/>
                  <a:pt x="1119" y="2799"/>
                  <a:pt x="1127" y="2788"/>
                </a:cubicBezTo>
                <a:close/>
                <a:moveTo>
                  <a:pt x="1185" y="2710"/>
                </a:moveTo>
                <a:lnTo>
                  <a:pt x="1185" y="2710"/>
                </a:lnTo>
                <a:cubicBezTo>
                  <a:pt x="1192" y="2698"/>
                  <a:pt x="1208" y="2695"/>
                  <a:pt x="1219" y="2702"/>
                </a:cubicBezTo>
                <a:cubicBezTo>
                  <a:pt x="1231" y="2710"/>
                  <a:pt x="1234" y="2725"/>
                  <a:pt x="1227" y="2737"/>
                </a:cubicBezTo>
                <a:cubicBezTo>
                  <a:pt x="1219" y="2749"/>
                  <a:pt x="1204" y="2752"/>
                  <a:pt x="1192" y="2744"/>
                </a:cubicBezTo>
                <a:cubicBezTo>
                  <a:pt x="1180" y="2737"/>
                  <a:pt x="1177" y="2721"/>
                  <a:pt x="1185" y="2710"/>
                </a:cubicBezTo>
                <a:close/>
                <a:moveTo>
                  <a:pt x="1235" y="2626"/>
                </a:moveTo>
                <a:lnTo>
                  <a:pt x="1235" y="2626"/>
                </a:lnTo>
                <a:cubicBezTo>
                  <a:pt x="1241" y="2614"/>
                  <a:pt x="1256" y="2609"/>
                  <a:pt x="1269" y="2615"/>
                </a:cubicBezTo>
                <a:cubicBezTo>
                  <a:pt x="1281" y="2622"/>
                  <a:pt x="1286" y="2637"/>
                  <a:pt x="1279" y="2649"/>
                </a:cubicBezTo>
                <a:cubicBezTo>
                  <a:pt x="1273" y="2662"/>
                  <a:pt x="1258" y="2666"/>
                  <a:pt x="1245" y="2660"/>
                </a:cubicBezTo>
                <a:cubicBezTo>
                  <a:pt x="1233" y="2653"/>
                  <a:pt x="1228" y="2638"/>
                  <a:pt x="1235" y="2626"/>
                </a:cubicBezTo>
                <a:close/>
                <a:moveTo>
                  <a:pt x="1279" y="2538"/>
                </a:moveTo>
                <a:lnTo>
                  <a:pt x="1279" y="2538"/>
                </a:lnTo>
                <a:cubicBezTo>
                  <a:pt x="1284" y="2526"/>
                  <a:pt x="1299" y="2520"/>
                  <a:pt x="1312" y="2525"/>
                </a:cubicBezTo>
                <a:cubicBezTo>
                  <a:pt x="1324" y="2531"/>
                  <a:pt x="1330" y="2545"/>
                  <a:pt x="1325" y="2558"/>
                </a:cubicBezTo>
                <a:cubicBezTo>
                  <a:pt x="1319" y="2571"/>
                  <a:pt x="1305" y="2577"/>
                  <a:pt x="1292" y="2571"/>
                </a:cubicBezTo>
                <a:cubicBezTo>
                  <a:pt x="1279" y="2566"/>
                  <a:pt x="1273" y="2551"/>
                  <a:pt x="1279" y="2538"/>
                </a:cubicBezTo>
                <a:close/>
                <a:moveTo>
                  <a:pt x="1318" y="2448"/>
                </a:moveTo>
                <a:lnTo>
                  <a:pt x="1318" y="2448"/>
                </a:lnTo>
                <a:cubicBezTo>
                  <a:pt x="1322" y="2435"/>
                  <a:pt x="1336" y="2428"/>
                  <a:pt x="1349" y="2433"/>
                </a:cubicBezTo>
                <a:cubicBezTo>
                  <a:pt x="1363" y="2437"/>
                  <a:pt x="1369" y="2452"/>
                  <a:pt x="1365" y="2465"/>
                </a:cubicBezTo>
                <a:cubicBezTo>
                  <a:pt x="1360" y="2478"/>
                  <a:pt x="1346" y="2484"/>
                  <a:pt x="1333" y="2480"/>
                </a:cubicBezTo>
                <a:cubicBezTo>
                  <a:pt x="1320" y="2475"/>
                  <a:pt x="1313" y="2461"/>
                  <a:pt x="1318" y="2448"/>
                </a:cubicBezTo>
                <a:close/>
                <a:moveTo>
                  <a:pt x="1351" y="2356"/>
                </a:moveTo>
                <a:lnTo>
                  <a:pt x="1351" y="2355"/>
                </a:lnTo>
                <a:cubicBezTo>
                  <a:pt x="1355" y="2342"/>
                  <a:pt x="1369" y="2334"/>
                  <a:pt x="1382" y="2338"/>
                </a:cubicBezTo>
                <a:cubicBezTo>
                  <a:pt x="1396" y="2342"/>
                  <a:pt x="1403" y="2356"/>
                  <a:pt x="1400" y="2369"/>
                </a:cubicBezTo>
                <a:cubicBezTo>
                  <a:pt x="1396" y="2382"/>
                  <a:pt x="1382" y="2390"/>
                  <a:pt x="1369" y="2386"/>
                </a:cubicBezTo>
                <a:cubicBezTo>
                  <a:pt x="1355" y="2383"/>
                  <a:pt x="1348" y="2369"/>
                  <a:pt x="1351" y="2356"/>
                </a:cubicBezTo>
                <a:close/>
                <a:moveTo>
                  <a:pt x="1380" y="2260"/>
                </a:moveTo>
                <a:lnTo>
                  <a:pt x="1380" y="2260"/>
                </a:lnTo>
                <a:cubicBezTo>
                  <a:pt x="1384" y="2246"/>
                  <a:pt x="1398" y="2239"/>
                  <a:pt x="1411" y="2242"/>
                </a:cubicBezTo>
                <a:cubicBezTo>
                  <a:pt x="1424" y="2246"/>
                  <a:pt x="1432" y="2260"/>
                  <a:pt x="1428" y="2273"/>
                </a:cubicBezTo>
                <a:cubicBezTo>
                  <a:pt x="1424" y="2287"/>
                  <a:pt x="1411" y="2294"/>
                  <a:pt x="1397" y="2291"/>
                </a:cubicBezTo>
                <a:cubicBezTo>
                  <a:pt x="1384" y="2287"/>
                  <a:pt x="1376" y="2273"/>
                  <a:pt x="1380" y="2260"/>
                </a:cubicBezTo>
                <a:close/>
                <a:moveTo>
                  <a:pt x="1404" y="2164"/>
                </a:moveTo>
                <a:lnTo>
                  <a:pt x="1404" y="2164"/>
                </a:lnTo>
                <a:cubicBezTo>
                  <a:pt x="1407" y="2151"/>
                  <a:pt x="1421" y="2142"/>
                  <a:pt x="1434" y="2145"/>
                </a:cubicBezTo>
                <a:cubicBezTo>
                  <a:pt x="1448" y="2148"/>
                  <a:pt x="1456" y="2161"/>
                  <a:pt x="1453" y="2175"/>
                </a:cubicBezTo>
                <a:cubicBezTo>
                  <a:pt x="1450" y="2188"/>
                  <a:pt x="1437" y="2197"/>
                  <a:pt x="1423" y="2194"/>
                </a:cubicBezTo>
                <a:cubicBezTo>
                  <a:pt x="1410" y="2191"/>
                  <a:pt x="1401" y="2178"/>
                  <a:pt x="1404" y="2164"/>
                </a:cubicBezTo>
                <a:close/>
                <a:moveTo>
                  <a:pt x="1425" y="2067"/>
                </a:moveTo>
                <a:lnTo>
                  <a:pt x="1425" y="2067"/>
                </a:lnTo>
                <a:cubicBezTo>
                  <a:pt x="1428" y="2054"/>
                  <a:pt x="1441" y="2045"/>
                  <a:pt x="1454" y="2047"/>
                </a:cubicBezTo>
                <a:cubicBezTo>
                  <a:pt x="1468" y="2050"/>
                  <a:pt x="1477" y="2063"/>
                  <a:pt x="1475" y="2076"/>
                </a:cubicBezTo>
                <a:cubicBezTo>
                  <a:pt x="1472" y="2090"/>
                  <a:pt x="1459" y="2099"/>
                  <a:pt x="1446" y="2096"/>
                </a:cubicBezTo>
                <a:cubicBezTo>
                  <a:pt x="1432" y="2094"/>
                  <a:pt x="1423" y="2081"/>
                  <a:pt x="1425" y="2067"/>
                </a:cubicBezTo>
                <a:close/>
                <a:moveTo>
                  <a:pt x="1443" y="1969"/>
                </a:moveTo>
                <a:lnTo>
                  <a:pt x="1443" y="1969"/>
                </a:lnTo>
                <a:cubicBezTo>
                  <a:pt x="1446" y="1955"/>
                  <a:pt x="1459" y="1946"/>
                  <a:pt x="1472" y="1949"/>
                </a:cubicBezTo>
                <a:cubicBezTo>
                  <a:pt x="1486" y="1951"/>
                  <a:pt x="1495" y="1964"/>
                  <a:pt x="1492" y="1978"/>
                </a:cubicBezTo>
                <a:cubicBezTo>
                  <a:pt x="1490" y="1991"/>
                  <a:pt x="1477" y="2000"/>
                  <a:pt x="1463" y="1998"/>
                </a:cubicBezTo>
                <a:cubicBezTo>
                  <a:pt x="1450" y="1996"/>
                  <a:pt x="1441" y="1983"/>
                  <a:pt x="1443" y="1969"/>
                </a:cubicBezTo>
                <a:close/>
                <a:moveTo>
                  <a:pt x="1456" y="1871"/>
                </a:moveTo>
                <a:lnTo>
                  <a:pt x="1456" y="1871"/>
                </a:lnTo>
                <a:cubicBezTo>
                  <a:pt x="1457" y="1857"/>
                  <a:pt x="1470" y="1848"/>
                  <a:pt x="1483" y="1849"/>
                </a:cubicBezTo>
                <a:cubicBezTo>
                  <a:pt x="1497" y="1851"/>
                  <a:pt x="1507" y="1863"/>
                  <a:pt x="1505" y="1877"/>
                </a:cubicBezTo>
                <a:cubicBezTo>
                  <a:pt x="1504" y="1891"/>
                  <a:pt x="1491" y="1901"/>
                  <a:pt x="1477" y="1899"/>
                </a:cubicBezTo>
                <a:cubicBezTo>
                  <a:pt x="1464" y="1897"/>
                  <a:pt x="1454" y="1885"/>
                  <a:pt x="1456" y="1871"/>
                </a:cubicBezTo>
                <a:close/>
                <a:moveTo>
                  <a:pt x="1465" y="1773"/>
                </a:moveTo>
                <a:lnTo>
                  <a:pt x="1465" y="1773"/>
                </a:lnTo>
                <a:cubicBezTo>
                  <a:pt x="1466" y="1759"/>
                  <a:pt x="1478" y="1749"/>
                  <a:pt x="1492" y="1750"/>
                </a:cubicBezTo>
                <a:cubicBezTo>
                  <a:pt x="1505" y="1750"/>
                  <a:pt x="1516" y="1762"/>
                  <a:pt x="1515" y="1776"/>
                </a:cubicBezTo>
                <a:cubicBezTo>
                  <a:pt x="1514" y="1790"/>
                  <a:pt x="1503" y="1800"/>
                  <a:pt x="1489" y="1800"/>
                </a:cubicBezTo>
                <a:cubicBezTo>
                  <a:pt x="1475" y="1799"/>
                  <a:pt x="1464" y="1787"/>
                  <a:pt x="1465" y="1773"/>
                </a:cubicBezTo>
                <a:close/>
                <a:moveTo>
                  <a:pt x="1473" y="1674"/>
                </a:moveTo>
                <a:lnTo>
                  <a:pt x="1473" y="1674"/>
                </a:lnTo>
                <a:cubicBezTo>
                  <a:pt x="1473" y="1660"/>
                  <a:pt x="1484" y="1649"/>
                  <a:pt x="1498" y="1650"/>
                </a:cubicBezTo>
                <a:cubicBezTo>
                  <a:pt x="1512" y="1650"/>
                  <a:pt x="1523" y="1661"/>
                  <a:pt x="1523" y="1675"/>
                </a:cubicBezTo>
                <a:cubicBezTo>
                  <a:pt x="1522" y="1689"/>
                  <a:pt x="1511" y="1700"/>
                  <a:pt x="1497" y="1700"/>
                </a:cubicBezTo>
                <a:cubicBezTo>
                  <a:pt x="1483" y="1700"/>
                  <a:pt x="1472" y="1688"/>
                  <a:pt x="1473" y="1674"/>
                </a:cubicBezTo>
                <a:close/>
                <a:moveTo>
                  <a:pt x="1475" y="1574"/>
                </a:moveTo>
                <a:lnTo>
                  <a:pt x="1475" y="1574"/>
                </a:lnTo>
                <a:cubicBezTo>
                  <a:pt x="1475" y="1560"/>
                  <a:pt x="1487" y="1549"/>
                  <a:pt x="1501" y="1550"/>
                </a:cubicBezTo>
                <a:cubicBezTo>
                  <a:pt x="1514" y="1550"/>
                  <a:pt x="1525" y="1561"/>
                  <a:pt x="1525" y="1575"/>
                </a:cubicBezTo>
                <a:cubicBezTo>
                  <a:pt x="1525" y="1589"/>
                  <a:pt x="1513" y="1600"/>
                  <a:pt x="1500" y="1600"/>
                </a:cubicBezTo>
                <a:cubicBezTo>
                  <a:pt x="1486" y="1600"/>
                  <a:pt x="1475" y="1588"/>
                  <a:pt x="1475" y="1574"/>
                </a:cubicBezTo>
                <a:close/>
                <a:moveTo>
                  <a:pt x="1475" y="1476"/>
                </a:moveTo>
                <a:lnTo>
                  <a:pt x="1475" y="1476"/>
                </a:lnTo>
                <a:cubicBezTo>
                  <a:pt x="1475" y="1462"/>
                  <a:pt x="1485" y="1450"/>
                  <a:pt x="1499" y="1450"/>
                </a:cubicBezTo>
                <a:cubicBezTo>
                  <a:pt x="1513" y="1449"/>
                  <a:pt x="1525" y="1460"/>
                  <a:pt x="1525" y="1474"/>
                </a:cubicBezTo>
                <a:cubicBezTo>
                  <a:pt x="1526" y="1488"/>
                  <a:pt x="1515" y="1499"/>
                  <a:pt x="1501" y="1500"/>
                </a:cubicBezTo>
                <a:cubicBezTo>
                  <a:pt x="1487" y="1500"/>
                  <a:pt x="1476" y="1490"/>
                  <a:pt x="1475" y="1476"/>
                </a:cubicBezTo>
                <a:close/>
                <a:moveTo>
                  <a:pt x="1473" y="1376"/>
                </a:moveTo>
                <a:lnTo>
                  <a:pt x="1473" y="1376"/>
                </a:lnTo>
                <a:cubicBezTo>
                  <a:pt x="1472" y="1362"/>
                  <a:pt x="1483" y="1350"/>
                  <a:pt x="1497" y="1350"/>
                </a:cubicBezTo>
                <a:cubicBezTo>
                  <a:pt x="1510" y="1349"/>
                  <a:pt x="1522" y="1360"/>
                  <a:pt x="1523" y="1374"/>
                </a:cubicBezTo>
                <a:cubicBezTo>
                  <a:pt x="1523" y="1388"/>
                  <a:pt x="1512" y="1399"/>
                  <a:pt x="1499" y="1400"/>
                </a:cubicBezTo>
                <a:cubicBezTo>
                  <a:pt x="1485" y="1400"/>
                  <a:pt x="1473" y="1390"/>
                  <a:pt x="1473" y="1376"/>
                </a:cubicBezTo>
                <a:close/>
                <a:moveTo>
                  <a:pt x="1465" y="1277"/>
                </a:moveTo>
                <a:lnTo>
                  <a:pt x="1465" y="1277"/>
                </a:lnTo>
                <a:cubicBezTo>
                  <a:pt x="1464" y="1263"/>
                  <a:pt x="1475" y="1251"/>
                  <a:pt x="1488" y="1250"/>
                </a:cubicBezTo>
                <a:cubicBezTo>
                  <a:pt x="1502" y="1249"/>
                  <a:pt x="1514" y="1259"/>
                  <a:pt x="1515" y="1273"/>
                </a:cubicBezTo>
                <a:cubicBezTo>
                  <a:pt x="1516" y="1287"/>
                  <a:pt x="1506" y="1299"/>
                  <a:pt x="1492" y="1300"/>
                </a:cubicBezTo>
                <a:cubicBezTo>
                  <a:pt x="1479" y="1301"/>
                  <a:pt x="1467" y="1291"/>
                  <a:pt x="1465" y="1277"/>
                </a:cubicBezTo>
                <a:close/>
                <a:moveTo>
                  <a:pt x="1456" y="1179"/>
                </a:moveTo>
                <a:lnTo>
                  <a:pt x="1456" y="1179"/>
                </a:lnTo>
                <a:cubicBezTo>
                  <a:pt x="1454" y="1165"/>
                  <a:pt x="1464" y="1152"/>
                  <a:pt x="1477" y="1151"/>
                </a:cubicBezTo>
                <a:cubicBezTo>
                  <a:pt x="1491" y="1149"/>
                  <a:pt x="1504" y="1158"/>
                  <a:pt x="1505" y="1172"/>
                </a:cubicBezTo>
                <a:cubicBezTo>
                  <a:pt x="1507" y="1186"/>
                  <a:pt x="1498" y="1198"/>
                  <a:pt x="1484" y="1200"/>
                </a:cubicBezTo>
                <a:cubicBezTo>
                  <a:pt x="1470" y="1202"/>
                  <a:pt x="1458" y="1192"/>
                  <a:pt x="1456" y="1179"/>
                </a:cubicBezTo>
                <a:close/>
                <a:moveTo>
                  <a:pt x="1444" y="1081"/>
                </a:moveTo>
                <a:lnTo>
                  <a:pt x="1444" y="1081"/>
                </a:lnTo>
                <a:cubicBezTo>
                  <a:pt x="1441" y="1067"/>
                  <a:pt x="1450" y="1054"/>
                  <a:pt x="1463" y="1052"/>
                </a:cubicBezTo>
                <a:cubicBezTo>
                  <a:pt x="1477" y="1049"/>
                  <a:pt x="1490" y="1058"/>
                  <a:pt x="1493" y="1071"/>
                </a:cubicBezTo>
                <a:cubicBezTo>
                  <a:pt x="1495" y="1085"/>
                  <a:pt x="1487" y="1098"/>
                  <a:pt x="1473" y="1101"/>
                </a:cubicBezTo>
                <a:cubicBezTo>
                  <a:pt x="1460" y="1103"/>
                  <a:pt x="1446" y="1095"/>
                  <a:pt x="1444" y="1081"/>
                </a:cubicBezTo>
                <a:close/>
                <a:moveTo>
                  <a:pt x="1426" y="983"/>
                </a:moveTo>
                <a:lnTo>
                  <a:pt x="1426" y="983"/>
                </a:lnTo>
                <a:cubicBezTo>
                  <a:pt x="1423" y="969"/>
                  <a:pt x="1432" y="956"/>
                  <a:pt x="1446" y="953"/>
                </a:cubicBezTo>
                <a:cubicBezTo>
                  <a:pt x="1459" y="950"/>
                  <a:pt x="1472" y="959"/>
                  <a:pt x="1475" y="973"/>
                </a:cubicBezTo>
                <a:cubicBezTo>
                  <a:pt x="1478" y="986"/>
                  <a:pt x="1469" y="1000"/>
                  <a:pt x="1455" y="1002"/>
                </a:cubicBezTo>
                <a:cubicBezTo>
                  <a:pt x="1442" y="1005"/>
                  <a:pt x="1429" y="996"/>
                  <a:pt x="1426" y="983"/>
                </a:cubicBezTo>
                <a:close/>
                <a:moveTo>
                  <a:pt x="1405" y="886"/>
                </a:moveTo>
                <a:lnTo>
                  <a:pt x="1405" y="886"/>
                </a:lnTo>
                <a:cubicBezTo>
                  <a:pt x="1402" y="872"/>
                  <a:pt x="1410" y="859"/>
                  <a:pt x="1424" y="856"/>
                </a:cubicBezTo>
                <a:cubicBezTo>
                  <a:pt x="1437" y="852"/>
                  <a:pt x="1450" y="861"/>
                  <a:pt x="1454" y="874"/>
                </a:cubicBezTo>
                <a:cubicBezTo>
                  <a:pt x="1457" y="888"/>
                  <a:pt x="1449" y="901"/>
                  <a:pt x="1435" y="904"/>
                </a:cubicBezTo>
                <a:cubicBezTo>
                  <a:pt x="1422" y="907"/>
                  <a:pt x="1408" y="899"/>
                  <a:pt x="1405" y="886"/>
                </a:cubicBezTo>
                <a:close/>
                <a:moveTo>
                  <a:pt x="1381" y="790"/>
                </a:moveTo>
                <a:lnTo>
                  <a:pt x="1381" y="790"/>
                </a:lnTo>
                <a:cubicBezTo>
                  <a:pt x="1377" y="777"/>
                  <a:pt x="1384" y="763"/>
                  <a:pt x="1397" y="759"/>
                </a:cubicBezTo>
                <a:cubicBezTo>
                  <a:pt x="1411" y="755"/>
                  <a:pt x="1425" y="762"/>
                  <a:pt x="1429" y="776"/>
                </a:cubicBezTo>
                <a:cubicBezTo>
                  <a:pt x="1433" y="789"/>
                  <a:pt x="1425" y="803"/>
                  <a:pt x="1412" y="807"/>
                </a:cubicBezTo>
                <a:cubicBezTo>
                  <a:pt x="1399" y="811"/>
                  <a:pt x="1385" y="803"/>
                  <a:pt x="1381" y="790"/>
                </a:cubicBezTo>
                <a:close/>
                <a:moveTo>
                  <a:pt x="1352" y="694"/>
                </a:moveTo>
                <a:lnTo>
                  <a:pt x="1352" y="694"/>
                </a:lnTo>
                <a:cubicBezTo>
                  <a:pt x="1348" y="681"/>
                  <a:pt x="1355" y="667"/>
                  <a:pt x="1369" y="663"/>
                </a:cubicBezTo>
                <a:cubicBezTo>
                  <a:pt x="1382" y="659"/>
                  <a:pt x="1396" y="667"/>
                  <a:pt x="1400" y="680"/>
                </a:cubicBezTo>
                <a:cubicBezTo>
                  <a:pt x="1404" y="693"/>
                  <a:pt x="1396" y="707"/>
                  <a:pt x="1383" y="711"/>
                </a:cubicBezTo>
                <a:cubicBezTo>
                  <a:pt x="1370" y="715"/>
                  <a:pt x="1356" y="708"/>
                  <a:pt x="1352" y="694"/>
                </a:cubicBezTo>
                <a:close/>
                <a:moveTo>
                  <a:pt x="1319" y="602"/>
                </a:moveTo>
                <a:lnTo>
                  <a:pt x="1319" y="602"/>
                </a:lnTo>
                <a:cubicBezTo>
                  <a:pt x="1314" y="589"/>
                  <a:pt x="1320" y="574"/>
                  <a:pt x="1333" y="570"/>
                </a:cubicBezTo>
                <a:cubicBezTo>
                  <a:pt x="1346" y="565"/>
                  <a:pt x="1361" y="571"/>
                  <a:pt x="1365" y="584"/>
                </a:cubicBezTo>
                <a:cubicBezTo>
                  <a:pt x="1370" y="597"/>
                  <a:pt x="1364" y="612"/>
                  <a:pt x="1351" y="616"/>
                </a:cubicBezTo>
                <a:cubicBezTo>
                  <a:pt x="1338" y="621"/>
                  <a:pt x="1323" y="615"/>
                  <a:pt x="1319" y="602"/>
                </a:cubicBezTo>
                <a:close/>
                <a:moveTo>
                  <a:pt x="1280" y="512"/>
                </a:moveTo>
                <a:lnTo>
                  <a:pt x="1280" y="512"/>
                </a:lnTo>
                <a:cubicBezTo>
                  <a:pt x="1274" y="499"/>
                  <a:pt x="1279" y="484"/>
                  <a:pt x="1292" y="479"/>
                </a:cubicBezTo>
                <a:cubicBezTo>
                  <a:pt x="1304" y="473"/>
                  <a:pt x="1319" y="478"/>
                  <a:pt x="1325" y="490"/>
                </a:cubicBezTo>
                <a:lnTo>
                  <a:pt x="1325" y="491"/>
                </a:lnTo>
                <a:cubicBezTo>
                  <a:pt x="1331" y="503"/>
                  <a:pt x="1326" y="518"/>
                  <a:pt x="1313" y="524"/>
                </a:cubicBezTo>
                <a:cubicBezTo>
                  <a:pt x="1301" y="530"/>
                  <a:pt x="1286" y="524"/>
                  <a:pt x="1280" y="512"/>
                </a:cubicBezTo>
                <a:close/>
                <a:moveTo>
                  <a:pt x="1236" y="424"/>
                </a:moveTo>
                <a:lnTo>
                  <a:pt x="1236" y="424"/>
                </a:lnTo>
                <a:cubicBezTo>
                  <a:pt x="1229" y="412"/>
                  <a:pt x="1234" y="397"/>
                  <a:pt x="1246" y="390"/>
                </a:cubicBezTo>
                <a:cubicBezTo>
                  <a:pt x="1258" y="383"/>
                  <a:pt x="1273" y="388"/>
                  <a:pt x="1280" y="400"/>
                </a:cubicBezTo>
                <a:cubicBezTo>
                  <a:pt x="1286" y="412"/>
                  <a:pt x="1282" y="427"/>
                  <a:pt x="1270" y="434"/>
                </a:cubicBezTo>
                <a:cubicBezTo>
                  <a:pt x="1258" y="440"/>
                  <a:pt x="1243" y="436"/>
                  <a:pt x="1236" y="424"/>
                </a:cubicBezTo>
                <a:close/>
                <a:moveTo>
                  <a:pt x="1186" y="340"/>
                </a:moveTo>
                <a:lnTo>
                  <a:pt x="1186" y="340"/>
                </a:lnTo>
                <a:cubicBezTo>
                  <a:pt x="1178" y="328"/>
                  <a:pt x="1181" y="313"/>
                  <a:pt x="1193" y="305"/>
                </a:cubicBezTo>
                <a:cubicBezTo>
                  <a:pt x="1204" y="297"/>
                  <a:pt x="1220" y="300"/>
                  <a:pt x="1227" y="312"/>
                </a:cubicBezTo>
                <a:lnTo>
                  <a:pt x="1228" y="312"/>
                </a:lnTo>
                <a:cubicBezTo>
                  <a:pt x="1235" y="323"/>
                  <a:pt x="1232" y="339"/>
                  <a:pt x="1221" y="346"/>
                </a:cubicBezTo>
                <a:cubicBezTo>
                  <a:pt x="1209" y="354"/>
                  <a:pt x="1194" y="351"/>
                  <a:pt x="1186" y="340"/>
                </a:cubicBezTo>
                <a:close/>
                <a:moveTo>
                  <a:pt x="1129" y="261"/>
                </a:moveTo>
                <a:lnTo>
                  <a:pt x="1129" y="261"/>
                </a:lnTo>
                <a:cubicBezTo>
                  <a:pt x="1120" y="250"/>
                  <a:pt x="1122" y="234"/>
                  <a:pt x="1132" y="226"/>
                </a:cubicBezTo>
                <a:cubicBezTo>
                  <a:pt x="1143" y="217"/>
                  <a:pt x="1159" y="218"/>
                  <a:pt x="1167" y="229"/>
                </a:cubicBezTo>
                <a:lnTo>
                  <a:pt x="1168" y="229"/>
                </a:lnTo>
                <a:cubicBezTo>
                  <a:pt x="1176" y="239"/>
                  <a:pt x="1175" y="255"/>
                  <a:pt x="1164" y="264"/>
                </a:cubicBezTo>
                <a:cubicBezTo>
                  <a:pt x="1154" y="273"/>
                  <a:pt x="1138" y="271"/>
                  <a:pt x="1129" y="261"/>
                </a:cubicBezTo>
                <a:close/>
                <a:moveTo>
                  <a:pt x="1064" y="189"/>
                </a:moveTo>
                <a:lnTo>
                  <a:pt x="1064" y="189"/>
                </a:lnTo>
                <a:cubicBezTo>
                  <a:pt x="1054" y="179"/>
                  <a:pt x="1053" y="164"/>
                  <a:pt x="1063" y="154"/>
                </a:cubicBezTo>
                <a:cubicBezTo>
                  <a:pt x="1073" y="144"/>
                  <a:pt x="1088" y="143"/>
                  <a:pt x="1098" y="153"/>
                </a:cubicBezTo>
                <a:cubicBezTo>
                  <a:pt x="1108" y="163"/>
                  <a:pt x="1109" y="178"/>
                  <a:pt x="1099" y="188"/>
                </a:cubicBezTo>
                <a:cubicBezTo>
                  <a:pt x="1089" y="198"/>
                  <a:pt x="1074" y="199"/>
                  <a:pt x="1064" y="189"/>
                </a:cubicBezTo>
                <a:close/>
                <a:moveTo>
                  <a:pt x="990" y="127"/>
                </a:moveTo>
                <a:lnTo>
                  <a:pt x="989" y="126"/>
                </a:lnTo>
                <a:cubicBezTo>
                  <a:pt x="978" y="118"/>
                  <a:pt x="976" y="102"/>
                  <a:pt x="985" y="91"/>
                </a:cubicBezTo>
                <a:cubicBezTo>
                  <a:pt x="993" y="80"/>
                  <a:pt x="1009" y="78"/>
                  <a:pt x="1020" y="87"/>
                </a:cubicBezTo>
                <a:cubicBezTo>
                  <a:pt x="1031" y="95"/>
                  <a:pt x="1033" y="111"/>
                  <a:pt x="1025" y="122"/>
                </a:cubicBezTo>
                <a:cubicBezTo>
                  <a:pt x="1016" y="133"/>
                  <a:pt x="1001" y="135"/>
                  <a:pt x="990" y="127"/>
                </a:cubicBezTo>
                <a:close/>
                <a:moveTo>
                  <a:pt x="907" y="79"/>
                </a:moveTo>
                <a:lnTo>
                  <a:pt x="907" y="79"/>
                </a:lnTo>
                <a:cubicBezTo>
                  <a:pt x="895" y="72"/>
                  <a:pt x="890" y="57"/>
                  <a:pt x="896" y="45"/>
                </a:cubicBezTo>
                <a:cubicBezTo>
                  <a:pt x="902" y="33"/>
                  <a:pt x="918" y="28"/>
                  <a:pt x="930" y="34"/>
                </a:cubicBezTo>
                <a:cubicBezTo>
                  <a:pt x="942" y="41"/>
                  <a:pt x="947" y="56"/>
                  <a:pt x="941" y="68"/>
                </a:cubicBezTo>
                <a:cubicBezTo>
                  <a:pt x="934" y="80"/>
                  <a:pt x="919" y="85"/>
                  <a:pt x="907" y="79"/>
                </a:cubicBez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31" name="Freeform 22"/>
          <p:cNvSpPr/>
          <p:nvPr/>
        </p:nvSpPr>
        <p:spPr>
          <a:xfrm>
            <a:off x="5019840" y="3263760"/>
            <a:ext cx="971280" cy="487440"/>
          </a:xfrm>
          <a:custGeom>
            <a:avLst/>
            <a:gdLst>
              <a:gd name="textAreaLeft" fmla="*/ 0 w 971280"/>
              <a:gd name="textAreaRight" fmla="*/ 971640 w 97128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612" h="307">
                <a:moveTo>
                  <a:pt x="278" y="0"/>
                </a:moveTo>
                <a:cubicBezTo>
                  <a:pt x="205" y="48"/>
                  <a:pt x="117" y="119"/>
                  <a:pt x="87" y="166"/>
                </a:cubicBezTo>
                <a:cubicBezTo>
                  <a:pt x="58" y="213"/>
                  <a:pt x="0" y="307"/>
                  <a:pt x="87" y="307"/>
                </a:cubicBezTo>
                <a:cubicBezTo>
                  <a:pt x="175" y="307"/>
                  <a:pt x="525" y="189"/>
                  <a:pt x="612" y="166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32" name="Freeform 27"/>
          <p:cNvSpPr/>
          <p:nvPr/>
        </p:nvSpPr>
        <p:spPr>
          <a:xfrm>
            <a:off x="5721480" y="2730600"/>
            <a:ext cx="309600" cy="1149120"/>
          </a:xfrm>
          <a:custGeom>
            <a:avLst/>
            <a:gdLst>
              <a:gd name="textAreaLeft" fmla="*/ 0 w 309600"/>
              <a:gd name="textAreaRight" fmla="*/ 309960 w 309600"/>
              <a:gd name="textAreaTop" fmla="*/ 0 h 1149120"/>
              <a:gd name="textAreaBottom" fmla="*/ 1149480 h 1149120"/>
            </a:gdLst>
            <a:ahLst/>
            <a:rect l="textAreaLeft" t="textAreaTop" r="textAreaRight" b="textAreaBottom"/>
            <a:pathLst>
              <a:path w="195" h="724">
                <a:moveTo>
                  <a:pt x="0" y="0"/>
                </a:moveTo>
                <a:cubicBezTo>
                  <a:pt x="17" y="9"/>
                  <a:pt x="74" y="12"/>
                  <a:pt x="104" y="52"/>
                </a:cubicBezTo>
                <a:cubicBezTo>
                  <a:pt x="134" y="92"/>
                  <a:pt x="167" y="185"/>
                  <a:pt x="181" y="240"/>
                </a:cubicBezTo>
                <a:cubicBezTo>
                  <a:pt x="195" y="295"/>
                  <a:pt x="189" y="344"/>
                  <a:pt x="189" y="384"/>
                </a:cubicBezTo>
                <a:cubicBezTo>
                  <a:pt x="189" y="424"/>
                  <a:pt x="192" y="435"/>
                  <a:pt x="181" y="480"/>
                </a:cubicBezTo>
                <a:cubicBezTo>
                  <a:pt x="170" y="525"/>
                  <a:pt x="149" y="615"/>
                  <a:pt x="122" y="656"/>
                </a:cubicBezTo>
                <a:cubicBezTo>
                  <a:pt x="95" y="697"/>
                  <a:pt x="41" y="710"/>
                  <a:pt x="20" y="724"/>
                </a:cubicBezTo>
              </a:path>
            </a:pathLst>
          </a:custGeom>
          <a:noFill/>
          <a:ln cap="sq" w="19080">
            <a:solidFill>
              <a:srgbClr val="eeec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grpSp>
        <p:nvGrpSpPr>
          <p:cNvPr id="433" name="Group 30"/>
          <p:cNvGrpSpPr/>
          <p:nvPr/>
        </p:nvGrpSpPr>
        <p:grpSpPr>
          <a:xfrm>
            <a:off x="3295800" y="4202280"/>
            <a:ext cx="1094760" cy="502560"/>
            <a:chOff x="3295800" y="4202280"/>
            <a:chExt cx="1094760" cy="502560"/>
          </a:xfrm>
        </p:grpSpPr>
        <p:sp>
          <p:nvSpPr>
            <p:cNvPr id="434" name="Freeform 23"/>
            <p:cNvSpPr/>
            <p:nvPr/>
          </p:nvSpPr>
          <p:spPr>
            <a:xfrm>
              <a:off x="3295800" y="4202280"/>
              <a:ext cx="1094760" cy="475920"/>
            </a:xfrm>
            <a:custGeom>
              <a:avLst/>
              <a:gdLst>
                <a:gd name="textAreaLeft" fmla="*/ 0 w 1094760"/>
                <a:gd name="textAreaRight" fmla="*/ 1095120 w 1094760"/>
                <a:gd name="textAreaTop" fmla="*/ 0 h 475920"/>
                <a:gd name="textAreaBottom" fmla="*/ 476280 h 475920"/>
              </a:gdLst>
              <a:ahLst/>
              <a:rect l="textAreaLeft" t="textAreaTop" r="textAreaRight" b="textAreaBottom"/>
              <a:pathLst>
                <a:path w="613" h="283">
                  <a:moveTo>
                    <a:pt x="350" y="283"/>
                  </a:moveTo>
                  <a:cubicBezTo>
                    <a:pt x="423" y="236"/>
                    <a:pt x="496" y="189"/>
                    <a:pt x="525" y="142"/>
                  </a:cubicBezTo>
                  <a:cubicBezTo>
                    <a:pt x="555" y="94"/>
                    <a:pt x="613" y="0"/>
                    <a:pt x="525" y="0"/>
                  </a:cubicBezTo>
                  <a:cubicBezTo>
                    <a:pt x="438" y="0"/>
                    <a:pt x="88" y="118"/>
                    <a:pt x="0" y="1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435" name="Freeform 28"/>
            <p:cNvSpPr/>
            <p:nvPr/>
          </p:nvSpPr>
          <p:spPr>
            <a:xfrm>
              <a:off x="3876120" y="4220280"/>
              <a:ext cx="428400" cy="4845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40" h="288">
                  <a:moveTo>
                    <a:pt x="0" y="288"/>
                  </a:moveTo>
                  <a:cubicBezTo>
                    <a:pt x="52" y="256"/>
                    <a:pt x="107" y="224"/>
                    <a:pt x="144" y="192"/>
                  </a:cubicBezTo>
                  <a:cubicBezTo>
                    <a:pt x="181" y="160"/>
                    <a:pt x="206" y="128"/>
                    <a:pt x="222" y="96"/>
                  </a:cubicBezTo>
                  <a:cubicBezTo>
                    <a:pt x="238" y="64"/>
                    <a:pt x="236" y="20"/>
                    <a:pt x="240" y="0"/>
                  </a:cubicBezTo>
                </a:path>
              </a:pathLst>
            </a:custGeom>
            <a:noFill/>
            <a:ln cap="sq" w="19080">
              <a:solidFill>
                <a:srgbClr val="eeec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</p:grpSp>
      <p:sp>
        <p:nvSpPr>
          <p:cNvPr id="436" name="Freeform 29"/>
          <p:cNvSpPr/>
          <p:nvPr/>
        </p:nvSpPr>
        <p:spPr>
          <a:xfrm>
            <a:off x="5105520" y="3505320"/>
            <a:ext cx="914400" cy="255600"/>
          </a:xfrm>
          <a:custGeom>
            <a:avLst/>
            <a:gdLst>
              <a:gd name="textAreaLeft" fmla="*/ 0 w 914400"/>
              <a:gd name="textAreaRight" fmla="*/ 914760 w 91440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576" h="161">
                <a:moveTo>
                  <a:pt x="0" y="144"/>
                </a:moveTo>
                <a:cubicBezTo>
                  <a:pt x="13" y="146"/>
                  <a:pt x="39" y="161"/>
                  <a:pt x="78" y="156"/>
                </a:cubicBezTo>
                <a:cubicBezTo>
                  <a:pt x="117" y="151"/>
                  <a:pt x="184" y="128"/>
                  <a:pt x="234" y="114"/>
                </a:cubicBezTo>
                <a:cubicBezTo>
                  <a:pt x="284" y="100"/>
                  <a:pt x="321" y="91"/>
                  <a:pt x="378" y="72"/>
                </a:cubicBezTo>
                <a:cubicBezTo>
                  <a:pt x="435" y="53"/>
                  <a:pt x="535" y="15"/>
                  <a:pt x="576" y="0"/>
                </a:cubicBezTo>
              </a:path>
            </a:pathLst>
          </a:custGeom>
          <a:noFill/>
          <a:ln cap="sq" w="19080">
            <a:solidFill>
              <a:srgbClr val="eeec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mukaan di 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09480" y="1371240"/>
            <a:ext cx="83059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raboloida eliptik , mempunyai bentuk umu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65F6-0F96-4BBF-B4FB-4FB7CED8D18D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4996-6EF5-4595-AE1D-456A88956D53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0" y="308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Object 5"/>
              <p:cNvSpPr txBox="1"/>
              <p:nvPr/>
            </p:nvSpPr>
            <p:spPr>
              <a:xfrm>
                <a:off x="2684520" y="1968480"/>
                <a:ext cx="19638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 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 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 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4" name="Rectangle 6"/>
          <p:cNvSpPr/>
          <p:nvPr/>
        </p:nvSpPr>
        <p:spPr>
          <a:xfrm>
            <a:off x="5040720" y="2209320"/>
            <a:ext cx="1563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, a, b, c &gt; 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558720" y="28987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336699"/>
                </a:solidFill>
                <a:latin typeface="Verdana"/>
              </a:rPr>
              <a:t>6.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Paraboloida hiperbolik , mempunyai bentuk umum: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Object 9"/>
              <p:cNvSpPr txBox="1"/>
              <p:nvPr/>
            </p:nvSpPr>
            <p:spPr>
              <a:xfrm>
                <a:off x="1380960" y="3230640"/>
                <a:ext cx="16909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 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 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 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8" name="Rectangle 10"/>
          <p:cNvSpPr/>
          <p:nvPr/>
        </p:nvSpPr>
        <p:spPr>
          <a:xfrm>
            <a:off x="3597480" y="3364920"/>
            <a:ext cx="1563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, a, b, c &gt; 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49" name="Rectangle 11"/>
          <p:cNvSpPr/>
          <p:nvPr/>
        </p:nvSpPr>
        <p:spPr>
          <a:xfrm>
            <a:off x="533520" y="40384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336699"/>
                </a:solidFill>
                <a:latin typeface="Verdana"/>
              </a:rPr>
              <a:t>7.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Kerucut eliptik , mempunyai bentuk umum: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12"/>
              <p:cNvSpPr txBox="1"/>
              <p:nvPr/>
            </p:nvSpPr>
            <p:spPr>
              <a:xfrm>
                <a:off x="1407960" y="4448160"/>
                <a:ext cx="18687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Rectangle 13"/>
          <p:cNvSpPr/>
          <p:nvPr/>
        </p:nvSpPr>
        <p:spPr>
          <a:xfrm>
            <a:off x="533520" y="53341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336699"/>
                </a:solidFill>
                <a:latin typeface="Verdana"/>
              </a:rPr>
              <a:t>8.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Bidang , mempunyai bentuk umum: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14"/>
              <p:cNvSpPr txBox="1"/>
              <p:nvPr/>
            </p:nvSpPr>
            <p:spPr>
              <a:xfrm>
                <a:off x="1189080" y="5816520"/>
                <a:ext cx="20239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z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mb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B0FF-0970-4D33-A34A-CE59ACFDA43D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7F9E-3D71-4134-97F8-0EB221A03DEA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57" name="Line 4"/>
          <p:cNvSpPr/>
          <p:nvPr/>
        </p:nvSpPr>
        <p:spPr>
          <a:xfrm flipV="1">
            <a:off x="5969160" y="1727280"/>
            <a:ext cx="0" cy="187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58" name="Line 5"/>
          <p:cNvSpPr/>
          <p:nvPr/>
        </p:nvSpPr>
        <p:spPr>
          <a:xfrm>
            <a:off x="5054760" y="2917800"/>
            <a:ext cx="217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59" name="Line 6"/>
          <p:cNvSpPr/>
          <p:nvPr/>
        </p:nvSpPr>
        <p:spPr>
          <a:xfrm flipH="1">
            <a:off x="4939920" y="2472480"/>
            <a:ext cx="1778040" cy="104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5715000" y="1650960"/>
            <a:ext cx="45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Z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4711680" y="3308400"/>
            <a:ext cx="4572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1100" spc="-1" strike="noStrike">
                <a:solidFill>
                  <a:srgbClr val="336699"/>
                </a:solidFill>
                <a:latin typeface="Verdana"/>
              </a:rPr>
              <a:t>x</a:t>
            </a:r>
            <a:endParaRPr b="0" lang="en-US" sz="1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62" name="Text Box 9"/>
          <p:cNvSpPr/>
          <p:nvPr/>
        </p:nvSpPr>
        <p:spPr>
          <a:xfrm>
            <a:off x="7162920" y="2787480"/>
            <a:ext cx="45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y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63" name="Arc 10"/>
          <p:cNvSpPr/>
          <p:nvPr/>
        </p:nvSpPr>
        <p:spPr>
          <a:xfrm flipH="1">
            <a:off x="5791320" y="2914560"/>
            <a:ext cx="342720" cy="843120"/>
          </a:xfrm>
          <a:custGeom>
            <a:avLst/>
            <a:gdLst>
              <a:gd name="textAreaLeft" fmla="*/ 360 w 342720"/>
              <a:gd name="textAreaRight" fmla="*/ 343440 w 342720"/>
              <a:gd name="textAreaTop" fmla="*/ 0 h 843120"/>
              <a:gd name="textAreaBottom" fmla="*/ 843480 h 843120"/>
            </a:gdLst>
            <a:ahLst/>
            <a:rect l="textAreaLeft" t="textAreaTop" r="textAreaRight" b="textAreaBottom"/>
            <a:pathLst>
              <a:path fill="none" w="43200" h="31247">
                <a:moveTo>
                  <a:pt x="7" y="22157"/>
                </a:moveTo>
                <a:cubicBezTo>
                  <a:pt x="2" y="21972"/>
                  <a:pt x="0" y="2178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4948"/>
                  <a:pt x="-23115" y="28251"/>
                  <a:pt x="-24610" y="31247"/>
                </a:cubicBezTo>
              </a:path>
              <a:path stroke="0" w="43200" h="31247">
                <a:moveTo>
                  <a:pt x="7" y="22157"/>
                </a:moveTo>
                <a:cubicBezTo>
                  <a:pt x="2" y="21972"/>
                  <a:pt x="0" y="2178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4948"/>
                  <a:pt x="-23115" y="28251"/>
                  <a:pt x="-24610" y="31247"/>
                </a:cubicBezTo>
                <a:lnTo>
                  <a:pt x="21600" y="21600"/>
                </a:lnTo>
                <a:lnTo>
                  <a:pt x="7" y="2215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64" name="Line 11"/>
          <p:cNvSpPr/>
          <p:nvPr/>
        </p:nvSpPr>
        <p:spPr>
          <a:xfrm>
            <a:off x="5626080" y="2674800"/>
            <a:ext cx="80028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65" name="Line 12"/>
          <p:cNvSpPr/>
          <p:nvPr/>
        </p:nvSpPr>
        <p:spPr>
          <a:xfrm flipV="1">
            <a:off x="5283360" y="2674800"/>
            <a:ext cx="14857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66" name="Arc 13"/>
          <p:cNvSpPr/>
          <p:nvPr/>
        </p:nvSpPr>
        <p:spPr>
          <a:xfrm flipH="1">
            <a:off x="5511240" y="1974960"/>
            <a:ext cx="912600" cy="928440"/>
          </a:xfrm>
          <a:custGeom>
            <a:avLst/>
            <a:gdLst>
              <a:gd name="textAreaLeft" fmla="*/ -360 w 912600"/>
              <a:gd name="textAreaRight" fmla="*/ 912600 w 91260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fill="none" w="43183" h="21600">
                <a:moveTo>
                  <a:pt x="43182" y="252"/>
                </a:moveTo>
                <a:cubicBezTo>
                  <a:pt x="43043" y="12082"/>
                  <a:pt x="33414" y="21599"/>
                  <a:pt x="21584" y="21600"/>
                </a:cubicBezTo>
                <a:cubicBezTo>
                  <a:pt x="9976" y="21600"/>
                  <a:pt x="443" y="12425"/>
                  <a:pt x="-1" y="826"/>
                </a:cubicBezTo>
              </a:path>
              <a:path stroke="0" w="43183" h="21600">
                <a:moveTo>
                  <a:pt x="43182" y="252"/>
                </a:moveTo>
                <a:cubicBezTo>
                  <a:pt x="43043" y="12082"/>
                  <a:pt x="33414" y="21599"/>
                  <a:pt x="21584" y="21600"/>
                </a:cubicBezTo>
                <a:cubicBezTo>
                  <a:pt x="9976" y="21600"/>
                  <a:pt x="443" y="12425"/>
                  <a:pt x="-1" y="826"/>
                </a:cubicBezTo>
                <a:lnTo>
                  <a:pt x="21584" y="0"/>
                </a:lnTo>
                <a:lnTo>
                  <a:pt x="43182" y="25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67" name="Arc 14"/>
          <p:cNvSpPr/>
          <p:nvPr/>
        </p:nvSpPr>
        <p:spPr>
          <a:xfrm>
            <a:off x="6413400" y="1906560"/>
            <a:ext cx="1101960" cy="291960"/>
          </a:xfrm>
          <a:custGeom>
            <a:avLst/>
            <a:gdLst>
              <a:gd name="textAreaLeft" fmla="*/ 0 w 1101960"/>
              <a:gd name="textAreaRight" fmla="*/ 1102320 w 110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fill="none" w="28002" h="43188">
                <a:moveTo>
                  <a:pt x="20889" y="43188"/>
                </a:moveTo>
                <a:cubicBezTo>
                  <a:pt x="9243" y="42805"/>
                  <a:pt x="0" y="3325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770" y="-1"/>
                  <a:pt x="25928" y="327"/>
                  <a:pt x="28002" y="970"/>
                </a:cubicBezTo>
              </a:path>
              <a:path stroke="0" w="28002" h="43188">
                <a:moveTo>
                  <a:pt x="20889" y="43188"/>
                </a:moveTo>
                <a:cubicBezTo>
                  <a:pt x="9243" y="42805"/>
                  <a:pt x="0" y="3325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770" y="-1"/>
                  <a:pt x="25928" y="327"/>
                  <a:pt x="28002" y="970"/>
                </a:cubicBezTo>
                <a:lnTo>
                  <a:pt x="21600" y="21600"/>
                </a:lnTo>
                <a:lnTo>
                  <a:pt x="20889" y="4318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68" name="Arc 15"/>
          <p:cNvSpPr/>
          <p:nvPr/>
        </p:nvSpPr>
        <p:spPr>
          <a:xfrm rot="10800000">
            <a:off x="4432320" y="1868400"/>
            <a:ext cx="1101600" cy="292320"/>
          </a:xfrm>
          <a:custGeom>
            <a:avLst/>
            <a:gdLst>
              <a:gd name="textAreaLeft" fmla="*/ 0 w 1101600"/>
              <a:gd name="textAreaRight" fmla="*/ 1101960 w 110160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fill="none" w="28002" h="43188">
                <a:moveTo>
                  <a:pt x="20889" y="43188"/>
                </a:moveTo>
                <a:cubicBezTo>
                  <a:pt x="9243" y="42805"/>
                  <a:pt x="0" y="3325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770" y="-1"/>
                  <a:pt x="25928" y="327"/>
                  <a:pt x="28002" y="970"/>
                </a:cubicBezTo>
              </a:path>
              <a:path stroke="0" w="28002" h="43188">
                <a:moveTo>
                  <a:pt x="20889" y="43188"/>
                </a:moveTo>
                <a:cubicBezTo>
                  <a:pt x="9243" y="42805"/>
                  <a:pt x="0" y="3325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770" y="-1"/>
                  <a:pt x="25928" y="327"/>
                  <a:pt x="28002" y="970"/>
                </a:cubicBezTo>
                <a:lnTo>
                  <a:pt x="21600" y="21600"/>
                </a:lnTo>
                <a:lnTo>
                  <a:pt x="20889" y="4318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69" name="Line 17"/>
          <p:cNvSpPr/>
          <p:nvPr/>
        </p:nvSpPr>
        <p:spPr>
          <a:xfrm flipV="1">
            <a:off x="1925640" y="3887640"/>
            <a:ext cx="0" cy="210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70" name="Line 18"/>
          <p:cNvSpPr/>
          <p:nvPr/>
        </p:nvSpPr>
        <p:spPr>
          <a:xfrm>
            <a:off x="925560" y="511812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71" name="Line 19"/>
          <p:cNvSpPr/>
          <p:nvPr/>
        </p:nvSpPr>
        <p:spPr>
          <a:xfrm flipH="1">
            <a:off x="800280" y="4593600"/>
            <a:ext cx="19461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72" name="Text Box 20"/>
          <p:cNvSpPr/>
          <p:nvPr/>
        </p:nvSpPr>
        <p:spPr>
          <a:xfrm>
            <a:off x="1647720" y="3722760"/>
            <a:ext cx="5000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6699"/>
                </a:solidFill>
                <a:latin typeface="Verdana"/>
              </a:rPr>
              <a:t>z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73" name="Text Box 21"/>
          <p:cNvSpPr/>
          <p:nvPr/>
        </p:nvSpPr>
        <p:spPr>
          <a:xfrm>
            <a:off x="533520" y="5583240"/>
            <a:ext cx="5000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i="1" lang="en-US" sz="1100" spc="-1" strike="noStrike">
                <a:solidFill>
                  <a:srgbClr val="336699"/>
                </a:solidFill>
                <a:latin typeface="Verdana"/>
              </a:rPr>
              <a:t>x</a:t>
            </a:r>
            <a:endParaRPr b="0" lang="en-US" sz="1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74" name="Text Box 22"/>
          <p:cNvSpPr/>
          <p:nvPr/>
        </p:nvSpPr>
        <p:spPr>
          <a:xfrm>
            <a:off x="3233880" y="4964040"/>
            <a:ext cx="500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i="1" lang="en-US" sz="1200" spc="-1" strike="noStrike">
                <a:solidFill>
                  <a:srgbClr val="336699"/>
                </a:solidFill>
                <a:latin typeface="Verdana"/>
              </a:rPr>
              <a:t>y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75" name="Oval 23"/>
          <p:cNvSpPr/>
          <p:nvPr/>
        </p:nvSpPr>
        <p:spPr>
          <a:xfrm>
            <a:off x="1592280" y="4295880"/>
            <a:ext cx="625320" cy="135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76" name="Oval 24"/>
          <p:cNvSpPr/>
          <p:nvPr/>
        </p:nvSpPr>
        <p:spPr>
          <a:xfrm>
            <a:off x="1606680" y="5746680"/>
            <a:ext cx="625320" cy="135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77" name="Line 25"/>
          <p:cNvSpPr/>
          <p:nvPr/>
        </p:nvSpPr>
        <p:spPr>
          <a:xfrm>
            <a:off x="1577880" y="4356000"/>
            <a:ext cx="668520" cy="148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78" name="Line 26"/>
          <p:cNvSpPr/>
          <p:nvPr/>
        </p:nvSpPr>
        <p:spPr>
          <a:xfrm flipH="1">
            <a:off x="1633680" y="4370400"/>
            <a:ext cx="598320" cy="14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79" name="Line 27"/>
          <p:cNvSpPr/>
          <p:nvPr/>
        </p:nvSpPr>
        <p:spPr>
          <a:xfrm flipH="1">
            <a:off x="1800360" y="4295880"/>
            <a:ext cx="250560" cy="1616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80" name="Line 28"/>
          <p:cNvSpPr/>
          <p:nvPr/>
        </p:nvSpPr>
        <p:spPr>
          <a:xfrm>
            <a:off x="1787400" y="4430880"/>
            <a:ext cx="249480" cy="1347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81" name="Line 30"/>
          <p:cNvSpPr/>
          <p:nvPr/>
        </p:nvSpPr>
        <p:spPr>
          <a:xfrm flipV="1">
            <a:off x="1943280" y="1700280"/>
            <a:ext cx="0" cy="17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82" name="Line 31"/>
          <p:cNvSpPr/>
          <p:nvPr/>
        </p:nvSpPr>
        <p:spPr>
          <a:xfrm>
            <a:off x="1028880" y="2795760"/>
            <a:ext cx="217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83" name="Line 32"/>
          <p:cNvSpPr/>
          <p:nvPr/>
        </p:nvSpPr>
        <p:spPr>
          <a:xfrm flipH="1">
            <a:off x="914040" y="2350440"/>
            <a:ext cx="1778040" cy="105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84" name="Text Box 33"/>
          <p:cNvSpPr/>
          <p:nvPr/>
        </p:nvSpPr>
        <p:spPr>
          <a:xfrm>
            <a:off x="1689120" y="1623960"/>
            <a:ext cx="45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Z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85" name="Text Box 34"/>
          <p:cNvSpPr/>
          <p:nvPr/>
        </p:nvSpPr>
        <p:spPr>
          <a:xfrm>
            <a:off x="685800" y="3186000"/>
            <a:ext cx="45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1100" spc="-1" strike="noStrike">
                <a:solidFill>
                  <a:srgbClr val="336699"/>
                </a:solidFill>
                <a:latin typeface="Verdana"/>
              </a:rPr>
              <a:t>x</a:t>
            </a:r>
            <a:endParaRPr b="0" lang="en-US" sz="1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86" name="Text Box 35"/>
          <p:cNvSpPr/>
          <p:nvPr/>
        </p:nvSpPr>
        <p:spPr>
          <a:xfrm>
            <a:off x="3137040" y="2665440"/>
            <a:ext cx="457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y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87" name="Oval 36"/>
          <p:cNvSpPr/>
          <p:nvPr/>
        </p:nvSpPr>
        <p:spPr>
          <a:xfrm>
            <a:off x="1371600" y="2043000"/>
            <a:ext cx="11430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88" name="Arc 37"/>
          <p:cNvSpPr/>
          <p:nvPr/>
        </p:nvSpPr>
        <p:spPr>
          <a:xfrm flipH="1" rot="16200000">
            <a:off x="1607760" y="1902600"/>
            <a:ext cx="668520" cy="1143000"/>
          </a:xfrm>
          <a:custGeom>
            <a:avLst/>
            <a:gdLst>
              <a:gd name="textAreaLeft" fmla="*/ -360 w 668520"/>
              <a:gd name="textAreaRight" fmla="*/ 668520 w 6685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89" name="Arc 38"/>
          <p:cNvSpPr/>
          <p:nvPr/>
        </p:nvSpPr>
        <p:spPr>
          <a:xfrm flipH="1">
            <a:off x="1752480" y="2031840"/>
            <a:ext cx="363600" cy="770040"/>
          </a:xfrm>
          <a:custGeom>
            <a:avLst/>
            <a:gdLst>
              <a:gd name="textAreaLeft" fmla="*/ 360 w 363600"/>
              <a:gd name="textAreaRight" fmla="*/ 364320 w 363600"/>
              <a:gd name="textAreaTop" fmla="*/ 0 h 770040"/>
              <a:gd name="textAreaBottom" fmla="*/ 770400 h 770040"/>
            </a:gdLst>
            <a:ahLst/>
            <a:rect l="textAreaLeft" t="textAreaTop" r="textAreaRight" b="textAreaBottom"/>
            <a:pathLst>
              <a:path fill="none" w="43200" h="29490">
                <a:moveTo>
                  <a:pt x="43199" y="7889"/>
                </a:moveTo>
                <a:cubicBezTo>
                  <a:pt x="43199" y="7889"/>
                  <a:pt x="43200" y="7889"/>
                  <a:pt x="43200" y="7890"/>
                </a:cubicBezTo>
                <a:cubicBezTo>
                  <a:pt x="43200" y="19819"/>
                  <a:pt x="33529" y="29490"/>
                  <a:pt x="21600" y="29490"/>
                </a:cubicBezTo>
                <a:cubicBezTo>
                  <a:pt x="9670" y="29490"/>
                  <a:pt x="0" y="19819"/>
                  <a:pt x="0" y="7890"/>
                </a:cubicBezTo>
                <a:cubicBezTo>
                  <a:pt x="-1" y="5189"/>
                  <a:pt x="506" y="2513"/>
                  <a:pt x="1492" y="0"/>
                </a:cubicBezTo>
              </a:path>
              <a:path stroke="0" w="43200" h="29490">
                <a:moveTo>
                  <a:pt x="43199" y="7889"/>
                </a:moveTo>
                <a:cubicBezTo>
                  <a:pt x="43199" y="7889"/>
                  <a:pt x="43200" y="7889"/>
                  <a:pt x="43200" y="7890"/>
                </a:cubicBezTo>
                <a:cubicBezTo>
                  <a:pt x="43200" y="19819"/>
                  <a:pt x="33529" y="29490"/>
                  <a:pt x="21600" y="29490"/>
                </a:cubicBezTo>
                <a:cubicBezTo>
                  <a:pt x="9670" y="29490"/>
                  <a:pt x="0" y="19819"/>
                  <a:pt x="0" y="7890"/>
                </a:cubicBezTo>
                <a:cubicBezTo>
                  <a:pt x="-1" y="5189"/>
                  <a:pt x="506" y="2513"/>
                  <a:pt x="1492" y="0"/>
                </a:cubicBezTo>
                <a:lnTo>
                  <a:pt x="21600" y="7890"/>
                </a:lnTo>
                <a:lnTo>
                  <a:pt x="43199" y="78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90" name="Line 40"/>
          <p:cNvSpPr/>
          <p:nvPr/>
        </p:nvSpPr>
        <p:spPr>
          <a:xfrm flipV="1">
            <a:off x="6081840" y="407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91" name="Line 41"/>
          <p:cNvSpPr/>
          <p:nvPr/>
        </p:nvSpPr>
        <p:spPr>
          <a:xfrm flipH="1">
            <a:off x="5028840" y="522936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92" name="Line 42"/>
          <p:cNvSpPr/>
          <p:nvPr/>
        </p:nvSpPr>
        <p:spPr>
          <a:xfrm>
            <a:off x="6081840" y="522756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93" name="Line 43"/>
          <p:cNvSpPr/>
          <p:nvPr/>
        </p:nvSpPr>
        <p:spPr>
          <a:xfrm flipH="1">
            <a:off x="5353200" y="4476600"/>
            <a:ext cx="7286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94" name="Line 44"/>
          <p:cNvSpPr/>
          <p:nvPr/>
        </p:nvSpPr>
        <p:spPr>
          <a:xfrm>
            <a:off x="6081840" y="44766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95" name="Line 45"/>
          <p:cNvSpPr/>
          <p:nvPr/>
        </p:nvSpPr>
        <p:spPr>
          <a:xfrm flipV="1">
            <a:off x="5334120" y="5222880"/>
            <a:ext cx="1523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96" name="Text Box 46"/>
          <p:cNvSpPr/>
          <p:nvPr/>
        </p:nvSpPr>
        <p:spPr>
          <a:xfrm>
            <a:off x="933840" y="3384720"/>
            <a:ext cx="2515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Paraboloida Eliptik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97" name="Text Box 47"/>
          <p:cNvSpPr/>
          <p:nvPr/>
        </p:nvSpPr>
        <p:spPr>
          <a:xfrm>
            <a:off x="4920120" y="3537000"/>
            <a:ext cx="3056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Paraboloida Hiperbolik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98" name="Text Box 48"/>
          <p:cNvSpPr/>
          <p:nvPr/>
        </p:nvSpPr>
        <p:spPr>
          <a:xfrm>
            <a:off x="913320" y="5911920"/>
            <a:ext cx="1985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Kerucut Eliptik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99" name="Text Box 49"/>
          <p:cNvSpPr/>
          <p:nvPr/>
        </p:nvSpPr>
        <p:spPr>
          <a:xfrm>
            <a:off x="6383520" y="5715000"/>
            <a:ext cx="1066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Bidang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00" name="Text Box 50"/>
          <p:cNvSpPr/>
          <p:nvPr/>
        </p:nvSpPr>
        <p:spPr>
          <a:xfrm>
            <a:off x="7462440" y="5251320"/>
            <a:ext cx="316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01" name="Text Box 51"/>
          <p:cNvSpPr/>
          <p:nvPr/>
        </p:nvSpPr>
        <p:spPr>
          <a:xfrm>
            <a:off x="4809960" y="5530680"/>
            <a:ext cx="322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02" name="Text Box 52"/>
          <p:cNvSpPr/>
          <p:nvPr/>
        </p:nvSpPr>
        <p:spPr>
          <a:xfrm>
            <a:off x="5655600" y="3962520"/>
            <a:ext cx="305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z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1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8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1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4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1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4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0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3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6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8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0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3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6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9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2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5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8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ihan: Gambark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609480" y="1380960"/>
            <a:ext cx="830592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 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x + 2y + 4z = 8 , di okta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 z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9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 4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 =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 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z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2x – 2y – 4z =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2EAE-8EBA-4EAD-9D77-AB09CD260B24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FD1A-5404-4A1B-B554-C8532B865C18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ngsi Dua Peuba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si: Fungsi dua peubah adalah aturan yang mengaitkan setiap pasangan terurut (x,y) dengan tepat satu z =f(x,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asi : f : 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   ( A C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66960" indent="-49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,y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z = f(x,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o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66960" indent="-49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,y)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+ 4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66960" indent="-49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66960" indent="-49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66960" indent="-49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,y)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4BFC-203D-4ACF-BDF3-22D4B9676C38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52E6-52E2-4CC4-BD4F-C10DC3CBC012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Object 4"/>
              <p:cNvSpPr txBox="1"/>
              <p:nvPr/>
            </p:nvSpPr>
            <p:spPr>
              <a:xfrm>
                <a:off x="6095880" y="4800600"/>
                <a:ext cx="247032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 </m:t>
                        </m:r>
                        <m:r>
                          <m:t xml:space="preserve">3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14" name="Rectangle 5"/>
          <p:cNvSpPr/>
          <p:nvPr/>
        </p:nvSpPr>
        <p:spPr>
          <a:xfrm>
            <a:off x="4520880" y="4957200"/>
            <a:ext cx="14976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  </a:t>
            </a: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f(x,y) =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6"/>
              <p:cNvSpPr txBox="1"/>
              <p:nvPr/>
            </p:nvSpPr>
            <p:spPr>
              <a:xfrm>
                <a:off x="2649600" y="5665680"/>
                <a:ext cx="184608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erah Asal (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dan Daerah Nilai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286C-360B-4912-B7E3-42B8FD442D73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FEAB-FB93-49D0-A816-401D89D5AA2C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Object 3"/>
              <p:cNvSpPr txBox="1"/>
              <p:nvPr/>
            </p:nvSpPr>
            <p:spPr>
              <a:xfrm>
                <a:off x="990720" y="1523880"/>
                <a:ext cx="38098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1" name="Rectangle 4"/>
          <p:cNvSpPr/>
          <p:nvPr/>
        </p:nvSpPr>
        <p:spPr>
          <a:xfrm>
            <a:off x="951120" y="2949480"/>
            <a:ext cx="53622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Contoh. Tentukan dan gambarkan D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  <a:ea typeface="Times New Roman"/>
              </a:rPr>
              <a:t>f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 dari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Object 5"/>
              <p:cNvSpPr txBox="1"/>
              <p:nvPr/>
            </p:nvSpPr>
            <p:spPr>
              <a:xfrm>
                <a:off x="990720" y="2209680"/>
                <a:ext cx="34290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3" name="Rectangle 6"/>
          <p:cNvSpPr/>
          <p:nvPr/>
        </p:nvSpPr>
        <p:spPr>
          <a:xfrm>
            <a:off x="1060920" y="3504600"/>
            <a:ext cx="230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1. f(x,y) = 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  <a:ea typeface="Times New Roman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+ 4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  <a:ea typeface="Times New Roman"/>
              </a:rPr>
              <a:t>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7"/>
              <p:cNvSpPr txBox="1"/>
              <p:nvPr/>
            </p:nvSpPr>
            <p:spPr>
              <a:xfrm>
                <a:off x="808200" y="3857760"/>
                <a:ext cx="349704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8"/>
              <p:cNvSpPr txBox="1"/>
              <p:nvPr/>
            </p:nvSpPr>
            <p:spPr>
              <a:xfrm>
                <a:off x="851040" y="4475160"/>
                <a:ext cx="2577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0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 (Jawab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513D-BCC8-4A21-85C3-B1CAD36771D7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BB77-3C5A-428E-ACDC-CABBA3ADC198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484920" y="1441440"/>
            <a:ext cx="404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1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1223640" y="1442880"/>
            <a:ext cx="35125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f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{(x,y)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R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| 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4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R}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32" name="Text Box 6"/>
          <p:cNvSpPr/>
          <p:nvPr/>
        </p:nvSpPr>
        <p:spPr>
          <a:xfrm>
            <a:off x="1383480" y="1949400"/>
            <a:ext cx="1633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{(x,y)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R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}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33" name="Line 7"/>
          <p:cNvSpPr/>
          <p:nvPr/>
        </p:nvSpPr>
        <p:spPr>
          <a:xfrm flipV="1">
            <a:off x="6019920" y="1371240"/>
            <a:ext cx="0" cy="21337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34" name="Line 8"/>
          <p:cNvSpPr/>
          <p:nvPr/>
        </p:nvSpPr>
        <p:spPr>
          <a:xfrm>
            <a:off x="4876920" y="2590920"/>
            <a:ext cx="2590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35" name="Line 9"/>
          <p:cNvSpPr/>
          <p:nvPr/>
        </p:nvSpPr>
        <p:spPr>
          <a:xfrm flipH="1">
            <a:off x="5028840" y="1523880"/>
            <a:ext cx="1143000" cy="14479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36" name="Line 10"/>
          <p:cNvSpPr/>
          <p:nvPr/>
        </p:nvSpPr>
        <p:spPr>
          <a:xfrm flipH="1">
            <a:off x="5257440" y="1523880"/>
            <a:ext cx="1143000" cy="14479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37" name="Line 11"/>
          <p:cNvSpPr/>
          <p:nvPr/>
        </p:nvSpPr>
        <p:spPr>
          <a:xfrm flipH="1">
            <a:off x="5409720" y="1676520"/>
            <a:ext cx="1143000" cy="14475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38" name="Line 12"/>
          <p:cNvSpPr/>
          <p:nvPr/>
        </p:nvSpPr>
        <p:spPr>
          <a:xfrm flipH="1">
            <a:off x="5638320" y="1752480"/>
            <a:ext cx="1143000" cy="14479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39" name="Line 13"/>
          <p:cNvSpPr/>
          <p:nvPr/>
        </p:nvSpPr>
        <p:spPr>
          <a:xfrm flipH="1">
            <a:off x="5790960" y="1905120"/>
            <a:ext cx="1143000" cy="14475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40" name="Line 14"/>
          <p:cNvSpPr/>
          <p:nvPr/>
        </p:nvSpPr>
        <p:spPr>
          <a:xfrm flipH="1">
            <a:off x="6019560" y="1981080"/>
            <a:ext cx="1143000" cy="14479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41" name="Line 15"/>
          <p:cNvSpPr/>
          <p:nvPr/>
        </p:nvSpPr>
        <p:spPr>
          <a:xfrm flipV="1">
            <a:off x="6400800" y="2285640"/>
            <a:ext cx="838080" cy="1066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42" name="Line 16"/>
          <p:cNvSpPr/>
          <p:nvPr/>
        </p:nvSpPr>
        <p:spPr>
          <a:xfrm flipV="1">
            <a:off x="5029200" y="1447560"/>
            <a:ext cx="914400" cy="11430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43" name="Text Box 17"/>
          <p:cNvSpPr/>
          <p:nvPr/>
        </p:nvSpPr>
        <p:spPr>
          <a:xfrm>
            <a:off x="7154640" y="2660760"/>
            <a:ext cx="322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44" name="Text Box 18"/>
          <p:cNvSpPr/>
          <p:nvPr/>
        </p:nvSpPr>
        <p:spPr>
          <a:xfrm>
            <a:off x="5557320" y="1136520"/>
            <a:ext cx="316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45" name="Text Box 21"/>
          <p:cNvSpPr/>
          <p:nvPr/>
        </p:nvSpPr>
        <p:spPr>
          <a:xfrm>
            <a:off x="556560" y="3675240"/>
            <a:ext cx="404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2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46" name="Text Box 23"/>
          <p:cNvSpPr/>
          <p:nvPr/>
        </p:nvSpPr>
        <p:spPr>
          <a:xfrm>
            <a:off x="1624320" y="4267080"/>
            <a:ext cx="3975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{(x,y)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R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| 36 – 9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 4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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0}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Object 24"/>
              <p:cNvSpPr txBox="1"/>
              <p:nvPr/>
            </p:nvSpPr>
            <p:spPr>
              <a:xfrm>
                <a:off x="996840" y="3505320"/>
                <a:ext cx="52516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|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∈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8" name="Text Box 28"/>
          <p:cNvSpPr/>
          <p:nvPr/>
        </p:nvSpPr>
        <p:spPr>
          <a:xfrm>
            <a:off x="1583280" y="4768920"/>
            <a:ext cx="3637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{(x,y)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R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|  9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4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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36}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graphicFrame>
        <p:nvGraphicFramePr>
          <p:cNvPr id="549" name="Object 30"/>
          <p:cNvGraphicFramePr/>
          <p:nvPr/>
        </p:nvGraphicFramePr>
        <p:xfrm>
          <a:off x="1476360" y="5203800"/>
          <a:ext cx="3621240" cy="9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5203800"/>
                    <a:ext cx="362124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Line 32"/>
          <p:cNvSpPr/>
          <p:nvPr/>
        </p:nvSpPr>
        <p:spPr>
          <a:xfrm flipV="1">
            <a:off x="7067520" y="4273200"/>
            <a:ext cx="0" cy="21337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52" name="Line 33"/>
          <p:cNvSpPr/>
          <p:nvPr/>
        </p:nvSpPr>
        <p:spPr>
          <a:xfrm>
            <a:off x="5924520" y="5492880"/>
            <a:ext cx="259092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53" name="Text Box 34"/>
          <p:cNvSpPr/>
          <p:nvPr/>
        </p:nvSpPr>
        <p:spPr>
          <a:xfrm>
            <a:off x="8202600" y="5562720"/>
            <a:ext cx="322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54" name="Text Box 35"/>
          <p:cNvSpPr/>
          <p:nvPr/>
        </p:nvSpPr>
        <p:spPr>
          <a:xfrm>
            <a:off x="6605280" y="4038480"/>
            <a:ext cx="316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55" name="Oval 36"/>
          <p:cNvSpPr/>
          <p:nvPr/>
        </p:nvSpPr>
        <p:spPr>
          <a:xfrm>
            <a:off x="6461280" y="4724280"/>
            <a:ext cx="1218960" cy="152424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56" name="Line 38"/>
          <p:cNvSpPr/>
          <p:nvPr/>
        </p:nvSpPr>
        <p:spPr>
          <a:xfrm flipV="1">
            <a:off x="6477120" y="4724280"/>
            <a:ext cx="457200" cy="6098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57" name="Line 39"/>
          <p:cNvSpPr/>
          <p:nvPr/>
        </p:nvSpPr>
        <p:spPr>
          <a:xfrm flipV="1">
            <a:off x="6477120" y="4724280"/>
            <a:ext cx="685800" cy="9907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58" name="Line 40"/>
          <p:cNvSpPr/>
          <p:nvPr/>
        </p:nvSpPr>
        <p:spPr>
          <a:xfrm flipV="1">
            <a:off x="6553080" y="4800240"/>
            <a:ext cx="762120" cy="11430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59" name="Line 41"/>
          <p:cNvSpPr/>
          <p:nvPr/>
        </p:nvSpPr>
        <p:spPr>
          <a:xfrm flipV="1">
            <a:off x="6705720" y="4936680"/>
            <a:ext cx="761760" cy="11588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60" name="Line 42"/>
          <p:cNvSpPr/>
          <p:nvPr/>
        </p:nvSpPr>
        <p:spPr>
          <a:xfrm flipV="1">
            <a:off x="6934320" y="5105160"/>
            <a:ext cx="685800" cy="11430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61" name="Line 43"/>
          <p:cNvSpPr/>
          <p:nvPr/>
        </p:nvSpPr>
        <p:spPr>
          <a:xfrm flipV="1">
            <a:off x="7223040" y="5454720"/>
            <a:ext cx="457200" cy="7617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62" name="Text Box 44"/>
          <p:cNvSpPr/>
          <p:nvPr/>
        </p:nvSpPr>
        <p:spPr>
          <a:xfrm>
            <a:off x="7652160" y="514980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6699"/>
                </a:solidFill>
                <a:latin typeface="Verdana"/>
              </a:rPr>
              <a:t>2</a:t>
            </a:r>
            <a:endParaRPr b="0" lang="en-US" sz="17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63" name="Text Box 45"/>
          <p:cNvSpPr/>
          <p:nvPr/>
        </p:nvSpPr>
        <p:spPr>
          <a:xfrm>
            <a:off x="7018560" y="443880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6699"/>
                </a:solidFill>
                <a:latin typeface="Verdana"/>
              </a:rPr>
              <a:t>3</a:t>
            </a:r>
            <a:endParaRPr b="0" lang="en-US" sz="17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1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4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62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65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68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71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3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3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3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3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3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3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3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3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2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5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8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1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4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 (Jawab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C26C-07AF-4746-943E-1E465D95F2D7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01C6-3660-4874-B06A-73D8D739647B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484920" y="1441440"/>
            <a:ext cx="404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3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1496160" y="1949400"/>
            <a:ext cx="3149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{(x,y)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R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| x(1 – y)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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0}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70" name="Line 6"/>
          <p:cNvSpPr/>
          <p:nvPr/>
        </p:nvSpPr>
        <p:spPr>
          <a:xfrm flipH="1" flipV="1">
            <a:off x="3792600" y="3663720"/>
            <a:ext cx="17280" cy="29653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71" name="Line 7"/>
          <p:cNvSpPr/>
          <p:nvPr/>
        </p:nvSpPr>
        <p:spPr>
          <a:xfrm>
            <a:off x="2666880" y="5486400"/>
            <a:ext cx="289584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72" name="Text Box 16"/>
          <p:cNvSpPr/>
          <p:nvPr/>
        </p:nvSpPr>
        <p:spPr>
          <a:xfrm>
            <a:off x="5486400" y="5241960"/>
            <a:ext cx="341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73" name="Text Box 17"/>
          <p:cNvSpPr/>
          <p:nvPr/>
        </p:nvSpPr>
        <p:spPr>
          <a:xfrm>
            <a:off x="3316320" y="3429000"/>
            <a:ext cx="341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Object 21"/>
              <p:cNvSpPr txBox="1"/>
              <p:nvPr/>
            </p:nvSpPr>
            <p:spPr>
              <a:xfrm>
                <a:off x="838080" y="1371600"/>
                <a:ext cx="44611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|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∈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5" name="Text Box 22"/>
          <p:cNvSpPr/>
          <p:nvPr/>
        </p:nvSpPr>
        <p:spPr>
          <a:xfrm>
            <a:off x="1538640" y="2482920"/>
            <a:ext cx="6693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{(x,y)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R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|x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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0 dan (1–y)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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0 atau x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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0 dan (1–y)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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0}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76" name="Text Box 23"/>
          <p:cNvSpPr/>
          <p:nvPr/>
        </p:nvSpPr>
        <p:spPr>
          <a:xfrm>
            <a:off x="1464480" y="2940120"/>
            <a:ext cx="6148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{(x,y)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R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|x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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0 dan y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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1 atau x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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0 dan y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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1}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77" name="Line 25"/>
          <p:cNvSpPr/>
          <p:nvPr/>
        </p:nvSpPr>
        <p:spPr>
          <a:xfrm flipH="1" flipV="1">
            <a:off x="3806640" y="6156360"/>
            <a:ext cx="1523880" cy="1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78" name="Line 26"/>
          <p:cNvSpPr/>
          <p:nvPr/>
        </p:nvSpPr>
        <p:spPr>
          <a:xfrm flipH="1" flipV="1">
            <a:off x="3809880" y="5927760"/>
            <a:ext cx="1524240" cy="1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79" name="Line 27"/>
          <p:cNvSpPr/>
          <p:nvPr/>
        </p:nvSpPr>
        <p:spPr>
          <a:xfrm flipH="1" flipV="1">
            <a:off x="3806640" y="5699160"/>
            <a:ext cx="1523880" cy="1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80" name="Line 28"/>
          <p:cNvSpPr/>
          <p:nvPr/>
        </p:nvSpPr>
        <p:spPr>
          <a:xfrm flipH="1" flipV="1">
            <a:off x="3777840" y="3962520"/>
            <a:ext cx="1523880" cy="1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81" name="Line 29"/>
          <p:cNvSpPr/>
          <p:nvPr/>
        </p:nvSpPr>
        <p:spPr>
          <a:xfrm flipH="1">
            <a:off x="3806640" y="6477120"/>
            <a:ext cx="152388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82" name="Line 30"/>
          <p:cNvSpPr/>
          <p:nvPr/>
        </p:nvSpPr>
        <p:spPr>
          <a:xfrm flipH="1" flipV="1">
            <a:off x="3806640" y="6327360"/>
            <a:ext cx="1523880" cy="1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83" name="Line 31"/>
          <p:cNvSpPr/>
          <p:nvPr/>
        </p:nvSpPr>
        <p:spPr>
          <a:xfrm flipH="1" flipV="1">
            <a:off x="3806640" y="5546880"/>
            <a:ext cx="1523880" cy="1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84" name="Line 32"/>
          <p:cNvSpPr/>
          <p:nvPr/>
        </p:nvSpPr>
        <p:spPr>
          <a:xfrm flipH="1" flipV="1">
            <a:off x="3809880" y="5318280"/>
            <a:ext cx="1524240" cy="1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85" name="Line 33"/>
          <p:cNvSpPr/>
          <p:nvPr/>
        </p:nvSpPr>
        <p:spPr>
          <a:xfrm flipH="1" flipV="1">
            <a:off x="3777840" y="4172040"/>
            <a:ext cx="1523880" cy="1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86" name="Line 34"/>
          <p:cNvSpPr/>
          <p:nvPr/>
        </p:nvSpPr>
        <p:spPr>
          <a:xfrm>
            <a:off x="2438280" y="5181480"/>
            <a:ext cx="2971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87" name="Line 40"/>
          <p:cNvSpPr/>
          <p:nvPr/>
        </p:nvSpPr>
        <p:spPr>
          <a:xfrm flipV="1">
            <a:off x="2971800" y="516564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88" name="Line 41"/>
          <p:cNvSpPr/>
          <p:nvPr/>
        </p:nvSpPr>
        <p:spPr>
          <a:xfrm flipV="1">
            <a:off x="3156120" y="516564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89" name="Line 42"/>
          <p:cNvSpPr/>
          <p:nvPr/>
        </p:nvSpPr>
        <p:spPr>
          <a:xfrm flipV="1">
            <a:off x="3371760" y="518148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90" name="Line 43"/>
          <p:cNvSpPr/>
          <p:nvPr/>
        </p:nvSpPr>
        <p:spPr>
          <a:xfrm flipV="1">
            <a:off x="3537000" y="518148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91" name="Line 44"/>
          <p:cNvSpPr/>
          <p:nvPr/>
        </p:nvSpPr>
        <p:spPr>
          <a:xfrm flipV="1">
            <a:off x="3886200" y="516564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92" name="Line 45"/>
          <p:cNvSpPr/>
          <p:nvPr/>
        </p:nvSpPr>
        <p:spPr>
          <a:xfrm flipV="1">
            <a:off x="3705120" y="518148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93" name="Line 46"/>
          <p:cNvSpPr/>
          <p:nvPr/>
        </p:nvSpPr>
        <p:spPr>
          <a:xfrm flipV="1">
            <a:off x="4038480" y="514980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94" name="Line 47"/>
          <p:cNvSpPr/>
          <p:nvPr/>
        </p:nvSpPr>
        <p:spPr>
          <a:xfrm flipV="1">
            <a:off x="4191120" y="514980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95" name="Line 48"/>
          <p:cNvSpPr/>
          <p:nvPr/>
        </p:nvSpPr>
        <p:spPr>
          <a:xfrm flipV="1">
            <a:off x="4343400" y="516564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96" name="Line 49"/>
          <p:cNvSpPr/>
          <p:nvPr/>
        </p:nvSpPr>
        <p:spPr>
          <a:xfrm flipV="1">
            <a:off x="4495680" y="514980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97" name="Line 50"/>
          <p:cNvSpPr/>
          <p:nvPr/>
        </p:nvSpPr>
        <p:spPr>
          <a:xfrm flipV="1">
            <a:off x="4648320" y="514980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98" name="Line 51"/>
          <p:cNvSpPr/>
          <p:nvPr/>
        </p:nvSpPr>
        <p:spPr>
          <a:xfrm flipV="1">
            <a:off x="4844880" y="513720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99" name="Line 52"/>
          <p:cNvSpPr/>
          <p:nvPr/>
        </p:nvSpPr>
        <p:spPr>
          <a:xfrm flipV="1">
            <a:off x="5029200" y="514980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00" name="Line 53"/>
          <p:cNvSpPr/>
          <p:nvPr/>
        </p:nvSpPr>
        <p:spPr>
          <a:xfrm flipV="1">
            <a:off x="5181480" y="514980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01" name="Line 54"/>
          <p:cNvSpPr/>
          <p:nvPr/>
        </p:nvSpPr>
        <p:spPr>
          <a:xfrm flipV="1">
            <a:off x="5334120" y="516564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02" name="Line 71"/>
          <p:cNvSpPr/>
          <p:nvPr/>
        </p:nvSpPr>
        <p:spPr>
          <a:xfrm flipH="1" flipV="1">
            <a:off x="2282760" y="4861080"/>
            <a:ext cx="1524240" cy="1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03" name="Line 72"/>
          <p:cNvSpPr/>
          <p:nvPr/>
        </p:nvSpPr>
        <p:spPr>
          <a:xfrm flipH="1" flipV="1">
            <a:off x="2285640" y="4632480"/>
            <a:ext cx="1523880" cy="1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04" name="Line 73"/>
          <p:cNvSpPr/>
          <p:nvPr/>
        </p:nvSpPr>
        <p:spPr>
          <a:xfrm flipH="1" flipV="1">
            <a:off x="2282760" y="4403880"/>
            <a:ext cx="1524240" cy="1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05" name="Line 74"/>
          <p:cNvSpPr/>
          <p:nvPr/>
        </p:nvSpPr>
        <p:spPr>
          <a:xfrm flipH="1">
            <a:off x="2282760" y="5181480"/>
            <a:ext cx="152424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06" name="Line 75"/>
          <p:cNvSpPr/>
          <p:nvPr/>
        </p:nvSpPr>
        <p:spPr>
          <a:xfrm flipH="1" flipV="1">
            <a:off x="2282760" y="5032440"/>
            <a:ext cx="1524240" cy="1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07" name="Line 76"/>
          <p:cNvSpPr/>
          <p:nvPr/>
        </p:nvSpPr>
        <p:spPr>
          <a:xfrm flipH="1" flipV="1">
            <a:off x="2282760" y="4250880"/>
            <a:ext cx="1524240" cy="1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08" name="Line 77"/>
          <p:cNvSpPr/>
          <p:nvPr/>
        </p:nvSpPr>
        <p:spPr>
          <a:xfrm flipH="1" flipV="1">
            <a:off x="2285640" y="4022280"/>
            <a:ext cx="1523880" cy="1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09" name="Line 79"/>
          <p:cNvSpPr/>
          <p:nvPr/>
        </p:nvSpPr>
        <p:spPr>
          <a:xfrm flipV="1">
            <a:off x="2467080" y="379080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10" name="Line 80"/>
          <p:cNvSpPr/>
          <p:nvPr/>
        </p:nvSpPr>
        <p:spPr>
          <a:xfrm flipV="1">
            <a:off x="2619360" y="380700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11" name="Line 81"/>
          <p:cNvSpPr/>
          <p:nvPr/>
        </p:nvSpPr>
        <p:spPr>
          <a:xfrm flipV="1">
            <a:off x="2771640" y="380988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12" name="Line 82"/>
          <p:cNvSpPr/>
          <p:nvPr/>
        </p:nvSpPr>
        <p:spPr>
          <a:xfrm flipV="1">
            <a:off x="2924280" y="380988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13" name="Line 83"/>
          <p:cNvSpPr/>
          <p:nvPr/>
        </p:nvSpPr>
        <p:spPr>
          <a:xfrm flipV="1">
            <a:off x="3121200" y="379728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14" name="Line 84"/>
          <p:cNvSpPr/>
          <p:nvPr/>
        </p:nvSpPr>
        <p:spPr>
          <a:xfrm flipV="1">
            <a:off x="3305160" y="380988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15" name="Line 85"/>
          <p:cNvSpPr/>
          <p:nvPr/>
        </p:nvSpPr>
        <p:spPr>
          <a:xfrm flipV="1">
            <a:off x="3457440" y="380988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16" name="Line 86"/>
          <p:cNvSpPr/>
          <p:nvPr/>
        </p:nvSpPr>
        <p:spPr>
          <a:xfrm flipV="1">
            <a:off x="3581280" y="3809880"/>
            <a:ext cx="0" cy="1371600"/>
          </a:xfrm>
          <a:prstGeom prst="line">
            <a:avLst/>
          </a:prstGeom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17" name="Line 87"/>
          <p:cNvSpPr/>
          <p:nvPr/>
        </p:nvSpPr>
        <p:spPr>
          <a:xfrm flipH="1" flipV="1">
            <a:off x="3809880" y="4341960"/>
            <a:ext cx="1524240" cy="1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18" name="Line 88"/>
          <p:cNvSpPr/>
          <p:nvPr/>
        </p:nvSpPr>
        <p:spPr>
          <a:xfrm flipH="1" flipV="1">
            <a:off x="3809880" y="4551480"/>
            <a:ext cx="1524240" cy="1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19" name="Line 89"/>
          <p:cNvSpPr/>
          <p:nvPr/>
        </p:nvSpPr>
        <p:spPr>
          <a:xfrm flipH="1" flipV="1">
            <a:off x="3809880" y="4799160"/>
            <a:ext cx="1524240" cy="1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20" name="Line 90"/>
          <p:cNvSpPr/>
          <p:nvPr/>
        </p:nvSpPr>
        <p:spPr>
          <a:xfrm flipH="1" flipV="1">
            <a:off x="3809880" y="5008680"/>
            <a:ext cx="1524240" cy="1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0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0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3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6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9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2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3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3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3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3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3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3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3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3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3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3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3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8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3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6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0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0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0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1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1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1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1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2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2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2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4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4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4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4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5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5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5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7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7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0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3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9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2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5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8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1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6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9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5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8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1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4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7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0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3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6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9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2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5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8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atih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ntukan dan Gambarkan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A043-30F3-4E6D-B9E9-53FA6CB9F3C1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2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2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616B-9951-4A23-B87A-A1C0A3342326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517680" y="1955160"/>
            <a:ext cx="2125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1.   f(x,y) =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5"/>
              <p:cNvSpPr txBox="1"/>
              <p:nvPr/>
            </p:nvSpPr>
            <p:spPr>
              <a:xfrm>
                <a:off x="2459160" y="1700280"/>
                <a:ext cx="15793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28" name="Group 19"/>
          <p:cNvGrpSpPr/>
          <p:nvPr/>
        </p:nvGrpSpPr>
        <p:grpSpPr>
          <a:xfrm>
            <a:off x="4022640" y="2627280"/>
            <a:ext cx="3521160" cy="776160"/>
            <a:chOff x="4022640" y="2627280"/>
            <a:chExt cx="3521160" cy="776160"/>
          </a:xfrm>
        </p:grpSpPr>
        <p:sp>
          <p:nvSpPr>
            <p:cNvPr id="629" name="Rectangle 6"/>
            <p:cNvSpPr/>
            <p:nvPr/>
          </p:nvSpPr>
          <p:spPr>
            <a:xfrm>
              <a:off x="4022640" y="2766600"/>
              <a:ext cx="21258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336699"/>
                  </a:solidFill>
                  <a:latin typeface="Verdana"/>
                  <a:ea typeface="Times New Roman"/>
                </a:rPr>
                <a:t>5.   f(x,y) =</a:t>
              </a: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0" name="Object 7"/>
                <p:cNvSpPr txBox="1"/>
                <p:nvPr/>
              </p:nvSpPr>
              <p:spPr>
                <a:xfrm>
                  <a:off x="6075360" y="2627280"/>
                  <a:ext cx="1468440" cy="77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 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y</m:t>
                              </m:r>
                              <m:r>
                                <m:t xml:space="preserve">−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1" name="Group 16"/>
          <p:cNvGrpSpPr/>
          <p:nvPr/>
        </p:nvGrpSpPr>
        <p:grpSpPr>
          <a:xfrm>
            <a:off x="517680" y="2549520"/>
            <a:ext cx="2835000" cy="843120"/>
            <a:chOff x="517680" y="2549520"/>
            <a:chExt cx="2835000" cy="843120"/>
          </a:xfrm>
        </p:grpSpPr>
        <p:sp>
          <p:nvSpPr>
            <p:cNvPr id="632" name="Rectangle 8"/>
            <p:cNvSpPr/>
            <p:nvPr/>
          </p:nvSpPr>
          <p:spPr>
            <a:xfrm>
              <a:off x="517680" y="2793600"/>
              <a:ext cx="21258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336699"/>
                  </a:solidFill>
                  <a:latin typeface="Verdana"/>
                  <a:ea typeface="Times New Roman"/>
                </a:rPr>
                <a:t>2.   f(x,y) =</a:t>
              </a: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3" name="Object 9"/>
                <p:cNvSpPr txBox="1"/>
                <p:nvPr/>
              </p:nvSpPr>
              <p:spPr>
                <a:xfrm>
                  <a:off x="2417760" y="2549520"/>
                  <a:ext cx="934920" cy="84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x</m:t>
                              </m:r>
                            </m:num>
                            <m:den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y</m:t>
                              </m:r>
                            </m:den>
                          </m:f>
                        </m:e>
                      </m:rad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4" name="Group 18"/>
          <p:cNvGrpSpPr/>
          <p:nvPr/>
        </p:nvGrpSpPr>
        <p:grpSpPr>
          <a:xfrm>
            <a:off x="4022640" y="1676520"/>
            <a:ext cx="3673440" cy="865080"/>
            <a:chOff x="4022640" y="1676520"/>
            <a:chExt cx="3673440" cy="865080"/>
          </a:xfrm>
        </p:grpSpPr>
        <p:sp>
          <p:nvSpPr>
            <p:cNvPr id="635" name="Rectangle 10"/>
            <p:cNvSpPr/>
            <p:nvPr/>
          </p:nvSpPr>
          <p:spPr>
            <a:xfrm>
              <a:off x="4022640" y="1931400"/>
              <a:ext cx="21258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336699"/>
                  </a:solidFill>
                  <a:latin typeface="Verdana"/>
                  <a:ea typeface="Times New Roman"/>
                </a:rPr>
                <a:t>4.   f(x,y) =</a:t>
              </a: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6" name="Object 11"/>
                <p:cNvSpPr txBox="1"/>
                <p:nvPr/>
              </p:nvSpPr>
              <p:spPr>
                <a:xfrm>
                  <a:off x="6027840" y="1676520"/>
                  <a:ext cx="1668240" cy="86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num>
                        <m:den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7" name="Group 17"/>
          <p:cNvGrpSpPr/>
          <p:nvPr/>
        </p:nvGrpSpPr>
        <p:grpSpPr>
          <a:xfrm>
            <a:off x="517680" y="3300480"/>
            <a:ext cx="2911320" cy="865080"/>
            <a:chOff x="517680" y="3300480"/>
            <a:chExt cx="2911320" cy="865080"/>
          </a:xfrm>
        </p:grpSpPr>
        <p:sp>
          <p:nvSpPr>
            <p:cNvPr id="638" name="Rectangle 12"/>
            <p:cNvSpPr/>
            <p:nvPr/>
          </p:nvSpPr>
          <p:spPr>
            <a:xfrm>
              <a:off x="517680" y="3555360"/>
              <a:ext cx="21258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336699"/>
                  </a:solidFill>
                  <a:latin typeface="Verdana"/>
                  <a:ea typeface="Times New Roman"/>
                </a:rPr>
                <a:t>3.   f(x,y) =</a:t>
              </a: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9" name="Object 13"/>
                <p:cNvSpPr txBox="1"/>
                <p:nvPr/>
              </p:nvSpPr>
              <p:spPr>
                <a:xfrm>
                  <a:off x="2360520" y="3300480"/>
                  <a:ext cx="1068480" cy="86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y</m:t>
                              </m:r>
                            </m:num>
                            <m:den>
                              <m:r>
                                <m:t xml:space="preserve"> 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</m:den>
                          </m:f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 </m:t>
                          </m:r>
                        </m:e>
                      </m:rad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fik Fungsi Dua Peuba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609480" y="1304640"/>
            <a:ext cx="83059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afiknya berupa permukaan di rua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E492-1306-487E-BEF9-0A46E0A2F2BD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4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4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FD1B-91FF-491B-B4EC-43B6B0DFF5C4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45" name="Line 4"/>
          <p:cNvSpPr/>
          <p:nvPr/>
        </p:nvSpPr>
        <p:spPr>
          <a:xfrm flipV="1">
            <a:off x="2743200" y="22093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46" name="Line 5"/>
          <p:cNvSpPr/>
          <p:nvPr/>
        </p:nvSpPr>
        <p:spPr>
          <a:xfrm flipH="1">
            <a:off x="1371600" y="3886200"/>
            <a:ext cx="1371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47" name="Line 6"/>
          <p:cNvSpPr/>
          <p:nvPr/>
        </p:nvSpPr>
        <p:spPr>
          <a:xfrm>
            <a:off x="274320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48" name="Freeform 7"/>
          <p:cNvSpPr/>
          <p:nvPr/>
        </p:nvSpPr>
        <p:spPr>
          <a:xfrm>
            <a:off x="2819520" y="2452680"/>
            <a:ext cx="1519200" cy="812880"/>
          </a:xfrm>
          <a:custGeom>
            <a:avLst/>
            <a:gdLst>
              <a:gd name="textAreaLeft" fmla="*/ 0 w 1519200"/>
              <a:gd name="textAreaRight" fmla="*/ 1519560 w 1519200"/>
              <a:gd name="textAreaTop" fmla="*/ 0 h 812880"/>
              <a:gd name="textAreaBottom" fmla="*/ 813240 h 812880"/>
            </a:gdLst>
            <a:ahLst/>
            <a:rect l="textAreaLeft" t="textAreaTop" r="textAreaRight" b="textAreaBottom"/>
            <a:pathLst>
              <a:path w="957" h="512">
                <a:moveTo>
                  <a:pt x="7" y="457"/>
                </a:moveTo>
                <a:cubicBezTo>
                  <a:pt x="14" y="391"/>
                  <a:pt x="0" y="354"/>
                  <a:pt x="52" y="320"/>
                </a:cubicBezTo>
                <a:cubicBezTo>
                  <a:pt x="74" y="289"/>
                  <a:pt x="89" y="277"/>
                  <a:pt x="125" y="265"/>
                </a:cubicBezTo>
                <a:cubicBezTo>
                  <a:pt x="154" y="238"/>
                  <a:pt x="183" y="221"/>
                  <a:pt x="217" y="201"/>
                </a:cubicBezTo>
                <a:cubicBezTo>
                  <a:pt x="236" y="190"/>
                  <a:pt x="272" y="165"/>
                  <a:pt x="272" y="165"/>
                </a:cubicBezTo>
                <a:cubicBezTo>
                  <a:pt x="284" y="129"/>
                  <a:pt x="315" y="61"/>
                  <a:pt x="345" y="37"/>
                </a:cubicBezTo>
                <a:cubicBezTo>
                  <a:pt x="365" y="21"/>
                  <a:pt x="393" y="24"/>
                  <a:pt x="418" y="18"/>
                </a:cubicBezTo>
                <a:cubicBezTo>
                  <a:pt x="455" y="10"/>
                  <a:pt x="490" y="0"/>
                  <a:pt x="528" y="0"/>
                </a:cubicBezTo>
                <a:cubicBezTo>
                  <a:pt x="563" y="23"/>
                  <a:pt x="598" y="24"/>
                  <a:pt x="637" y="37"/>
                </a:cubicBezTo>
                <a:cubicBezTo>
                  <a:pt x="732" y="34"/>
                  <a:pt x="826" y="34"/>
                  <a:pt x="921" y="28"/>
                </a:cubicBezTo>
                <a:cubicBezTo>
                  <a:pt x="933" y="27"/>
                  <a:pt x="957" y="18"/>
                  <a:pt x="957" y="18"/>
                </a:cubicBezTo>
                <a:cubicBezTo>
                  <a:pt x="922" y="45"/>
                  <a:pt x="910" y="37"/>
                  <a:pt x="884" y="73"/>
                </a:cubicBezTo>
                <a:cubicBezTo>
                  <a:pt x="873" y="117"/>
                  <a:pt x="864" y="155"/>
                  <a:pt x="839" y="192"/>
                </a:cubicBezTo>
                <a:cubicBezTo>
                  <a:pt x="824" y="250"/>
                  <a:pt x="815" y="327"/>
                  <a:pt x="775" y="375"/>
                </a:cubicBezTo>
                <a:cubicBezTo>
                  <a:pt x="764" y="388"/>
                  <a:pt x="754" y="404"/>
                  <a:pt x="738" y="412"/>
                </a:cubicBezTo>
                <a:cubicBezTo>
                  <a:pt x="721" y="421"/>
                  <a:pt x="683" y="430"/>
                  <a:pt x="683" y="430"/>
                </a:cubicBezTo>
                <a:cubicBezTo>
                  <a:pt x="658" y="447"/>
                  <a:pt x="640" y="463"/>
                  <a:pt x="619" y="485"/>
                </a:cubicBezTo>
                <a:cubicBezTo>
                  <a:pt x="616" y="494"/>
                  <a:pt x="610" y="512"/>
                  <a:pt x="610" y="512"/>
                </a:cubicBezTo>
                <a:cubicBezTo>
                  <a:pt x="525" y="427"/>
                  <a:pt x="437" y="480"/>
                  <a:pt x="299" y="485"/>
                </a:cubicBezTo>
                <a:cubicBezTo>
                  <a:pt x="250" y="482"/>
                  <a:pt x="201" y="484"/>
                  <a:pt x="153" y="476"/>
                </a:cubicBezTo>
                <a:cubicBezTo>
                  <a:pt x="150" y="476"/>
                  <a:pt x="107" y="436"/>
                  <a:pt x="89" y="430"/>
                </a:cubicBezTo>
                <a:cubicBezTo>
                  <a:pt x="67" y="462"/>
                  <a:pt x="45" y="476"/>
                  <a:pt x="7" y="457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49" name="Line 8"/>
          <p:cNvSpPr/>
          <p:nvPr/>
        </p:nvSpPr>
        <p:spPr>
          <a:xfrm flipH="1">
            <a:off x="3852360" y="2743200"/>
            <a:ext cx="8384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50" name="Text Box 9"/>
          <p:cNvSpPr/>
          <p:nvPr/>
        </p:nvSpPr>
        <p:spPr>
          <a:xfrm>
            <a:off x="4791600" y="2616120"/>
            <a:ext cx="740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336699"/>
                </a:solidFill>
                <a:latin typeface="Verdana"/>
              </a:rPr>
              <a:t>Z=f(x,y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51" name="Line 10"/>
          <p:cNvSpPr/>
          <p:nvPr/>
        </p:nvSpPr>
        <p:spPr>
          <a:xfrm>
            <a:off x="2857680" y="32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52" name="Line 11"/>
          <p:cNvSpPr/>
          <p:nvPr/>
        </p:nvSpPr>
        <p:spPr>
          <a:xfrm>
            <a:off x="3429000" y="250020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53" name="Line 12"/>
          <p:cNvSpPr/>
          <p:nvPr/>
        </p:nvSpPr>
        <p:spPr>
          <a:xfrm>
            <a:off x="3776760" y="321948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54" name="Line 13"/>
          <p:cNvSpPr/>
          <p:nvPr/>
        </p:nvSpPr>
        <p:spPr>
          <a:xfrm>
            <a:off x="4324320" y="24861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55" name="Line 14"/>
          <p:cNvSpPr/>
          <p:nvPr/>
        </p:nvSpPr>
        <p:spPr>
          <a:xfrm>
            <a:off x="3424320" y="40053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56" name="Line 15"/>
          <p:cNvSpPr/>
          <p:nvPr/>
        </p:nvSpPr>
        <p:spPr>
          <a:xfrm>
            <a:off x="285768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57" name="Line 16"/>
          <p:cNvSpPr/>
          <p:nvPr/>
        </p:nvSpPr>
        <p:spPr>
          <a:xfrm flipH="1">
            <a:off x="3771720" y="3962520"/>
            <a:ext cx="58068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58" name="Line 17"/>
          <p:cNvSpPr/>
          <p:nvPr/>
        </p:nvSpPr>
        <p:spPr>
          <a:xfrm flipH="1">
            <a:off x="2857320" y="3981600"/>
            <a:ext cx="58068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59" name="Line 18"/>
          <p:cNvSpPr/>
          <p:nvPr/>
        </p:nvSpPr>
        <p:spPr>
          <a:xfrm flipH="1">
            <a:off x="3852360" y="4165560"/>
            <a:ext cx="8384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60" name="Text Box 19"/>
          <p:cNvSpPr/>
          <p:nvPr/>
        </p:nvSpPr>
        <p:spPr>
          <a:xfrm>
            <a:off x="4674240" y="4038480"/>
            <a:ext cx="3546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336699"/>
                </a:solidFill>
                <a:latin typeface="Verdana"/>
              </a:rPr>
              <a:t>D</a:t>
            </a:r>
            <a:r>
              <a:rPr b="1" lang="en-US" sz="2100" spc="-1" strike="noStrike" baseline="-25000">
                <a:solidFill>
                  <a:srgbClr val="336699"/>
                </a:solidFill>
                <a:latin typeface="Verdana"/>
              </a:rPr>
              <a:t>f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61" name="Text Box 20"/>
          <p:cNvSpPr/>
          <p:nvPr/>
        </p:nvSpPr>
        <p:spPr>
          <a:xfrm>
            <a:off x="1220400" y="4502160"/>
            <a:ext cx="269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336699"/>
                </a:solidFill>
                <a:latin typeface="Verdana"/>
              </a:rPr>
              <a:t>x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62" name="Text Box 21"/>
          <p:cNvSpPr/>
          <p:nvPr/>
        </p:nvSpPr>
        <p:spPr>
          <a:xfrm>
            <a:off x="4343760" y="3511440"/>
            <a:ext cx="267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336699"/>
                </a:solidFill>
                <a:latin typeface="Verdana"/>
              </a:rPr>
              <a:t>y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63" name="Text Box 22"/>
          <p:cNvSpPr/>
          <p:nvPr/>
        </p:nvSpPr>
        <p:spPr>
          <a:xfrm>
            <a:off x="2364120" y="2368440"/>
            <a:ext cx="25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336699"/>
                </a:solidFill>
                <a:latin typeface="Verdana"/>
              </a:rPr>
              <a:t>z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64" name="Rectangle 23"/>
          <p:cNvSpPr/>
          <p:nvPr/>
        </p:nvSpPr>
        <p:spPr>
          <a:xfrm>
            <a:off x="1212840" y="5105520"/>
            <a:ext cx="74516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Karena setiap pasangan terurut (x,y) dipasangkan deng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epat satu z = f(x,y), maka setiap garis yang sejajar sb z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akan memotong grafik tepat di satu titik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stem Koordin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13FF-96F7-4875-B141-279B9D5FEC58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5D84-B256-43EA-9D6C-4B68DBB16D75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grpSp>
        <p:nvGrpSpPr>
          <p:cNvPr id="258" name="Group 4"/>
          <p:cNvGrpSpPr/>
          <p:nvPr/>
        </p:nvGrpSpPr>
        <p:grpSpPr>
          <a:xfrm>
            <a:off x="282240" y="1752480"/>
            <a:ext cx="3431520" cy="2514600"/>
            <a:chOff x="282240" y="1752480"/>
            <a:chExt cx="3431520" cy="2514600"/>
          </a:xfrm>
        </p:grpSpPr>
        <p:sp>
          <p:nvSpPr>
            <p:cNvPr id="259" name="Line 5"/>
            <p:cNvSpPr/>
            <p:nvPr/>
          </p:nvSpPr>
          <p:spPr>
            <a:xfrm>
              <a:off x="1752480" y="198108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60" name="Line 6"/>
            <p:cNvSpPr/>
            <p:nvPr/>
          </p:nvSpPr>
          <p:spPr>
            <a:xfrm>
              <a:off x="457200" y="335268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61" name="Rectangle 7"/>
            <p:cNvSpPr/>
            <p:nvPr/>
          </p:nvSpPr>
          <p:spPr>
            <a:xfrm>
              <a:off x="1750320" y="175248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>
              <a:off x="2980800" y="32907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63" name="Rectangle 9"/>
            <p:cNvSpPr/>
            <p:nvPr/>
          </p:nvSpPr>
          <p:spPr>
            <a:xfrm>
              <a:off x="2958480" y="2438280"/>
              <a:ext cx="75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Verdana"/>
                </a:rPr>
                <a:t>P(x,y)</a:t>
              </a:r>
              <a:endParaRPr b="0" lang="en-US" sz="18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64" name="Rectangle 10"/>
            <p:cNvSpPr/>
            <p:nvPr/>
          </p:nvSpPr>
          <p:spPr>
            <a:xfrm>
              <a:off x="2085840" y="2057400"/>
              <a:ext cx="12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Verdana"/>
                </a:rPr>
                <a:t>Kuadran I</a:t>
              </a:r>
              <a:endParaRPr b="0" lang="en-US" sz="18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65" name="Rectangle 11"/>
            <p:cNvSpPr/>
            <p:nvPr/>
          </p:nvSpPr>
          <p:spPr>
            <a:xfrm>
              <a:off x="282240" y="205740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Verdana"/>
                </a:rPr>
                <a:t>Kuadran II</a:t>
              </a:r>
              <a:endParaRPr b="0" lang="en-US" sz="18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66" name="Rectangle 12"/>
            <p:cNvSpPr/>
            <p:nvPr/>
          </p:nvSpPr>
          <p:spPr>
            <a:xfrm>
              <a:off x="291960" y="3657600"/>
              <a:ext cx="138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Verdana"/>
                </a:rPr>
                <a:t>Kuadran III</a:t>
              </a:r>
              <a:endParaRPr b="0" lang="en-US" sz="18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67" name="Rectangle 13"/>
            <p:cNvSpPr/>
            <p:nvPr/>
          </p:nvSpPr>
          <p:spPr>
            <a:xfrm>
              <a:off x="2034720" y="3657600"/>
              <a:ext cx="137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Verdana"/>
                </a:rPr>
                <a:t>Kuadran IV</a:t>
              </a:r>
              <a:endParaRPr b="0" lang="en-US" sz="18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>
              <a:off x="1752480" y="259092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 flipV="1">
              <a:off x="2806560" y="25909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70" name="Rectangle 16"/>
            <p:cNvSpPr/>
            <p:nvPr/>
          </p:nvSpPr>
          <p:spPr>
            <a:xfrm>
              <a:off x="2525040" y="28195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71" name="Rectangle 17"/>
            <p:cNvSpPr/>
            <p:nvPr/>
          </p:nvSpPr>
          <p:spPr>
            <a:xfrm>
              <a:off x="2142720" y="25272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336699"/>
                </a:solidFill>
                <a:latin typeface="Verdana"/>
              </a:endParaRPr>
            </a:p>
          </p:txBody>
        </p:sp>
      </p:grpSp>
      <p:grpSp>
        <p:nvGrpSpPr>
          <p:cNvPr id="272" name="Group 18"/>
          <p:cNvGrpSpPr/>
          <p:nvPr/>
        </p:nvGrpSpPr>
        <p:grpSpPr>
          <a:xfrm>
            <a:off x="5190480" y="1600200"/>
            <a:ext cx="2824200" cy="2744640"/>
            <a:chOff x="5190480" y="1600200"/>
            <a:chExt cx="2824200" cy="2744640"/>
          </a:xfrm>
        </p:grpSpPr>
        <p:sp>
          <p:nvSpPr>
            <p:cNvPr id="273" name="Line 19"/>
            <p:cNvSpPr/>
            <p:nvPr/>
          </p:nvSpPr>
          <p:spPr>
            <a:xfrm flipV="1">
              <a:off x="6019920" y="1752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74" name="Line 20"/>
            <p:cNvSpPr/>
            <p:nvPr/>
          </p:nvSpPr>
          <p:spPr>
            <a:xfrm flipH="1">
              <a:off x="5194440" y="3276720"/>
              <a:ext cx="8380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75" name="Line 21"/>
            <p:cNvSpPr/>
            <p:nvPr/>
          </p:nvSpPr>
          <p:spPr>
            <a:xfrm>
              <a:off x="6019920" y="32767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76" name="Rectangle 22"/>
            <p:cNvSpPr/>
            <p:nvPr/>
          </p:nvSpPr>
          <p:spPr>
            <a:xfrm>
              <a:off x="7706520" y="329076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77" name="Rectangle 23"/>
            <p:cNvSpPr/>
            <p:nvPr/>
          </p:nvSpPr>
          <p:spPr>
            <a:xfrm>
              <a:off x="6027480" y="160020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Verdana"/>
                </a:rPr>
                <a:t>z</a:t>
              </a:r>
              <a:endParaRPr b="0" lang="en-US" sz="18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78" name="Rectangle 24"/>
            <p:cNvSpPr/>
            <p:nvPr/>
          </p:nvSpPr>
          <p:spPr>
            <a:xfrm>
              <a:off x="5190480" y="39765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79" name="Line 25"/>
            <p:cNvSpPr/>
            <p:nvPr/>
          </p:nvSpPr>
          <p:spPr>
            <a:xfrm flipV="1">
              <a:off x="6019920" y="2590560"/>
              <a:ext cx="9144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80" name="Line 26"/>
            <p:cNvSpPr/>
            <p:nvPr/>
          </p:nvSpPr>
          <p:spPr>
            <a:xfrm>
              <a:off x="6934320" y="257796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81" name="Line 27"/>
            <p:cNvSpPr/>
            <p:nvPr/>
          </p:nvSpPr>
          <p:spPr>
            <a:xfrm>
              <a:off x="5410080" y="388620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82" name="Line 28"/>
            <p:cNvSpPr/>
            <p:nvPr/>
          </p:nvSpPr>
          <p:spPr>
            <a:xfrm flipV="1">
              <a:off x="6934320" y="3276360"/>
              <a:ext cx="53316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83" name="Line 29"/>
            <p:cNvSpPr/>
            <p:nvPr/>
          </p:nvSpPr>
          <p:spPr>
            <a:xfrm flipH="1" flipV="1">
              <a:off x="6019920" y="213372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84" name="Rectangle 30"/>
            <p:cNvSpPr/>
            <p:nvPr/>
          </p:nvSpPr>
          <p:spPr>
            <a:xfrm>
              <a:off x="7090200" y="2362320"/>
              <a:ext cx="92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Verdana"/>
                </a:rPr>
                <a:t>P(x,y,z)</a:t>
              </a:r>
              <a:endParaRPr b="0" lang="en-US" sz="1800" spc="-1" strike="noStrike">
                <a:solidFill>
                  <a:srgbClr val="336699"/>
                </a:solidFill>
                <a:latin typeface="Verdana"/>
              </a:endParaRPr>
            </a:p>
          </p:txBody>
        </p:sp>
      </p:grpSp>
      <p:sp>
        <p:nvSpPr>
          <p:cNvPr id="285" name="Rectangle 31"/>
          <p:cNvSpPr/>
          <p:nvPr/>
        </p:nvSpPr>
        <p:spPr>
          <a:xfrm>
            <a:off x="5904000" y="335268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Oktan 1</a:t>
            </a:r>
            <a:endParaRPr b="0" lang="en-US" sz="18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86" name="Rectangle 32"/>
          <p:cNvSpPr/>
          <p:nvPr/>
        </p:nvSpPr>
        <p:spPr>
          <a:xfrm>
            <a:off x="5797440" y="428148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R</a:t>
            </a:r>
            <a:r>
              <a:rPr b="0" lang="en-US" sz="1800" spc="-1" strike="noStrike" baseline="30000">
                <a:solidFill>
                  <a:srgbClr val="336699"/>
                </a:solidFill>
                <a:latin typeface="Verdana"/>
              </a:rPr>
              <a:t>3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(Ruang) </a:t>
            </a:r>
            <a:endParaRPr b="0" lang="en-US" sz="18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87" name="Rectangle 33"/>
          <p:cNvSpPr/>
          <p:nvPr/>
        </p:nvSpPr>
        <p:spPr>
          <a:xfrm>
            <a:off x="1156320" y="449568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R</a:t>
            </a:r>
            <a:r>
              <a:rPr b="0" lang="en-US" sz="18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(Bidang) </a:t>
            </a:r>
            <a:endParaRPr b="0" lang="en-US" sz="18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09480" y="136692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mbarkan Graf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(x,y) = 2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3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66960" indent="-4953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 = 2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+ 3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 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(x,y) = 3 –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88C0-56C5-4306-8027-7181FC818A8A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1996-009A-49ED-A850-93CB5688E145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70" name="Rectangle 9"/>
          <p:cNvSpPr/>
          <p:nvPr/>
        </p:nvSpPr>
        <p:spPr>
          <a:xfrm>
            <a:off x="2716560" y="2976120"/>
            <a:ext cx="3204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Paraboloida eliptik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Object 10"/>
              <p:cNvSpPr txBox="1"/>
              <p:nvPr/>
            </p:nvSpPr>
            <p:spPr>
              <a:xfrm>
                <a:off x="1219320" y="3052800"/>
                <a:ext cx="162540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2" name="Line 11"/>
          <p:cNvSpPr/>
          <p:nvPr/>
        </p:nvSpPr>
        <p:spPr>
          <a:xfrm flipV="1">
            <a:off x="7035840" y="1752480"/>
            <a:ext cx="0" cy="17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73" name="Line 12"/>
          <p:cNvSpPr/>
          <p:nvPr/>
        </p:nvSpPr>
        <p:spPr>
          <a:xfrm>
            <a:off x="6121440" y="2847960"/>
            <a:ext cx="217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74" name="Line 13"/>
          <p:cNvSpPr/>
          <p:nvPr/>
        </p:nvSpPr>
        <p:spPr>
          <a:xfrm flipH="1">
            <a:off x="6006600" y="2403360"/>
            <a:ext cx="1778040" cy="105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75" name="Text Box 14"/>
          <p:cNvSpPr/>
          <p:nvPr/>
        </p:nvSpPr>
        <p:spPr>
          <a:xfrm>
            <a:off x="6781680" y="1676520"/>
            <a:ext cx="457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Z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76" name="Text Box 15"/>
          <p:cNvSpPr/>
          <p:nvPr/>
        </p:nvSpPr>
        <p:spPr>
          <a:xfrm>
            <a:off x="5778360" y="3238560"/>
            <a:ext cx="457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1100" spc="-1" strike="noStrike">
                <a:solidFill>
                  <a:srgbClr val="336699"/>
                </a:solidFill>
                <a:latin typeface="Verdana"/>
              </a:rPr>
              <a:t>x</a:t>
            </a:r>
            <a:endParaRPr b="0" lang="en-US" sz="1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77" name="Text Box 16"/>
          <p:cNvSpPr/>
          <p:nvPr/>
        </p:nvSpPr>
        <p:spPr>
          <a:xfrm>
            <a:off x="8229600" y="2717640"/>
            <a:ext cx="45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y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78" name="Oval 17"/>
          <p:cNvSpPr/>
          <p:nvPr/>
        </p:nvSpPr>
        <p:spPr>
          <a:xfrm>
            <a:off x="6464160" y="2095560"/>
            <a:ext cx="11430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79" name="Arc 18"/>
          <p:cNvSpPr/>
          <p:nvPr/>
        </p:nvSpPr>
        <p:spPr>
          <a:xfrm flipH="1" rot="16200000">
            <a:off x="6700320" y="1954800"/>
            <a:ext cx="668160" cy="1143000"/>
          </a:xfrm>
          <a:custGeom>
            <a:avLst/>
            <a:gdLst>
              <a:gd name="textAreaLeft" fmla="*/ 360 w 668160"/>
              <a:gd name="textAreaRight" fmla="*/ 668880 w 6681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80" name="Arc 19"/>
          <p:cNvSpPr/>
          <p:nvPr/>
        </p:nvSpPr>
        <p:spPr>
          <a:xfrm flipH="1">
            <a:off x="6845400" y="2084400"/>
            <a:ext cx="363600" cy="770040"/>
          </a:xfrm>
          <a:custGeom>
            <a:avLst/>
            <a:gdLst>
              <a:gd name="textAreaLeft" fmla="*/ 360 w 363600"/>
              <a:gd name="textAreaRight" fmla="*/ 364320 w 363600"/>
              <a:gd name="textAreaTop" fmla="*/ 0 h 770040"/>
              <a:gd name="textAreaBottom" fmla="*/ 770400 h 770040"/>
            </a:gdLst>
            <a:ahLst/>
            <a:rect l="textAreaLeft" t="textAreaTop" r="textAreaRight" b="textAreaBottom"/>
            <a:pathLst>
              <a:path fill="none" w="43200" h="29490">
                <a:moveTo>
                  <a:pt x="43199" y="7889"/>
                </a:moveTo>
                <a:cubicBezTo>
                  <a:pt x="43199" y="7889"/>
                  <a:pt x="43200" y="7889"/>
                  <a:pt x="43200" y="7890"/>
                </a:cubicBezTo>
                <a:cubicBezTo>
                  <a:pt x="43200" y="19819"/>
                  <a:pt x="33529" y="29490"/>
                  <a:pt x="21600" y="29490"/>
                </a:cubicBezTo>
                <a:cubicBezTo>
                  <a:pt x="9670" y="29490"/>
                  <a:pt x="0" y="19819"/>
                  <a:pt x="0" y="7890"/>
                </a:cubicBezTo>
                <a:cubicBezTo>
                  <a:pt x="-1" y="5189"/>
                  <a:pt x="506" y="2513"/>
                  <a:pt x="1492" y="0"/>
                </a:cubicBezTo>
              </a:path>
              <a:path stroke="0" w="43200" h="29490">
                <a:moveTo>
                  <a:pt x="43199" y="7889"/>
                </a:moveTo>
                <a:cubicBezTo>
                  <a:pt x="43199" y="7889"/>
                  <a:pt x="43200" y="7889"/>
                  <a:pt x="43200" y="7890"/>
                </a:cubicBezTo>
                <a:cubicBezTo>
                  <a:pt x="43200" y="19819"/>
                  <a:pt x="33529" y="29490"/>
                  <a:pt x="21600" y="29490"/>
                </a:cubicBezTo>
                <a:cubicBezTo>
                  <a:pt x="9670" y="29490"/>
                  <a:pt x="0" y="19819"/>
                  <a:pt x="0" y="7890"/>
                </a:cubicBezTo>
                <a:cubicBezTo>
                  <a:pt x="-1" y="5189"/>
                  <a:pt x="506" y="2513"/>
                  <a:pt x="1492" y="0"/>
                </a:cubicBezTo>
                <a:lnTo>
                  <a:pt x="21600" y="7890"/>
                </a:lnTo>
                <a:lnTo>
                  <a:pt x="43199" y="78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81" name="Rectangle 20"/>
          <p:cNvSpPr/>
          <p:nvPr/>
        </p:nvSpPr>
        <p:spPr>
          <a:xfrm>
            <a:off x="5545440" y="5683320"/>
            <a:ext cx="1723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z = 3 – 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82" name="Line 21"/>
          <p:cNvSpPr/>
          <p:nvPr/>
        </p:nvSpPr>
        <p:spPr>
          <a:xfrm flipV="1">
            <a:off x="6362640" y="3657600"/>
            <a:ext cx="0" cy="17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83" name="Line 22"/>
          <p:cNvSpPr/>
          <p:nvPr/>
        </p:nvSpPr>
        <p:spPr>
          <a:xfrm>
            <a:off x="5448240" y="4753080"/>
            <a:ext cx="2171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84" name="Line 23"/>
          <p:cNvSpPr/>
          <p:nvPr/>
        </p:nvSpPr>
        <p:spPr>
          <a:xfrm flipH="1">
            <a:off x="5333760" y="4307760"/>
            <a:ext cx="1778040" cy="105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85" name="Text Box 24"/>
          <p:cNvSpPr/>
          <p:nvPr/>
        </p:nvSpPr>
        <p:spPr>
          <a:xfrm>
            <a:off x="6108840" y="3581280"/>
            <a:ext cx="45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Z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86" name="Text Box 25"/>
          <p:cNvSpPr/>
          <p:nvPr/>
        </p:nvSpPr>
        <p:spPr>
          <a:xfrm>
            <a:off x="5105520" y="5143680"/>
            <a:ext cx="457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1100" spc="-1" strike="noStrike">
                <a:solidFill>
                  <a:srgbClr val="336699"/>
                </a:solidFill>
                <a:latin typeface="Verdana"/>
              </a:rPr>
              <a:t>x</a:t>
            </a:r>
            <a:endParaRPr b="0" lang="en-US" sz="1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87" name="Text Box 26"/>
          <p:cNvSpPr/>
          <p:nvPr/>
        </p:nvSpPr>
        <p:spPr>
          <a:xfrm>
            <a:off x="7556400" y="4622760"/>
            <a:ext cx="45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y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88" name="Oval 27"/>
          <p:cNvSpPr/>
          <p:nvPr/>
        </p:nvSpPr>
        <p:spPr>
          <a:xfrm rot="10800000">
            <a:off x="5778000" y="4647960"/>
            <a:ext cx="11430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89" name="Arc 28"/>
          <p:cNvSpPr/>
          <p:nvPr/>
        </p:nvSpPr>
        <p:spPr>
          <a:xfrm flipH="1" rot="5596800">
            <a:off x="6028560" y="3859200"/>
            <a:ext cx="668520" cy="1143000"/>
          </a:xfrm>
          <a:custGeom>
            <a:avLst/>
            <a:gdLst>
              <a:gd name="textAreaLeft" fmla="*/ -360 w 668520"/>
              <a:gd name="textAreaRight" fmla="*/ 668520 w 6685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90" name="Arc 29"/>
          <p:cNvSpPr/>
          <p:nvPr/>
        </p:nvSpPr>
        <p:spPr>
          <a:xfrm flipH="1" rot="10984800">
            <a:off x="6171480" y="4106160"/>
            <a:ext cx="363600" cy="770040"/>
          </a:xfrm>
          <a:custGeom>
            <a:avLst/>
            <a:gdLst>
              <a:gd name="textAreaLeft" fmla="*/ 360 w 363600"/>
              <a:gd name="textAreaRight" fmla="*/ 364320 w 363600"/>
              <a:gd name="textAreaTop" fmla="*/ 0 h 770040"/>
              <a:gd name="textAreaBottom" fmla="*/ 770400 h 770040"/>
            </a:gdLst>
            <a:ahLst/>
            <a:rect l="textAreaLeft" t="textAreaTop" r="textAreaRight" b="textAreaBottom"/>
            <a:pathLst>
              <a:path fill="none" w="43200" h="29490">
                <a:moveTo>
                  <a:pt x="43199" y="7889"/>
                </a:moveTo>
                <a:cubicBezTo>
                  <a:pt x="43199" y="7889"/>
                  <a:pt x="43200" y="7889"/>
                  <a:pt x="43200" y="7890"/>
                </a:cubicBezTo>
                <a:cubicBezTo>
                  <a:pt x="43200" y="19819"/>
                  <a:pt x="33529" y="29490"/>
                  <a:pt x="21600" y="29490"/>
                </a:cubicBezTo>
                <a:cubicBezTo>
                  <a:pt x="9670" y="29490"/>
                  <a:pt x="0" y="19819"/>
                  <a:pt x="0" y="7890"/>
                </a:cubicBezTo>
                <a:cubicBezTo>
                  <a:pt x="-1" y="5189"/>
                  <a:pt x="506" y="2513"/>
                  <a:pt x="1492" y="0"/>
                </a:cubicBezTo>
              </a:path>
              <a:path stroke="0" w="43200" h="29490">
                <a:moveTo>
                  <a:pt x="43199" y="7889"/>
                </a:moveTo>
                <a:cubicBezTo>
                  <a:pt x="43199" y="7889"/>
                  <a:pt x="43200" y="7889"/>
                  <a:pt x="43200" y="7890"/>
                </a:cubicBezTo>
                <a:cubicBezTo>
                  <a:pt x="43200" y="19819"/>
                  <a:pt x="33529" y="29490"/>
                  <a:pt x="21600" y="29490"/>
                </a:cubicBezTo>
                <a:cubicBezTo>
                  <a:pt x="9670" y="29490"/>
                  <a:pt x="0" y="19819"/>
                  <a:pt x="0" y="7890"/>
                </a:cubicBezTo>
                <a:cubicBezTo>
                  <a:pt x="-1" y="5189"/>
                  <a:pt x="506" y="2513"/>
                  <a:pt x="1492" y="0"/>
                </a:cubicBezTo>
                <a:lnTo>
                  <a:pt x="21600" y="7890"/>
                </a:lnTo>
                <a:lnTo>
                  <a:pt x="43199" y="78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91" name="Text Box 31"/>
          <p:cNvSpPr/>
          <p:nvPr/>
        </p:nvSpPr>
        <p:spPr>
          <a:xfrm>
            <a:off x="6306120" y="3841920"/>
            <a:ext cx="275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6699"/>
                </a:solidFill>
                <a:latin typeface="Verdana"/>
              </a:rPr>
              <a:t>3</a:t>
            </a:r>
            <a:endParaRPr b="0" lang="en-US" sz="1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92" name="Text Box 32"/>
          <p:cNvSpPr/>
          <p:nvPr/>
        </p:nvSpPr>
        <p:spPr>
          <a:xfrm>
            <a:off x="6789960" y="4800600"/>
            <a:ext cx="445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6699"/>
                </a:solidFill>
                <a:latin typeface="Symbol"/>
                <a:ea typeface="Symbol"/>
              </a:rPr>
              <a:t></a:t>
            </a:r>
            <a:r>
              <a:rPr b="1" lang="en-US" sz="1300" spc="-1" strike="noStrike">
                <a:solidFill>
                  <a:srgbClr val="336699"/>
                </a:solidFill>
                <a:latin typeface="Verdana"/>
              </a:rPr>
              <a:t>3</a:t>
            </a:r>
            <a:endParaRPr b="0" lang="en-US" sz="13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nodeType="clickEffect" fill="hold">
                      <p:stCondLst>
                        <p:cond delay="0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1" dur="8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2" dur="8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3" dur="8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6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9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2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5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8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1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6" dur="8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7" dur="8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8" dur="8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1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4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7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0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3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6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nodeType="clickEffect" fill="hold">
                      <p:stCondLst>
                        <p:cond delay="indefinite"/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nodeType="clickEffect" fill="hold">
                      <p:stCondLst>
                        <p:cond delay="indefinite"/>
                      </p:stCondLst>
                      <p:childTnLst>
                        <p:par>
                          <p:cTn id="1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nodeType="clickEffect" fill="hold">
                      <p:stCondLst>
                        <p:cond delay="indefinite"/>
                      </p:stCondLst>
                      <p:childTnLst>
                        <p:par>
                          <p:cTn id="1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9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7688-F51A-463E-821F-BF7138A1AAAD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FFCA-08FE-4CF3-91DE-25D30CD27A24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97" name="Rectangle 4"/>
          <p:cNvSpPr/>
          <p:nvPr/>
        </p:nvSpPr>
        <p:spPr>
          <a:xfrm>
            <a:off x="267840" y="1526760"/>
            <a:ext cx="2138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3.   f(x,y) =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Object 5"/>
              <p:cNvSpPr txBox="1"/>
              <p:nvPr/>
            </p:nvSpPr>
            <p:spPr>
              <a:xfrm>
                <a:off x="2111400" y="1371600"/>
                <a:ext cx="25369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9" name="Rectangle 6"/>
          <p:cNvSpPr/>
          <p:nvPr/>
        </p:nvSpPr>
        <p:spPr>
          <a:xfrm>
            <a:off x="267840" y="4006440"/>
            <a:ext cx="2138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4.   f(x,y) =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Object 7"/>
              <p:cNvSpPr txBox="1"/>
              <p:nvPr/>
            </p:nvSpPr>
            <p:spPr>
              <a:xfrm>
                <a:off x="2057400" y="3930480"/>
                <a:ext cx="15127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01" name="Rectangle 8"/>
          <p:cNvSpPr/>
          <p:nvPr/>
        </p:nvSpPr>
        <p:spPr>
          <a:xfrm>
            <a:off x="1274400" y="2101680"/>
            <a:ext cx="2421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9z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36 – 9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 4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02" name="Rectangle 9"/>
          <p:cNvSpPr/>
          <p:nvPr/>
        </p:nvSpPr>
        <p:spPr>
          <a:xfrm>
            <a:off x="1305360" y="2558880"/>
            <a:ext cx="2458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9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+ 4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9z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36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3" name="Object 11"/>
              <p:cNvSpPr txBox="1"/>
              <p:nvPr/>
            </p:nvSpPr>
            <p:spPr>
              <a:xfrm>
                <a:off x="1082520" y="2946240"/>
                <a:ext cx="233712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4" name="Text Box 12"/>
          <p:cNvSpPr/>
          <p:nvPr/>
        </p:nvSpPr>
        <p:spPr>
          <a:xfrm>
            <a:off x="3557880" y="3117960"/>
            <a:ext cx="1302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Elipsoid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grpSp>
        <p:nvGrpSpPr>
          <p:cNvPr id="705" name="Group 49"/>
          <p:cNvGrpSpPr/>
          <p:nvPr/>
        </p:nvGrpSpPr>
        <p:grpSpPr>
          <a:xfrm>
            <a:off x="4876920" y="1473120"/>
            <a:ext cx="3730680" cy="2463840"/>
            <a:chOff x="4876920" y="1473120"/>
            <a:chExt cx="3730680" cy="2463840"/>
          </a:xfrm>
        </p:grpSpPr>
        <p:sp>
          <p:nvSpPr>
            <p:cNvPr id="706" name="Line 16"/>
            <p:cNvSpPr/>
            <p:nvPr/>
          </p:nvSpPr>
          <p:spPr>
            <a:xfrm flipH="1">
              <a:off x="5486400" y="2109960"/>
              <a:ext cx="2006640" cy="13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grpSp>
          <p:nvGrpSpPr>
            <p:cNvPr id="707" name="Group 48"/>
            <p:cNvGrpSpPr/>
            <p:nvPr/>
          </p:nvGrpSpPr>
          <p:grpSpPr>
            <a:xfrm>
              <a:off x="4876920" y="1473120"/>
              <a:ext cx="3730680" cy="2463840"/>
              <a:chOff x="4876920" y="1473120"/>
              <a:chExt cx="3730680" cy="2463840"/>
            </a:xfrm>
          </p:grpSpPr>
          <p:sp>
            <p:nvSpPr>
              <p:cNvPr id="708" name="Line 14"/>
              <p:cNvSpPr/>
              <p:nvPr/>
            </p:nvSpPr>
            <p:spPr>
              <a:xfrm flipV="1">
                <a:off x="6373800" y="1523880"/>
                <a:ext cx="0" cy="205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1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  <p:sp>
            <p:nvSpPr>
              <p:cNvPr id="709" name="Line 15"/>
              <p:cNvSpPr/>
              <p:nvPr/>
            </p:nvSpPr>
            <p:spPr>
              <a:xfrm>
                <a:off x="4876920" y="2867040"/>
                <a:ext cx="324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1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  <p:sp>
            <p:nvSpPr>
              <p:cNvPr id="710" name="Text Box 17"/>
              <p:cNvSpPr/>
              <p:nvPr/>
            </p:nvSpPr>
            <p:spPr>
              <a:xfrm>
                <a:off x="6022800" y="1473120"/>
                <a:ext cx="68292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99"/>
                    </a:solidFill>
                    <a:latin typeface="Verdana"/>
                  </a:rPr>
                  <a:t>Z</a:t>
                </a:r>
                <a:endParaRPr b="0" lang="en-US" sz="12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  <p:sp>
            <p:nvSpPr>
              <p:cNvPr id="711" name="Text Box 18"/>
              <p:cNvSpPr/>
              <p:nvPr/>
            </p:nvSpPr>
            <p:spPr>
              <a:xfrm>
                <a:off x="5413320" y="3352680"/>
                <a:ext cx="68256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99"/>
                    </a:solidFill>
                    <a:latin typeface="Verdana"/>
                  </a:rPr>
                  <a:t> </a:t>
                </a:r>
                <a:r>
                  <a:rPr b="1" lang="en-US" sz="1100" spc="-1" strike="noStrike">
                    <a:solidFill>
                      <a:srgbClr val="336699"/>
                    </a:solidFill>
                    <a:latin typeface="Verdana"/>
                  </a:rPr>
                  <a:t>x</a:t>
                </a:r>
                <a:endParaRPr b="0" lang="en-US" sz="11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  <p:sp>
            <p:nvSpPr>
              <p:cNvPr id="712" name="Text Box 19"/>
              <p:cNvSpPr/>
              <p:nvPr/>
            </p:nvSpPr>
            <p:spPr>
              <a:xfrm>
                <a:off x="7924680" y="2844720"/>
                <a:ext cx="68292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99"/>
                    </a:solidFill>
                    <a:latin typeface="Verdana"/>
                  </a:rPr>
                  <a:t> </a:t>
                </a:r>
                <a:r>
                  <a:rPr b="1" lang="en-US" sz="1200" spc="-1" strike="noStrike">
                    <a:solidFill>
                      <a:srgbClr val="336699"/>
                    </a:solidFill>
                    <a:latin typeface="Verdana"/>
                  </a:rPr>
                  <a:t>y</a:t>
                </a:r>
                <a:endParaRPr b="0" lang="en-US" sz="12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</p:grpSp>
      </p:grpSp>
      <p:sp>
        <p:nvSpPr>
          <p:cNvPr id="713" name="Oval 21"/>
          <p:cNvSpPr/>
          <p:nvPr/>
        </p:nvSpPr>
        <p:spPr>
          <a:xfrm>
            <a:off x="5283360" y="2573280"/>
            <a:ext cx="2219040" cy="5828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14" name="Freeform 24"/>
          <p:cNvSpPr/>
          <p:nvPr/>
        </p:nvSpPr>
        <p:spPr>
          <a:xfrm>
            <a:off x="5249880" y="2130480"/>
            <a:ext cx="2254320" cy="753840"/>
          </a:xfrm>
          <a:custGeom>
            <a:avLst/>
            <a:gdLst>
              <a:gd name="textAreaLeft" fmla="*/ 0 w 2254320"/>
              <a:gd name="textAreaRight" fmla="*/ 2254680 w 2254320"/>
              <a:gd name="textAreaTop" fmla="*/ 0 h 753840"/>
              <a:gd name="textAreaBottom" fmla="*/ 754200 h 753840"/>
            </a:gdLst>
            <a:ahLst/>
            <a:rect l="textAreaLeft" t="textAreaTop" r="textAreaRight" b="textAreaBottom"/>
            <a:pathLst>
              <a:path w="1420" h="475">
                <a:moveTo>
                  <a:pt x="0" y="475"/>
                </a:moveTo>
                <a:cubicBezTo>
                  <a:pt x="40" y="420"/>
                  <a:pt x="117" y="227"/>
                  <a:pt x="238" y="148"/>
                </a:cubicBezTo>
                <a:cubicBezTo>
                  <a:pt x="359" y="69"/>
                  <a:pt x="561" y="0"/>
                  <a:pt x="725" y="2"/>
                </a:cubicBezTo>
                <a:cubicBezTo>
                  <a:pt x="889" y="4"/>
                  <a:pt x="1106" y="82"/>
                  <a:pt x="1222" y="158"/>
                </a:cubicBezTo>
                <a:cubicBezTo>
                  <a:pt x="1338" y="234"/>
                  <a:pt x="1379" y="394"/>
                  <a:pt x="1420" y="45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15" name="Freeform 26"/>
          <p:cNvSpPr/>
          <p:nvPr/>
        </p:nvSpPr>
        <p:spPr>
          <a:xfrm>
            <a:off x="5888160" y="2133720"/>
            <a:ext cx="893520" cy="990360"/>
          </a:xfrm>
          <a:custGeom>
            <a:avLst/>
            <a:gdLst>
              <a:gd name="textAreaLeft" fmla="*/ 0 w 893520"/>
              <a:gd name="textAreaRight" fmla="*/ 893880 w 89352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563" h="624">
                <a:moveTo>
                  <a:pt x="35" y="624"/>
                </a:moveTo>
                <a:cubicBezTo>
                  <a:pt x="30" y="592"/>
                  <a:pt x="0" y="507"/>
                  <a:pt x="5" y="434"/>
                </a:cubicBezTo>
                <a:cubicBezTo>
                  <a:pt x="10" y="361"/>
                  <a:pt x="36" y="249"/>
                  <a:pt x="65" y="185"/>
                </a:cubicBezTo>
                <a:cubicBezTo>
                  <a:pt x="94" y="121"/>
                  <a:pt x="136" y="79"/>
                  <a:pt x="179" y="48"/>
                </a:cubicBezTo>
                <a:cubicBezTo>
                  <a:pt x="222" y="17"/>
                  <a:pt x="283" y="0"/>
                  <a:pt x="323" y="0"/>
                </a:cubicBezTo>
                <a:cubicBezTo>
                  <a:pt x="363" y="0"/>
                  <a:pt x="388" y="19"/>
                  <a:pt x="419" y="48"/>
                </a:cubicBezTo>
                <a:cubicBezTo>
                  <a:pt x="450" y="77"/>
                  <a:pt x="488" y="135"/>
                  <a:pt x="512" y="175"/>
                </a:cubicBezTo>
                <a:cubicBezTo>
                  <a:pt x="536" y="215"/>
                  <a:pt x="553" y="264"/>
                  <a:pt x="563" y="288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16" name="Rectangle 27"/>
          <p:cNvSpPr/>
          <p:nvPr/>
        </p:nvSpPr>
        <p:spPr>
          <a:xfrm>
            <a:off x="1356480" y="4518000"/>
            <a:ext cx="1823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z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16 –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17" name="Rectangle 28"/>
          <p:cNvSpPr/>
          <p:nvPr/>
        </p:nvSpPr>
        <p:spPr>
          <a:xfrm>
            <a:off x="1315440" y="4975200"/>
            <a:ext cx="2000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+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z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16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18" name="Text Box 30"/>
          <p:cNvSpPr/>
          <p:nvPr/>
        </p:nvSpPr>
        <p:spPr>
          <a:xfrm>
            <a:off x="1157040" y="5533920"/>
            <a:ext cx="734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Bol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19" name="Text Box 31"/>
          <p:cNvSpPr/>
          <p:nvPr/>
        </p:nvSpPr>
        <p:spPr>
          <a:xfrm>
            <a:off x="7467480" y="2819520"/>
            <a:ext cx="290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6699"/>
                </a:solidFill>
                <a:latin typeface="Verdana"/>
              </a:rPr>
              <a:t>3</a:t>
            </a:r>
            <a:endParaRPr b="0" lang="en-US" sz="15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20" name="Text Box 32"/>
          <p:cNvSpPr/>
          <p:nvPr/>
        </p:nvSpPr>
        <p:spPr>
          <a:xfrm>
            <a:off x="5805360" y="3184560"/>
            <a:ext cx="290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6699"/>
                </a:solidFill>
                <a:latin typeface="Verdana"/>
              </a:rPr>
              <a:t>2</a:t>
            </a:r>
            <a:endParaRPr b="0" lang="en-US" sz="15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21" name="Text Box 33"/>
          <p:cNvSpPr/>
          <p:nvPr/>
        </p:nvSpPr>
        <p:spPr>
          <a:xfrm>
            <a:off x="6338880" y="1828800"/>
            <a:ext cx="290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6699"/>
                </a:solidFill>
                <a:latin typeface="Verdana"/>
              </a:rPr>
              <a:t>2</a:t>
            </a:r>
            <a:endParaRPr b="0" lang="en-US" sz="15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22" name="Oval 40"/>
          <p:cNvSpPr/>
          <p:nvPr/>
        </p:nvSpPr>
        <p:spPr>
          <a:xfrm>
            <a:off x="5130720" y="4876920"/>
            <a:ext cx="2219400" cy="6728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23" name="Freeform 41"/>
          <p:cNvSpPr/>
          <p:nvPr/>
        </p:nvSpPr>
        <p:spPr>
          <a:xfrm>
            <a:off x="5097600" y="4267080"/>
            <a:ext cx="2253960" cy="979560"/>
          </a:xfrm>
          <a:custGeom>
            <a:avLst/>
            <a:gdLst>
              <a:gd name="textAreaLeft" fmla="*/ 0 w 2253960"/>
              <a:gd name="textAreaRight" fmla="*/ 2254320 w 22539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1420" h="475">
                <a:moveTo>
                  <a:pt x="0" y="475"/>
                </a:moveTo>
                <a:cubicBezTo>
                  <a:pt x="40" y="420"/>
                  <a:pt x="117" y="227"/>
                  <a:pt x="238" y="148"/>
                </a:cubicBezTo>
                <a:cubicBezTo>
                  <a:pt x="359" y="69"/>
                  <a:pt x="561" y="0"/>
                  <a:pt x="725" y="2"/>
                </a:cubicBezTo>
                <a:cubicBezTo>
                  <a:pt x="889" y="4"/>
                  <a:pt x="1106" y="82"/>
                  <a:pt x="1222" y="158"/>
                </a:cubicBezTo>
                <a:cubicBezTo>
                  <a:pt x="1338" y="234"/>
                  <a:pt x="1379" y="394"/>
                  <a:pt x="1420" y="45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24" name="Freeform 42"/>
          <p:cNvSpPr/>
          <p:nvPr/>
        </p:nvSpPr>
        <p:spPr>
          <a:xfrm>
            <a:off x="5735520" y="4267080"/>
            <a:ext cx="970200" cy="1219320"/>
          </a:xfrm>
          <a:custGeom>
            <a:avLst/>
            <a:gdLst>
              <a:gd name="textAreaLeft" fmla="*/ 0 w 970200"/>
              <a:gd name="textAreaRight" fmla="*/ 970560 w 9702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563" h="624">
                <a:moveTo>
                  <a:pt x="35" y="624"/>
                </a:moveTo>
                <a:cubicBezTo>
                  <a:pt x="30" y="592"/>
                  <a:pt x="0" y="507"/>
                  <a:pt x="5" y="434"/>
                </a:cubicBezTo>
                <a:cubicBezTo>
                  <a:pt x="10" y="361"/>
                  <a:pt x="36" y="249"/>
                  <a:pt x="65" y="185"/>
                </a:cubicBezTo>
                <a:cubicBezTo>
                  <a:pt x="94" y="121"/>
                  <a:pt x="136" y="79"/>
                  <a:pt x="179" y="48"/>
                </a:cubicBezTo>
                <a:cubicBezTo>
                  <a:pt x="222" y="17"/>
                  <a:pt x="283" y="0"/>
                  <a:pt x="323" y="0"/>
                </a:cubicBezTo>
                <a:cubicBezTo>
                  <a:pt x="363" y="0"/>
                  <a:pt x="388" y="19"/>
                  <a:pt x="419" y="48"/>
                </a:cubicBezTo>
                <a:cubicBezTo>
                  <a:pt x="450" y="77"/>
                  <a:pt x="488" y="135"/>
                  <a:pt x="512" y="175"/>
                </a:cubicBezTo>
                <a:cubicBezTo>
                  <a:pt x="536" y="215"/>
                  <a:pt x="553" y="264"/>
                  <a:pt x="563" y="288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25" name="Text Box 43"/>
          <p:cNvSpPr/>
          <p:nvPr/>
        </p:nvSpPr>
        <p:spPr>
          <a:xfrm>
            <a:off x="7315200" y="5181480"/>
            <a:ext cx="290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6699"/>
                </a:solidFill>
                <a:latin typeface="Verdana"/>
              </a:rPr>
              <a:t>2</a:t>
            </a:r>
            <a:endParaRPr b="0" lang="en-US" sz="15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26" name="Text Box 44"/>
          <p:cNvSpPr/>
          <p:nvPr/>
        </p:nvSpPr>
        <p:spPr>
          <a:xfrm>
            <a:off x="5653080" y="5546880"/>
            <a:ext cx="290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6699"/>
                </a:solidFill>
                <a:latin typeface="Verdana"/>
              </a:rPr>
              <a:t>2</a:t>
            </a:r>
            <a:endParaRPr b="0" lang="en-US" sz="1500" spc="-1" strike="noStrike">
              <a:solidFill>
                <a:srgbClr val="336699"/>
              </a:solidFill>
              <a:latin typeface="Verdana"/>
            </a:endParaRPr>
          </a:p>
        </p:txBody>
      </p:sp>
      <p:grpSp>
        <p:nvGrpSpPr>
          <p:cNvPr id="727" name="Group 47"/>
          <p:cNvGrpSpPr/>
          <p:nvPr/>
        </p:nvGrpSpPr>
        <p:grpSpPr>
          <a:xfrm>
            <a:off x="4724280" y="3809880"/>
            <a:ext cx="3730680" cy="2489400"/>
            <a:chOff x="4724280" y="3809880"/>
            <a:chExt cx="3730680" cy="2489400"/>
          </a:xfrm>
        </p:grpSpPr>
        <p:sp>
          <p:nvSpPr>
            <p:cNvPr id="728" name="Text Box 37"/>
            <p:cNvSpPr/>
            <p:nvPr/>
          </p:nvSpPr>
          <p:spPr>
            <a:xfrm>
              <a:off x="5943600" y="3809880"/>
              <a:ext cx="6825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Verdana"/>
                </a:rPr>
                <a:t>Z</a:t>
              </a:r>
              <a:endParaRPr b="0" lang="en-US" sz="12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729" name="Line 34"/>
            <p:cNvSpPr/>
            <p:nvPr/>
          </p:nvSpPr>
          <p:spPr>
            <a:xfrm flipV="1">
              <a:off x="6221520" y="3884400"/>
              <a:ext cx="0" cy="19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730" name="Line 35"/>
            <p:cNvSpPr/>
            <p:nvPr/>
          </p:nvSpPr>
          <p:spPr>
            <a:xfrm>
              <a:off x="4724280" y="5229360"/>
              <a:ext cx="324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731" name="Line 36"/>
            <p:cNvSpPr/>
            <p:nvPr/>
          </p:nvSpPr>
          <p:spPr>
            <a:xfrm flipH="1">
              <a:off x="5334120" y="4471200"/>
              <a:ext cx="2006640" cy="13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732" name="Text Box 38"/>
            <p:cNvSpPr/>
            <p:nvPr/>
          </p:nvSpPr>
          <p:spPr>
            <a:xfrm>
              <a:off x="5261040" y="5715000"/>
              <a:ext cx="6825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Verdana"/>
                </a:rPr>
                <a:t> </a:t>
              </a:r>
              <a:r>
                <a:rPr b="1" lang="en-US" sz="1100" spc="-1" strike="noStrike">
                  <a:solidFill>
                    <a:srgbClr val="336699"/>
                  </a:solidFill>
                  <a:latin typeface="Verdana"/>
                </a:rPr>
                <a:t>x</a:t>
              </a:r>
              <a:endParaRPr b="0" lang="en-US" sz="1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733" name="Text Box 39"/>
            <p:cNvSpPr/>
            <p:nvPr/>
          </p:nvSpPr>
          <p:spPr>
            <a:xfrm>
              <a:off x="7772400" y="5207040"/>
              <a:ext cx="6825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99"/>
                  </a:solidFill>
                  <a:latin typeface="Verdana"/>
                </a:rPr>
                <a:t> </a:t>
              </a:r>
              <a:r>
                <a:rPr b="1" lang="en-US" sz="1200" spc="-1" strike="noStrike">
                  <a:solidFill>
                    <a:srgbClr val="336699"/>
                  </a:solidFill>
                  <a:latin typeface="Verdana"/>
                </a:rPr>
                <a:t>y</a:t>
              </a:r>
              <a:endParaRPr b="0" lang="en-US" sz="1200" spc="-1" strike="noStrike">
                <a:solidFill>
                  <a:srgbClr val="336699"/>
                </a:solidFill>
                <a:latin typeface="Verdana"/>
              </a:endParaRPr>
            </a:p>
          </p:txBody>
        </p:sp>
      </p:grpSp>
      <p:sp>
        <p:nvSpPr>
          <p:cNvPr id="734" name="Text Box 45"/>
          <p:cNvSpPr/>
          <p:nvPr/>
        </p:nvSpPr>
        <p:spPr>
          <a:xfrm>
            <a:off x="6186240" y="3962520"/>
            <a:ext cx="290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6699"/>
                </a:solidFill>
                <a:latin typeface="Verdana"/>
              </a:rPr>
              <a:t>2</a:t>
            </a:r>
            <a:endParaRPr b="0" lang="en-US" sz="15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1380" dur="indefinite" restart="never" nodeType="tmRoot">
          <p:childTnLst>
            <p:seq>
              <p:cTn id="1381" dur="indefinite" nodeType="mainSeq">
                <p:childTnLst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nodeType="clickEffect" fill="hold">
                      <p:stCondLst>
                        <p:cond delay="indefinite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5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9" dur="8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0" dur="8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1" dur="8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4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nodeType="clickEffect" fill="hold">
                      <p:stCondLst>
                        <p:cond delay="indefinite"/>
                      </p:stCondLst>
                      <p:childTnLst>
                        <p:par>
                          <p:cTn id="1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9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5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5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5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nodeType="clickEffect" fill="hold">
                      <p:stCondLst>
                        <p:cond delay="indefinite"/>
                      </p:stCondLst>
                      <p:childTnLst>
                        <p:par>
                          <p:cTn id="1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6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9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nodeType="clickEffect" fill="hold">
                      <p:stCondLst>
                        <p:cond delay="indefinite"/>
                      </p:stCondLst>
                      <p:childTnLst>
                        <p:par>
                          <p:cTn id="1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4" dur="8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5" dur="8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6" dur="8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nodeType="clickEffect" fill="hold">
                      <p:stCondLst>
                        <p:cond delay="indefinite"/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4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7" dur="8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8" dur="8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9" dur="8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2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nodeType="clickEffect" fill="hold">
                      <p:stCondLst>
                        <p:cond delay="indefinite"/>
                      </p:stCondLst>
                      <p:childTnLst>
                        <p:par>
                          <p:cTn id="1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5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0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5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nodeType="clickEffect" fill="hold">
                      <p:stCondLst>
                        <p:cond delay="indefinite"/>
                      </p:stCondLst>
                      <p:childTnLst>
                        <p:par>
                          <p:cTn id="1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9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urva Ketinggi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304560" y="1447920"/>
            <a:ext cx="84582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z = f(x,y)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z = k adalah kurva ketinggian. Jadi Kurva ketinggian adalah proyeksi perpotongan grafik z = f(x,y) dengan bidang z =k pada bidang XO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oh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ambarkan kurva ketinggian z = k dar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66960" indent="-4953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(x,y) = 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+ 2y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k = 0, 1, 2, 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66960" indent="-4953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(x,y) = 2x – y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2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k = -2, 0, 2, 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4613-833D-4B2A-8DF8-4F9F5EEC4281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F4B4-1448-4BF4-A928-DFF24205E40A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 (Jawab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CA9D-F073-41CF-9BAC-71809E3DA320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F17C-CE1F-457E-8CF1-D65FD7031795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44" name="Rectangle 4"/>
          <p:cNvSpPr/>
          <p:nvPr/>
        </p:nvSpPr>
        <p:spPr>
          <a:xfrm>
            <a:off x="814680" y="1447920"/>
            <a:ext cx="4042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(x,y) = 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2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, k = 0, 1, 2, 4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45" name="Text Box 5"/>
          <p:cNvSpPr/>
          <p:nvPr/>
        </p:nvSpPr>
        <p:spPr>
          <a:xfrm>
            <a:off x="939960" y="1898640"/>
            <a:ext cx="1599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k = 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46" name="Text Box 6"/>
          <p:cNvSpPr/>
          <p:nvPr/>
        </p:nvSpPr>
        <p:spPr>
          <a:xfrm>
            <a:off x="2577240" y="1841400"/>
            <a:ext cx="549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29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47" name="Text Box 7"/>
          <p:cNvSpPr/>
          <p:nvPr/>
        </p:nvSpPr>
        <p:spPr>
          <a:xfrm>
            <a:off x="3300120" y="1898640"/>
            <a:ext cx="1464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2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48" name="Text Box 8"/>
          <p:cNvSpPr/>
          <p:nvPr/>
        </p:nvSpPr>
        <p:spPr>
          <a:xfrm>
            <a:off x="3358800" y="2279520"/>
            <a:ext cx="1489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 = 0, y = 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49" name="Text Box 9"/>
          <p:cNvSpPr/>
          <p:nvPr/>
        </p:nvSpPr>
        <p:spPr>
          <a:xfrm>
            <a:off x="5031720" y="2209680"/>
            <a:ext cx="549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29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50" name="Text Box 10"/>
          <p:cNvSpPr/>
          <p:nvPr/>
        </p:nvSpPr>
        <p:spPr>
          <a:xfrm>
            <a:off x="5697720" y="2266920"/>
            <a:ext cx="1329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itik (0, 0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51" name="Text Box 11"/>
          <p:cNvSpPr/>
          <p:nvPr/>
        </p:nvSpPr>
        <p:spPr>
          <a:xfrm>
            <a:off x="939960" y="2724120"/>
            <a:ext cx="1599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k = 1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52" name="Text Box 12"/>
          <p:cNvSpPr/>
          <p:nvPr/>
        </p:nvSpPr>
        <p:spPr>
          <a:xfrm>
            <a:off x="2577240" y="2666880"/>
            <a:ext cx="549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29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53" name="Text Box 13"/>
          <p:cNvSpPr/>
          <p:nvPr/>
        </p:nvSpPr>
        <p:spPr>
          <a:xfrm>
            <a:off x="3300120" y="2724120"/>
            <a:ext cx="1464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2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1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54" name="Text Box 15"/>
          <p:cNvSpPr/>
          <p:nvPr/>
        </p:nvSpPr>
        <p:spPr>
          <a:xfrm>
            <a:off x="4845960" y="3124080"/>
            <a:ext cx="549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29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55" name="Text Box 16"/>
          <p:cNvSpPr/>
          <p:nvPr/>
        </p:nvSpPr>
        <p:spPr>
          <a:xfrm>
            <a:off x="5393880" y="3200400"/>
            <a:ext cx="761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elips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56" name="Text Box 17"/>
          <p:cNvSpPr/>
          <p:nvPr/>
        </p:nvSpPr>
        <p:spPr>
          <a:xfrm>
            <a:off x="943200" y="3705120"/>
            <a:ext cx="1599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k = 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57" name="Text Box 18"/>
          <p:cNvSpPr/>
          <p:nvPr/>
        </p:nvSpPr>
        <p:spPr>
          <a:xfrm>
            <a:off x="2580480" y="3648240"/>
            <a:ext cx="549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29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58" name="Text Box 19"/>
          <p:cNvSpPr/>
          <p:nvPr/>
        </p:nvSpPr>
        <p:spPr>
          <a:xfrm>
            <a:off x="3303360" y="3705120"/>
            <a:ext cx="1464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2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59" name="Text Box 21"/>
          <p:cNvSpPr/>
          <p:nvPr/>
        </p:nvSpPr>
        <p:spPr>
          <a:xfrm>
            <a:off x="4780800" y="4016520"/>
            <a:ext cx="549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29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60" name="Text Box 22"/>
          <p:cNvSpPr/>
          <p:nvPr/>
        </p:nvSpPr>
        <p:spPr>
          <a:xfrm>
            <a:off x="5347800" y="4073400"/>
            <a:ext cx="761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elips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61" name="Text Box 23"/>
          <p:cNvSpPr/>
          <p:nvPr/>
        </p:nvSpPr>
        <p:spPr>
          <a:xfrm>
            <a:off x="939960" y="4572000"/>
            <a:ext cx="1599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k = 4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62" name="Text Box 24"/>
          <p:cNvSpPr/>
          <p:nvPr/>
        </p:nvSpPr>
        <p:spPr>
          <a:xfrm>
            <a:off x="2577240" y="4514760"/>
            <a:ext cx="549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29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63" name="Text Box 25"/>
          <p:cNvSpPr/>
          <p:nvPr/>
        </p:nvSpPr>
        <p:spPr>
          <a:xfrm>
            <a:off x="3300120" y="4572000"/>
            <a:ext cx="1464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2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4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64" name="Text Box 27"/>
          <p:cNvSpPr/>
          <p:nvPr/>
        </p:nvSpPr>
        <p:spPr>
          <a:xfrm>
            <a:off x="4750560" y="4883040"/>
            <a:ext cx="549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29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65" name="Text Box 28"/>
          <p:cNvSpPr/>
          <p:nvPr/>
        </p:nvSpPr>
        <p:spPr>
          <a:xfrm>
            <a:off x="5317560" y="4940280"/>
            <a:ext cx="761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elips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6" name="Object 31"/>
              <p:cNvSpPr txBox="1"/>
              <p:nvPr/>
            </p:nvSpPr>
            <p:spPr>
              <a:xfrm>
                <a:off x="3087720" y="3019320"/>
                <a:ext cx="13748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Object 34"/>
              <p:cNvSpPr txBox="1"/>
              <p:nvPr/>
            </p:nvSpPr>
            <p:spPr>
              <a:xfrm>
                <a:off x="3200400" y="4019400"/>
                <a:ext cx="131616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Object 36"/>
              <p:cNvSpPr txBox="1"/>
              <p:nvPr/>
            </p:nvSpPr>
            <p:spPr>
              <a:xfrm>
                <a:off x="3165480" y="4856040"/>
                <a:ext cx="135396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69" name="Group 45"/>
          <p:cNvGrpSpPr/>
          <p:nvPr/>
        </p:nvGrpSpPr>
        <p:grpSpPr>
          <a:xfrm>
            <a:off x="6296040" y="3139920"/>
            <a:ext cx="2743200" cy="2286000"/>
            <a:chOff x="6296040" y="3139920"/>
            <a:chExt cx="2743200" cy="2286000"/>
          </a:xfrm>
        </p:grpSpPr>
        <p:sp>
          <p:nvSpPr>
            <p:cNvPr id="770" name="Line 37"/>
            <p:cNvSpPr/>
            <p:nvPr/>
          </p:nvSpPr>
          <p:spPr>
            <a:xfrm flipV="1">
              <a:off x="7632360" y="3139920"/>
              <a:ext cx="0" cy="228600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771" name="Line 38"/>
            <p:cNvSpPr/>
            <p:nvPr/>
          </p:nvSpPr>
          <p:spPr>
            <a:xfrm>
              <a:off x="6296040" y="4190400"/>
              <a:ext cx="274320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</p:grpSp>
      <p:grpSp>
        <p:nvGrpSpPr>
          <p:cNvPr id="772" name="Group 42"/>
          <p:cNvGrpSpPr/>
          <p:nvPr/>
        </p:nvGrpSpPr>
        <p:grpSpPr>
          <a:xfrm>
            <a:off x="7469640" y="3657600"/>
            <a:ext cx="572040" cy="839520"/>
            <a:chOff x="7469640" y="3657600"/>
            <a:chExt cx="572040" cy="839520"/>
          </a:xfrm>
        </p:grpSpPr>
        <p:sp>
          <p:nvSpPr>
            <p:cNvPr id="773" name="Text Box 39"/>
            <p:cNvSpPr/>
            <p:nvPr/>
          </p:nvSpPr>
          <p:spPr>
            <a:xfrm>
              <a:off x="7469640" y="3657600"/>
              <a:ext cx="32076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336699"/>
                  </a:solidFill>
                  <a:latin typeface="Verdana"/>
                </a:rPr>
                <a:t>.</a:t>
              </a:r>
              <a:endParaRPr b="0" lang="en-US" sz="4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774" name="Text Box 40"/>
            <p:cNvSpPr/>
            <p:nvPr/>
          </p:nvSpPr>
          <p:spPr>
            <a:xfrm>
              <a:off x="7583760" y="4205160"/>
              <a:ext cx="457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336699"/>
                  </a:solidFill>
                  <a:latin typeface="Verdana"/>
                </a:rPr>
                <a:t>k=0</a:t>
              </a:r>
              <a:endParaRPr b="0" lang="en-US" sz="1300" spc="-1" strike="noStrike">
                <a:solidFill>
                  <a:srgbClr val="336699"/>
                </a:solidFill>
                <a:latin typeface="Verdana"/>
              </a:endParaRPr>
            </a:p>
          </p:txBody>
        </p:sp>
      </p:grpSp>
      <p:grpSp>
        <p:nvGrpSpPr>
          <p:cNvPr id="775" name="Group 44"/>
          <p:cNvGrpSpPr/>
          <p:nvPr/>
        </p:nvGrpSpPr>
        <p:grpSpPr>
          <a:xfrm>
            <a:off x="7046280" y="3898800"/>
            <a:ext cx="983160" cy="678960"/>
            <a:chOff x="7046280" y="3898800"/>
            <a:chExt cx="983160" cy="678960"/>
          </a:xfrm>
        </p:grpSpPr>
        <p:sp>
          <p:nvSpPr>
            <p:cNvPr id="776" name="Oval 41"/>
            <p:cNvSpPr/>
            <p:nvPr/>
          </p:nvSpPr>
          <p:spPr>
            <a:xfrm>
              <a:off x="7191360" y="3898800"/>
              <a:ext cx="838080" cy="533520"/>
            </a:xfrm>
            <a:prstGeom prst="ellipse">
              <a:avLst/>
            </a:prstGeom>
            <a:noFill/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777" name="Rectangle 43"/>
            <p:cNvSpPr/>
            <p:nvPr/>
          </p:nvSpPr>
          <p:spPr>
            <a:xfrm>
              <a:off x="7046280" y="4316400"/>
              <a:ext cx="416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36699"/>
                  </a:solidFill>
                  <a:latin typeface="Verdana"/>
                </a:rPr>
                <a:t>k=1</a:t>
              </a:r>
              <a:endParaRPr b="0" lang="en-US" sz="1100" spc="-1" strike="noStrike">
                <a:solidFill>
                  <a:srgbClr val="336699"/>
                </a:solidFill>
                <a:latin typeface="Verdana"/>
              </a:endParaRPr>
            </a:p>
          </p:txBody>
        </p:sp>
      </p:grpSp>
      <p:sp>
        <p:nvSpPr>
          <p:cNvPr id="778" name="Oval 46"/>
          <p:cNvSpPr/>
          <p:nvPr/>
        </p:nvSpPr>
        <p:spPr>
          <a:xfrm>
            <a:off x="6858000" y="3657600"/>
            <a:ext cx="1568520" cy="1038240"/>
          </a:xfrm>
          <a:prstGeom prst="ellipse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79" name="Text Box 47"/>
          <p:cNvSpPr/>
          <p:nvPr/>
        </p:nvSpPr>
        <p:spPr>
          <a:xfrm>
            <a:off x="6795000" y="452592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k=2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80" name="Oval 48"/>
          <p:cNvSpPr/>
          <p:nvPr/>
        </p:nvSpPr>
        <p:spPr>
          <a:xfrm>
            <a:off x="6327720" y="3492360"/>
            <a:ext cx="2578320" cy="1359000"/>
          </a:xfrm>
          <a:prstGeom prst="ellipse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81" name="Text Box 49"/>
          <p:cNvSpPr/>
          <p:nvPr/>
        </p:nvSpPr>
        <p:spPr>
          <a:xfrm>
            <a:off x="6584040" y="4724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k=4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82" name="Text Box 50"/>
          <p:cNvSpPr/>
          <p:nvPr/>
        </p:nvSpPr>
        <p:spPr>
          <a:xfrm>
            <a:off x="8825760" y="4260960"/>
            <a:ext cx="334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83" name="Rectangle 51"/>
          <p:cNvSpPr/>
          <p:nvPr/>
        </p:nvSpPr>
        <p:spPr>
          <a:xfrm>
            <a:off x="7328880" y="3048120"/>
            <a:ext cx="333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1500" dur="indefinite" restart="never" nodeType="tmRoot">
          <p:childTnLst>
            <p:seq>
              <p:cTn id="1501" dur="indefinite" nodeType="mainSeq">
                <p:childTnLst>
                  <p:par>
                    <p:cTn id="1502" nodeType="clickEffect" fill="hold">
                      <p:stCondLst>
                        <p:cond delay="indefinite"/>
                      </p:stCondLst>
                      <p:childTnLst>
                        <p:par>
                          <p:cTn id="1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6" dur="80"/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7" dur="80"/>
                                        <p:tgtEl>
                                          <p:spTgt spid="7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8" dur="80"/>
                                        <p:tgtEl>
                                          <p:spTgt spid="7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3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7" dur="80"/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8" dur="80"/>
                                        <p:tgtEl>
                                          <p:spTgt spid="7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9" dur="80"/>
                                        <p:tgtEl>
                                          <p:spTgt spid="7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nodeType="clickEffect" fill="hold">
                      <p:stCondLst>
                        <p:cond delay="indefinite"/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4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5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nodeType="clickEffect" fill="hold">
                      <p:stCondLst>
                        <p:cond delay="indefinite"/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1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7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nodeType="clickEffect" fill="hold">
                      <p:stCondLst>
                        <p:cond delay="indefinite"/>
                      </p:stCondLst>
                      <p:childTnLst>
                        <p:par>
                          <p:cTn id="1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nodeType="clickEffect" fill="hold">
                      <p:stCondLst>
                        <p:cond delay="indefinite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6" dur="80"/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7" dur="80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8" dur="80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nodeType="clickEffect" fill="hold">
                      <p:stCondLst>
                        <p:cond delay="indefinite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nodeType="clickEffect" fill="hold">
                      <p:stCondLst>
                        <p:cond delay="indefinite"/>
                      </p:stCondLst>
                      <p:childTnLst>
                        <p:par>
                          <p:cTn id="1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8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4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nodeType="clickEffect" fill="hold">
                      <p:stCondLst>
                        <p:cond delay="indefinite"/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nodeType="clickEffect" fill="hold">
                      <p:stCondLst>
                        <p:cond delay="indefinite"/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0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3" dur="80"/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4" dur="80"/>
                                        <p:tgtEl>
                                          <p:spTgt spid="7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5" dur="80"/>
                                        <p:tgtEl>
                                          <p:spTgt spid="7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nodeType="clickEffect" fill="hold">
                      <p:stCondLst>
                        <p:cond delay="indefinite"/>
                      </p:stCondLst>
                      <p:childTnLst>
                        <p:par>
                          <p:cTn id="1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0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3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nodeType="clickEffect" fill="hold">
                      <p:stCondLst>
                        <p:cond delay="indefinite"/>
                      </p:stCondLst>
                      <p:childTnLst>
                        <p:par>
                          <p:cTn id="1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8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7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nodeType="clickEffect" fill="hold">
                      <p:stCondLst>
                        <p:cond delay="indefinite"/>
                      </p:stCondLst>
                      <p:childTnLst>
                        <p:par>
                          <p:cTn id="1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nodeType="clickEffect" fill="hold">
                      <p:stCondLst>
                        <p:cond delay="indefinite"/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3" dur="8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4" dur="8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5" dur="8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nodeType="clickEffect" fill="hold">
                      <p:stCondLst>
                        <p:cond delay="indefinite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3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 (Jawab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3781-F613-44F6-AF93-D0C5CFE0B3B2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8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251A-6CCB-4989-A422-5D3FB8FFCB44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88" name="Text Box 4"/>
          <p:cNvSpPr/>
          <p:nvPr/>
        </p:nvSpPr>
        <p:spPr>
          <a:xfrm>
            <a:off x="957600" y="1898640"/>
            <a:ext cx="1684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k = -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2577240" y="1841400"/>
            <a:ext cx="549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29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3282120" y="1898640"/>
            <a:ext cx="1290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-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91" name="Text Box 7"/>
          <p:cNvSpPr/>
          <p:nvPr/>
        </p:nvSpPr>
        <p:spPr>
          <a:xfrm>
            <a:off x="3274920" y="2279520"/>
            <a:ext cx="12355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 =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 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92" name="Text Box 8"/>
          <p:cNvSpPr/>
          <p:nvPr/>
        </p:nvSpPr>
        <p:spPr>
          <a:xfrm>
            <a:off x="4629960" y="2209680"/>
            <a:ext cx="549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29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93" name="Text Box 9"/>
          <p:cNvSpPr/>
          <p:nvPr/>
        </p:nvSpPr>
        <p:spPr>
          <a:xfrm>
            <a:off x="5606640" y="2266920"/>
            <a:ext cx="1297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parabol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94" name="Text Box 10"/>
          <p:cNvSpPr/>
          <p:nvPr/>
        </p:nvSpPr>
        <p:spPr>
          <a:xfrm>
            <a:off x="939960" y="2724120"/>
            <a:ext cx="1599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k = 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2577240" y="2666880"/>
            <a:ext cx="549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29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3264480" y="2724120"/>
            <a:ext cx="1204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4553640" y="3124080"/>
            <a:ext cx="549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29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98" name="Text Box 14"/>
          <p:cNvSpPr/>
          <p:nvPr/>
        </p:nvSpPr>
        <p:spPr>
          <a:xfrm>
            <a:off x="5282640" y="3124080"/>
            <a:ext cx="1297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parabol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99" name="Text Box 15"/>
          <p:cNvSpPr/>
          <p:nvPr/>
        </p:nvSpPr>
        <p:spPr>
          <a:xfrm>
            <a:off x="943200" y="3705120"/>
            <a:ext cx="1599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k = 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00" name="Text Box 16"/>
          <p:cNvSpPr/>
          <p:nvPr/>
        </p:nvSpPr>
        <p:spPr>
          <a:xfrm>
            <a:off x="2580480" y="3648240"/>
            <a:ext cx="549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29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01" name="Text Box 17"/>
          <p:cNvSpPr/>
          <p:nvPr/>
        </p:nvSpPr>
        <p:spPr>
          <a:xfrm>
            <a:off x="3267720" y="3705120"/>
            <a:ext cx="1204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02" name="Text Box 18"/>
          <p:cNvSpPr/>
          <p:nvPr/>
        </p:nvSpPr>
        <p:spPr>
          <a:xfrm>
            <a:off x="4780800" y="4016520"/>
            <a:ext cx="549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29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03" name="Text Box 19"/>
          <p:cNvSpPr/>
          <p:nvPr/>
        </p:nvSpPr>
        <p:spPr>
          <a:xfrm>
            <a:off x="5355720" y="4073400"/>
            <a:ext cx="1297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parabol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04" name="Text Box 20"/>
          <p:cNvSpPr/>
          <p:nvPr/>
        </p:nvSpPr>
        <p:spPr>
          <a:xfrm>
            <a:off x="939960" y="4572000"/>
            <a:ext cx="1599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k = 4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05" name="Text Box 21"/>
          <p:cNvSpPr/>
          <p:nvPr/>
        </p:nvSpPr>
        <p:spPr>
          <a:xfrm>
            <a:off x="2577240" y="4514760"/>
            <a:ext cx="549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29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06" name="Text Box 22"/>
          <p:cNvSpPr/>
          <p:nvPr/>
        </p:nvSpPr>
        <p:spPr>
          <a:xfrm>
            <a:off x="3283200" y="4572000"/>
            <a:ext cx="12265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 </a:t>
            </a:r>
            <a:r>
              <a:rPr b="0" lang="id-ID" sz="2100" spc="-1" strike="noStrike">
                <a:solidFill>
                  <a:srgbClr val="336699"/>
                </a:solidFill>
                <a:latin typeface="Verdana"/>
              </a:rPr>
              <a:t>-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id-ID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4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07" name="Text Box 23"/>
          <p:cNvSpPr/>
          <p:nvPr/>
        </p:nvSpPr>
        <p:spPr>
          <a:xfrm>
            <a:off x="4750560" y="4883040"/>
            <a:ext cx="549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29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08" name="Text Box 24"/>
          <p:cNvSpPr/>
          <p:nvPr/>
        </p:nvSpPr>
        <p:spPr>
          <a:xfrm>
            <a:off x="5325480" y="4940280"/>
            <a:ext cx="1297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parabol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grpSp>
        <p:nvGrpSpPr>
          <p:cNvPr id="809" name="Group 51"/>
          <p:cNvGrpSpPr/>
          <p:nvPr/>
        </p:nvGrpSpPr>
        <p:grpSpPr>
          <a:xfrm>
            <a:off x="6400800" y="2819520"/>
            <a:ext cx="2743200" cy="2286000"/>
            <a:chOff x="6400800" y="2819520"/>
            <a:chExt cx="2743200" cy="2286000"/>
          </a:xfrm>
        </p:grpSpPr>
        <p:sp>
          <p:nvSpPr>
            <p:cNvPr id="810" name="Line 29"/>
            <p:cNvSpPr/>
            <p:nvPr/>
          </p:nvSpPr>
          <p:spPr>
            <a:xfrm flipV="1">
              <a:off x="7010280" y="2819520"/>
              <a:ext cx="0" cy="228600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811" name="Line 30"/>
            <p:cNvSpPr/>
            <p:nvPr/>
          </p:nvSpPr>
          <p:spPr>
            <a:xfrm>
              <a:off x="6400800" y="3870360"/>
              <a:ext cx="274320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</p:grpSp>
      <p:sp>
        <p:nvSpPr>
          <p:cNvPr id="812" name="Text Box 33"/>
          <p:cNvSpPr/>
          <p:nvPr/>
        </p:nvSpPr>
        <p:spPr>
          <a:xfrm>
            <a:off x="6966360" y="3886200"/>
            <a:ext cx="457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6699"/>
                </a:solidFill>
                <a:latin typeface="Verdana"/>
              </a:rPr>
              <a:t>k=0</a:t>
            </a:r>
            <a:endParaRPr b="0" lang="en-US" sz="1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13" name="Rectangle 36"/>
          <p:cNvSpPr/>
          <p:nvPr/>
        </p:nvSpPr>
        <p:spPr>
          <a:xfrm>
            <a:off x="7023600" y="4191120"/>
            <a:ext cx="462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6699"/>
                </a:solidFill>
                <a:latin typeface="Verdana"/>
              </a:rPr>
              <a:t>k=-2</a:t>
            </a:r>
            <a:endParaRPr b="0" lang="en-US" sz="1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14" name="Text Box 38"/>
          <p:cNvSpPr/>
          <p:nvPr/>
        </p:nvSpPr>
        <p:spPr>
          <a:xfrm>
            <a:off x="7382520" y="39924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k=2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15" name="Text Box 40"/>
          <p:cNvSpPr/>
          <p:nvPr/>
        </p:nvSpPr>
        <p:spPr>
          <a:xfrm>
            <a:off x="7803000" y="39924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k=4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16" name="Text Box 41"/>
          <p:cNvSpPr/>
          <p:nvPr/>
        </p:nvSpPr>
        <p:spPr>
          <a:xfrm>
            <a:off x="8825760" y="3809880"/>
            <a:ext cx="334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17" name="Rectangle 42"/>
          <p:cNvSpPr/>
          <p:nvPr/>
        </p:nvSpPr>
        <p:spPr>
          <a:xfrm>
            <a:off x="6665040" y="2743200"/>
            <a:ext cx="333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18" name="Rectangle 43"/>
          <p:cNvSpPr/>
          <p:nvPr/>
        </p:nvSpPr>
        <p:spPr>
          <a:xfrm>
            <a:off x="543240" y="1447920"/>
            <a:ext cx="446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(x,y) = x –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 , k = -2, 0, 2, 4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19" name="Text Box 44"/>
          <p:cNvSpPr/>
          <p:nvPr/>
        </p:nvSpPr>
        <p:spPr>
          <a:xfrm>
            <a:off x="3299760" y="3168720"/>
            <a:ext cx="878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 =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20" name="Text Box 45"/>
          <p:cNvSpPr/>
          <p:nvPr/>
        </p:nvSpPr>
        <p:spPr>
          <a:xfrm>
            <a:off x="3287880" y="4114800"/>
            <a:ext cx="1293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 =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2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21" name="Text Box 46"/>
          <p:cNvSpPr/>
          <p:nvPr/>
        </p:nvSpPr>
        <p:spPr>
          <a:xfrm>
            <a:off x="3267360" y="4952880"/>
            <a:ext cx="1293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 =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4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22" name="Freeform 47"/>
          <p:cNvSpPr/>
          <p:nvPr/>
        </p:nvSpPr>
        <p:spPr>
          <a:xfrm>
            <a:off x="6985080" y="2971800"/>
            <a:ext cx="1473120" cy="1523880"/>
          </a:xfrm>
          <a:custGeom>
            <a:avLst/>
            <a:gdLst>
              <a:gd name="textAreaLeft" fmla="*/ 0 w 1473120"/>
              <a:gd name="textAreaRight" fmla="*/ 1473480 w 147312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928" h="960">
                <a:moveTo>
                  <a:pt x="880" y="0"/>
                </a:moveTo>
                <a:cubicBezTo>
                  <a:pt x="640" y="96"/>
                  <a:pt x="400" y="192"/>
                  <a:pt x="256" y="288"/>
                </a:cubicBezTo>
                <a:cubicBezTo>
                  <a:pt x="112" y="384"/>
                  <a:pt x="0" y="488"/>
                  <a:pt x="16" y="576"/>
                </a:cubicBezTo>
                <a:cubicBezTo>
                  <a:pt x="32" y="664"/>
                  <a:pt x="200" y="752"/>
                  <a:pt x="352" y="816"/>
                </a:cubicBezTo>
                <a:cubicBezTo>
                  <a:pt x="504" y="880"/>
                  <a:pt x="716" y="920"/>
                  <a:pt x="928" y="960"/>
                </a:cubicBezTo>
              </a:path>
            </a:pathLst>
          </a:custGeom>
          <a:noFill/>
          <a:ln cap="sq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23" name="Freeform 48"/>
          <p:cNvSpPr/>
          <p:nvPr/>
        </p:nvSpPr>
        <p:spPr>
          <a:xfrm>
            <a:off x="6642000" y="3000240"/>
            <a:ext cx="1473480" cy="1524240"/>
          </a:xfrm>
          <a:custGeom>
            <a:avLst/>
            <a:gdLst>
              <a:gd name="textAreaLeft" fmla="*/ 0 w 1473480"/>
              <a:gd name="textAreaRight" fmla="*/ 1473840 w 14734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928" h="960">
                <a:moveTo>
                  <a:pt x="880" y="0"/>
                </a:moveTo>
                <a:cubicBezTo>
                  <a:pt x="640" y="96"/>
                  <a:pt x="400" y="192"/>
                  <a:pt x="256" y="288"/>
                </a:cubicBezTo>
                <a:cubicBezTo>
                  <a:pt x="112" y="384"/>
                  <a:pt x="0" y="488"/>
                  <a:pt x="16" y="576"/>
                </a:cubicBezTo>
                <a:cubicBezTo>
                  <a:pt x="32" y="664"/>
                  <a:pt x="200" y="752"/>
                  <a:pt x="352" y="816"/>
                </a:cubicBezTo>
                <a:cubicBezTo>
                  <a:pt x="504" y="880"/>
                  <a:pt x="716" y="920"/>
                  <a:pt x="928" y="960"/>
                </a:cubicBezTo>
              </a:path>
            </a:pathLst>
          </a:custGeom>
          <a:noFill/>
          <a:ln cap="sq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24" name="Freeform 49"/>
          <p:cNvSpPr/>
          <p:nvPr/>
        </p:nvSpPr>
        <p:spPr>
          <a:xfrm>
            <a:off x="7289640" y="2940120"/>
            <a:ext cx="1473480" cy="1523880"/>
          </a:xfrm>
          <a:custGeom>
            <a:avLst/>
            <a:gdLst>
              <a:gd name="textAreaLeft" fmla="*/ 0 w 1473480"/>
              <a:gd name="textAreaRight" fmla="*/ 1473840 w 147348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928" h="960">
                <a:moveTo>
                  <a:pt x="880" y="0"/>
                </a:moveTo>
                <a:cubicBezTo>
                  <a:pt x="640" y="96"/>
                  <a:pt x="400" y="192"/>
                  <a:pt x="256" y="288"/>
                </a:cubicBezTo>
                <a:cubicBezTo>
                  <a:pt x="112" y="384"/>
                  <a:pt x="0" y="488"/>
                  <a:pt x="16" y="576"/>
                </a:cubicBezTo>
                <a:cubicBezTo>
                  <a:pt x="32" y="664"/>
                  <a:pt x="200" y="752"/>
                  <a:pt x="352" y="816"/>
                </a:cubicBezTo>
                <a:cubicBezTo>
                  <a:pt x="504" y="880"/>
                  <a:pt x="716" y="920"/>
                  <a:pt x="928" y="960"/>
                </a:cubicBezTo>
              </a:path>
            </a:pathLst>
          </a:custGeom>
          <a:noFill/>
          <a:ln cap="sq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25" name="Freeform 50"/>
          <p:cNvSpPr/>
          <p:nvPr/>
        </p:nvSpPr>
        <p:spPr>
          <a:xfrm>
            <a:off x="7588080" y="2940120"/>
            <a:ext cx="1473480" cy="1523880"/>
          </a:xfrm>
          <a:custGeom>
            <a:avLst/>
            <a:gdLst>
              <a:gd name="textAreaLeft" fmla="*/ 0 w 1473480"/>
              <a:gd name="textAreaRight" fmla="*/ 1473840 w 147348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928" h="960">
                <a:moveTo>
                  <a:pt x="880" y="0"/>
                </a:moveTo>
                <a:cubicBezTo>
                  <a:pt x="640" y="96"/>
                  <a:pt x="400" y="192"/>
                  <a:pt x="256" y="288"/>
                </a:cubicBezTo>
                <a:cubicBezTo>
                  <a:pt x="112" y="384"/>
                  <a:pt x="0" y="488"/>
                  <a:pt x="16" y="576"/>
                </a:cubicBezTo>
                <a:cubicBezTo>
                  <a:pt x="32" y="664"/>
                  <a:pt x="200" y="752"/>
                  <a:pt x="352" y="816"/>
                </a:cubicBezTo>
                <a:cubicBezTo>
                  <a:pt x="504" y="880"/>
                  <a:pt x="716" y="920"/>
                  <a:pt x="928" y="960"/>
                </a:cubicBezTo>
              </a:path>
            </a:pathLst>
          </a:custGeom>
          <a:noFill/>
          <a:ln cap="sq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1674" dur="indefinite" restart="never" nodeType="tmRoot">
          <p:childTnLst>
            <p:seq>
              <p:cTn id="1675" dur="indefinite" nodeType="mainSeq">
                <p:childTnLst>
                  <p:par>
                    <p:cTn id="1676" nodeType="clickEffect" fill="hold">
                      <p:stCondLst>
                        <p:cond delay="0"/>
                      </p:stCondLst>
                      <p:childTnLst>
                        <p:par>
                          <p:cTn id="1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0" dur="80"/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1" dur="80"/>
                                        <p:tgtEl>
                                          <p:spTgt spid="8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2" dur="80"/>
                                        <p:tgtEl>
                                          <p:spTgt spid="8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nodeType="clickEffect" fill="hold">
                      <p:stCondLst>
                        <p:cond delay="indefinite"/>
                      </p:stCondLst>
                      <p:childTnLst>
                        <p:par>
                          <p:cTn id="1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7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3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nodeType="clickEffect" fill="hold">
                      <p:stCondLst>
                        <p:cond delay="indefinite"/>
                      </p:stCondLst>
                      <p:childTnLst>
                        <p:par>
                          <p:cTn id="1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1" dur="8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2" dur="8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3" dur="8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nodeType="clickEffect" fill="hold">
                      <p:stCondLst>
                        <p:cond delay="indefinite"/>
                      </p:stCondLst>
                      <p:childTnLst>
                        <p:par>
                          <p:cTn id="1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1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4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7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5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nodeType="clickEffect" fill="hold">
                      <p:stCondLst>
                        <p:cond delay="indefinite"/>
                      </p:stCondLst>
                      <p:childTnLst>
                        <p:par>
                          <p:cTn id="1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0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3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8" dur="2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nodeType="clickEffect" fill="hold">
                      <p:stCondLst>
                        <p:cond delay="indefinite"/>
                      </p:stCondLst>
                      <p:childTnLst>
                        <p:par>
                          <p:cTn id="1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2" dur="8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3" dur="8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4" dur="8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nodeType="clickEffect" fill="hold">
                      <p:stCondLst>
                        <p:cond delay="indefinite"/>
                      </p:stCondLst>
                      <p:childTnLst>
                        <p:par>
                          <p:cTn id="1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2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5" dur="8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6" dur="8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7" dur="8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nodeType="clickEffect" fill="hold">
                      <p:stCondLst>
                        <p:cond delay="indefinite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2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5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nodeType="clickEffect" fill="hold">
                      <p:stCondLst>
                        <p:cond delay="indefinite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0" dur="2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6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9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nodeType="clickEffect" fill="hold">
                      <p:stCondLst>
                        <p:cond delay="indefinite"/>
                      </p:stCondLst>
                      <p:childTnLst>
                        <p:par>
                          <p:cTn id="1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4" dur="80"/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5" dur="80"/>
                                        <p:tgtEl>
                                          <p:spTgt spid="8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6" dur="80"/>
                                        <p:tgtEl>
                                          <p:spTgt spid="8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nodeType="clickEffect" fill="hold">
                      <p:stCondLst>
                        <p:cond delay="indefinite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4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7" dur="8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8" dur="8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9" dur="8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nodeType="clickEffect" fill="hold">
                      <p:stCondLst>
                        <p:cond delay="indefinite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4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7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nodeType="clickEffect" fill="hold">
                      <p:stCondLst>
                        <p:cond delay="indefinite"/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2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nodeType="clickEffect" fill="hold">
                      <p:stCondLst>
                        <p:cond delay="indefinite"/>
                      </p:stCondLst>
                      <p:childTnLst>
                        <p:par>
                          <p:cTn id="1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6" dur="8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7" dur="8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8" dur="8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nodeType="clickEffect" fill="hold">
                      <p:stCondLst>
                        <p:cond delay="indefinite"/>
                      </p:stCondLst>
                      <p:childTnLst>
                        <p:par>
                          <p:cTn id="1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6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9" dur="8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0" dur="8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1" dur="8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nodeType="clickEffect" fill="hold">
                      <p:stCondLst>
                        <p:cond delay="indefinite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6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9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ih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380880" y="2066760"/>
            <a:ext cx="8305920" cy="27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7160" indent="-399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,y)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y , k = -4, -1, 0, 1,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,y)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+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, k = 0, 1, 4, 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,y) = xy , k = -4, -1, 0, 1,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,y) =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, k = 1, 2, 3,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706D-44B5-45E3-ADFF-B6EDE980EBCE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2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3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92F1-6B7F-47DF-B2ED-6D45EBF2503D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31" name="Rectangle 4"/>
          <p:cNvSpPr/>
          <p:nvPr/>
        </p:nvSpPr>
        <p:spPr>
          <a:xfrm>
            <a:off x="992880" y="1523880"/>
            <a:ext cx="5019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Gambarkan kurva ketinggian z = k dari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1860" dur="indefinite" restart="never" nodeType="tmRoot">
          <p:childTnLst>
            <p:seq>
              <p:cTn id="1861" dur="indefinite" nodeType="mainSeq">
                <p:childTnLst>
                  <p:par>
                    <p:cTn id="1862" nodeType="clickEffect" fill="hold">
                      <p:stCondLst>
                        <p:cond delay="0"/>
                      </p:stCondLst>
                      <p:childTnLst>
                        <p:par>
                          <p:cTn id="1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9" dur="80"/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0" dur="80"/>
                                        <p:tgtEl>
                                          <p:spTgt spid="8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1" dur="80"/>
                                        <p:tgtEl>
                                          <p:spTgt spid="8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nodeType="clickEffect" fill="hold">
                      <p:stCondLst>
                        <p:cond delay="indefinite"/>
                      </p:stCondLst>
                      <p:childTnLst>
                        <p:par>
                          <p:cTn id="1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runan Pars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609480" y="1527120"/>
            <a:ext cx="830592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3840" indent="-39384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finisi: Misalkan f(x,y) adalah fungsi dua peubah x dan 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93840" indent="-39384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urunan parsial pertama dari f terhadap x (y dianggap konstan) didefinisikan sebagai beriku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63720"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93840" indent="-39384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B942-E7B9-4E10-88B7-3F7221137138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3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3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82D0-ECEC-4BC3-8CE3-C26918E53EEB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7" name="Object 4"/>
              <p:cNvSpPr txBox="1"/>
              <p:nvPr/>
            </p:nvSpPr>
            <p:spPr>
              <a:xfrm>
                <a:off x="2438280" y="3581280"/>
                <a:ext cx="36054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h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8" name="Rectangle 5"/>
          <p:cNvSpPr/>
          <p:nvPr/>
        </p:nvSpPr>
        <p:spPr>
          <a:xfrm>
            <a:off x="532080" y="4660920"/>
            <a:ext cx="7665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urunan parsial pertama dari f terhadap y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 dianggap konstan) didefinisikan sebagai berikut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9" name="Object 6"/>
              <p:cNvSpPr txBox="1"/>
              <p:nvPr/>
            </p:nvSpPr>
            <p:spPr>
              <a:xfrm>
                <a:off x="2490840" y="5713560"/>
                <a:ext cx="360504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h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886" dur="indefinite" restart="never" nodeType="tmRoot">
          <p:childTnLst>
            <p:seq>
              <p:cTn id="1887" dur="indefinite" nodeType="mainSeq">
                <p:childTnLst>
                  <p:par>
                    <p:cTn id="1888" nodeType="clickEffect" fill="hold">
                      <p:stCondLst>
                        <p:cond delay="0"/>
                      </p:stCondLst>
                      <p:childTnLst>
                        <p:par>
                          <p:cTn id="1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2" dur="2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2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2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5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nodeType="clickEffect" fill="hold">
                      <p:stCondLst>
                        <p:cond delay="indefinite"/>
                      </p:stCondLst>
                      <p:childTnLst>
                        <p:par>
                          <p:cTn id="1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0" dur="2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2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2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3" dur="2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6" dur="2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2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2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9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9A5C-A930-42C5-B417-E2533BB1D16E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1E47-8F24-40BE-9C81-4075E18D4FDC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344520" y="1752120"/>
            <a:ext cx="1089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1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5" name="Object 4"/>
              <p:cNvSpPr txBox="1"/>
              <p:nvPr/>
            </p:nvSpPr>
            <p:spPr>
              <a:xfrm>
                <a:off x="1171440" y="1782720"/>
                <a:ext cx="2181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46" name="Rectangle 13"/>
          <p:cNvSpPr/>
          <p:nvPr/>
        </p:nvSpPr>
        <p:spPr>
          <a:xfrm>
            <a:off x="874800" y="1339920"/>
            <a:ext cx="23918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f497d"/>
                </a:solidFill>
                <a:latin typeface="Verdana"/>
              </a:rPr>
              <a:t>Tentukan f</a:t>
            </a:r>
            <a:r>
              <a:rPr b="0" lang="en-US" sz="2100" spc="-1" strike="noStrike" baseline="-25000">
                <a:solidFill>
                  <a:srgbClr val="1f497d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1f497d"/>
                </a:solidFill>
                <a:latin typeface="Verdana"/>
              </a:rPr>
              <a:t> dan f</a:t>
            </a:r>
            <a:r>
              <a:rPr b="0" lang="en-US" sz="2100" spc="-1" strike="noStrike" baseline="-25000">
                <a:solidFill>
                  <a:srgbClr val="1f497d"/>
                </a:solidFill>
                <a:latin typeface="Verdana"/>
              </a:rPr>
              <a:t>y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47" name="Text Box 14"/>
          <p:cNvSpPr/>
          <p:nvPr/>
        </p:nvSpPr>
        <p:spPr>
          <a:xfrm>
            <a:off x="1107720" y="2178000"/>
            <a:ext cx="927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wab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48" name="Text Box 15"/>
          <p:cNvSpPr/>
          <p:nvPr/>
        </p:nvSpPr>
        <p:spPr>
          <a:xfrm>
            <a:off x="1430640" y="2584440"/>
            <a:ext cx="25232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) = 3 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y + 4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49" name="Text Box 16"/>
          <p:cNvSpPr/>
          <p:nvPr/>
        </p:nvSpPr>
        <p:spPr>
          <a:xfrm>
            <a:off x="1371240" y="3032280"/>
            <a:ext cx="21470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) = 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3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8 xy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50" name="Rectangle 19"/>
          <p:cNvSpPr/>
          <p:nvPr/>
        </p:nvSpPr>
        <p:spPr>
          <a:xfrm>
            <a:off x="344520" y="3504600"/>
            <a:ext cx="1089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2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1" name="Object 20"/>
              <p:cNvSpPr txBox="1"/>
              <p:nvPr/>
            </p:nvSpPr>
            <p:spPr>
              <a:xfrm>
                <a:off x="1182600" y="3535200"/>
                <a:ext cx="25369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2" name="Rectangle 21"/>
          <p:cNvSpPr/>
          <p:nvPr/>
        </p:nvSpPr>
        <p:spPr>
          <a:xfrm>
            <a:off x="3925800" y="1690200"/>
            <a:ext cx="1089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3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3" name="Object 22"/>
              <p:cNvSpPr txBox="1"/>
              <p:nvPr/>
            </p:nvSpPr>
            <p:spPr>
              <a:xfrm>
                <a:off x="4719600" y="1631880"/>
                <a:ext cx="22478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nsin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54" name="Text Box 23"/>
          <p:cNvSpPr/>
          <p:nvPr/>
        </p:nvSpPr>
        <p:spPr>
          <a:xfrm>
            <a:off x="1107720" y="3914640"/>
            <a:ext cx="927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wab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55" name="Text Box 24"/>
          <p:cNvSpPr/>
          <p:nvPr/>
        </p:nvSpPr>
        <p:spPr>
          <a:xfrm>
            <a:off x="1491840" y="4321080"/>
            <a:ext cx="30600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) = –2xy s</a:t>
            </a:r>
            <a:r>
              <a:rPr b="0" lang="id-ID" sz="2100" spc="-1" strike="noStrike">
                <a:solidFill>
                  <a:srgbClr val="336699"/>
                </a:solidFill>
                <a:latin typeface="Verdana"/>
              </a:rPr>
              <a:t>in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+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56" name="Text Box 25"/>
          <p:cNvSpPr/>
          <p:nvPr/>
        </p:nvSpPr>
        <p:spPr>
          <a:xfrm>
            <a:off x="1581480" y="4768920"/>
            <a:ext cx="40903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) = cos(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– 2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in(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57" name="Text Box 28"/>
          <p:cNvSpPr/>
          <p:nvPr/>
        </p:nvSpPr>
        <p:spPr>
          <a:xfrm>
            <a:off x="4689360" y="2133720"/>
            <a:ext cx="927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wab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58" name="Text Box 29"/>
          <p:cNvSpPr/>
          <p:nvPr/>
        </p:nvSpPr>
        <p:spPr>
          <a:xfrm>
            <a:off x="5052960" y="2540160"/>
            <a:ext cx="352728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)=0. ln(siny)–1. ln(sinx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59" name="Text Box 34"/>
          <p:cNvSpPr/>
          <p:nvPr/>
        </p:nvSpPr>
        <p:spPr>
          <a:xfrm>
            <a:off x="4957200" y="2940120"/>
            <a:ext cx="22579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) = – ln(sinx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60" name="Text Box 35"/>
          <p:cNvSpPr/>
          <p:nvPr/>
        </p:nvSpPr>
        <p:spPr>
          <a:xfrm>
            <a:off x="5053680" y="3301920"/>
            <a:ext cx="35258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)=1. ln(siny)–0. ln(sinx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61" name="Text Box 36"/>
          <p:cNvSpPr/>
          <p:nvPr/>
        </p:nvSpPr>
        <p:spPr>
          <a:xfrm>
            <a:off x="4931640" y="3701880"/>
            <a:ext cx="204588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) = ln(siny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1910" dur="indefinite" restart="never" nodeType="tmRoot">
          <p:childTnLst>
            <p:seq>
              <p:cTn id="1911" dur="indefinite" nodeType="mainSeq">
                <p:childTnLst>
                  <p:par>
                    <p:cTn id="1912" nodeType="clickEffect" fill="hold">
                      <p:stCondLst>
                        <p:cond delay="0"/>
                      </p:stCondLst>
                      <p:childTnLst>
                        <p:par>
                          <p:cTn id="1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6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9" dur="2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22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nodeType="clickEffect" fill="hold">
                      <p:stCondLst>
                        <p:cond delay="indefinite"/>
                      </p:stCondLst>
                      <p:childTnLst>
                        <p:par>
                          <p:cTn id="1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7" dur="8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8" dur="8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9" dur="8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nodeType="clickEffect" fill="hold">
                      <p:stCondLst>
                        <p:cond delay="indefinite"/>
                      </p:stCondLst>
                      <p:childTnLst>
                        <p:par>
                          <p:cTn id="1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4" dur="80"/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5" dur="80"/>
                                        <p:tgtEl>
                                          <p:spTgt spid="8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6" dur="80"/>
                                        <p:tgtEl>
                                          <p:spTgt spid="8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nodeType="clickEffect" fill="hold">
                      <p:stCondLst>
                        <p:cond delay="indefinite"/>
                      </p:stCondLst>
                      <p:childTnLst>
                        <p:par>
                          <p:cTn id="1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1" dur="8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2" dur="8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3" dur="8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nodeType="clickEffect" fill="hold">
                      <p:stCondLst>
                        <p:cond delay="indefinite"/>
                      </p:stCondLst>
                      <p:childTnLst>
                        <p:par>
                          <p:cTn id="1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8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nodeType="clickEffect" fill="hold">
                      <p:stCondLst>
                        <p:cond delay="indefinite"/>
                      </p:stCondLst>
                      <p:childTnLst>
                        <p:par>
                          <p:cTn id="1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6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7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8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nodeType="clickEffect" fill="hold">
                      <p:stCondLst>
                        <p:cond delay="indefinite"/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3" dur="80"/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4" dur="80"/>
                                        <p:tgtEl>
                                          <p:spTgt spid="8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5" dur="80"/>
                                        <p:tgtEl>
                                          <p:spTgt spid="8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nodeType="clickEffect" fill="hold">
                      <p:stCondLst>
                        <p:cond delay="indefinite"/>
                      </p:stCondLst>
                      <p:childTnLst>
                        <p:par>
                          <p:cTn id="1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0" dur="8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1" dur="8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2" dur="8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nodeType="clickEffect" fill="hold">
                      <p:stCondLst>
                        <p:cond delay="indefinite"/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7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0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nodeType="clickEffect" fill="hold">
                      <p:stCondLst>
                        <p:cond delay="indefinite"/>
                      </p:stCondLst>
                      <p:childTnLst>
                        <p:par>
                          <p:cTn id="1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5" dur="80"/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6" dur="80"/>
                                        <p:tgtEl>
                                          <p:spTgt spid="8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7" dur="80"/>
                                        <p:tgtEl>
                                          <p:spTgt spid="8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nodeType="clickEffect" fill="hold">
                      <p:stCondLst>
                        <p:cond delay="indefinite"/>
                      </p:stCondLst>
                      <p:childTnLst>
                        <p:par>
                          <p:cTn id="1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2" dur="80"/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3" dur="80"/>
                                        <p:tgtEl>
                                          <p:spTgt spid="8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4" dur="80"/>
                                        <p:tgtEl>
                                          <p:spTgt spid="8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nodeType="clickEffect" fill="hold">
                      <p:stCondLst>
                        <p:cond delay="indefinite"/>
                      </p:stCondLst>
                      <p:childTnLst>
                        <p:par>
                          <p:cTn id="1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nodeType="clickEffect" fill="hold">
                      <p:stCondLst>
                        <p:cond delay="indefinite"/>
                      </p:stCondLst>
                      <p:childTnLst>
                        <p:par>
                          <p:cTn id="2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7" dur="80"/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8" dur="80"/>
                                        <p:tgtEl>
                                          <p:spTgt spid="8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9" dur="80"/>
                                        <p:tgtEl>
                                          <p:spTgt spid="8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nodeType="clickEffect" fill="hold">
                      <p:stCondLst>
                        <p:cond delay="indefinite"/>
                      </p:stCondLst>
                      <p:childTnLst>
                        <p:par>
                          <p:cTn id="2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ih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2BA7-0514-4004-BC4C-A2F0D701CC3A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F662-D82F-420E-8871-DDD0B0225E05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66" name="Rectangle 4"/>
          <p:cNvSpPr/>
          <p:nvPr/>
        </p:nvSpPr>
        <p:spPr>
          <a:xfrm>
            <a:off x="344520" y="1752120"/>
            <a:ext cx="1089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1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344520" y="2221920"/>
            <a:ext cx="1089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2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8" name="Object 9"/>
              <p:cNvSpPr txBox="1"/>
              <p:nvPr/>
            </p:nvSpPr>
            <p:spPr>
              <a:xfrm>
                <a:off x="1200240" y="1752480"/>
                <a:ext cx="436248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Object 13"/>
              <p:cNvSpPr txBox="1"/>
              <p:nvPr/>
            </p:nvSpPr>
            <p:spPr>
              <a:xfrm>
                <a:off x="1246320" y="2133720"/>
                <a:ext cx="23349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70" name="Rectangle 14"/>
          <p:cNvSpPr/>
          <p:nvPr/>
        </p:nvSpPr>
        <p:spPr>
          <a:xfrm>
            <a:off x="874800" y="1339920"/>
            <a:ext cx="23918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f497d"/>
                </a:solidFill>
                <a:latin typeface="Verdana"/>
              </a:rPr>
              <a:t>Tentukan f</a:t>
            </a:r>
            <a:r>
              <a:rPr b="0" lang="en-US" sz="2100" spc="-1" strike="noStrike" baseline="-25000">
                <a:solidFill>
                  <a:srgbClr val="1f497d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1f497d"/>
                </a:solidFill>
                <a:latin typeface="Verdana"/>
              </a:rPr>
              <a:t> dan f</a:t>
            </a:r>
            <a:r>
              <a:rPr b="0" lang="en-US" sz="2100" spc="-1" strike="noStrike" baseline="-25000">
                <a:solidFill>
                  <a:srgbClr val="1f497d"/>
                </a:solidFill>
                <a:latin typeface="Verdana"/>
              </a:rPr>
              <a:t>y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71" name="Rectangle 15"/>
          <p:cNvSpPr/>
          <p:nvPr/>
        </p:nvSpPr>
        <p:spPr>
          <a:xfrm>
            <a:off x="344520" y="2736360"/>
            <a:ext cx="1089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3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2" name="Object 16"/>
              <p:cNvSpPr txBox="1"/>
              <p:nvPr/>
            </p:nvSpPr>
            <p:spPr>
              <a:xfrm>
                <a:off x="1176480" y="2768760"/>
                <a:ext cx="45385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3" name="Rectangle 17"/>
          <p:cNvSpPr/>
          <p:nvPr/>
        </p:nvSpPr>
        <p:spPr>
          <a:xfrm>
            <a:off x="344520" y="3774600"/>
            <a:ext cx="1089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1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4" name="Object 18"/>
              <p:cNvSpPr txBox="1"/>
              <p:nvPr/>
            </p:nvSpPr>
            <p:spPr>
              <a:xfrm>
                <a:off x="1219320" y="3790800"/>
                <a:ext cx="342720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x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5" name="Rectangle 19"/>
          <p:cNvSpPr/>
          <p:nvPr/>
        </p:nvSpPr>
        <p:spPr>
          <a:xfrm>
            <a:off x="344520" y="4231800"/>
            <a:ext cx="1089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2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6" name="Object 20"/>
              <p:cNvSpPr txBox="1"/>
              <p:nvPr/>
            </p:nvSpPr>
            <p:spPr>
              <a:xfrm>
                <a:off x="1233360" y="4259160"/>
                <a:ext cx="38721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7" name="Rectangle 21"/>
          <p:cNvSpPr/>
          <p:nvPr/>
        </p:nvSpPr>
        <p:spPr>
          <a:xfrm>
            <a:off x="999720" y="3321000"/>
            <a:ext cx="266616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f497d"/>
                </a:solidFill>
                <a:latin typeface="Verdana"/>
              </a:rPr>
              <a:t>Tentukan f</a:t>
            </a:r>
            <a:r>
              <a:rPr b="0" lang="en-US" sz="2100" spc="-1" strike="noStrike" baseline="-25000">
                <a:solidFill>
                  <a:srgbClr val="1f497d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1f497d"/>
                </a:solidFill>
                <a:latin typeface="Verdana"/>
              </a:rPr>
              <a:t>, f</a:t>
            </a:r>
            <a:r>
              <a:rPr b="0" lang="en-US" sz="2100" spc="-1" strike="noStrike" baseline="-25000">
                <a:solidFill>
                  <a:srgbClr val="1f497d"/>
                </a:solidFill>
                <a:latin typeface="Verdana"/>
              </a:rPr>
              <a:t>y </a:t>
            </a:r>
            <a:r>
              <a:rPr b="0" lang="en-US" sz="2100" spc="-1" strike="noStrike">
                <a:solidFill>
                  <a:srgbClr val="1f497d"/>
                </a:solidFill>
                <a:latin typeface="Verdana"/>
              </a:rPr>
              <a:t>dan f</a:t>
            </a:r>
            <a:r>
              <a:rPr b="0" lang="en-US" sz="2100" spc="-1" strike="noStrike" baseline="-25000">
                <a:solidFill>
                  <a:srgbClr val="1f497d"/>
                </a:solidFill>
                <a:latin typeface="Verdana"/>
              </a:rPr>
              <a:t>z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2018" dur="indefinite" restart="never" nodeType="tmRoot">
          <p:childTnLst>
            <p:seq>
              <p:cTn id="2019" dur="indefinite" nodeType="mainSeq">
                <p:childTnLst>
                  <p:par>
                    <p:cTn id="2020" nodeType="clickEffect" fill="hold">
                      <p:stCondLst>
                        <p:cond delay="0"/>
                      </p:stCondLst>
                      <p:childTnLst>
                        <p:par>
                          <p:cTn id="2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4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7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0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3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6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9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2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5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8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1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runan Parsial Kedu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115E-1443-45F9-B9B9-11894D7D3F56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8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5046-2D99-4A21-ACF9-40EDC59199FC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2" name="Object 4"/>
              <p:cNvSpPr txBox="1"/>
              <p:nvPr/>
            </p:nvSpPr>
            <p:spPr>
              <a:xfrm>
                <a:off x="1666800" y="1523880"/>
                <a:ext cx="322596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3" name="Object 6"/>
              <p:cNvSpPr txBox="1"/>
              <p:nvPr/>
            </p:nvSpPr>
            <p:spPr>
              <a:xfrm>
                <a:off x="1666800" y="2382840"/>
                <a:ext cx="32274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Object 8"/>
              <p:cNvSpPr txBox="1"/>
              <p:nvPr/>
            </p:nvSpPr>
            <p:spPr>
              <a:xfrm>
                <a:off x="1646280" y="3373560"/>
                <a:ext cx="338292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Object 10"/>
              <p:cNvSpPr txBox="1"/>
              <p:nvPr/>
            </p:nvSpPr>
            <p:spPr>
              <a:xfrm>
                <a:off x="1574640" y="4516560"/>
                <a:ext cx="33814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052" dur="indefinite" restart="never" nodeType="tmRoot">
          <p:childTnLst>
            <p:seq>
              <p:cTn id="2053" dur="indefinite" nodeType="mainSeq">
                <p:childTnLst>
                  <p:par>
                    <p:cTn id="2054" nodeType="clickEffect" fill="hold">
                      <p:stCondLst>
                        <p:cond delay="indefinite"/>
                      </p:stCondLst>
                      <p:childTnLst>
                        <p:par>
                          <p:cTn id="2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8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9" nodeType="clickEffect" fill="hold">
                      <p:stCondLst>
                        <p:cond delay="indefinite"/>
                      </p:stCondLst>
                      <p:childTnLst>
                        <p:par>
                          <p:cTn id="2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6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9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mukaan di Ruang (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271000" cy="23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belum belajar tentang fungsi dua peubah,  terlebih dahulu kita mengenal permukaan  di ruang dan cara membuat sketsa suatu permukaan di ruang (R3).  Berikut beberapa fungsi permukaan di ruang, antara lain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la, mempunyai bentuk umum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432A-0F02-418A-8FD2-0F8D123C5E5A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9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9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9340-C91B-4B69-B172-7E10C3C6E1BA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7"/>
              <p:cNvSpPr txBox="1"/>
              <p:nvPr/>
            </p:nvSpPr>
            <p:spPr>
              <a:xfrm>
                <a:off x="2743200" y="3505320"/>
                <a:ext cx="31510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8"/>
              <p:cNvSpPr txBox="1"/>
              <p:nvPr/>
            </p:nvSpPr>
            <p:spPr>
              <a:xfrm>
                <a:off x="4495680" y="4267080"/>
                <a:ext cx="15462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8" name="Rectangle 9"/>
          <p:cNvSpPr/>
          <p:nvPr/>
        </p:nvSpPr>
        <p:spPr>
          <a:xfrm>
            <a:off x="716400" y="4266720"/>
            <a:ext cx="3890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Jejak di bidang XOY,  z = 0 </a:t>
            </a:r>
            <a:r>
              <a:rPr b="0" lang="en-US" sz="2100" spc="-1" strike="noStrike">
                <a:solidFill>
                  <a:srgbClr val="336699"/>
                </a:solidFill>
                <a:latin typeface="Wingdings"/>
                <a:ea typeface="Wingdings"/>
              </a:rPr>
              <a:t>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99" name="Rectangle 10"/>
          <p:cNvSpPr/>
          <p:nvPr/>
        </p:nvSpPr>
        <p:spPr>
          <a:xfrm>
            <a:off x="793080" y="4800240"/>
            <a:ext cx="3874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Jejak di bidang XOZ,  y = 0 </a:t>
            </a:r>
            <a:r>
              <a:rPr b="0" lang="en-US" sz="2100" spc="-1" strike="noStrike">
                <a:solidFill>
                  <a:srgbClr val="336699"/>
                </a:solidFill>
                <a:latin typeface="Wingdings"/>
                <a:ea typeface="Wingdings"/>
              </a:rPr>
              <a:t>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6203160" y="4267080"/>
            <a:ext cx="2617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berupa  lingkar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12"/>
              <p:cNvSpPr txBox="1"/>
              <p:nvPr/>
            </p:nvSpPr>
            <p:spPr>
              <a:xfrm>
                <a:off x="4495680" y="4800600"/>
                <a:ext cx="15242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2" name="Rectangle 13"/>
          <p:cNvSpPr/>
          <p:nvPr/>
        </p:nvSpPr>
        <p:spPr>
          <a:xfrm>
            <a:off x="6203160" y="4800600"/>
            <a:ext cx="2617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berupa  lingkar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716760" y="5333400"/>
            <a:ext cx="3874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Jejak di bidang YOZ,  x = 0 </a:t>
            </a:r>
            <a:r>
              <a:rPr b="0" lang="en-US" sz="2100" spc="-1" strike="noStrike">
                <a:solidFill>
                  <a:srgbClr val="336699"/>
                </a:solidFill>
                <a:latin typeface="Wingdings"/>
                <a:ea typeface="Wingdings"/>
              </a:rPr>
              <a:t>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15"/>
              <p:cNvSpPr txBox="1"/>
              <p:nvPr/>
            </p:nvSpPr>
            <p:spPr>
              <a:xfrm>
                <a:off x="4495680" y="5334120"/>
                <a:ext cx="152424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5" name="Rectangle 16"/>
          <p:cNvSpPr/>
          <p:nvPr/>
        </p:nvSpPr>
        <p:spPr>
          <a:xfrm>
            <a:off x="6203160" y="5334120"/>
            <a:ext cx="2617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berupa  lingkar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EB78-348B-4D2B-986E-646CD521D0DD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8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AA14-CAFC-43F7-BA38-94546C858C60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90" name="Rectangle 5"/>
          <p:cNvSpPr/>
          <p:nvPr/>
        </p:nvSpPr>
        <p:spPr>
          <a:xfrm>
            <a:off x="736560" y="1828440"/>
            <a:ext cx="3208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1.  f(x,y)= x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  <a:ea typeface="Times New Roman"/>
              </a:rPr>
              <a:t>3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+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  <a:ea typeface="Times New Roman"/>
              </a:rPr>
              <a:t>3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  <a:ea typeface="Times New Roman"/>
              </a:rPr>
              <a:t>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91" name="Rectangle 10"/>
          <p:cNvSpPr/>
          <p:nvPr/>
        </p:nvSpPr>
        <p:spPr>
          <a:xfrm>
            <a:off x="776160" y="1349280"/>
            <a:ext cx="55483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Tentukan 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  <a:ea typeface="Times New Roman"/>
              </a:rPr>
              <a:t>x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, 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  <a:ea typeface="Times New Roman"/>
              </a:rPr>
              <a:t>yy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,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  <a:ea typeface="Times New Roman"/>
              </a:rPr>
              <a:t>x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, 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  <a:ea typeface="Times New Roman"/>
              </a:rPr>
              <a:t>y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92" name="Text Box 11"/>
          <p:cNvSpPr/>
          <p:nvPr/>
        </p:nvSpPr>
        <p:spPr>
          <a:xfrm>
            <a:off x="1260360" y="2203560"/>
            <a:ext cx="927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wab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93" name="Text Box 12"/>
          <p:cNvSpPr/>
          <p:nvPr/>
        </p:nvSpPr>
        <p:spPr>
          <a:xfrm>
            <a:off x="1382760" y="2660760"/>
            <a:ext cx="86328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94" name="Text Box 13"/>
          <p:cNvSpPr/>
          <p:nvPr/>
        </p:nvSpPr>
        <p:spPr>
          <a:xfrm>
            <a:off x="2411280" y="2682720"/>
            <a:ext cx="1407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3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2x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3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95" name="Text Box 14"/>
          <p:cNvSpPr/>
          <p:nvPr/>
        </p:nvSpPr>
        <p:spPr>
          <a:xfrm>
            <a:off x="1381680" y="3146400"/>
            <a:ext cx="8618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96" name="Text Box 15"/>
          <p:cNvSpPr/>
          <p:nvPr/>
        </p:nvSpPr>
        <p:spPr>
          <a:xfrm>
            <a:off x="2438280" y="3168720"/>
            <a:ext cx="1790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3x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3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97" name="Text Box 16"/>
          <p:cNvSpPr/>
          <p:nvPr/>
        </p:nvSpPr>
        <p:spPr>
          <a:xfrm>
            <a:off x="1393200" y="3603600"/>
            <a:ext cx="94428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x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98" name="Text Box 17"/>
          <p:cNvSpPr/>
          <p:nvPr/>
        </p:nvSpPr>
        <p:spPr>
          <a:xfrm>
            <a:off x="2376360" y="3625920"/>
            <a:ext cx="779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2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3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99" name="Text Box 18"/>
          <p:cNvSpPr/>
          <p:nvPr/>
        </p:nvSpPr>
        <p:spPr>
          <a:xfrm>
            <a:off x="1398600" y="4137120"/>
            <a:ext cx="9428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x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00" name="Text Box 19"/>
          <p:cNvSpPr/>
          <p:nvPr/>
        </p:nvSpPr>
        <p:spPr>
          <a:xfrm>
            <a:off x="2475720" y="4159080"/>
            <a:ext cx="1560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3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6x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01" name="Text Box 20"/>
          <p:cNvSpPr/>
          <p:nvPr/>
        </p:nvSpPr>
        <p:spPr>
          <a:xfrm>
            <a:off x="1399680" y="4670280"/>
            <a:ext cx="9410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y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02" name="Text Box 21"/>
          <p:cNvSpPr/>
          <p:nvPr/>
        </p:nvSpPr>
        <p:spPr>
          <a:xfrm>
            <a:off x="2471400" y="4692600"/>
            <a:ext cx="16135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6x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6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03" name="Text Box 22"/>
          <p:cNvSpPr/>
          <p:nvPr/>
        </p:nvSpPr>
        <p:spPr>
          <a:xfrm>
            <a:off x="1450800" y="5257800"/>
            <a:ext cx="9428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y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04" name="Text Box 23"/>
          <p:cNvSpPr/>
          <p:nvPr/>
        </p:nvSpPr>
        <p:spPr>
          <a:xfrm>
            <a:off x="2552040" y="5280120"/>
            <a:ext cx="1560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3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6x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2070" dur="indefinite" restart="never" nodeType="tmRoot">
          <p:childTnLst>
            <p:seq>
              <p:cTn id="2071" dur="indefinite" nodeType="mainSeq">
                <p:childTnLst>
                  <p:par>
                    <p:cTn id="2072" nodeType="clickEffect" fill="hold">
                      <p:stCondLst>
                        <p:cond delay="0"/>
                      </p:stCondLst>
                      <p:childTnLst>
                        <p:par>
                          <p:cTn id="2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3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6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nodeType="clickEffect" fill="hold">
                      <p:stCondLst>
                        <p:cond delay="indefinite"/>
                      </p:stCondLst>
                      <p:childTnLst>
                        <p:par>
                          <p:cTn id="2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1" dur="80"/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2" dur="80"/>
                                        <p:tgtEl>
                                          <p:spTgt spid="8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3" dur="80"/>
                                        <p:tgtEl>
                                          <p:spTgt spid="8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nodeType="clickEffect" fill="hold">
                      <p:stCondLst>
                        <p:cond delay="indefinite"/>
                      </p:stCondLst>
                      <p:childTnLst>
                        <p:par>
                          <p:cTn id="2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8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nodeType="clickEffect" fill="hold">
                      <p:stCondLst>
                        <p:cond delay="indefinite"/>
                      </p:stCondLst>
                      <p:childTnLst>
                        <p:par>
                          <p:cTn id="2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9" dur="80"/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0" dur="80"/>
                                        <p:tgtEl>
                                          <p:spTgt spid="8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1" dur="80"/>
                                        <p:tgtEl>
                                          <p:spTgt spid="8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nodeType="clickEffect" fill="hold">
                      <p:stCondLst>
                        <p:cond delay="indefinite"/>
                      </p:stCondLst>
                      <p:childTnLst>
                        <p:par>
                          <p:cTn id="2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6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22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nodeType="clickEffect" fill="hold">
                      <p:stCondLst>
                        <p:cond delay="indefinite"/>
                      </p:stCondLst>
                      <p:childTnLst>
                        <p:par>
                          <p:cTn id="2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7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8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3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4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5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nodeType="clickEffect" fill="hold">
                      <p:stCondLst>
                        <p:cond delay="indefinite"/>
                      </p:stCondLst>
                      <p:childTnLst>
                        <p:par>
                          <p:cTn id="2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0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1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2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5" dur="80"/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6" dur="80"/>
                                        <p:tgtEl>
                                          <p:spTgt spid="9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7" dur="80"/>
                                        <p:tgtEl>
                                          <p:spTgt spid="9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nodeType="clickEffect" fill="hold">
                      <p:stCondLst>
                        <p:cond delay="indefinite"/>
                      </p:stCondLst>
                      <p:childTnLst>
                        <p:par>
                          <p:cTn id="2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1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nodeType="clickEffect" fill="hold">
                      <p:stCondLst>
                        <p:cond delay="indefinite"/>
                      </p:stCondLst>
                      <p:childTnLst>
                        <p:par>
                          <p:cTn id="2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6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ih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636A-EE4C-4A2B-8B4C-9541B7FB0F4B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0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0987-7431-4268-949D-0D30F6876818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09" name="Rectangle 4"/>
          <p:cNvSpPr/>
          <p:nvPr/>
        </p:nvSpPr>
        <p:spPr>
          <a:xfrm>
            <a:off x="776160" y="1349280"/>
            <a:ext cx="55483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Tentukan 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  <a:ea typeface="Times New Roman"/>
              </a:rPr>
              <a:t>x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, 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  <a:ea typeface="Times New Roman"/>
              </a:rPr>
              <a:t>yy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,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  <a:ea typeface="Times New Roman"/>
              </a:rPr>
              <a:t>x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, 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  <a:ea typeface="Times New Roman"/>
              </a:rPr>
              <a:t>y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841680" y="1980720"/>
            <a:ext cx="4233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1.  f(x,y) = x cos(xy) + xy e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  <a:ea typeface="Times New Roman"/>
              </a:rPr>
              <a:t>x+y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11" name="Rectangle 6"/>
          <p:cNvSpPr/>
          <p:nvPr/>
        </p:nvSpPr>
        <p:spPr>
          <a:xfrm>
            <a:off x="830880" y="2514240"/>
            <a:ext cx="4029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2.  f(x,y) = ln(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  <a:ea typeface="Times New Roman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+ 2 xy +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  <a:ea typeface="Times New Roman"/>
              </a:rPr>
              <a:t>3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714240" y="3047400"/>
            <a:ext cx="3300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3.  f(x,y) = tan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  <a:ea typeface="Times New Roman"/>
              </a:rPr>
              <a:t>-1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(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  <a:ea typeface="Times New Roman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/x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13" name="Rectangle 8"/>
          <p:cNvSpPr/>
          <p:nvPr/>
        </p:nvSpPr>
        <p:spPr>
          <a:xfrm>
            <a:off x="761040" y="3625200"/>
            <a:ext cx="3639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4.  f(x,y) =ln(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  <a:ea typeface="Times New Roman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+2xy+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  <a:ea typeface="Times New Roman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14" name="Rectangle 9"/>
          <p:cNvSpPr/>
          <p:nvPr/>
        </p:nvSpPr>
        <p:spPr>
          <a:xfrm>
            <a:off x="768240" y="4190400"/>
            <a:ext cx="3340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5.  f(x,y) = (2x-y)/(xy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2167" dur="indefinite" restart="never" nodeType="tmRoot">
          <p:childTnLst>
            <p:seq>
              <p:cTn id="2168" dur="indefinite" nodeType="mainSeq">
                <p:childTnLst>
                  <p:par>
                    <p:cTn id="2169" nodeType="clickEffect" fill="hold">
                      <p:stCondLst>
                        <p:cond delay="indefinite"/>
                      </p:stCondLst>
                      <p:childTnLst>
                        <p:par>
                          <p:cTn id="2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7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0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3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6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9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2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5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8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1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4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7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i Geometri Turunan Pars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541B-DEAA-422E-BFB3-8AC809880DA8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1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8C46-A1BB-49A6-9238-D9EF7337B4E3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19" name="Rectangle 3"/>
          <p:cNvSpPr/>
          <p:nvPr/>
        </p:nvSpPr>
        <p:spPr>
          <a:xfrm>
            <a:off x="4572000" y="1747440"/>
            <a:ext cx="426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Perpotongan  bidang  y = b  dengan  fungsi  permukaan  f(x,y)  berupa  sebuah  kurva (lengkungan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s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pada  permukaan  tersebut.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urunan parsial fungsi f(x,y) terhadap x di titik  (a,b)  merupakan 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Verdana"/>
              </a:rPr>
              <a:t>gradien  garis  singgung  terhadap  kurva  </a:t>
            </a:r>
            <a:r>
              <a:rPr b="1" i="1" lang="en-US" sz="2100" spc="-1" strike="noStrike">
                <a:solidFill>
                  <a:srgbClr val="0000ff"/>
                </a:solidFill>
                <a:latin typeface="Verdana"/>
              </a:rPr>
              <a:t>s</a:t>
            </a:r>
            <a:r>
              <a:rPr b="1" lang="en-US" sz="2100" spc="-1" strike="noStrike">
                <a:solidFill>
                  <a:srgbClr val="0000ff"/>
                </a:solidFill>
                <a:latin typeface="Verdana"/>
              </a:rPr>
              <a:t>  pada titik  (a, b, f(a,b))  dalam  arah  sejajar sumbu </a:t>
            </a:r>
            <a:r>
              <a:rPr b="1" i="1" lang="en-US" sz="21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1" lang="en-US" sz="2100" spc="-1" strike="noStrike">
                <a:solidFill>
                  <a:srgbClr val="0000ff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grpSp>
        <p:nvGrpSpPr>
          <p:cNvPr id="920" name="Group 20"/>
          <p:cNvGrpSpPr/>
          <p:nvPr/>
        </p:nvGrpSpPr>
        <p:grpSpPr>
          <a:xfrm>
            <a:off x="533520" y="2340000"/>
            <a:ext cx="3454200" cy="2460600"/>
            <a:chOff x="533520" y="2340000"/>
            <a:chExt cx="3454200" cy="2460600"/>
          </a:xfrm>
        </p:grpSpPr>
        <p:sp>
          <p:nvSpPr>
            <p:cNvPr id="921" name="Line 4"/>
            <p:cNvSpPr/>
            <p:nvPr/>
          </p:nvSpPr>
          <p:spPr>
            <a:xfrm flipV="1">
              <a:off x="2095560" y="2441520"/>
              <a:ext cx="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922" name="Line 5"/>
            <p:cNvSpPr/>
            <p:nvPr/>
          </p:nvSpPr>
          <p:spPr>
            <a:xfrm>
              <a:off x="1447920" y="3860640"/>
              <a:ext cx="21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923" name="Line 6"/>
            <p:cNvSpPr/>
            <p:nvPr/>
          </p:nvSpPr>
          <p:spPr>
            <a:xfrm flipH="1">
              <a:off x="761760" y="3609360"/>
              <a:ext cx="1778040" cy="10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924" name="Text Box 7"/>
            <p:cNvSpPr/>
            <p:nvPr/>
          </p:nvSpPr>
          <p:spPr>
            <a:xfrm>
              <a:off x="1841400" y="2340000"/>
              <a:ext cx="457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336699"/>
                  </a:solidFill>
                  <a:latin typeface="Verdana"/>
                </a:rPr>
                <a:t>z</a:t>
              </a:r>
              <a:endParaRPr b="0" lang="en-US" sz="12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925" name="Text Box 8"/>
            <p:cNvSpPr/>
            <p:nvPr/>
          </p:nvSpPr>
          <p:spPr>
            <a:xfrm>
              <a:off x="533520" y="4457880"/>
              <a:ext cx="457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Verdana"/>
                </a:rPr>
                <a:t> </a:t>
              </a:r>
              <a:r>
                <a:rPr b="0" i="1" lang="en-US" sz="1100" spc="-1" strike="noStrike">
                  <a:solidFill>
                    <a:srgbClr val="336699"/>
                  </a:solidFill>
                  <a:latin typeface="Verdana"/>
                </a:rPr>
                <a:t>x</a:t>
              </a:r>
              <a:endParaRPr b="0" lang="en-US" sz="1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926" name="Text Box 9"/>
            <p:cNvSpPr/>
            <p:nvPr/>
          </p:nvSpPr>
          <p:spPr>
            <a:xfrm>
              <a:off x="3530520" y="3711600"/>
              <a:ext cx="457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Verdana"/>
                </a:rPr>
                <a:t> </a:t>
              </a:r>
              <a:r>
                <a:rPr b="0" i="1" lang="en-US" sz="1200" spc="-1" strike="noStrike">
                  <a:solidFill>
                    <a:srgbClr val="336699"/>
                  </a:solidFill>
                  <a:latin typeface="Verdana"/>
                </a:rPr>
                <a:t>y</a:t>
              </a:r>
              <a:endParaRPr b="0" lang="en-US" sz="1200" spc="-1" strike="noStrike">
                <a:solidFill>
                  <a:srgbClr val="336699"/>
                </a:solidFill>
                <a:latin typeface="Verdana"/>
              </a:endParaRPr>
            </a:p>
          </p:txBody>
        </p:sp>
      </p:grpSp>
      <p:sp>
        <p:nvSpPr>
          <p:cNvPr id="927" name="Freeform 10"/>
          <p:cNvSpPr/>
          <p:nvPr/>
        </p:nvSpPr>
        <p:spPr>
          <a:xfrm>
            <a:off x="2095560" y="2720880"/>
            <a:ext cx="1332000" cy="1141560"/>
          </a:xfrm>
          <a:custGeom>
            <a:avLst/>
            <a:gdLst>
              <a:gd name="textAreaLeft" fmla="*/ 0 w 1332000"/>
              <a:gd name="textAreaRight" fmla="*/ 1332360 w 1332000"/>
              <a:gd name="textAreaTop" fmla="*/ 0 h 1141560"/>
              <a:gd name="textAreaBottom" fmla="*/ 1141920 h 1141560"/>
            </a:gdLst>
            <a:ahLst/>
            <a:rect l="textAreaLeft" t="textAreaTop" r="textAreaRight" b="textAreaBottom"/>
            <a:pathLst>
              <a:path w="4140" h="3780">
                <a:moveTo>
                  <a:pt x="0" y="0"/>
                </a:moveTo>
                <a:cubicBezTo>
                  <a:pt x="300" y="45"/>
                  <a:pt x="600" y="90"/>
                  <a:pt x="900" y="180"/>
                </a:cubicBezTo>
                <a:cubicBezTo>
                  <a:pt x="1200" y="270"/>
                  <a:pt x="1560" y="420"/>
                  <a:pt x="1800" y="540"/>
                </a:cubicBezTo>
                <a:cubicBezTo>
                  <a:pt x="2040" y="660"/>
                  <a:pt x="2100" y="690"/>
                  <a:pt x="2340" y="900"/>
                </a:cubicBezTo>
                <a:cubicBezTo>
                  <a:pt x="2580" y="1110"/>
                  <a:pt x="3030" y="1560"/>
                  <a:pt x="3240" y="1800"/>
                </a:cubicBezTo>
                <a:cubicBezTo>
                  <a:pt x="3450" y="2040"/>
                  <a:pt x="3480" y="2130"/>
                  <a:pt x="3600" y="2340"/>
                </a:cubicBezTo>
                <a:cubicBezTo>
                  <a:pt x="3720" y="2550"/>
                  <a:pt x="3870" y="2820"/>
                  <a:pt x="3960" y="3060"/>
                </a:cubicBezTo>
                <a:cubicBezTo>
                  <a:pt x="4050" y="3300"/>
                  <a:pt x="4110" y="3660"/>
                  <a:pt x="4140" y="37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28" name="Freeform 11"/>
          <p:cNvSpPr/>
          <p:nvPr/>
        </p:nvSpPr>
        <p:spPr>
          <a:xfrm>
            <a:off x="1298520" y="2724120"/>
            <a:ext cx="798480" cy="1619280"/>
          </a:xfrm>
          <a:custGeom>
            <a:avLst/>
            <a:gdLst>
              <a:gd name="textAreaLeft" fmla="*/ 0 w 798480"/>
              <a:gd name="textAreaRight" fmla="*/ 798840 w 798480"/>
              <a:gd name="textAreaTop" fmla="*/ 0 h 1619280"/>
              <a:gd name="textAreaBottom" fmla="*/ 1619640 h 1619280"/>
            </a:gdLst>
            <a:ahLst/>
            <a:rect l="textAreaLeft" t="textAreaTop" r="textAreaRight" b="textAreaBottom"/>
            <a:pathLst>
              <a:path w="3240" h="4140">
                <a:moveTo>
                  <a:pt x="0" y="4140"/>
                </a:moveTo>
                <a:cubicBezTo>
                  <a:pt x="45" y="3780"/>
                  <a:pt x="90" y="3420"/>
                  <a:pt x="180" y="3060"/>
                </a:cubicBezTo>
                <a:cubicBezTo>
                  <a:pt x="270" y="2700"/>
                  <a:pt x="360" y="2340"/>
                  <a:pt x="540" y="1980"/>
                </a:cubicBezTo>
                <a:cubicBezTo>
                  <a:pt x="720" y="1620"/>
                  <a:pt x="960" y="1200"/>
                  <a:pt x="1260" y="900"/>
                </a:cubicBezTo>
                <a:cubicBezTo>
                  <a:pt x="1560" y="600"/>
                  <a:pt x="2010" y="330"/>
                  <a:pt x="2340" y="180"/>
                </a:cubicBezTo>
                <a:cubicBezTo>
                  <a:pt x="2670" y="30"/>
                  <a:pt x="3090" y="30"/>
                  <a:pt x="32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29" name="Freeform 12"/>
          <p:cNvSpPr/>
          <p:nvPr/>
        </p:nvSpPr>
        <p:spPr>
          <a:xfrm>
            <a:off x="1828800" y="2841480"/>
            <a:ext cx="787320" cy="1543320"/>
          </a:xfrm>
          <a:custGeom>
            <a:avLst/>
            <a:gdLst>
              <a:gd name="textAreaLeft" fmla="*/ 0 w 787320"/>
              <a:gd name="textAreaRight" fmla="*/ 787680 w 787320"/>
              <a:gd name="textAreaTop" fmla="*/ 0 h 1543320"/>
              <a:gd name="textAreaBottom" fmla="*/ 1543680 h 1543320"/>
            </a:gdLst>
            <a:ahLst/>
            <a:rect l="textAreaLeft" t="textAreaTop" r="textAreaRight" b="textAreaBottom"/>
            <a:pathLst>
              <a:path w="3240" h="4140">
                <a:moveTo>
                  <a:pt x="0" y="4140"/>
                </a:moveTo>
                <a:cubicBezTo>
                  <a:pt x="45" y="3780"/>
                  <a:pt x="90" y="3420"/>
                  <a:pt x="180" y="3060"/>
                </a:cubicBezTo>
                <a:cubicBezTo>
                  <a:pt x="270" y="2700"/>
                  <a:pt x="360" y="2340"/>
                  <a:pt x="540" y="1980"/>
                </a:cubicBezTo>
                <a:cubicBezTo>
                  <a:pt x="720" y="1620"/>
                  <a:pt x="960" y="1200"/>
                  <a:pt x="1260" y="900"/>
                </a:cubicBezTo>
                <a:cubicBezTo>
                  <a:pt x="1560" y="600"/>
                  <a:pt x="2010" y="330"/>
                  <a:pt x="2340" y="180"/>
                </a:cubicBezTo>
                <a:cubicBezTo>
                  <a:pt x="2670" y="30"/>
                  <a:pt x="3090" y="30"/>
                  <a:pt x="32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30" name="Freeform 13"/>
          <p:cNvSpPr/>
          <p:nvPr/>
        </p:nvSpPr>
        <p:spPr>
          <a:xfrm>
            <a:off x="1270080" y="3863880"/>
            <a:ext cx="2160360" cy="51588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4140" h="1290">
                <a:moveTo>
                  <a:pt x="0" y="1260"/>
                </a:moveTo>
                <a:cubicBezTo>
                  <a:pt x="255" y="1275"/>
                  <a:pt x="510" y="1290"/>
                  <a:pt x="900" y="1260"/>
                </a:cubicBezTo>
                <a:cubicBezTo>
                  <a:pt x="1290" y="1230"/>
                  <a:pt x="1950" y="1170"/>
                  <a:pt x="2340" y="1080"/>
                </a:cubicBezTo>
                <a:cubicBezTo>
                  <a:pt x="2730" y="990"/>
                  <a:pt x="2940" y="900"/>
                  <a:pt x="3240" y="720"/>
                </a:cubicBezTo>
                <a:cubicBezTo>
                  <a:pt x="3540" y="540"/>
                  <a:pt x="3990" y="120"/>
                  <a:pt x="41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31" name="Line 14"/>
          <p:cNvSpPr/>
          <p:nvPr/>
        </p:nvSpPr>
        <p:spPr>
          <a:xfrm flipV="1">
            <a:off x="1790640" y="3825720"/>
            <a:ext cx="914400" cy="571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32" name="Line 15"/>
          <p:cNvSpPr/>
          <p:nvPr/>
        </p:nvSpPr>
        <p:spPr>
          <a:xfrm>
            <a:off x="2629080" y="2889360"/>
            <a:ext cx="0" cy="97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33" name="Line 16"/>
          <p:cNvSpPr/>
          <p:nvPr/>
        </p:nvSpPr>
        <p:spPr>
          <a:xfrm>
            <a:off x="1994040" y="3483000"/>
            <a:ext cx="0" cy="799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34" name="Line 17"/>
          <p:cNvSpPr/>
          <p:nvPr/>
        </p:nvSpPr>
        <p:spPr>
          <a:xfrm flipV="1">
            <a:off x="1668600" y="2403360"/>
            <a:ext cx="698400" cy="19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35" name="Text Box 18"/>
          <p:cNvSpPr/>
          <p:nvPr/>
        </p:nvSpPr>
        <p:spPr>
          <a:xfrm>
            <a:off x="1892160" y="4165560"/>
            <a:ext cx="1155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i="1" lang="en-US" sz="1200" spc="-1" strike="noStrike">
                <a:solidFill>
                  <a:srgbClr val="336699"/>
                </a:solidFill>
                <a:latin typeface="Verdana"/>
              </a:rPr>
              <a:t>a, b</a:t>
            </a: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36" name="Text Box 19"/>
          <p:cNvSpPr/>
          <p:nvPr/>
        </p:nvSpPr>
        <p:spPr>
          <a:xfrm>
            <a:off x="2286000" y="2860560"/>
            <a:ext cx="45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336699"/>
                </a:solidFill>
                <a:latin typeface="Verdana"/>
              </a:rPr>
              <a:t>s</a:t>
            </a:r>
            <a:endParaRPr b="0" lang="en-US" sz="14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2208" dur="indefinite" restart="never" nodeType="tmRoot">
          <p:childTnLst>
            <p:seq>
              <p:cTn id="2209" dur="indefinite" nodeType="mainSeq">
                <p:childTnLst>
                  <p:par>
                    <p:cTn id="2210" nodeType="clickEffect" fill="hold">
                      <p:stCondLst>
                        <p:cond delay="indefinite"/>
                      </p:stCondLst>
                      <p:childTnLst>
                        <p:par>
                          <p:cTn id="2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4" dur="8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5" dur="8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6" dur="8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nodeType="clickEffect" fill="hold">
                      <p:stCondLst>
                        <p:cond delay="indefinite"/>
                      </p:stCondLst>
                      <p:childTnLst>
                        <p:par>
                          <p:cTn id="2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1" dur="2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nodeType="clickEffect" fill="hold">
                      <p:stCondLst>
                        <p:cond delay="indefinite"/>
                      </p:stCondLst>
                      <p:childTnLst>
                        <p:par>
                          <p:cTn id="2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6" dur="2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9" dur="2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2" dur="2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nodeType="clickEffect" fill="hold">
                      <p:stCondLst>
                        <p:cond delay="indefinite"/>
                      </p:stCondLst>
                      <p:childTnLst>
                        <p:par>
                          <p:cTn id="2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7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0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1" nodeType="clickEffect" fill="hold">
                      <p:stCondLst>
                        <p:cond delay="indefinite"/>
                      </p:stCondLst>
                      <p:childTnLst>
                        <p:par>
                          <p:cTn id="2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5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8" dur="5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9" dur="5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nodeType="clickEffect" fill="hold">
                      <p:stCondLst>
                        <p:cond delay="indefinite"/>
                      </p:stCondLst>
                      <p:childTnLst>
                        <p:par>
                          <p:cTn id="2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4" dur="80"/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5" dur="80"/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6" dur="80"/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nodeType="clickEffect" fill="hold">
                      <p:stCondLst>
                        <p:cond delay="indefinite"/>
                      </p:stCondLst>
                      <p:childTnLst>
                        <p:par>
                          <p:cTn id="2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4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nodeType="clickEffect" fill="hold">
                      <p:stCondLst>
                        <p:cond delay="indefinite"/>
                      </p:stCondLst>
                      <p:childTnLst>
                        <p:par>
                          <p:cTn id="2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9" dur="80"/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0" dur="80"/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1" dur="80"/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2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4" dur="2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i Geometri Turunan Pertama (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406B-280A-4C64-BDFF-80AEAC164969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3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9C18-B890-4C56-B629-49BA9EF81647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41" name="Rectangle 3"/>
          <p:cNvSpPr/>
          <p:nvPr/>
        </p:nvSpPr>
        <p:spPr>
          <a:xfrm>
            <a:off x="4572000" y="1747440"/>
            <a:ext cx="426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Perpotongan  bidang  x = a  dengan  fungsi  permukaan  f(x,y)  berupa  sebuah  kurva (lengkungan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s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pada  permukaan  tersebut.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urunan parsial fungsi f(x,y) terhadap y di titik  (a,b)  merupakan 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Verdana"/>
              </a:rPr>
              <a:t>gradien  garis  singgung  terhadap  kurva  </a:t>
            </a:r>
            <a:r>
              <a:rPr b="1" i="1" lang="en-US" sz="2100" spc="-1" strike="noStrike">
                <a:solidFill>
                  <a:srgbClr val="0000ff"/>
                </a:solidFill>
                <a:latin typeface="Verdana"/>
              </a:rPr>
              <a:t>s</a:t>
            </a:r>
            <a:r>
              <a:rPr b="1" lang="en-US" sz="2100" spc="-1" strike="noStrike">
                <a:solidFill>
                  <a:srgbClr val="0000ff"/>
                </a:solidFill>
                <a:latin typeface="Verdana"/>
              </a:rPr>
              <a:t>  pada titik  (a, b, f(a,b))  dalam  arah  sejajar sumbu </a:t>
            </a:r>
            <a:r>
              <a:rPr b="1" i="1" lang="en-US" sz="2100" spc="-1" strike="noStrike">
                <a:solidFill>
                  <a:srgbClr val="0000ff"/>
                </a:solidFill>
                <a:latin typeface="Verdana"/>
              </a:rPr>
              <a:t>y</a:t>
            </a:r>
            <a:r>
              <a:rPr b="1" lang="en-US" sz="2100" spc="-1" strike="noStrike">
                <a:solidFill>
                  <a:srgbClr val="0000ff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42" name="Line 4"/>
          <p:cNvSpPr/>
          <p:nvPr/>
        </p:nvSpPr>
        <p:spPr>
          <a:xfrm flipV="1">
            <a:off x="1943280" y="2517480"/>
            <a:ext cx="0" cy="149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43" name="Line 5"/>
          <p:cNvSpPr/>
          <p:nvPr/>
        </p:nvSpPr>
        <p:spPr>
          <a:xfrm>
            <a:off x="1295280" y="3936960"/>
            <a:ext cx="2171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44" name="Line 6"/>
          <p:cNvSpPr/>
          <p:nvPr/>
        </p:nvSpPr>
        <p:spPr>
          <a:xfrm flipH="1">
            <a:off x="609120" y="3686040"/>
            <a:ext cx="1778040" cy="105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45" name="Text Box 7"/>
          <p:cNvSpPr/>
          <p:nvPr/>
        </p:nvSpPr>
        <p:spPr>
          <a:xfrm>
            <a:off x="1689120" y="2416320"/>
            <a:ext cx="457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6699"/>
                </a:solidFill>
                <a:latin typeface="Verdana"/>
              </a:rPr>
              <a:t>z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46" name="Text Box 8"/>
          <p:cNvSpPr/>
          <p:nvPr/>
        </p:nvSpPr>
        <p:spPr>
          <a:xfrm>
            <a:off x="380880" y="4533840"/>
            <a:ext cx="45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i="1" lang="en-US" sz="1100" spc="-1" strike="noStrike">
                <a:solidFill>
                  <a:srgbClr val="336699"/>
                </a:solidFill>
                <a:latin typeface="Verdana"/>
              </a:rPr>
              <a:t>x</a:t>
            </a:r>
            <a:endParaRPr b="0" lang="en-US" sz="1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47" name="Text Box 9"/>
          <p:cNvSpPr/>
          <p:nvPr/>
        </p:nvSpPr>
        <p:spPr>
          <a:xfrm>
            <a:off x="3378240" y="3787920"/>
            <a:ext cx="457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i="1" lang="en-US" sz="1200" spc="-1" strike="noStrike">
                <a:solidFill>
                  <a:srgbClr val="336699"/>
                </a:solidFill>
                <a:latin typeface="Verdana"/>
              </a:rPr>
              <a:t>y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48" name="Freeform 10"/>
          <p:cNvSpPr/>
          <p:nvPr/>
        </p:nvSpPr>
        <p:spPr>
          <a:xfrm>
            <a:off x="1943280" y="2797200"/>
            <a:ext cx="1331640" cy="1141560"/>
          </a:xfrm>
          <a:custGeom>
            <a:avLst/>
            <a:gdLst>
              <a:gd name="textAreaLeft" fmla="*/ 0 w 1331640"/>
              <a:gd name="textAreaRight" fmla="*/ 1332000 w 1331640"/>
              <a:gd name="textAreaTop" fmla="*/ 0 h 1141560"/>
              <a:gd name="textAreaBottom" fmla="*/ 1141920 h 1141560"/>
            </a:gdLst>
            <a:ahLst/>
            <a:rect l="textAreaLeft" t="textAreaTop" r="textAreaRight" b="textAreaBottom"/>
            <a:pathLst>
              <a:path w="4140" h="3780">
                <a:moveTo>
                  <a:pt x="0" y="0"/>
                </a:moveTo>
                <a:cubicBezTo>
                  <a:pt x="300" y="45"/>
                  <a:pt x="600" y="90"/>
                  <a:pt x="900" y="180"/>
                </a:cubicBezTo>
                <a:cubicBezTo>
                  <a:pt x="1200" y="270"/>
                  <a:pt x="1560" y="420"/>
                  <a:pt x="1800" y="540"/>
                </a:cubicBezTo>
                <a:cubicBezTo>
                  <a:pt x="2040" y="660"/>
                  <a:pt x="2100" y="690"/>
                  <a:pt x="2340" y="900"/>
                </a:cubicBezTo>
                <a:cubicBezTo>
                  <a:pt x="2580" y="1110"/>
                  <a:pt x="3030" y="1560"/>
                  <a:pt x="3240" y="1800"/>
                </a:cubicBezTo>
                <a:cubicBezTo>
                  <a:pt x="3450" y="2040"/>
                  <a:pt x="3480" y="2130"/>
                  <a:pt x="3600" y="2340"/>
                </a:cubicBezTo>
                <a:cubicBezTo>
                  <a:pt x="3720" y="2550"/>
                  <a:pt x="3870" y="2820"/>
                  <a:pt x="3960" y="3060"/>
                </a:cubicBezTo>
                <a:cubicBezTo>
                  <a:pt x="4050" y="3300"/>
                  <a:pt x="4110" y="3660"/>
                  <a:pt x="4140" y="37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49" name="Freeform 11"/>
          <p:cNvSpPr/>
          <p:nvPr/>
        </p:nvSpPr>
        <p:spPr>
          <a:xfrm>
            <a:off x="1146240" y="2798640"/>
            <a:ext cx="798480" cy="1621080"/>
          </a:xfrm>
          <a:custGeom>
            <a:avLst/>
            <a:gdLst>
              <a:gd name="textAreaLeft" fmla="*/ 0 w 798480"/>
              <a:gd name="textAreaRight" fmla="*/ 798840 w 798480"/>
              <a:gd name="textAreaTop" fmla="*/ 0 h 1621080"/>
              <a:gd name="textAreaBottom" fmla="*/ 1621440 h 1621080"/>
            </a:gdLst>
            <a:ahLst/>
            <a:rect l="textAreaLeft" t="textAreaTop" r="textAreaRight" b="textAreaBottom"/>
            <a:pathLst>
              <a:path w="3240" h="4140">
                <a:moveTo>
                  <a:pt x="0" y="4140"/>
                </a:moveTo>
                <a:cubicBezTo>
                  <a:pt x="45" y="3780"/>
                  <a:pt x="90" y="3420"/>
                  <a:pt x="180" y="3060"/>
                </a:cubicBezTo>
                <a:cubicBezTo>
                  <a:pt x="270" y="2700"/>
                  <a:pt x="360" y="2340"/>
                  <a:pt x="540" y="1980"/>
                </a:cubicBezTo>
                <a:cubicBezTo>
                  <a:pt x="720" y="1620"/>
                  <a:pt x="960" y="1200"/>
                  <a:pt x="1260" y="900"/>
                </a:cubicBezTo>
                <a:cubicBezTo>
                  <a:pt x="1560" y="600"/>
                  <a:pt x="2010" y="330"/>
                  <a:pt x="2340" y="180"/>
                </a:cubicBezTo>
                <a:cubicBezTo>
                  <a:pt x="2670" y="30"/>
                  <a:pt x="3090" y="30"/>
                  <a:pt x="32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50" name="Freeform 12"/>
          <p:cNvSpPr/>
          <p:nvPr/>
        </p:nvSpPr>
        <p:spPr>
          <a:xfrm>
            <a:off x="1117440" y="3940200"/>
            <a:ext cx="2160720" cy="514440"/>
          </a:xfrm>
          <a:custGeom>
            <a:avLst/>
            <a:gdLst>
              <a:gd name="textAreaLeft" fmla="*/ 0 w 2160720"/>
              <a:gd name="textAreaRight" fmla="*/ 2161080 w 216072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4140" h="1290">
                <a:moveTo>
                  <a:pt x="0" y="1260"/>
                </a:moveTo>
                <a:cubicBezTo>
                  <a:pt x="255" y="1275"/>
                  <a:pt x="510" y="1290"/>
                  <a:pt x="900" y="1260"/>
                </a:cubicBezTo>
                <a:cubicBezTo>
                  <a:pt x="1290" y="1230"/>
                  <a:pt x="1950" y="1170"/>
                  <a:pt x="2340" y="1080"/>
                </a:cubicBezTo>
                <a:cubicBezTo>
                  <a:pt x="2730" y="990"/>
                  <a:pt x="2940" y="900"/>
                  <a:pt x="3240" y="720"/>
                </a:cubicBezTo>
                <a:cubicBezTo>
                  <a:pt x="3540" y="540"/>
                  <a:pt x="3990" y="120"/>
                  <a:pt x="41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51" name="Line 13"/>
          <p:cNvSpPr/>
          <p:nvPr/>
        </p:nvSpPr>
        <p:spPr>
          <a:xfrm>
            <a:off x="979560" y="419724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52" name="Line 14"/>
          <p:cNvSpPr/>
          <p:nvPr/>
        </p:nvSpPr>
        <p:spPr>
          <a:xfrm flipH="1">
            <a:off x="1507680" y="3062160"/>
            <a:ext cx="1800" cy="1168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53" name="Text Box 15"/>
          <p:cNvSpPr/>
          <p:nvPr/>
        </p:nvSpPr>
        <p:spPr>
          <a:xfrm>
            <a:off x="1981080" y="3886200"/>
            <a:ext cx="906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i="1" lang="en-US" sz="1200" spc="-1" strike="noStrike">
                <a:solidFill>
                  <a:srgbClr val="336699"/>
                </a:solidFill>
                <a:latin typeface="Verdana"/>
              </a:rPr>
              <a:t>a, b</a:t>
            </a: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54" name="Text Box 16"/>
          <p:cNvSpPr/>
          <p:nvPr/>
        </p:nvSpPr>
        <p:spPr>
          <a:xfrm>
            <a:off x="1447920" y="3086280"/>
            <a:ext cx="457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336699"/>
                </a:solidFill>
                <a:latin typeface="Verdana"/>
              </a:rPr>
              <a:t>s</a:t>
            </a:r>
            <a:endParaRPr b="0" lang="en-US" sz="14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55" name="Freeform 17"/>
          <p:cNvSpPr/>
          <p:nvPr/>
        </p:nvSpPr>
        <p:spPr>
          <a:xfrm>
            <a:off x="1484280" y="3102120"/>
            <a:ext cx="1373400" cy="1104840"/>
          </a:xfrm>
          <a:custGeom>
            <a:avLst/>
            <a:gdLst>
              <a:gd name="textAreaLeft" fmla="*/ 0 w 1373400"/>
              <a:gd name="textAreaRight" fmla="*/ 1373760 w 1373400"/>
              <a:gd name="textAreaTop" fmla="*/ 0 h 1104840"/>
              <a:gd name="textAreaBottom" fmla="*/ 1105200 h 1104840"/>
            </a:gdLst>
            <a:ahLst/>
            <a:rect l="textAreaLeft" t="textAreaTop" r="textAreaRight" b="textAreaBottom"/>
            <a:pathLst>
              <a:path w="2163" h="1740">
                <a:moveTo>
                  <a:pt x="0" y="0"/>
                </a:moveTo>
                <a:cubicBezTo>
                  <a:pt x="215" y="82"/>
                  <a:pt x="932" y="205"/>
                  <a:pt x="1293" y="495"/>
                </a:cubicBezTo>
                <a:cubicBezTo>
                  <a:pt x="1654" y="785"/>
                  <a:pt x="1982" y="1481"/>
                  <a:pt x="2163" y="17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56" name="Line 18"/>
          <p:cNvSpPr/>
          <p:nvPr/>
        </p:nvSpPr>
        <p:spPr>
          <a:xfrm flipH="1" flipV="1">
            <a:off x="1785600" y="2892240"/>
            <a:ext cx="1306440" cy="12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57" name="Line 19"/>
          <p:cNvSpPr/>
          <p:nvPr/>
        </p:nvSpPr>
        <p:spPr>
          <a:xfrm flipH="1">
            <a:off x="2361960" y="3468600"/>
            <a:ext cx="14040" cy="722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2275" dur="indefinite" restart="never" nodeType="tmRoot">
          <p:childTnLst>
            <p:seq>
              <p:cTn id="2276" dur="indefinite" nodeType="mainSeq">
                <p:childTnLst>
                  <p:par>
                    <p:cTn id="2277" nodeType="clickEffect" fill="hold">
                      <p:stCondLst>
                        <p:cond delay="indefinite"/>
                      </p:stCondLst>
                      <p:childTnLst>
                        <p:par>
                          <p:cTn id="2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1" dur="80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2" dur="80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3" dur="80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nodeType="clickEffect" fill="hold">
                      <p:stCondLst>
                        <p:cond delay="indefinite"/>
                      </p:stCondLst>
                      <p:childTnLst>
                        <p:par>
                          <p:cTn id="2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8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1" dur="2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4" dur="2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7" dur="2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0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3" dur="2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4" nodeType="clickEffect" fill="hold">
                      <p:stCondLst>
                        <p:cond delay="indefinite"/>
                      </p:stCondLst>
                      <p:childTnLst>
                        <p:par>
                          <p:cTn id="2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4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nodeType="clickEffect" fill="hold">
                      <p:stCondLst>
                        <p:cond delay="indefinite"/>
                      </p:stCondLst>
                      <p:childTnLst>
                        <p:par>
                          <p:cTn id="2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9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2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nodeType="clickEffect" fill="hold">
                      <p:stCondLst>
                        <p:cond delay="indefinite"/>
                      </p:stCondLst>
                      <p:childTnLst>
                        <p:par>
                          <p:cTn id="2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7" dur="5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8" dur="5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1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nodeType="clickEffect" fill="hold">
                      <p:stCondLst>
                        <p:cond delay="indefinite"/>
                      </p:stCondLst>
                      <p:childTnLst>
                        <p:par>
                          <p:cTn id="2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6" dur="80"/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7" dur="80"/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8" dur="80"/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1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4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nodeType="clickEffect" fill="hold">
                      <p:stCondLst>
                        <p:cond delay="indefinite"/>
                      </p:stCondLst>
                      <p:childTnLst>
                        <p:par>
                          <p:cTn id="2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9" dur="80"/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0" dur="80"/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1" dur="80"/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2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4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ektor Gradi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609480" y="1587240"/>
            <a:ext cx="8305920" cy="17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salkan fungsi z = f(x,y) terdefinisi di 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R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finis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ektor gradien dari fungsi z = f(x,y) di (x,y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, didefinisikan sebaga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23E2-0A0B-4C10-BE46-6BFC0DC5E1AD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BCD8-AF4A-4D2B-A7A7-2885C0EC2D25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63" name="Rectangle 4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4" name="Object 5"/>
              <p:cNvSpPr txBox="1"/>
              <p:nvPr/>
            </p:nvSpPr>
            <p:spPr>
              <a:xfrm>
                <a:off x="2058840" y="3048120"/>
                <a:ext cx="43419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965" name="Rectangle 6"/>
          <p:cNvSpPr/>
          <p:nvPr/>
        </p:nvSpPr>
        <p:spPr>
          <a:xfrm>
            <a:off x="1879560" y="3519000"/>
            <a:ext cx="5970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adalah vektor satuan di arah sumbu x,y positif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66" name="Rectangle 7"/>
          <p:cNvSpPr/>
          <p:nvPr/>
        </p:nvSpPr>
        <p:spPr>
          <a:xfrm>
            <a:off x="1313640" y="3944520"/>
            <a:ext cx="4178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Notasi lain: grad f(x,y), del f(x,y)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7" name="Object 8"/>
              <p:cNvSpPr txBox="1"/>
              <p:nvPr/>
            </p:nvSpPr>
            <p:spPr>
              <a:xfrm>
                <a:off x="1114560" y="3443400"/>
                <a:ext cx="4712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968" name="Rectangle 9"/>
          <p:cNvSpPr/>
          <p:nvPr/>
        </p:nvSpPr>
        <p:spPr>
          <a:xfrm>
            <a:off x="533520" y="443376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800080"/>
              </a:buClr>
              <a:buSzPct val="75000"/>
              <a:buFont typeface="Wingdings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efinisi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Vektor gradien dari fungsi  f(x,y,z) adalah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9" name="Object 10"/>
              <p:cNvSpPr txBox="1"/>
              <p:nvPr/>
            </p:nvSpPr>
            <p:spPr>
              <a:xfrm>
                <a:off x="1095480" y="5219640"/>
                <a:ext cx="70578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970" name="Rectangle 11"/>
          <p:cNvSpPr/>
          <p:nvPr/>
        </p:nvSpPr>
        <p:spPr>
          <a:xfrm>
            <a:off x="2052000" y="5752440"/>
            <a:ext cx="6167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adalah vektor satuan di arah sumbu x,y,z positif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1" name="Object 12"/>
              <p:cNvSpPr txBox="1"/>
              <p:nvPr/>
            </p:nvSpPr>
            <p:spPr>
              <a:xfrm>
                <a:off x="1104840" y="5676840"/>
                <a:ext cx="7952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355" dur="indefinite" restart="never" nodeType="tmRoot">
          <p:childTnLst>
            <p:seq>
              <p:cTn id="2356" dur="indefinite" nodeType="mainSeq">
                <p:childTnLst>
                  <p:par>
                    <p:cTn id="2357" nodeType="clickEffect" fill="hold">
                      <p:stCondLst>
                        <p:cond delay="0"/>
                      </p:stCondLst>
                      <p:childTnLst>
                        <p:par>
                          <p:cTn id="2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nodeType="clickEffect" fill="hold">
                      <p:stCondLst>
                        <p:cond delay="indefinite"/>
                      </p:stCondLst>
                      <p:childTnLst>
                        <p:par>
                          <p:cTn id="2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7" nodeType="clickEffect" fill="hold">
                      <p:stCondLst>
                        <p:cond delay="indefinite"/>
                      </p:stCondLst>
                      <p:childTnLst>
                        <p:par>
                          <p:cTn id="2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2" nodeType="clickEffect" fill="hold">
                      <p:stCondLst>
                        <p:cond delay="indefinite"/>
                      </p:stCondLst>
                      <p:childTnLst>
                        <p:par>
                          <p:cTn id="2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0" dur="2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1" dur="2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2" dur="2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3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6" dur="2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7" dur="2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8" dur="2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9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2" dur="2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3" dur="2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2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5" dur="2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8" dur="2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2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2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1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nodeType="clickEffect" fill="hold">
                      <p:stCondLst>
                        <p:cond delay="indefinite"/>
                      </p:stCondLst>
                      <p:childTnLst>
                        <p:par>
                          <p:cTn id="2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9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0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1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2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5" dur="10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6" dur="10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10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8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1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3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4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6579-0A1C-4485-AFD3-5F3CA1CB65FB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AEC0-103D-4173-AE52-F8D2C4E4F82F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76" name="Text Box 4"/>
          <p:cNvSpPr/>
          <p:nvPr/>
        </p:nvSpPr>
        <p:spPr>
          <a:xfrm>
            <a:off x="859680" y="1365120"/>
            <a:ext cx="1360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entuk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7" name="Object 5"/>
              <p:cNvSpPr txBox="1"/>
              <p:nvPr/>
            </p:nvSpPr>
            <p:spPr>
              <a:xfrm>
                <a:off x="2273400" y="1374840"/>
                <a:ext cx="111132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8" name="Text Box 7"/>
          <p:cNvSpPr/>
          <p:nvPr/>
        </p:nvSpPr>
        <p:spPr>
          <a:xfrm>
            <a:off x="3445560" y="1400040"/>
            <a:ext cx="659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9" name="Object 8"/>
              <p:cNvSpPr txBox="1"/>
              <p:nvPr/>
            </p:nvSpPr>
            <p:spPr>
              <a:xfrm>
                <a:off x="4114800" y="1380960"/>
                <a:ext cx="1263600" cy="4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0" name="Text Box 9"/>
          <p:cNvSpPr/>
          <p:nvPr/>
        </p:nvSpPr>
        <p:spPr>
          <a:xfrm>
            <a:off x="5505480" y="1397160"/>
            <a:ext cx="672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ari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1" name="Object 10"/>
              <p:cNvSpPr txBox="1"/>
              <p:nvPr/>
            </p:nvSpPr>
            <p:spPr>
              <a:xfrm>
                <a:off x="6191280" y="1419120"/>
                <a:ext cx="18097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Object 12"/>
              <p:cNvSpPr txBox="1"/>
              <p:nvPr/>
            </p:nvSpPr>
            <p:spPr>
              <a:xfrm>
                <a:off x="1041480" y="2297160"/>
                <a:ext cx="27813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xye</m:t>
                    </m:r>
                    <m:sSup>
                      <m:e>
                        <m:r>
                          <m:t xml:space="preserve"> 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83" name="Text Box 13"/>
          <p:cNvSpPr/>
          <p:nvPr/>
        </p:nvSpPr>
        <p:spPr>
          <a:xfrm>
            <a:off x="879120" y="1828800"/>
            <a:ext cx="927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wab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4" name="Object 14"/>
              <p:cNvSpPr txBox="1"/>
              <p:nvPr/>
            </p:nvSpPr>
            <p:spPr>
              <a:xfrm>
                <a:off x="1027080" y="2871720"/>
                <a:ext cx="2021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e</m:t>
                    </m:r>
                    <m:sSup>
                      <m:e>
                        <m:r>
                          <m:t xml:space="preserve"> 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Object 16"/>
              <p:cNvSpPr txBox="1"/>
              <p:nvPr/>
            </p:nvSpPr>
            <p:spPr>
              <a:xfrm>
                <a:off x="4913280" y="2293920"/>
                <a:ext cx="25718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+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Object 17"/>
              <p:cNvSpPr txBox="1"/>
              <p:nvPr/>
            </p:nvSpPr>
            <p:spPr>
              <a:xfrm>
                <a:off x="4929120" y="2870280"/>
                <a:ext cx="16239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Object 18"/>
              <p:cNvSpPr txBox="1"/>
              <p:nvPr/>
            </p:nvSpPr>
            <p:spPr>
              <a:xfrm>
                <a:off x="1003320" y="3925800"/>
                <a:ext cx="42544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e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p>
                        </m:sSup>
                      </m:e>
                    </m:d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p>
                    </m:sSup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8" name="Object 19"/>
              <p:cNvSpPr txBox="1"/>
              <p:nvPr/>
            </p:nvSpPr>
            <p:spPr>
              <a:xfrm>
                <a:off x="990720" y="4546440"/>
                <a:ext cx="26780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e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t xml:space="preserve">e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989" name="Text Box 20"/>
          <p:cNvSpPr/>
          <p:nvPr/>
        </p:nvSpPr>
        <p:spPr>
          <a:xfrm>
            <a:off x="4258800" y="222408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90" name="Text Box 21"/>
          <p:cNvSpPr/>
          <p:nvPr/>
        </p:nvSpPr>
        <p:spPr>
          <a:xfrm>
            <a:off x="4258800" y="277344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91" name="Text Box 22"/>
          <p:cNvSpPr/>
          <p:nvPr/>
        </p:nvSpPr>
        <p:spPr>
          <a:xfrm>
            <a:off x="1103400" y="3422520"/>
            <a:ext cx="2700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ehingga diperoleh: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2425" dur="indefinite" restart="never" nodeType="tmRoot">
          <p:childTnLst>
            <p:seq>
              <p:cTn id="2426" dur="indefinite" nodeType="mainSeq">
                <p:childTnLst>
                  <p:par>
                    <p:cTn id="2427" nodeType="clickEffect" fill="hold">
                      <p:stCondLst>
                        <p:cond delay="indefinite"/>
                      </p:stCondLst>
                      <p:childTnLst>
                        <p:par>
                          <p:cTn id="2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1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4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7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0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3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6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nodeType="clickEffect" fill="hold">
                      <p:stCondLst>
                        <p:cond delay="indefinite"/>
                      </p:stCondLst>
                      <p:childTnLst>
                        <p:par>
                          <p:cTn id="2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1" dur="80"/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2" dur="80"/>
                                        <p:tgtEl>
                                          <p:spTgt spid="9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3" dur="80"/>
                                        <p:tgtEl>
                                          <p:spTgt spid="9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nodeType="clickEffect" fill="hold">
                      <p:stCondLst>
                        <p:cond delay="indefinite"/>
                      </p:stCondLst>
                      <p:childTnLst>
                        <p:par>
                          <p:cTn id="2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8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nodeType="clickEffect" fill="hold">
                      <p:stCondLst>
                        <p:cond delay="indefinite"/>
                      </p:stCondLst>
                      <p:childTnLst>
                        <p:par>
                          <p:cTn id="2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3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4" nodeType="clickEffect" fill="hold">
                      <p:stCondLst>
                        <p:cond delay="indefinite"/>
                      </p:stCondLst>
                      <p:childTnLst>
                        <p:par>
                          <p:cTn id="2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8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1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2" nodeType="clickEffect" fill="hold">
                      <p:stCondLst>
                        <p:cond delay="indefinite"/>
                      </p:stCondLst>
                      <p:childTnLst>
                        <p:par>
                          <p:cTn id="2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6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7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8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9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nodeType="clickEffect" fill="hold">
                      <p:stCondLst>
                        <p:cond delay="indefinite"/>
                      </p:stCondLst>
                      <p:childTnLst>
                        <p:par>
                          <p:cTn id="2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4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5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6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7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8" nodeType="clickEffect" fill="hold">
                      <p:stCondLst>
                        <p:cond delay="indefinite"/>
                      </p:stCondLst>
                      <p:childTnLst>
                        <p:par>
                          <p:cTn id="2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2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3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5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6" nodeType="clickEffect" fill="hold">
                      <p:stCondLst>
                        <p:cond delay="indefinite"/>
                      </p:stCondLst>
                      <p:childTnLst>
                        <p:par>
                          <p:cTn id="2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0" dur="80"/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1" dur="80"/>
                                        <p:tgtEl>
                                          <p:spTgt spid="9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2" dur="80"/>
                                        <p:tgtEl>
                                          <p:spTgt spid="9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3" nodeType="clickEffect" fill="hold">
                      <p:stCondLst>
                        <p:cond delay="indefinite"/>
                      </p:stCondLst>
                      <p:childTnLst>
                        <p:par>
                          <p:cTn id="2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7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0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3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ih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5D90-F500-4027-8365-53694107BA7A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9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4AD2-73E6-4A7C-A55A-39A978E787C0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96" name="Text Box 4"/>
          <p:cNvSpPr/>
          <p:nvPr/>
        </p:nvSpPr>
        <p:spPr>
          <a:xfrm>
            <a:off x="606600" y="1365120"/>
            <a:ext cx="1591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I. Tentuk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7" name="Object 5"/>
              <p:cNvSpPr txBox="1"/>
              <p:nvPr/>
            </p:nvSpPr>
            <p:spPr>
              <a:xfrm>
                <a:off x="2376360" y="1319040"/>
                <a:ext cx="4716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8" name="Text Box 6"/>
          <p:cNvSpPr/>
          <p:nvPr/>
        </p:nvSpPr>
        <p:spPr>
          <a:xfrm>
            <a:off x="2898720" y="1355760"/>
            <a:ext cx="672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ari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99" name="Text Box 7"/>
          <p:cNvSpPr/>
          <p:nvPr/>
        </p:nvSpPr>
        <p:spPr>
          <a:xfrm>
            <a:off x="867600" y="1905120"/>
            <a:ext cx="404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1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0" name="Object 8"/>
              <p:cNvSpPr txBox="1"/>
              <p:nvPr/>
            </p:nvSpPr>
            <p:spPr>
              <a:xfrm>
                <a:off x="1238400" y="1752480"/>
                <a:ext cx="19620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1" name="Text Box 10"/>
          <p:cNvSpPr/>
          <p:nvPr/>
        </p:nvSpPr>
        <p:spPr>
          <a:xfrm>
            <a:off x="861120" y="2577960"/>
            <a:ext cx="404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2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2" name="Object 11"/>
              <p:cNvSpPr txBox="1"/>
              <p:nvPr/>
            </p:nvSpPr>
            <p:spPr>
              <a:xfrm>
                <a:off x="1316160" y="2514600"/>
                <a:ext cx="26305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03" name="Text Box 12"/>
          <p:cNvSpPr/>
          <p:nvPr/>
        </p:nvSpPr>
        <p:spPr>
          <a:xfrm>
            <a:off x="4001400" y="1938240"/>
            <a:ext cx="404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3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Object 13"/>
              <p:cNvSpPr txBox="1"/>
              <p:nvPr/>
            </p:nvSpPr>
            <p:spPr>
              <a:xfrm>
                <a:off x="4495680" y="1947960"/>
                <a:ext cx="23400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05" name="Text Box 14"/>
          <p:cNvSpPr/>
          <p:nvPr/>
        </p:nvSpPr>
        <p:spPr>
          <a:xfrm>
            <a:off x="4061520" y="2568600"/>
            <a:ext cx="404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4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6" name="Object 15"/>
              <p:cNvSpPr txBox="1"/>
              <p:nvPr/>
            </p:nvSpPr>
            <p:spPr>
              <a:xfrm>
                <a:off x="4513320" y="2562120"/>
                <a:ext cx="27637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7" name="Text Box 16"/>
          <p:cNvSpPr/>
          <p:nvPr/>
        </p:nvSpPr>
        <p:spPr>
          <a:xfrm>
            <a:off x="617760" y="3803760"/>
            <a:ext cx="1681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II. Tentuk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8" name="Object 17"/>
              <p:cNvSpPr txBox="1"/>
              <p:nvPr/>
            </p:nvSpPr>
            <p:spPr>
              <a:xfrm>
                <a:off x="2422440" y="3807000"/>
                <a:ext cx="4730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9" name="Text Box 18"/>
          <p:cNvSpPr/>
          <p:nvPr/>
        </p:nvSpPr>
        <p:spPr>
          <a:xfrm>
            <a:off x="3003840" y="3835440"/>
            <a:ext cx="2891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i titik yang diberik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10" name="Text Box 19"/>
          <p:cNvSpPr/>
          <p:nvPr/>
        </p:nvSpPr>
        <p:spPr>
          <a:xfrm>
            <a:off x="937440" y="4349880"/>
            <a:ext cx="404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1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1" name="Object 20"/>
              <p:cNvSpPr txBox="1"/>
              <p:nvPr/>
            </p:nvSpPr>
            <p:spPr>
              <a:xfrm>
                <a:off x="1447920" y="4363920"/>
                <a:ext cx="247464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12" name="Text Box 21"/>
          <p:cNvSpPr/>
          <p:nvPr/>
        </p:nvSpPr>
        <p:spPr>
          <a:xfrm>
            <a:off x="937440" y="4997520"/>
            <a:ext cx="404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2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3" name="Object 22"/>
              <p:cNvSpPr txBox="1"/>
              <p:nvPr/>
            </p:nvSpPr>
            <p:spPr>
              <a:xfrm>
                <a:off x="1463760" y="4979880"/>
                <a:ext cx="356544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4" name="Text Box 23"/>
          <p:cNvSpPr/>
          <p:nvPr/>
        </p:nvSpPr>
        <p:spPr>
          <a:xfrm>
            <a:off x="975600" y="5721480"/>
            <a:ext cx="404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3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5" name="Object 24"/>
              <p:cNvSpPr txBox="1"/>
              <p:nvPr/>
            </p:nvSpPr>
            <p:spPr>
              <a:xfrm>
                <a:off x="1371600" y="5546880"/>
                <a:ext cx="160488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6" name="Text Box 25"/>
          <p:cNvSpPr/>
          <p:nvPr/>
        </p:nvSpPr>
        <p:spPr>
          <a:xfrm>
            <a:off x="4402440" y="4368960"/>
            <a:ext cx="1598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i P (– 2,3) 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17" name="Text Box 26"/>
          <p:cNvSpPr/>
          <p:nvPr/>
        </p:nvSpPr>
        <p:spPr>
          <a:xfrm>
            <a:off x="5239440" y="4968720"/>
            <a:ext cx="1668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i P (– 3, 3) 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18" name="Text Box 27"/>
          <p:cNvSpPr/>
          <p:nvPr/>
        </p:nvSpPr>
        <p:spPr>
          <a:xfrm>
            <a:off x="3351240" y="5683320"/>
            <a:ext cx="1598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i P (2, –1) 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19" name="Text Box 28"/>
          <p:cNvSpPr/>
          <p:nvPr/>
        </p:nvSpPr>
        <p:spPr>
          <a:xfrm>
            <a:off x="861120" y="3233880"/>
            <a:ext cx="404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5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0" name="Object 29"/>
              <p:cNvSpPr txBox="1"/>
              <p:nvPr/>
            </p:nvSpPr>
            <p:spPr>
              <a:xfrm>
                <a:off x="1332000" y="3246480"/>
                <a:ext cx="26305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21" name="Text Box 30"/>
          <p:cNvSpPr/>
          <p:nvPr/>
        </p:nvSpPr>
        <p:spPr>
          <a:xfrm>
            <a:off x="4061520" y="3224160"/>
            <a:ext cx="404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6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graphicFrame>
        <p:nvGraphicFramePr>
          <p:cNvPr id="1022" name="Object 31"/>
          <p:cNvGraphicFramePr/>
          <p:nvPr/>
        </p:nvGraphicFramePr>
        <p:xfrm>
          <a:off x="4567320" y="3200400"/>
          <a:ext cx="251928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3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67320" y="3200400"/>
                    <a:ext cx="251928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514" dur="indefinite" restart="never" nodeType="tmRoot">
          <p:childTnLst>
            <p:seq>
              <p:cTn id="2515" dur="indefinite" nodeType="mainSeq">
                <p:childTnLst>
                  <p:par>
                    <p:cTn id="2516" nodeType="clickEffect" fill="hold">
                      <p:stCondLst>
                        <p:cond delay="0"/>
                      </p:stCondLst>
                      <p:childTnLst>
                        <p:par>
                          <p:cTn id="2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0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2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3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6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7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9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2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3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4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5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8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0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1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4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5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7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0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1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2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6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7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8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9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2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3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4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8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9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0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1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4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6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7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0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2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3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6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7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9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2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4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5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8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9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0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1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4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5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6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7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nodeType="clickEffect" fill="hold">
                      <p:stCondLst>
                        <p:cond delay="indefinite"/>
                      </p:stCondLst>
                      <p:childTnLst>
                        <p:par>
                          <p:cTn id="2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2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3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4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8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9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1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4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5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6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0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1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2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3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6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9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2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3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4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5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8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9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0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1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4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5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6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7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0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1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2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3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6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7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8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9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2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3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4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5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8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9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0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1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uran Ranta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609480" y="1511280"/>
            <a:ext cx="8305920" cy="17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isalkan x=x(t) dan y = y(t) terdeferensialkan di 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an z = f(x,y) terderensialkan di (x(t), y(t)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ka z = f(x(t), y(t)) dapat dideferensialkan di t da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definisikan sebaga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C2B7-1C34-422D-B026-86B4C26D2A1F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C56E-3D04-4577-B4AB-FD209087FE8E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graphicFrame>
        <p:nvGraphicFramePr>
          <p:cNvPr id="1029" name="Object 4"/>
          <p:cNvGraphicFramePr/>
          <p:nvPr/>
        </p:nvGraphicFramePr>
        <p:xfrm>
          <a:off x="2951280" y="3314880"/>
          <a:ext cx="212076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1280" y="3314880"/>
                    <a:ext cx="212076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1" name="Rectangle 5"/>
          <p:cNvSpPr/>
          <p:nvPr/>
        </p:nvSpPr>
        <p:spPr>
          <a:xfrm>
            <a:off x="1059480" y="4042800"/>
            <a:ext cx="58896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Misalkan x = x(s,t), y=y(s,t) dan z = f(x,y), mak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2" name="Object 6"/>
              <p:cNvSpPr txBox="1"/>
              <p:nvPr/>
            </p:nvSpPr>
            <p:spPr>
              <a:xfrm>
                <a:off x="609480" y="4572000"/>
                <a:ext cx="4129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033" name="Object 7"/>
          <p:cNvGraphicFramePr/>
          <p:nvPr/>
        </p:nvGraphicFramePr>
        <p:xfrm>
          <a:off x="1339920" y="4457880"/>
          <a:ext cx="2097000" cy="72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9920" y="4457880"/>
                    <a:ext cx="209700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35" name="Object 8"/>
              <p:cNvSpPr txBox="1"/>
              <p:nvPr/>
            </p:nvSpPr>
            <p:spPr>
              <a:xfrm>
                <a:off x="565200" y="5334120"/>
                <a:ext cx="50148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036" name="Object 9"/>
          <p:cNvGraphicFramePr/>
          <p:nvPr/>
        </p:nvGraphicFramePr>
        <p:xfrm>
          <a:off x="1339920" y="5219640"/>
          <a:ext cx="2097000" cy="72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9920" y="5219640"/>
                    <a:ext cx="20970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82" dur="indefinite" restart="never" nodeType="tmRoot">
          <p:childTnLst>
            <p:seq>
              <p:cTn id="2683" dur="indefinite" nodeType="mainSeq">
                <p:childTnLst>
                  <p:par>
                    <p:cTn id="2684" nodeType="clickEffect" fill="hold">
                      <p:stCondLst>
                        <p:cond delay="0"/>
                      </p:stCondLst>
                      <p:childTnLst>
                        <p:par>
                          <p:cTn id="2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9" nodeType="clickEffect" fill="hold">
                      <p:stCondLst>
                        <p:cond delay="indefinite"/>
                      </p:stCondLst>
                      <p:childTnLst>
                        <p:par>
                          <p:cTn id="2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nodeType="clickEffect" fill="hold">
                      <p:stCondLst>
                        <p:cond delay="indefinite"/>
                      </p:stCondLst>
                      <p:childTnLst>
                        <p:par>
                          <p:cTn id="2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7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8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0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nodeType="clickEffect" fill="hold">
                      <p:stCondLst>
                        <p:cond delay="indefinite"/>
                      </p:stCondLst>
                      <p:childTnLst>
                        <p:par>
                          <p:cTn id="2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5" dur="80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6" dur="80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7" dur="80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3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5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2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3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4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9E24-2004-4E80-B419-DC7F99255ED2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A07E-80E3-4D73-8912-9B3DC07AA8AF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42" name="Text Box 4"/>
          <p:cNvSpPr/>
          <p:nvPr/>
        </p:nvSpPr>
        <p:spPr>
          <a:xfrm>
            <a:off x="929880" y="1447920"/>
            <a:ext cx="6873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1. Misalkan w = 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3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dengan x = t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3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dan y = t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tentuk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Object 5"/>
              <p:cNvSpPr txBox="1"/>
              <p:nvPr/>
            </p:nvSpPr>
            <p:spPr>
              <a:xfrm>
                <a:off x="8255160" y="1295280"/>
                <a:ext cx="50796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4" name="Text Box 7"/>
          <p:cNvSpPr/>
          <p:nvPr/>
        </p:nvSpPr>
        <p:spPr>
          <a:xfrm>
            <a:off x="964080" y="1898640"/>
            <a:ext cx="999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wab: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graphicFrame>
        <p:nvGraphicFramePr>
          <p:cNvPr id="1045" name="Object 8"/>
          <p:cNvGraphicFramePr/>
          <p:nvPr/>
        </p:nvGraphicFramePr>
        <p:xfrm>
          <a:off x="2065320" y="2390760"/>
          <a:ext cx="2274840" cy="72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5320" y="2390760"/>
                    <a:ext cx="227484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7" name="Text Box 10"/>
          <p:cNvSpPr/>
          <p:nvPr/>
        </p:nvSpPr>
        <p:spPr>
          <a:xfrm>
            <a:off x="2649240" y="3193920"/>
            <a:ext cx="2748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3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3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+3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48" name="Text Box 11"/>
          <p:cNvSpPr/>
          <p:nvPr/>
        </p:nvSpPr>
        <p:spPr>
          <a:xfrm>
            <a:off x="2802600" y="3778200"/>
            <a:ext cx="3406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3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 (t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)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3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3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+3 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3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)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)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49" name="Text Box 12"/>
          <p:cNvSpPr/>
          <p:nvPr/>
        </p:nvSpPr>
        <p:spPr>
          <a:xfrm>
            <a:off x="2625840" y="4206960"/>
            <a:ext cx="2690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3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. t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6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.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3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3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6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.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4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.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50" name="Text Box 13"/>
          <p:cNvSpPr/>
          <p:nvPr/>
        </p:nvSpPr>
        <p:spPr>
          <a:xfrm>
            <a:off x="2579040" y="4692600"/>
            <a:ext cx="2356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6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11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6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11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12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11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2736" dur="indefinite" restart="never" nodeType="tmRoot">
          <p:childTnLst>
            <p:seq>
              <p:cTn id="2737" dur="indefinite" nodeType="mainSeq">
                <p:childTnLst>
                  <p:par>
                    <p:cTn id="2738" nodeType="clickEffect" fill="hold">
                      <p:stCondLst>
                        <p:cond delay="0"/>
                      </p:stCondLst>
                      <p:childTnLst>
                        <p:par>
                          <p:cTn id="2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9" nodeType="clickEffect" fill="hold">
                      <p:stCondLst>
                        <p:cond delay="indefinite"/>
                      </p:stCondLst>
                      <p:childTnLst>
                        <p:par>
                          <p:cTn id="2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3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4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5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6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7" nodeType="clickEffect" fill="hold">
                      <p:stCondLst>
                        <p:cond delay="indefinite"/>
                      </p:stCondLst>
                      <p:childTnLst>
                        <p:par>
                          <p:cTn id="2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1" dur="80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2" dur="80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3" dur="80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4" nodeType="clickEffect" fill="hold">
                      <p:stCondLst>
                        <p:cond delay="indefinite"/>
                      </p:stCondLst>
                      <p:childTnLst>
                        <p:par>
                          <p:cTn id="2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8" dur="80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9" dur="80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0" dur="80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1" nodeType="clickEffect" fill="hold">
                      <p:stCondLst>
                        <p:cond delay="indefinite"/>
                      </p:stCondLst>
                      <p:childTnLst>
                        <p:par>
                          <p:cTn id="2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5" dur="80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6" dur="80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7" dur="80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8" nodeType="clickEffect" fill="hold">
                      <p:stCondLst>
                        <p:cond delay="indefinite"/>
                      </p:stCondLst>
                      <p:childTnLst>
                        <p:par>
                          <p:cTn id="2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2" dur="80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3" dur="80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4" dur="80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0F3B-A5DF-422E-A9E1-747B92568E31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29A5-6A87-4A9E-8527-E5B28E6C5219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55" name="Text Box 3"/>
          <p:cNvSpPr/>
          <p:nvPr/>
        </p:nvSpPr>
        <p:spPr>
          <a:xfrm>
            <a:off x="1000800" y="1447920"/>
            <a:ext cx="7148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Misalkan z = 3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dengan x = 2 s+7 t dan y = 5 s t,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graphicFrame>
        <p:nvGraphicFramePr>
          <p:cNvPr id="1056" name="Object 4"/>
          <p:cNvGraphicFramePr/>
          <p:nvPr/>
        </p:nvGraphicFramePr>
        <p:xfrm>
          <a:off x="2389320" y="1839960"/>
          <a:ext cx="352440" cy="67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9320" y="1839960"/>
                    <a:ext cx="3524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8" name="Text Box 5"/>
          <p:cNvSpPr/>
          <p:nvPr/>
        </p:nvSpPr>
        <p:spPr>
          <a:xfrm>
            <a:off x="964080" y="2438280"/>
            <a:ext cx="999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wab: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graphicFrame>
        <p:nvGraphicFramePr>
          <p:cNvPr id="1059" name="Object 6"/>
          <p:cNvGraphicFramePr/>
          <p:nvPr/>
        </p:nvGraphicFramePr>
        <p:xfrm>
          <a:off x="1603440" y="2817720"/>
          <a:ext cx="2097000" cy="72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3440" y="2817720"/>
                    <a:ext cx="20970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1" name="Text Box 7"/>
          <p:cNvSpPr/>
          <p:nvPr/>
        </p:nvSpPr>
        <p:spPr>
          <a:xfrm>
            <a:off x="1976040" y="4051440"/>
            <a:ext cx="26136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42 (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s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7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– 50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s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62" name="Text Box 8"/>
          <p:cNvSpPr/>
          <p:nvPr/>
        </p:nvSpPr>
        <p:spPr>
          <a:xfrm>
            <a:off x="1947240" y="3645000"/>
            <a:ext cx="2248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6x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. 7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(–2y) 5 s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63" name="Rectangle 11"/>
          <p:cNvSpPr/>
          <p:nvPr/>
        </p:nvSpPr>
        <p:spPr>
          <a:xfrm>
            <a:off x="947520" y="1981080"/>
            <a:ext cx="13086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entuk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graphicFrame>
        <p:nvGraphicFramePr>
          <p:cNvPr id="1064" name="Object 12"/>
          <p:cNvGraphicFramePr/>
          <p:nvPr/>
        </p:nvGraphicFramePr>
        <p:xfrm>
          <a:off x="3659040" y="1839960"/>
          <a:ext cx="35244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5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9040" y="1839960"/>
                    <a:ext cx="3524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6" name="Rectangle 13"/>
          <p:cNvSpPr/>
          <p:nvPr/>
        </p:nvSpPr>
        <p:spPr>
          <a:xfrm>
            <a:off x="2905560" y="1981080"/>
            <a:ext cx="659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graphicFrame>
        <p:nvGraphicFramePr>
          <p:cNvPr id="1067" name="Object 14"/>
          <p:cNvGraphicFramePr/>
          <p:nvPr/>
        </p:nvGraphicFramePr>
        <p:xfrm>
          <a:off x="1600200" y="4524480"/>
          <a:ext cx="2098800" cy="723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68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4524480"/>
                    <a:ext cx="2098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9" name="Text Box 15"/>
          <p:cNvSpPr/>
          <p:nvPr/>
        </p:nvSpPr>
        <p:spPr>
          <a:xfrm>
            <a:off x="1945080" y="5759280"/>
            <a:ext cx="2680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12 (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s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7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– 50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s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70" name="Text Box 16"/>
          <p:cNvSpPr/>
          <p:nvPr/>
        </p:nvSpPr>
        <p:spPr>
          <a:xfrm>
            <a:off x="1913760" y="5353200"/>
            <a:ext cx="219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6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.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(–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5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2785" dur="indefinite" restart="never" nodeType="tmRoot">
          <p:childTnLst>
            <p:seq>
              <p:cTn id="2786" dur="indefinite" nodeType="mainSeq">
                <p:childTnLst>
                  <p:par>
                    <p:cTn id="2787" nodeType="clickEffect" fill="hold">
                      <p:stCondLst>
                        <p:cond delay="indefinite"/>
                      </p:stCondLst>
                      <p:childTnLst>
                        <p:par>
                          <p:cTn id="2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1" dur="80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2" dur="80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3" dur="80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4" nodeType="afterEffect" fill="hold">
                            <p:stCondLst>
                              <p:cond delay="1560"/>
                            </p:stCondLst>
                            <p:childTnLst>
                              <p:par>
                                <p:cTn id="27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7" dur="80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8" dur="80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9" dur="80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0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28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3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4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5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6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7" nodeType="afterEffect" fill="hold">
                            <p:stCondLst>
                              <p:cond delay="2920"/>
                            </p:stCondLst>
                            <p:childTnLst>
                              <p:par>
                                <p:cTn id="28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0" dur="80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1" dur="80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2" dur="80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3" nodeType="afterEffect" fill="hold">
                            <p:stCondLst>
                              <p:cond delay="3080"/>
                            </p:stCondLst>
                            <p:childTnLst>
                              <p:par>
                                <p:cTn id="28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6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7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8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9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0" nodeType="clickEffect" fill="hold">
                      <p:stCondLst>
                        <p:cond delay="indefinite"/>
                      </p:stCondLst>
                      <p:childTnLst>
                        <p:par>
                          <p:cTn id="2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4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5" nodeType="clickEffect" fill="hold">
                      <p:stCondLst>
                        <p:cond delay="indefinite"/>
                      </p:stCondLst>
                      <p:childTnLst>
                        <p:par>
                          <p:cTn id="2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9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0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1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2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3" nodeType="clickEffect" fill="hold">
                      <p:stCondLst>
                        <p:cond delay="indefinite"/>
                      </p:stCondLst>
                      <p:childTnLst>
                        <p:par>
                          <p:cTn id="2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7" dur="80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8" dur="80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9" dur="80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0" nodeType="clickEffect" fill="hold">
                      <p:stCondLst>
                        <p:cond delay="indefinite"/>
                      </p:stCondLst>
                      <p:childTnLst>
                        <p:par>
                          <p:cTn id="2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4" dur="80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5" dur="80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6" dur="80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nodeType="clickEffect" fill="hold">
                      <p:stCondLst>
                        <p:cond delay="indefinite"/>
                      </p:stCondLst>
                      <p:childTnLst>
                        <p:par>
                          <p:cTn id="2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1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2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3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4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5" nodeType="clickEffect" fill="hold">
                      <p:stCondLst>
                        <p:cond delay="indefinite"/>
                      </p:stCondLst>
                      <p:childTnLst>
                        <p:par>
                          <p:cTn id="2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9" dur="80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0" dur="80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1" dur="80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nodeType="clickEffect" fill="hold">
                      <p:stCondLst>
                        <p:cond delay="indefinite"/>
                      </p:stCondLst>
                      <p:childTnLst>
                        <p:par>
                          <p:cTn id="2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6" dur="80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7" dur="80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8" dur="80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mbar Bo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DE79-33F1-4696-82A1-87304244FB6C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6236-CECB-4EF6-8B55-057B62F87D1A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grpSp>
        <p:nvGrpSpPr>
          <p:cNvPr id="310" name="Group 3"/>
          <p:cNvGrpSpPr/>
          <p:nvPr/>
        </p:nvGrpSpPr>
        <p:grpSpPr>
          <a:xfrm>
            <a:off x="2085840" y="1930320"/>
            <a:ext cx="4314960" cy="2833560"/>
            <a:chOff x="2085840" y="1930320"/>
            <a:chExt cx="4314960" cy="2833560"/>
          </a:xfrm>
        </p:grpSpPr>
        <p:sp>
          <p:nvSpPr>
            <p:cNvPr id="311" name="Line 4"/>
            <p:cNvSpPr/>
            <p:nvPr/>
          </p:nvSpPr>
          <p:spPr>
            <a:xfrm flipV="1">
              <a:off x="3951000" y="2078280"/>
              <a:ext cx="0" cy="260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312" name="Line 5"/>
            <p:cNvSpPr/>
            <p:nvPr/>
          </p:nvSpPr>
          <p:spPr>
            <a:xfrm>
              <a:off x="2594520" y="3542760"/>
              <a:ext cx="322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313" name="Line 6"/>
            <p:cNvSpPr/>
            <p:nvPr/>
          </p:nvSpPr>
          <p:spPr>
            <a:xfrm flipH="1">
              <a:off x="2424240" y="2801880"/>
              <a:ext cx="2637720" cy="174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314" name="Text Box 7"/>
            <p:cNvSpPr/>
            <p:nvPr/>
          </p:nvSpPr>
          <p:spPr>
            <a:xfrm>
              <a:off x="3574080" y="1930320"/>
              <a:ext cx="67824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Verdana"/>
                </a:rPr>
                <a:t>Z</a:t>
              </a:r>
              <a:endParaRPr b="0" lang="en-US" sz="12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315" name="Text Box 8"/>
            <p:cNvSpPr/>
            <p:nvPr/>
          </p:nvSpPr>
          <p:spPr>
            <a:xfrm>
              <a:off x="2085840" y="4192920"/>
              <a:ext cx="67824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Verdana"/>
                </a:rPr>
                <a:t> </a:t>
              </a:r>
              <a:r>
                <a:rPr b="0" lang="en-US" sz="1100" spc="-1" strike="noStrike">
                  <a:solidFill>
                    <a:srgbClr val="336699"/>
                  </a:solidFill>
                  <a:latin typeface="Verdana"/>
                </a:rPr>
                <a:t>x</a:t>
              </a:r>
              <a:endParaRPr b="0" lang="en-US" sz="1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316" name="Text Box 9"/>
            <p:cNvSpPr/>
            <p:nvPr/>
          </p:nvSpPr>
          <p:spPr>
            <a:xfrm>
              <a:off x="5722560" y="3325680"/>
              <a:ext cx="67824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Verdana"/>
                </a:rPr>
                <a:t> </a:t>
              </a:r>
              <a:r>
                <a:rPr b="0" lang="en-US" sz="1200" spc="-1" strike="noStrike">
                  <a:solidFill>
                    <a:srgbClr val="336699"/>
                  </a:solidFill>
                  <a:latin typeface="Verdana"/>
                </a:rPr>
                <a:t>y</a:t>
              </a:r>
              <a:endParaRPr b="0" lang="en-US" sz="1200" spc="-1" strike="noStrike">
                <a:solidFill>
                  <a:srgbClr val="336699"/>
                </a:solidFill>
                <a:latin typeface="Verdana"/>
              </a:endParaRPr>
            </a:p>
          </p:txBody>
        </p:sp>
      </p:grpSp>
      <p:sp>
        <p:nvSpPr>
          <p:cNvPr id="317" name="Oval 10"/>
          <p:cNvSpPr/>
          <p:nvPr/>
        </p:nvSpPr>
        <p:spPr>
          <a:xfrm>
            <a:off x="3384720" y="2938320"/>
            <a:ext cx="1187280" cy="13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18" name="Oval 11"/>
          <p:cNvSpPr/>
          <p:nvPr/>
        </p:nvSpPr>
        <p:spPr>
          <a:xfrm>
            <a:off x="3403440" y="3403440"/>
            <a:ext cx="1143000" cy="384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19" name="Oval 12"/>
          <p:cNvSpPr/>
          <p:nvPr/>
        </p:nvSpPr>
        <p:spPr>
          <a:xfrm>
            <a:off x="3724200" y="2938320"/>
            <a:ext cx="507960" cy="1332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ih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FDE3-960A-4A32-AE52-93057D5E464E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7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7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A2E1-EE11-4132-8174-63E1B6233CDA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75" name="Text Box 4"/>
          <p:cNvSpPr/>
          <p:nvPr/>
        </p:nvSpPr>
        <p:spPr>
          <a:xfrm>
            <a:off x="1095840" y="1447920"/>
            <a:ext cx="1654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1. Tentuk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6" name="Object 5"/>
              <p:cNvSpPr txBox="1"/>
              <p:nvPr/>
            </p:nvSpPr>
            <p:spPr>
              <a:xfrm>
                <a:off x="2854440" y="1295280"/>
                <a:ext cx="50796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7" name="Text Box 6"/>
          <p:cNvSpPr/>
          <p:nvPr/>
        </p:nvSpPr>
        <p:spPr>
          <a:xfrm>
            <a:off x="3448080" y="1441440"/>
            <a:ext cx="1290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dalam t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78" name="Text Box 7"/>
          <p:cNvSpPr/>
          <p:nvPr/>
        </p:nvSpPr>
        <p:spPr>
          <a:xfrm>
            <a:off x="1899720" y="2050920"/>
            <a:ext cx="4247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a.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w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–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;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cos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sin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79" name="Text Box 8"/>
          <p:cNvSpPr/>
          <p:nvPr/>
        </p:nvSpPr>
        <p:spPr>
          <a:xfrm>
            <a:off x="1915200" y="2482920"/>
            <a:ext cx="4434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b.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w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e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in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– e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y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sin 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;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3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80" name="Text Box 9"/>
          <p:cNvSpPr/>
          <p:nvPr/>
        </p:nvSpPr>
        <p:spPr>
          <a:xfrm>
            <a:off x="1969920" y="2863800"/>
            <a:ext cx="4064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c.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w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sin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yz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)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;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3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, z =t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81" name="Text Box 10"/>
          <p:cNvSpPr/>
          <p:nvPr/>
        </p:nvSpPr>
        <p:spPr>
          <a:xfrm>
            <a:off x="1095840" y="3352680"/>
            <a:ext cx="1654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2. Tentuk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graphicFrame>
        <p:nvGraphicFramePr>
          <p:cNvPr id="1082" name="Object 11"/>
          <p:cNvGraphicFramePr/>
          <p:nvPr/>
        </p:nvGraphicFramePr>
        <p:xfrm>
          <a:off x="2897280" y="3282840"/>
          <a:ext cx="420480" cy="6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3282840"/>
                    <a:ext cx="42048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4" name="Text Box 12"/>
          <p:cNvSpPr/>
          <p:nvPr/>
        </p:nvSpPr>
        <p:spPr>
          <a:xfrm>
            <a:off x="3485880" y="3346560"/>
            <a:ext cx="2036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dalam t dan s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85" name="Text Box 13"/>
          <p:cNvSpPr/>
          <p:nvPr/>
        </p:nvSpPr>
        <p:spPr>
          <a:xfrm>
            <a:off x="1881720" y="3956040"/>
            <a:ext cx="3851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a.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w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 ln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;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s/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s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86" name="Text Box 14"/>
          <p:cNvSpPr/>
          <p:nvPr/>
        </p:nvSpPr>
        <p:spPr>
          <a:xfrm>
            <a:off x="1940760" y="4387680"/>
            <a:ext cx="4279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b.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w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           ;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s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sin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in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 s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7" name="Object 16"/>
              <p:cNvSpPr txBox="1"/>
              <p:nvPr/>
            </p:nvSpPr>
            <p:spPr>
              <a:xfrm>
                <a:off x="2473200" y="4267080"/>
                <a:ext cx="9590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869" dur="indefinite" restart="never" nodeType="tmRoot">
          <p:childTnLst>
            <p:seq>
              <p:cTn id="2870" dur="indefinite" nodeType="mainSeq">
                <p:childTnLst>
                  <p:par>
                    <p:cTn id="2871" nodeType="clickEffect" fill="hold">
                      <p:stCondLst>
                        <p:cond delay="0"/>
                      </p:stCondLst>
                      <p:childTnLst>
                        <p:par>
                          <p:cTn id="2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5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6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7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8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1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2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3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4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7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8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9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0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3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4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5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6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9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0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1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2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5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6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7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8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9" nodeType="clickEffect" fill="hold">
                      <p:stCondLst>
                        <p:cond delay="indefinite"/>
                      </p:stCondLst>
                      <p:childTnLst>
                        <p:par>
                          <p:cTn id="2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3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4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5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6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9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0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1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2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5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6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7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8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1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2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3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4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7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8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9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0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3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4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5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6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runan Berara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C8E0-32F9-4DB9-A7D0-51F4292C0BC5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9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A4B2-FDFB-4FF1-B86F-9A58AD413D2C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92" name="Rectangle 3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3" name="Object 4"/>
              <p:cNvSpPr txBox="1"/>
              <p:nvPr/>
            </p:nvSpPr>
            <p:spPr>
              <a:xfrm>
                <a:off x="6564240" y="1673280"/>
                <a:ext cx="14367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4" name="Object 5"/>
              <p:cNvSpPr txBox="1"/>
              <p:nvPr/>
            </p:nvSpPr>
            <p:spPr>
              <a:xfrm>
                <a:off x="652320" y="2754360"/>
                <a:ext cx="20876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u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95" name="Rectangle 6"/>
          <p:cNvSpPr/>
          <p:nvPr/>
        </p:nvSpPr>
        <p:spPr>
          <a:xfrm>
            <a:off x="960120" y="1371240"/>
            <a:ext cx="7430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Andaikan  f dapat didiferensialkan di (a, b), maka turunan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berarah di (a, b)  pada arah vektor satuan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96" name="Rectangle 7"/>
          <p:cNvSpPr/>
          <p:nvPr/>
        </p:nvSpPr>
        <p:spPr>
          <a:xfrm>
            <a:off x="694800" y="2020680"/>
            <a:ext cx="7546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adalah hasilkali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titik antara  vektor gradien dengan  vektor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satuan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ersebut.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Dengan demikian dapat ditulis :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97" name="Rectangle 8"/>
          <p:cNvSpPr/>
          <p:nvPr/>
        </p:nvSpPr>
        <p:spPr>
          <a:xfrm>
            <a:off x="3101040" y="2714400"/>
            <a:ext cx="47502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atau   </a:t>
            </a:r>
            <a:r>
              <a:rPr b="0" i="1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D 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a, b) =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 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x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a, b)u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+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(a, b)u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8" name="Object 9"/>
              <p:cNvSpPr txBox="1"/>
              <p:nvPr/>
            </p:nvSpPr>
            <p:spPr>
              <a:xfrm>
                <a:off x="3684600" y="2990880"/>
                <a:ext cx="16812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u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Object 10"/>
              <p:cNvSpPr txBox="1"/>
              <p:nvPr/>
            </p:nvSpPr>
            <p:spPr>
              <a:xfrm>
                <a:off x="2155680" y="3733920"/>
                <a:ext cx="56930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0" name="Rectangle 11"/>
          <p:cNvSpPr/>
          <p:nvPr/>
        </p:nvSpPr>
        <p:spPr>
          <a:xfrm>
            <a:off x="613080" y="3274920"/>
            <a:ext cx="2445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Perhatikan bahw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01" name="Rectangle 12"/>
          <p:cNvSpPr/>
          <p:nvPr/>
        </p:nvSpPr>
        <p:spPr>
          <a:xfrm>
            <a:off x="925920" y="4281480"/>
            <a:ext cx="75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Sehingga, Turunan berarah akan bernilai maksimum (</a:t>
            </a:r>
            <a:r>
              <a:rPr b="0" lang="en-US" sz="2000" spc="-1" strike="noStrike">
                <a:solidFill>
                  <a:srgbClr val="336699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=0)jika</a:t>
            </a: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2" name="Object 13"/>
              <p:cNvSpPr txBox="1"/>
              <p:nvPr/>
            </p:nvSpPr>
            <p:spPr>
              <a:xfrm>
                <a:off x="4038480" y="4572000"/>
                <a:ext cx="12970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∇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3" name="Rectangle 14"/>
          <p:cNvSpPr/>
          <p:nvPr/>
        </p:nvSpPr>
        <p:spPr>
          <a:xfrm>
            <a:off x="710280" y="5378400"/>
            <a:ext cx="4050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ebaliknya akan minimum jika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Object 15"/>
              <p:cNvSpPr txBox="1"/>
              <p:nvPr/>
            </p:nvSpPr>
            <p:spPr>
              <a:xfrm>
                <a:off x="5029200" y="5229360"/>
                <a:ext cx="14731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∇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947" dur="indefinite" restart="never" nodeType="tmRoot">
          <p:childTnLst>
            <p:seq>
              <p:cTn id="2948" dur="indefinite" nodeType="mainSeq">
                <p:childTnLst>
                  <p:par>
                    <p:cTn id="2949" nodeType="clickEffect" fill="hold">
                      <p:stCondLst>
                        <p:cond delay="indefinite"/>
                      </p:stCondLst>
                      <p:childTnLst>
                        <p:par>
                          <p:cTn id="2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3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6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9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2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5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8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nodeType="clickEffect" fill="hold">
                      <p:stCondLst>
                        <p:cond delay="indefinite"/>
                      </p:stCondLst>
                      <p:childTnLst>
                        <p:par>
                          <p:cTn id="2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3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6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7" nodeType="clickEffect" fill="hold">
                      <p:stCondLst>
                        <p:cond delay="indefinite"/>
                      </p:stCondLst>
                      <p:childTnLst>
                        <p:par>
                          <p:cTn id="2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1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4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5" nodeType="clickEffect" fill="hold">
                      <p:stCondLst>
                        <p:cond delay="indefinite"/>
                      </p:stCondLst>
                      <p:childTnLst>
                        <p:par>
                          <p:cTn id="2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9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2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609480" y="1305000"/>
            <a:ext cx="830592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entukan turunan berarah dari f(x,y) = 4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ada titi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506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(2,1) dalam arah vek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88E9-0130-4473-A01F-26387495867F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0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5CCA-FBB8-4727-9BC1-C6B4C9DEB2CC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0" name="Object 7"/>
              <p:cNvSpPr txBox="1"/>
              <p:nvPr/>
            </p:nvSpPr>
            <p:spPr>
              <a:xfrm>
                <a:off x="4654440" y="1665360"/>
                <a:ext cx="15940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11" name="Text Box 8"/>
          <p:cNvSpPr/>
          <p:nvPr/>
        </p:nvSpPr>
        <p:spPr>
          <a:xfrm>
            <a:off x="1040400" y="2127240"/>
            <a:ext cx="999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wab: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2" name="Object 10"/>
              <p:cNvSpPr txBox="1"/>
              <p:nvPr/>
            </p:nvSpPr>
            <p:spPr>
              <a:xfrm>
                <a:off x="1219320" y="2533680"/>
                <a:ext cx="42177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13" name="Text Box 11"/>
          <p:cNvSpPr/>
          <p:nvPr/>
        </p:nvSpPr>
        <p:spPr>
          <a:xfrm>
            <a:off x="1364040" y="2965320"/>
            <a:ext cx="6476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Vektor </a:t>
            </a:r>
            <a:r>
              <a:rPr b="1" lang="en-US" sz="2100" spc="-1" strike="noStrike">
                <a:solidFill>
                  <a:srgbClr val="336699"/>
                </a:solidFill>
                <a:latin typeface="Verdana"/>
              </a:rPr>
              <a:t>u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diperoleh dengan menormalkan vektor </a:t>
            </a:r>
            <a:r>
              <a:rPr b="1" lang="en-US" sz="2100" spc="-1" strike="noStrike">
                <a:solidFill>
                  <a:srgbClr val="336699"/>
                </a:solidFill>
                <a:latin typeface="Verdana"/>
              </a:rPr>
              <a:t>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14" name="Text Box 12"/>
          <p:cNvSpPr/>
          <p:nvPr/>
        </p:nvSpPr>
        <p:spPr>
          <a:xfrm>
            <a:off x="1595520" y="4114800"/>
            <a:ext cx="19382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x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)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=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1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 x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5" name="Object 13"/>
              <p:cNvSpPr txBox="1"/>
              <p:nvPr/>
            </p:nvSpPr>
            <p:spPr>
              <a:xfrm>
                <a:off x="2448000" y="3284640"/>
                <a:ext cx="38005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 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3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16" name="Text Box 14"/>
          <p:cNvSpPr/>
          <p:nvPr/>
        </p:nvSpPr>
        <p:spPr>
          <a:xfrm>
            <a:off x="4783320" y="4114800"/>
            <a:ext cx="26438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x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2, 1)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=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12.2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.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1 =48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17" name="Text Box 15"/>
          <p:cNvSpPr/>
          <p:nvPr/>
        </p:nvSpPr>
        <p:spPr>
          <a:xfrm>
            <a:off x="1508040" y="4540320"/>
            <a:ext cx="15476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y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)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=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4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 x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3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18" name="Text Box 16"/>
          <p:cNvSpPr/>
          <p:nvPr/>
        </p:nvSpPr>
        <p:spPr>
          <a:xfrm>
            <a:off x="4710600" y="4540320"/>
            <a:ext cx="22705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x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2, 1)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=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4.2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3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3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9" name="Object 17"/>
              <p:cNvSpPr txBox="1"/>
              <p:nvPr/>
            </p:nvSpPr>
            <p:spPr>
              <a:xfrm>
                <a:off x="2743200" y="4952880"/>
                <a:ext cx="42181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20" name="Text Box 19"/>
          <p:cNvSpPr/>
          <p:nvPr/>
        </p:nvSpPr>
        <p:spPr>
          <a:xfrm>
            <a:off x="1180080" y="4921200"/>
            <a:ext cx="1354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ehingg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21" name="Text Box 20"/>
          <p:cNvSpPr/>
          <p:nvPr/>
        </p:nvSpPr>
        <p:spPr>
          <a:xfrm>
            <a:off x="4128120" y="5403960"/>
            <a:ext cx="2789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48 . (4/5) + 32 . (3/5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22" name="Text Box 21"/>
          <p:cNvSpPr/>
          <p:nvPr/>
        </p:nvSpPr>
        <p:spPr>
          <a:xfrm>
            <a:off x="3901680" y="5835600"/>
            <a:ext cx="111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288/5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23" name="Text Box 22"/>
          <p:cNvSpPr/>
          <p:nvPr/>
        </p:nvSpPr>
        <p:spPr>
          <a:xfrm>
            <a:off x="3714120" y="405288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24" name="Text Box 23"/>
          <p:cNvSpPr/>
          <p:nvPr/>
        </p:nvSpPr>
        <p:spPr>
          <a:xfrm>
            <a:off x="3712680" y="446580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2993" dur="indefinite" restart="never" nodeType="tmRoot">
          <p:childTnLst>
            <p:seq>
              <p:cTn id="2994" dur="indefinite" nodeType="mainSeq">
                <p:childTnLst>
                  <p:par>
                    <p:cTn id="2995" nodeType="clickEffect" fill="hold">
                      <p:stCondLst>
                        <p:cond delay="0"/>
                      </p:stCondLst>
                      <p:childTnLst>
                        <p:par>
                          <p:cTn id="2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3" dur="500"/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7" dur="500"/>
                                        <p:tgtEl>
                                          <p:spTgt spid="1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0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1" nodeType="clickEffect" fill="hold">
                      <p:stCondLst>
                        <p:cond delay="indefinite"/>
                      </p:stCondLst>
                      <p:childTnLst>
                        <p:par>
                          <p:cTn id="3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5" dur="80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6" dur="80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7" dur="80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0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1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2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3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4" nodeType="clickEffect" fill="hold">
                      <p:stCondLst>
                        <p:cond delay="indefinite"/>
                      </p:stCondLst>
                      <p:childTnLst>
                        <p:par>
                          <p:cTn id="3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8" dur="80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9" dur="80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0" dur="80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3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4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5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6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7" nodeType="clickEffect" fill="hold">
                      <p:stCondLst>
                        <p:cond delay="indefinite"/>
                      </p:stCondLst>
                      <p:childTnLst>
                        <p:par>
                          <p:cTn id="3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1" dur="80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2" dur="80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3" dur="80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4" nodeType="clickEffect" fill="hold">
                      <p:stCondLst>
                        <p:cond delay="indefinite"/>
                      </p:stCondLst>
                      <p:childTnLst>
                        <p:par>
                          <p:cTn id="3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8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9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0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1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4" dur="80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5" dur="80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6" dur="80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7" nodeType="clickEffect" fill="hold">
                      <p:stCondLst>
                        <p:cond delay="indefinite"/>
                      </p:stCondLst>
                      <p:childTnLst>
                        <p:par>
                          <p:cTn id="3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1" dur="80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2" dur="80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3" dur="80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4" nodeType="clickEffect" fill="hold">
                      <p:stCondLst>
                        <p:cond delay="indefinite"/>
                      </p:stCondLst>
                      <p:childTnLst>
                        <p:par>
                          <p:cTn id="3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8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9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0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1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4" dur="80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5" dur="80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6" dur="80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7" nodeType="clickEffect" fill="hold">
                      <p:stCondLst>
                        <p:cond delay="indefinite"/>
                      </p:stCondLst>
                      <p:childTnLst>
                        <p:par>
                          <p:cTn id="3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1" dur="80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2" dur="80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3" dur="80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6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7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8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9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0" nodeType="clickEffect" fill="hold">
                      <p:stCondLst>
                        <p:cond delay="indefinite"/>
                      </p:stCondLst>
                      <p:childTnLst>
                        <p:par>
                          <p:cTn id="3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4" dur="8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5" dur="8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6" dur="8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7" nodeType="clickEffect" fill="hold">
                      <p:stCondLst>
                        <p:cond delay="indefinite"/>
                      </p:stCondLst>
                      <p:childTnLst>
                        <p:par>
                          <p:cTn id="3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1" dur="8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2" dur="8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3" dur="8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609480" y="837720"/>
            <a:ext cx="830592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ntukan turunan berarah dari f(x,y,z) =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ada titik P(1,2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2) dalam arah vek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85B5-9881-45FF-8D67-539A080218A0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9A3F-73AF-459D-B31E-EB74800880CB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0" name="Object 4"/>
              <p:cNvSpPr txBox="1"/>
              <p:nvPr/>
            </p:nvSpPr>
            <p:spPr>
              <a:xfrm>
                <a:off x="6629400" y="1752480"/>
                <a:ext cx="20271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31" name="Text Box 5"/>
          <p:cNvSpPr/>
          <p:nvPr/>
        </p:nvSpPr>
        <p:spPr>
          <a:xfrm>
            <a:off x="919440" y="1998720"/>
            <a:ext cx="999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wab: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2" name="Object 6"/>
              <p:cNvSpPr txBox="1"/>
              <p:nvPr/>
            </p:nvSpPr>
            <p:spPr>
              <a:xfrm>
                <a:off x="1047600" y="2382840"/>
                <a:ext cx="713772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3" name="Text Box 7"/>
          <p:cNvSpPr/>
          <p:nvPr/>
        </p:nvSpPr>
        <p:spPr>
          <a:xfrm>
            <a:off x="1243080" y="3138480"/>
            <a:ext cx="6476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Vektor </a:t>
            </a:r>
            <a:r>
              <a:rPr b="1" lang="en-US" sz="2100" spc="-1" strike="noStrike">
                <a:solidFill>
                  <a:srgbClr val="336699"/>
                </a:solidFill>
                <a:latin typeface="Verdana"/>
              </a:rPr>
              <a:t>u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diperoleh dengan menormalkan vektor </a:t>
            </a:r>
            <a:r>
              <a:rPr b="1" lang="en-US" sz="2100" spc="-1" strike="noStrike">
                <a:solidFill>
                  <a:srgbClr val="336699"/>
                </a:solidFill>
                <a:latin typeface="Verdana"/>
              </a:rPr>
              <a:t>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34" name="Text Box 8"/>
          <p:cNvSpPr/>
          <p:nvPr/>
        </p:nvSpPr>
        <p:spPr>
          <a:xfrm>
            <a:off x="1456200" y="4430880"/>
            <a:ext cx="206136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x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,z)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= 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sinz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5" name="Object 9"/>
              <p:cNvSpPr txBox="1"/>
              <p:nvPr/>
            </p:nvSpPr>
            <p:spPr>
              <a:xfrm>
                <a:off x="1838160" y="3537000"/>
                <a:ext cx="50515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36" name="Text Box 10"/>
          <p:cNvSpPr/>
          <p:nvPr/>
        </p:nvSpPr>
        <p:spPr>
          <a:xfrm>
            <a:off x="4689000" y="4432320"/>
            <a:ext cx="31982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x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1,2,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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/2)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=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2 sin(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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/2) =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37" name="Text Box 11"/>
          <p:cNvSpPr/>
          <p:nvPr/>
        </p:nvSpPr>
        <p:spPr>
          <a:xfrm>
            <a:off x="1405440" y="4902120"/>
            <a:ext cx="198648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y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,z)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= 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sin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z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38" name="Text Box 12"/>
          <p:cNvSpPr/>
          <p:nvPr/>
        </p:nvSpPr>
        <p:spPr>
          <a:xfrm>
            <a:off x="4660200" y="4903920"/>
            <a:ext cx="326988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x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1,2,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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/2)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=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1.sin(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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/2) =1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39" name="Text Box 17"/>
          <p:cNvSpPr/>
          <p:nvPr/>
        </p:nvSpPr>
        <p:spPr>
          <a:xfrm>
            <a:off x="3780720" y="436896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40" name="Text Box 18"/>
          <p:cNvSpPr/>
          <p:nvPr/>
        </p:nvSpPr>
        <p:spPr>
          <a:xfrm>
            <a:off x="3779280" y="482760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41" name="Text Box 19"/>
          <p:cNvSpPr/>
          <p:nvPr/>
        </p:nvSpPr>
        <p:spPr>
          <a:xfrm>
            <a:off x="1403280" y="5394240"/>
            <a:ext cx="21650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z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,z)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= x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cos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z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42" name="Text Box 20"/>
          <p:cNvSpPr/>
          <p:nvPr/>
        </p:nvSpPr>
        <p:spPr>
          <a:xfrm>
            <a:off x="4664520" y="5396040"/>
            <a:ext cx="354276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z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1,2,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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/2)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=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1.2 cos(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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/2) =0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43" name="Text Box 21"/>
          <p:cNvSpPr/>
          <p:nvPr/>
        </p:nvSpPr>
        <p:spPr>
          <a:xfrm>
            <a:off x="3763440" y="531972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3104" dur="indefinite" restart="never" nodeType="tmRoot">
          <p:childTnLst>
            <p:seq>
              <p:cTn id="3105" dur="indefinite" nodeType="mainSeq">
                <p:childTnLst>
                  <p:par>
                    <p:cTn id="3106" nodeType="clickEffect" fill="hold">
                      <p:stCondLst>
                        <p:cond delay="0"/>
                      </p:stCondLst>
                      <p:childTnLst>
                        <p:par>
                          <p:cTn id="3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4" dur="500"/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7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8" nodeType="clickEffect" fill="hold">
                      <p:stCondLst>
                        <p:cond delay="indefinite"/>
                      </p:stCondLst>
                      <p:childTnLst>
                        <p:par>
                          <p:cTn id="3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2" dur="80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3" dur="80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4" dur="80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7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8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9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1" nodeType="clickEffect" fill="hold">
                      <p:stCondLst>
                        <p:cond delay="indefinite"/>
                      </p:stCondLst>
                      <p:childTnLst>
                        <p:par>
                          <p:cTn id="3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5" dur="80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6" dur="80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7" dur="80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0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1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2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3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4" nodeType="clickEffect" fill="hold">
                      <p:stCondLst>
                        <p:cond delay="indefinite"/>
                      </p:stCondLst>
                      <p:childTnLst>
                        <p:par>
                          <p:cTn id="3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8" dur="80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9" dur="80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0" dur="80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1" nodeType="clickEffect" fill="hold">
                      <p:stCondLst>
                        <p:cond delay="indefinite"/>
                      </p:stCondLst>
                      <p:childTnLst>
                        <p:par>
                          <p:cTn id="3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5" dur="1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6" dur="1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7" dur="1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8" dur="1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1" dur="80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2" dur="80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3" dur="80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4" nodeType="clickEffect" fill="hold">
                      <p:stCondLst>
                        <p:cond delay="indefinite"/>
                      </p:stCondLst>
                      <p:childTnLst>
                        <p:par>
                          <p:cTn id="3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8" dur="80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9" dur="80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0" dur="80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1" nodeType="clickEffect" fill="hold">
                      <p:stCondLst>
                        <p:cond delay="indefinite"/>
                      </p:stCondLst>
                      <p:childTnLst>
                        <p:par>
                          <p:cTn id="3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5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6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7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8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1" dur="80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2" dur="80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3" dur="80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4" nodeType="clickEffect" fill="hold">
                      <p:stCondLst>
                        <p:cond delay="indefinite"/>
                      </p:stCondLst>
                      <p:childTnLst>
                        <p:par>
                          <p:cTn id="3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8" dur="80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9" dur="80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0" dur="80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1" nodeType="clickEffect" fill="hold">
                      <p:stCondLst>
                        <p:cond delay="indefinite"/>
                      </p:stCondLst>
                      <p:childTnLst>
                        <p:par>
                          <p:cTn id="3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5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6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7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8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1" dur="80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2" dur="80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3" dur="80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 (Lanjuta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5446-A7DF-4A45-BE34-763081711486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4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1CCA-F9EF-4626-8568-5F70CBE28EB8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8" name="Object 13"/>
              <p:cNvSpPr txBox="1"/>
              <p:nvPr/>
            </p:nvSpPr>
            <p:spPr>
              <a:xfrm>
                <a:off x="1281240" y="1870200"/>
                <a:ext cx="713880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9" name="Text Box 14"/>
          <p:cNvSpPr/>
          <p:nvPr/>
        </p:nvSpPr>
        <p:spPr>
          <a:xfrm>
            <a:off x="1103760" y="1523880"/>
            <a:ext cx="1354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ehingg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50" name="Text Box 15"/>
          <p:cNvSpPr/>
          <p:nvPr/>
        </p:nvSpPr>
        <p:spPr>
          <a:xfrm>
            <a:off x="4276440" y="2631960"/>
            <a:ext cx="3707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2 . (1/3) + 1 . (2/3) + 0 . (2/3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51" name="Text Box 16"/>
          <p:cNvSpPr/>
          <p:nvPr/>
        </p:nvSpPr>
        <p:spPr>
          <a:xfrm>
            <a:off x="3881160" y="3111480"/>
            <a:ext cx="807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4/3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3204" dur="indefinite" restart="never" nodeType="tmRoot">
          <p:childTnLst>
            <p:seq>
              <p:cTn id="3205" dur="indefinite" nodeType="mainSeq">
                <p:childTnLst>
                  <p:par>
                    <p:cTn id="3206" nodeType="clickEffect" fill="hold">
                      <p:stCondLst>
                        <p:cond delay="0"/>
                      </p:stCondLst>
                      <p:childTnLst>
                        <p:par>
                          <p:cTn id="3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1" nodeType="clickEffect" fill="hold">
                      <p:stCondLst>
                        <p:cond delay="indefinite"/>
                      </p:stCondLst>
                      <p:childTnLst>
                        <p:par>
                          <p:cTn id="3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5" dur="80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6" dur="80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7" dur="80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0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1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2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3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4" nodeType="clickEffect" fill="hold">
                      <p:stCondLst>
                        <p:cond delay="indefinite"/>
                      </p:stCondLst>
                      <p:childTnLst>
                        <p:par>
                          <p:cTn id="3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8" dur="80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9" dur="80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0" dur="80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1" nodeType="clickEffect" fill="hold">
                      <p:stCondLst>
                        <p:cond delay="indefinite"/>
                      </p:stCondLst>
                      <p:childTnLst>
                        <p:par>
                          <p:cTn id="3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5" dur="80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6" dur="80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7" dur="80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ih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CB9B-01A1-4D78-AF67-4C9E32F34FCB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34E4-8BD7-41FF-9A71-2CE00468C141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56" name="Text Box 3"/>
          <p:cNvSpPr/>
          <p:nvPr/>
        </p:nvSpPr>
        <p:spPr>
          <a:xfrm>
            <a:off x="419760" y="1365120"/>
            <a:ext cx="7272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entukan turunan berarah fungsi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pada titik P yang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iberikan dalam vektor </a:t>
            </a:r>
            <a:r>
              <a:rPr b="1" lang="en-US" sz="2100" spc="-1" strike="noStrike">
                <a:solidFill>
                  <a:srgbClr val="336699"/>
                </a:solidFill>
                <a:latin typeface="Verdana"/>
              </a:rPr>
              <a:t>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57" name="Text Box 4"/>
          <p:cNvSpPr/>
          <p:nvPr/>
        </p:nvSpPr>
        <p:spPr>
          <a:xfrm>
            <a:off x="1188720" y="2050920"/>
            <a:ext cx="4572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a.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(x,y) = y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ln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,  P(1, 4), </a:t>
            </a:r>
            <a:r>
              <a:rPr b="1" lang="en-US" sz="2100" spc="-1" strike="noStrike">
                <a:solidFill>
                  <a:srgbClr val="336699"/>
                </a:solidFill>
                <a:latin typeface="Verdana"/>
              </a:rPr>
              <a:t>a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-3 </a:t>
            </a:r>
            <a:r>
              <a:rPr b="1" lang="en-US" sz="2100" spc="-1" strike="noStrike">
                <a:solidFill>
                  <a:srgbClr val="336699"/>
                </a:solidFill>
                <a:latin typeface="Verdana"/>
              </a:rPr>
              <a:t>i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3 </a:t>
            </a:r>
            <a:r>
              <a:rPr b="1" lang="en-US" sz="2100" spc="-1" strike="noStrike">
                <a:solidFill>
                  <a:srgbClr val="336699"/>
                </a:solidFill>
                <a:latin typeface="Verdana"/>
              </a:rPr>
              <a:t>j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58" name="Text Box 5"/>
          <p:cNvSpPr/>
          <p:nvPr/>
        </p:nvSpPr>
        <p:spPr>
          <a:xfrm>
            <a:off x="1225800" y="2416320"/>
            <a:ext cx="4744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b.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(x,y) = xe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y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–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e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,  P(0, 0), </a:t>
            </a:r>
            <a:r>
              <a:rPr b="1" lang="en-US" sz="2100" spc="-1" strike="noStrike">
                <a:solidFill>
                  <a:srgbClr val="336699"/>
                </a:solidFill>
                <a:latin typeface="Verdana"/>
              </a:rPr>
              <a:t>a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5 </a:t>
            </a:r>
            <a:r>
              <a:rPr b="1" lang="en-US" sz="2100" spc="-1" strike="noStrike">
                <a:solidFill>
                  <a:srgbClr val="336699"/>
                </a:solidFill>
                <a:latin typeface="Verdana"/>
              </a:rPr>
              <a:t>i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 2 </a:t>
            </a:r>
            <a:r>
              <a:rPr b="1" lang="en-US" sz="2100" spc="-1" strike="noStrike">
                <a:solidFill>
                  <a:srgbClr val="336699"/>
                </a:solidFill>
                <a:latin typeface="Verdana"/>
              </a:rPr>
              <a:t>j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59" name="Text Box 6"/>
          <p:cNvSpPr/>
          <p:nvPr/>
        </p:nvSpPr>
        <p:spPr>
          <a:xfrm>
            <a:off x="1242360" y="2827440"/>
            <a:ext cx="4506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c.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(x,y) = e 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–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xy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 P(1, –1), </a:t>
            </a:r>
            <a:r>
              <a:rPr b="1" lang="en-US" sz="2100" spc="-1" strike="noStrike">
                <a:solidFill>
                  <a:srgbClr val="336699"/>
                </a:solidFill>
                <a:latin typeface="Verdana"/>
              </a:rPr>
              <a:t>a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– </a:t>
            </a:r>
            <a:r>
              <a:rPr b="1" lang="en-US" sz="2100" spc="-1" strike="noStrike">
                <a:solidFill>
                  <a:srgbClr val="336699"/>
                </a:solidFill>
                <a:latin typeface="Verdana"/>
              </a:rPr>
              <a:t>i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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3 </a:t>
            </a:r>
            <a:r>
              <a:rPr b="1" lang="en-US" sz="2100" spc="-1" strike="noStrike">
                <a:solidFill>
                  <a:srgbClr val="336699"/>
                </a:solidFill>
                <a:latin typeface="Verdana"/>
              </a:rPr>
              <a:t>j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60" name="Text Box 7"/>
          <p:cNvSpPr/>
          <p:nvPr/>
        </p:nvSpPr>
        <p:spPr>
          <a:xfrm>
            <a:off x="1370520" y="3198960"/>
            <a:ext cx="6840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.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(x,y) = x/(x+y)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 di P(1, 1) dalam arah ke titik Q(-1,-1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61" name="Text Box 8"/>
          <p:cNvSpPr/>
          <p:nvPr/>
        </p:nvSpPr>
        <p:spPr>
          <a:xfrm>
            <a:off x="1305360" y="3579840"/>
            <a:ext cx="7061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e.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(x,y,z) = xy+z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di P(1,1,1) dalam arah ke titik Q(5,-3,3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62" name="Text Box 9"/>
          <p:cNvSpPr/>
          <p:nvPr/>
        </p:nvSpPr>
        <p:spPr>
          <a:xfrm>
            <a:off x="-5400" y="3962520"/>
            <a:ext cx="9244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entukan suatu vektor satuan </a:t>
            </a:r>
            <a:r>
              <a:rPr b="1" lang="en-US" sz="2100" spc="-1" strike="noStrike">
                <a:solidFill>
                  <a:srgbClr val="336699"/>
                </a:solidFill>
                <a:latin typeface="Verdana"/>
              </a:rPr>
              <a:t>u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alam arah mana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bertambah (dan berkurang)paling cepat di titik P dan berapa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laju perubahan dalam arah ini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63" name="Text Box 10"/>
          <p:cNvSpPr/>
          <p:nvPr/>
        </p:nvSpPr>
        <p:spPr>
          <a:xfrm>
            <a:off x="1112400" y="4952880"/>
            <a:ext cx="3177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a.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(x,y) = x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3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– y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5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,  P(2, –1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64" name="Text Box 11"/>
          <p:cNvSpPr/>
          <p:nvPr/>
        </p:nvSpPr>
        <p:spPr>
          <a:xfrm>
            <a:off x="1073160" y="5303880"/>
            <a:ext cx="3527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b.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(x,y) = e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y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in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,  P(5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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/6,0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65" name="Text Box 12"/>
          <p:cNvSpPr/>
          <p:nvPr/>
        </p:nvSpPr>
        <p:spPr>
          <a:xfrm>
            <a:off x="1069200" y="5683320"/>
            <a:ext cx="2993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c.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(x,y) = 4x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3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,  P(–1,1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66" name="Text Box 13"/>
          <p:cNvSpPr/>
          <p:nvPr/>
        </p:nvSpPr>
        <p:spPr>
          <a:xfrm>
            <a:off x="5228640" y="4952880"/>
            <a:ext cx="3286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.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(x,y) = 1–x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–y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,  P(–1,2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3238" dur="indefinite" restart="never" nodeType="tmRoot">
          <p:childTnLst>
            <p:seq>
              <p:cTn id="3239" dur="indefinite" nodeType="mainSeq">
                <p:childTnLst>
                  <p:par>
                    <p:cTn id="3240" nodeType="clickEffect" fill="hold">
                      <p:stCondLst>
                        <p:cond delay="0"/>
                      </p:stCondLst>
                      <p:childTnLst>
                        <p:par>
                          <p:cTn id="3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5" nodeType="clickEffect" fill="hold">
                      <p:stCondLst>
                        <p:cond delay="indefinite"/>
                      </p:stCondLst>
                      <p:childTnLst>
                        <p:par>
                          <p:cTn id="3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9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0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1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2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5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6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7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8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1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2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3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4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7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8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9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0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3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4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5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6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9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0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1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2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3" nodeType="clickEffect" fill="hold">
                      <p:stCondLst>
                        <p:cond delay="indefinite"/>
                      </p:stCondLst>
                      <p:childTnLst>
                        <p:par>
                          <p:cTn id="3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7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8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9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0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3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4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5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6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9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0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1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2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5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6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7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8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1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2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3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4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ihan (lanjuta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5D64-3F2C-46FC-8076-15B017597663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C173-6176-4F29-95BC-BC5916694912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71" name="Text Box 5"/>
          <p:cNvSpPr/>
          <p:nvPr/>
        </p:nvSpPr>
        <p:spPr>
          <a:xfrm>
            <a:off x="208800" y="1447920"/>
            <a:ext cx="1294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Misal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2" name="Object 17"/>
              <p:cNvSpPr txBox="1"/>
              <p:nvPr/>
            </p:nvSpPr>
            <p:spPr>
              <a:xfrm>
                <a:off x="1447920" y="1290600"/>
                <a:ext cx="20397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3" name="Text Box 19"/>
          <p:cNvSpPr/>
          <p:nvPr/>
        </p:nvSpPr>
        <p:spPr>
          <a:xfrm>
            <a:off x="3115440" y="1433520"/>
            <a:ext cx="2346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.Tentuk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4" name="Object 20"/>
              <p:cNvSpPr txBox="1"/>
              <p:nvPr/>
            </p:nvSpPr>
            <p:spPr>
              <a:xfrm>
                <a:off x="5002200" y="1463760"/>
                <a:ext cx="255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75" name="Text Box 21"/>
          <p:cNvSpPr/>
          <p:nvPr/>
        </p:nvSpPr>
        <p:spPr>
          <a:xfrm>
            <a:off x="4825800" y="1447920"/>
            <a:ext cx="2250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ehingg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6" name="Object 22"/>
              <p:cNvSpPr txBox="1"/>
              <p:nvPr/>
            </p:nvSpPr>
            <p:spPr>
              <a:xfrm>
                <a:off x="6630840" y="1488960"/>
                <a:ext cx="17193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7" name="Text Box 23"/>
          <p:cNvSpPr/>
          <p:nvPr/>
        </p:nvSpPr>
        <p:spPr>
          <a:xfrm>
            <a:off x="269280" y="2192400"/>
            <a:ext cx="1070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ik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8" name="Object 24"/>
              <p:cNvSpPr txBox="1"/>
              <p:nvPr/>
            </p:nvSpPr>
            <p:spPr>
              <a:xfrm>
                <a:off x="1371600" y="2184480"/>
                <a:ext cx="2479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2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79" name="Text Box 25"/>
          <p:cNvSpPr/>
          <p:nvPr/>
        </p:nvSpPr>
        <p:spPr>
          <a:xfrm>
            <a:off x="3334680" y="2193840"/>
            <a:ext cx="2346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Tentuk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0" name="Object 26"/>
              <p:cNvSpPr txBox="1"/>
              <p:nvPr/>
            </p:nvSpPr>
            <p:spPr>
              <a:xfrm>
                <a:off x="5221440" y="2224080"/>
                <a:ext cx="255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81" name="Text Box 27"/>
          <p:cNvSpPr/>
          <p:nvPr/>
        </p:nvSpPr>
        <p:spPr>
          <a:xfrm>
            <a:off x="5044680" y="2208240"/>
            <a:ext cx="2250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ehingg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2" name="Object 28"/>
              <p:cNvSpPr txBox="1"/>
              <p:nvPr/>
            </p:nvSpPr>
            <p:spPr>
              <a:xfrm>
                <a:off x="6883560" y="2249640"/>
                <a:ext cx="21841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3" name="Text Box 29"/>
          <p:cNvSpPr/>
          <p:nvPr/>
        </p:nvSpPr>
        <p:spPr>
          <a:xfrm>
            <a:off x="264600" y="2800440"/>
            <a:ext cx="1837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iketahui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84" name="Text Box 31"/>
          <p:cNvSpPr/>
          <p:nvPr/>
        </p:nvSpPr>
        <p:spPr>
          <a:xfrm>
            <a:off x="3678480" y="2801880"/>
            <a:ext cx="15235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ik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5" name="Object 34"/>
              <p:cNvSpPr txBox="1"/>
              <p:nvPr/>
            </p:nvSpPr>
            <p:spPr>
              <a:xfrm>
                <a:off x="2286000" y="2835360"/>
                <a:ext cx="1859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6" name="Text Box 35"/>
          <p:cNvSpPr/>
          <p:nvPr/>
        </p:nvSpPr>
        <p:spPr>
          <a:xfrm>
            <a:off x="3678480" y="3497400"/>
            <a:ext cx="15235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ik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7" name="Object 36"/>
              <p:cNvSpPr txBox="1"/>
              <p:nvPr/>
            </p:nvSpPr>
            <p:spPr>
              <a:xfrm>
                <a:off x="2286000" y="3530520"/>
                <a:ext cx="185904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8" name="Rectangle 37"/>
          <p:cNvSpPr/>
          <p:nvPr/>
        </p:nvSpPr>
        <p:spPr>
          <a:xfrm>
            <a:off x="6639480" y="2787480"/>
            <a:ext cx="659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9" name="Object 38"/>
              <p:cNvSpPr txBox="1"/>
              <p:nvPr/>
            </p:nvSpPr>
            <p:spPr>
              <a:xfrm>
                <a:off x="4786200" y="2654280"/>
                <a:ext cx="171936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0" name="Object 40"/>
              <p:cNvSpPr txBox="1"/>
              <p:nvPr/>
            </p:nvSpPr>
            <p:spPr>
              <a:xfrm>
                <a:off x="4826160" y="3352680"/>
                <a:ext cx="17190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91" name="Text Box 46"/>
          <p:cNvSpPr/>
          <p:nvPr/>
        </p:nvSpPr>
        <p:spPr>
          <a:xfrm>
            <a:off x="1100160" y="4083120"/>
            <a:ext cx="375876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a. Tentukan 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1,2) dan 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1,2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92" name="Text Box 47"/>
          <p:cNvSpPr/>
          <p:nvPr/>
        </p:nvSpPr>
        <p:spPr>
          <a:xfrm>
            <a:off x="1238400" y="4616280"/>
            <a:ext cx="7357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b. Tentukan turunan berarah f di (1,2) dalam arah ke (0,0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3315" dur="indefinite" restart="never" nodeType="tmRoot">
          <p:childTnLst>
            <p:seq>
              <p:cTn id="3316" dur="indefinite" nodeType="mainSeq">
                <p:childTnLst>
                  <p:par>
                    <p:cTn id="3317" nodeType="clickEffect" fill="hold">
                      <p:stCondLst>
                        <p:cond delay="0"/>
                      </p:stCondLst>
                      <p:childTnLst>
                        <p:par>
                          <p:cTn id="3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2" nodeType="clickEffect" fill="hold">
                      <p:stCondLst>
                        <p:cond delay="indefinite"/>
                      </p:stCondLst>
                      <p:childTnLst>
                        <p:par>
                          <p:cTn id="3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6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7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8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9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2" dur="1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3" dur="1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4" dur="1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5" dur="1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8" dur="10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9" dur="10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0" dur="10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1" dur="10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4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5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6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7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0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1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2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3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6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7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8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9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0" nodeType="clickEffect" fill="hold">
                      <p:stCondLst>
                        <p:cond delay="indefinite"/>
                      </p:stCondLst>
                      <p:childTnLst>
                        <p:par>
                          <p:cTn id="3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4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5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6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7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0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1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2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3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6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7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8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9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2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3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4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5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8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9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0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1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4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5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6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7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8" nodeType="clickEffect" fill="hold">
                      <p:stCondLst>
                        <p:cond delay="indefinite"/>
                      </p:stCondLst>
                      <p:childTnLst>
                        <p:par>
                          <p:cTn id="3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2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6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0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4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8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2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6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0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4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8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dang Singg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361440" y="16002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504d"/>
                </a:solidFill>
                <a:latin typeface="Calibri"/>
              </a:rPr>
              <a:t>Definisi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isalkan suatu permukaan S mempunyai persamaan F(x,y,z) = k. Maka bidang singgung dari S pada titik P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a,b,c) adalah sebuah bidang yang melalui P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dan tegak lurus pada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F477-361E-4B3E-A399-4A08A0AF13CD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882A-30F1-4650-96ED-6F1220D2DB9E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8" name="Object 4"/>
              <p:cNvSpPr txBox="1"/>
              <p:nvPr/>
            </p:nvSpPr>
            <p:spPr>
              <a:xfrm>
                <a:off x="5257800" y="2620800"/>
                <a:ext cx="137160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9" name="Rectangle 5"/>
          <p:cNvSpPr/>
          <p:nvPr/>
        </p:nvSpPr>
        <p:spPr>
          <a:xfrm>
            <a:off x="871560" y="3150000"/>
            <a:ext cx="6732360" cy="28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0504d"/>
                </a:solidFill>
                <a:latin typeface="Verdana"/>
              </a:rPr>
              <a:t>Teorema: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permukaan F(x, y, z) = k,  persamaan  bidang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inggung di  titik  (a, b, c) adalah : 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a,b,c) 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a) + 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a,b,c) 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b) + 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z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a,b,c) 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z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c) = 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ika permukaan 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z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f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maka  persamaan bidang 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inggung di (a, b, f(a, b)) adalah :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         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z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– f(a,b)  =  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a,b) 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– a) + 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a,b) 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– b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3439" dur="indefinite" restart="never" nodeType="tmRoot">
          <p:childTnLst>
            <p:seq>
              <p:cTn id="3440" dur="indefinite" nodeType="mainSeq">
                <p:childTnLst>
                  <p:par>
                    <p:cTn id="3441" nodeType="clickEffect" fill="hold">
                      <p:stCondLst>
                        <p:cond delay="0"/>
                      </p:stCondLst>
                      <p:childTnLst>
                        <p:par>
                          <p:cTn id="3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5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6" nodeType="clickEffect" fill="hold">
                      <p:stCondLst>
                        <p:cond delay="indefinite"/>
                      </p:stCondLst>
                      <p:childTnLst>
                        <p:par>
                          <p:cTn id="3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7" dur="3000"/>
                                        <p:tgtEl>
                                          <p:spTgt spid="1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0" dur="3000"/>
                                        <p:tgtEl>
                                          <p:spTgt spid="1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3" dur="3000"/>
                                        <p:tgtEl>
                                          <p:spTgt spid="1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4" nodeType="clickEffect" fill="hold">
                      <p:stCondLst>
                        <p:cond delay="indefinite"/>
                      </p:stCondLst>
                      <p:childTnLst>
                        <p:par>
                          <p:cTn id="3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8" dur="1000"/>
                                        <p:tgtEl>
                                          <p:spTgt spid="1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1" dur="1000"/>
                                        <p:tgtEl>
                                          <p:spTgt spid="1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4" dur="1000"/>
                                        <p:tgtEl>
                                          <p:spTgt spid="1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9BA5-E58F-4E2E-BB9F-49104BDA63F5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7759-40E2-4EE2-8B7F-7B1BC3982132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04" name="Text Box 4"/>
          <p:cNvSpPr/>
          <p:nvPr/>
        </p:nvSpPr>
        <p:spPr>
          <a:xfrm>
            <a:off x="866880" y="1441440"/>
            <a:ext cx="7567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1. Tentukan persamaan bidang singgung dari garis normal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05" name="Text Box 5"/>
          <p:cNvSpPr/>
          <p:nvPr/>
        </p:nvSpPr>
        <p:spPr>
          <a:xfrm>
            <a:off x="1467000" y="1797120"/>
            <a:ext cx="5424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permukaan 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2z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23 di titik (1, 2, 3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06" name="Text Box 6"/>
          <p:cNvSpPr/>
          <p:nvPr/>
        </p:nvSpPr>
        <p:spPr>
          <a:xfrm>
            <a:off x="1422720" y="2330280"/>
            <a:ext cx="4735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wab: Misalkan F(x,y,z) = 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2z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7" name="Object 8"/>
              <p:cNvSpPr txBox="1"/>
              <p:nvPr/>
            </p:nvSpPr>
            <p:spPr>
              <a:xfrm>
                <a:off x="1290600" y="2857680"/>
                <a:ext cx="38908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z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208" name="Text Box 11"/>
          <p:cNvSpPr/>
          <p:nvPr/>
        </p:nvSpPr>
        <p:spPr>
          <a:xfrm>
            <a:off x="1300320" y="3917880"/>
            <a:ext cx="6514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di persamaan bidang singgung di (1, 2, 3) adalah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9" name="Object 12"/>
              <p:cNvSpPr txBox="1"/>
              <p:nvPr/>
            </p:nvSpPr>
            <p:spPr>
              <a:xfrm>
                <a:off x="1295280" y="3384720"/>
                <a:ext cx="340704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210" name="Text Box 13"/>
          <p:cNvSpPr/>
          <p:nvPr/>
        </p:nvSpPr>
        <p:spPr>
          <a:xfrm>
            <a:off x="1895760" y="4435560"/>
            <a:ext cx="4146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2(x – 1) + 4(y + 2) + 12 (z – 2) = 0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11" name="Text Box 14"/>
          <p:cNvSpPr/>
          <p:nvPr/>
        </p:nvSpPr>
        <p:spPr>
          <a:xfrm>
            <a:off x="1599120" y="4997520"/>
            <a:ext cx="2515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2x + 4y + 12 z = 46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3475" dur="indefinite" restart="never" nodeType="tmRoot">
          <p:childTnLst>
            <p:seq>
              <p:cTn id="3476" dur="indefinite" nodeType="mainSeq">
                <p:childTnLst>
                  <p:par>
                    <p:cTn id="3477" nodeType="clickEffect" fill="hold">
                      <p:stCondLst>
                        <p:cond delay="0"/>
                      </p:stCondLst>
                      <p:childTnLst>
                        <p:par>
                          <p:cTn id="3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1" dur="80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2" dur="80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3" dur="80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6" dur="80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7" dur="80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8" dur="80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9" nodeType="clickEffect" fill="hold">
                      <p:stCondLst>
                        <p:cond delay="indefinite"/>
                      </p:stCondLst>
                      <p:childTnLst>
                        <p:par>
                          <p:cTn id="3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3" dur="80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4" dur="80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5" dur="80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6" nodeType="clickEffect" fill="hold">
                      <p:stCondLst>
                        <p:cond delay="indefinite"/>
                      </p:stCondLst>
                      <p:childTnLst>
                        <p:par>
                          <p:cTn id="3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0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1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2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3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4" nodeType="clickEffect" fill="hold">
                      <p:stCondLst>
                        <p:cond delay="indefinite"/>
                      </p:stCondLst>
                      <p:childTnLst>
                        <p:par>
                          <p:cTn id="3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8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9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0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1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2" nodeType="clickEffect" fill="hold">
                      <p:stCondLst>
                        <p:cond delay="indefinite"/>
                      </p:stCondLst>
                      <p:childTnLst>
                        <p:par>
                          <p:cTn id="3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6" dur="80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7" dur="80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8" dur="80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9" nodeType="clickEffect" fill="hold">
                      <p:stCondLst>
                        <p:cond delay="indefinite"/>
                      </p:stCondLst>
                      <p:childTnLst>
                        <p:par>
                          <p:cTn id="3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3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4" nodeType="clickEffect" fill="hold">
                      <p:stCondLst>
                        <p:cond delay="indefinite"/>
                      </p:stCondLst>
                      <p:childTnLst>
                        <p:par>
                          <p:cTn id="3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8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 (Lanjuta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80D7-3998-46C4-8367-794AB9C84775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1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44C5-118B-40E6-B7B7-CBF809036C70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16" name="Text Box 11"/>
          <p:cNvSpPr/>
          <p:nvPr/>
        </p:nvSpPr>
        <p:spPr>
          <a:xfrm>
            <a:off x="1131480" y="1447920"/>
            <a:ext cx="6103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di persamaan parameter garis normal adalah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7" name="Object 12"/>
              <p:cNvSpPr txBox="1"/>
              <p:nvPr/>
            </p:nvSpPr>
            <p:spPr>
              <a:xfrm>
                <a:off x="3103560" y="3013200"/>
                <a:ext cx="27036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8" name="Text Box 13"/>
          <p:cNvSpPr/>
          <p:nvPr/>
        </p:nvSpPr>
        <p:spPr>
          <a:xfrm>
            <a:off x="2475360" y="2000160"/>
            <a:ext cx="4018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 = 1+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,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y = 2 + 4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 , 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z = 3 + 12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19" name="Text Box 14"/>
          <p:cNvSpPr/>
          <p:nvPr/>
        </p:nvSpPr>
        <p:spPr>
          <a:xfrm>
            <a:off x="1149120" y="2479680"/>
            <a:ext cx="6262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Atau bisa ditulis persamaan simetri garis normal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3529" dur="indefinite" restart="never" nodeType="tmRoot">
          <p:childTnLst>
            <p:seq>
              <p:cTn id="3530" dur="indefinite" nodeType="mainSeq">
                <p:childTnLst>
                  <p:par>
                    <p:cTn id="3531" nodeType="clickEffect" fill="hold">
                      <p:stCondLst>
                        <p:cond delay="indefinite"/>
                      </p:stCondLst>
                      <p:childTnLst>
                        <p:par>
                          <p:cTn id="3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5" dur="80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6" dur="80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7" dur="80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8" nodeType="clickEffect" fill="hold">
                      <p:stCondLst>
                        <p:cond delay="indefinite"/>
                      </p:stCondLst>
                      <p:childTnLst>
                        <p:par>
                          <p:cTn id="3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2" dur="3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3" dur="3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4" dur="3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5" dur="30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6" nodeType="clickEffect" fill="hold">
                      <p:stCondLst>
                        <p:cond delay="indefinite"/>
                      </p:stCondLst>
                      <p:childTnLst>
                        <p:par>
                          <p:cTn id="3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0" dur="80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1" dur="80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2" dur="80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3" nodeType="clickEffect" fill="hold">
                      <p:stCondLst>
                        <p:cond delay="indefinite"/>
                      </p:stCondLst>
                      <p:childTnLst>
                        <p:par>
                          <p:cTn id="3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7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8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9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0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mukaan di Rua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09480" y="1591920"/>
            <a:ext cx="830592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ipsoida,  mempunyai bentuk umu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1A1B-FD8B-4109-94EC-7E4676C10057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14FB-3186-46FD-AD6E-AA2D25EC67BE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0" y="308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5"/>
              <p:cNvSpPr txBox="1"/>
              <p:nvPr/>
            </p:nvSpPr>
            <p:spPr>
              <a:xfrm>
                <a:off x="2514600" y="2235240"/>
                <a:ext cx="2263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 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 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 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7" name="Rectangle 6"/>
          <p:cNvSpPr/>
          <p:nvPr/>
        </p:nvSpPr>
        <p:spPr>
          <a:xfrm>
            <a:off x="4890240" y="2369520"/>
            <a:ext cx="1585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, a, b, c &gt; 0</a:t>
            </a:r>
            <a:r>
              <a:rPr b="0" lang="en-US" sz="21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7"/>
              <p:cNvSpPr txBox="1"/>
              <p:nvPr/>
            </p:nvSpPr>
            <p:spPr>
              <a:xfrm>
                <a:off x="4740120" y="2973240"/>
                <a:ext cx="14986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9" name="Rectangle 8"/>
          <p:cNvSpPr/>
          <p:nvPr/>
        </p:nvSpPr>
        <p:spPr>
          <a:xfrm>
            <a:off x="1024200" y="3123720"/>
            <a:ext cx="3890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Jejak di bidang XOY,  z = 0 </a:t>
            </a:r>
            <a:r>
              <a:rPr b="0" lang="en-US" sz="2100" spc="-1" strike="noStrike">
                <a:solidFill>
                  <a:srgbClr val="336699"/>
                </a:solidFill>
                <a:latin typeface="Wingdings"/>
                <a:ea typeface="Wingdings"/>
              </a:rPr>
              <a:t>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6198480" y="3162240"/>
            <a:ext cx="20826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berupa  Ellips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10"/>
              <p:cNvSpPr txBox="1"/>
              <p:nvPr/>
            </p:nvSpPr>
            <p:spPr>
              <a:xfrm>
                <a:off x="4748040" y="3733920"/>
                <a:ext cx="147672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Rectangle 11"/>
          <p:cNvSpPr/>
          <p:nvPr/>
        </p:nvSpPr>
        <p:spPr>
          <a:xfrm>
            <a:off x="1021680" y="3884040"/>
            <a:ext cx="3874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Jejak di bidang XOZ,  y = 0 </a:t>
            </a:r>
            <a:r>
              <a:rPr b="0" lang="en-US" sz="2100" spc="-1" strike="noStrike">
                <a:solidFill>
                  <a:srgbClr val="336699"/>
                </a:solidFill>
                <a:latin typeface="Wingdings"/>
                <a:ea typeface="Wingdings"/>
              </a:rPr>
              <a:t>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6195240" y="3922560"/>
            <a:ext cx="20826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berupa  Ellips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13"/>
              <p:cNvSpPr txBox="1"/>
              <p:nvPr/>
            </p:nvSpPr>
            <p:spPr>
              <a:xfrm>
                <a:off x="4824360" y="4629240"/>
                <a:ext cx="147492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Rectangle 14"/>
          <p:cNvSpPr/>
          <p:nvPr/>
        </p:nvSpPr>
        <p:spPr>
          <a:xfrm>
            <a:off x="996120" y="4876200"/>
            <a:ext cx="3874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Jejak di bidang YOZ,  x = 0 </a:t>
            </a:r>
            <a:r>
              <a:rPr b="0" lang="en-US" sz="2100" spc="-1" strike="noStrike">
                <a:solidFill>
                  <a:srgbClr val="336699"/>
                </a:solidFill>
                <a:latin typeface="Wingdings"/>
                <a:ea typeface="Wingdings"/>
              </a:rPr>
              <a:t>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36" name="Rectangle 15"/>
          <p:cNvSpPr/>
          <p:nvPr/>
        </p:nvSpPr>
        <p:spPr>
          <a:xfrm>
            <a:off x="6347520" y="4818240"/>
            <a:ext cx="20826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berupa  Ellips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9237-1A2C-47DA-91CF-6B945BED03BB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2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EB7A-3FBB-4279-A8B7-57618F136830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24" name="Text Box 4"/>
          <p:cNvSpPr/>
          <p:nvPr/>
        </p:nvSpPr>
        <p:spPr>
          <a:xfrm>
            <a:off x="866880" y="1441440"/>
            <a:ext cx="7567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2. Tentukan persamaan bidang singgung dari garis normal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25" name="Text Box 5"/>
          <p:cNvSpPr/>
          <p:nvPr/>
        </p:nvSpPr>
        <p:spPr>
          <a:xfrm>
            <a:off x="1587600" y="1797120"/>
            <a:ext cx="6560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permukaan z = f(x,y)=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2xy-3x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+2 di titik (1, 2, -5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26" name="Text Box 6"/>
          <p:cNvSpPr/>
          <p:nvPr/>
        </p:nvSpPr>
        <p:spPr>
          <a:xfrm>
            <a:off x="1040400" y="2203560"/>
            <a:ext cx="999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wab: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7" name="Object 7"/>
              <p:cNvSpPr txBox="1"/>
              <p:nvPr/>
            </p:nvSpPr>
            <p:spPr>
              <a:xfrm>
                <a:off x="1341360" y="2752560"/>
                <a:ext cx="2944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28" name="Text Box 8"/>
          <p:cNvSpPr/>
          <p:nvPr/>
        </p:nvSpPr>
        <p:spPr>
          <a:xfrm>
            <a:off x="1352880" y="3774960"/>
            <a:ext cx="6599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di persamaan bidang singgung di (1, 2, -5) adalah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9" name="Object 9"/>
              <p:cNvSpPr txBox="1"/>
              <p:nvPr/>
            </p:nvSpPr>
            <p:spPr>
              <a:xfrm>
                <a:off x="1295280" y="3300480"/>
                <a:ext cx="2440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0" name="Text Box 10"/>
          <p:cNvSpPr/>
          <p:nvPr/>
        </p:nvSpPr>
        <p:spPr>
          <a:xfrm>
            <a:off x="1801800" y="4260960"/>
            <a:ext cx="3524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z + 5) = –6(x – 1) –10(y – 2)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31" name="Text Box 11"/>
          <p:cNvSpPr/>
          <p:nvPr/>
        </p:nvSpPr>
        <p:spPr>
          <a:xfrm>
            <a:off x="1622880" y="4844880"/>
            <a:ext cx="2292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6x + 10y + z = 21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2" name="Object 16"/>
              <p:cNvSpPr txBox="1"/>
              <p:nvPr/>
            </p:nvSpPr>
            <p:spPr>
              <a:xfrm>
                <a:off x="5257800" y="2746440"/>
                <a:ext cx="29876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,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Object 17"/>
              <p:cNvSpPr txBox="1"/>
              <p:nvPr/>
            </p:nvSpPr>
            <p:spPr>
              <a:xfrm>
                <a:off x="5214960" y="3282840"/>
                <a:ext cx="27478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,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4" name="Text Box 18"/>
          <p:cNvSpPr/>
          <p:nvPr/>
        </p:nvSpPr>
        <p:spPr>
          <a:xfrm>
            <a:off x="4527000" y="266868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35" name="Text Box 19"/>
          <p:cNvSpPr/>
          <p:nvPr/>
        </p:nvSpPr>
        <p:spPr>
          <a:xfrm>
            <a:off x="4506480" y="320832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3561" dur="indefinite" restart="never" nodeType="tmRoot">
          <p:childTnLst>
            <p:seq>
              <p:cTn id="3562" dur="indefinite" nodeType="mainSeq">
                <p:childTnLst>
                  <p:par>
                    <p:cTn id="3563" nodeType="clickEffect" fill="hold">
                      <p:stCondLst>
                        <p:cond delay="0"/>
                      </p:stCondLst>
                      <p:childTnLst>
                        <p:par>
                          <p:cTn id="3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7" dur="80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8" dur="80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9" dur="80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2" dur="80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3" dur="80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4" dur="80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5" nodeType="clickEffect" fill="hold">
                      <p:stCondLst>
                        <p:cond delay="indefinite"/>
                      </p:stCondLst>
                      <p:childTnLst>
                        <p:par>
                          <p:cTn id="3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9" dur="80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0" dur="80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1" dur="80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2" nodeType="clickEffect" fill="hold">
                      <p:stCondLst>
                        <p:cond delay="indefinite"/>
                      </p:stCondLst>
                      <p:childTnLst>
                        <p:par>
                          <p:cTn id="3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7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8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9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0" nodeType="clickEffect" fill="hold">
                      <p:stCondLst>
                        <p:cond delay="indefinite"/>
                      </p:stCondLst>
                      <p:childTnLst>
                        <p:par>
                          <p:cTn id="3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4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5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6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7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8" nodeType="clickEffect" fill="hold">
                      <p:stCondLst>
                        <p:cond delay="indefinite"/>
                      </p:stCondLst>
                      <p:childTnLst>
                        <p:par>
                          <p:cTn id="3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2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3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4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5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8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9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0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1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2" nodeType="clickEffect" fill="hold">
                      <p:stCondLst>
                        <p:cond delay="indefinite"/>
                      </p:stCondLst>
                      <p:childTnLst>
                        <p:par>
                          <p:cTn id="3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6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7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8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9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2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3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4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5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6" nodeType="clickEffect" fill="hold">
                      <p:stCondLst>
                        <p:cond delay="indefinite"/>
                      </p:stCondLst>
                      <p:childTnLst>
                        <p:par>
                          <p:cTn id="3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0" dur="80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1" dur="80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2" dur="80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3" nodeType="clickEffect" fill="hold">
                      <p:stCondLst>
                        <p:cond delay="indefinite"/>
                      </p:stCondLst>
                      <p:childTnLst>
                        <p:par>
                          <p:cTn id="3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7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8" nodeType="clickEffect" fill="hold">
                      <p:stCondLst>
                        <p:cond delay="indefinite"/>
                      </p:stCondLst>
                      <p:childTnLst>
                        <p:par>
                          <p:cTn id="3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42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2A80-C00E-49B0-9C7E-E2E7866D2C34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07E6-4AC1-4637-A232-D69EC9B80205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40" name="Text Box 11"/>
          <p:cNvSpPr/>
          <p:nvPr/>
        </p:nvSpPr>
        <p:spPr>
          <a:xfrm>
            <a:off x="1220400" y="1447920"/>
            <a:ext cx="6103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di persamaan parameter garis normal adalah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1" name="Object 12"/>
              <p:cNvSpPr txBox="1"/>
              <p:nvPr/>
            </p:nvSpPr>
            <p:spPr>
              <a:xfrm>
                <a:off x="3192480" y="2949480"/>
                <a:ext cx="27036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2" name="Text Box 13"/>
          <p:cNvSpPr/>
          <p:nvPr/>
        </p:nvSpPr>
        <p:spPr>
          <a:xfrm>
            <a:off x="2539440" y="1949400"/>
            <a:ext cx="37285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 = 1-6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,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y = 2 - 10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 , 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z = –5 -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43" name="Text Box 14"/>
          <p:cNvSpPr/>
          <p:nvPr/>
        </p:nvSpPr>
        <p:spPr>
          <a:xfrm>
            <a:off x="1238040" y="2444760"/>
            <a:ext cx="6262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Atau bisa ditulis persamaan simetri garis normal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3643" dur="indefinite" restart="never" nodeType="tmRoot">
          <p:childTnLst>
            <p:seq>
              <p:cTn id="3644" dur="indefinite" nodeType="mainSeq">
                <p:childTnLst>
                  <p:par>
                    <p:cTn id="3645" nodeType="clickEffect" fill="hold">
                      <p:stCondLst>
                        <p:cond delay="indefinite"/>
                      </p:stCondLst>
                      <p:childTnLst>
                        <p:par>
                          <p:cTn id="3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9" dur="80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0" dur="80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1" dur="80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2" nodeType="clickEffect" fill="hold">
                      <p:stCondLst>
                        <p:cond delay="indefinite"/>
                      </p:stCondLst>
                      <p:childTnLst>
                        <p:par>
                          <p:cTn id="3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6" dur="3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7" dur="3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8" dur="3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9" dur="3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0" nodeType="clickEffect" fill="hold">
                      <p:stCondLst>
                        <p:cond delay="indefinite"/>
                      </p:stCondLst>
                      <p:childTnLst>
                        <p:par>
                          <p:cTn id="3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4" dur="80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5" dur="80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6" dur="80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7" nodeType="clickEffect" fill="hold">
                      <p:stCondLst>
                        <p:cond delay="indefinite"/>
                      </p:stCondLst>
                      <p:childTnLst>
                        <p:par>
                          <p:cTn id="3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1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2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3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4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ih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096A-FAD2-4D14-ADE4-9413AABD9FEB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4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56CD-9B4E-4F7C-A89A-A536296A0E31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48" name="Text Box 4"/>
          <p:cNvSpPr/>
          <p:nvPr/>
        </p:nvSpPr>
        <p:spPr>
          <a:xfrm>
            <a:off x="708120" y="1295280"/>
            <a:ext cx="7567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1. Tentukan persamaan bidang singgung dari garis normal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49" name="Text Box 5"/>
          <p:cNvSpPr/>
          <p:nvPr/>
        </p:nvSpPr>
        <p:spPr>
          <a:xfrm>
            <a:off x="853200" y="1650960"/>
            <a:ext cx="1625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permuka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50" name="Rectangle 8"/>
          <p:cNvSpPr/>
          <p:nvPr/>
        </p:nvSpPr>
        <p:spPr>
          <a:xfrm>
            <a:off x="1274400" y="2044800"/>
            <a:ext cx="4244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a.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+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– 3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z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 = 2 di titik (-1, -4, 6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51" name="Rectangle 9"/>
          <p:cNvSpPr/>
          <p:nvPr/>
        </p:nvSpPr>
        <p:spPr>
          <a:xfrm>
            <a:off x="1145880" y="2324160"/>
            <a:ext cx="3591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b.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e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cos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z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di titik (1, e, 0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52" name="Rectangle 10"/>
          <p:cNvSpPr/>
          <p:nvPr/>
        </p:nvSpPr>
        <p:spPr>
          <a:xfrm>
            <a:off x="1355760" y="2638440"/>
            <a:ext cx="4444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c.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1/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+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1/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+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z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1/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 = 4 di titik (4, 1, 1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53" name="Rectangle 11"/>
          <p:cNvSpPr/>
          <p:nvPr/>
        </p:nvSpPr>
        <p:spPr>
          <a:xfrm>
            <a:off x="1197720" y="2943360"/>
            <a:ext cx="4245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.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z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2e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3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cos 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di titik (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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/3, 0, -1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54" name="Text Box 12"/>
          <p:cNvSpPr/>
          <p:nvPr/>
        </p:nvSpPr>
        <p:spPr>
          <a:xfrm>
            <a:off x="963360" y="3352680"/>
            <a:ext cx="7685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2. Tentukan semua titik pada permukaan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z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8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4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imana bidang singgungnya mendatar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55" name="Text Box 13"/>
          <p:cNvSpPr/>
          <p:nvPr/>
        </p:nvSpPr>
        <p:spPr>
          <a:xfrm>
            <a:off x="1129320" y="4191120"/>
            <a:ext cx="7144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3. Perlihatkan bahwa permukaan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4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z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0 dan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  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z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 6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z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7 =0 saling menyinggung di titik (0, -1,2)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yaitu perlihatkan bidang singgungnya sam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56" name="Text Box 14"/>
          <p:cNvSpPr/>
          <p:nvPr/>
        </p:nvSpPr>
        <p:spPr>
          <a:xfrm>
            <a:off x="945720" y="5257800"/>
            <a:ext cx="7325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4. Tentukan sebuah titik pada permukaan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3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z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1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i mana bidang singgungnya tegak lurus garis deng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persamaan parameter: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1+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3+8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z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2 – 6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3675" dur="indefinite" restart="never" nodeType="tmRoot">
          <p:childTnLst>
            <p:seq>
              <p:cTn id="3676" dur="indefinite" nodeType="mainSeq">
                <p:childTnLst>
                  <p:par>
                    <p:cTn id="3677" nodeType="clickEffect" fill="hold">
                      <p:stCondLst>
                        <p:cond delay="0"/>
                      </p:stCondLst>
                      <p:childTnLst>
                        <p:par>
                          <p:cTn id="3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1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2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3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4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7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8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9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0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3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4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5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6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9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0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1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2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5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6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7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8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1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2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3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4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5" nodeType="clickEffect" fill="hold">
                      <p:stCondLst>
                        <p:cond delay="indefinite"/>
                      </p:stCondLst>
                      <p:childTnLst>
                        <p:par>
                          <p:cTn id="3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9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2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3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4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5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8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9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0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1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simum dan Minimu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gsi Dua Peub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finis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salkan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ma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adala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nilai maksimum glob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ari f pada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jika f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(x,y)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x,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adala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nilai minimum glob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ari f pada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jika f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(x,y)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x,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adala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nilai ekstrim glob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ari f pada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jika ia merupakan nilai maksimum global atau nilai minimum glob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finisi yang sama berlaku dengan kata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globa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diganti dengan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loka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pada (i) dan (ii), kita hanya memerlukan bahwa pertidaksamaan berlaku pada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dengan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uatu daerah di sekitar (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y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4C3F-CC59-4CF5-8692-EA11DF86AD9C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6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3429-C07B-4F9B-9A91-C7B7B46E7E6A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 mana nilai ekstrim muncu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609480" y="1533600"/>
            <a:ext cx="830592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tik di mana kemungkinan terjadinya nilai ekstrim disebut titik krit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tik Kritis ada 3 (tiga), yai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tik-titik batas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tik Stasio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tik Singu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5020-3DCD-47D2-AC82-52CD42F1ACDD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59A1-9127-4E59-B200-2FFD327BA75E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ji Nilai Ekstr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"/>
          <p:cNvSpPr txBox="1"/>
          <p:nvPr/>
        </p:nvSpPr>
        <p:spPr>
          <a:xfrm>
            <a:off x="566640" y="1066680"/>
            <a:ext cx="8196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tuk menguji apakah di titik kritis terjadi nilai ekstrim, kita gunakan uji turunan parsial kedua, yait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alkan f(x,y) mempunyai turunan parsial kedua yang kontinu di sekitar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82F5-440F-4463-BE3E-92CDC65EE1CE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0079-DCA0-4E3B-A1E7-2EC894A367A3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2" name="Object 5"/>
              <p:cNvSpPr txBox="1"/>
              <p:nvPr/>
            </p:nvSpPr>
            <p:spPr>
              <a:xfrm>
                <a:off x="3276720" y="2133720"/>
                <a:ext cx="17348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3" name="Rectangle 6"/>
          <p:cNvSpPr/>
          <p:nvPr/>
        </p:nvSpPr>
        <p:spPr>
          <a:xfrm>
            <a:off x="933480" y="3719520"/>
            <a:ext cx="1295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mak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4" name="Object 7"/>
              <p:cNvSpPr txBox="1"/>
              <p:nvPr/>
            </p:nvSpPr>
            <p:spPr>
              <a:xfrm>
                <a:off x="2133720" y="3643200"/>
                <a:ext cx="56275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75" name="Rectangle 8"/>
          <p:cNvSpPr/>
          <p:nvPr/>
        </p:nvSpPr>
        <p:spPr>
          <a:xfrm>
            <a:off x="895320" y="4191120"/>
            <a:ext cx="76928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1. Jika D &gt;0 dan                 ,maka f(x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y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nilai maksimum lokal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6" name="Object 9"/>
              <p:cNvSpPr txBox="1"/>
              <p:nvPr/>
            </p:nvSpPr>
            <p:spPr>
              <a:xfrm>
                <a:off x="2590920" y="4222800"/>
                <a:ext cx="156024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7" name="Rectangle 10"/>
          <p:cNvSpPr/>
          <p:nvPr/>
        </p:nvSpPr>
        <p:spPr>
          <a:xfrm>
            <a:off x="892440" y="4648320"/>
            <a:ext cx="757836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2. Jika D&gt;0, dan                 ,maka f(x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y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nilai minimum lokal 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8" name="Object 11"/>
              <p:cNvSpPr txBox="1"/>
              <p:nvPr/>
            </p:nvSpPr>
            <p:spPr>
              <a:xfrm>
                <a:off x="2554200" y="4724280"/>
                <a:ext cx="15606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9" name="Rectangle 12"/>
          <p:cNvSpPr/>
          <p:nvPr/>
        </p:nvSpPr>
        <p:spPr>
          <a:xfrm>
            <a:off x="688680" y="5052960"/>
            <a:ext cx="6318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3. Jika D&lt;0, maka f(x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y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bukan nilai ekstrim atau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0,0) titik pelan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80" name="Rectangle 13"/>
          <p:cNvSpPr/>
          <p:nvPr/>
        </p:nvSpPr>
        <p:spPr>
          <a:xfrm>
            <a:off x="560880" y="5835600"/>
            <a:ext cx="5495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4. Jika D=0, tidak dapat ditarik kesimpulan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3732" dur="indefinite" restart="never" nodeType="tmRoot">
          <p:childTnLst>
            <p:seq>
              <p:cTn id="3733" dur="indefinite" nodeType="mainSeq">
                <p:childTnLst>
                  <p:par>
                    <p:cTn id="3734" nodeType="clickEffect" fill="hold">
                      <p:stCondLst>
                        <p:cond delay="0"/>
                      </p:stCondLst>
                      <p:childTnLst>
                        <p:par>
                          <p:cTn id="3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8" dur="2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1" dur="2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2" nodeType="clickEffect" fill="hold">
                      <p:stCondLst>
                        <p:cond delay="indefinite"/>
                      </p:stCondLst>
                      <p:childTnLst>
                        <p:par>
                          <p:cTn id="3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6" dur="3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7" nodeType="clickEffect" fill="hold">
                      <p:stCondLst>
                        <p:cond delay="indefinite"/>
                      </p:stCondLst>
                      <p:childTnLst>
                        <p:par>
                          <p:cTn id="3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1" dur="1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2" dur="1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3" dur="1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6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7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8" dur="1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1" dur="3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4" dur="3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7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8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9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0" dur="1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3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4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5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6" dur="1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B285-7CD6-4F48-90E8-D1B604519C24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24B2-42A0-4F06-BF91-EBA1ECA9CF53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85" name="Text Box 4"/>
          <p:cNvSpPr/>
          <p:nvPr/>
        </p:nvSpPr>
        <p:spPr>
          <a:xfrm>
            <a:off x="843480" y="1327320"/>
            <a:ext cx="5542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1. Tentukan nilai ekstrim dan jenisnya, dari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86" name="Text Box 5"/>
          <p:cNvSpPr/>
          <p:nvPr/>
        </p:nvSpPr>
        <p:spPr>
          <a:xfrm>
            <a:off x="3570120" y="1797120"/>
            <a:ext cx="2284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,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= 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4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3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87" name="Text Box 6"/>
          <p:cNvSpPr/>
          <p:nvPr/>
        </p:nvSpPr>
        <p:spPr>
          <a:xfrm>
            <a:off x="1043640" y="2133720"/>
            <a:ext cx="999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wab: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88" name="Text Box 7"/>
          <p:cNvSpPr/>
          <p:nvPr/>
        </p:nvSpPr>
        <p:spPr>
          <a:xfrm>
            <a:off x="1370160" y="2603520"/>
            <a:ext cx="20142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,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= 8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3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 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89" name="Text Box 8"/>
          <p:cNvSpPr/>
          <p:nvPr/>
        </p:nvSpPr>
        <p:spPr>
          <a:xfrm>
            <a:off x="3995640" y="2577960"/>
            <a:ext cx="13921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,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= 6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90" name="Text Box 9"/>
          <p:cNvSpPr/>
          <p:nvPr/>
        </p:nvSpPr>
        <p:spPr>
          <a:xfrm>
            <a:off x="1378440" y="2962440"/>
            <a:ext cx="211176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x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,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= 24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 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91" name="Text Box 10"/>
          <p:cNvSpPr/>
          <p:nvPr/>
        </p:nvSpPr>
        <p:spPr>
          <a:xfrm>
            <a:off x="3981960" y="2962440"/>
            <a:ext cx="13388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y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,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= 6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92" name="Text Box 11"/>
          <p:cNvSpPr/>
          <p:nvPr/>
        </p:nvSpPr>
        <p:spPr>
          <a:xfrm>
            <a:off x="1296000" y="3406680"/>
            <a:ext cx="13417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x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,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= 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93" name="Text Box 12"/>
          <p:cNvSpPr/>
          <p:nvPr/>
        </p:nvSpPr>
        <p:spPr>
          <a:xfrm>
            <a:off x="1408320" y="3892680"/>
            <a:ext cx="678564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itik kritisnya (dalam hal ini titik stasioner) diperoleh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engan menyelesaikan persama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) = 0 dan 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)=0, yaitu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94" name="Text Box 13"/>
          <p:cNvSpPr/>
          <p:nvPr/>
        </p:nvSpPr>
        <p:spPr>
          <a:xfrm>
            <a:off x="1328040" y="5073480"/>
            <a:ext cx="138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8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3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 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95" name="Text Box 14"/>
          <p:cNvSpPr/>
          <p:nvPr/>
        </p:nvSpPr>
        <p:spPr>
          <a:xfrm>
            <a:off x="2809440" y="504360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96" name="Text Box 15"/>
          <p:cNvSpPr/>
          <p:nvPr/>
        </p:nvSpPr>
        <p:spPr>
          <a:xfrm>
            <a:off x="3461760" y="5105520"/>
            <a:ext cx="176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4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 1)=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97" name="Text Box 16"/>
          <p:cNvSpPr/>
          <p:nvPr/>
        </p:nvSpPr>
        <p:spPr>
          <a:xfrm>
            <a:off x="5284080" y="504360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98" name="Text Box 17"/>
          <p:cNvSpPr/>
          <p:nvPr/>
        </p:nvSpPr>
        <p:spPr>
          <a:xfrm>
            <a:off x="5924160" y="5073480"/>
            <a:ext cx="1677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0 ,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± ½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99" name="Text Box 18"/>
          <p:cNvSpPr/>
          <p:nvPr/>
        </p:nvSpPr>
        <p:spPr>
          <a:xfrm>
            <a:off x="1343160" y="5454720"/>
            <a:ext cx="832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6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00" name="Text Box 19"/>
          <p:cNvSpPr/>
          <p:nvPr/>
        </p:nvSpPr>
        <p:spPr>
          <a:xfrm>
            <a:off x="2782440" y="542448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01" name="Text Box 20"/>
          <p:cNvSpPr/>
          <p:nvPr/>
        </p:nvSpPr>
        <p:spPr>
          <a:xfrm>
            <a:off x="3479760" y="5454720"/>
            <a:ext cx="7506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02" name="Text Box 21"/>
          <p:cNvSpPr/>
          <p:nvPr/>
        </p:nvSpPr>
        <p:spPr>
          <a:xfrm>
            <a:off x="1655640" y="5987880"/>
            <a:ext cx="6653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di titik-titik stasioner adalah (0, 0), (½, 0) dan (-½,0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3777" dur="indefinite" restart="never" nodeType="tmRoot">
          <p:childTnLst>
            <p:seq>
              <p:cTn id="3778" dur="indefinite" nodeType="mainSeq">
                <p:childTnLst>
                  <p:par>
                    <p:cTn id="3779" nodeType="clickEffect" fill="hold">
                      <p:stCondLst>
                        <p:cond delay="0"/>
                      </p:stCondLst>
                      <p:childTnLst>
                        <p:par>
                          <p:cTn id="3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3" dur="80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4" dur="80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5" dur="80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8" dur="80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9" dur="80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0" dur="80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1" nodeType="clickEffect" fill="hold">
                      <p:stCondLst>
                        <p:cond delay="indefinite"/>
                      </p:stCondLst>
                      <p:childTnLst>
                        <p:par>
                          <p:cTn id="3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5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6" nodeType="clickEffect" fill="hold">
                      <p:stCondLst>
                        <p:cond delay="indefinite"/>
                      </p:stCondLst>
                      <p:childTnLst>
                        <p:par>
                          <p:cTn id="3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0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1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2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3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4" nodeType="clickEffect" fill="hold">
                      <p:stCondLst>
                        <p:cond delay="indefinite"/>
                      </p:stCondLst>
                      <p:childTnLst>
                        <p:par>
                          <p:cTn id="3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8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9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0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1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2" nodeType="clickEffect" fill="hold">
                      <p:stCondLst>
                        <p:cond delay="indefinite"/>
                      </p:stCondLst>
                      <p:childTnLst>
                        <p:par>
                          <p:cTn id="3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6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7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8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9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0" nodeType="clickEffect" fill="hold">
                      <p:stCondLst>
                        <p:cond delay="indefinite"/>
                      </p:stCondLst>
                      <p:childTnLst>
                        <p:par>
                          <p:cTn id="3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4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5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6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7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8" nodeType="clickEffect" fill="hold">
                      <p:stCondLst>
                        <p:cond delay="indefinite"/>
                      </p:stCondLst>
                      <p:childTnLst>
                        <p:par>
                          <p:cTn id="3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2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3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4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5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6" nodeType="clickEffect" fill="hold">
                      <p:stCondLst>
                        <p:cond delay="indefinite"/>
                      </p:stCondLst>
                      <p:childTnLst>
                        <p:par>
                          <p:cTn id="3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0" dur="80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1" dur="80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2" dur="80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3" nodeType="clickEffect" fill="hold">
                      <p:stCondLst>
                        <p:cond delay="indefinite"/>
                      </p:stCondLst>
                      <p:childTnLst>
                        <p:par>
                          <p:cTn id="3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7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8" nodeType="clickEffect" fill="hold">
                      <p:stCondLst>
                        <p:cond delay="indefinite"/>
                      </p:stCondLst>
                      <p:childTnLst>
                        <p:par>
                          <p:cTn id="3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2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3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4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5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8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9" nodeType="clickEffect" fill="hold">
                      <p:stCondLst>
                        <p:cond delay="indefinite"/>
                      </p:stCondLst>
                      <p:childTnLst>
                        <p:par>
                          <p:cTn id="3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3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4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5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6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9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0" nodeType="clickEffect" fill="hold">
                      <p:stCondLst>
                        <p:cond delay="indefinite"/>
                      </p:stCondLst>
                      <p:childTnLst>
                        <p:par>
                          <p:cTn id="3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4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5" nodeType="clickEffect" fill="hold">
                      <p:stCondLst>
                        <p:cond delay="indefinite"/>
                      </p:stCondLst>
                      <p:childTnLst>
                        <p:par>
                          <p:cTn id="3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9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0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1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2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5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6" nodeType="clickEffect" fill="hold">
                      <p:stCondLst>
                        <p:cond delay="indefinite"/>
                      </p:stCondLst>
                      <p:childTnLst>
                        <p:par>
                          <p:cTn id="3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0" dur="80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1" dur="80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2" dur="80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 (lanjuta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4" name=""/>
          <p:cNvGraphicFramePr/>
          <p:nvPr/>
        </p:nvGraphicFramePr>
        <p:xfrm>
          <a:off x="609480" y="2057400"/>
          <a:ext cx="7315200" cy="3260880"/>
        </p:xfrm>
        <a:graphic>
          <a:graphicData uri="http://schemas.openxmlformats.org/drawingml/2006/table">
            <a:tbl>
              <a:tblPr/>
              <a:tblGrid>
                <a:gridCol w="1219320"/>
                <a:gridCol w="762120"/>
                <a:gridCol w="685800"/>
                <a:gridCol w="761760"/>
                <a:gridCol w="914400"/>
                <a:gridCol w="2971800"/>
              </a:tblGrid>
              <a:tr h="731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Titik sta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r>
                        <a:rPr b="0" lang="en-US" sz="2100" spc="-1" strike="noStrike" baseline="-30000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xx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r>
                        <a:rPr b="0" lang="en-US" sz="2100" spc="-1" strike="noStrike" baseline="-30000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yy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r>
                        <a:rPr b="0" lang="en-US" sz="2100" spc="-1" strike="noStrike" baseline="-30000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xy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Keterangan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(0,0)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– </a:t>
                      </a: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–</a:t>
                      </a: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f(0,0) bukan nilai ekstrim atau 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(0,0) Titik pelana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(½, 0)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24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f(1/2,0) nilai Minimum lokal 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(-½, 0)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24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f(-1/2,0) nilai Minimum lokal</a:t>
                      </a:r>
                      <a:endParaRPr b="0" lang="en-US" sz="2100" spc="-1" strike="noStrike">
                        <a:solidFill>
                          <a:srgbClr val="33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1EE5-5B86-4BCD-99CA-FDEB68278516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EA1B-FFE7-496E-B23D-FD09705976C3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08" name="Text Box 354"/>
          <p:cNvSpPr/>
          <p:nvPr/>
        </p:nvSpPr>
        <p:spPr>
          <a:xfrm>
            <a:off x="875880" y="1441440"/>
            <a:ext cx="763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Mengenai jenis nilai ekstrim, bisa dilihat pada tabel berikut: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09" name="Text Box 355"/>
          <p:cNvSpPr/>
          <p:nvPr/>
        </p:nvSpPr>
        <p:spPr>
          <a:xfrm>
            <a:off x="876240" y="5591160"/>
            <a:ext cx="7713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di nilai minimum lokal = -1/8 dicapai pada (½,0) dan (-½,0),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edangkan (0,0) merupakan titik pelana. 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3893" dur="indefinite" restart="never" nodeType="tmRoot">
          <p:childTnLst>
            <p:seq>
              <p:cTn id="3894" dur="indefinite" nodeType="mainSeq">
                <p:childTnLst>
                  <p:par>
                    <p:cTn id="3895" nodeType="clickEffect" fill="hold">
                      <p:stCondLst>
                        <p:cond delay="0"/>
                      </p:stCondLst>
                      <p:childTnLst>
                        <p:par>
                          <p:cTn id="3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9" dur="80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0" dur="80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1" dur="80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2" nodeType="clickEffect" fill="hold">
                      <p:stCondLst>
                        <p:cond delay="indefinite"/>
                      </p:stCondLst>
                      <p:childTnLst>
                        <p:par>
                          <p:cTn id="3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6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7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8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9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0" nodeType="clickEffect" fill="hold">
                      <p:stCondLst>
                        <p:cond delay="indefinite"/>
                      </p:stCondLst>
                      <p:childTnLst>
                        <p:par>
                          <p:cTn id="3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4" dur="80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5" dur="80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6" dur="80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AB6D-F326-4F0E-8AD0-73E98E56E61B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C416-625B-4D39-BD05-1D8338CEB539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14" name="Text Box 3"/>
          <p:cNvSpPr/>
          <p:nvPr/>
        </p:nvSpPr>
        <p:spPr>
          <a:xfrm>
            <a:off x="749160" y="1327320"/>
            <a:ext cx="6389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2. Tentukan nilai ekstrim global dan jenisnya, dari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15" name="Text Box 4"/>
          <p:cNvSpPr/>
          <p:nvPr/>
        </p:nvSpPr>
        <p:spPr>
          <a:xfrm>
            <a:off x="1270800" y="1747800"/>
            <a:ext cx="5032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,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=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1 pada S={(x,y)| 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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1}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16" name="Text Box 5"/>
          <p:cNvSpPr/>
          <p:nvPr/>
        </p:nvSpPr>
        <p:spPr>
          <a:xfrm>
            <a:off x="775080" y="2133720"/>
            <a:ext cx="999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wab: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17" name="Text Box 6"/>
          <p:cNvSpPr/>
          <p:nvPr/>
        </p:nvSpPr>
        <p:spPr>
          <a:xfrm>
            <a:off x="1020600" y="2540160"/>
            <a:ext cx="141156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,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= 2x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18" name="Text Box 7"/>
          <p:cNvSpPr/>
          <p:nvPr/>
        </p:nvSpPr>
        <p:spPr>
          <a:xfrm>
            <a:off x="3751920" y="2514600"/>
            <a:ext cx="16070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,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= – 2y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19" name="Text Box 8"/>
          <p:cNvSpPr/>
          <p:nvPr/>
        </p:nvSpPr>
        <p:spPr>
          <a:xfrm>
            <a:off x="1037880" y="2851200"/>
            <a:ext cx="14148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x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,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=  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20" name="Text Box 9"/>
          <p:cNvSpPr/>
          <p:nvPr/>
        </p:nvSpPr>
        <p:spPr>
          <a:xfrm>
            <a:off x="3731400" y="2851200"/>
            <a:ext cx="147276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y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,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= –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21" name="Text Box 10"/>
          <p:cNvSpPr/>
          <p:nvPr/>
        </p:nvSpPr>
        <p:spPr>
          <a:xfrm>
            <a:off x="1027800" y="3232080"/>
            <a:ext cx="13417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f</a:t>
            </a:r>
            <a:r>
              <a:rPr b="0" i="1" lang="en-US" sz="2100" spc="-1" strike="noStrike" baseline="-25000">
                <a:solidFill>
                  <a:srgbClr val="336699"/>
                </a:solidFill>
                <a:latin typeface="Verdana"/>
              </a:rPr>
              <a:t>x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,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= 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22" name="Text Box 11"/>
          <p:cNvSpPr/>
          <p:nvPr/>
        </p:nvSpPr>
        <p:spPr>
          <a:xfrm>
            <a:off x="1254600" y="3686040"/>
            <a:ext cx="67903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itik stasionernya diperoleh dengan menyelesaikan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persamaan 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) = 0 dan f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x,y)=0, yaitu didapat (0,0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23" name="Text Box 20"/>
          <p:cNvSpPr/>
          <p:nvPr/>
        </p:nvSpPr>
        <p:spPr>
          <a:xfrm>
            <a:off x="1240200" y="4460760"/>
            <a:ext cx="7325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di titik-titik kritisnya adalah (0, 0)(</a:t>
            </a:r>
            <a:r>
              <a:rPr b="0" lang="en-US" sz="21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i="1" lang="en-US" sz="2100" spc="-1" strike="noStrike" u="sng">
                <a:solidFill>
                  <a:srgbClr val="336699"/>
                </a:solidFill>
                <a:uFillTx/>
                <a:latin typeface="Verdana"/>
              </a:rPr>
              <a:t>terletak di dalam S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,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24" name="Text Box 21"/>
          <p:cNvSpPr/>
          <p:nvPr/>
        </p:nvSpPr>
        <p:spPr>
          <a:xfrm>
            <a:off x="1047600" y="5181480"/>
            <a:ext cx="6837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titik-titik batasnya, misalkan x=cos t dan y=sint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karena S adalah lingkaran satuan), sehingga didapat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25" name="Text Box 22"/>
          <p:cNvSpPr/>
          <p:nvPr/>
        </p:nvSpPr>
        <p:spPr>
          <a:xfrm>
            <a:off x="2971440" y="5911920"/>
            <a:ext cx="2448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(t)=cos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 – sin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+1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26" name="TextBox 18"/>
          <p:cNvSpPr/>
          <p:nvPr/>
        </p:nvSpPr>
        <p:spPr>
          <a:xfrm>
            <a:off x="845640" y="4876920"/>
            <a:ext cx="1765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an f(0,0)=1.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3917" dur="indefinite" restart="never" nodeType="tmRoot">
          <p:childTnLst>
            <p:seq>
              <p:cTn id="3918" dur="indefinite" nodeType="mainSeq">
                <p:childTnLst>
                  <p:par>
                    <p:cTn id="3919" nodeType="clickEffect" fill="hold">
                      <p:stCondLst>
                        <p:cond delay="0"/>
                      </p:stCondLst>
                      <p:childTnLst>
                        <p:par>
                          <p:cTn id="3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3" dur="80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4" dur="80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5" dur="80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8" dur="80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9" dur="80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0" dur="80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1" nodeType="clickEffect" fill="hold">
                      <p:stCondLst>
                        <p:cond delay="indefinite"/>
                      </p:stCondLst>
                      <p:childTnLst>
                        <p:par>
                          <p:cTn id="3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5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6" nodeType="clickEffect" fill="hold">
                      <p:stCondLst>
                        <p:cond delay="indefinite"/>
                      </p:stCondLst>
                      <p:childTnLst>
                        <p:par>
                          <p:cTn id="3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0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1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2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3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4" nodeType="clickEffect" fill="hold">
                      <p:stCondLst>
                        <p:cond delay="indefinite"/>
                      </p:stCondLst>
                      <p:childTnLst>
                        <p:par>
                          <p:cTn id="3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8" dur="5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9" dur="5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0" dur="5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1" dur="5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2" nodeType="clickEffect" fill="hold">
                      <p:stCondLst>
                        <p:cond delay="indefinite"/>
                      </p:stCondLst>
                      <p:childTnLst>
                        <p:par>
                          <p:cTn id="3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6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7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8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9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0" nodeType="clickEffect" fill="hold">
                      <p:stCondLst>
                        <p:cond delay="indefinite"/>
                      </p:stCondLst>
                      <p:childTnLst>
                        <p:par>
                          <p:cTn id="3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4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5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6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7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8" nodeType="clickEffect" fill="hold">
                      <p:stCondLst>
                        <p:cond delay="indefinite"/>
                      </p:stCondLst>
                      <p:childTnLst>
                        <p:par>
                          <p:cTn id="3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2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3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4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5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6" nodeType="clickEffect" fill="hold">
                      <p:stCondLst>
                        <p:cond delay="indefinite"/>
                      </p:stCondLst>
                      <p:childTnLst>
                        <p:par>
                          <p:cTn id="3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0" dur="80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1" dur="80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2" dur="80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3" nodeType="clickEffect" fill="hold">
                      <p:stCondLst>
                        <p:cond delay="indefinite"/>
                      </p:stCondLst>
                      <p:childTnLst>
                        <p:par>
                          <p:cTn id="3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7" dur="80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8" dur="80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9" dur="80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0" nodeType="clickEffect" fill="hold">
                      <p:stCondLst>
                        <p:cond delay="indefinite"/>
                      </p:stCondLst>
                      <p:childTnLst>
                        <p:par>
                          <p:cTn id="3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4" dur="20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5" nodeType="clickEffect" fill="hold">
                      <p:stCondLst>
                        <p:cond delay="indefinite"/>
                      </p:stCondLst>
                      <p:childTnLst>
                        <p:par>
                          <p:cTn id="3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9" dur="2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0" nodeType="clickEffect" fill="hold">
                      <p:stCondLst>
                        <p:cond delay="indefinite"/>
                      </p:stCondLst>
                      <p:childTnLst>
                        <p:par>
                          <p:cTn id="4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4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5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6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7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 (lanjuta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"/>
          <p:cNvSpPr txBox="1"/>
          <p:nvPr/>
        </p:nvSpPr>
        <p:spPr>
          <a:xfrm>
            <a:off x="380880" y="1305000"/>
            <a:ext cx="830592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ntuk mendapatkan nilai maksimun dan minimun f pada S, turunkan f, yaitu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6A55-A231-47F8-A2DF-5ED457354928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1E66-3CB5-4AF3-A440-B3400529EC92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32" name="Text Box 4"/>
          <p:cNvSpPr/>
          <p:nvPr/>
        </p:nvSpPr>
        <p:spPr>
          <a:xfrm>
            <a:off x="885960" y="2209680"/>
            <a:ext cx="4149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’(t)=–2 cos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 sint – 2 sint cost = 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33" name="Text Box 5"/>
          <p:cNvSpPr/>
          <p:nvPr/>
        </p:nvSpPr>
        <p:spPr>
          <a:xfrm>
            <a:off x="6242040" y="2209680"/>
            <a:ext cx="185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4 cos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 sint= 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34" name="Text Box 6"/>
          <p:cNvSpPr/>
          <p:nvPr/>
        </p:nvSpPr>
        <p:spPr>
          <a:xfrm>
            <a:off x="5541480" y="213372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35" name="Text Box 7"/>
          <p:cNvSpPr/>
          <p:nvPr/>
        </p:nvSpPr>
        <p:spPr>
          <a:xfrm>
            <a:off x="552240" y="2711520"/>
            <a:ext cx="1165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in2t= 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36" name="Text Box 8"/>
          <p:cNvSpPr/>
          <p:nvPr/>
        </p:nvSpPr>
        <p:spPr>
          <a:xfrm>
            <a:off x="2241000" y="312408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37" name="Text Box 9"/>
          <p:cNvSpPr/>
          <p:nvPr/>
        </p:nvSpPr>
        <p:spPr>
          <a:xfrm>
            <a:off x="2368080" y="2712960"/>
            <a:ext cx="1972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2t= 0,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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2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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3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38" name="Text Box 10"/>
          <p:cNvSpPr/>
          <p:nvPr/>
        </p:nvSpPr>
        <p:spPr>
          <a:xfrm>
            <a:off x="4415760" y="265428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39" name="Text Box 11"/>
          <p:cNvSpPr/>
          <p:nvPr/>
        </p:nvSpPr>
        <p:spPr>
          <a:xfrm>
            <a:off x="5150160" y="2712960"/>
            <a:ext cx="2170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= 0,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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/2,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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3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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/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40" name="Text Box 12"/>
          <p:cNvSpPr/>
          <p:nvPr/>
        </p:nvSpPr>
        <p:spPr>
          <a:xfrm>
            <a:off x="551520" y="3193920"/>
            <a:ext cx="1623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t = 0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41" name="Text Box 15"/>
          <p:cNvSpPr/>
          <p:nvPr/>
        </p:nvSpPr>
        <p:spPr>
          <a:xfrm>
            <a:off x="2916000" y="3193920"/>
            <a:ext cx="1489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 = 1, y = 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42" name="Text Box 16"/>
          <p:cNvSpPr/>
          <p:nvPr/>
        </p:nvSpPr>
        <p:spPr>
          <a:xfrm>
            <a:off x="4527000" y="312408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43" name="Text Box 17"/>
          <p:cNvSpPr/>
          <p:nvPr/>
        </p:nvSpPr>
        <p:spPr>
          <a:xfrm>
            <a:off x="5178600" y="3200400"/>
            <a:ext cx="1325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(1, 0) = 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44" name="Text Box 19"/>
          <p:cNvSpPr/>
          <p:nvPr/>
        </p:nvSpPr>
        <p:spPr>
          <a:xfrm>
            <a:off x="1731240" y="261792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45" name="Text Box 20"/>
          <p:cNvSpPr/>
          <p:nvPr/>
        </p:nvSpPr>
        <p:spPr>
          <a:xfrm>
            <a:off x="2369520" y="359568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46" name="Text Box 21"/>
          <p:cNvSpPr/>
          <p:nvPr/>
        </p:nvSpPr>
        <p:spPr>
          <a:xfrm>
            <a:off x="578160" y="3666960"/>
            <a:ext cx="1869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t =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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/2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47" name="Text Box 22"/>
          <p:cNvSpPr/>
          <p:nvPr/>
        </p:nvSpPr>
        <p:spPr>
          <a:xfrm>
            <a:off x="3044520" y="3665520"/>
            <a:ext cx="1489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 = 0, y = 1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48" name="Text Box 23"/>
          <p:cNvSpPr/>
          <p:nvPr/>
        </p:nvSpPr>
        <p:spPr>
          <a:xfrm>
            <a:off x="4655520" y="359568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49" name="Text Box 24"/>
          <p:cNvSpPr/>
          <p:nvPr/>
        </p:nvSpPr>
        <p:spPr>
          <a:xfrm>
            <a:off x="5307120" y="3672000"/>
            <a:ext cx="1325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(0, 1) = 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50" name="Text Box 30"/>
          <p:cNvSpPr/>
          <p:nvPr/>
        </p:nvSpPr>
        <p:spPr>
          <a:xfrm>
            <a:off x="2256840" y="411480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51" name="Text Box 31"/>
          <p:cNvSpPr/>
          <p:nvPr/>
        </p:nvSpPr>
        <p:spPr>
          <a:xfrm>
            <a:off x="546840" y="4186080"/>
            <a:ext cx="1547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t =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52" name="Text Box 32"/>
          <p:cNvSpPr/>
          <p:nvPr/>
        </p:nvSpPr>
        <p:spPr>
          <a:xfrm>
            <a:off x="2949120" y="4184640"/>
            <a:ext cx="1575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 = -1, y = 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53" name="Text Box 33"/>
          <p:cNvSpPr/>
          <p:nvPr/>
        </p:nvSpPr>
        <p:spPr>
          <a:xfrm>
            <a:off x="4542840" y="411480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54" name="Text Box 34"/>
          <p:cNvSpPr/>
          <p:nvPr/>
        </p:nvSpPr>
        <p:spPr>
          <a:xfrm>
            <a:off x="5212080" y="4191120"/>
            <a:ext cx="1410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(-1, 0) = 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55" name="Text Box 35"/>
          <p:cNvSpPr/>
          <p:nvPr/>
        </p:nvSpPr>
        <p:spPr>
          <a:xfrm>
            <a:off x="2521800" y="466236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56" name="Text Box 36"/>
          <p:cNvSpPr/>
          <p:nvPr/>
        </p:nvSpPr>
        <p:spPr>
          <a:xfrm>
            <a:off x="587160" y="4734000"/>
            <a:ext cx="2021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t = 3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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/2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57" name="Text Box 37"/>
          <p:cNvSpPr/>
          <p:nvPr/>
        </p:nvSpPr>
        <p:spPr>
          <a:xfrm>
            <a:off x="3214440" y="4732200"/>
            <a:ext cx="1575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 = 0, y = -1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58" name="Text Box 38"/>
          <p:cNvSpPr/>
          <p:nvPr/>
        </p:nvSpPr>
        <p:spPr>
          <a:xfrm>
            <a:off x="4807800" y="466236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59" name="Text Box 39"/>
          <p:cNvSpPr/>
          <p:nvPr/>
        </p:nvSpPr>
        <p:spPr>
          <a:xfrm>
            <a:off x="5477400" y="4738680"/>
            <a:ext cx="1410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(0, -1) = 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60" name="Text Box 40"/>
          <p:cNvSpPr/>
          <p:nvPr/>
        </p:nvSpPr>
        <p:spPr>
          <a:xfrm>
            <a:off x="916200" y="5327640"/>
            <a:ext cx="7151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di nilai maksimum global = 2 pada titik (1,0) dan (-1,0),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61" name="Text Box 41"/>
          <p:cNvSpPr/>
          <p:nvPr/>
        </p:nvSpPr>
        <p:spPr>
          <a:xfrm>
            <a:off x="945360" y="5708520"/>
            <a:ext cx="7678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edangkan nilai minimun global=0 pada titik (0,1) dan (0,-1)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4008" dur="indefinite" restart="never" nodeType="tmRoot">
          <p:childTnLst>
            <p:seq>
              <p:cTn id="4009" dur="indefinite" nodeType="mainSeq">
                <p:childTnLst>
                  <p:par>
                    <p:cTn id="4010" nodeType="clickEffect" fill="hold">
                      <p:stCondLst>
                        <p:cond delay="indefinite"/>
                      </p:stCondLst>
                      <p:childTnLst>
                        <p:par>
                          <p:cTn id="4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4" dur="5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5" dur="5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6" dur="5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7" dur="5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8" nodeType="clickEffect" fill="hold">
                      <p:stCondLst>
                        <p:cond delay="indefinite"/>
                      </p:stCondLst>
                      <p:childTnLst>
                        <p:par>
                          <p:cTn id="4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2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3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4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5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8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9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0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1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2" nodeType="clickEffect" fill="hold">
                      <p:stCondLst>
                        <p:cond delay="indefinite"/>
                      </p:stCondLst>
                      <p:childTnLst>
                        <p:par>
                          <p:cTn id="4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6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7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8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9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0" nodeType="clickEffect" fill="hold">
                      <p:stCondLst>
                        <p:cond delay="indefinite"/>
                      </p:stCondLst>
                      <p:childTnLst>
                        <p:par>
                          <p:cTn id="4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4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5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6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7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0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1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2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3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4" nodeType="clickEffect" fill="hold">
                      <p:stCondLst>
                        <p:cond delay="indefinite"/>
                      </p:stCondLst>
                      <p:childTnLst>
                        <p:par>
                          <p:cTn id="4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8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9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0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1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4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5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6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7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8" nodeType="clickEffect" fill="hold">
                      <p:stCondLst>
                        <p:cond delay="indefinite"/>
                      </p:stCondLst>
                      <p:childTnLst>
                        <p:par>
                          <p:cTn id="4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2" dur="80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3" dur="80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4" dur="80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5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4076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8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9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0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1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2" nodeType="afterEffect" fill="hold">
                            <p:stCondLst>
                              <p:cond delay="860"/>
                            </p:stCondLst>
                            <p:childTnLst>
                              <p:par>
                                <p:cTn id="40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5" dur="80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6" dur="80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7" dur="80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8" nodeType="afterEffect" fill="hold">
                            <p:stCondLst>
                              <p:cond delay="940"/>
                            </p:stCondLst>
                            <p:childTnLst>
                              <p:par>
                                <p:cTn id="40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1" dur="80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2" dur="80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3" dur="80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4" nodeType="afterEffect" fill="hold">
                            <p:stCondLst>
                              <p:cond delay="1260"/>
                            </p:stCondLst>
                            <p:childTnLst>
                              <p:par>
                                <p:cTn id="409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7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8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9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0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1" nodeType="afterEffect" fill="hold">
                            <p:stCondLst>
                              <p:cond delay="1760"/>
                            </p:stCondLst>
                            <p:childTnLst>
                              <p:par>
                                <p:cTn id="4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4" dur="80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5" dur="80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6" dur="80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7" nodeType="afterEffect" fill="hold">
                            <p:stCondLst>
                              <p:cond delay="2120"/>
                            </p:stCondLst>
                            <p:childTnLst>
                              <p:par>
                                <p:cTn id="41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0" dur="80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1" dur="80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2" dur="80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3" nodeType="clickEffect" fill="hold">
                      <p:stCondLst>
                        <p:cond delay="indefinite"/>
                      </p:stCondLst>
                      <p:childTnLst>
                        <p:par>
                          <p:cTn id="4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7" dur="80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8" dur="80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9" dur="80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0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412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3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4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5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6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7" nodeType="afterEffect" fill="hold">
                            <p:stCondLst>
                              <p:cond delay="940"/>
                            </p:stCondLst>
                            <p:childTnLst>
                              <p:par>
                                <p:cTn id="4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0" dur="80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1" dur="80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2" dur="80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3" nodeType="afterEffect" fill="hold">
                            <p:stCondLst>
                              <p:cond delay="1020"/>
                            </p:stCondLst>
                            <p:childTnLst>
                              <p:par>
                                <p:cTn id="4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6" dur="80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7" dur="80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8" dur="80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9" nodeType="afterEffect" fill="hold">
                            <p:stCondLst>
                              <p:cond delay="1340"/>
                            </p:stCondLst>
                            <p:childTnLst>
                              <p:par>
                                <p:cTn id="41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2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3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4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5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6" nodeType="afterEffect" fill="hold">
                            <p:stCondLst>
                              <p:cond delay="1840"/>
                            </p:stCondLst>
                            <p:childTnLst>
                              <p:par>
                                <p:cTn id="41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9" dur="80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0" dur="80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1" dur="80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2" nodeType="clickEffect" fill="hold">
                      <p:stCondLst>
                        <p:cond delay="indefinite"/>
                      </p:stCondLst>
                      <p:childTnLst>
                        <p:par>
                          <p:cTn id="4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6" dur="80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7" dur="80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8" dur="80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9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416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2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3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4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5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6" nodeType="afterEffect" fill="hold">
                            <p:stCondLst>
                              <p:cond delay="860"/>
                            </p:stCondLst>
                            <p:childTnLst>
                              <p:par>
                                <p:cTn id="41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9" dur="80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0" dur="80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1" dur="80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2" nodeType="afterEffect" fill="hold">
                            <p:stCondLst>
                              <p:cond delay="940"/>
                            </p:stCondLst>
                            <p:childTnLst>
                              <p:par>
                                <p:cTn id="41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5" dur="80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6" dur="80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7" dur="80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8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41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1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2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3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4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41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8" dur="80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9" dur="80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0" dur="80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1" nodeType="clickEffect" fill="hold">
                      <p:stCondLst>
                        <p:cond delay="indefinite"/>
                      </p:stCondLst>
                      <p:childTnLst>
                        <p:par>
                          <p:cTn id="4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5" dur="80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6" dur="80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7" dur="80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8" nodeType="afterEffect" fill="hold">
                            <p:stCondLst>
                              <p:cond delay="480"/>
                            </p:stCondLst>
                            <p:childTnLst>
                              <p:par>
                                <p:cTn id="419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1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2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3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4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5" nodeType="afterEffect" fill="hold">
                            <p:stCondLst>
                              <p:cond delay="980"/>
                            </p:stCondLst>
                            <p:childTnLst>
                              <p:par>
                                <p:cTn id="4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8" dur="80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9" dur="80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0" dur="80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1" nodeType="afterEffect" fill="hold">
                            <p:stCondLst>
                              <p:cond delay="1060"/>
                            </p:stCondLst>
                            <p:childTnLst>
                              <p:par>
                                <p:cTn id="4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4" dur="80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5" dur="80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6" dur="80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7" nodeType="afterEffect" fill="hold">
                            <p:stCondLst>
                              <p:cond delay="1420"/>
                            </p:stCondLst>
                            <p:childTnLst>
                              <p:par>
                                <p:cTn id="42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0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1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2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3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4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4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7" dur="80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8" dur="80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9" dur="80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0" nodeType="clickEffect" fill="hold">
                      <p:stCondLst>
                        <p:cond delay="indefinite"/>
                      </p:stCondLst>
                      <p:childTnLst>
                        <p:par>
                          <p:cTn id="4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4" dur="80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5" dur="80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6" dur="80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0" dur="80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1" dur="80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2" dur="80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mbar Ellipsoi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A667-02F9-4F4A-99BD-7493DE997DD7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D25A-DE8E-4525-9633-C71ABA58DD0A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1952640" y="2209680"/>
            <a:ext cx="4343040" cy="2895480"/>
            <a:chOff x="1952640" y="2209680"/>
            <a:chExt cx="4343040" cy="2895480"/>
          </a:xfrm>
        </p:grpSpPr>
        <p:sp>
          <p:nvSpPr>
            <p:cNvPr id="342" name="Line 5"/>
            <p:cNvSpPr/>
            <p:nvPr/>
          </p:nvSpPr>
          <p:spPr>
            <a:xfrm flipV="1">
              <a:off x="3830400" y="2360160"/>
              <a:ext cx="0" cy="26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343" name="Line 6"/>
            <p:cNvSpPr/>
            <p:nvPr/>
          </p:nvSpPr>
          <p:spPr>
            <a:xfrm>
              <a:off x="2464560" y="3857040"/>
              <a:ext cx="324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344" name="Line 7"/>
            <p:cNvSpPr/>
            <p:nvPr/>
          </p:nvSpPr>
          <p:spPr>
            <a:xfrm flipH="1">
              <a:off x="2293920" y="3100320"/>
              <a:ext cx="2655360" cy="178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345" name="Text Box 8"/>
            <p:cNvSpPr/>
            <p:nvPr/>
          </p:nvSpPr>
          <p:spPr>
            <a:xfrm>
              <a:off x="3450960" y="2209680"/>
              <a:ext cx="682560" cy="58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Verdana"/>
                </a:rPr>
                <a:t>Z</a:t>
              </a:r>
              <a:endParaRPr b="0" lang="en-US" sz="12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346" name="Text Box 9"/>
            <p:cNvSpPr/>
            <p:nvPr/>
          </p:nvSpPr>
          <p:spPr>
            <a:xfrm>
              <a:off x="1952640" y="4521600"/>
              <a:ext cx="682560" cy="58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Verdana"/>
                </a:rPr>
                <a:t> </a:t>
              </a:r>
              <a:r>
                <a:rPr b="0" lang="en-US" sz="1100" spc="-1" strike="noStrike">
                  <a:solidFill>
                    <a:srgbClr val="336699"/>
                  </a:solidFill>
                  <a:latin typeface="Verdana"/>
                </a:rPr>
                <a:t>x</a:t>
              </a:r>
              <a:endParaRPr b="0" lang="en-US" sz="1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347" name="Text Box 10"/>
            <p:cNvSpPr/>
            <p:nvPr/>
          </p:nvSpPr>
          <p:spPr>
            <a:xfrm>
              <a:off x="5613120" y="3635640"/>
              <a:ext cx="682560" cy="58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Verdana"/>
                </a:rPr>
                <a:t> </a:t>
              </a:r>
              <a:r>
                <a:rPr b="0" lang="en-US" sz="1200" spc="-1" strike="noStrike">
                  <a:solidFill>
                    <a:srgbClr val="336699"/>
                  </a:solidFill>
                  <a:latin typeface="Verdana"/>
                </a:rPr>
                <a:t>y</a:t>
              </a:r>
              <a:endParaRPr b="0" lang="en-US" sz="1200" spc="-1" strike="noStrike">
                <a:solidFill>
                  <a:srgbClr val="336699"/>
                </a:solidFill>
                <a:latin typeface="Verdana"/>
              </a:endParaRPr>
            </a:p>
          </p:txBody>
        </p:sp>
      </p:grpSp>
      <p:sp>
        <p:nvSpPr>
          <p:cNvPr id="348" name="Oval 11"/>
          <p:cNvSpPr/>
          <p:nvPr/>
        </p:nvSpPr>
        <p:spPr>
          <a:xfrm>
            <a:off x="2739960" y="3162240"/>
            <a:ext cx="2219400" cy="1362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49" name="Oval 12"/>
          <p:cNvSpPr/>
          <p:nvPr/>
        </p:nvSpPr>
        <p:spPr>
          <a:xfrm>
            <a:off x="2739960" y="3595680"/>
            <a:ext cx="2219400" cy="582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50" name="Oval 13"/>
          <p:cNvSpPr/>
          <p:nvPr/>
        </p:nvSpPr>
        <p:spPr>
          <a:xfrm>
            <a:off x="3346560" y="3159000"/>
            <a:ext cx="919080" cy="13622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ih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B2D5-2D08-4C7F-8597-4C5D1E4E7FA3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2D48-A10D-4F05-BBED-0EDA5B495362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66" name="Text Box 7"/>
          <p:cNvSpPr/>
          <p:nvPr/>
        </p:nvSpPr>
        <p:spPr>
          <a:xfrm>
            <a:off x="853920" y="1403280"/>
            <a:ext cx="5542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1. Tentukan nilai ekstrim dan jenisnya, dari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67" name="Text Box 8"/>
          <p:cNvSpPr/>
          <p:nvPr/>
        </p:nvSpPr>
        <p:spPr>
          <a:xfrm>
            <a:off x="1387080" y="1873080"/>
            <a:ext cx="2406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a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. f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,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=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3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3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-6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y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68" name="Text Box 9"/>
          <p:cNvSpPr/>
          <p:nvPr/>
        </p:nvSpPr>
        <p:spPr>
          <a:xfrm>
            <a:off x="1446120" y="2254320"/>
            <a:ext cx="2922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b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. f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,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=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y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6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– 6y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69" name="Text Box 11"/>
          <p:cNvSpPr/>
          <p:nvPr/>
        </p:nvSpPr>
        <p:spPr>
          <a:xfrm>
            <a:off x="1537560" y="2616120"/>
            <a:ext cx="3562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c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. f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,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=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+4 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 2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8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– 1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70" name="Text Box 12"/>
          <p:cNvSpPr/>
          <p:nvPr/>
        </p:nvSpPr>
        <p:spPr>
          <a:xfrm>
            <a:off x="1533240" y="3016080"/>
            <a:ext cx="3252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. f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,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= 3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3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y</a:t>
            </a:r>
            <a:r>
              <a:rPr b="0" i="1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 9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4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1" name="Object 16"/>
              <p:cNvSpPr txBox="1"/>
              <p:nvPr/>
            </p:nvSpPr>
            <p:spPr>
              <a:xfrm>
                <a:off x="5715000" y="1676520"/>
                <a:ext cx="30132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2" name="Object 18"/>
              <p:cNvSpPr txBox="1"/>
              <p:nvPr/>
            </p:nvSpPr>
            <p:spPr>
              <a:xfrm>
                <a:off x="5813280" y="2390760"/>
                <a:ext cx="28148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73" name="Text Box 19"/>
          <p:cNvSpPr/>
          <p:nvPr/>
        </p:nvSpPr>
        <p:spPr>
          <a:xfrm>
            <a:off x="930240" y="3510000"/>
            <a:ext cx="6389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2. Tentukan nilai ekstrim global dan jenisnya, dari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74" name="Text Box 20"/>
          <p:cNvSpPr/>
          <p:nvPr/>
        </p:nvSpPr>
        <p:spPr>
          <a:xfrm>
            <a:off x="1753920" y="4038480"/>
            <a:ext cx="6191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a.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 f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,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=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6x+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8y+7 pada S={(x,y)| 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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1}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75" name="Text Box 21"/>
          <p:cNvSpPr/>
          <p:nvPr/>
        </p:nvSpPr>
        <p:spPr>
          <a:xfrm>
            <a:off x="1551600" y="4616280"/>
            <a:ext cx="6323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b.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 f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,y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=3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</a:t>
            </a:r>
            <a:r>
              <a:rPr b="0" i="1" lang="en-US" sz="2100" spc="-1" strike="noStrike">
                <a:solidFill>
                  <a:srgbClr val="336699"/>
                </a:solidFill>
                <a:latin typeface="Verdana"/>
              </a:rPr>
              <a:t>4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y pada S={(x,y)| 0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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x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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1, –1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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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1}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4243" dur="indefinite" restart="never" nodeType="tmRoot">
          <p:childTnLst>
            <p:seq>
              <p:cTn id="4244" dur="indefinite" nodeType="mainSeq">
                <p:childTnLst>
                  <p:par>
                    <p:cTn id="4245" nodeType="clickEffect" fill="hold">
                      <p:stCondLst>
                        <p:cond delay="indefinite"/>
                      </p:stCondLst>
                      <p:childTnLst>
                        <p:par>
                          <p:cTn id="4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9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0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1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2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5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6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7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8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1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2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3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4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7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8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9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0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3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4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5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6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9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0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1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2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5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6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7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8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9" nodeType="clickEffect" fill="hold">
                      <p:stCondLst>
                        <p:cond delay="indefinite"/>
                      </p:stCondLst>
                      <p:childTnLst>
                        <p:par>
                          <p:cTn id="4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3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4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5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6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9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0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1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2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5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6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7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8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ode Lagr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597960" y="1485720"/>
            <a:ext cx="80010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ntuk mencari nilai ektrim terkendal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isalkan z =f(x,y) dengan kendala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(x,y) = 0. Akan dicari ektrim f terhadap kendala g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erhatikan  kurva ketinggian dari suatu fungs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x,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= 9 –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berikut 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6FCE-FCE8-47BE-8B52-0E80BF4352B5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7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8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5A76-73A2-40A5-A05D-461D7DEDB80B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pic>
        <p:nvPicPr>
          <p:cNvPr id="1381" name="Picture 2" descr=""/>
          <p:cNvPicPr/>
          <p:nvPr/>
        </p:nvPicPr>
        <p:blipFill>
          <a:blip r:embed="rId1"/>
          <a:stretch/>
        </p:blipFill>
        <p:spPr>
          <a:xfrm>
            <a:off x="6359400" y="-95400"/>
            <a:ext cx="2524320" cy="2695680"/>
          </a:xfrm>
          <a:prstGeom prst="rect">
            <a:avLst/>
          </a:prstGeom>
          <a:ln w="0">
            <a:noFill/>
          </a:ln>
        </p:spPr>
      </p:pic>
      <p:sp>
        <p:nvSpPr>
          <p:cNvPr id="1382" name="Text Box 3"/>
          <p:cNvSpPr/>
          <p:nvPr/>
        </p:nvSpPr>
        <p:spPr>
          <a:xfrm>
            <a:off x="8048520" y="79200"/>
            <a:ext cx="1371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Verdana"/>
              </a:rPr>
              <a:t>g </a:t>
            </a:r>
            <a:r>
              <a:rPr b="1" lang="en-US" sz="12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1" i="1" lang="en-US" sz="1200" spc="-1" strike="noStrike">
                <a:solidFill>
                  <a:srgbClr val="336699"/>
                </a:solidFill>
                <a:latin typeface="Verdana"/>
              </a:rPr>
              <a:t>x, y</a:t>
            </a:r>
            <a:r>
              <a:rPr b="1" lang="en-US" sz="1200" spc="-1" strike="noStrike">
                <a:solidFill>
                  <a:srgbClr val="336699"/>
                </a:solidFill>
                <a:latin typeface="Verdana"/>
              </a:rPr>
              <a:t>) = 0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83" name="Text Box 6"/>
          <p:cNvSpPr/>
          <p:nvPr/>
        </p:nvSpPr>
        <p:spPr>
          <a:xfrm>
            <a:off x="1020600" y="3298680"/>
            <a:ext cx="774252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memaksimumkan f thd kendala g(x,y) =0 </a:t>
            </a:r>
            <a:r>
              <a:rPr b="0" lang="en-US" sz="21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sama dengan mencari perpotongan kurva ketinggian    f (x, y) = k dengan  fungsi  kendala  g (x, y) = 0  sehingga  diperoleh  k  ≥  f (x, y) untuk  setiap           x, y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D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f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 sepanjang g (x, y) = 0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84" name="Rectangle 7"/>
          <p:cNvSpPr/>
          <p:nvPr/>
        </p:nvSpPr>
        <p:spPr>
          <a:xfrm>
            <a:off x="990720" y="4929120"/>
            <a:ext cx="7696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Karena kurva ketinggian dan kurva kendala saling menyinggung </a:t>
            </a:r>
            <a:r>
              <a:rPr b="0" lang="en-US" sz="21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garis tegak lurusnya sama karena kurva ketinggian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5" name="Object 8"/>
              <p:cNvSpPr txBox="1"/>
              <p:nvPr/>
            </p:nvSpPr>
            <p:spPr>
              <a:xfrm>
                <a:off x="2028960" y="5964120"/>
                <a:ext cx="23130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6" name="Object 9"/>
              <p:cNvSpPr txBox="1"/>
              <p:nvPr/>
            </p:nvSpPr>
            <p:spPr>
              <a:xfrm>
                <a:off x="3355920" y="5597640"/>
                <a:ext cx="6667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7" name="Rectangle 10"/>
          <p:cNvSpPr/>
          <p:nvPr/>
        </p:nvSpPr>
        <p:spPr>
          <a:xfrm>
            <a:off x="4005720" y="5587920"/>
            <a:ext cx="2489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an kurva kendal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88" name="Rectangle 11"/>
          <p:cNvSpPr/>
          <p:nvPr/>
        </p:nvSpPr>
        <p:spPr>
          <a:xfrm>
            <a:off x="1009080" y="5918040"/>
            <a:ext cx="871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mak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89" name="Oval 12"/>
          <p:cNvSpPr/>
          <p:nvPr/>
        </p:nvSpPr>
        <p:spPr>
          <a:xfrm>
            <a:off x="8112240" y="352440"/>
            <a:ext cx="11430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90" name="Line 13"/>
          <p:cNvSpPr/>
          <p:nvPr/>
        </p:nvSpPr>
        <p:spPr>
          <a:xfrm flipH="1">
            <a:off x="7959600" y="860400"/>
            <a:ext cx="216000" cy="6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4309" dur="indefinite" restart="never" nodeType="tmRoot">
          <p:childTnLst>
            <p:seq>
              <p:cTn id="4310" dur="indefinite" nodeType="mainSeq">
                <p:childTnLst>
                  <p:par>
                    <p:cTn id="4311" nodeType="clickEffect" fill="hold">
                      <p:stCondLst>
                        <p:cond delay="0"/>
                      </p:stCondLst>
                      <p:childTnLst>
                        <p:par>
                          <p:cTn id="4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6" nodeType="clickEffect" fill="hold">
                      <p:stCondLst>
                        <p:cond delay="indefinite"/>
                      </p:stCondLst>
                      <p:childTnLst>
                        <p:par>
                          <p:cTn id="4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5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8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1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4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7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8" nodeType="clickEffect" fill="hold">
                      <p:stCondLst>
                        <p:cond delay="indefinite"/>
                      </p:stCondLst>
                      <p:childTnLst>
                        <p:par>
                          <p:cTn id="4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5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6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7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8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1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2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3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4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7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0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ode Lagr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"/>
          <p:cNvSpPr txBox="1"/>
          <p:nvPr/>
        </p:nvSpPr>
        <p:spPr>
          <a:xfrm>
            <a:off x="609480" y="1523520"/>
            <a:ext cx="8305920" cy="22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tuk memaksimumkan/meminimumkan f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terhadap kendala g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=0, selesaik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4B12-6ED4-4C34-B85A-93C5BBBBFF48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9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A49E-802D-4D5E-8784-E6D29B5D784F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6" name="Object 4"/>
              <p:cNvSpPr txBox="1"/>
              <p:nvPr/>
            </p:nvSpPr>
            <p:spPr>
              <a:xfrm>
                <a:off x="1182600" y="2446200"/>
                <a:ext cx="59040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an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7" name="Rectangle 5"/>
          <p:cNvSpPr/>
          <p:nvPr/>
        </p:nvSpPr>
        <p:spPr>
          <a:xfrm>
            <a:off x="1362240" y="3046320"/>
            <a:ext cx="583668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engan (x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y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titik kritis,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pengali langrange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98" name="Rectangle 7"/>
          <p:cNvSpPr/>
          <p:nvPr/>
        </p:nvSpPr>
        <p:spPr>
          <a:xfrm>
            <a:off x="685800" y="3505320"/>
            <a:ext cx="830592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800080"/>
              </a:buClr>
              <a:buSzPct val="75000"/>
              <a:buFont typeface="Wingdings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memaksimumkan/meminimumkan f(x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y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terhadap kendala g(x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y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=0 dan h(x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y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=0, selesaikan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9" name="Object 8"/>
              <p:cNvSpPr txBox="1"/>
              <p:nvPr/>
            </p:nvSpPr>
            <p:spPr>
              <a:xfrm>
                <a:off x="804960" y="4427640"/>
                <a:ext cx="48085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0" name="Rectangle 9"/>
          <p:cNvSpPr/>
          <p:nvPr/>
        </p:nvSpPr>
        <p:spPr>
          <a:xfrm>
            <a:off x="1438560" y="5027760"/>
            <a:ext cx="583668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engan (x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y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 titik kritis,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pengali langrange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01" name="Text Box 10"/>
          <p:cNvSpPr/>
          <p:nvPr/>
        </p:nvSpPr>
        <p:spPr>
          <a:xfrm>
            <a:off x="5923440" y="4422600"/>
            <a:ext cx="277848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g(x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y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=0, h(x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y</a:t>
            </a:r>
            <a:r>
              <a:rPr b="0" lang="en-US" sz="2100" spc="-1" strike="noStrike" baseline="-25000">
                <a:solidFill>
                  <a:srgbClr val="336699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)=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4371" dur="indefinite" restart="never" nodeType="tmRoot">
          <p:childTnLst>
            <p:seq>
              <p:cTn id="4372" dur="indefinite" nodeType="mainSeq">
                <p:childTnLst>
                  <p:par>
                    <p:cTn id="4373" nodeType="clickEffect" fill="hold">
                      <p:stCondLst>
                        <p:cond delay="0"/>
                      </p:stCondLst>
                      <p:childTnLst>
                        <p:par>
                          <p:cTn id="4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8" nodeType="clickEffect" fill="hold">
                      <p:stCondLst>
                        <p:cond delay="indefinite"/>
                      </p:stCondLst>
                      <p:childTnLst>
                        <p:par>
                          <p:cTn id="4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2" dur="5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3" dur="5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4" dur="5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5" dur="5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8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9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0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1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4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5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6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7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8" nodeType="clickEffect" fill="hold">
                      <p:stCondLst>
                        <p:cond delay="indefinite"/>
                      </p:stCondLst>
                      <p:childTnLst>
                        <p:par>
                          <p:cTn id="4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2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3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4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5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8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9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0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1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4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5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6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7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0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1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2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3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"/>
          <p:cNvSpPr txBox="1"/>
          <p:nvPr/>
        </p:nvSpPr>
        <p:spPr>
          <a:xfrm>
            <a:off x="38088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nakan metode lagrange untuk mencari nilai-nilai maksimun dan minimun d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f(x,y)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lingkaran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392C-8BB8-4636-B683-CE8B29165FAB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0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0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A79D-82D7-49D3-AE60-6C16F16FDE1B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07" name="Text Box 4"/>
          <p:cNvSpPr/>
          <p:nvPr/>
        </p:nvSpPr>
        <p:spPr>
          <a:xfrm>
            <a:off x="903600" y="2819520"/>
            <a:ext cx="999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wab: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08" name="Text Box 5"/>
          <p:cNvSpPr/>
          <p:nvPr/>
        </p:nvSpPr>
        <p:spPr>
          <a:xfrm>
            <a:off x="1240560" y="3228840"/>
            <a:ext cx="7253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itik-titik kritis didapat dengan memecahkan persama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lagrange berikut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9" name="Object 6"/>
              <p:cNvSpPr txBox="1"/>
              <p:nvPr/>
            </p:nvSpPr>
            <p:spPr>
              <a:xfrm>
                <a:off x="1820880" y="3921120"/>
                <a:ext cx="27306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0" name="Object 7"/>
              <p:cNvSpPr txBox="1"/>
              <p:nvPr/>
            </p:nvSpPr>
            <p:spPr>
              <a:xfrm>
                <a:off x="5372280" y="3948120"/>
                <a:ext cx="13334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1" name="Text Box 8"/>
          <p:cNvSpPr/>
          <p:nvPr/>
        </p:nvSpPr>
        <p:spPr>
          <a:xfrm>
            <a:off x="4653360" y="3882960"/>
            <a:ext cx="659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12" name="Text Box 9"/>
          <p:cNvSpPr/>
          <p:nvPr/>
        </p:nvSpPr>
        <p:spPr>
          <a:xfrm>
            <a:off x="1101600" y="4295880"/>
            <a:ext cx="8665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yaitu: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13" name="Text Box 10"/>
          <p:cNvSpPr/>
          <p:nvPr/>
        </p:nvSpPr>
        <p:spPr>
          <a:xfrm>
            <a:off x="1995480" y="4602240"/>
            <a:ext cx="2154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2x =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2x …….(1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14" name="Text Box 11"/>
          <p:cNvSpPr/>
          <p:nvPr/>
        </p:nvSpPr>
        <p:spPr>
          <a:xfrm>
            <a:off x="1818360" y="4956120"/>
            <a:ext cx="2346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2y =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2y …….(2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15" name="Text Box 12"/>
          <p:cNvSpPr/>
          <p:nvPr/>
        </p:nvSpPr>
        <p:spPr>
          <a:xfrm>
            <a:off x="1980000" y="5286240"/>
            <a:ext cx="2150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1 ……..(3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6" name="Object 16"/>
              <p:cNvSpPr txBox="1"/>
              <p:nvPr/>
            </p:nvSpPr>
            <p:spPr>
              <a:xfrm>
                <a:off x="2362320" y="2743200"/>
                <a:ext cx="26892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7" name="Object 18"/>
              <p:cNvSpPr txBox="1"/>
              <p:nvPr/>
            </p:nvSpPr>
            <p:spPr>
              <a:xfrm>
                <a:off x="5562720" y="2743200"/>
                <a:ext cx="26892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424" dur="indefinite" restart="never" nodeType="tmRoot">
          <p:childTnLst>
            <p:seq>
              <p:cTn id="4425" dur="indefinite" nodeType="mainSeq">
                <p:childTnLst>
                  <p:par>
                    <p:cTn id="4426" nodeType="clickEffect" fill="hold">
                      <p:stCondLst>
                        <p:cond delay="0"/>
                      </p:stCondLst>
                      <p:childTnLst>
                        <p:par>
                          <p:cTn id="4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7" nodeType="clickEffect" fill="hold">
                      <p:stCondLst>
                        <p:cond delay="indefinite"/>
                      </p:stCondLst>
                      <p:childTnLst>
                        <p:par>
                          <p:cTn id="4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41" dur="80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2" dur="80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3" dur="80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4" nodeType="clickEffect" fill="hold">
                      <p:stCondLst>
                        <p:cond delay="indefinite"/>
                      </p:stCondLst>
                      <p:childTnLst>
                        <p:par>
                          <p:cTn id="4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8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9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0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1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4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5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6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7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8" nodeType="clickEffect" fill="hold">
                      <p:stCondLst>
                        <p:cond delay="indefinite"/>
                      </p:stCondLst>
                      <p:childTnLst>
                        <p:par>
                          <p:cTn id="4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2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3" nodeType="clickEffect" fill="hold">
                      <p:stCondLst>
                        <p:cond delay="indefinite"/>
                      </p:stCondLst>
                      <p:childTnLst>
                        <p:par>
                          <p:cTn id="4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7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8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9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0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3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4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5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6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9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0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1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2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5" dur="80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6" dur="80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7" dur="80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8" nodeType="clickEffect" fill="hold">
                      <p:stCondLst>
                        <p:cond delay="indefinite"/>
                      </p:stCondLst>
                      <p:childTnLst>
                        <p:par>
                          <p:cTn id="4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2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3" nodeType="clickEffect" fill="hold">
                      <p:stCondLst>
                        <p:cond delay="indefinite"/>
                      </p:stCondLst>
                      <p:childTnLst>
                        <p:par>
                          <p:cTn id="4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7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8" nodeType="clickEffect" fill="hold">
                      <p:stCondLst>
                        <p:cond delay="indefinite"/>
                      </p:stCondLst>
                      <p:childTnLst>
                        <p:par>
                          <p:cTn id="4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2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 (lanjuta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B5D3-B913-4769-B2E0-542B40BB7EC2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2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2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DB28-EA61-4D59-91CF-8F89932B3A9D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22" name="Text Box 5"/>
          <p:cNvSpPr/>
          <p:nvPr/>
        </p:nvSpPr>
        <p:spPr>
          <a:xfrm>
            <a:off x="1134720" y="1523880"/>
            <a:ext cx="691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ari persamaan (3), nilai x dan y tidak mungkin sama-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ama nol, sehingga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23" name="Text Box 6"/>
          <p:cNvSpPr/>
          <p:nvPr/>
        </p:nvSpPr>
        <p:spPr>
          <a:xfrm>
            <a:off x="1222560" y="2205000"/>
            <a:ext cx="6778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x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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0, dari (1) di dapat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1, kemudian dari (2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i dapat y = 0, dan dari (3) di dapat 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1 </a:t>
            </a:r>
            <a:r>
              <a:rPr b="0" lang="en-US" sz="21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x = ± 1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24" name="Text Box 7"/>
          <p:cNvSpPr/>
          <p:nvPr/>
        </p:nvSpPr>
        <p:spPr>
          <a:xfrm>
            <a:off x="1267200" y="3000240"/>
            <a:ext cx="6857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y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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0, dari (2) di dapat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= -1, kemudian dari (1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i dapat x = 0, dan dari (3) di dapat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1 </a:t>
            </a:r>
            <a:r>
              <a:rPr b="0" lang="en-US" sz="21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y = ± 1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25" name="Text Box 8"/>
          <p:cNvSpPr/>
          <p:nvPr/>
        </p:nvSpPr>
        <p:spPr>
          <a:xfrm>
            <a:off x="1415880" y="3727440"/>
            <a:ext cx="5921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itik-titik kritis yaitu (1,0), (-1,0), (0,1) dan (0,-1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26" name="Text Box 18"/>
          <p:cNvSpPr/>
          <p:nvPr/>
        </p:nvSpPr>
        <p:spPr>
          <a:xfrm>
            <a:off x="2579040" y="411480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27" name="Text Box 19"/>
          <p:cNvSpPr/>
          <p:nvPr/>
        </p:nvSpPr>
        <p:spPr>
          <a:xfrm>
            <a:off x="3243240" y="4191120"/>
            <a:ext cx="1396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(1, 0) = 2,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28" name="Text Box 27"/>
          <p:cNvSpPr/>
          <p:nvPr/>
        </p:nvSpPr>
        <p:spPr>
          <a:xfrm>
            <a:off x="994680" y="4184640"/>
            <a:ext cx="1550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(1,0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29" name="Text Box 28"/>
          <p:cNvSpPr/>
          <p:nvPr/>
        </p:nvSpPr>
        <p:spPr>
          <a:xfrm>
            <a:off x="6408000" y="411480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30" name="Text Box 29"/>
          <p:cNvSpPr/>
          <p:nvPr/>
        </p:nvSpPr>
        <p:spPr>
          <a:xfrm>
            <a:off x="7077600" y="4191120"/>
            <a:ext cx="1410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(-1, 0) = 2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31" name="Text Box 30"/>
          <p:cNvSpPr/>
          <p:nvPr/>
        </p:nvSpPr>
        <p:spPr>
          <a:xfrm>
            <a:off x="4843080" y="4184640"/>
            <a:ext cx="16056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(-1,0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32" name="Text Box 31"/>
          <p:cNvSpPr/>
          <p:nvPr/>
        </p:nvSpPr>
        <p:spPr>
          <a:xfrm>
            <a:off x="2598120" y="451008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33" name="Text Box 32"/>
          <p:cNvSpPr/>
          <p:nvPr/>
        </p:nvSpPr>
        <p:spPr>
          <a:xfrm>
            <a:off x="3262320" y="4586400"/>
            <a:ext cx="1396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(0, 1) = 0,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34" name="Text Box 33"/>
          <p:cNvSpPr/>
          <p:nvPr/>
        </p:nvSpPr>
        <p:spPr>
          <a:xfrm>
            <a:off x="1013760" y="4579920"/>
            <a:ext cx="1550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(0,1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35" name="Text Box 34"/>
          <p:cNvSpPr/>
          <p:nvPr/>
        </p:nvSpPr>
        <p:spPr>
          <a:xfrm>
            <a:off x="6427080" y="4510080"/>
            <a:ext cx="59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endParaRPr b="0" lang="en-US" sz="33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36" name="Text Box 35"/>
          <p:cNvSpPr/>
          <p:nvPr/>
        </p:nvSpPr>
        <p:spPr>
          <a:xfrm>
            <a:off x="7084440" y="4586400"/>
            <a:ext cx="1340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(0,-1) = 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37" name="Text Box 36"/>
          <p:cNvSpPr/>
          <p:nvPr/>
        </p:nvSpPr>
        <p:spPr>
          <a:xfrm>
            <a:off x="4862160" y="4579920"/>
            <a:ext cx="16056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untuk (0,-1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38" name="Text Box 37"/>
          <p:cNvSpPr/>
          <p:nvPr/>
        </p:nvSpPr>
        <p:spPr>
          <a:xfrm>
            <a:off x="1371600" y="5029200"/>
            <a:ext cx="7151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di nilai maksimum global = 2 pada titik (1,0) dan (-1,0),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39" name="Text Box 38"/>
          <p:cNvSpPr/>
          <p:nvPr/>
        </p:nvSpPr>
        <p:spPr>
          <a:xfrm>
            <a:off x="1281240" y="5410080"/>
            <a:ext cx="643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edangkan nilai minimun global=0 pada titik (0,1)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an (0,-1)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4503" dur="indefinite" restart="never" nodeType="tmRoot">
          <p:childTnLst>
            <p:seq>
              <p:cTn id="4504" dur="indefinite" nodeType="mainSeq">
                <p:childTnLst>
                  <p:par>
                    <p:cTn id="4505" nodeType="clickEffect" fill="hold">
                      <p:stCondLst>
                        <p:cond delay="indefinite"/>
                      </p:stCondLst>
                      <p:childTnLst>
                        <p:par>
                          <p:cTn id="4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9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0" nodeType="clickEffect" fill="hold">
                      <p:stCondLst>
                        <p:cond delay="indefinite"/>
                      </p:stCondLst>
                      <p:childTnLst>
                        <p:par>
                          <p:cTn id="4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4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5" nodeType="clickEffect" fill="hold">
                      <p:stCondLst>
                        <p:cond delay="indefinite"/>
                      </p:stCondLst>
                      <p:childTnLst>
                        <p:par>
                          <p:cTn id="4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9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0" nodeType="clickEffect" fill="hold">
                      <p:stCondLst>
                        <p:cond delay="indefinite"/>
                      </p:stCondLst>
                      <p:childTnLst>
                        <p:par>
                          <p:cTn id="4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4" dur="80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5" dur="80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6" dur="80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7" nodeType="clickEffect" fill="hold">
                      <p:stCondLst>
                        <p:cond delay="indefinite"/>
                      </p:stCondLst>
                      <p:childTnLst>
                        <p:par>
                          <p:cTn id="4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1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5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6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7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8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2" dur="80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3" dur="80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4" dur="80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5" nodeType="clickEffect" fill="hold">
                      <p:stCondLst>
                        <p:cond delay="indefinite"/>
                      </p:stCondLst>
                      <p:childTnLst>
                        <p:par>
                          <p:cTn id="4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9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3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4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5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6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0" dur="80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1" dur="80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2" dur="80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3" nodeType="clickEffect" fill="hold">
                      <p:stCondLst>
                        <p:cond delay="indefinite"/>
                      </p:stCondLst>
                      <p:childTnLst>
                        <p:par>
                          <p:cTn id="4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7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1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2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3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4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8" dur="80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9" dur="80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0" dur="80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1" nodeType="clickEffect" fill="hold">
                      <p:stCondLst>
                        <p:cond delay="indefinite"/>
                      </p:stCondLst>
                      <p:childTnLst>
                        <p:par>
                          <p:cTn id="4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5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8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9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0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1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2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6" dur="80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7" dur="80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8" dur="80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9" nodeType="clickEffect" fill="hold">
                      <p:stCondLst>
                        <p:cond delay="indefinite"/>
                      </p:stCondLst>
                      <p:childTnLst>
                        <p:par>
                          <p:cTn id="4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3" dur="80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4" dur="80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5" dur="80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9" dur="80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0" dur="80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1" dur="80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E90B-D5A1-4D66-9EEA-7321C56286E4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F29E-7D94-4C02-813C-4B328848B075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pic>
        <p:nvPicPr>
          <p:cNvPr id="1444" name="Picture 3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B145-3121-4AAC-88AE-C564FD1F7673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4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6D7F-7F20-4BC5-B630-BB95660875D0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49" name="Rectangle 4"/>
          <p:cNvSpPr/>
          <p:nvPr/>
        </p:nvSpPr>
        <p:spPr>
          <a:xfrm>
            <a:off x="1023840" y="1447920"/>
            <a:ext cx="633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2. f(x,y,z)= x + 2y+3z  pada elips yang merupakan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perpotongan 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2 dan bidang y + z = 1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50" name="Text Box 5"/>
          <p:cNvSpPr/>
          <p:nvPr/>
        </p:nvSpPr>
        <p:spPr>
          <a:xfrm>
            <a:off x="979920" y="2057400"/>
            <a:ext cx="999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wab: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51" name="Text Box 6"/>
          <p:cNvSpPr/>
          <p:nvPr/>
        </p:nvSpPr>
        <p:spPr>
          <a:xfrm>
            <a:off x="1227600" y="2819520"/>
            <a:ext cx="7253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itik-titik kritis didapat dengan memecahkan persama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lagrange berikut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Object 7"/>
              <p:cNvSpPr txBox="1"/>
              <p:nvPr/>
            </p:nvSpPr>
            <p:spPr>
              <a:xfrm>
                <a:off x="1149480" y="3511440"/>
                <a:ext cx="506412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Object 8"/>
              <p:cNvSpPr txBox="1"/>
              <p:nvPr/>
            </p:nvSpPr>
            <p:spPr>
              <a:xfrm>
                <a:off x="6375240" y="3538440"/>
                <a:ext cx="1625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4" name="Text Box 9"/>
          <p:cNvSpPr/>
          <p:nvPr/>
        </p:nvSpPr>
        <p:spPr>
          <a:xfrm>
            <a:off x="6126120" y="3473280"/>
            <a:ext cx="252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55" name="Text Box 10"/>
          <p:cNvSpPr/>
          <p:nvPr/>
        </p:nvSpPr>
        <p:spPr>
          <a:xfrm>
            <a:off x="1089000" y="4267080"/>
            <a:ext cx="8665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yaitu: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56" name="Text Box 11"/>
          <p:cNvSpPr/>
          <p:nvPr/>
        </p:nvSpPr>
        <p:spPr>
          <a:xfrm>
            <a:off x="1974240" y="4495680"/>
            <a:ext cx="2572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1 = 2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 …………….(1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57" name="Text Box 12"/>
          <p:cNvSpPr/>
          <p:nvPr/>
        </p:nvSpPr>
        <p:spPr>
          <a:xfrm>
            <a:off x="2017440" y="4849920"/>
            <a:ext cx="2516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2 = 2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y +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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…….(2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58" name="Text Box 13"/>
          <p:cNvSpPr/>
          <p:nvPr/>
        </p:nvSpPr>
        <p:spPr>
          <a:xfrm>
            <a:off x="1995840" y="5562720"/>
            <a:ext cx="2503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2 ……..…..(4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9" name="Object 14"/>
              <p:cNvSpPr txBox="1"/>
              <p:nvPr/>
            </p:nvSpPr>
            <p:spPr>
              <a:xfrm>
                <a:off x="960480" y="2411280"/>
                <a:ext cx="27511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0" name="Object 15"/>
              <p:cNvSpPr txBox="1"/>
              <p:nvPr/>
            </p:nvSpPr>
            <p:spPr>
              <a:xfrm>
                <a:off x="4038480" y="2401920"/>
                <a:ext cx="26892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1" name="Object 16"/>
              <p:cNvSpPr txBox="1"/>
              <p:nvPr/>
            </p:nvSpPr>
            <p:spPr>
              <a:xfrm>
                <a:off x="6927840" y="2438280"/>
                <a:ext cx="206388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2" name="Object 18"/>
              <p:cNvSpPr txBox="1"/>
              <p:nvPr/>
            </p:nvSpPr>
            <p:spPr>
              <a:xfrm>
                <a:off x="4038480" y="3884760"/>
                <a:ext cx="16052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3" name="Text Box 20"/>
          <p:cNvSpPr/>
          <p:nvPr/>
        </p:nvSpPr>
        <p:spPr>
          <a:xfrm>
            <a:off x="3362760" y="3825720"/>
            <a:ext cx="659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dan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64" name="Text Box 21"/>
          <p:cNvSpPr/>
          <p:nvPr/>
        </p:nvSpPr>
        <p:spPr>
          <a:xfrm>
            <a:off x="2014200" y="5911920"/>
            <a:ext cx="2450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y + z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1 ……..…..(5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65" name="Text Box 22"/>
          <p:cNvSpPr/>
          <p:nvPr/>
        </p:nvSpPr>
        <p:spPr>
          <a:xfrm>
            <a:off x="1957680" y="5226120"/>
            <a:ext cx="2631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3 =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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……………….(3)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4612" dur="indefinite" restart="never" nodeType="tmRoot">
          <p:childTnLst>
            <p:seq>
              <p:cTn id="4613" dur="indefinite" nodeType="mainSeq">
                <p:childTnLst>
                  <p:par>
                    <p:cTn id="4614" nodeType="clickEffect" fill="hold">
                      <p:stCondLst>
                        <p:cond delay="0"/>
                      </p:stCondLst>
                      <p:childTnLst>
                        <p:par>
                          <p:cTn id="4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8" dur="80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9" dur="80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0" dur="80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1" nodeType="clickEffect" fill="hold">
                      <p:stCondLst>
                        <p:cond delay="indefinite"/>
                      </p:stCondLst>
                      <p:childTnLst>
                        <p:par>
                          <p:cTn id="4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5" dur="80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6" dur="80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7" dur="80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8" nodeType="clickEffect" fill="hold">
                      <p:stCondLst>
                        <p:cond delay="indefinite"/>
                      </p:stCondLst>
                      <p:childTnLst>
                        <p:par>
                          <p:cTn id="4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2" dur="5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3" dur="5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4" dur="5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5" dur="5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8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9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0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1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4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5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6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7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8" nodeType="clickEffect" fill="hold">
                      <p:stCondLst>
                        <p:cond delay="indefinite"/>
                      </p:stCondLst>
                      <p:childTnLst>
                        <p:par>
                          <p:cTn id="4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2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3" nodeType="clickEffect" fill="hold">
                      <p:stCondLst>
                        <p:cond delay="indefinite"/>
                      </p:stCondLst>
                      <p:childTnLst>
                        <p:par>
                          <p:cTn id="4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7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8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9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0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3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4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5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6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9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0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1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2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5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6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7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8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1" dur="5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2" dur="5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3" dur="5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4" dur="5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5" nodeType="clickEffect" fill="hold">
                      <p:stCondLst>
                        <p:cond delay="indefinite"/>
                      </p:stCondLst>
                      <p:childTnLst>
                        <p:par>
                          <p:cTn id="4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9" dur="80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0" dur="80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1" dur="80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2" nodeType="clickEffect" fill="hold">
                      <p:stCondLst>
                        <p:cond delay="indefinite"/>
                      </p:stCondLst>
                      <p:childTnLst>
                        <p:par>
                          <p:cTn id="4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6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7" nodeType="clickEffect" fill="hold">
                      <p:stCondLst>
                        <p:cond delay="indefinite"/>
                      </p:stCondLst>
                      <p:childTnLst>
                        <p:par>
                          <p:cTn id="4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1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2" nodeType="clickEffect" fill="hold">
                      <p:stCondLst>
                        <p:cond delay="indefinite"/>
                      </p:stCondLst>
                      <p:childTnLst>
                        <p:par>
                          <p:cTn id="4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6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7" nodeType="clickEffect" fill="hold">
                      <p:stCondLst>
                        <p:cond delay="indefinite"/>
                      </p:stCondLst>
                      <p:childTnLst>
                        <p:par>
                          <p:cTn id="4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1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2" nodeType="clickEffect" fill="hold">
                      <p:stCondLst>
                        <p:cond delay="indefinite"/>
                      </p:stCondLst>
                      <p:childTnLst>
                        <p:par>
                          <p:cTn id="4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6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 (lanjuta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609480" y="1304640"/>
            <a:ext cx="8305920" cy="15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ri (1), x = 1/(2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, dari (2) dan (3), y = -1/(2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. Jadi dari (4), didapat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= ± ½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ntuk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= ½, didapatkan titik kritis (1, -1, 2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ntuk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= -½, didapatkan titik kritis (-1, 1, 0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9927-1F28-4D83-BB56-8D243106D950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3549-10FC-401D-9592-9306946463E6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71" name="Text Box 4"/>
          <p:cNvSpPr/>
          <p:nvPr/>
        </p:nvSpPr>
        <p:spPr>
          <a:xfrm>
            <a:off x="973080" y="2895480"/>
            <a:ext cx="5371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adi nilai maksimum = 5 pada titik (1,-1,2),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72" name="Text Box 5"/>
          <p:cNvSpPr/>
          <p:nvPr/>
        </p:nvSpPr>
        <p:spPr>
          <a:xfrm>
            <a:off x="1026720" y="3276720"/>
            <a:ext cx="6746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Sedangkan nilai minimun global=1 pada titik (-1,1,0)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4717" dur="indefinite" restart="never" nodeType="tmRoot">
          <p:childTnLst>
            <p:seq>
              <p:cTn id="4718" dur="indefinite" nodeType="mainSeq">
                <p:childTnLst>
                  <p:par>
                    <p:cTn id="4719" nodeType="clickEffect" fill="hold">
                      <p:stCondLst>
                        <p:cond delay="indefinite"/>
                      </p:stCondLst>
                      <p:childTnLst>
                        <p:par>
                          <p:cTn id="4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3" dur="80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4" dur="80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5" dur="80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6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47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9" dur="80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0" dur="80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1" dur="80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ih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9F3F-4425-426B-8205-309EEDA168C5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3C7F-954B-448E-AEFD-C7FD639F6C35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77" name="Rectangle 4"/>
          <p:cNvSpPr/>
          <p:nvPr/>
        </p:nvSpPr>
        <p:spPr>
          <a:xfrm>
            <a:off x="609480" y="1457280"/>
            <a:ext cx="83059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Gunakan metode lagrange untuk mencari nilai-nilai maksimun dan minimun dari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80008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(x,y) = 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pada kendala g(x,y)= xy – 3 = 0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80008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(x,y) = xy pada lingkaran 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1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80008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(x,y) = 4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– 4xy+ 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pada kendala 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= 1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80008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f(x,y) = x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y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+z</a:t>
            </a:r>
            <a:r>
              <a:rPr b="0" lang="en-US" sz="2100" spc="-1" strike="noStrike" baseline="30000">
                <a:solidFill>
                  <a:srgbClr val="336699"/>
                </a:solidFill>
                <a:latin typeface="Verdana"/>
              </a:rPr>
              <a:t>2 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pada kendala x + 3y – 2z = 12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4732" dur="indefinite" restart="never" nodeType="tmRoot">
          <p:childTnLst>
            <p:seq>
              <p:cTn id="4733" dur="indefinite" nodeType="mainSeq">
                <p:childTnLst>
                  <p:par>
                    <p:cTn id="4734" nodeType="clickEffect" fill="hold">
                      <p:stCondLst>
                        <p:cond delay="0"/>
                      </p:stCondLst>
                      <p:childTnLst>
                        <p:par>
                          <p:cTn id="4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5" nodeType="clickEffect" fill="hold">
                      <p:stCondLst>
                        <p:cond delay="indefinite"/>
                      </p:stCondLst>
                      <p:childTnLst>
                        <p:par>
                          <p:cTn id="4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0" nodeType="clickEffect" fill="hold">
                      <p:stCondLst>
                        <p:cond delay="indefinite"/>
                      </p:stCondLst>
                      <p:childTnLst>
                        <p:par>
                          <p:cTn id="4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mukaan di 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09480" y="1600200"/>
            <a:ext cx="830592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perboloida berdaun satu, mempunyai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ntuk umu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176F-330A-4245-8EC6-3F356F65D85A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D6D3-C2F9-43CA-B82D-C85069010A6D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0" y="308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5"/>
              <p:cNvSpPr txBox="1"/>
              <p:nvPr/>
            </p:nvSpPr>
            <p:spPr>
              <a:xfrm>
                <a:off x="3801960" y="2286000"/>
                <a:ext cx="2522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 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 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 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" name="Rectangle 6"/>
          <p:cNvSpPr/>
          <p:nvPr/>
        </p:nvSpPr>
        <p:spPr>
          <a:xfrm>
            <a:off x="6325200" y="2514240"/>
            <a:ext cx="1585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, a, b, c &gt; 0</a:t>
            </a:r>
            <a:r>
              <a:rPr b="0" lang="en-US" sz="21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7"/>
              <p:cNvSpPr txBox="1"/>
              <p:nvPr/>
            </p:nvSpPr>
            <p:spPr>
              <a:xfrm>
                <a:off x="4508640" y="3181320"/>
                <a:ext cx="14983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Rectangle 8"/>
          <p:cNvSpPr/>
          <p:nvPr/>
        </p:nvSpPr>
        <p:spPr>
          <a:xfrm>
            <a:off x="792360" y="3331800"/>
            <a:ext cx="3890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Jejak di bidang XOY,  z = 0 </a:t>
            </a:r>
            <a:r>
              <a:rPr b="0" lang="en-US" sz="2100" spc="-1" strike="noStrike">
                <a:solidFill>
                  <a:srgbClr val="336699"/>
                </a:solidFill>
                <a:latin typeface="Wingdings"/>
                <a:ea typeface="Wingdings"/>
              </a:rPr>
              <a:t>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5966640" y="3370320"/>
            <a:ext cx="20826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berupa  Ellips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10"/>
              <p:cNvSpPr txBox="1"/>
              <p:nvPr/>
            </p:nvSpPr>
            <p:spPr>
              <a:xfrm>
                <a:off x="4519440" y="4019400"/>
                <a:ext cx="14749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Rectangle 11"/>
          <p:cNvSpPr/>
          <p:nvPr/>
        </p:nvSpPr>
        <p:spPr>
          <a:xfrm>
            <a:off x="793080" y="4169880"/>
            <a:ext cx="3874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Jejak di bidang XOZ,  y = 0 </a:t>
            </a:r>
            <a:r>
              <a:rPr b="0" lang="en-US" sz="2100" spc="-1" strike="noStrike">
                <a:solidFill>
                  <a:srgbClr val="336699"/>
                </a:solidFill>
                <a:latin typeface="Wingdings"/>
                <a:ea typeface="Wingdings"/>
              </a:rPr>
              <a:t>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64" name="Rectangle 12"/>
          <p:cNvSpPr/>
          <p:nvPr/>
        </p:nvSpPr>
        <p:spPr>
          <a:xfrm>
            <a:off x="5966640" y="4208400"/>
            <a:ext cx="2733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berupa  Hiperbolik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13"/>
              <p:cNvSpPr txBox="1"/>
              <p:nvPr/>
            </p:nvSpPr>
            <p:spPr>
              <a:xfrm>
                <a:off x="4522680" y="4933800"/>
                <a:ext cx="14749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6" name="Rectangle 14"/>
          <p:cNvSpPr/>
          <p:nvPr/>
        </p:nvSpPr>
        <p:spPr>
          <a:xfrm>
            <a:off x="796320" y="5084280"/>
            <a:ext cx="3874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Jejak di bidang YOZ,  x = 0 </a:t>
            </a:r>
            <a:r>
              <a:rPr b="0" lang="en-US" sz="2100" spc="-1" strike="noStrike">
                <a:solidFill>
                  <a:srgbClr val="336699"/>
                </a:solidFill>
                <a:latin typeface="Wingdings"/>
                <a:ea typeface="Wingdings"/>
              </a:rPr>
              <a:t>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67" name="Rectangle 15"/>
          <p:cNvSpPr/>
          <p:nvPr/>
        </p:nvSpPr>
        <p:spPr>
          <a:xfrm>
            <a:off x="5969880" y="5122800"/>
            <a:ext cx="2733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berupa  Hiperbolik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mbar Hiperbolik Berdaun Sa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9A05-433D-4167-ADD3-FB6712C396BE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E2FB-3665-47C5-986A-AC19737141B3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72" name="AutoShape 4"/>
          <p:cNvSpPr/>
          <p:nvPr/>
        </p:nvSpPr>
        <p:spPr>
          <a:xfrm>
            <a:off x="2438280" y="2152800"/>
            <a:ext cx="4648320" cy="27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2437920" y="215748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74" name="Rectangle 11"/>
          <p:cNvSpPr/>
          <p:nvPr/>
        </p:nvSpPr>
        <p:spPr>
          <a:xfrm>
            <a:off x="2584080" y="43909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75" name="Rectangle 13"/>
          <p:cNvSpPr/>
          <p:nvPr/>
        </p:nvSpPr>
        <p:spPr>
          <a:xfrm>
            <a:off x="2758320" y="440532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6699"/>
              </a:solidFill>
              <a:latin typeface="Verdana"/>
            </a:endParaRPr>
          </a:p>
        </p:txBody>
      </p:sp>
      <p:grpSp>
        <p:nvGrpSpPr>
          <p:cNvPr id="376" name="Group 22"/>
          <p:cNvGrpSpPr/>
          <p:nvPr/>
        </p:nvGrpSpPr>
        <p:grpSpPr>
          <a:xfrm>
            <a:off x="2647440" y="2235240"/>
            <a:ext cx="4031640" cy="2566800"/>
            <a:chOff x="2647440" y="2235240"/>
            <a:chExt cx="4031640" cy="2566800"/>
          </a:xfrm>
        </p:grpSpPr>
        <p:sp>
          <p:nvSpPr>
            <p:cNvPr id="377" name="Freeform 6"/>
            <p:cNvSpPr/>
            <p:nvPr/>
          </p:nvSpPr>
          <p:spPr>
            <a:xfrm>
              <a:off x="4381560" y="2292480"/>
              <a:ext cx="122040" cy="25095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509560"/>
                <a:gd name="textAreaBottom" fmla="*/ 2509920 h 2509560"/>
              </a:gdLst>
              <a:ahLst/>
              <a:rect l="textAreaLeft" t="textAreaTop" r="textAreaRight" b="textAreaBottom"/>
              <a:pathLst>
                <a:path w="400" h="8250">
                  <a:moveTo>
                    <a:pt x="167" y="8217"/>
                  </a:moveTo>
                  <a:lnTo>
                    <a:pt x="167" y="333"/>
                  </a:lnTo>
                  <a:cubicBezTo>
                    <a:pt x="167" y="315"/>
                    <a:pt x="182" y="300"/>
                    <a:pt x="200" y="300"/>
                  </a:cubicBezTo>
                  <a:cubicBezTo>
                    <a:pt x="219" y="300"/>
                    <a:pt x="233" y="315"/>
                    <a:pt x="233" y="333"/>
                  </a:cubicBezTo>
                  <a:lnTo>
                    <a:pt x="233" y="8217"/>
                  </a:lnTo>
                  <a:cubicBezTo>
                    <a:pt x="233" y="8235"/>
                    <a:pt x="219" y="8250"/>
                    <a:pt x="200" y="8250"/>
                  </a:cubicBezTo>
                  <a:cubicBezTo>
                    <a:pt x="182" y="8250"/>
                    <a:pt x="167" y="8235"/>
                    <a:pt x="167" y="8217"/>
                  </a:cubicBezTo>
                  <a:close/>
                  <a:moveTo>
                    <a:pt x="0" y="400"/>
                  </a:moveTo>
                  <a:lnTo>
                    <a:pt x="200" y="0"/>
                  </a:lnTo>
                  <a:lnTo>
                    <a:pt x="400" y="40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378" name="Freeform 7"/>
            <p:cNvSpPr/>
            <p:nvPr/>
          </p:nvSpPr>
          <p:spPr>
            <a:xfrm>
              <a:off x="2971800" y="3635280"/>
              <a:ext cx="3478320" cy="122400"/>
            </a:xfrm>
            <a:custGeom>
              <a:avLst/>
              <a:gdLst>
                <a:gd name="textAreaLeft" fmla="*/ 0 w 3478320"/>
                <a:gd name="textAreaRight" fmla="*/ 3478680 w 347832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1433" h="400">
                  <a:moveTo>
                    <a:pt x="33" y="166"/>
                  </a:moveTo>
                  <a:lnTo>
                    <a:pt x="11100" y="166"/>
                  </a:lnTo>
                  <a:cubicBezTo>
                    <a:pt x="11118" y="166"/>
                    <a:pt x="11133" y="181"/>
                    <a:pt x="11133" y="200"/>
                  </a:cubicBezTo>
                  <a:cubicBezTo>
                    <a:pt x="11133" y="218"/>
                    <a:pt x="11118" y="233"/>
                    <a:pt x="11100" y="233"/>
                  </a:cubicBezTo>
                  <a:lnTo>
                    <a:pt x="33" y="233"/>
                  </a:lnTo>
                  <a:cubicBezTo>
                    <a:pt x="15" y="233"/>
                    <a:pt x="0" y="218"/>
                    <a:pt x="0" y="200"/>
                  </a:cubicBezTo>
                  <a:cubicBezTo>
                    <a:pt x="0" y="181"/>
                    <a:pt x="15" y="166"/>
                    <a:pt x="33" y="166"/>
                  </a:cubicBezTo>
                  <a:close/>
                  <a:moveTo>
                    <a:pt x="11033" y="0"/>
                  </a:moveTo>
                  <a:lnTo>
                    <a:pt x="11433" y="200"/>
                  </a:lnTo>
                  <a:lnTo>
                    <a:pt x="11033" y="400"/>
                  </a:lnTo>
                  <a:lnTo>
                    <a:pt x="11033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379" name="Freeform 8"/>
            <p:cNvSpPr/>
            <p:nvPr/>
          </p:nvSpPr>
          <p:spPr>
            <a:xfrm>
              <a:off x="2800440" y="2975040"/>
              <a:ext cx="2851200" cy="1689120"/>
            </a:xfrm>
            <a:custGeom>
              <a:avLst/>
              <a:gdLst>
                <a:gd name="textAreaLeft" fmla="*/ 0 w 2851200"/>
                <a:gd name="textAreaRight" fmla="*/ 2851560 w 2851200"/>
                <a:gd name="textAreaTop" fmla="*/ 0 h 1689120"/>
                <a:gd name="textAreaBottom" fmla="*/ 1689480 h 1689120"/>
              </a:gdLst>
              <a:ahLst/>
              <a:rect l="textAreaLeft" t="textAreaTop" r="textAreaRight" b="textAreaBottom"/>
              <a:pathLst>
                <a:path w="9372" h="5555">
                  <a:moveTo>
                    <a:pt x="9350" y="67"/>
                  </a:moveTo>
                  <a:lnTo>
                    <a:pt x="304" y="5414"/>
                  </a:lnTo>
                  <a:cubicBezTo>
                    <a:pt x="288" y="5424"/>
                    <a:pt x="268" y="5418"/>
                    <a:pt x="258" y="5402"/>
                  </a:cubicBezTo>
                  <a:cubicBezTo>
                    <a:pt x="249" y="5387"/>
                    <a:pt x="254" y="5366"/>
                    <a:pt x="270" y="5357"/>
                  </a:cubicBezTo>
                  <a:lnTo>
                    <a:pt x="9317" y="10"/>
                  </a:lnTo>
                  <a:cubicBezTo>
                    <a:pt x="9332" y="0"/>
                    <a:pt x="9353" y="6"/>
                    <a:pt x="9362" y="22"/>
                  </a:cubicBezTo>
                  <a:cubicBezTo>
                    <a:pt x="9372" y="37"/>
                    <a:pt x="9366" y="58"/>
                    <a:pt x="9350" y="67"/>
                  </a:cubicBezTo>
                  <a:close/>
                  <a:moveTo>
                    <a:pt x="446" y="5524"/>
                  </a:moveTo>
                  <a:lnTo>
                    <a:pt x="0" y="5555"/>
                  </a:lnTo>
                  <a:lnTo>
                    <a:pt x="243" y="5179"/>
                  </a:lnTo>
                  <a:lnTo>
                    <a:pt x="446" y="5524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380" name="Rectangle 9"/>
            <p:cNvSpPr/>
            <p:nvPr/>
          </p:nvSpPr>
          <p:spPr>
            <a:xfrm>
              <a:off x="4185720" y="223524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9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381" name="Rectangle 10"/>
            <p:cNvSpPr/>
            <p:nvPr/>
          </p:nvSpPr>
          <p:spPr>
            <a:xfrm>
              <a:off x="4331880" y="22352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382" name="Rectangle 12"/>
            <p:cNvSpPr/>
            <p:nvPr/>
          </p:nvSpPr>
          <p:spPr>
            <a:xfrm>
              <a:off x="2647440" y="4405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383" name="Rectangle 14"/>
            <p:cNvSpPr/>
            <p:nvPr/>
          </p:nvSpPr>
          <p:spPr>
            <a:xfrm>
              <a:off x="6497280" y="3573360"/>
              <a:ext cx="18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900" spc="-1" strike="noStrike">
                <a:solidFill>
                  <a:srgbClr val="336699"/>
                </a:solidFill>
                <a:latin typeface="Verdana"/>
              </a:endParaRPr>
            </a:p>
          </p:txBody>
        </p:sp>
      </p:grpSp>
      <p:sp>
        <p:nvSpPr>
          <p:cNvPr id="384" name="Rectangle 15"/>
          <p:cNvSpPr/>
          <p:nvPr/>
        </p:nvSpPr>
        <p:spPr>
          <a:xfrm>
            <a:off x="6671880" y="357336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85" name="Oval 16"/>
          <p:cNvSpPr/>
          <p:nvPr/>
        </p:nvSpPr>
        <p:spPr>
          <a:xfrm>
            <a:off x="3854520" y="2759040"/>
            <a:ext cx="1173240" cy="182520"/>
          </a:xfrm>
          <a:prstGeom prst="ellipse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86" name="Freeform 17"/>
          <p:cNvSpPr/>
          <p:nvPr/>
        </p:nvSpPr>
        <p:spPr>
          <a:xfrm>
            <a:off x="3851280" y="4272120"/>
            <a:ext cx="1182600" cy="196560"/>
          </a:xfrm>
          <a:custGeom>
            <a:avLst/>
            <a:gdLst>
              <a:gd name="textAreaLeft" fmla="*/ 0 w 1182600"/>
              <a:gd name="textAreaRight" fmla="*/ 1182960 w 118260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3891" h="649">
                <a:moveTo>
                  <a:pt x="2088" y="51"/>
                </a:moveTo>
                <a:lnTo>
                  <a:pt x="2088" y="51"/>
                </a:lnTo>
                <a:cubicBezTo>
                  <a:pt x="2074" y="51"/>
                  <a:pt x="2063" y="39"/>
                  <a:pt x="2063" y="25"/>
                </a:cubicBezTo>
                <a:cubicBezTo>
                  <a:pt x="2064" y="12"/>
                  <a:pt x="2075" y="1"/>
                  <a:pt x="2089" y="1"/>
                </a:cubicBezTo>
                <a:cubicBezTo>
                  <a:pt x="2103" y="1"/>
                  <a:pt x="2114" y="13"/>
                  <a:pt x="2113" y="26"/>
                </a:cubicBezTo>
                <a:cubicBezTo>
                  <a:pt x="2113" y="40"/>
                  <a:pt x="2102" y="51"/>
                  <a:pt x="2088" y="51"/>
                </a:cubicBezTo>
                <a:close/>
                <a:moveTo>
                  <a:pt x="1988" y="50"/>
                </a:moveTo>
                <a:lnTo>
                  <a:pt x="1988" y="50"/>
                </a:lnTo>
                <a:cubicBezTo>
                  <a:pt x="1974" y="50"/>
                  <a:pt x="1963" y="38"/>
                  <a:pt x="1963" y="24"/>
                </a:cubicBezTo>
                <a:cubicBezTo>
                  <a:pt x="1964" y="11"/>
                  <a:pt x="1975" y="0"/>
                  <a:pt x="1989" y="0"/>
                </a:cubicBezTo>
                <a:cubicBezTo>
                  <a:pt x="2003" y="0"/>
                  <a:pt x="2014" y="12"/>
                  <a:pt x="2013" y="25"/>
                </a:cubicBezTo>
                <a:cubicBezTo>
                  <a:pt x="2013" y="39"/>
                  <a:pt x="2002" y="50"/>
                  <a:pt x="1988" y="50"/>
                </a:cubicBezTo>
                <a:close/>
                <a:moveTo>
                  <a:pt x="1889" y="50"/>
                </a:moveTo>
                <a:lnTo>
                  <a:pt x="1889" y="50"/>
                </a:lnTo>
                <a:cubicBezTo>
                  <a:pt x="1875" y="50"/>
                  <a:pt x="1863" y="39"/>
                  <a:pt x="1863" y="25"/>
                </a:cubicBezTo>
                <a:cubicBezTo>
                  <a:pt x="1863" y="11"/>
                  <a:pt x="1874" y="0"/>
                  <a:pt x="1888" y="0"/>
                </a:cubicBezTo>
                <a:cubicBezTo>
                  <a:pt x="1902" y="0"/>
                  <a:pt x="1913" y="11"/>
                  <a:pt x="1913" y="25"/>
                </a:cubicBezTo>
                <a:cubicBezTo>
                  <a:pt x="1914" y="39"/>
                  <a:pt x="1902" y="50"/>
                  <a:pt x="1889" y="50"/>
                </a:cubicBezTo>
                <a:close/>
                <a:moveTo>
                  <a:pt x="1789" y="51"/>
                </a:moveTo>
                <a:lnTo>
                  <a:pt x="1789" y="51"/>
                </a:lnTo>
                <a:cubicBezTo>
                  <a:pt x="1775" y="51"/>
                  <a:pt x="1763" y="40"/>
                  <a:pt x="1763" y="26"/>
                </a:cubicBezTo>
                <a:cubicBezTo>
                  <a:pt x="1763" y="12"/>
                  <a:pt x="1774" y="1"/>
                  <a:pt x="1788" y="1"/>
                </a:cubicBezTo>
                <a:cubicBezTo>
                  <a:pt x="1802" y="1"/>
                  <a:pt x="1813" y="12"/>
                  <a:pt x="1813" y="26"/>
                </a:cubicBezTo>
                <a:cubicBezTo>
                  <a:pt x="1813" y="40"/>
                  <a:pt x="1802" y="51"/>
                  <a:pt x="1789" y="51"/>
                </a:cubicBezTo>
                <a:close/>
                <a:moveTo>
                  <a:pt x="1689" y="53"/>
                </a:moveTo>
                <a:lnTo>
                  <a:pt x="1689" y="53"/>
                </a:lnTo>
                <a:cubicBezTo>
                  <a:pt x="1675" y="53"/>
                  <a:pt x="1664" y="42"/>
                  <a:pt x="1663" y="28"/>
                </a:cubicBezTo>
                <a:cubicBezTo>
                  <a:pt x="1663" y="14"/>
                  <a:pt x="1674" y="3"/>
                  <a:pt x="1688" y="3"/>
                </a:cubicBezTo>
                <a:cubicBezTo>
                  <a:pt x="1702" y="2"/>
                  <a:pt x="1713" y="13"/>
                  <a:pt x="1713" y="27"/>
                </a:cubicBezTo>
                <a:cubicBezTo>
                  <a:pt x="1714" y="41"/>
                  <a:pt x="1703" y="52"/>
                  <a:pt x="1689" y="53"/>
                </a:cubicBezTo>
                <a:close/>
                <a:moveTo>
                  <a:pt x="1589" y="55"/>
                </a:moveTo>
                <a:lnTo>
                  <a:pt x="1589" y="55"/>
                </a:lnTo>
                <a:cubicBezTo>
                  <a:pt x="1575" y="55"/>
                  <a:pt x="1563" y="44"/>
                  <a:pt x="1563" y="30"/>
                </a:cubicBezTo>
                <a:cubicBezTo>
                  <a:pt x="1563" y="16"/>
                  <a:pt x="1574" y="5"/>
                  <a:pt x="1588" y="5"/>
                </a:cubicBezTo>
                <a:cubicBezTo>
                  <a:pt x="1602" y="4"/>
                  <a:pt x="1613" y="15"/>
                  <a:pt x="1613" y="29"/>
                </a:cubicBezTo>
                <a:cubicBezTo>
                  <a:pt x="1614" y="43"/>
                  <a:pt x="1603" y="54"/>
                  <a:pt x="1589" y="55"/>
                </a:cubicBezTo>
                <a:close/>
                <a:moveTo>
                  <a:pt x="1489" y="58"/>
                </a:moveTo>
                <a:lnTo>
                  <a:pt x="1489" y="58"/>
                </a:lnTo>
                <a:cubicBezTo>
                  <a:pt x="1475" y="59"/>
                  <a:pt x="1464" y="48"/>
                  <a:pt x="1463" y="34"/>
                </a:cubicBezTo>
                <a:cubicBezTo>
                  <a:pt x="1463" y="20"/>
                  <a:pt x="1473" y="9"/>
                  <a:pt x="1487" y="8"/>
                </a:cubicBezTo>
                <a:cubicBezTo>
                  <a:pt x="1501" y="8"/>
                  <a:pt x="1513" y="18"/>
                  <a:pt x="1513" y="32"/>
                </a:cubicBezTo>
                <a:cubicBezTo>
                  <a:pt x="1514" y="46"/>
                  <a:pt x="1503" y="58"/>
                  <a:pt x="1489" y="58"/>
                </a:cubicBezTo>
                <a:close/>
                <a:moveTo>
                  <a:pt x="1389" y="63"/>
                </a:moveTo>
                <a:lnTo>
                  <a:pt x="1389" y="63"/>
                </a:lnTo>
                <a:cubicBezTo>
                  <a:pt x="1375" y="63"/>
                  <a:pt x="1364" y="52"/>
                  <a:pt x="1363" y="39"/>
                </a:cubicBezTo>
                <a:cubicBezTo>
                  <a:pt x="1363" y="25"/>
                  <a:pt x="1374" y="13"/>
                  <a:pt x="1387" y="13"/>
                </a:cubicBezTo>
                <a:cubicBezTo>
                  <a:pt x="1401" y="12"/>
                  <a:pt x="1413" y="23"/>
                  <a:pt x="1413" y="37"/>
                </a:cubicBezTo>
                <a:cubicBezTo>
                  <a:pt x="1414" y="50"/>
                  <a:pt x="1403" y="62"/>
                  <a:pt x="1389" y="63"/>
                </a:cubicBezTo>
                <a:close/>
                <a:moveTo>
                  <a:pt x="1290" y="68"/>
                </a:moveTo>
                <a:lnTo>
                  <a:pt x="1290" y="68"/>
                </a:lnTo>
                <a:cubicBezTo>
                  <a:pt x="1276" y="69"/>
                  <a:pt x="1264" y="58"/>
                  <a:pt x="1263" y="44"/>
                </a:cubicBezTo>
                <a:cubicBezTo>
                  <a:pt x="1263" y="30"/>
                  <a:pt x="1273" y="19"/>
                  <a:pt x="1287" y="18"/>
                </a:cubicBezTo>
                <a:cubicBezTo>
                  <a:pt x="1301" y="17"/>
                  <a:pt x="1313" y="28"/>
                  <a:pt x="1313" y="42"/>
                </a:cubicBezTo>
                <a:cubicBezTo>
                  <a:pt x="1314" y="56"/>
                  <a:pt x="1303" y="67"/>
                  <a:pt x="1290" y="68"/>
                </a:cubicBezTo>
                <a:close/>
                <a:moveTo>
                  <a:pt x="1190" y="74"/>
                </a:moveTo>
                <a:lnTo>
                  <a:pt x="1190" y="74"/>
                </a:lnTo>
                <a:cubicBezTo>
                  <a:pt x="1176" y="74"/>
                  <a:pt x="1164" y="64"/>
                  <a:pt x="1164" y="50"/>
                </a:cubicBezTo>
                <a:cubicBezTo>
                  <a:pt x="1163" y="37"/>
                  <a:pt x="1173" y="25"/>
                  <a:pt x="1187" y="24"/>
                </a:cubicBezTo>
                <a:cubicBezTo>
                  <a:pt x="1201" y="23"/>
                  <a:pt x="1213" y="33"/>
                  <a:pt x="1213" y="47"/>
                </a:cubicBezTo>
                <a:cubicBezTo>
                  <a:pt x="1214" y="61"/>
                  <a:pt x="1204" y="73"/>
                  <a:pt x="1190" y="74"/>
                </a:cubicBezTo>
                <a:close/>
                <a:moveTo>
                  <a:pt x="1090" y="81"/>
                </a:moveTo>
                <a:lnTo>
                  <a:pt x="1090" y="81"/>
                </a:lnTo>
                <a:cubicBezTo>
                  <a:pt x="1077" y="82"/>
                  <a:pt x="1065" y="71"/>
                  <a:pt x="1064" y="57"/>
                </a:cubicBezTo>
                <a:cubicBezTo>
                  <a:pt x="1063" y="44"/>
                  <a:pt x="1073" y="32"/>
                  <a:pt x="1087" y="31"/>
                </a:cubicBezTo>
                <a:cubicBezTo>
                  <a:pt x="1101" y="30"/>
                  <a:pt x="1113" y="40"/>
                  <a:pt x="1114" y="54"/>
                </a:cubicBezTo>
                <a:cubicBezTo>
                  <a:pt x="1115" y="68"/>
                  <a:pt x="1104" y="80"/>
                  <a:pt x="1090" y="81"/>
                </a:cubicBezTo>
                <a:close/>
                <a:moveTo>
                  <a:pt x="991" y="89"/>
                </a:moveTo>
                <a:lnTo>
                  <a:pt x="991" y="89"/>
                </a:lnTo>
                <a:cubicBezTo>
                  <a:pt x="977" y="90"/>
                  <a:pt x="965" y="80"/>
                  <a:pt x="964" y="66"/>
                </a:cubicBezTo>
                <a:cubicBezTo>
                  <a:pt x="963" y="52"/>
                  <a:pt x="973" y="40"/>
                  <a:pt x="987" y="39"/>
                </a:cubicBezTo>
                <a:cubicBezTo>
                  <a:pt x="1001" y="38"/>
                  <a:pt x="1013" y="48"/>
                  <a:pt x="1014" y="61"/>
                </a:cubicBezTo>
                <a:cubicBezTo>
                  <a:pt x="1015" y="75"/>
                  <a:pt x="1005" y="87"/>
                  <a:pt x="991" y="89"/>
                </a:cubicBezTo>
                <a:close/>
                <a:moveTo>
                  <a:pt x="892" y="98"/>
                </a:moveTo>
                <a:lnTo>
                  <a:pt x="892" y="98"/>
                </a:lnTo>
                <a:cubicBezTo>
                  <a:pt x="878" y="99"/>
                  <a:pt x="866" y="89"/>
                  <a:pt x="864" y="75"/>
                </a:cubicBezTo>
                <a:cubicBezTo>
                  <a:pt x="863" y="61"/>
                  <a:pt x="873" y="49"/>
                  <a:pt x="887" y="48"/>
                </a:cubicBezTo>
                <a:cubicBezTo>
                  <a:pt x="901" y="47"/>
                  <a:pt x="913" y="57"/>
                  <a:pt x="914" y="71"/>
                </a:cubicBezTo>
                <a:cubicBezTo>
                  <a:pt x="916" y="85"/>
                  <a:pt x="905" y="97"/>
                  <a:pt x="892" y="98"/>
                </a:cubicBezTo>
                <a:close/>
                <a:moveTo>
                  <a:pt x="793" y="109"/>
                </a:moveTo>
                <a:lnTo>
                  <a:pt x="793" y="109"/>
                </a:lnTo>
                <a:cubicBezTo>
                  <a:pt x="779" y="111"/>
                  <a:pt x="767" y="101"/>
                  <a:pt x="765" y="87"/>
                </a:cubicBezTo>
                <a:cubicBezTo>
                  <a:pt x="764" y="74"/>
                  <a:pt x="773" y="61"/>
                  <a:pt x="787" y="60"/>
                </a:cubicBezTo>
                <a:cubicBezTo>
                  <a:pt x="801" y="58"/>
                  <a:pt x="813" y="68"/>
                  <a:pt x="815" y="81"/>
                </a:cubicBezTo>
                <a:cubicBezTo>
                  <a:pt x="816" y="95"/>
                  <a:pt x="807" y="108"/>
                  <a:pt x="793" y="109"/>
                </a:cubicBezTo>
                <a:close/>
                <a:moveTo>
                  <a:pt x="694" y="122"/>
                </a:moveTo>
                <a:lnTo>
                  <a:pt x="694" y="122"/>
                </a:lnTo>
                <a:cubicBezTo>
                  <a:pt x="680" y="124"/>
                  <a:pt x="668" y="114"/>
                  <a:pt x="666" y="100"/>
                </a:cubicBezTo>
                <a:cubicBezTo>
                  <a:pt x="664" y="87"/>
                  <a:pt x="674" y="74"/>
                  <a:pt x="687" y="72"/>
                </a:cubicBezTo>
                <a:cubicBezTo>
                  <a:pt x="701" y="70"/>
                  <a:pt x="714" y="80"/>
                  <a:pt x="716" y="93"/>
                </a:cubicBezTo>
                <a:cubicBezTo>
                  <a:pt x="717" y="107"/>
                  <a:pt x="708" y="120"/>
                  <a:pt x="694" y="122"/>
                </a:cubicBezTo>
                <a:close/>
                <a:moveTo>
                  <a:pt x="595" y="135"/>
                </a:moveTo>
                <a:lnTo>
                  <a:pt x="595" y="135"/>
                </a:lnTo>
                <a:cubicBezTo>
                  <a:pt x="581" y="137"/>
                  <a:pt x="569" y="128"/>
                  <a:pt x="567" y="114"/>
                </a:cubicBezTo>
                <a:cubicBezTo>
                  <a:pt x="565" y="100"/>
                  <a:pt x="575" y="88"/>
                  <a:pt x="588" y="86"/>
                </a:cubicBezTo>
                <a:cubicBezTo>
                  <a:pt x="602" y="84"/>
                  <a:pt x="615" y="94"/>
                  <a:pt x="616" y="107"/>
                </a:cubicBezTo>
                <a:cubicBezTo>
                  <a:pt x="618" y="121"/>
                  <a:pt x="609" y="134"/>
                  <a:pt x="595" y="135"/>
                </a:cubicBezTo>
                <a:close/>
                <a:moveTo>
                  <a:pt x="497" y="152"/>
                </a:moveTo>
                <a:lnTo>
                  <a:pt x="497" y="152"/>
                </a:lnTo>
                <a:cubicBezTo>
                  <a:pt x="483" y="154"/>
                  <a:pt x="470" y="144"/>
                  <a:pt x="468" y="131"/>
                </a:cubicBezTo>
                <a:cubicBezTo>
                  <a:pt x="466" y="117"/>
                  <a:pt x="475" y="104"/>
                  <a:pt x="489" y="102"/>
                </a:cubicBezTo>
                <a:cubicBezTo>
                  <a:pt x="503" y="100"/>
                  <a:pt x="515" y="109"/>
                  <a:pt x="518" y="123"/>
                </a:cubicBezTo>
                <a:cubicBezTo>
                  <a:pt x="520" y="137"/>
                  <a:pt x="510" y="149"/>
                  <a:pt x="497" y="152"/>
                </a:cubicBezTo>
                <a:close/>
                <a:moveTo>
                  <a:pt x="400" y="171"/>
                </a:moveTo>
                <a:lnTo>
                  <a:pt x="400" y="171"/>
                </a:lnTo>
                <a:cubicBezTo>
                  <a:pt x="386" y="173"/>
                  <a:pt x="373" y="165"/>
                  <a:pt x="370" y="151"/>
                </a:cubicBezTo>
                <a:cubicBezTo>
                  <a:pt x="367" y="138"/>
                  <a:pt x="376" y="125"/>
                  <a:pt x="390" y="122"/>
                </a:cubicBezTo>
                <a:cubicBezTo>
                  <a:pt x="403" y="119"/>
                  <a:pt x="416" y="128"/>
                  <a:pt x="419" y="141"/>
                </a:cubicBezTo>
                <a:cubicBezTo>
                  <a:pt x="422" y="155"/>
                  <a:pt x="413" y="168"/>
                  <a:pt x="400" y="171"/>
                </a:cubicBezTo>
                <a:close/>
                <a:moveTo>
                  <a:pt x="303" y="193"/>
                </a:moveTo>
                <a:lnTo>
                  <a:pt x="303" y="193"/>
                </a:lnTo>
                <a:cubicBezTo>
                  <a:pt x="290" y="196"/>
                  <a:pt x="276" y="188"/>
                  <a:pt x="273" y="175"/>
                </a:cubicBezTo>
                <a:cubicBezTo>
                  <a:pt x="270" y="161"/>
                  <a:pt x="278" y="148"/>
                  <a:pt x="291" y="144"/>
                </a:cubicBezTo>
                <a:cubicBezTo>
                  <a:pt x="305" y="141"/>
                  <a:pt x="318" y="149"/>
                  <a:pt x="322" y="163"/>
                </a:cubicBezTo>
                <a:cubicBezTo>
                  <a:pt x="325" y="176"/>
                  <a:pt x="317" y="190"/>
                  <a:pt x="303" y="193"/>
                </a:cubicBezTo>
                <a:close/>
                <a:moveTo>
                  <a:pt x="209" y="220"/>
                </a:moveTo>
                <a:lnTo>
                  <a:pt x="209" y="220"/>
                </a:lnTo>
                <a:cubicBezTo>
                  <a:pt x="196" y="224"/>
                  <a:pt x="182" y="217"/>
                  <a:pt x="177" y="204"/>
                </a:cubicBezTo>
                <a:cubicBezTo>
                  <a:pt x="173" y="191"/>
                  <a:pt x="180" y="177"/>
                  <a:pt x="193" y="173"/>
                </a:cubicBezTo>
                <a:cubicBezTo>
                  <a:pt x="207" y="168"/>
                  <a:pt x="221" y="175"/>
                  <a:pt x="225" y="189"/>
                </a:cubicBezTo>
                <a:cubicBezTo>
                  <a:pt x="229" y="202"/>
                  <a:pt x="222" y="216"/>
                  <a:pt x="209" y="220"/>
                </a:cubicBezTo>
                <a:close/>
                <a:moveTo>
                  <a:pt x="117" y="255"/>
                </a:moveTo>
                <a:lnTo>
                  <a:pt x="117" y="255"/>
                </a:lnTo>
                <a:cubicBezTo>
                  <a:pt x="105" y="261"/>
                  <a:pt x="90" y="255"/>
                  <a:pt x="85" y="242"/>
                </a:cubicBezTo>
                <a:cubicBezTo>
                  <a:pt x="80" y="229"/>
                  <a:pt x="86" y="214"/>
                  <a:pt x="98" y="209"/>
                </a:cubicBezTo>
                <a:cubicBezTo>
                  <a:pt x="111" y="204"/>
                  <a:pt x="126" y="210"/>
                  <a:pt x="131" y="223"/>
                </a:cubicBezTo>
                <a:cubicBezTo>
                  <a:pt x="136" y="236"/>
                  <a:pt x="130" y="250"/>
                  <a:pt x="117" y="255"/>
                </a:cubicBezTo>
                <a:close/>
                <a:moveTo>
                  <a:pt x="45" y="308"/>
                </a:moveTo>
                <a:lnTo>
                  <a:pt x="45" y="308"/>
                </a:lnTo>
                <a:cubicBezTo>
                  <a:pt x="35" y="317"/>
                  <a:pt x="19" y="317"/>
                  <a:pt x="9" y="307"/>
                </a:cubicBezTo>
                <a:cubicBezTo>
                  <a:pt x="0" y="298"/>
                  <a:pt x="0" y="282"/>
                  <a:pt x="10" y="272"/>
                </a:cubicBezTo>
                <a:cubicBezTo>
                  <a:pt x="19" y="262"/>
                  <a:pt x="35" y="262"/>
                  <a:pt x="45" y="272"/>
                </a:cubicBezTo>
                <a:cubicBezTo>
                  <a:pt x="55" y="282"/>
                  <a:pt x="55" y="298"/>
                  <a:pt x="45" y="308"/>
                </a:cubicBezTo>
                <a:close/>
                <a:moveTo>
                  <a:pt x="62" y="359"/>
                </a:moveTo>
                <a:lnTo>
                  <a:pt x="62" y="359"/>
                </a:lnTo>
                <a:cubicBezTo>
                  <a:pt x="72" y="369"/>
                  <a:pt x="72" y="385"/>
                  <a:pt x="62" y="395"/>
                </a:cubicBezTo>
                <a:cubicBezTo>
                  <a:pt x="52" y="404"/>
                  <a:pt x="36" y="404"/>
                  <a:pt x="26" y="394"/>
                </a:cubicBezTo>
                <a:cubicBezTo>
                  <a:pt x="17" y="384"/>
                  <a:pt x="17" y="369"/>
                  <a:pt x="27" y="359"/>
                </a:cubicBezTo>
                <a:cubicBezTo>
                  <a:pt x="37" y="349"/>
                  <a:pt x="52" y="350"/>
                  <a:pt x="62" y="359"/>
                </a:cubicBezTo>
                <a:close/>
                <a:moveTo>
                  <a:pt x="140" y="404"/>
                </a:moveTo>
                <a:lnTo>
                  <a:pt x="140" y="404"/>
                </a:lnTo>
                <a:cubicBezTo>
                  <a:pt x="153" y="409"/>
                  <a:pt x="159" y="424"/>
                  <a:pt x="153" y="437"/>
                </a:cubicBezTo>
                <a:cubicBezTo>
                  <a:pt x="148" y="449"/>
                  <a:pt x="133" y="455"/>
                  <a:pt x="120" y="449"/>
                </a:cubicBezTo>
                <a:cubicBezTo>
                  <a:pt x="108" y="444"/>
                  <a:pt x="102" y="429"/>
                  <a:pt x="107" y="416"/>
                </a:cubicBezTo>
                <a:cubicBezTo>
                  <a:pt x="113" y="404"/>
                  <a:pt x="128" y="398"/>
                  <a:pt x="140" y="404"/>
                </a:cubicBezTo>
                <a:close/>
                <a:moveTo>
                  <a:pt x="232" y="437"/>
                </a:moveTo>
                <a:lnTo>
                  <a:pt x="232" y="437"/>
                </a:lnTo>
                <a:cubicBezTo>
                  <a:pt x="245" y="441"/>
                  <a:pt x="252" y="455"/>
                  <a:pt x="248" y="468"/>
                </a:cubicBezTo>
                <a:cubicBezTo>
                  <a:pt x="244" y="481"/>
                  <a:pt x="230" y="488"/>
                  <a:pt x="217" y="484"/>
                </a:cubicBezTo>
                <a:cubicBezTo>
                  <a:pt x="204" y="480"/>
                  <a:pt x="196" y="466"/>
                  <a:pt x="200" y="453"/>
                </a:cubicBezTo>
                <a:cubicBezTo>
                  <a:pt x="204" y="440"/>
                  <a:pt x="218" y="432"/>
                  <a:pt x="232" y="437"/>
                </a:cubicBezTo>
                <a:close/>
                <a:moveTo>
                  <a:pt x="327" y="463"/>
                </a:moveTo>
                <a:lnTo>
                  <a:pt x="327" y="463"/>
                </a:lnTo>
                <a:cubicBezTo>
                  <a:pt x="340" y="466"/>
                  <a:pt x="348" y="480"/>
                  <a:pt x="345" y="493"/>
                </a:cubicBezTo>
                <a:cubicBezTo>
                  <a:pt x="342" y="506"/>
                  <a:pt x="328" y="514"/>
                  <a:pt x="315" y="511"/>
                </a:cubicBezTo>
                <a:cubicBezTo>
                  <a:pt x="301" y="508"/>
                  <a:pt x="293" y="494"/>
                  <a:pt x="296" y="481"/>
                </a:cubicBezTo>
                <a:cubicBezTo>
                  <a:pt x="300" y="467"/>
                  <a:pt x="313" y="459"/>
                  <a:pt x="327" y="463"/>
                </a:cubicBezTo>
                <a:close/>
                <a:moveTo>
                  <a:pt x="423" y="484"/>
                </a:moveTo>
                <a:lnTo>
                  <a:pt x="423" y="484"/>
                </a:lnTo>
                <a:cubicBezTo>
                  <a:pt x="437" y="486"/>
                  <a:pt x="446" y="500"/>
                  <a:pt x="443" y="513"/>
                </a:cubicBezTo>
                <a:cubicBezTo>
                  <a:pt x="440" y="527"/>
                  <a:pt x="427" y="535"/>
                  <a:pt x="414" y="533"/>
                </a:cubicBezTo>
                <a:cubicBezTo>
                  <a:pt x="400" y="530"/>
                  <a:pt x="391" y="517"/>
                  <a:pt x="394" y="503"/>
                </a:cubicBezTo>
                <a:cubicBezTo>
                  <a:pt x="397" y="490"/>
                  <a:pt x="410" y="481"/>
                  <a:pt x="423" y="484"/>
                </a:cubicBezTo>
                <a:close/>
                <a:moveTo>
                  <a:pt x="521" y="501"/>
                </a:moveTo>
                <a:lnTo>
                  <a:pt x="521" y="501"/>
                </a:lnTo>
                <a:cubicBezTo>
                  <a:pt x="534" y="504"/>
                  <a:pt x="544" y="516"/>
                  <a:pt x="542" y="530"/>
                </a:cubicBezTo>
                <a:cubicBezTo>
                  <a:pt x="539" y="544"/>
                  <a:pt x="527" y="553"/>
                  <a:pt x="513" y="551"/>
                </a:cubicBezTo>
                <a:cubicBezTo>
                  <a:pt x="499" y="549"/>
                  <a:pt x="490" y="536"/>
                  <a:pt x="492" y="522"/>
                </a:cubicBezTo>
                <a:cubicBezTo>
                  <a:pt x="494" y="509"/>
                  <a:pt x="507" y="499"/>
                  <a:pt x="521" y="501"/>
                </a:cubicBezTo>
                <a:close/>
                <a:moveTo>
                  <a:pt x="619" y="517"/>
                </a:moveTo>
                <a:lnTo>
                  <a:pt x="619" y="517"/>
                </a:lnTo>
                <a:cubicBezTo>
                  <a:pt x="633" y="519"/>
                  <a:pt x="642" y="532"/>
                  <a:pt x="640" y="545"/>
                </a:cubicBezTo>
                <a:cubicBezTo>
                  <a:pt x="639" y="559"/>
                  <a:pt x="626" y="569"/>
                  <a:pt x="612" y="567"/>
                </a:cubicBezTo>
                <a:cubicBezTo>
                  <a:pt x="599" y="565"/>
                  <a:pt x="589" y="552"/>
                  <a:pt x="591" y="538"/>
                </a:cubicBezTo>
                <a:cubicBezTo>
                  <a:pt x="593" y="525"/>
                  <a:pt x="605" y="515"/>
                  <a:pt x="619" y="517"/>
                </a:cubicBezTo>
                <a:close/>
                <a:moveTo>
                  <a:pt x="718" y="532"/>
                </a:moveTo>
                <a:lnTo>
                  <a:pt x="718" y="532"/>
                </a:lnTo>
                <a:cubicBezTo>
                  <a:pt x="732" y="533"/>
                  <a:pt x="741" y="546"/>
                  <a:pt x="739" y="560"/>
                </a:cubicBezTo>
                <a:cubicBezTo>
                  <a:pt x="738" y="573"/>
                  <a:pt x="725" y="583"/>
                  <a:pt x="711" y="581"/>
                </a:cubicBezTo>
                <a:cubicBezTo>
                  <a:pt x="698" y="579"/>
                  <a:pt x="688" y="567"/>
                  <a:pt x="690" y="553"/>
                </a:cubicBezTo>
                <a:cubicBezTo>
                  <a:pt x="692" y="539"/>
                  <a:pt x="704" y="530"/>
                  <a:pt x="718" y="532"/>
                </a:cubicBezTo>
                <a:close/>
                <a:moveTo>
                  <a:pt x="817" y="543"/>
                </a:moveTo>
                <a:lnTo>
                  <a:pt x="817" y="543"/>
                </a:lnTo>
                <a:cubicBezTo>
                  <a:pt x="831" y="544"/>
                  <a:pt x="840" y="557"/>
                  <a:pt x="839" y="571"/>
                </a:cubicBezTo>
                <a:cubicBezTo>
                  <a:pt x="837" y="584"/>
                  <a:pt x="825" y="594"/>
                  <a:pt x="811" y="593"/>
                </a:cubicBezTo>
                <a:cubicBezTo>
                  <a:pt x="798" y="591"/>
                  <a:pt x="788" y="579"/>
                  <a:pt x="789" y="565"/>
                </a:cubicBezTo>
                <a:cubicBezTo>
                  <a:pt x="791" y="551"/>
                  <a:pt x="803" y="541"/>
                  <a:pt x="817" y="543"/>
                </a:cubicBezTo>
                <a:close/>
                <a:moveTo>
                  <a:pt x="916" y="553"/>
                </a:moveTo>
                <a:lnTo>
                  <a:pt x="916" y="553"/>
                </a:lnTo>
                <a:cubicBezTo>
                  <a:pt x="930" y="555"/>
                  <a:pt x="940" y="567"/>
                  <a:pt x="938" y="580"/>
                </a:cubicBezTo>
                <a:cubicBezTo>
                  <a:pt x="937" y="594"/>
                  <a:pt x="925" y="604"/>
                  <a:pt x="911" y="603"/>
                </a:cubicBezTo>
                <a:cubicBezTo>
                  <a:pt x="898" y="602"/>
                  <a:pt x="887" y="590"/>
                  <a:pt x="889" y="576"/>
                </a:cubicBezTo>
                <a:cubicBezTo>
                  <a:pt x="890" y="562"/>
                  <a:pt x="902" y="552"/>
                  <a:pt x="916" y="553"/>
                </a:cubicBezTo>
                <a:close/>
                <a:moveTo>
                  <a:pt x="1015" y="563"/>
                </a:moveTo>
                <a:lnTo>
                  <a:pt x="1015" y="563"/>
                </a:lnTo>
                <a:cubicBezTo>
                  <a:pt x="1029" y="564"/>
                  <a:pt x="1039" y="576"/>
                  <a:pt x="1038" y="590"/>
                </a:cubicBezTo>
                <a:cubicBezTo>
                  <a:pt x="1037" y="604"/>
                  <a:pt x="1025" y="614"/>
                  <a:pt x="1011" y="612"/>
                </a:cubicBezTo>
                <a:cubicBezTo>
                  <a:pt x="997" y="611"/>
                  <a:pt x="987" y="599"/>
                  <a:pt x="988" y="585"/>
                </a:cubicBezTo>
                <a:cubicBezTo>
                  <a:pt x="989" y="572"/>
                  <a:pt x="1002" y="561"/>
                  <a:pt x="1015" y="563"/>
                </a:cubicBezTo>
                <a:close/>
                <a:moveTo>
                  <a:pt x="1115" y="570"/>
                </a:moveTo>
                <a:lnTo>
                  <a:pt x="1115" y="570"/>
                </a:lnTo>
                <a:cubicBezTo>
                  <a:pt x="1128" y="571"/>
                  <a:pt x="1139" y="583"/>
                  <a:pt x="1138" y="597"/>
                </a:cubicBezTo>
                <a:cubicBezTo>
                  <a:pt x="1137" y="610"/>
                  <a:pt x="1125" y="621"/>
                  <a:pt x="1111" y="620"/>
                </a:cubicBezTo>
                <a:cubicBezTo>
                  <a:pt x="1097" y="619"/>
                  <a:pt x="1087" y="607"/>
                  <a:pt x="1088" y="593"/>
                </a:cubicBezTo>
                <a:cubicBezTo>
                  <a:pt x="1089" y="579"/>
                  <a:pt x="1101" y="569"/>
                  <a:pt x="1115" y="570"/>
                </a:cubicBezTo>
                <a:close/>
                <a:moveTo>
                  <a:pt x="1214" y="577"/>
                </a:moveTo>
                <a:lnTo>
                  <a:pt x="1214" y="577"/>
                </a:lnTo>
                <a:cubicBezTo>
                  <a:pt x="1228" y="578"/>
                  <a:pt x="1239" y="590"/>
                  <a:pt x="1238" y="603"/>
                </a:cubicBezTo>
                <a:cubicBezTo>
                  <a:pt x="1237" y="617"/>
                  <a:pt x="1225" y="628"/>
                  <a:pt x="1211" y="627"/>
                </a:cubicBezTo>
                <a:cubicBezTo>
                  <a:pt x="1197" y="626"/>
                  <a:pt x="1187" y="614"/>
                  <a:pt x="1188" y="600"/>
                </a:cubicBezTo>
                <a:cubicBezTo>
                  <a:pt x="1189" y="587"/>
                  <a:pt x="1200" y="576"/>
                  <a:pt x="1214" y="577"/>
                </a:cubicBezTo>
                <a:close/>
                <a:moveTo>
                  <a:pt x="1314" y="583"/>
                </a:moveTo>
                <a:lnTo>
                  <a:pt x="1314" y="583"/>
                </a:lnTo>
                <a:cubicBezTo>
                  <a:pt x="1328" y="584"/>
                  <a:pt x="1338" y="596"/>
                  <a:pt x="1338" y="609"/>
                </a:cubicBezTo>
                <a:cubicBezTo>
                  <a:pt x="1337" y="623"/>
                  <a:pt x="1325" y="634"/>
                  <a:pt x="1311" y="633"/>
                </a:cubicBezTo>
                <a:cubicBezTo>
                  <a:pt x="1297" y="632"/>
                  <a:pt x="1287" y="620"/>
                  <a:pt x="1288" y="607"/>
                </a:cubicBezTo>
                <a:cubicBezTo>
                  <a:pt x="1288" y="593"/>
                  <a:pt x="1300" y="582"/>
                  <a:pt x="1314" y="583"/>
                </a:cubicBezTo>
                <a:close/>
                <a:moveTo>
                  <a:pt x="1413" y="588"/>
                </a:moveTo>
                <a:lnTo>
                  <a:pt x="1413" y="588"/>
                </a:lnTo>
                <a:cubicBezTo>
                  <a:pt x="1427" y="589"/>
                  <a:pt x="1438" y="600"/>
                  <a:pt x="1438" y="614"/>
                </a:cubicBezTo>
                <a:cubicBezTo>
                  <a:pt x="1437" y="628"/>
                  <a:pt x="1426" y="639"/>
                  <a:pt x="1412" y="638"/>
                </a:cubicBezTo>
                <a:cubicBezTo>
                  <a:pt x="1398" y="638"/>
                  <a:pt x="1387" y="626"/>
                  <a:pt x="1388" y="612"/>
                </a:cubicBezTo>
                <a:cubicBezTo>
                  <a:pt x="1388" y="599"/>
                  <a:pt x="1399" y="588"/>
                  <a:pt x="1413" y="588"/>
                </a:cubicBezTo>
                <a:close/>
                <a:moveTo>
                  <a:pt x="1513" y="592"/>
                </a:moveTo>
                <a:lnTo>
                  <a:pt x="1513" y="592"/>
                </a:lnTo>
                <a:cubicBezTo>
                  <a:pt x="1527" y="592"/>
                  <a:pt x="1538" y="604"/>
                  <a:pt x="1538" y="618"/>
                </a:cubicBezTo>
                <a:cubicBezTo>
                  <a:pt x="1537" y="631"/>
                  <a:pt x="1526" y="642"/>
                  <a:pt x="1512" y="642"/>
                </a:cubicBezTo>
                <a:cubicBezTo>
                  <a:pt x="1498" y="642"/>
                  <a:pt x="1487" y="630"/>
                  <a:pt x="1487" y="616"/>
                </a:cubicBezTo>
                <a:cubicBezTo>
                  <a:pt x="1488" y="602"/>
                  <a:pt x="1499" y="592"/>
                  <a:pt x="1513" y="592"/>
                </a:cubicBezTo>
                <a:close/>
                <a:moveTo>
                  <a:pt x="1613" y="595"/>
                </a:moveTo>
                <a:lnTo>
                  <a:pt x="1613" y="595"/>
                </a:lnTo>
                <a:cubicBezTo>
                  <a:pt x="1627" y="595"/>
                  <a:pt x="1638" y="606"/>
                  <a:pt x="1638" y="620"/>
                </a:cubicBezTo>
                <a:cubicBezTo>
                  <a:pt x="1637" y="634"/>
                  <a:pt x="1626" y="645"/>
                  <a:pt x="1612" y="645"/>
                </a:cubicBezTo>
                <a:cubicBezTo>
                  <a:pt x="1598" y="644"/>
                  <a:pt x="1587" y="633"/>
                  <a:pt x="1587" y="619"/>
                </a:cubicBezTo>
                <a:cubicBezTo>
                  <a:pt x="1588" y="605"/>
                  <a:pt x="1599" y="594"/>
                  <a:pt x="1613" y="595"/>
                </a:cubicBezTo>
                <a:close/>
                <a:moveTo>
                  <a:pt x="1713" y="597"/>
                </a:moveTo>
                <a:lnTo>
                  <a:pt x="1713" y="597"/>
                </a:lnTo>
                <a:cubicBezTo>
                  <a:pt x="1727" y="597"/>
                  <a:pt x="1738" y="608"/>
                  <a:pt x="1738" y="622"/>
                </a:cubicBezTo>
                <a:cubicBezTo>
                  <a:pt x="1737" y="636"/>
                  <a:pt x="1726" y="647"/>
                  <a:pt x="1712" y="647"/>
                </a:cubicBezTo>
                <a:cubicBezTo>
                  <a:pt x="1698" y="647"/>
                  <a:pt x="1687" y="635"/>
                  <a:pt x="1688" y="621"/>
                </a:cubicBezTo>
                <a:cubicBezTo>
                  <a:pt x="1688" y="608"/>
                  <a:pt x="1699" y="597"/>
                  <a:pt x="1713" y="597"/>
                </a:cubicBezTo>
                <a:close/>
                <a:moveTo>
                  <a:pt x="1813" y="598"/>
                </a:moveTo>
                <a:lnTo>
                  <a:pt x="1813" y="598"/>
                </a:lnTo>
                <a:cubicBezTo>
                  <a:pt x="1827" y="598"/>
                  <a:pt x="1838" y="610"/>
                  <a:pt x="1838" y="623"/>
                </a:cubicBezTo>
                <a:cubicBezTo>
                  <a:pt x="1837" y="637"/>
                  <a:pt x="1826" y="648"/>
                  <a:pt x="1812" y="648"/>
                </a:cubicBezTo>
                <a:cubicBezTo>
                  <a:pt x="1798" y="648"/>
                  <a:pt x="1787" y="637"/>
                  <a:pt x="1788" y="623"/>
                </a:cubicBezTo>
                <a:cubicBezTo>
                  <a:pt x="1788" y="609"/>
                  <a:pt x="1799" y="598"/>
                  <a:pt x="1813" y="598"/>
                </a:cubicBezTo>
                <a:close/>
                <a:moveTo>
                  <a:pt x="1913" y="599"/>
                </a:moveTo>
                <a:lnTo>
                  <a:pt x="1913" y="599"/>
                </a:lnTo>
                <a:cubicBezTo>
                  <a:pt x="1927" y="599"/>
                  <a:pt x="1938" y="611"/>
                  <a:pt x="1938" y="624"/>
                </a:cubicBezTo>
                <a:cubicBezTo>
                  <a:pt x="1938" y="638"/>
                  <a:pt x="1926" y="649"/>
                  <a:pt x="1912" y="649"/>
                </a:cubicBezTo>
                <a:cubicBezTo>
                  <a:pt x="1899" y="649"/>
                  <a:pt x="1887" y="638"/>
                  <a:pt x="1888" y="624"/>
                </a:cubicBezTo>
                <a:cubicBezTo>
                  <a:pt x="1888" y="610"/>
                  <a:pt x="1899" y="599"/>
                  <a:pt x="1913" y="599"/>
                </a:cubicBezTo>
                <a:close/>
                <a:moveTo>
                  <a:pt x="2012" y="599"/>
                </a:moveTo>
                <a:lnTo>
                  <a:pt x="2012" y="599"/>
                </a:lnTo>
                <a:cubicBezTo>
                  <a:pt x="2026" y="598"/>
                  <a:pt x="2037" y="609"/>
                  <a:pt x="2038" y="623"/>
                </a:cubicBezTo>
                <a:cubicBezTo>
                  <a:pt x="2038" y="637"/>
                  <a:pt x="2027" y="648"/>
                  <a:pt x="2013" y="649"/>
                </a:cubicBezTo>
                <a:cubicBezTo>
                  <a:pt x="1999" y="649"/>
                  <a:pt x="1988" y="638"/>
                  <a:pt x="1988" y="624"/>
                </a:cubicBezTo>
                <a:cubicBezTo>
                  <a:pt x="1987" y="610"/>
                  <a:pt x="1998" y="599"/>
                  <a:pt x="2012" y="599"/>
                </a:cubicBezTo>
                <a:close/>
                <a:moveTo>
                  <a:pt x="2112" y="598"/>
                </a:moveTo>
                <a:lnTo>
                  <a:pt x="2112" y="598"/>
                </a:lnTo>
                <a:cubicBezTo>
                  <a:pt x="2126" y="597"/>
                  <a:pt x="2137" y="608"/>
                  <a:pt x="2138" y="622"/>
                </a:cubicBezTo>
                <a:cubicBezTo>
                  <a:pt x="2138" y="636"/>
                  <a:pt x="2127" y="647"/>
                  <a:pt x="2113" y="648"/>
                </a:cubicBezTo>
                <a:cubicBezTo>
                  <a:pt x="2099" y="648"/>
                  <a:pt x="2088" y="637"/>
                  <a:pt x="2088" y="623"/>
                </a:cubicBezTo>
                <a:cubicBezTo>
                  <a:pt x="2087" y="609"/>
                  <a:pt x="2098" y="598"/>
                  <a:pt x="2112" y="598"/>
                </a:cubicBezTo>
                <a:close/>
                <a:moveTo>
                  <a:pt x="2212" y="596"/>
                </a:moveTo>
                <a:lnTo>
                  <a:pt x="2212" y="596"/>
                </a:lnTo>
                <a:cubicBezTo>
                  <a:pt x="2226" y="596"/>
                  <a:pt x="2237" y="606"/>
                  <a:pt x="2238" y="620"/>
                </a:cubicBezTo>
                <a:cubicBezTo>
                  <a:pt x="2238" y="634"/>
                  <a:pt x="2227" y="646"/>
                  <a:pt x="2214" y="646"/>
                </a:cubicBezTo>
                <a:lnTo>
                  <a:pt x="2213" y="646"/>
                </a:lnTo>
                <a:cubicBezTo>
                  <a:pt x="2200" y="646"/>
                  <a:pt x="2188" y="635"/>
                  <a:pt x="2188" y="622"/>
                </a:cubicBezTo>
                <a:cubicBezTo>
                  <a:pt x="2187" y="608"/>
                  <a:pt x="2198" y="596"/>
                  <a:pt x="2212" y="596"/>
                </a:cubicBezTo>
                <a:close/>
                <a:moveTo>
                  <a:pt x="2312" y="594"/>
                </a:moveTo>
                <a:lnTo>
                  <a:pt x="2312" y="594"/>
                </a:lnTo>
                <a:cubicBezTo>
                  <a:pt x="2326" y="593"/>
                  <a:pt x="2337" y="604"/>
                  <a:pt x="2338" y="618"/>
                </a:cubicBezTo>
                <a:cubicBezTo>
                  <a:pt x="2338" y="632"/>
                  <a:pt x="2327" y="643"/>
                  <a:pt x="2314" y="644"/>
                </a:cubicBezTo>
                <a:lnTo>
                  <a:pt x="2313" y="644"/>
                </a:lnTo>
                <a:cubicBezTo>
                  <a:pt x="2300" y="644"/>
                  <a:pt x="2288" y="633"/>
                  <a:pt x="2288" y="620"/>
                </a:cubicBezTo>
                <a:cubicBezTo>
                  <a:pt x="2287" y="606"/>
                  <a:pt x="2298" y="594"/>
                  <a:pt x="2312" y="594"/>
                </a:cubicBezTo>
                <a:close/>
                <a:moveTo>
                  <a:pt x="2412" y="590"/>
                </a:moveTo>
                <a:lnTo>
                  <a:pt x="2412" y="590"/>
                </a:lnTo>
                <a:cubicBezTo>
                  <a:pt x="2426" y="590"/>
                  <a:pt x="2437" y="601"/>
                  <a:pt x="2438" y="614"/>
                </a:cubicBezTo>
                <a:cubicBezTo>
                  <a:pt x="2438" y="628"/>
                  <a:pt x="2428" y="640"/>
                  <a:pt x="2414" y="640"/>
                </a:cubicBezTo>
                <a:cubicBezTo>
                  <a:pt x="2400" y="641"/>
                  <a:pt x="2388" y="630"/>
                  <a:pt x="2388" y="616"/>
                </a:cubicBezTo>
                <a:cubicBezTo>
                  <a:pt x="2387" y="603"/>
                  <a:pt x="2398" y="591"/>
                  <a:pt x="2412" y="590"/>
                </a:cubicBezTo>
                <a:close/>
                <a:moveTo>
                  <a:pt x="2512" y="587"/>
                </a:moveTo>
                <a:lnTo>
                  <a:pt x="2512" y="587"/>
                </a:lnTo>
                <a:cubicBezTo>
                  <a:pt x="2526" y="586"/>
                  <a:pt x="2537" y="597"/>
                  <a:pt x="2538" y="611"/>
                </a:cubicBezTo>
                <a:cubicBezTo>
                  <a:pt x="2538" y="624"/>
                  <a:pt x="2528" y="636"/>
                  <a:pt x="2514" y="637"/>
                </a:cubicBezTo>
                <a:cubicBezTo>
                  <a:pt x="2500" y="637"/>
                  <a:pt x="2488" y="626"/>
                  <a:pt x="2488" y="613"/>
                </a:cubicBezTo>
                <a:cubicBezTo>
                  <a:pt x="2487" y="599"/>
                  <a:pt x="2498" y="587"/>
                  <a:pt x="2512" y="587"/>
                </a:cubicBezTo>
                <a:close/>
                <a:moveTo>
                  <a:pt x="2611" y="580"/>
                </a:moveTo>
                <a:lnTo>
                  <a:pt x="2611" y="580"/>
                </a:lnTo>
                <a:cubicBezTo>
                  <a:pt x="2625" y="580"/>
                  <a:pt x="2637" y="590"/>
                  <a:pt x="2638" y="604"/>
                </a:cubicBezTo>
                <a:cubicBezTo>
                  <a:pt x="2639" y="617"/>
                  <a:pt x="2628" y="629"/>
                  <a:pt x="2614" y="630"/>
                </a:cubicBezTo>
                <a:cubicBezTo>
                  <a:pt x="2601" y="631"/>
                  <a:pt x="2589" y="621"/>
                  <a:pt x="2588" y="607"/>
                </a:cubicBezTo>
                <a:cubicBezTo>
                  <a:pt x="2587" y="593"/>
                  <a:pt x="2597" y="581"/>
                  <a:pt x="2611" y="580"/>
                </a:cubicBezTo>
                <a:close/>
                <a:moveTo>
                  <a:pt x="2710" y="574"/>
                </a:moveTo>
                <a:lnTo>
                  <a:pt x="2711" y="574"/>
                </a:lnTo>
                <a:cubicBezTo>
                  <a:pt x="2724" y="573"/>
                  <a:pt x="2736" y="583"/>
                  <a:pt x="2737" y="597"/>
                </a:cubicBezTo>
                <a:cubicBezTo>
                  <a:pt x="2738" y="611"/>
                  <a:pt x="2728" y="623"/>
                  <a:pt x="2714" y="624"/>
                </a:cubicBezTo>
                <a:cubicBezTo>
                  <a:pt x="2701" y="625"/>
                  <a:pt x="2689" y="615"/>
                  <a:pt x="2687" y="601"/>
                </a:cubicBezTo>
                <a:cubicBezTo>
                  <a:pt x="2686" y="587"/>
                  <a:pt x="2697" y="575"/>
                  <a:pt x="2710" y="574"/>
                </a:cubicBezTo>
                <a:close/>
                <a:moveTo>
                  <a:pt x="2810" y="567"/>
                </a:moveTo>
                <a:lnTo>
                  <a:pt x="2810" y="567"/>
                </a:lnTo>
                <a:cubicBezTo>
                  <a:pt x="2824" y="566"/>
                  <a:pt x="2836" y="576"/>
                  <a:pt x="2837" y="590"/>
                </a:cubicBezTo>
                <a:cubicBezTo>
                  <a:pt x="2838" y="604"/>
                  <a:pt x="2828" y="616"/>
                  <a:pt x="2814" y="617"/>
                </a:cubicBezTo>
                <a:cubicBezTo>
                  <a:pt x="2800" y="618"/>
                  <a:pt x="2788" y="608"/>
                  <a:pt x="2787" y="594"/>
                </a:cubicBezTo>
                <a:cubicBezTo>
                  <a:pt x="2786" y="580"/>
                  <a:pt x="2796" y="568"/>
                  <a:pt x="2810" y="567"/>
                </a:cubicBezTo>
                <a:close/>
                <a:moveTo>
                  <a:pt x="2909" y="559"/>
                </a:moveTo>
                <a:lnTo>
                  <a:pt x="2909" y="559"/>
                </a:lnTo>
                <a:cubicBezTo>
                  <a:pt x="2923" y="557"/>
                  <a:pt x="2935" y="567"/>
                  <a:pt x="2937" y="581"/>
                </a:cubicBezTo>
                <a:cubicBezTo>
                  <a:pt x="2938" y="595"/>
                  <a:pt x="2928" y="607"/>
                  <a:pt x="2914" y="608"/>
                </a:cubicBezTo>
                <a:cubicBezTo>
                  <a:pt x="2901" y="610"/>
                  <a:pt x="2888" y="600"/>
                  <a:pt x="2887" y="586"/>
                </a:cubicBezTo>
                <a:cubicBezTo>
                  <a:pt x="2886" y="572"/>
                  <a:pt x="2896" y="560"/>
                  <a:pt x="2909" y="559"/>
                </a:cubicBezTo>
                <a:close/>
                <a:moveTo>
                  <a:pt x="3009" y="549"/>
                </a:moveTo>
                <a:lnTo>
                  <a:pt x="3009" y="549"/>
                </a:lnTo>
                <a:cubicBezTo>
                  <a:pt x="3023" y="548"/>
                  <a:pt x="3035" y="558"/>
                  <a:pt x="3036" y="572"/>
                </a:cubicBezTo>
                <a:cubicBezTo>
                  <a:pt x="3038" y="585"/>
                  <a:pt x="3028" y="598"/>
                  <a:pt x="3014" y="599"/>
                </a:cubicBezTo>
                <a:cubicBezTo>
                  <a:pt x="3000" y="600"/>
                  <a:pt x="2988" y="590"/>
                  <a:pt x="2987" y="577"/>
                </a:cubicBezTo>
                <a:cubicBezTo>
                  <a:pt x="2985" y="563"/>
                  <a:pt x="2995" y="551"/>
                  <a:pt x="3009" y="549"/>
                </a:cubicBezTo>
                <a:close/>
                <a:moveTo>
                  <a:pt x="3108" y="538"/>
                </a:moveTo>
                <a:lnTo>
                  <a:pt x="3108" y="538"/>
                </a:lnTo>
                <a:cubicBezTo>
                  <a:pt x="3122" y="537"/>
                  <a:pt x="3134" y="546"/>
                  <a:pt x="3136" y="560"/>
                </a:cubicBezTo>
                <a:cubicBezTo>
                  <a:pt x="3137" y="574"/>
                  <a:pt x="3128" y="586"/>
                  <a:pt x="3114" y="588"/>
                </a:cubicBezTo>
                <a:cubicBezTo>
                  <a:pt x="3100" y="589"/>
                  <a:pt x="3088" y="580"/>
                  <a:pt x="3086" y="566"/>
                </a:cubicBezTo>
                <a:cubicBezTo>
                  <a:pt x="3084" y="552"/>
                  <a:pt x="3094" y="540"/>
                  <a:pt x="3108" y="538"/>
                </a:cubicBezTo>
                <a:close/>
                <a:moveTo>
                  <a:pt x="3206" y="526"/>
                </a:moveTo>
                <a:lnTo>
                  <a:pt x="3207" y="526"/>
                </a:lnTo>
                <a:cubicBezTo>
                  <a:pt x="3220" y="523"/>
                  <a:pt x="3233" y="533"/>
                  <a:pt x="3235" y="547"/>
                </a:cubicBezTo>
                <a:cubicBezTo>
                  <a:pt x="3237" y="560"/>
                  <a:pt x="3228" y="573"/>
                  <a:pt x="3214" y="575"/>
                </a:cubicBezTo>
                <a:cubicBezTo>
                  <a:pt x="3200" y="577"/>
                  <a:pt x="3187" y="568"/>
                  <a:pt x="3185" y="554"/>
                </a:cubicBezTo>
                <a:cubicBezTo>
                  <a:pt x="3183" y="540"/>
                  <a:pt x="3193" y="528"/>
                  <a:pt x="3206" y="526"/>
                </a:cubicBezTo>
                <a:close/>
                <a:moveTo>
                  <a:pt x="3305" y="511"/>
                </a:moveTo>
                <a:lnTo>
                  <a:pt x="3305" y="511"/>
                </a:lnTo>
                <a:cubicBezTo>
                  <a:pt x="3319" y="509"/>
                  <a:pt x="3332" y="518"/>
                  <a:pt x="3334" y="531"/>
                </a:cubicBezTo>
                <a:cubicBezTo>
                  <a:pt x="3336" y="545"/>
                  <a:pt x="3327" y="558"/>
                  <a:pt x="3313" y="560"/>
                </a:cubicBezTo>
                <a:cubicBezTo>
                  <a:pt x="3300" y="563"/>
                  <a:pt x="3287" y="553"/>
                  <a:pt x="3284" y="540"/>
                </a:cubicBezTo>
                <a:cubicBezTo>
                  <a:pt x="3282" y="526"/>
                  <a:pt x="3291" y="513"/>
                  <a:pt x="3305" y="511"/>
                </a:cubicBezTo>
                <a:close/>
                <a:moveTo>
                  <a:pt x="3404" y="494"/>
                </a:moveTo>
                <a:lnTo>
                  <a:pt x="3404" y="494"/>
                </a:lnTo>
                <a:cubicBezTo>
                  <a:pt x="3417" y="492"/>
                  <a:pt x="3430" y="501"/>
                  <a:pt x="3433" y="515"/>
                </a:cubicBezTo>
                <a:cubicBezTo>
                  <a:pt x="3435" y="529"/>
                  <a:pt x="3426" y="541"/>
                  <a:pt x="3412" y="544"/>
                </a:cubicBezTo>
                <a:cubicBezTo>
                  <a:pt x="3398" y="546"/>
                  <a:pt x="3385" y="537"/>
                  <a:pt x="3383" y="523"/>
                </a:cubicBezTo>
                <a:cubicBezTo>
                  <a:pt x="3381" y="510"/>
                  <a:pt x="3390" y="497"/>
                  <a:pt x="3404" y="494"/>
                </a:cubicBezTo>
                <a:close/>
                <a:moveTo>
                  <a:pt x="3501" y="475"/>
                </a:moveTo>
                <a:lnTo>
                  <a:pt x="3501" y="475"/>
                </a:lnTo>
                <a:cubicBezTo>
                  <a:pt x="3514" y="472"/>
                  <a:pt x="3528" y="481"/>
                  <a:pt x="3530" y="494"/>
                </a:cubicBezTo>
                <a:cubicBezTo>
                  <a:pt x="3533" y="508"/>
                  <a:pt x="3525" y="521"/>
                  <a:pt x="3511" y="524"/>
                </a:cubicBezTo>
                <a:cubicBezTo>
                  <a:pt x="3498" y="527"/>
                  <a:pt x="3484" y="518"/>
                  <a:pt x="3481" y="505"/>
                </a:cubicBezTo>
                <a:cubicBezTo>
                  <a:pt x="3479" y="491"/>
                  <a:pt x="3487" y="478"/>
                  <a:pt x="3501" y="475"/>
                </a:cubicBezTo>
                <a:close/>
                <a:moveTo>
                  <a:pt x="3597" y="452"/>
                </a:moveTo>
                <a:lnTo>
                  <a:pt x="3597" y="452"/>
                </a:lnTo>
                <a:cubicBezTo>
                  <a:pt x="3610" y="448"/>
                  <a:pt x="3624" y="456"/>
                  <a:pt x="3627" y="470"/>
                </a:cubicBezTo>
                <a:cubicBezTo>
                  <a:pt x="3631" y="483"/>
                  <a:pt x="3623" y="497"/>
                  <a:pt x="3610" y="500"/>
                </a:cubicBezTo>
                <a:cubicBezTo>
                  <a:pt x="3596" y="504"/>
                  <a:pt x="3583" y="496"/>
                  <a:pt x="3579" y="483"/>
                </a:cubicBezTo>
                <a:cubicBezTo>
                  <a:pt x="3575" y="469"/>
                  <a:pt x="3583" y="456"/>
                  <a:pt x="3597" y="452"/>
                </a:cubicBezTo>
                <a:close/>
                <a:moveTo>
                  <a:pt x="3691" y="424"/>
                </a:moveTo>
                <a:lnTo>
                  <a:pt x="3691" y="424"/>
                </a:lnTo>
                <a:cubicBezTo>
                  <a:pt x="3705" y="420"/>
                  <a:pt x="3719" y="427"/>
                  <a:pt x="3723" y="440"/>
                </a:cubicBezTo>
                <a:cubicBezTo>
                  <a:pt x="3727" y="453"/>
                  <a:pt x="3720" y="467"/>
                  <a:pt x="3707" y="471"/>
                </a:cubicBezTo>
                <a:cubicBezTo>
                  <a:pt x="3694" y="476"/>
                  <a:pt x="3679" y="468"/>
                  <a:pt x="3675" y="455"/>
                </a:cubicBezTo>
                <a:cubicBezTo>
                  <a:pt x="3671" y="442"/>
                  <a:pt x="3678" y="428"/>
                  <a:pt x="3691" y="424"/>
                </a:cubicBezTo>
                <a:close/>
                <a:moveTo>
                  <a:pt x="3778" y="387"/>
                </a:moveTo>
                <a:lnTo>
                  <a:pt x="3778" y="387"/>
                </a:lnTo>
                <a:cubicBezTo>
                  <a:pt x="3790" y="380"/>
                  <a:pt x="3805" y="384"/>
                  <a:pt x="3812" y="396"/>
                </a:cubicBezTo>
                <a:cubicBezTo>
                  <a:pt x="3820" y="408"/>
                  <a:pt x="3816" y="423"/>
                  <a:pt x="3804" y="430"/>
                </a:cubicBezTo>
                <a:cubicBezTo>
                  <a:pt x="3792" y="437"/>
                  <a:pt x="3776" y="433"/>
                  <a:pt x="3769" y="421"/>
                </a:cubicBezTo>
                <a:cubicBezTo>
                  <a:pt x="3762" y="409"/>
                  <a:pt x="3766" y="394"/>
                  <a:pt x="3778" y="387"/>
                </a:cubicBezTo>
                <a:close/>
                <a:moveTo>
                  <a:pt x="3839" y="336"/>
                </a:moveTo>
                <a:lnTo>
                  <a:pt x="3839" y="336"/>
                </a:lnTo>
                <a:cubicBezTo>
                  <a:pt x="3843" y="323"/>
                  <a:pt x="3857" y="316"/>
                  <a:pt x="3871" y="320"/>
                </a:cubicBezTo>
                <a:cubicBezTo>
                  <a:pt x="3884" y="324"/>
                  <a:pt x="3891" y="338"/>
                  <a:pt x="3887" y="351"/>
                </a:cubicBezTo>
                <a:cubicBezTo>
                  <a:pt x="3883" y="364"/>
                  <a:pt x="3869" y="371"/>
                  <a:pt x="3856" y="367"/>
                </a:cubicBezTo>
                <a:cubicBezTo>
                  <a:pt x="3843" y="363"/>
                  <a:pt x="3835" y="349"/>
                  <a:pt x="3839" y="336"/>
                </a:cubicBezTo>
                <a:close/>
                <a:moveTo>
                  <a:pt x="3812" y="283"/>
                </a:moveTo>
                <a:lnTo>
                  <a:pt x="3812" y="283"/>
                </a:lnTo>
                <a:cubicBezTo>
                  <a:pt x="3800" y="275"/>
                  <a:pt x="3796" y="260"/>
                  <a:pt x="3803" y="248"/>
                </a:cubicBezTo>
                <a:cubicBezTo>
                  <a:pt x="3811" y="236"/>
                  <a:pt x="3826" y="233"/>
                  <a:pt x="3838" y="240"/>
                </a:cubicBezTo>
                <a:cubicBezTo>
                  <a:pt x="3850" y="247"/>
                  <a:pt x="3853" y="262"/>
                  <a:pt x="3846" y="274"/>
                </a:cubicBezTo>
                <a:cubicBezTo>
                  <a:pt x="3839" y="286"/>
                  <a:pt x="3824" y="290"/>
                  <a:pt x="3812" y="283"/>
                </a:cubicBezTo>
                <a:close/>
                <a:moveTo>
                  <a:pt x="3726" y="239"/>
                </a:moveTo>
                <a:lnTo>
                  <a:pt x="3726" y="239"/>
                </a:lnTo>
                <a:cubicBezTo>
                  <a:pt x="3714" y="234"/>
                  <a:pt x="3708" y="219"/>
                  <a:pt x="3713" y="206"/>
                </a:cubicBezTo>
                <a:cubicBezTo>
                  <a:pt x="3718" y="193"/>
                  <a:pt x="3733" y="187"/>
                  <a:pt x="3746" y="193"/>
                </a:cubicBezTo>
                <a:cubicBezTo>
                  <a:pt x="3758" y="198"/>
                  <a:pt x="3764" y="213"/>
                  <a:pt x="3759" y="225"/>
                </a:cubicBezTo>
                <a:cubicBezTo>
                  <a:pt x="3754" y="238"/>
                  <a:pt x="3739" y="244"/>
                  <a:pt x="3726" y="239"/>
                </a:cubicBezTo>
                <a:close/>
                <a:moveTo>
                  <a:pt x="3634" y="207"/>
                </a:moveTo>
                <a:lnTo>
                  <a:pt x="3634" y="207"/>
                </a:lnTo>
                <a:cubicBezTo>
                  <a:pt x="3620" y="202"/>
                  <a:pt x="3613" y="188"/>
                  <a:pt x="3618" y="175"/>
                </a:cubicBezTo>
                <a:cubicBezTo>
                  <a:pt x="3622" y="162"/>
                  <a:pt x="3636" y="155"/>
                  <a:pt x="3649" y="159"/>
                </a:cubicBezTo>
                <a:lnTo>
                  <a:pt x="3650" y="159"/>
                </a:lnTo>
                <a:cubicBezTo>
                  <a:pt x="3663" y="164"/>
                  <a:pt x="3670" y="178"/>
                  <a:pt x="3665" y="191"/>
                </a:cubicBezTo>
                <a:cubicBezTo>
                  <a:pt x="3661" y="204"/>
                  <a:pt x="3647" y="211"/>
                  <a:pt x="3634" y="207"/>
                </a:cubicBezTo>
                <a:close/>
                <a:moveTo>
                  <a:pt x="3539" y="183"/>
                </a:moveTo>
                <a:lnTo>
                  <a:pt x="3538" y="183"/>
                </a:lnTo>
                <a:cubicBezTo>
                  <a:pt x="3525" y="179"/>
                  <a:pt x="3517" y="166"/>
                  <a:pt x="3520" y="152"/>
                </a:cubicBezTo>
                <a:cubicBezTo>
                  <a:pt x="3524" y="139"/>
                  <a:pt x="3537" y="131"/>
                  <a:pt x="3551" y="134"/>
                </a:cubicBezTo>
                <a:cubicBezTo>
                  <a:pt x="3564" y="138"/>
                  <a:pt x="3572" y="151"/>
                  <a:pt x="3569" y="165"/>
                </a:cubicBezTo>
                <a:cubicBezTo>
                  <a:pt x="3565" y="178"/>
                  <a:pt x="3552" y="186"/>
                  <a:pt x="3539" y="183"/>
                </a:cubicBezTo>
                <a:close/>
                <a:moveTo>
                  <a:pt x="3441" y="162"/>
                </a:moveTo>
                <a:lnTo>
                  <a:pt x="3441" y="162"/>
                </a:lnTo>
                <a:cubicBezTo>
                  <a:pt x="3428" y="159"/>
                  <a:pt x="3419" y="145"/>
                  <a:pt x="3422" y="132"/>
                </a:cubicBezTo>
                <a:cubicBezTo>
                  <a:pt x="3425" y="118"/>
                  <a:pt x="3439" y="110"/>
                  <a:pt x="3452" y="113"/>
                </a:cubicBezTo>
                <a:cubicBezTo>
                  <a:pt x="3466" y="116"/>
                  <a:pt x="3474" y="129"/>
                  <a:pt x="3471" y="143"/>
                </a:cubicBezTo>
                <a:cubicBezTo>
                  <a:pt x="3468" y="156"/>
                  <a:pt x="3455" y="165"/>
                  <a:pt x="3441" y="162"/>
                </a:cubicBezTo>
                <a:close/>
                <a:moveTo>
                  <a:pt x="3344" y="144"/>
                </a:moveTo>
                <a:lnTo>
                  <a:pt x="3344" y="144"/>
                </a:lnTo>
                <a:cubicBezTo>
                  <a:pt x="3330" y="142"/>
                  <a:pt x="3321" y="129"/>
                  <a:pt x="3324" y="116"/>
                </a:cubicBezTo>
                <a:cubicBezTo>
                  <a:pt x="3326" y="102"/>
                  <a:pt x="3339" y="93"/>
                  <a:pt x="3352" y="95"/>
                </a:cubicBezTo>
                <a:cubicBezTo>
                  <a:pt x="3366" y="97"/>
                  <a:pt x="3375" y="110"/>
                  <a:pt x="3373" y="124"/>
                </a:cubicBezTo>
                <a:cubicBezTo>
                  <a:pt x="3371" y="138"/>
                  <a:pt x="3358" y="147"/>
                  <a:pt x="3344" y="144"/>
                </a:cubicBezTo>
                <a:close/>
                <a:moveTo>
                  <a:pt x="3246" y="130"/>
                </a:moveTo>
                <a:lnTo>
                  <a:pt x="3246" y="130"/>
                </a:lnTo>
                <a:cubicBezTo>
                  <a:pt x="3232" y="128"/>
                  <a:pt x="3223" y="115"/>
                  <a:pt x="3225" y="101"/>
                </a:cubicBezTo>
                <a:cubicBezTo>
                  <a:pt x="3227" y="88"/>
                  <a:pt x="3239" y="78"/>
                  <a:pt x="3253" y="80"/>
                </a:cubicBezTo>
                <a:cubicBezTo>
                  <a:pt x="3267" y="82"/>
                  <a:pt x="3276" y="95"/>
                  <a:pt x="3274" y="108"/>
                </a:cubicBezTo>
                <a:cubicBezTo>
                  <a:pt x="3272" y="122"/>
                  <a:pt x="3259" y="132"/>
                  <a:pt x="3246" y="130"/>
                </a:cubicBezTo>
                <a:close/>
                <a:moveTo>
                  <a:pt x="3147" y="116"/>
                </a:moveTo>
                <a:lnTo>
                  <a:pt x="3147" y="116"/>
                </a:lnTo>
                <a:cubicBezTo>
                  <a:pt x="3133" y="114"/>
                  <a:pt x="3124" y="102"/>
                  <a:pt x="3125" y="88"/>
                </a:cubicBezTo>
                <a:cubicBezTo>
                  <a:pt x="3127" y="75"/>
                  <a:pt x="3140" y="65"/>
                  <a:pt x="3153" y="67"/>
                </a:cubicBezTo>
                <a:cubicBezTo>
                  <a:pt x="3167" y="68"/>
                  <a:pt x="3177" y="81"/>
                  <a:pt x="3175" y="95"/>
                </a:cubicBezTo>
                <a:cubicBezTo>
                  <a:pt x="3173" y="108"/>
                  <a:pt x="3161" y="118"/>
                  <a:pt x="3147" y="116"/>
                </a:cubicBezTo>
                <a:close/>
                <a:moveTo>
                  <a:pt x="3048" y="104"/>
                </a:moveTo>
                <a:lnTo>
                  <a:pt x="3048" y="104"/>
                </a:lnTo>
                <a:cubicBezTo>
                  <a:pt x="3034" y="102"/>
                  <a:pt x="3024" y="90"/>
                  <a:pt x="3026" y="76"/>
                </a:cubicBezTo>
                <a:cubicBezTo>
                  <a:pt x="3028" y="62"/>
                  <a:pt x="3040" y="53"/>
                  <a:pt x="3054" y="54"/>
                </a:cubicBezTo>
                <a:cubicBezTo>
                  <a:pt x="3068" y="56"/>
                  <a:pt x="3077" y="69"/>
                  <a:pt x="3076" y="82"/>
                </a:cubicBezTo>
                <a:cubicBezTo>
                  <a:pt x="3074" y="96"/>
                  <a:pt x="3061" y="106"/>
                  <a:pt x="3048" y="104"/>
                </a:cubicBezTo>
                <a:close/>
                <a:moveTo>
                  <a:pt x="2949" y="94"/>
                </a:moveTo>
                <a:lnTo>
                  <a:pt x="2949" y="94"/>
                </a:lnTo>
                <a:cubicBezTo>
                  <a:pt x="2935" y="93"/>
                  <a:pt x="2925" y="80"/>
                  <a:pt x="2926" y="67"/>
                </a:cubicBezTo>
                <a:cubicBezTo>
                  <a:pt x="2928" y="53"/>
                  <a:pt x="2940" y="43"/>
                  <a:pt x="2954" y="44"/>
                </a:cubicBezTo>
                <a:cubicBezTo>
                  <a:pt x="2968" y="46"/>
                  <a:pt x="2978" y="58"/>
                  <a:pt x="2976" y="71"/>
                </a:cubicBezTo>
                <a:cubicBezTo>
                  <a:pt x="2975" y="85"/>
                  <a:pt x="2963" y="95"/>
                  <a:pt x="2949" y="94"/>
                </a:cubicBezTo>
                <a:close/>
                <a:moveTo>
                  <a:pt x="2850" y="85"/>
                </a:moveTo>
                <a:lnTo>
                  <a:pt x="2850" y="85"/>
                </a:lnTo>
                <a:cubicBezTo>
                  <a:pt x="2836" y="84"/>
                  <a:pt x="2826" y="72"/>
                  <a:pt x="2827" y="58"/>
                </a:cubicBezTo>
                <a:cubicBezTo>
                  <a:pt x="2828" y="44"/>
                  <a:pt x="2840" y="34"/>
                  <a:pt x="2854" y="35"/>
                </a:cubicBezTo>
                <a:cubicBezTo>
                  <a:pt x="2867" y="36"/>
                  <a:pt x="2878" y="48"/>
                  <a:pt x="2877" y="62"/>
                </a:cubicBezTo>
                <a:cubicBezTo>
                  <a:pt x="2876" y="76"/>
                  <a:pt x="2864" y="86"/>
                  <a:pt x="2850" y="85"/>
                </a:cubicBezTo>
                <a:close/>
                <a:moveTo>
                  <a:pt x="2750" y="78"/>
                </a:moveTo>
                <a:lnTo>
                  <a:pt x="2750" y="78"/>
                </a:lnTo>
                <a:cubicBezTo>
                  <a:pt x="2736" y="77"/>
                  <a:pt x="2726" y="65"/>
                  <a:pt x="2727" y="51"/>
                </a:cubicBezTo>
                <a:cubicBezTo>
                  <a:pt x="2728" y="37"/>
                  <a:pt x="2740" y="27"/>
                  <a:pt x="2754" y="28"/>
                </a:cubicBezTo>
                <a:cubicBezTo>
                  <a:pt x="2768" y="29"/>
                  <a:pt x="2778" y="41"/>
                  <a:pt x="2777" y="55"/>
                </a:cubicBezTo>
                <a:cubicBezTo>
                  <a:pt x="2776" y="68"/>
                  <a:pt x="2764" y="79"/>
                  <a:pt x="2750" y="78"/>
                </a:cubicBezTo>
                <a:close/>
                <a:moveTo>
                  <a:pt x="2651" y="71"/>
                </a:moveTo>
                <a:lnTo>
                  <a:pt x="2651" y="71"/>
                </a:lnTo>
                <a:cubicBezTo>
                  <a:pt x="2637" y="70"/>
                  <a:pt x="2626" y="59"/>
                  <a:pt x="2627" y="45"/>
                </a:cubicBezTo>
                <a:cubicBezTo>
                  <a:pt x="2628" y="31"/>
                  <a:pt x="2640" y="20"/>
                  <a:pt x="2654" y="21"/>
                </a:cubicBezTo>
                <a:cubicBezTo>
                  <a:pt x="2667" y="22"/>
                  <a:pt x="2678" y="34"/>
                  <a:pt x="2677" y="48"/>
                </a:cubicBezTo>
                <a:cubicBezTo>
                  <a:pt x="2676" y="61"/>
                  <a:pt x="2664" y="72"/>
                  <a:pt x="2651" y="71"/>
                </a:cubicBezTo>
                <a:close/>
                <a:moveTo>
                  <a:pt x="2551" y="66"/>
                </a:moveTo>
                <a:lnTo>
                  <a:pt x="2551" y="66"/>
                </a:lnTo>
                <a:cubicBezTo>
                  <a:pt x="2537" y="65"/>
                  <a:pt x="2526" y="53"/>
                  <a:pt x="2527" y="39"/>
                </a:cubicBezTo>
                <a:cubicBezTo>
                  <a:pt x="2528" y="25"/>
                  <a:pt x="2540" y="15"/>
                  <a:pt x="2554" y="16"/>
                </a:cubicBezTo>
                <a:cubicBezTo>
                  <a:pt x="2568" y="16"/>
                  <a:pt x="2578" y="28"/>
                  <a:pt x="2577" y="42"/>
                </a:cubicBezTo>
                <a:cubicBezTo>
                  <a:pt x="2576" y="56"/>
                  <a:pt x="2565" y="66"/>
                  <a:pt x="2551" y="66"/>
                </a:cubicBezTo>
                <a:close/>
                <a:moveTo>
                  <a:pt x="2451" y="61"/>
                </a:moveTo>
                <a:lnTo>
                  <a:pt x="2451" y="61"/>
                </a:lnTo>
                <a:cubicBezTo>
                  <a:pt x="2437" y="60"/>
                  <a:pt x="2427" y="48"/>
                  <a:pt x="2427" y="35"/>
                </a:cubicBezTo>
                <a:cubicBezTo>
                  <a:pt x="2428" y="21"/>
                  <a:pt x="2440" y="10"/>
                  <a:pt x="2454" y="11"/>
                </a:cubicBezTo>
                <a:cubicBezTo>
                  <a:pt x="2467" y="11"/>
                  <a:pt x="2478" y="23"/>
                  <a:pt x="2477" y="37"/>
                </a:cubicBezTo>
                <a:cubicBezTo>
                  <a:pt x="2477" y="51"/>
                  <a:pt x="2465" y="61"/>
                  <a:pt x="2451" y="61"/>
                </a:cubicBezTo>
                <a:close/>
                <a:moveTo>
                  <a:pt x="2351" y="56"/>
                </a:moveTo>
                <a:lnTo>
                  <a:pt x="2351" y="56"/>
                </a:lnTo>
                <a:cubicBezTo>
                  <a:pt x="2337" y="56"/>
                  <a:pt x="2327" y="44"/>
                  <a:pt x="2327" y="30"/>
                </a:cubicBezTo>
                <a:cubicBezTo>
                  <a:pt x="2328" y="16"/>
                  <a:pt x="2340" y="6"/>
                  <a:pt x="2354" y="6"/>
                </a:cubicBezTo>
                <a:cubicBezTo>
                  <a:pt x="2367" y="7"/>
                  <a:pt x="2378" y="19"/>
                  <a:pt x="2377" y="33"/>
                </a:cubicBezTo>
                <a:cubicBezTo>
                  <a:pt x="2377" y="46"/>
                  <a:pt x="2365" y="57"/>
                  <a:pt x="2351" y="56"/>
                </a:cubicBezTo>
                <a:close/>
                <a:moveTo>
                  <a:pt x="2252" y="54"/>
                </a:moveTo>
                <a:lnTo>
                  <a:pt x="2252" y="54"/>
                </a:lnTo>
                <a:cubicBezTo>
                  <a:pt x="2238" y="53"/>
                  <a:pt x="2227" y="42"/>
                  <a:pt x="2227" y="28"/>
                </a:cubicBezTo>
                <a:cubicBezTo>
                  <a:pt x="2228" y="14"/>
                  <a:pt x="2239" y="3"/>
                  <a:pt x="2253" y="4"/>
                </a:cubicBezTo>
                <a:cubicBezTo>
                  <a:pt x="2267" y="4"/>
                  <a:pt x="2278" y="16"/>
                  <a:pt x="2277" y="30"/>
                </a:cubicBezTo>
                <a:cubicBezTo>
                  <a:pt x="2277" y="43"/>
                  <a:pt x="2265" y="54"/>
                  <a:pt x="2252" y="54"/>
                </a:cubicBezTo>
                <a:close/>
                <a:moveTo>
                  <a:pt x="2152" y="52"/>
                </a:moveTo>
                <a:lnTo>
                  <a:pt x="2152" y="52"/>
                </a:lnTo>
                <a:cubicBezTo>
                  <a:pt x="2138" y="51"/>
                  <a:pt x="2127" y="40"/>
                  <a:pt x="2127" y="26"/>
                </a:cubicBezTo>
                <a:cubicBezTo>
                  <a:pt x="2128" y="12"/>
                  <a:pt x="2139" y="1"/>
                  <a:pt x="2153" y="2"/>
                </a:cubicBezTo>
                <a:cubicBezTo>
                  <a:pt x="2167" y="2"/>
                  <a:pt x="2178" y="14"/>
                  <a:pt x="2177" y="27"/>
                </a:cubicBezTo>
                <a:cubicBezTo>
                  <a:pt x="2177" y="41"/>
                  <a:pt x="2165" y="52"/>
                  <a:pt x="2152" y="52"/>
                </a:cubicBez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87" name="Freeform 18"/>
          <p:cNvSpPr/>
          <p:nvPr/>
        </p:nvSpPr>
        <p:spPr>
          <a:xfrm>
            <a:off x="4708440" y="2860560"/>
            <a:ext cx="309600" cy="1481400"/>
          </a:xfrm>
          <a:custGeom>
            <a:avLst/>
            <a:gdLst>
              <a:gd name="textAreaLeft" fmla="*/ 0 w 309600"/>
              <a:gd name="textAreaRight" fmla="*/ 309960 w 309600"/>
              <a:gd name="textAreaTop" fmla="*/ 0 h 1481400"/>
              <a:gd name="textAreaBottom" fmla="*/ 1481760 h 1481400"/>
            </a:gdLst>
            <a:ahLst/>
            <a:rect l="textAreaLeft" t="textAreaTop" r="textAreaRight" b="textAreaBottom"/>
            <a:pathLst>
              <a:path w="195" h="933">
                <a:moveTo>
                  <a:pt x="195" y="0"/>
                </a:moveTo>
                <a:cubicBezTo>
                  <a:pt x="87" y="0"/>
                  <a:pt x="0" y="209"/>
                  <a:pt x="0" y="467"/>
                </a:cubicBezTo>
                <a:cubicBezTo>
                  <a:pt x="0" y="715"/>
                  <a:pt x="81" y="920"/>
                  <a:pt x="185" y="933"/>
                </a:cubicBezTo>
              </a:path>
            </a:pathLst>
          </a:custGeom>
          <a:noFill/>
          <a:ln cap="rnd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88" name="Freeform 19"/>
          <p:cNvSpPr/>
          <p:nvPr/>
        </p:nvSpPr>
        <p:spPr>
          <a:xfrm>
            <a:off x="3827520" y="2881440"/>
            <a:ext cx="311040" cy="1481040"/>
          </a:xfrm>
          <a:custGeom>
            <a:avLst/>
            <a:gdLst>
              <a:gd name="textAreaLeft" fmla="*/ 0 w 311040"/>
              <a:gd name="textAreaRight" fmla="*/ 311400 w 311040"/>
              <a:gd name="textAreaTop" fmla="*/ 0 h 1481040"/>
              <a:gd name="textAreaBottom" fmla="*/ 1481400 h 1481040"/>
            </a:gdLst>
            <a:ahLst/>
            <a:rect l="textAreaLeft" t="textAreaTop" r="textAreaRight" b="textAreaBottom"/>
            <a:pathLst>
              <a:path w="196" h="933">
                <a:moveTo>
                  <a:pt x="0" y="933"/>
                </a:moveTo>
                <a:cubicBezTo>
                  <a:pt x="108" y="933"/>
                  <a:pt x="196" y="724"/>
                  <a:pt x="196" y="466"/>
                </a:cubicBezTo>
                <a:cubicBezTo>
                  <a:pt x="196" y="218"/>
                  <a:pt x="115" y="13"/>
                  <a:pt x="11" y="0"/>
                </a:cubicBezTo>
              </a:path>
            </a:pathLst>
          </a:custGeom>
          <a:noFill/>
          <a:ln cap="rnd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89" name="Freeform 20"/>
          <p:cNvSpPr/>
          <p:nvPr/>
        </p:nvSpPr>
        <p:spPr>
          <a:xfrm>
            <a:off x="4595760" y="2779560"/>
            <a:ext cx="128520" cy="1487520"/>
          </a:xfrm>
          <a:custGeom>
            <a:avLst/>
            <a:gdLst>
              <a:gd name="textAreaLeft" fmla="*/ 0 w 128520"/>
              <a:gd name="textAreaRight" fmla="*/ 128880 w 128520"/>
              <a:gd name="textAreaTop" fmla="*/ 0 h 1487520"/>
              <a:gd name="textAreaBottom" fmla="*/ 1487880 h 1487520"/>
            </a:gdLst>
            <a:ahLst/>
            <a:rect l="textAreaLeft" t="textAreaTop" r="textAreaRight" b="textAreaBottom"/>
            <a:pathLst>
              <a:path w="423" h="4890">
                <a:moveTo>
                  <a:pt x="264" y="34"/>
                </a:moveTo>
                <a:lnTo>
                  <a:pt x="264" y="34"/>
                </a:lnTo>
                <a:cubicBezTo>
                  <a:pt x="260" y="47"/>
                  <a:pt x="246" y="55"/>
                  <a:pt x="233" y="52"/>
                </a:cubicBezTo>
                <a:cubicBezTo>
                  <a:pt x="220" y="48"/>
                  <a:pt x="212" y="35"/>
                  <a:pt x="215" y="21"/>
                </a:cubicBezTo>
                <a:cubicBezTo>
                  <a:pt x="219" y="8"/>
                  <a:pt x="232" y="0"/>
                  <a:pt x="246" y="3"/>
                </a:cubicBezTo>
                <a:cubicBezTo>
                  <a:pt x="259" y="7"/>
                  <a:pt x="267" y="20"/>
                  <a:pt x="264" y="34"/>
                </a:cubicBezTo>
                <a:close/>
                <a:moveTo>
                  <a:pt x="239" y="130"/>
                </a:moveTo>
                <a:lnTo>
                  <a:pt x="239" y="130"/>
                </a:lnTo>
                <a:cubicBezTo>
                  <a:pt x="236" y="144"/>
                  <a:pt x="223" y="152"/>
                  <a:pt x="209" y="149"/>
                </a:cubicBezTo>
                <a:cubicBezTo>
                  <a:pt x="196" y="146"/>
                  <a:pt x="187" y="132"/>
                  <a:pt x="190" y="119"/>
                </a:cubicBezTo>
                <a:cubicBezTo>
                  <a:pt x="194" y="105"/>
                  <a:pt x="207" y="97"/>
                  <a:pt x="220" y="100"/>
                </a:cubicBezTo>
                <a:cubicBezTo>
                  <a:pt x="234" y="103"/>
                  <a:pt x="242" y="117"/>
                  <a:pt x="239" y="130"/>
                </a:cubicBezTo>
                <a:close/>
                <a:moveTo>
                  <a:pt x="217" y="228"/>
                </a:moveTo>
                <a:lnTo>
                  <a:pt x="217" y="228"/>
                </a:lnTo>
                <a:cubicBezTo>
                  <a:pt x="214" y="241"/>
                  <a:pt x="201" y="250"/>
                  <a:pt x="187" y="246"/>
                </a:cubicBezTo>
                <a:cubicBezTo>
                  <a:pt x="174" y="243"/>
                  <a:pt x="166" y="230"/>
                  <a:pt x="169" y="216"/>
                </a:cubicBezTo>
                <a:cubicBezTo>
                  <a:pt x="172" y="203"/>
                  <a:pt x="185" y="195"/>
                  <a:pt x="199" y="198"/>
                </a:cubicBezTo>
                <a:cubicBezTo>
                  <a:pt x="212" y="201"/>
                  <a:pt x="220" y="214"/>
                  <a:pt x="217" y="228"/>
                </a:cubicBezTo>
                <a:close/>
                <a:moveTo>
                  <a:pt x="198" y="325"/>
                </a:moveTo>
                <a:lnTo>
                  <a:pt x="198" y="325"/>
                </a:lnTo>
                <a:cubicBezTo>
                  <a:pt x="195" y="339"/>
                  <a:pt x="182" y="348"/>
                  <a:pt x="168" y="345"/>
                </a:cubicBezTo>
                <a:cubicBezTo>
                  <a:pt x="155" y="342"/>
                  <a:pt x="146" y="329"/>
                  <a:pt x="149" y="315"/>
                </a:cubicBezTo>
                <a:cubicBezTo>
                  <a:pt x="152" y="302"/>
                  <a:pt x="165" y="293"/>
                  <a:pt x="178" y="296"/>
                </a:cubicBezTo>
                <a:cubicBezTo>
                  <a:pt x="192" y="299"/>
                  <a:pt x="201" y="312"/>
                  <a:pt x="198" y="325"/>
                </a:cubicBezTo>
                <a:close/>
                <a:moveTo>
                  <a:pt x="180" y="423"/>
                </a:moveTo>
                <a:lnTo>
                  <a:pt x="180" y="423"/>
                </a:lnTo>
                <a:cubicBezTo>
                  <a:pt x="178" y="437"/>
                  <a:pt x="165" y="446"/>
                  <a:pt x="151" y="443"/>
                </a:cubicBezTo>
                <a:cubicBezTo>
                  <a:pt x="137" y="441"/>
                  <a:pt x="128" y="428"/>
                  <a:pt x="131" y="414"/>
                </a:cubicBezTo>
                <a:cubicBezTo>
                  <a:pt x="133" y="401"/>
                  <a:pt x="146" y="392"/>
                  <a:pt x="160" y="394"/>
                </a:cubicBezTo>
                <a:cubicBezTo>
                  <a:pt x="173" y="396"/>
                  <a:pt x="183" y="409"/>
                  <a:pt x="180" y="423"/>
                </a:cubicBezTo>
                <a:close/>
                <a:moveTo>
                  <a:pt x="164" y="521"/>
                </a:moveTo>
                <a:lnTo>
                  <a:pt x="164" y="521"/>
                </a:lnTo>
                <a:cubicBezTo>
                  <a:pt x="162" y="535"/>
                  <a:pt x="149" y="544"/>
                  <a:pt x="136" y="542"/>
                </a:cubicBezTo>
                <a:cubicBezTo>
                  <a:pt x="122" y="540"/>
                  <a:pt x="113" y="527"/>
                  <a:pt x="115" y="514"/>
                </a:cubicBezTo>
                <a:lnTo>
                  <a:pt x="115" y="513"/>
                </a:lnTo>
                <a:cubicBezTo>
                  <a:pt x="117" y="500"/>
                  <a:pt x="130" y="491"/>
                  <a:pt x="143" y="493"/>
                </a:cubicBezTo>
                <a:cubicBezTo>
                  <a:pt x="157" y="495"/>
                  <a:pt x="166" y="508"/>
                  <a:pt x="164" y="521"/>
                </a:cubicBezTo>
                <a:close/>
                <a:moveTo>
                  <a:pt x="150" y="620"/>
                </a:moveTo>
                <a:lnTo>
                  <a:pt x="150" y="620"/>
                </a:lnTo>
                <a:cubicBezTo>
                  <a:pt x="148" y="634"/>
                  <a:pt x="136" y="643"/>
                  <a:pt x="122" y="641"/>
                </a:cubicBezTo>
                <a:cubicBezTo>
                  <a:pt x="108" y="639"/>
                  <a:pt x="99" y="627"/>
                  <a:pt x="101" y="613"/>
                </a:cubicBezTo>
                <a:cubicBezTo>
                  <a:pt x="102" y="599"/>
                  <a:pt x="115" y="590"/>
                  <a:pt x="129" y="592"/>
                </a:cubicBezTo>
                <a:cubicBezTo>
                  <a:pt x="142" y="594"/>
                  <a:pt x="152" y="606"/>
                  <a:pt x="150" y="620"/>
                </a:cubicBezTo>
                <a:close/>
                <a:moveTo>
                  <a:pt x="137" y="719"/>
                </a:moveTo>
                <a:lnTo>
                  <a:pt x="137" y="719"/>
                </a:lnTo>
                <a:cubicBezTo>
                  <a:pt x="136" y="732"/>
                  <a:pt x="123" y="742"/>
                  <a:pt x="110" y="741"/>
                </a:cubicBezTo>
                <a:cubicBezTo>
                  <a:pt x="96" y="739"/>
                  <a:pt x="86" y="726"/>
                  <a:pt x="88" y="713"/>
                </a:cubicBezTo>
                <a:cubicBezTo>
                  <a:pt x="89" y="699"/>
                  <a:pt x="102" y="689"/>
                  <a:pt x="115" y="691"/>
                </a:cubicBezTo>
                <a:cubicBezTo>
                  <a:pt x="129" y="692"/>
                  <a:pt x="139" y="705"/>
                  <a:pt x="137" y="719"/>
                </a:cubicBezTo>
                <a:close/>
                <a:moveTo>
                  <a:pt x="126" y="818"/>
                </a:moveTo>
                <a:lnTo>
                  <a:pt x="126" y="818"/>
                </a:lnTo>
                <a:cubicBezTo>
                  <a:pt x="125" y="832"/>
                  <a:pt x="112" y="842"/>
                  <a:pt x="99" y="840"/>
                </a:cubicBezTo>
                <a:cubicBezTo>
                  <a:pt x="85" y="838"/>
                  <a:pt x="75" y="826"/>
                  <a:pt x="77" y="812"/>
                </a:cubicBezTo>
                <a:cubicBezTo>
                  <a:pt x="78" y="798"/>
                  <a:pt x="91" y="789"/>
                  <a:pt x="104" y="790"/>
                </a:cubicBezTo>
                <a:cubicBezTo>
                  <a:pt x="118" y="792"/>
                  <a:pt x="128" y="804"/>
                  <a:pt x="126" y="818"/>
                </a:cubicBezTo>
                <a:close/>
                <a:moveTo>
                  <a:pt x="115" y="917"/>
                </a:moveTo>
                <a:lnTo>
                  <a:pt x="115" y="917"/>
                </a:lnTo>
                <a:cubicBezTo>
                  <a:pt x="114" y="931"/>
                  <a:pt x="101" y="941"/>
                  <a:pt x="88" y="939"/>
                </a:cubicBezTo>
                <a:cubicBezTo>
                  <a:pt x="74" y="938"/>
                  <a:pt x="64" y="925"/>
                  <a:pt x="66" y="912"/>
                </a:cubicBezTo>
                <a:cubicBezTo>
                  <a:pt x="67" y="898"/>
                  <a:pt x="80" y="888"/>
                  <a:pt x="93" y="890"/>
                </a:cubicBezTo>
                <a:cubicBezTo>
                  <a:pt x="107" y="891"/>
                  <a:pt x="117" y="904"/>
                  <a:pt x="115" y="917"/>
                </a:cubicBezTo>
                <a:close/>
                <a:moveTo>
                  <a:pt x="105" y="1016"/>
                </a:moveTo>
                <a:lnTo>
                  <a:pt x="105" y="1016"/>
                </a:lnTo>
                <a:cubicBezTo>
                  <a:pt x="104" y="1030"/>
                  <a:pt x="92" y="1040"/>
                  <a:pt x="78" y="1039"/>
                </a:cubicBezTo>
                <a:cubicBezTo>
                  <a:pt x="64" y="1038"/>
                  <a:pt x="54" y="1026"/>
                  <a:pt x="55" y="1012"/>
                </a:cubicBezTo>
                <a:cubicBezTo>
                  <a:pt x="56" y="998"/>
                  <a:pt x="69" y="988"/>
                  <a:pt x="82" y="989"/>
                </a:cubicBezTo>
                <a:cubicBezTo>
                  <a:pt x="96" y="990"/>
                  <a:pt x="106" y="1002"/>
                  <a:pt x="105" y="1016"/>
                </a:cubicBezTo>
                <a:close/>
                <a:moveTo>
                  <a:pt x="97" y="1116"/>
                </a:moveTo>
                <a:lnTo>
                  <a:pt x="97" y="1116"/>
                </a:lnTo>
                <a:cubicBezTo>
                  <a:pt x="96" y="1130"/>
                  <a:pt x="83" y="1140"/>
                  <a:pt x="70" y="1139"/>
                </a:cubicBezTo>
                <a:cubicBezTo>
                  <a:pt x="56" y="1137"/>
                  <a:pt x="46" y="1125"/>
                  <a:pt x="47" y="1112"/>
                </a:cubicBezTo>
                <a:cubicBezTo>
                  <a:pt x="48" y="1098"/>
                  <a:pt x="60" y="1088"/>
                  <a:pt x="74" y="1089"/>
                </a:cubicBezTo>
                <a:cubicBezTo>
                  <a:pt x="88" y="1090"/>
                  <a:pt x="98" y="1102"/>
                  <a:pt x="97" y="1116"/>
                </a:cubicBezTo>
                <a:close/>
                <a:moveTo>
                  <a:pt x="88" y="1216"/>
                </a:moveTo>
                <a:lnTo>
                  <a:pt x="88" y="1216"/>
                </a:lnTo>
                <a:cubicBezTo>
                  <a:pt x="87" y="1229"/>
                  <a:pt x="75" y="1240"/>
                  <a:pt x="61" y="1238"/>
                </a:cubicBezTo>
                <a:cubicBezTo>
                  <a:pt x="48" y="1237"/>
                  <a:pt x="37" y="1225"/>
                  <a:pt x="39" y="1211"/>
                </a:cubicBezTo>
                <a:cubicBezTo>
                  <a:pt x="40" y="1197"/>
                  <a:pt x="52" y="1187"/>
                  <a:pt x="66" y="1189"/>
                </a:cubicBezTo>
                <a:cubicBezTo>
                  <a:pt x="79" y="1190"/>
                  <a:pt x="90" y="1202"/>
                  <a:pt x="88" y="1216"/>
                </a:cubicBezTo>
                <a:close/>
                <a:moveTo>
                  <a:pt x="81" y="1315"/>
                </a:moveTo>
                <a:lnTo>
                  <a:pt x="81" y="1315"/>
                </a:lnTo>
                <a:cubicBezTo>
                  <a:pt x="80" y="1328"/>
                  <a:pt x="68" y="1339"/>
                  <a:pt x="54" y="1338"/>
                </a:cubicBezTo>
                <a:cubicBezTo>
                  <a:pt x="41" y="1337"/>
                  <a:pt x="30" y="1326"/>
                  <a:pt x="31" y="1312"/>
                </a:cubicBezTo>
                <a:cubicBezTo>
                  <a:pt x="32" y="1298"/>
                  <a:pt x="44" y="1287"/>
                  <a:pt x="57" y="1288"/>
                </a:cubicBezTo>
                <a:cubicBezTo>
                  <a:pt x="71" y="1289"/>
                  <a:pt x="82" y="1301"/>
                  <a:pt x="81" y="1315"/>
                </a:cubicBezTo>
                <a:close/>
                <a:moveTo>
                  <a:pt x="75" y="1415"/>
                </a:moveTo>
                <a:lnTo>
                  <a:pt x="75" y="1415"/>
                </a:lnTo>
                <a:cubicBezTo>
                  <a:pt x="74" y="1428"/>
                  <a:pt x="63" y="1439"/>
                  <a:pt x="49" y="1438"/>
                </a:cubicBezTo>
                <a:cubicBezTo>
                  <a:pt x="35" y="1437"/>
                  <a:pt x="24" y="1425"/>
                  <a:pt x="25" y="1412"/>
                </a:cubicBezTo>
                <a:cubicBezTo>
                  <a:pt x="26" y="1398"/>
                  <a:pt x="38" y="1387"/>
                  <a:pt x="52" y="1388"/>
                </a:cubicBezTo>
                <a:cubicBezTo>
                  <a:pt x="65" y="1389"/>
                  <a:pt x="76" y="1401"/>
                  <a:pt x="75" y="1415"/>
                </a:cubicBezTo>
                <a:close/>
                <a:moveTo>
                  <a:pt x="69" y="1514"/>
                </a:moveTo>
                <a:lnTo>
                  <a:pt x="69" y="1514"/>
                </a:lnTo>
                <a:cubicBezTo>
                  <a:pt x="69" y="1528"/>
                  <a:pt x="57" y="1539"/>
                  <a:pt x="43" y="1538"/>
                </a:cubicBezTo>
                <a:cubicBezTo>
                  <a:pt x="29" y="1537"/>
                  <a:pt x="19" y="1525"/>
                  <a:pt x="20" y="1512"/>
                </a:cubicBezTo>
                <a:lnTo>
                  <a:pt x="20" y="1511"/>
                </a:lnTo>
                <a:cubicBezTo>
                  <a:pt x="20" y="1498"/>
                  <a:pt x="32" y="1487"/>
                  <a:pt x="46" y="1488"/>
                </a:cubicBezTo>
                <a:cubicBezTo>
                  <a:pt x="60" y="1489"/>
                  <a:pt x="70" y="1501"/>
                  <a:pt x="69" y="1514"/>
                </a:cubicBezTo>
                <a:close/>
                <a:moveTo>
                  <a:pt x="64" y="1614"/>
                </a:moveTo>
                <a:lnTo>
                  <a:pt x="64" y="1614"/>
                </a:lnTo>
                <a:cubicBezTo>
                  <a:pt x="64" y="1628"/>
                  <a:pt x="52" y="1638"/>
                  <a:pt x="38" y="1638"/>
                </a:cubicBezTo>
                <a:cubicBezTo>
                  <a:pt x="24" y="1637"/>
                  <a:pt x="14" y="1626"/>
                  <a:pt x="14" y="1612"/>
                </a:cubicBezTo>
                <a:cubicBezTo>
                  <a:pt x="15" y="1598"/>
                  <a:pt x="26" y="1587"/>
                  <a:pt x="40" y="1588"/>
                </a:cubicBezTo>
                <a:cubicBezTo>
                  <a:pt x="54" y="1588"/>
                  <a:pt x="65" y="1600"/>
                  <a:pt x="64" y="1614"/>
                </a:cubicBezTo>
                <a:close/>
                <a:moveTo>
                  <a:pt x="61" y="1714"/>
                </a:moveTo>
                <a:lnTo>
                  <a:pt x="61" y="1714"/>
                </a:lnTo>
                <a:cubicBezTo>
                  <a:pt x="60" y="1728"/>
                  <a:pt x="49" y="1738"/>
                  <a:pt x="35" y="1738"/>
                </a:cubicBezTo>
                <a:cubicBezTo>
                  <a:pt x="21" y="1737"/>
                  <a:pt x="10" y="1726"/>
                  <a:pt x="11" y="1712"/>
                </a:cubicBezTo>
                <a:cubicBezTo>
                  <a:pt x="11" y="1698"/>
                  <a:pt x="23" y="1687"/>
                  <a:pt x="37" y="1688"/>
                </a:cubicBezTo>
                <a:cubicBezTo>
                  <a:pt x="51" y="1688"/>
                  <a:pt x="61" y="1700"/>
                  <a:pt x="61" y="1714"/>
                </a:cubicBezTo>
                <a:close/>
                <a:moveTo>
                  <a:pt x="57" y="1814"/>
                </a:moveTo>
                <a:lnTo>
                  <a:pt x="57" y="1814"/>
                </a:lnTo>
                <a:cubicBezTo>
                  <a:pt x="57" y="1828"/>
                  <a:pt x="45" y="1838"/>
                  <a:pt x="31" y="1838"/>
                </a:cubicBezTo>
                <a:cubicBezTo>
                  <a:pt x="18" y="1837"/>
                  <a:pt x="7" y="1826"/>
                  <a:pt x="7" y="1812"/>
                </a:cubicBezTo>
                <a:cubicBezTo>
                  <a:pt x="8" y="1798"/>
                  <a:pt x="20" y="1787"/>
                  <a:pt x="33" y="1788"/>
                </a:cubicBezTo>
                <a:cubicBezTo>
                  <a:pt x="47" y="1788"/>
                  <a:pt x="58" y="1800"/>
                  <a:pt x="57" y="1814"/>
                </a:cubicBezTo>
                <a:close/>
                <a:moveTo>
                  <a:pt x="54" y="1914"/>
                </a:moveTo>
                <a:lnTo>
                  <a:pt x="54" y="1914"/>
                </a:lnTo>
                <a:cubicBezTo>
                  <a:pt x="53" y="1928"/>
                  <a:pt x="42" y="1938"/>
                  <a:pt x="28" y="1938"/>
                </a:cubicBezTo>
                <a:cubicBezTo>
                  <a:pt x="14" y="1937"/>
                  <a:pt x="4" y="1926"/>
                  <a:pt x="4" y="1912"/>
                </a:cubicBezTo>
                <a:cubicBezTo>
                  <a:pt x="5" y="1898"/>
                  <a:pt x="16" y="1887"/>
                  <a:pt x="30" y="1888"/>
                </a:cubicBezTo>
                <a:cubicBezTo>
                  <a:pt x="44" y="1888"/>
                  <a:pt x="55" y="1900"/>
                  <a:pt x="54" y="1914"/>
                </a:cubicBezTo>
                <a:close/>
                <a:moveTo>
                  <a:pt x="52" y="2013"/>
                </a:moveTo>
                <a:lnTo>
                  <a:pt x="52" y="2013"/>
                </a:lnTo>
                <a:cubicBezTo>
                  <a:pt x="52" y="2027"/>
                  <a:pt x="41" y="2038"/>
                  <a:pt x="27" y="2038"/>
                </a:cubicBezTo>
                <a:cubicBezTo>
                  <a:pt x="13" y="2038"/>
                  <a:pt x="2" y="2026"/>
                  <a:pt x="2" y="2012"/>
                </a:cubicBezTo>
                <a:lnTo>
                  <a:pt x="3" y="2012"/>
                </a:lnTo>
                <a:cubicBezTo>
                  <a:pt x="3" y="1999"/>
                  <a:pt x="14" y="1988"/>
                  <a:pt x="28" y="1988"/>
                </a:cubicBezTo>
                <a:cubicBezTo>
                  <a:pt x="42" y="1988"/>
                  <a:pt x="53" y="2000"/>
                  <a:pt x="52" y="2013"/>
                </a:cubicBezTo>
                <a:close/>
                <a:moveTo>
                  <a:pt x="51" y="2113"/>
                </a:moveTo>
                <a:lnTo>
                  <a:pt x="51" y="2113"/>
                </a:lnTo>
                <a:cubicBezTo>
                  <a:pt x="51" y="2127"/>
                  <a:pt x="40" y="2138"/>
                  <a:pt x="26" y="2138"/>
                </a:cubicBezTo>
                <a:cubicBezTo>
                  <a:pt x="12" y="2138"/>
                  <a:pt x="1" y="2126"/>
                  <a:pt x="1" y="2112"/>
                </a:cubicBezTo>
                <a:cubicBezTo>
                  <a:pt x="2" y="2099"/>
                  <a:pt x="13" y="2088"/>
                  <a:pt x="27" y="2088"/>
                </a:cubicBezTo>
                <a:cubicBezTo>
                  <a:pt x="41" y="2088"/>
                  <a:pt x="52" y="2100"/>
                  <a:pt x="51" y="2113"/>
                </a:cubicBezTo>
                <a:close/>
                <a:moveTo>
                  <a:pt x="50" y="2213"/>
                </a:moveTo>
                <a:lnTo>
                  <a:pt x="50" y="2214"/>
                </a:lnTo>
                <a:cubicBezTo>
                  <a:pt x="50" y="2227"/>
                  <a:pt x="38" y="2238"/>
                  <a:pt x="25" y="2238"/>
                </a:cubicBezTo>
                <a:cubicBezTo>
                  <a:pt x="11" y="2238"/>
                  <a:pt x="0" y="2226"/>
                  <a:pt x="0" y="2213"/>
                </a:cubicBezTo>
                <a:lnTo>
                  <a:pt x="0" y="2212"/>
                </a:lnTo>
                <a:cubicBezTo>
                  <a:pt x="0" y="2199"/>
                  <a:pt x="12" y="2188"/>
                  <a:pt x="26" y="2188"/>
                </a:cubicBezTo>
                <a:cubicBezTo>
                  <a:pt x="39" y="2188"/>
                  <a:pt x="50" y="2200"/>
                  <a:pt x="50" y="2213"/>
                </a:cubicBezTo>
                <a:close/>
                <a:moveTo>
                  <a:pt x="50" y="2313"/>
                </a:moveTo>
                <a:lnTo>
                  <a:pt x="50" y="2313"/>
                </a:lnTo>
                <a:cubicBezTo>
                  <a:pt x="50" y="2327"/>
                  <a:pt x="39" y="2338"/>
                  <a:pt x="25" y="2338"/>
                </a:cubicBezTo>
                <a:cubicBezTo>
                  <a:pt x="11" y="2338"/>
                  <a:pt x="0" y="2327"/>
                  <a:pt x="0" y="2313"/>
                </a:cubicBezTo>
                <a:cubicBezTo>
                  <a:pt x="0" y="2299"/>
                  <a:pt x="11" y="2288"/>
                  <a:pt x="25" y="2288"/>
                </a:cubicBezTo>
                <a:cubicBezTo>
                  <a:pt x="39" y="2288"/>
                  <a:pt x="50" y="2299"/>
                  <a:pt x="50" y="2313"/>
                </a:cubicBezTo>
                <a:close/>
                <a:moveTo>
                  <a:pt x="51" y="2413"/>
                </a:moveTo>
                <a:lnTo>
                  <a:pt x="51" y="2413"/>
                </a:lnTo>
                <a:cubicBezTo>
                  <a:pt x="51" y="2427"/>
                  <a:pt x="39" y="2438"/>
                  <a:pt x="26" y="2438"/>
                </a:cubicBezTo>
                <a:cubicBezTo>
                  <a:pt x="12" y="2438"/>
                  <a:pt x="1" y="2427"/>
                  <a:pt x="1" y="2413"/>
                </a:cubicBezTo>
                <a:cubicBezTo>
                  <a:pt x="1" y="2399"/>
                  <a:pt x="12" y="2388"/>
                  <a:pt x="26" y="2388"/>
                </a:cubicBezTo>
                <a:cubicBezTo>
                  <a:pt x="39" y="2388"/>
                  <a:pt x="51" y="2399"/>
                  <a:pt x="51" y="2413"/>
                </a:cubicBezTo>
                <a:close/>
                <a:moveTo>
                  <a:pt x="51" y="2513"/>
                </a:moveTo>
                <a:lnTo>
                  <a:pt x="51" y="2513"/>
                </a:lnTo>
                <a:cubicBezTo>
                  <a:pt x="51" y="2527"/>
                  <a:pt x="40" y="2538"/>
                  <a:pt x="26" y="2538"/>
                </a:cubicBezTo>
                <a:cubicBezTo>
                  <a:pt x="13" y="2538"/>
                  <a:pt x="1" y="2527"/>
                  <a:pt x="1" y="2513"/>
                </a:cubicBezTo>
                <a:cubicBezTo>
                  <a:pt x="1" y="2499"/>
                  <a:pt x="13" y="2488"/>
                  <a:pt x="26" y="2488"/>
                </a:cubicBezTo>
                <a:cubicBezTo>
                  <a:pt x="40" y="2488"/>
                  <a:pt x="51" y="2499"/>
                  <a:pt x="51" y="2513"/>
                </a:cubicBezTo>
                <a:close/>
                <a:moveTo>
                  <a:pt x="54" y="2613"/>
                </a:moveTo>
                <a:lnTo>
                  <a:pt x="54" y="2613"/>
                </a:lnTo>
                <a:cubicBezTo>
                  <a:pt x="54" y="2626"/>
                  <a:pt x="43" y="2638"/>
                  <a:pt x="29" y="2638"/>
                </a:cubicBezTo>
                <a:cubicBezTo>
                  <a:pt x="15" y="2638"/>
                  <a:pt x="4" y="2627"/>
                  <a:pt x="4" y="2614"/>
                </a:cubicBezTo>
                <a:cubicBezTo>
                  <a:pt x="4" y="2600"/>
                  <a:pt x="14" y="2588"/>
                  <a:pt x="28" y="2588"/>
                </a:cubicBezTo>
                <a:cubicBezTo>
                  <a:pt x="42" y="2588"/>
                  <a:pt x="54" y="2599"/>
                  <a:pt x="54" y="2613"/>
                </a:cubicBezTo>
                <a:close/>
                <a:moveTo>
                  <a:pt x="57" y="2713"/>
                </a:moveTo>
                <a:lnTo>
                  <a:pt x="57" y="2713"/>
                </a:lnTo>
                <a:cubicBezTo>
                  <a:pt x="57" y="2726"/>
                  <a:pt x="46" y="2738"/>
                  <a:pt x="32" y="2738"/>
                </a:cubicBezTo>
                <a:cubicBezTo>
                  <a:pt x="18" y="2738"/>
                  <a:pt x="7" y="2727"/>
                  <a:pt x="7" y="2714"/>
                </a:cubicBezTo>
                <a:cubicBezTo>
                  <a:pt x="6" y="2700"/>
                  <a:pt x="17" y="2688"/>
                  <a:pt x="31" y="2688"/>
                </a:cubicBezTo>
                <a:cubicBezTo>
                  <a:pt x="45" y="2688"/>
                  <a:pt x="56" y="2699"/>
                  <a:pt x="57" y="2713"/>
                </a:cubicBezTo>
                <a:close/>
                <a:moveTo>
                  <a:pt x="60" y="2812"/>
                </a:moveTo>
                <a:lnTo>
                  <a:pt x="60" y="2812"/>
                </a:lnTo>
                <a:cubicBezTo>
                  <a:pt x="60" y="2826"/>
                  <a:pt x="50" y="2838"/>
                  <a:pt x="36" y="2838"/>
                </a:cubicBezTo>
                <a:cubicBezTo>
                  <a:pt x="22" y="2839"/>
                  <a:pt x="10" y="2828"/>
                  <a:pt x="10" y="2814"/>
                </a:cubicBezTo>
                <a:cubicBezTo>
                  <a:pt x="9" y="2800"/>
                  <a:pt x="20" y="2789"/>
                  <a:pt x="34" y="2788"/>
                </a:cubicBezTo>
                <a:cubicBezTo>
                  <a:pt x="48" y="2788"/>
                  <a:pt x="59" y="2798"/>
                  <a:pt x="60" y="2812"/>
                </a:cubicBezTo>
                <a:close/>
                <a:moveTo>
                  <a:pt x="64" y="2912"/>
                </a:moveTo>
                <a:lnTo>
                  <a:pt x="64" y="2912"/>
                </a:lnTo>
                <a:cubicBezTo>
                  <a:pt x="64" y="2926"/>
                  <a:pt x="54" y="2938"/>
                  <a:pt x="40" y="2938"/>
                </a:cubicBezTo>
                <a:cubicBezTo>
                  <a:pt x="26" y="2939"/>
                  <a:pt x="14" y="2928"/>
                  <a:pt x="14" y="2914"/>
                </a:cubicBezTo>
                <a:cubicBezTo>
                  <a:pt x="13" y="2900"/>
                  <a:pt x="24" y="2889"/>
                  <a:pt x="38" y="2888"/>
                </a:cubicBezTo>
                <a:cubicBezTo>
                  <a:pt x="52" y="2888"/>
                  <a:pt x="63" y="2898"/>
                  <a:pt x="64" y="2912"/>
                </a:cubicBezTo>
                <a:close/>
                <a:moveTo>
                  <a:pt x="68" y="3012"/>
                </a:moveTo>
                <a:lnTo>
                  <a:pt x="68" y="3012"/>
                </a:lnTo>
                <a:cubicBezTo>
                  <a:pt x="68" y="3026"/>
                  <a:pt x="58" y="3038"/>
                  <a:pt x="44" y="3038"/>
                </a:cubicBezTo>
                <a:cubicBezTo>
                  <a:pt x="30" y="3039"/>
                  <a:pt x="18" y="3028"/>
                  <a:pt x="18" y="3014"/>
                </a:cubicBezTo>
                <a:cubicBezTo>
                  <a:pt x="17" y="3000"/>
                  <a:pt x="28" y="2989"/>
                  <a:pt x="42" y="2988"/>
                </a:cubicBezTo>
                <a:cubicBezTo>
                  <a:pt x="56" y="2988"/>
                  <a:pt x="67" y="2998"/>
                  <a:pt x="68" y="3012"/>
                </a:cubicBezTo>
                <a:close/>
                <a:moveTo>
                  <a:pt x="74" y="3111"/>
                </a:moveTo>
                <a:lnTo>
                  <a:pt x="74" y="3112"/>
                </a:lnTo>
                <a:cubicBezTo>
                  <a:pt x="74" y="3125"/>
                  <a:pt x="64" y="3137"/>
                  <a:pt x="50" y="3138"/>
                </a:cubicBezTo>
                <a:cubicBezTo>
                  <a:pt x="36" y="3139"/>
                  <a:pt x="24" y="3128"/>
                  <a:pt x="24" y="3114"/>
                </a:cubicBezTo>
                <a:cubicBezTo>
                  <a:pt x="23" y="3101"/>
                  <a:pt x="33" y="3089"/>
                  <a:pt x="47" y="3088"/>
                </a:cubicBezTo>
                <a:cubicBezTo>
                  <a:pt x="61" y="3087"/>
                  <a:pt x="73" y="3098"/>
                  <a:pt x="74" y="3111"/>
                </a:cubicBezTo>
                <a:close/>
                <a:moveTo>
                  <a:pt x="80" y="3211"/>
                </a:moveTo>
                <a:lnTo>
                  <a:pt x="80" y="3211"/>
                </a:lnTo>
                <a:cubicBezTo>
                  <a:pt x="80" y="3225"/>
                  <a:pt x="70" y="3237"/>
                  <a:pt x="56" y="3238"/>
                </a:cubicBezTo>
                <a:cubicBezTo>
                  <a:pt x="42" y="3239"/>
                  <a:pt x="30" y="3228"/>
                  <a:pt x="30" y="3214"/>
                </a:cubicBezTo>
                <a:cubicBezTo>
                  <a:pt x="29" y="3201"/>
                  <a:pt x="39" y="3189"/>
                  <a:pt x="53" y="3188"/>
                </a:cubicBezTo>
                <a:cubicBezTo>
                  <a:pt x="67" y="3187"/>
                  <a:pt x="79" y="3198"/>
                  <a:pt x="80" y="3211"/>
                </a:cubicBezTo>
                <a:close/>
                <a:moveTo>
                  <a:pt x="87" y="3311"/>
                </a:moveTo>
                <a:lnTo>
                  <a:pt x="87" y="3311"/>
                </a:lnTo>
                <a:cubicBezTo>
                  <a:pt x="88" y="3324"/>
                  <a:pt x="77" y="3337"/>
                  <a:pt x="64" y="3338"/>
                </a:cubicBezTo>
                <a:cubicBezTo>
                  <a:pt x="50" y="3339"/>
                  <a:pt x="38" y="3328"/>
                  <a:pt x="37" y="3315"/>
                </a:cubicBezTo>
                <a:cubicBezTo>
                  <a:pt x="36" y="3301"/>
                  <a:pt x="46" y="3289"/>
                  <a:pt x="60" y="3288"/>
                </a:cubicBezTo>
                <a:cubicBezTo>
                  <a:pt x="73" y="3287"/>
                  <a:pt x="85" y="3297"/>
                  <a:pt x="87" y="3311"/>
                </a:cubicBezTo>
                <a:close/>
                <a:moveTo>
                  <a:pt x="95" y="3410"/>
                </a:moveTo>
                <a:lnTo>
                  <a:pt x="95" y="3410"/>
                </a:lnTo>
                <a:cubicBezTo>
                  <a:pt x="96" y="3424"/>
                  <a:pt x="85" y="3436"/>
                  <a:pt x="72" y="3437"/>
                </a:cubicBezTo>
                <a:cubicBezTo>
                  <a:pt x="58" y="3438"/>
                  <a:pt x="46" y="3428"/>
                  <a:pt x="45" y="3414"/>
                </a:cubicBezTo>
                <a:cubicBezTo>
                  <a:pt x="44" y="3401"/>
                  <a:pt x="54" y="3389"/>
                  <a:pt x="68" y="3387"/>
                </a:cubicBezTo>
                <a:cubicBezTo>
                  <a:pt x="81" y="3386"/>
                  <a:pt x="93" y="3397"/>
                  <a:pt x="95" y="3410"/>
                </a:cubicBezTo>
                <a:close/>
                <a:moveTo>
                  <a:pt x="103" y="3510"/>
                </a:moveTo>
                <a:lnTo>
                  <a:pt x="103" y="3510"/>
                </a:lnTo>
                <a:cubicBezTo>
                  <a:pt x="104" y="3523"/>
                  <a:pt x="94" y="3536"/>
                  <a:pt x="81" y="3537"/>
                </a:cubicBezTo>
                <a:cubicBezTo>
                  <a:pt x="67" y="3538"/>
                  <a:pt x="55" y="3528"/>
                  <a:pt x="53" y="3515"/>
                </a:cubicBezTo>
                <a:lnTo>
                  <a:pt x="53" y="3514"/>
                </a:lnTo>
                <a:cubicBezTo>
                  <a:pt x="52" y="3501"/>
                  <a:pt x="62" y="3489"/>
                  <a:pt x="76" y="3487"/>
                </a:cubicBezTo>
                <a:cubicBezTo>
                  <a:pt x="89" y="3486"/>
                  <a:pt x="102" y="3496"/>
                  <a:pt x="103" y="3510"/>
                </a:cubicBezTo>
                <a:close/>
                <a:moveTo>
                  <a:pt x="113" y="3609"/>
                </a:moveTo>
                <a:lnTo>
                  <a:pt x="113" y="3609"/>
                </a:lnTo>
                <a:cubicBezTo>
                  <a:pt x="114" y="3623"/>
                  <a:pt x="104" y="3635"/>
                  <a:pt x="90" y="3637"/>
                </a:cubicBezTo>
                <a:cubicBezTo>
                  <a:pt x="77" y="3638"/>
                  <a:pt x="64" y="3628"/>
                  <a:pt x="63" y="3614"/>
                </a:cubicBezTo>
                <a:cubicBezTo>
                  <a:pt x="62" y="3600"/>
                  <a:pt x="72" y="3588"/>
                  <a:pt x="85" y="3587"/>
                </a:cubicBezTo>
                <a:cubicBezTo>
                  <a:pt x="99" y="3585"/>
                  <a:pt x="111" y="3595"/>
                  <a:pt x="113" y="3609"/>
                </a:cubicBezTo>
                <a:close/>
                <a:moveTo>
                  <a:pt x="123" y="3708"/>
                </a:moveTo>
                <a:lnTo>
                  <a:pt x="123" y="3708"/>
                </a:lnTo>
                <a:cubicBezTo>
                  <a:pt x="125" y="3722"/>
                  <a:pt x="115" y="3734"/>
                  <a:pt x="101" y="3736"/>
                </a:cubicBezTo>
                <a:cubicBezTo>
                  <a:pt x="87" y="3738"/>
                  <a:pt x="75" y="3728"/>
                  <a:pt x="73" y="3714"/>
                </a:cubicBezTo>
                <a:cubicBezTo>
                  <a:pt x="72" y="3700"/>
                  <a:pt x="81" y="3688"/>
                  <a:pt x="95" y="3686"/>
                </a:cubicBezTo>
                <a:cubicBezTo>
                  <a:pt x="109" y="3685"/>
                  <a:pt x="121" y="3694"/>
                  <a:pt x="123" y="3708"/>
                </a:cubicBezTo>
                <a:close/>
                <a:moveTo>
                  <a:pt x="135" y="3807"/>
                </a:moveTo>
                <a:lnTo>
                  <a:pt x="135" y="3808"/>
                </a:lnTo>
                <a:cubicBezTo>
                  <a:pt x="137" y="3821"/>
                  <a:pt x="127" y="3834"/>
                  <a:pt x="113" y="3835"/>
                </a:cubicBezTo>
                <a:cubicBezTo>
                  <a:pt x="100" y="3837"/>
                  <a:pt x="87" y="3827"/>
                  <a:pt x="86" y="3813"/>
                </a:cubicBezTo>
                <a:cubicBezTo>
                  <a:pt x="84" y="3800"/>
                  <a:pt x="94" y="3787"/>
                  <a:pt x="108" y="3786"/>
                </a:cubicBezTo>
                <a:cubicBezTo>
                  <a:pt x="121" y="3784"/>
                  <a:pt x="134" y="3794"/>
                  <a:pt x="135" y="3807"/>
                </a:cubicBezTo>
                <a:close/>
                <a:moveTo>
                  <a:pt x="148" y="3906"/>
                </a:moveTo>
                <a:lnTo>
                  <a:pt x="148" y="3906"/>
                </a:lnTo>
                <a:cubicBezTo>
                  <a:pt x="150" y="3920"/>
                  <a:pt x="140" y="3933"/>
                  <a:pt x="127" y="3934"/>
                </a:cubicBezTo>
                <a:cubicBezTo>
                  <a:pt x="113" y="3936"/>
                  <a:pt x="100" y="3927"/>
                  <a:pt x="98" y="3913"/>
                </a:cubicBezTo>
                <a:cubicBezTo>
                  <a:pt x="96" y="3899"/>
                  <a:pt x="106" y="3887"/>
                  <a:pt x="120" y="3885"/>
                </a:cubicBezTo>
                <a:cubicBezTo>
                  <a:pt x="133" y="3883"/>
                  <a:pt x="146" y="3893"/>
                  <a:pt x="148" y="3906"/>
                </a:cubicBezTo>
                <a:close/>
                <a:moveTo>
                  <a:pt x="162" y="4005"/>
                </a:moveTo>
                <a:lnTo>
                  <a:pt x="162" y="4005"/>
                </a:lnTo>
                <a:cubicBezTo>
                  <a:pt x="164" y="4019"/>
                  <a:pt x="155" y="4032"/>
                  <a:pt x="141" y="4033"/>
                </a:cubicBezTo>
                <a:cubicBezTo>
                  <a:pt x="127" y="4035"/>
                  <a:pt x="115" y="4026"/>
                  <a:pt x="113" y="4012"/>
                </a:cubicBezTo>
                <a:cubicBezTo>
                  <a:pt x="111" y="3998"/>
                  <a:pt x="120" y="3986"/>
                  <a:pt x="134" y="3984"/>
                </a:cubicBezTo>
                <a:cubicBezTo>
                  <a:pt x="148" y="3982"/>
                  <a:pt x="160" y="3992"/>
                  <a:pt x="162" y="4005"/>
                </a:cubicBezTo>
                <a:close/>
                <a:moveTo>
                  <a:pt x="177" y="4103"/>
                </a:moveTo>
                <a:lnTo>
                  <a:pt x="177" y="4103"/>
                </a:lnTo>
                <a:cubicBezTo>
                  <a:pt x="180" y="4117"/>
                  <a:pt x="171" y="4130"/>
                  <a:pt x="157" y="4132"/>
                </a:cubicBezTo>
                <a:cubicBezTo>
                  <a:pt x="144" y="4135"/>
                  <a:pt x="131" y="4126"/>
                  <a:pt x="128" y="4112"/>
                </a:cubicBezTo>
                <a:cubicBezTo>
                  <a:pt x="126" y="4098"/>
                  <a:pt x="135" y="4085"/>
                  <a:pt x="148" y="4083"/>
                </a:cubicBezTo>
                <a:cubicBezTo>
                  <a:pt x="162" y="4080"/>
                  <a:pt x="175" y="4089"/>
                  <a:pt x="177" y="4103"/>
                </a:cubicBezTo>
                <a:close/>
                <a:moveTo>
                  <a:pt x="195" y="4202"/>
                </a:moveTo>
                <a:lnTo>
                  <a:pt x="195" y="4202"/>
                </a:lnTo>
                <a:cubicBezTo>
                  <a:pt x="198" y="4215"/>
                  <a:pt x="189" y="4228"/>
                  <a:pt x="175" y="4231"/>
                </a:cubicBezTo>
                <a:cubicBezTo>
                  <a:pt x="162" y="4233"/>
                  <a:pt x="149" y="4224"/>
                  <a:pt x="146" y="4210"/>
                </a:cubicBezTo>
                <a:cubicBezTo>
                  <a:pt x="144" y="4197"/>
                  <a:pt x="153" y="4184"/>
                  <a:pt x="166" y="4181"/>
                </a:cubicBezTo>
                <a:cubicBezTo>
                  <a:pt x="180" y="4179"/>
                  <a:pt x="193" y="4188"/>
                  <a:pt x="195" y="4202"/>
                </a:cubicBezTo>
                <a:close/>
                <a:moveTo>
                  <a:pt x="215" y="4299"/>
                </a:moveTo>
                <a:lnTo>
                  <a:pt x="215" y="4299"/>
                </a:lnTo>
                <a:cubicBezTo>
                  <a:pt x="218" y="4312"/>
                  <a:pt x="209" y="4326"/>
                  <a:pt x="196" y="4329"/>
                </a:cubicBezTo>
                <a:cubicBezTo>
                  <a:pt x="182" y="4331"/>
                  <a:pt x="169" y="4323"/>
                  <a:pt x="166" y="4309"/>
                </a:cubicBezTo>
                <a:cubicBezTo>
                  <a:pt x="163" y="4296"/>
                  <a:pt x="172" y="4282"/>
                  <a:pt x="185" y="4280"/>
                </a:cubicBezTo>
                <a:cubicBezTo>
                  <a:pt x="199" y="4277"/>
                  <a:pt x="212" y="4285"/>
                  <a:pt x="215" y="4299"/>
                </a:cubicBezTo>
                <a:close/>
                <a:moveTo>
                  <a:pt x="236" y="4397"/>
                </a:moveTo>
                <a:lnTo>
                  <a:pt x="236" y="4397"/>
                </a:lnTo>
                <a:cubicBezTo>
                  <a:pt x="239" y="4410"/>
                  <a:pt x="230" y="4424"/>
                  <a:pt x="217" y="4426"/>
                </a:cubicBezTo>
                <a:cubicBezTo>
                  <a:pt x="203" y="4429"/>
                  <a:pt x="190" y="4421"/>
                  <a:pt x="187" y="4407"/>
                </a:cubicBezTo>
                <a:cubicBezTo>
                  <a:pt x="184" y="4393"/>
                  <a:pt x="193" y="4380"/>
                  <a:pt x="206" y="4377"/>
                </a:cubicBezTo>
                <a:cubicBezTo>
                  <a:pt x="220" y="4375"/>
                  <a:pt x="233" y="4383"/>
                  <a:pt x="236" y="4397"/>
                </a:cubicBezTo>
                <a:close/>
                <a:moveTo>
                  <a:pt x="261" y="4493"/>
                </a:moveTo>
                <a:lnTo>
                  <a:pt x="261" y="4493"/>
                </a:lnTo>
                <a:cubicBezTo>
                  <a:pt x="264" y="4506"/>
                  <a:pt x="256" y="4520"/>
                  <a:pt x="243" y="4523"/>
                </a:cubicBezTo>
                <a:cubicBezTo>
                  <a:pt x="229" y="4526"/>
                  <a:pt x="216" y="4518"/>
                  <a:pt x="212" y="4505"/>
                </a:cubicBezTo>
                <a:cubicBezTo>
                  <a:pt x="209" y="4491"/>
                  <a:pt x="217" y="4478"/>
                  <a:pt x="230" y="4475"/>
                </a:cubicBezTo>
                <a:cubicBezTo>
                  <a:pt x="244" y="4471"/>
                  <a:pt x="257" y="4479"/>
                  <a:pt x="261" y="4493"/>
                </a:cubicBezTo>
                <a:close/>
                <a:moveTo>
                  <a:pt x="289" y="4587"/>
                </a:moveTo>
                <a:lnTo>
                  <a:pt x="289" y="4587"/>
                </a:lnTo>
                <a:cubicBezTo>
                  <a:pt x="293" y="4600"/>
                  <a:pt x="286" y="4614"/>
                  <a:pt x="273" y="4618"/>
                </a:cubicBezTo>
                <a:cubicBezTo>
                  <a:pt x="260" y="4623"/>
                  <a:pt x="246" y="4616"/>
                  <a:pt x="241" y="4602"/>
                </a:cubicBezTo>
                <a:cubicBezTo>
                  <a:pt x="237" y="4589"/>
                  <a:pt x="244" y="4575"/>
                  <a:pt x="257" y="4571"/>
                </a:cubicBezTo>
                <a:cubicBezTo>
                  <a:pt x="270" y="4566"/>
                  <a:pt x="284" y="4574"/>
                  <a:pt x="289" y="4587"/>
                </a:cubicBezTo>
                <a:close/>
                <a:moveTo>
                  <a:pt x="322" y="4679"/>
                </a:moveTo>
                <a:lnTo>
                  <a:pt x="322" y="4679"/>
                </a:lnTo>
                <a:cubicBezTo>
                  <a:pt x="327" y="4692"/>
                  <a:pt x="321" y="4707"/>
                  <a:pt x="308" y="4712"/>
                </a:cubicBezTo>
                <a:cubicBezTo>
                  <a:pt x="295" y="4717"/>
                  <a:pt x="281" y="4711"/>
                  <a:pt x="275" y="4698"/>
                </a:cubicBezTo>
                <a:cubicBezTo>
                  <a:pt x="270" y="4685"/>
                  <a:pt x="276" y="4671"/>
                  <a:pt x="289" y="4666"/>
                </a:cubicBezTo>
                <a:cubicBezTo>
                  <a:pt x="302" y="4660"/>
                  <a:pt x="317" y="4667"/>
                  <a:pt x="322" y="4679"/>
                </a:cubicBezTo>
                <a:close/>
                <a:moveTo>
                  <a:pt x="362" y="4767"/>
                </a:moveTo>
                <a:lnTo>
                  <a:pt x="362" y="4767"/>
                </a:lnTo>
                <a:cubicBezTo>
                  <a:pt x="369" y="4779"/>
                  <a:pt x="365" y="4794"/>
                  <a:pt x="353" y="4801"/>
                </a:cubicBezTo>
                <a:cubicBezTo>
                  <a:pt x="341" y="4808"/>
                  <a:pt x="325" y="4804"/>
                  <a:pt x="318" y="4792"/>
                </a:cubicBezTo>
                <a:cubicBezTo>
                  <a:pt x="312" y="4780"/>
                  <a:pt x="316" y="4765"/>
                  <a:pt x="328" y="4758"/>
                </a:cubicBezTo>
                <a:cubicBezTo>
                  <a:pt x="339" y="4751"/>
                  <a:pt x="355" y="4755"/>
                  <a:pt x="362" y="4767"/>
                </a:cubicBezTo>
                <a:close/>
                <a:moveTo>
                  <a:pt x="413" y="4845"/>
                </a:moveTo>
                <a:lnTo>
                  <a:pt x="413" y="4845"/>
                </a:lnTo>
                <a:cubicBezTo>
                  <a:pt x="423" y="4855"/>
                  <a:pt x="423" y="4870"/>
                  <a:pt x="413" y="4880"/>
                </a:cubicBezTo>
                <a:cubicBezTo>
                  <a:pt x="403" y="4890"/>
                  <a:pt x="388" y="4890"/>
                  <a:pt x="378" y="4880"/>
                </a:cubicBezTo>
                <a:cubicBezTo>
                  <a:pt x="368" y="4870"/>
                  <a:pt x="368" y="4855"/>
                  <a:pt x="378" y="4845"/>
                </a:cubicBezTo>
                <a:cubicBezTo>
                  <a:pt x="388" y="4835"/>
                  <a:pt x="403" y="4835"/>
                  <a:pt x="413" y="4845"/>
                </a:cubicBez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90" name="Freeform 21"/>
          <p:cNvSpPr/>
          <p:nvPr/>
        </p:nvSpPr>
        <p:spPr>
          <a:xfrm>
            <a:off x="4125960" y="2946240"/>
            <a:ext cx="129960" cy="1484640"/>
          </a:xfrm>
          <a:custGeom>
            <a:avLst/>
            <a:gdLst>
              <a:gd name="textAreaLeft" fmla="*/ 0 w 129960"/>
              <a:gd name="textAreaRight" fmla="*/ 130320 w 129960"/>
              <a:gd name="textAreaTop" fmla="*/ 0 h 1484640"/>
              <a:gd name="textAreaBottom" fmla="*/ 1485000 h 1484640"/>
            </a:gdLst>
            <a:ahLst/>
            <a:rect l="textAreaLeft" t="textAreaTop" r="textAreaRight" b="textAreaBottom"/>
            <a:pathLst>
              <a:path w="82" h="935">
                <a:moveTo>
                  <a:pt x="41" y="935"/>
                </a:moveTo>
                <a:cubicBezTo>
                  <a:pt x="67" y="843"/>
                  <a:pt x="82" y="680"/>
                  <a:pt x="82" y="505"/>
                </a:cubicBezTo>
                <a:cubicBezTo>
                  <a:pt x="82" y="237"/>
                  <a:pt x="46" y="15"/>
                  <a:pt x="0" y="0"/>
                </a:cubicBezTo>
              </a:path>
            </a:pathLst>
          </a:custGeom>
          <a:noFill/>
          <a:ln cap="rnd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mukaan di 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33160" y="1371600"/>
            <a:ext cx="830556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perboloida berdaun dua, mempunyai bentuk umu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90ED-9115-4728-979E-4CB9FBDC359A}" type="datetime">
              <a:rPr b="0" lang="en-US" sz="12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[MA 1124]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KALKULUS II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88AE-2F93-45C2-BD76-03E645770F7F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4"/>
              <p:cNvSpPr txBox="1"/>
              <p:nvPr/>
            </p:nvSpPr>
            <p:spPr>
              <a:xfrm>
                <a:off x="3911760" y="1905120"/>
                <a:ext cx="241272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 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 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 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Rectangle 5"/>
          <p:cNvSpPr/>
          <p:nvPr/>
        </p:nvSpPr>
        <p:spPr>
          <a:xfrm>
            <a:off x="6553800" y="2133000"/>
            <a:ext cx="1585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, a, b, c &gt; 0</a:t>
            </a:r>
            <a:r>
              <a:rPr b="0" lang="en-US" sz="21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6"/>
              <p:cNvSpPr txBox="1"/>
              <p:nvPr/>
            </p:nvSpPr>
            <p:spPr>
              <a:xfrm>
                <a:off x="4432320" y="3324240"/>
                <a:ext cx="14986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Rectangle 7"/>
          <p:cNvSpPr/>
          <p:nvPr/>
        </p:nvSpPr>
        <p:spPr>
          <a:xfrm>
            <a:off x="716400" y="3474360"/>
            <a:ext cx="3890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Jejak di bidang XOY,  z = 0 </a:t>
            </a:r>
            <a:r>
              <a:rPr b="0" lang="en-US" sz="2100" spc="-1" strike="noStrike">
                <a:solidFill>
                  <a:srgbClr val="336699"/>
                </a:solidFill>
                <a:latin typeface="Wingdings"/>
                <a:ea typeface="Wingdings"/>
              </a:rPr>
              <a:t>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5890320" y="3513240"/>
            <a:ext cx="2733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berupa  Hiperbolik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9"/>
              <p:cNvSpPr txBox="1"/>
              <p:nvPr/>
            </p:nvSpPr>
            <p:spPr>
              <a:xfrm>
                <a:off x="4443480" y="4162320"/>
                <a:ext cx="14745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2" name="Rectangle 10"/>
          <p:cNvSpPr/>
          <p:nvPr/>
        </p:nvSpPr>
        <p:spPr>
          <a:xfrm>
            <a:off x="716760" y="4312800"/>
            <a:ext cx="3874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Jejak di bidang XOZ,  y = 0 </a:t>
            </a:r>
            <a:r>
              <a:rPr b="0" lang="en-US" sz="2100" spc="-1" strike="noStrike">
                <a:solidFill>
                  <a:srgbClr val="336699"/>
                </a:solidFill>
                <a:latin typeface="Wingdings"/>
                <a:ea typeface="Wingdings"/>
              </a:rPr>
              <a:t>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03" name="Rectangle 11"/>
          <p:cNvSpPr/>
          <p:nvPr/>
        </p:nvSpPr>
        <p:spPr>
          <a:xfrm>
            <a:off x="5890320" y="4351320"/>
            <a:ext cx="2733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berupa  Hiperbolik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12"/>
              <p:cNvSpPr txBox="1"/>
              <p:nvPr/>
            </p:nvSpPr>
            <p:spPr>
              <a:xfrm>
                <a:off x="4352760" y="4861080"/>
                <a:ext cx="166212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Rectangle 13"/>
          <p:cNvSpPr/>
          <p:nvPr/>
        </p:nvSpPr>
        <p:spPr>
          <a:xfrm>
            <a:off x="720000" y="5011200"/>
            <a:ext cx="3874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Jejak di bidang YOZ,  x = 0 </a:t>
            </a:r>
            <a:r>
              <a:rPr b="0" lang="en-US" sz="2100" spc="-1" strike="noStrike">
                <a:solidFill>
                  <a:srgbClr val="336699"/>
                </a:solidFill>
                <a:latin typeface="Wingdings"/>
                <a:ea typeface="Wingdings"/>
              </a:rPr>
              <a:t>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06" name="Rectangle 14"/>
          <p:cNvSpPr/>
          <p:nvPr/>
        </p:nvSpPr>
        <p:spPr>
          <a:xfrm>
            <a:off x="5927400" y="5049720"/>
            <a:ext cx="2195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, tidak ada jejak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15"/>
              <p:cNvSpPr txBox="1"/>
              <p:nvPr/>
            </p:nvSpPr>
            <p:spPr>
              <a:xfrm>
                <a:off x="685800" y="2697120"/>
                <a:ext cx="21146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 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 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 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Rectangle 16"/>
          <p:cNvSpPr/>
          <p:nvPr/>
        </p:nvSpPr>
        <p:spPr>
          <a:xfrm>
            <a:off x="3151800" y="2831400"/>
            <a:ext cx="5226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, 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maka terdefinisi saat x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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- a atau x </a:t>
            </a:r>
            <a:r>
              <a:rPr b="0" lang="en-US" sz="2100" spc="-1" strike="noStrike">
                <a:solidFill>
                  <a:srgbClr val="336699"/>
                </a:solidFill>
                <a:latin typeface="Symbol"/>
                <a:ea typeface="Symbol"/>
              </a:rPr>
              <a:t>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 a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09" name="Rectangle 17"/>
          <p:cNvSpPr/>
          <p:nvPr/>
        </p:nvSpPr>
        <p:spPr>
          <a:xfrm>
            <a:off x="1357200" y="5544720"/>
            <a:ext cx="6870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Jejak di bidang,  x = k (konstanta),  k &gt; a  atau  k &lt; - a ,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berupa  ellips </a:t>
            </a:r>
            <a:endParaRPr b="0" lang="en-US" sz="21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1T04:34:32Z</dcterms:created>
  <dc:creator>Selma</dc:creator>
  <dc:description/>
  <dc:language>en-US</dc:language>
  <cp:lastModifiedBy>SONY</cp:lastModifiedBy>
  <dcterms:modified xsi:type="dcterms:W3CDTF">2014-04-11T03:09:02Z</dcterms:modified>
  <cp:revision>167</cp:revision>
  <dc:subject/>
  <dc:title>Your Headline Here </dc:title>
</cp:coreProperties>
</file>