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B370-05A7-4B60-BC8C-E26CA830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8F50-AAC4-4B56-9FD6-4D436609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EEFD-BAC0-447C-8200-99762D1B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8CB9-9E85-466C-A3B3-DF87DD7F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D6CE-F4D4-4274-99E2-9BC2AA24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21DD-02B0-4E61-ADE0-E40FA148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8D7F-7359-467A-92C6-CD5510F1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3F5C-7299-464A-9296-A1AB131A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647A-765F-45CF-949A-572A37AA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28D9-98A8-4B54-A6D5-BE112DE2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E780-BC4E-4C74-B2F0-EDCB95D9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B3F2-B8F0-4434-95D3-028F3787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280378-8892-43E4-B0C2-25600A5B8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2C9513-38AD-4A44-AECC-E5F924C1F4E4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4.xml"/><Relationship Id="rId7" Type="http://schemas.openxmlformats.org/officeDocument/2006/relationships/image" Target="../media/image2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2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3">
              <a:hlinkClick r:id="rId6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5" descr=""/>
            <p:cNvPicPr/>
            <p:nvPr/>
          </p:nvPicPr>
          <p:blipFill>
            <a:blip r:embed="rId7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6">
              <a:hlinkClick r:id="rId8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6:59:37Z</dcterms:created>
  <dc:creator>최봉수</dc:creator>
  <dc:description/>
  <dc:language>en-US</dc:language>
  <cp:lastModifiedBy>Lee Hyun-Wu</cp:lastModifiedBy>
  <dcterms:modified xsi:type="dcterms:W3CDTF">2023-07-04T20:21:24Z</dcterms:modified>
  <cp:revision>3</cp:revision>
  <dc:subject/>
  <dc:title>슬라이드 1</dc:title>
</cp:coreProperties>
</file>