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336-BA6A-46A7-98BA-3212C6D2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F3EA-6728-4570-98E9-4DD85ABF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1011-EB66-47B6-8039-0CC45431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1F8-FD89-41A9-9820-22A2EFB9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A7C-F4F2-451D-9D5A-325E35F4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1616-EFD3-4637-9935-B261895D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48F-B896-409E-A072-9A2E20B9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83DC-0EEB-4F78-B3A6-68E00699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127-9466-4EBC-B556-91D6A806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83F-4A1F-4D8B-9157-AE5F83CA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3AF7-8EA2-421B-8778-7C6ACE8A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3FA-54EC-4BAD-9431-FD631063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4629FB-6DD3-4A2D-B99F-062FF876A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246BA-2166-4423-AF1C-D1AEB6E093AD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4.xml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6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7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8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6:59:37Z</dcterms:created>
  <dc:creator>최봉수</dc:creator>
  <dc:description/>
  <dc:language>en-US</dc:language>
  <cp:lastModifiedBy>Lee Hyun-Wu</cp:lastModifiedBy>
  <dcterms:modified xsi:type="dcterms:W3CDTF">2023-07-04T20:21:24Z</dcterms:modified>
  <cp:revision>3</cp:revision>
  <dc:subject/>
  <dc:title>슬라이드 1</dc:title>
</cp:coreProperties>
</file>