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42.gif" ContentType="image/gif"/>
  <Override PartName="/ppt/media/image34.jpeg" ContentType="image/jpeg"/>
  <Override PartName="/ppt/media/image28.jpeg" ContentType="image/jpeg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AUTOMNE%20ROSE1.wav" ContentType="audio/x-wav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548F-301E-4F72-A4EE-2F5C2C5F9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7996-B1FD-4638-A391-B8B0F5084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6FF4-0EF6-4C7C-87B1-4F99E835C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6AAF-09B4-4446-A2E5-4BADDC80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3AC8-A9B8-471C-81BF-8F5BE5C96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A348-B915-4723-B342-79D5C9DEC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D12F-885F-404B-8527-9D3E0B4EF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218A-C016-4160-B600-944DDB77E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663C-8340-4568-BCF4-1F7AD79BA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78C3-25A0-488E-92C3-060E18A5D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E1E9-7FB1-42B9-9AEA-1663A55B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7984-1143-48D6-A48F-58D82A6C9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2C51-FE38-4589-904F-BE2E66A0C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8036-52FC-4321-883D-D1F255F81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26ED-B2F9-48B9-8F54-1A71C54EA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3F4E-3296-48CC-9840-8B02CA387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7AAA-E95D-4BBE-BDF8-A99C18C82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569C-59EB-4C1D-AD49-386631734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262F-9FCE-44BE-BDEB-21A95224C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5B0F-DC15-46F5-872A-BA9B35144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0A41-A8FB-4BF3-9F22-678BD8C7D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06F2-675D-4A82-95BA-13B0044AC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18E6-B392-4F1C-89E2-D7532D7F8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BFA2-D6E7-4DF3-BB4C-6B6FE3F5C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9B38-017F-41DA-A8C6-6EE6BC948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FFBD-A62A-4A1F-9765-E9CB00E8F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CF8E-A15D-4FDD-99E0-C6BBA0394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ECBC-3408-49F6-9100-C502C73EE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D9D1-640E-4D18-8BEE-22AD0CCAF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9758-7519-44C0-BC1E-939E541F0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A6C0-7138-46C7-B9DA-07BAC8C6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85D9-83DC-4F5E-B272-62E4BBE1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25F1-6129-4FAD-BD68-C89A81280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F94E-8DF8-4465-B92C-8006FF3C8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351D-94A0-42E8-8CCB-3047BF60C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7EA5-84EA-4414-8AAC-5C374BFA1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99AB-D38E-4971-89D9-B04277085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AC7B-FFA7-4A9D-94A3-9175EA3B3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D8C9-FF17-4947-A894-6C807C1E3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55BB-C9DC-4958-A122-85C16D710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9299-7A8F-4525-B000-7A935A21C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7F6-823B-4499-BC8A-89C077D4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64D-88C0-4577-9909-231DF1AF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234-19A2-4E8D-95F2-A5CB57DB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2C8-36C2-4D52-8A62-0776A222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BD4-4CAB-4586-A216-7CB50BE4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C0C-ECAE-4055-B328-4558A804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6C7-A32B-484A-8D2C-7F3BBB13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F95-C21A-4B44-B384-D8B706C9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523-FE07-42C1-A632-2E4D4860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7E0-395B-4573-BD73-72047DB5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FE2-4628-4454-BB0F-CF8DF932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246-9B78-42DC-BFC5-68A7C6E5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E5DD-2EF4-4554-A5CF-C05D261DD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TOMNE%20ROSE1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1905120"/>
            <a:ext cx="8153280" cy="2967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99ff"/>
                </a:solidFill>
                <a:latin typeface="Comic Sans MS"/>
              </a:rPr>
              <a:t>HET IS NU PR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fld id="{311A4640-A22A-41C5-8400-73423D75055D}" type="datetime10">
              <a:rPr b="1" lang="fr-FR" sz="3200" spc="-1" strike="noStrike">
                <a:solidFill>
                  <a:srgbClr val="ff99ff"/>
                </a:solidFill>
                <a:latin typeface="Comic Sans MS"/>
              </a:rPr>
              <a:t>11:26</a:t>
            </a:fld>
            <a:r>
              <a:rPr b="1" lang="fr-FR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251728581_54987b7a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0" y="6095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" sz="1800" spc="-1" strike="noStrike">
                <a:solidFill>
                  <a:srgbClr val="ff33cc"/>
                </a:solidFill>
                <a:latin typeface="Tahoma"/>
              </a:rPr>
              <a:t>Vrees niet een slag te verliezen als je daardoor de oorlog kunt winnen.</a:t>
            </a:r>
            <a:r>
              <a:rPr b="0" lang="es-ES" sz="18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94332596_7c65ba7b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191120" y="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aat de zaken niet op hun beloop.               Doe wat je moet doen op het juiste moment dat het moet worden ged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434514386_9eb71427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304920" y="617220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rees niet te zeggen “ik weet het niet” en “het spijt me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368476335_92352f64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228600" y="228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Kijk minstens eenmaal per jaar naar het ochtendgloren.</a:t>
            </a: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37555102_9d9833e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4952880" y="152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cc00"/>
                </a:solidFill>
                <a:latin typeface="Tahoma"/>
              </a:rPr>
              <a:t>Kijk de mensen recht in de o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154053302_f6320e0bd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3962520" y="228600"/>
            <a:ext cx="4952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Zeg vaak “als het je belieft” en “dank je”.</a:t>
            </a: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bbe0e3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141124027_bbd99c369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2666880" y="5562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ff"/>
                </a:solidFill>
                <a:latin typeface="Arial"/>
              </a:rPr>
              <a:t>Geef minder uit dan je verdient.</a:t>
            </a: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99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85007159_8e86fe2a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3733920" y="152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ff"/>
                </a:solidFill>
                <a:latin typeface="Arial"/>
              </a:rPr>
              <a:t>Behandel anderen zoals je zou willen dat zij </a:t>
            </a:r>
            <a:r>
              <a:rPr b="1" lang="es-ES" sz="1800" spc="-1" strike="noStrike">
                <a:solidFill>
                  <a:srgbClr val="ff00ff"/>
                </a:solidFill>
                <a:latin typeface="Tahoma"/>
              </a:rPr>
              <a:t>jou behande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438471391_bf4e486e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3200" y="5867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es-ES" sz="1800" spc="-1" strike="noStrike">
                <a:solidFill>
                  <a:srgbClr val="cc00ff"/>
                </a:solidFill>
                <a:latin typeface="Tahoma"/>
              </a:rPr>
              <a:t>Leer geheimen te bewa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75778988_a3b40b89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762120" y="59436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rken jouw fou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01000" cy="2133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ff"/>
                </a:solidFill>
                <a:latin typeface="Market"/>
              </a:rPr>
              <a:t>ORCHIDEEË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057400" y="5141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Muziek :  Automne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Vertaald uit het Frans – Freddy Storm 03/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1371600" y="3733920"/>
            <a:ext cx="64008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6480">
                  <a:solidFill>
                    <a:srgbClr val="ff00ff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arket"/>
              </a:rPr>
              <a:t>IN VIETNAM</a:t>
            </a:r>
            <a:endParaRPr b="0" lang="en-US" sz="5400" spc="1" strike="noStrike">
              <a:ln w="6480">
                <a:solidFill>
                  <a:srgbClr val="ff00ff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arket"/>
              <a:ea typeface="Market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75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10896759_fdf3f74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809880" y="6019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19680" y="632520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Tahoma"/>
              </a:rPr>
              <a:t>Spreek altijd de waa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80718500_43ef2efe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52280" y="64771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es-CO" sz="1800" spc="-1" strike="noStrike">
                <a:solidFill>
                  <a:srgbClr val="ffccff"/>
                </a:solidFill>
                <a:latin typeface="Tahoma"/>
              </a:rPr>
              <a:t>Vertel niet wat je hoort, zeg niet alles wat je den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288195569_888b9b72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304920" y="64008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s-CO" sz="1800" spc="-1" strike="noStrike">
                <a:solidFill>
                  <a:srgbClr val="ccff66"/>
                </a:solidFill>
                <a:latin typeface="Tahoma"/>
              </a:rPr>
              <a:t>Prijs de mensen rondom jou in plaats van ze te bekritis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153023499_6bb82faf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447920" y="4572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s-CO" sz="1800" spc="-1" strike="noStrike">
                <a:solidFill>
                  <a:srgbClr val="ffffff"/>
                </a:solidFill>
                <a:latin typeface="Tahoma"/>
              </a:rPr>
              <a:t>Leer luisteren: het is een KUN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274212007_3b355b18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28600" y="3809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Tahoma"/>
              </a:rPr>
              <a:t>Geloof niet alles                    wat je ho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352294236_c5d343a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556272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ffcc00"/>
                </a:solidFill>
                <a:latin typeface="Arial"/>
              </a:rPr>
              <a:t>Profiteer van wat mooi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433269740_1561eaba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0" y="15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9966ff"/>
                </a:solidFill>
                <a:latin typeface="Tahoma"/>
              </a:rPr>
              <a:t>Kies jouw naaste goed: het grootste deel van jouw geluk hangt daarvan 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415485405_078d8592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0" y="61815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a50021"/>
                </a:solidFill>
                <a:latin typeface="Tahoma"/>
              </a:rPr>
              <a:t>Verlies nooit de controle over jezelf: haal adem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276708318_80712746f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80880" y="6172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es-CO" sz="1800" spc="-1" strike="noStrike">
                <a:solidFill>
                  <a:srgbClr val="ffffff"/>
                </a:solidFill>
                <a:latin typeface="Tahoma"/>
              </a:rPr>
              <a:t>Je bent wat je to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288942475_0d324ecf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143000" y="6172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1" lang="es-CO" sz="1800" spc="-1" strike="noStrike">
                <a:solidFill>
                  <a:srgbClr val="cc0000"/>
                </a:solidFill>
                <a:latin typeface="Tahoma"/>
              </a:rPr>
              <a:t>Mediteer elke dag dertig minu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390232561_2fc0cc1c49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522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093"/>
                </a:solidFill>
                <a:latin typeface="Tahoma"/>
              </a:rPr>
              <a:t>Ontneem niemand zijn hoop: ze kan het enige zijn dat hij bez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46772122_478bc864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33520" y="533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O" sz="1800" spc="-1" strike="noStrike">
                <a:solidFill>
                  <a:srgbClr val="cccc00"/>
                </a:solidFill>
                <a:latin typeface="Arial"/>
              </a:rPr>
              <a:t>Profiteer van de r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256831131_62dce565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248520" y="64447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hragmipedium Cardi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038480" y="6094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CO" sz="1800" spc="-1" strike="noStrike">
                <a:solidFill>
                  <a:srgbClr val="ff99ff"/>
                </a:solidFill>
                <a:latin typeface="Arial"/>
              </a:rPr>
              <a:t>Waak over jouw vrie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207722694_d4f021bd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914400" y="6324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s-CO" sz="1800" spc="-1" strike="noStrike">
                <a:solidFill>
                  <a:srgbClr val="cc00ff"/>
                </a:solidFill>
                <a:latin typeface="Arial"/>
              </a:rPr>
              <a:t>Wees eerlijk, verdien het respect van anderen.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4251413_4534defd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762120" y="380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66ff"/>
                </a:solidFill>
                <a:latin typeface="Tahoma"/>
              </a:rPr>
              <a:t>Je hebt het recht gelukkig te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318655100_dcd9dc2f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114800" y="5791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cc6600"/>
                </a:solidFill>
                <a:latin typeface="Arial"/>
              </a:rPr>
              <a:t>Vergeet de haat en de rancune: ze doen           jezelf het meeste pij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391764903_d9e74fa8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52280" y="15228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669900"/>
                </a:solidFill>
                <a:latin typeface="Tahoma"/>
              </a:rPr>
              <a:t>Er zijn zaken die je niet kunt terugschroeven: een uitgesproken woord, voorbijgegane tijd,                 niet benutte opportuniteiten...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318655110_e2d3c900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2057400" y="6172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CO" sz="1800" spc="-1" strike="noStrike">
                <a:solidFill>
                  <a:srgbClr val="ccff66"/>
                </a:solidFill>
                <a:latin typeface="Tahoma"/>
              </a:rPr>
              <a:t>Doe één ding tegelij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9893013_17be6777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152280" y="1522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9933ff"/>
                </a:solidFill>
                <a:latin typeface="Tahoma"/>
              </a:rPr>
              <a:t>Onsterfelijkheid bestaat:                                                 men noemt ze kennis.                                      Vraag wat je niet weet en herinner                     het je als men het je vraa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243164041_02341d1c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3429000" y="152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O" sz="1800" spc="-1" strike="noStrike">
                <a:solidFill>
                  <a:srgbClr val="ffcc00"/>
                </a:solidFill>
                <a:latin typeface="Tahoma"/>
              </a:rPr>
              <a:t>Ontdek het meest elementaire plezier:              eten, ademhalen, wandelen,                              genieten, aanraken, zien, slapen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226970001_c11a4e33eb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0" y="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cc99ff"/>
                </a:solidFill>
                <a:latin typeface="Tahoma"/>
              </a:rPr>
              <a:t>Het geluk is als een spaarpot: doe wat je k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05616563_861e51f961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eem geen enkele beslissing wanneer je boos b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96373243_1a161157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380880" y="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Tahoma"/>
              </a:rPr>
              <a:t>Op een dag zal je kunnen terugkijken op wat je bent geweest en sterven van het lach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9144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O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es-CO" sz="1800" spc="-1" strike="noStrike">
                <a:solidFill>
                  <a:srgbClr val="ffff00"/>
                </a:solidFill>
                <a:latin typeface="Arial"/>
              </a:rPr>
              <a:t>GOD ZEGENE JOU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0833439_f5cc0714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5257800" y="609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et op jouw fysieke post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45686891_0b623589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048120" y="63244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ff"/>
                </a:solidFill>
                <a:latin typeface="Tahoma"/>
              </a:rPr>
              <a:t>Betaal geen werk voordat het voltooid is.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152165602_0fb156c4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6248520" y="63237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Teresp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809880" y="1522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Wantrouw hem die niets te verliezen he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283392534_bf3c610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981080" y="3808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Leer beleefd en vlot praten. 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101490386_0924607c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0" y="63244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d60093"/>
                </a:solidFill>
                <a:latin typeface="Tahoma"/>
              </a:rPr>
              <a:t>Reken er niet op dat het leven rechtvaardig zal zij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6:24:29Z</dcterms:created>
  <dc:creator>andobarelly</dc:creator>
  <dc:description/>
  <dc:language>en-US</dc:language>
  <cp:lastModifiedBy>Smets</cp:lastModifiedBy>
  <dcterms:modified xsi:type="dcterms:W3CDTF">2010-11-25T19:02:47Z</dcterms:modified>
  <cp:revision>75</cp:revision>
  <dc:subject/>
  <dc:title>orchids from viet nam</dc:title>
</cp:coreProperties>
</file>