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1.png" ContentType="image/png"/>
  <Override PartName="/ppt/media/image24.jpeg" ContentType="image/jpeg"/>
  <Override PartName="/ppt/media/image10.jpeg" ContentType="image/jpeg"/>
  <Override PartName="/ppt/media/image29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42.gif" ContentType="image/gif"/>
  <Override PartName="/ppt/media/image34.jpeg" ContentType="image/jpeg"/>
  <Override PartName="/ppt/media/image28.jpeg" ContentType="image/jpeg"/>
  <Override PartName="/ppt/media/image41.gif" ContentType="image/gif"/>
  <Override PartName="/ppt/media/image12.jpeg" ContentType="image/jpeg"/>
  <Override PartName="/ppt/media/image3.jpeg" ContentType="image/jpeg"/>
  <Override PartName="/ppt/media/image37.jpeg" ContentType="image/jpeg"/>
  <Override PartName="/ppt/media/AUTOMNE%20ROSE1.wav" ContentType="audio/x-wav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1560-F215-424D-8EEE-AE9E2F52E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E5EB-0A3A-4934-B9DB-5E0E05685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5412-AD09-4A34-A5DE-42BDE2FA9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8BEF-E406-4AFC-AF33-DA0DA18E4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514E-ACF4-4627-8F5F-A39D408CC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E36B-F32F-4F8C-9E18-1D53E4122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C0EF-5BBC-4ED6-B6E5-ECE98813F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3B86-40E8-4E5E-818C-9F23A85FF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BF44-9134-4339-8B25-F26F8F5AA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AC1A-D0DE-4D08-936B-90279E8DA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065D-2C71-4589-BADF-59FB00F5C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584C-8F65-4BE9-BCE4-816BC18E8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2356-46B4-4270-9779-E9705EB33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082E-64A2-480D-A9B4-EB49F8363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13EF-CA0A-4847-8A05-103A14389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00BB-E531-47EA-A800-020E5B255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971D-9B5F-4A40-986A-9407DD311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EE05-BFC2-4CD8-8635-2F08132D5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94D1-7633-466F-B0F3-AF9B572D4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CB1D-E66F-47D7-89D2-EFB8015E3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DADC-C1E0-48C6-94FE-FC6487BCB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F12C-0479-4974-BCE4-A9F87B65F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88F0-7672-43E6-B776-0E6E2885D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CFEB-EB5E-4D73-A327-05B94C981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3912-CBCC-4364-ADBF-3ADE4D516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4040-7AAF-4FB9-94B8-26CB62850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981D-72A1-4D11-9A77-245DA921B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16FD-FFE5-4F0F-BB5E-BC8729038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D2C7-2C4D-4218-B219-F44706995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A51B-4C0C-42BF-A151-A2B1E4481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D94E-2979-490F-B20B-703F297DC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DC7B-37F6-4EB3-A903-2B863479F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BA77-D3D1-470D-82D3-72A1365A3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B7C2-D25B-44D7-AF6B-1C748A960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C616-009F-43CD-9BF9-93639F5D3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62F8-3703-4F0A-9693-7F0B0B4B3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6DE3-CA1A-43A4-8709-CFCC9B47D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56D8-5260-47EF-9F90-F7DBE6260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5D08-EFFA-4FC1-AFA3-759A7F87D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1818-27D6-4017-8BDE-DB4FB25AD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FE88-51C3-4793-AF3E-0EC1BFCD5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34AC-9A3B-4FF0-9175-4E8673211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7051-F988-457F-8D79-89F232E7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3CD7-F73B-4038-BD36-1F3E33820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5CA1-422A-4B6F-95B2-B72DFD81E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A345-51B3-4802-B40C-79BD7D3E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E27E-76D5-48FD-A792-EDAE0DFD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BA72-91C3-4A7A-B440-4EB99639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B875-43F0-43C0-816B-93BCA8A0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5377-7072-4174-ADDD-5F98E9B9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AF52-ED27-423B-AAB8-FB86DC33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7372-B759-468C-AE49-C038CFCC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4060-EEB0-44E4-9903-DA5F443D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1788-8AC7-43E8-A24F-376A67001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UTOMNE%20ROSE1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gif"/><Relationship Id="rId4" Type="http://schemas.openxmlformats.org/officeDocument/2006/relationships/image" Target="../media/image41.gif"/><Relationship Id="rId5" Type="http://schemas.openxmlformats.org/officeDocument/2006/relationships/image" Target="../media/image42.gif"/><Relationship Id="rId6" Type="http://schemas.openxmlformats.org/officeDocument/2006/relationships/image" Target="../media/image42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33520" y="1905120"/>
            <a:ext cx="8153280" cy="2967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99ff"/>
                </a:solidFill>
                <a:latin typeface="Comic Sans MS"/>
              </a:rPr>
              <a:t>HET IS NU PRE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ff"/>
                </a:solidFill>
                <a:latin typeface="Comic Sans MS"/>
              </a:rPr>
              <a:t> </a:t>
            </a:r>
            <a:fld id="{E5478BC9-C071-4B90-9791-A7989BB20DF8}" type="datetime10">
              <a:rPr b="1" lang="fr-FR" sz="3200" spc="-1" strike="noStrike">
                <a:solidFill>
                  <a:srgbClr val="ff99ff"/>
                </a:solidFill>
                <a:latin typeface="Comic Sans MS"/>
              </a:rPr>
              <a:t>05:14</a:t>
            </a:fld>
            <a:r>
              <a:rPr b="1" lang="fr-FR" sz="3200" spc="-1" strike="noStrike">
                <a:solidFill>
                  <a:srgbClr val="ff99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75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251728581_54987b7a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0" y="60958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ES" sz="1800" spc="-1" strike="noStrike">
                <a:solidFill>
                  <a:srgbClr val="ff33cc"/>
                </a:solidFill>
                <a:latin typeface="Tahoma"/>
              </a:rPr>
              <a:t>Vrees niet een slag te verliezen als je daardoor de oorlog kunt winnen.</a:t>
            </a:r>
            <a:r>
              <a:rPr b="0" lang="es-ES" sz="1800" spc="-1" strike="noStrike">
                <a:solidFill>
                  <a:srgbClr val="ff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94332596_7c65ba7b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4191120" y="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Laat de zaken niet op hun beloop.               Doe wat je moet doen op het juiste moment dat het moet worden geda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8" descr="434514386_9eb71427b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9"/>
          <p:cNvSpPr/>
          <p:nvPr/>
        </p:nvSpPr>
        <p:spPr>
          <a:xfrm>
            <a:off x="304920" y="617220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Vrees niet te zeggen “ik weet het niet” en “het spijt me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368476335_92352f64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228600" y="228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Kijk minstens eenmaal per jaar naar het ochtendgloren.</a:t>
            </a:r>
            <a:r>
              <a:rPr b="1" lang="es-ES" sz="1800" spc="-1" strike="noStrike">
                <a:solidFill>
                  <a:srgbClr val="ff66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137555102_9d9833e2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4952880" y="1522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cc00"/>
                </a:solidFill>
                <a:latin typeface="Tahoma"/>
              </a:rPr>
              <a:t>Kijk de mensen recht in de o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154053302_f6320e0bd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9"/>
          <p:cNvSpPr/>
          <p:nvPr/>
        </p:nvSpPr>
        <p:spPr>
          <a:xfrm>
            <a:off x="3962520" y="228600"/>
            <a:ext cx="49528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Zeg vaak “als het je belieft” en “dank je”.</a:t>
            </a:r>
            <a:r>
              <a:rPr b="1" lang="es-ES" sz="1800" spc="-1" strike="noStrike">
                <a:solidFill>
                  <a:srgbClr val="bbe0e3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bbe0e3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141124027_bbd99c369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8"/>
          <p:cNvSpPr/>
          <p:nvPr/>
        </p:nvSpPr>
        <p:spPr>
          <a:xfrm>
            <a:off x="2666880" y="556272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ff"/>
                </a:solidFill>
                <a:latin typeface="Arial"/>
              </a:rPr>
              <a:t>Geef minder uit dan je verdient.</a:t>
            </a:r>
            <a:r>
              <a:rPr b="1" lang="es-ES" sz="18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99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85007159_8e86fe2a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8"/>
          <p:cNvSpPr/>
          <p:nvPr/>
        </p:nvSpPr>
        <p:spPr>
          <a:xfrm>
            <a:off x="3733920" y="152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ff"/>
                </a:solidFill>
                <a:latin typeface="Arial"/>
              </a:rPr>
              <a:t>Behandel anderen zoals je zou willen dat zij </a:t>
            </a:r>
            <a:r>
              <a:rPr b="1" lang="es-ES" sz="1800" spc="-1" strike="noStrike">
                <a:solidFill>
                  <a:srgbClr val="ff00ff"/>
                </a:solidFill>
                <a:latin typeface="Tahoma"/>
              </a:rPr>
              <a:t>jou behande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438471391_bf4e486e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2743200" y="5867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1" lang="es-ES" sz="1800" spc="-1" strike="noStrike">
                <a:solidFill>
                  <a:srgbClr val="cc00ff"/>
                </a:solidFill>
                <a:latin typeface="Tahoma"/>
              </a:rPr>
              <a:t>Leer geheimen te bewa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75778988_a3b40b89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"/>
          <p:cNvSpPr/>
          <p:nvPr/>
        </p:nvSpPr>
        <p:spPr>
          <a:xfrm>
            <a:off x="762120" y="594360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rken jouw fou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001000" cy="21337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ffff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33ff"/>
                </a:solidFill>
                <a:latin typeface="Market"/>
              </a:rPr>
              <a:t>ORCHIDEEË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057400" y="5141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0" y="571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Muziek :  Automne R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Vertaald uit het Frans – Freddy Storm 03/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9"/>
          <p:cNvSpPr txBox="1"/>
          <p:nvPr/>
        </p:nvSpPr>
        <p:spPr>
          <a:xfrm>
            <a:off x="1371600" y="3733920"/>
            <a:ext cx="640080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6480">
                  <a:solidFill>
                    <a:srgbClr val="ff00ff"/>
                  </a:solidFill>
                  <a:miter/>
                </a:ln>
                <a:blipFill rotWithShape="0">
                  <a:blip r:embed="rId1">
                    <a:alphaModFix amt="50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arket"/>
              </a:rPr>
              <a:t>IN VIETNAM</a:t>
            </a:r>
            <a:endParaRPr b="0" lang="en-US" sz="5400" spc="1" strike="noStrike">
              <a:ln w="6480">
                <a:solidFill>
                  <a:srgbClr val="ff00ff"/>
                </a:solidFill>
                <a:miter/>
              </a:ln>
              <a:blipFill rotWithShape="0">
                <a:blip r:embed="rId2">
                  <a:alphaModFix amt="50000"/>
                </a:blip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arket"/>
              <a:ea typeface="Market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50"/>
                            </p:stCondLst>
                            <p:childTnLst>
                              <p:par>
                                <p:cTn id="1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75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10896759_fdf3f747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3809880" y="60199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919680" y="6325200"/>
            <a:ext cx="31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66"/>
                </a:solidFill>
                <a:latin typeface="Tahoma"/>
              </a:rPr>
              <a:t>Spreek altijd de waarhe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280718500_43ef2efe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152280" y="64771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1" lang="es-CO" sz="1800" spc="-1" strike="noStrike">
                <a:solidFill>
                  <a:srgbClr val="ffccff"/>
                </a:solidFill>
                <a:latin typeface="Tahoma"/>
              </a:rPr>
              <a:t>Vertel niet wat je hoort, zeg niet alles wat je denk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288195569_888b9b72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8"/>
          <p:cNvSpPr/>
          <p:nvPr/>
        </p:nvSpPr>
        <p:spPr>
          <a:xfrm>
            <a:off x="304920" y="64008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es-CO" sz="1800" spc="-1" strike="noStrike">
                <a:solidFill>
                  <a:srgbClr val="ccff66"/>
                </a:solidFill>
                <a:latin typeface="Tahoma"/>
              </a:rPr>
              <a:t>Prijs de mensen rondom jou in plaats van ze te bekritise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153023499_6bb82faf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1447920" y="4572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es-CO" sz="1800" spc="-1" strike="noStrike">
                <a:solidFill>
                  <a:srgbClr val="ffffff"/>
                </a:solidFill>
                <a:latin typeface="Tahoma"/>
              </a:rPr>
              <a:t>Leer luisteren: het is een KUN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274212007_3b355b18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228600" y="38098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Tahoma"/>
              </a:rPr>
              <a:t>Geloof niet alles                    wat je ho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352294236_c5d343a3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5562720" y="60958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ffcc00"/>
                </a:solidFill>
                <a:latin typeface="Arial"/>
              </a:rPr>
              <a:t>Profiteer van wat mooi 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433269740_1561eabaf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0" y="152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9966ff"/>
                </a:solidFill>
                <a:latin typeface="Tahoma"/>
              </a:rPr>
              <a:t>Kies jouw naaste goed: het grootste deel van jouw geluk hangt daarvan a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415485405_078d8592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0" y="61815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a50021"/>
                </a:solidFill>
                <a:latin typeface="Tahoma"/>
              </a:rPr>
              <a:t>Verlies nooit de controle over jezelf: haal adem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276708318_80712746f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8"/>
          <p:cNvSpPr/>
          <p:nvPr/>
        </p:nvSpPr>
        <p:spPr>
          <a:xfrm>
            <a:off x="380880" y="617220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1" lang="es-CO" sz="1800" spc="-1" strike="noStrike">
                <a:solidFill>
                  <a:srgbClr val="ffffff"/>
                </a:solidFill>
                <a:latin typeface="Tahoma"/>
              </a:rPr>
              <a:t>Je bent wat je too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288942475_0d324ecf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1143000" y="61722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0000"/>
                </a:solidFill>
                <a:latin typeface="Tahoma"/>
              </a:rPr>
              <a:t>                  </a:t>
            </a:r>
            <a:r>
              <a:rPr b="1" lang="es-CO" sz="1800" spc="-1" strike="noStrike">
                <a:solidFill>
                  <a:srgbClr val="cc0000"/>
                </a:solidFill>
                <a:latin typeface="Tahoma"/>
              </a:rPr>
              <a:t>Mediteer elke dag dertig minu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390232561_2fc0cc1c49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152280" y="2286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d60093"/>
                </a:solidFill>
                <a:latin typeface="Tahoma"/>
              </a:rPr>
              <a:t>Ontneem niemand zijn hoop: ze kan het enige zijn dat hij bez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46772122_478bc8641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533520" y="5335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CO" sz="1800" spc="-1" strike="noStrike">
                <a:solidFill>
                  <a:srgbClr val="cccc00"/>
                </a:solidFill>
                <a:latin typeface="Arial"/>
              </a:rPr>
              <a:t>Profiteer van de ru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256831131_62dce565d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6248520" y="644472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hragmipedium Cardin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038480" y="6094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s-CO" sz="1800" spc="-1" strike="noStrike">
                <a:solidFill>
                  <a:srgbClr val="ff99ff"/>
                </a:solidFill>
                <a:latin typeface="Arial"/>
              </a:rPr>
              <a:t>Waak over jouw vrien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8" descr="207722694_d4f021bd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9"/>
          <p:cNvSpPr/>
          <p:nvPr/>
        </p:nvSpPr>
        <p:spPr>
          <a:xfrm>
            <a:off x="914400" y="63244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s-CO" sz="1800" spc="-1" strike="noStrike">
                <a:solidFill>
                  <a:srgbClr val="cc00ff"/>
                </a:solidFill>
                <a:latin typeface="Arial"/>
              </a:rPr>
              <a:t>Wees eerlijk, verdien het respect van anderen.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4251413_4534defd0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762120" y="38088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cc66ff"/>
                </a:solidFill>
                <a:latin typeface="Tahoma"/>
              </a:rPr>
              <a:t>Je hebt het recht gelukkig te zij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318655100_dcd9dc2f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4114800" y="57913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cc6600"/>
                </a:solidFill>
                <a:latin typeface="Arial"/>
              </a:rPr>
              <a:t>Vergeet de haat en de rancune: ze doen           jezelf het meeste pij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391764903_d9e74fa8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152280" y="152280"/>
            <a:ext cx="56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669900"/>
                </a:solidFill>
                <a:latin typeface="Tahoma"/>
              </a:rPr>
              <a:t>Er zijn zaken die je niet kunt terugschroeven: een uitgesproken woord, voorbijgegane tijd,                 niet benutte opportuniteiten...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318655110_e2d3c900e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2057400" y="6172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CO" sz="1800" spc="-1" strike="noStrike">
                <a:solidFill>
                  <a:srgbClr val="ccff66"/>
                </a:solidFill>
                <a:latin typeface="Tahoma"/>
              </a:rPr>
              <a:t>Doe één ding tegelij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9893013_17be67772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152280" y="15228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9933ff"/>
                </a:solidFill>
                <a:latin typeface="Tahoma"/>
              </a:rPr>
              <a:t>Onsterfelijkheid bestaat:                                                 men noemt ze kennis.                                      Vraag wat je niet weet en herinner                     het je als men het je vraag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243164041_02341d1c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3429000" y="15228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CO" sz="1800" spc="-1" strike="noStrike">
                <a:solidFill>
                  <a:srgbClr val="ffcc00"/>
                </a:solidFill>
                <a:latin typeface="Tahoma"/>
              </a:rPr>
              <a:t>Ontdek het meest elementaire plezier:              eten, ademhalen, wandelen,                              genieten, aanraken, zien, slapen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226970001_c11a4e33eb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0" y="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cc99ff"/>
                </a:solidFill>
                <a:latin typeface="Tahoma"/>
              </a:rPr>
              <a:t>Het geluk is als een spaarpot: doe wat je ku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305616563_861e51f961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0" y="2286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Neem geen enkele beslissing wanneer je boos b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7" descr="96373243_1a161157a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380880" y="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Tahoma"/>
              </a:rPr>
              <a:t>Op een dag zal je kunnen terugkijken op wat je bent geweest en sterven van het lache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0" y="9144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O" sz="1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i="1" lang="es-CO" sz="1800" spc="-1" strike="noStrike">
                <a:solidFill>
                  <a:srgbClr val="ffff00"/>
                </a:solidFill>
                <a:latin typeface="Arial"/>
              </a:rPr>
              <a:t>GOD ZEGENE JOU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2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5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250" autoRev="1" fill="hold"/>
                                        <p:tgtEl>
                                          <p:spTgt spid="1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0833439_f5cc0714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5257800" y="6094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Let op jouw fysieke postu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45686891_0b623589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3048120" y="632448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ff"/>
                </a:solidFill>
                <a:latin typeface="Tahoma"/>
              </a:rPr>
              <a:t>Betaal geen werk voordat het voltooid is.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152165602_0fb156c4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8"/>
          <p:cNvSpPr/>
          <p:nvPr/>
        </p:nvSpPr>
        <p:spPr>
          <a:xfrm>
            <a:off x="6248520" y="63237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Arial"/>
              </a:rPr>
              <a:t>Terespópo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3809880" y="15228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ahoma"/>
              </a:rPr>
              <a:t>Wantrouw hem die niets te verliezen hee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283392534_bf3c6106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1981080" y="38088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es-ES" sz="1800" spc="-1" strike="noStrike">
                <a:solidFill>
                  <a:srgbClr val="ffff00"/>
                </a:solidFill>
                <a:latin typeface="Tahoma"/>
              </a:rPr>
              <a:t>Leer beleefd en vlot praten. </a:t>
            </a: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101490386_0924607c9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0" y="63244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" sz="1800" spc="-1" strike="noStrike">
                <a:solidFill>
                  <a:srgbClr val="d60093"/>
                </a:solidFill>
                <a:latin typeface="Tahoma"/>
              </a:rPr>
              <a:t>Reken er niet op dat het leven rechtvaardig zal zijn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6:24:29Z</dcterms:created>
  <dc:creator>andobarelly</dc:creator>
  <dc:description/>
  <dc:language>en-US</dc:language>
  <cp:lastModifiedBy>Smets</cp:lastModifiedBy>
  <dcterms:modified xsi:type="dcterms:W3CDTF">2010-11-25T19:02:47Z</dcterms:modified>
  <cp:revision>75</cp:revision>
  <dc:subject/>
  <dc:title>orchids from viet nam</dc:title>
</cp:coreProperties>
</file>