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9ECF-BF93-4F8E-85FF-FBA1A1685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4A5E-2408-4465-9120-6B0476E3B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DCAE-EE88-4584-8853-776FEFE61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BFFD-1AD5-492B-8BE9-07481FE15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94FE-7045-4BEA-9278-C63CAB8F4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2874-C085-4F16-BB88-E65BFF789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A6E2-31D6-4945-89F2-03D55FCC9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7807-6368-42C6-8578-4E9CCBCC0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DF54-8604-4FFE-9F35-F81E08DEA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EED4-4494-4369-8A40-908381466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8D81-25B8-43F2-A5E0-1246820E6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CD00-A852-4298-A3DE-9ACA8AD10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B4091-A604-4A08-84D0-5A64ABD552CA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956960" y="1792440"/>
            <a:ext cx="5158080" cy="1374480"/>
            <a:chOff x="1956960" y="1792440"/>
            <a:chExt cx="5158080" cy="1374480"/>
          </a:xfrm>
        </p:grpSpPr>
        <p:cxnSp>
          <p:nvCxnSpPr>
            <p:cNvPr id="42" name="_s6176"/>
            <p:cNvCxnSpPr>
              <a:stCxn id="43" idx="0"/>
              <a:endCxn id="44" idx="2"/>
            </p:cNvCxnSpPr>
            <p:nvPr/>
          </p:nvCxnSpPr>
          <p:spPr>
            <a:xfrm flipV="1" rot="16200000">
              <a:off x="5314320" y="1703520"/>
              <a:ext cx="228960" cy="1783800"/>
            </a:xfrm>
            <a:prstGeom prst="bentConnector5">
              <a:avLst>
                <a:gd name="adj1" fmla="val 401259"/>
                <a:gd name="adj2" fmla="val 145357"/>
                <a:gd name="adj3" fmla="val -141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5" name="_s6154"/>
            <p:cNvCxnSpPr>
              <a:stCxn id="46" idx="0"/>
              <a:endCxn id="44" idx="2"/>
            </p:cNvCxnSpPr>
            <p:nvPr/>
          </p:nvCxnSpPr>
          <p:spPr>
            <a:xfrm rot="16200000">
              <a:off x="4422600" y="2595240"/>
              <a:ext cx="228960" cy="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7" name="_s6155"/>
            <p:cNvCxnSpPr>
              <a:stCxn id="48" idx="0"/>
              <a:endCxn id="44" idx="2"/>
            </p:cNvCxnSpPr>
            <p:nvPr/>
          </p:nvCxnSpPr>
          <p:spPr>
            <a:xfrm flipH="1" flipV="1" rot="5400000">
              <a:off x="3530160" y="1703160"/>
              <a:ext cx="228960" cy="1784520"/>
            </a:xfrm>
            <a:prstGeom prst="bentConnector5">
              <a:avLst>
                <a:gd name="adj1" fmla="val 401259"/>
                <a:gd name="adj2" fmla="val 145359"/>
                <a:gd name="adj3" fmla="val -141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44" name="_s6156"/>
            <p:cNvSpPr/>
            <p:nvPr/>
          </p:nvSpPr>
          <p:spPr>
            <a:xfrm>
              <a:off x="3959280" y="2023920"/>
              <a:ext cx="115488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560" rIns="52560" tIns="26280" bIns="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Times New Roman"/>
                </a:rPr>
                <a:t>La luz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_s6157"/>
            <p:cNvSpPr/>
            <p:nvPr/>
          </p:nvSpPr>
          <p:spPr>
            <a:xfrm>
              <a:off x="1956960" y="2709720"/>
              <a:ext cx="159120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560" rIns="52560" tIns="26280" bIns="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Times New Roman"/>
                </a:rPr>
                <a:t>Definición y Propagació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_s6158"/>
            <p:cNvSpPr/>
            <p:nvPr/>
          </p:nvSpPr>
          <p:spPr>
            <a:xfrm>
              <a:off x="3741120" y="2709720"/>
              <a:ext cx="159156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560" rIns="52560" tIns="26280" bIns="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Times New Roman"/>
                </a:rPr>
                <a:t>Reflexión y Refracció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_s6175"/>
            <p:cNvSpPr/>
            <p:nvPr/>
          </p:nvSpPr>
          <p:spPr>
            <a:xfrm>
              <a:off x="5525280" y="2709720"/>
              <a:ext cx="158976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Times New Roman"/>
                </a:rPr>
                <a:t>Espejos y Lent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lectricid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4360" y="2060280"/>
            <a:ext cx="77738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s una forma de energía que puede transformarse y hacer funcionar diferentes máquinas. Dos tip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stática: los objetos adquieren carga eléctrica al frotarlos. Atraen pelo, papel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rriente eléctrica: la carga eléctrica se mueve a través de los objet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685800" y="1523880"/>
            <a:ext cx="8083080" cy="1733400"/>
            <a:chOff x="685800" y="1523880"/>
            <a:chExt cx="8083080" cy="1733400"/>
          </a:xfrm>
        </p:grpSpPr>
        <p:cxnSp>
          <p:nvCxnSpPr>
            <p:cNvPr id="86" name="_s15417"/>
            <p:cNvCxnSpPr>
              <a:stCxn id="87" idx="0"/>
              <a:endCxn id="88" idx="2"/>
            </p:cNvCxnSpPr>
            <p:nvPr/>
          </p:nvCxnSpPr>
          <p:spPr>
            <a:xfrm flipV="1">
              <a:off x="7784640" y="2606400"/>
              <a:ext cx="2160" cy="217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9" name="_s15415"/>
            <p:cNvCxnSpPr>
              <a:stCxn id="88" idx="0"/>
              <a:endCxn id="90" idx="2"/>
            </p:cNvCxnSpPr>
            <p:nvPr/>
          </p:nvCxnSpPr>
          <p:spPr>
            <a:xfrm flipV="1" rot="16200000">
              <a:off x="6147360" y="537120"/>
              <a:ext cx="217800" cy="3056040"/>
            </a:xfrm>
            <a:prstGeom prst="bentConnector3">
              <a:avLst>
                <a:gd name="adj1" fmla="val 4950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1" name="_s15405"/>
            <p:cNvCxnSpPr>
              <a:stCxn id="92" idx="0"/>
              <a:endCxn id="93" idx="2"/>
            </p:cNvCxnSpPr>
            <p:nvPr/>
          </p:nvCxnSpPr>
          <p:spPr>
            <a:xfrm flipV="1">
              <a:off x="5496480" y="2606400"/>
              <a:ext cx="2520" cy="217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4" name="_s15403"/>
            <p:cNvCxnSpPr>
              <a:stCxn id="95" idx="1"/>
              <a:endCxn id="96" idx="2"/>
            </p:cNvCxnSpPr>
            <p:nvPr/>
          </p:nvCxnSpPr>
          <p:spPr>
            <a:xfrm rot="10800000">
              <a:off x="1669320" y="2606400"/>
              <a:ext cx="318960" cy="435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7" name="_s15400"/>
            <p:cNvCxnSpPr>
              <a:stCxn id="93" idx="0"/>
              <a:endCxn id="90" idx="2"/>
            </p:cNvCxnSpPr>
            <p:nvPr/>
          </p:nvCxnSpPr>
          <p:spPr>
            <a:xfrm flipV="1" rot="16200000">
              <a:off x="5003640" y="1680840"/>
              <a:ext cx="217800" cy="768240"/>
            </a:xfrm>
            <a:prstGeom prst="bentConnector3">
              <a:avLst>
                <a:gd name="adj1" fmla="val 4950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8" name="_s15372"/>
            <p:cNvCxnSpPr>
              <a:stCxn id="96" idx="0"/>
              <a:endCxn id="90" idx="2"/>
            </p:cNvCxnSpPr>
            <p:nvPr/>
          </p:nvCxnSpPr>
          <p:spPr>
            <a:xfrm flipH="1" flipV="1" rot="5400000">
              <a:off x="3090600" y="535680"/>
              <a:ext cx="217800" cy="3059280"/>
            </a:xfrm>
            <a:prstGeom prst="bentConnector3">
              <a:avLst>
                <a:gd name="adj1" fmla="val 4950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0" name="_s15374"/>
            <p:cNvSpPr/>
            <p:nvPr/>
          </p:nvSpPr>
          <p:spPr>
            <a:xfrm>
              <a:off x="3772080" y="1523880"/>
              <a:ext cx="1912320" cy="4327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3640" rIns="5364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Times New Roman"/>
                </a:rPr>
                <a:t>Circuitos eléctrico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_s15375"/>
            <p:cNvSpPr/>
            <p:nvPr/>
          </p:nvSpPr>
          <p:spPr>
            <a:xfrm>
              <a:off x="685800" y="2174040"/>
              <a:ext cx="1969200" cy="4330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3640" rIns="5364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Times New Roman"/>
                </a:rPr>
                <a:t>Paso de la corriente eléctric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_s15399"/>
            <p:cNvSpPr/>
            <p:nvPr/>
          </p:nvSpPr>
          <p:spPr>
            <a:xfrm>
              <a:off x="4512240" y="2174040"/>
              <a:ext cx="1969200" cy="4330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1040" bIns="41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Times New Roman"/>
                </a:rPr>
                <a:t>Generación de corrient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_s15402"/>
            <p:cNvSpPr/>
            <p:nvPr/>
          </p:nvSpPr>
          <p:spPr>
            <a:xfrm>
              <a:off x="1988640" y="2824560"/>
              <a:ext cx="1914120" cy="4327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Times New Roman"/>
                </a:rPr>
                <a:t>Conductores y Aislant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_s15404"/>
            <p:cNvSpPr/>
            <p:nvPr/>
          </p:nvSpPr>
          <p:spPr>
            <a:xfrm>
              <a:off x="4539600" y="2824560"/>
              <a:ext cx="1914120" cy="4327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Times New Roman"/>
                </a:rPr>
                <a:t>Pilas y Alternador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_s15414"/>
            <p:cNvSpPr/>
            <p:nvPr/>
          </p:nvSpPr>
          <p:spPr>
            <a:xfrm>
              <a:off x="6799680" y="2174040"/>
              <a:ext cx="1969200" cy="4330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760" rIns="8676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Times New Roman"/>
                </a:rPr>
                <a:t>Circuitos eléctrico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_s15416"/>
            <p:cNvSpPr/>
            <p:nvPr/>
          </p:nvSpPr>
          <p:spPr>
            <a:xfrm>
              <a:off x="6827400" y="2824560"/>
              <a:ext cx="1914120" cy="4327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Times New Roman"/>
                </a:rPr>
                <a:t>Componentes mínimo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Paso de la corriente eléctr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060280"/>
            <a:ext cx="77738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Conducto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jan pasar la corriente. Muchos metales y algunas disolucion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Aislan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 dejan pasar la corriente: arcilla, goma, plástico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10920" y="60912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0000"/>
                </a:solidFill>
                <a:latin typeface="Times New Roman"/>
              </a:rPr>
              <a:t>Generación de Corriente Eléctric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4920" y="2349360"/>
            <a:ext cx="84978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ilas y baterí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produce en su interior una reacción química que genera electricidad. Para más información buscar “Pila de Volt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lternador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ducen energía a través del movimiento. El agua, el viento… mueven unas turbinas que generan electric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10920" y="60912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0000"/>
                </a:solidFill>
                <a:latin typeface="Times New Roman"/>
              </a:rPr>
              <a:t>Circuito eléctrico y component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4920" y="2349360"/>
            <a:ext cx="84978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enerad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duce la corriente eléctr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bles conductor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ransportan la corriente eléctrica al resto del circui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terrupt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gula el paso de la corriente eléctr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cept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cibe la corriente: bombill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ircuito en Serie y en Parale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2833560"/>
            <a:ext cx="3809880" cy="24098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648320" y="2781360"/>
            <a:ext cx="380988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¿Qué es la luz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2846520"/>
            <a:ext cx="7846920" cy="23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orma de energía: sol, velas, bombilla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propaga en línea recta y en todas direc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u velocidad son 300 000 km/ 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Reflexión y Refra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419200"/>
            <a:ext cx="77738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Reflexión: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os rayos de luz cambian de dirección al chocar contra un objeto y rebot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jemplo: un espej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Refracción: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os rayos de luz cambian de dirección al cambiar de un medio a ot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jemplo: la cuchara que metemos en agu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2360" y="60912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spejos y Le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4920" y="2060280"/>
            <a:ext cx="82803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os espejos son superficies muy pulidas que reflejan la luz y, por tanto, los objetos que tienen dela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s lentes son objetos de vidrio o plástico con distinta curvatura. Según sea la curva se dividen 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nvergentes: más anchas en el centro, amplían las imágenes: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up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ivergentes: más estrechas en el centro, reducen la imagen: gafas de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iopí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900000" y="2086560"/>
            <a:ext cx="7416720" cy="1127520"/>
            <a:chOff x="900000" y="2086560"/>
            <a:chExt cx="7416720" cy="1127520"/>
          </a:xfrm>
        </p:grpSpPr>
        <p:cxnSp>
          <p:nvCxnSpPr>
            <p:cNvPr id="56" name="_s11343"/>
            <p:cNvCxnSpPr>
              <a:stCxn id="57" idx="0"/>
              <a:endCxn id="58" idx="2"/>
            </p:cNvCxnSpPr>
            <p:nvPr/>
          </p:nvCxnSpPr>
          <p:spPr>
            <a:xfrm flipV="1" rot="16200000">
              <a:off x="5936040" y="1199160"/>
              <a:ext cx="228960" cy="288396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9" name="_s11288"/>
            <p:cNvCxnSpPr>
              <a:stCxn id="60" idx="0"/>
              <a:endCxn id="58" idx="2"/>
            </p:cNvCxnSpPr>
            <p:nvPr/>
          </p:nvCxnSpPr>
          <p:spPr>
            <a:xfrm flipV="1" rot="16200000">
              <a:off x="4975200" y="2160000"/>
              <a:ext cx="228960" cy="96192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1" name="_s11275"/>
            <p:cNvCxnSpPr>
              <a:stCxn id="62" idx="0"/>
              <a:endCxn id="58" idx="2"/>
            </p:cNvCxnSpPr>
            <p:nvPr/>
          </p:nvCxnSpPr>
          <p:spPr>
            <a:xfrm flipH="1" flipV="1" rot="5400000">
              <a:off x="3052080" y="1198800"/>
              <a:ext cx="228960" cy="288504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3" name="_s11276"/>
            <p:cNvCxnSpPr>
              <a:stCxn id="64" idx="0"/>
              <a:endCxn id="58" idx="2"/>
            </p:cNvCxnSpPr>
            <p:nvPr/>
          </p:nvCxnSpPr>
          <p:spPr>
            <a:xfrm flipH="1" flipV="1" rot="5400000">
              <a:off x="4012920" y="2159640"/>
              <a:ext cx="228960" cy="96336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8" name="_s11277"/>
            <p:cNvSpPr/>
            <p:nvPr/>
          </p:nvSpPr>
          <p:spPr>
            <a:xfrm>
              <a:off x="3905280" y="2086560"/>
              <a:ext cx="1405800" cy="4402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560" rIns="52560" tIns="26280" bIns="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Times New Roman"/>
                </a:rPr>
                <a:t>Objetos no luminos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_s11278"/>
            <p:cNvSpPr/>
            <p:nvPr/>
          </p:nvSpPr>
          <p:spPr>
            <a:xfrm>
              <a:off x="900000" y="2756160"/>
              <a:ext cx="1647720" cy="4579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560" rIns="52560" tIns="26280" bIns="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Times New Roman"/>
                </a:rPr>
                <a:t>Opac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_s11279"/>
            <p:cNvSpPr/>
            <p:nvPr/>
          </p:nvSpPr>
          <p:spPr>
            <a:xfrm>
              <a:off x="2823120" y="2756160"/>
              <a:ext cx="1647720" cy="4579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imes New Roman"/>
                </a:rPr>
                <a:t>Translúcid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_s11287"/>
            <p:cNvSpPr/>
            <p:nvPr/>
          </p:nvSpPr>
          <p:spPr>
            <a:xfrm>
              <a:off x="4745880" y="2756160"/>
              <a:ext cx="1647720" cy="4579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imes New Roman"/>
                </a:rPr>
                <a:t>Transparent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_s11342"/>
            <p:cNvSpPr/>
            <p:nvPr/>
          </p:nvSpPr>
          <p:spPr>
            <a:xfrm>
              <a:off x="6669000" y="2756160"/>
              <a:ext cx="1647720" cy="4579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960" rIns="84960" tIns="42480" bIns="42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imes New Roman"/>
                </a:rPr>
                <a:t>El color en los objet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pac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o dejan pasar la luz a través de ell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ranslúcid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jan pasar algo la luz, pero no vemos con claridad a través de ell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ransparen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jan pasar toda la luz que reciben y podemos ver con claridad a través de ell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Objetos no luminos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l color en los obje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2060280"/>
            <a:ext cx="77738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 luz está formada por siete colo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 color de un objeto depende del rayo de luz que refleja. Ejemplo: los plátanos son amarillos porque absorben todos los rayos de luz menos el amaril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685800" y="1523520"/>
            <a:ext cx="7772040" cy="1813320"/>
            <a:chOff x="685800" y="1523520"/>
            <a:chExt cx="7772040" cy="1813320"/>
          </a:xfrm>
        </p:grpSpPr>
        <p:cxnSp>
          <p:nvCxnSpPr>
            <p:cNvPr id="70" name="_s23573"/>
            <p:cNvCxnSpPr>
              <a:stCxn id="71" idx="1"/>
              <a:endCxn id="72" idx="2"/>
            </p:cNvCxnSpPr>
            <p:nvPr/>
          </p:nvCxnSpPr>
          <p:spPr>
            <a:xfrm rot="10800000">
              <a:off x="1618200" y="2650320"/>
              <a:ext cx="310680" cy="457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3" name="_s23571"/>
            <p:cNvCxnSpPr>
              <a:stCxn id="74" idx="0"/>
              <a:endCxn id="75" idx="2"/>
            </p:cNvCxnSpPr>
            <p:nvPr/>
          </p:nvCxnSpPr>
          <p:spPr>
            <a:xfrm flipV="1" rot="16200000">
              <a:off x="6867000" y="2220840"/>
              <a:ext cx="229680" cy="108900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6" name="_s23569"/>
            <p:cNvCxnSpPr>
              <a:stCxn id="77" idx="0"/>
              <a:endCxn id="75" idx="2"/>
            </p:cNvCxnSpPr>
            <p:nvPr/>
          </p:nvCxnSpPr>
          <p:spPr>
            <a:xfrm flipH="1" flipV="1" rot="5400000">
              <a:off x="5779080" y="2221200"/>
              <a:ext cx="229680" cy="108828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8" name="_s23558"/>
            <p:cNvCxnSpPr>
              <a:stCxn id="75" idx="0"/>
              <a:endCxn id="79" idx="2"/>
            </p:cNvCxnSpPr>
            <p:nvPr/>
          </p:nvCxnSpPr>
          <p:spPr>
            <a:xfrm flipV="1" rot="16200000">
              <a:off x="5389560" y="1145880"/>
              <a:ext cx="230760" cy="1865160"/>
            </a:xfrm>
            <a:prstGeom prst="bentConnector3">
              <a:avLst>
                <a:gd name="adj1" fmla="val 4953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0" name="_s23560"/>
            <p:cNvCxnSpPr>
              <a:stCxn id="72" idx="0"/>
              <a:endCxn id="79" idx="2"/>
            </p:cNvCxnSpPr>
            <p:nvPr/>
          </p:nvCxnSpPr>
          <p:spPr>
            <a:xfrm flipH="1" flipV="1" rot="5400000">
              <a:off x="2980440" y="601200"/>
              <a:ext cx="230760" cy="2954520"/>
            </a:xfrm>
            <a:prstGeom prst="bentConnector3">
              <a:avLst>
                <a:gd name="adj1" fmla="val 4953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9" name="_s23562"/>
            <p:cNvSpPr/>
            <p:nvPr/>
          </p:nvSpPr>
          <p:spPr>
            <a:xfrm>
              <a:off x="3755880" y="1523520"/>
              <a:ext cx="1633680" cy="4402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560" rIns="52560" tIns="26280" bIns="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Times New Roman"/>
                </a:rPr>
                <a:t>Magnetismo y electricida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_s23563"/>
            <p:cNvSpPr/>
            <p:nvPr/>
          </p:nvSpPr>
          <p:spPr>
            <a:xfrm>
              <a:off x="685800" y="2192760"/>
              <a:ext cx="1864440" cy="4579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560" rIns="52560" tIns="26280" bIns="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Times New Roman"/>
                </a:rPr>
                <a:t>Magnetism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_s23566"/>
            <p:cNvSpPr/>
            <p:nvPr/>
          </p:nvSpPr>
          <p:spPr>
            <a:xfrm>
              <a:off x="5504760" y="2192760"/>
              <a:ext cx="1864440" cy="4579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960" rIns="84960" tIns="42480" bIns="42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imes New Roman"/>
                </a:rPr>
                <a:t>Electricida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_s23568"/>
            <p:cNvSpPr/>
            <p:nvPr/>
          </p:nvSpPr>
          <p:spPr>
            <a:xfrm>
              <a:off x="4416840" y="2880000"/>
              <a:ext cx="1864440" cy="45684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imes New Roman"/>
                </a:rPr>
                <a:t>Estátic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_s23570"/>
            <p:cNvSpPr/>
            <p:nvPr/>
          </p:nvSpPr>
          <p:spPr>
            <a:xfrm>
              <a:off x="6593400" y="2880000"/>
              <a:ext cx="1864440" cy="45684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imes New Roman"/>
                </a:rPr>
                <a:t>Corriente eléctric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_s23572"/>
            <p:cNvSpPr/>
            <p:nvPr/>
          </p:nvSpPr>
          <p:spPr>
            <a:xfrm>
              <a:off x="1928880" y="2880000"/>
              <a:ext cx="1864440" cy="45684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imes New Roman"/>
                </a:rPr>
                <a:t>Iman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Magnetis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2060280"/>
            <a:ext cx="77738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 magnetismo es una propiedad que tienen los cuerpos para atraer metales. Se llaman Ima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aturales: magnetita. Están presentes en la naturaleza tal cu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rtificiales: fabricados por las personas a partir de hierro, acero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ienen dos polos: los iguales se repelen, los distintos se atra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fa MD25</cp:lastModifiedBy>
  <dcterms:modified xsi:type="dcterms:W3CDTF">2012-01-22T19:26:29Z</dcterms:modified>
  <cp:revision>6</cp:revision>
  <dc:subject/>
  <dc:title>PowerPoint Presentation</dc:title>
</cp:coreProperties>
</file>