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CD4-CBB1-4FE5-92AC-FCEFE8E3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A73-700A-4E2B-BD41-75714045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B30-D23D-4FB1-AFE2-DCE84D15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0AC-C5F0-41DD-8A19-24B79A7B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2B1-0EA0-48BE-8A20-805998F9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3816-6BA8-4357-B777-C4232282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708E-7303-4863-B658-3C880616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BB8-7CF4-4131-9FCD-CCC66678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7F7-BD64-44FC-A4FA-9A143605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E080-B6F0-49D1-9057-CEC0E0A8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C23-29C7-4F96-B62D-762D46B2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0295-CDBF-4760-9538-6DA48B9F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237B-61FD-4D2F-AABB-DADA4A05A2B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56960" y="1792440"/>
            <a:ext cx="5158080" cy="1374480"/>
            <a:chOff x="1956960" y="1792440"/>
            <a:chExt cx="5158080" cy="1374480"/>
          </a:xfrm>
        </p:grpSpPr>
        <p:cxnSp>
          <p:nvCxnSpPr>
            <p:cNvPr id="42" name="_s6176"/>
            <p:cNvCxnSpPr>
              <a:stCxn id="43" idx="0"/>
              <a:endCxn id="44" idx="2"/>
            </p:cNvCxnSpPr>
            <p:nvPr/>
          </p:nvCxnSpPr>
          <p:spPr>
            <a:xfrm flipV="1" rot="16200000">
              <a:off x="5314320" y="1703520"/>
              <a:ext cx="228960" cy="1783800"/>
            </a:xfrm>
            <a:prstGeom prst="bentConnector5">
              <a:avLst>
                <a:gd name="adj1" fmla="val 401259"/>
                <a:gd name="adj2" fmla="val 145357"/>
                <a:gd name="adj3" fmla="val -1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6154"/>
            <p:cNvCxnSpPr>
              <a:stCxn id="46" idx="0"/>
              <a:endCxn id="44" idx="2"/>
            </p:cNvCxnSpPr>
            <p:nvPr/>
          </p:nvCxnSpPr>
          <p:spPr>
            <a:xfrm rot="16200000">
              <a:off x="4422600" y="2595240"/>
              <a:ext cx="2289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6155"/>
            <p:cNvCxnSpPr>
              <a:stCxn id="48" idx="0"/>
              <a:endCxn id="44" idx="2"/>
            </p:cNvCxnSpPr>
            <p:nvPr/>
          </p:nvCxnSpPr>
          <p:spPr>
            <a:xfrm flipH="1" flipV="1" rot="5400000">
              <a:off x="3530160" y="1703160"/>
              <a:ext cx="228960" cy="1784520"/>
            </a:xfrm>
            <a:prstGeom prst="bentConnector5">
              <a:avLst>
                <a:gd name="adj1" fmla="val 401259"/>
                <a:gd name="adj2" fmla="val 145359"/>
                <a:gd name="adj3" fmla="val -1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" name="_s6156"/>
            <p:cNvSpPr/>
            <p:nvPr/>
          </p:nvSpPr>
          <p:spPr>
            <a:xfrm>
              <a:off x="3959280" y="2023920"/>
              <a:ext cx="1154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La lu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_s6157"/>
            <p:cNvSpPr/>
            <p:nvPr/>
          </p:nvSpPr>
          <p:spPr>
            <a:xfrm>
              <a:off x="1956960" y="2709720"/>
              <a:ext cx="159120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Definición y Propag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_s6158"/>
            <p:cNvSpPr/>
            <p:nvPr/>
          </p:nvSpPr>
          <p:spPr>
            <a:xfrm>
              <a:off x="3741120" y="2709720"/>
              <a:ext cx="15915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Reflexión y Refra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_s6175"/>
            <p:cNvSpPr/>
            <p:nvPr/>
          </p:nvSpPr>
          <p:spPr>
            <a:xfrm>
              <a:off x="5525280" y="2709720"/>
              <a:ext cx="1589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Espejos y Len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ectric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3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una forma de energía que puede transformarse y hacer funcionar diferentes máquinas. Dos tip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ática: los objetos adquieren carga eléctrica al frotarlos. Atraen pelo, pape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rriente eléctrica: la carga eléctrica se mueve a través de los objet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685800" y="1523880"/>
            <a:ext cx="8083080" cy="1733400"/>
            <a:chOff x="685800" y="1523880"/>
            <a:chExt cx="8083080" cy="1733400"/>
          </a:xfrm>
        </p:grpSpPr>
        <p:cxnSp>
          <p:nvCxnSpPr>
            <p:cNvPr id="86" name="_s15417"/>
            <p:cNvCxnSpPr>
              <a:stCxn id="87" idx="0"/>
              <a:endCxn id="88" idx="2"/>
            </p:cNvCxnSpPr>
            <p:nvPr/>
          </p:nvCxnSpPr>
          <p:spPr>
            <a:xfrm flipV="1">
              <a:off x="7784640" y="2606400"/>
              <a:ext cx="2160" cy="217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5415"/>
            <p:cNvCxnSpPr>
              <a:stCxn id="88" idx="0"/>
              <a:endCxn id="90" idx="2"/>
            </p:cNvCxnSpPr>
            <p:nvPr/>
          </p:nvCxnSpPr>
          <p:spPr>
            <a:xfrm flipV="1" rot="16200000">
              <a:off x="6147360" y="537120"/>
              <a:ext cx="217800" cy="3056040"/>
            </a:xfrm>
            <a:prstGeom prst="bentConnector3">
              <a:avLst>
                <a:gd name="adj1" fmla="val 495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15405"/>
            <p:cNvCxnSpPr>
              <a:stCxn id="92" idx="0"/>
              <a:endCxn id="93" idx="2"/>
            </p:cNvCxnSpPr>
            <p:nvPr/>
          </p:nvCxnSpPr>
          <p:spPr>
            <a:xfrm flipV="1">
              <a:off x="5496480" y="2606400"/>
              <a:ext cx="2520" cy="217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15403"/>
            <p:cNvCxnSpPr>
              <a:stCxn id="95" idx="1"/>
              <a:endCxn id="96" idx="2"/>
            </p:cNvCxnSpPr>
            <p:nvPr/>
          </p:nvCxnSpPr>
          <p:spPr>
            <a:xfrm rot="10800000">
              <a:off x="1669320" y="2606400"/>
              <a:ext cx="318960" cy="43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5400"/>
            <p:cNvCxnSpPr>
              <a:stCxn id="93" idx="0"/>
              <a:endCxn id="90" idx="2"/>
            </p:cNvCxnSpPr>
            <p:nvPr/>
          </p:nvCxnSpPr>
          <p:spPr>
            <a:xfrm flipV="1" rot="16200000">
              <a:off x="5003640" y="1680840"/>
              <a:ext cx="217800" cy="768240"/>
            </a:xfrm>
            <a:prstGeom prst="bentConnector3">
              <a:avLst>
                <a:gd name="adj1" fmla="val 495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5372"/>
            <p:cNvCxnSpPr>
              <a:stCxn id="96" idx="0"/>
              <a:endCxn id="90" idx="2"/>
            </p:cNvCxnSpPr>
            <p:nvPr/>
          </p:nvCxnSpPr>
          <p:spPr>
            <a:xfrm flipH="1" flipV="1" rot="5400000">
              <a:off x="3090600" y="535680"/>
              <a:ext cx="217800" cy="3059280"/>
            </a:xfrm>
            <a:prstGeom prst="bentConnector3">
              <a:avLst>
                <a:gd name="adj1" fmla="val 495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15374"/>
            <p:cNvSpPr/>
            <p:nvPr/>
          </p:nvSpPr>
          <p:spPr>
            <a:xfrm>
              <a:off x="3772080" y="1523880"/>
              <a:ext cx="1912320" cy="4327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Circuitos eléctric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15375"/>
            <p:cNvSpPr/>
            <p:nvPr/>
          </p:nvSpPr>
          <p:spPr>
            <a:xfrm>
              <a:off x="685800" y="2174040"/>
              <a:ext cx="1969200" cy="433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Paso de la corriente eléctric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15399"/>
            <p:cNvSpPr/>
            <p:nvPr/>
          </p:nvSpPr>
          <p:spPr>
            <a:xfrm>
              <a:off x="4512240" y="2174040"/>
              <a:ext cx="1969200" cy="433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Generación de corrie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15402"/>
            <p:cNvSpPr/>
            <p:nvPr/>
          </p:nvSpPr>
          <p:spPr>
            <a:xfrm>
              <a:off x="1988640" y="2824560"/>
              <a:ext cx="1914120" cy="4327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Conductores y Aislan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15404"/>
            <p:cNvSpPr/>
            <p:nvPr/>
          </p:nvSpPr>
          <p:spPr>
            <a:xfrm>
              <a:off x="4539600" y="2824560"/>
              <a:ext cx="1914120" cy="4327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Pilas y Alternad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_s15414"/>
            <p:cNvSpPr/>
            <p:nvPr/>
          </p:nvSpPr>
          <p:spPr>
            <a:xfrm>
              <a:off x="6799680" y="2174040"/>
              <a:ext cx="1969200" cy="433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Circuitos eléctric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_s15416"/>
            <p:cNvSpPr/>
            <p:nvPr/>
          </p:nvSpPr>
          <p:spPr>
            <a:xfrm>
              <a:off x="6827400" y="2824560"/>
              <a:ext cx="1914120" cy="4327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Componentes mínim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aso de la corriente eléc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3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du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jan pasar la corriente. Muchos metales y algunas disolu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isl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dejan pasar la corriente: arcilla, goma, plástic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Times New Roman"/>
              </a:rPr>
              <a:t>Generación de Corriente Eléctric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8497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ilas y bater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roduce en su interior una reacción química que genera electricidad. Para más información buscar “Pila de Vol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ternado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en energía a través del movimiento. El agua, el viento… mueven unas turbinas que generan electri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Times New Roman"/>
              </a:rPr>
              <a:t>Circuito eléctrico y componen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8497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ener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e la corriente eléc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bles conducto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portan la corriente eléctrica al resto del circu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rup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 el paso de la corriente eléc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cep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ibe la corriente: bombil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ircuito en Serie y en Paral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2833560"/>
            <a:ext cx="3809880" cy="2409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2781360"/>
            <a:ext cx="380988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Qué es la lu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846520"/>
            <a:ext cx="7846920" cy="23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 de energía: sol, velas, bombilla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propaga en línea recta y en todas dir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 velocidad son 300 000 km/ 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flexión y Refr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19200"/>
            <a:ext cx="77738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flex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rayos de luz cambian de dirección al chocar contra un objeto y rebo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mplo: un espe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fracc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rayos de luz cambian de dirección al cambiar de un medio a o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mplo: la cuchara que metemos en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236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pejos y L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280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espejos son superficies muy pulidas que reflejan la luz y, por tanto, los objetos que tienen del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lentes son objetos de vidrio o plástico con distinta curvatura. Según sea la curva se dividen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vergentes: más anchas en el centro, amplían las imágenes: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up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vergentes: más estrechas en el centro, reducen la imagen: gafas de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opí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900000" y="2086560"/>
            <a:ext cx="7416720" cy="1127520"/>
            <a:chOff x="900000" y="2086560"/>
            <a:chExt cx="7416720" cy="1127520"/>
          </a:xfrm>
        </p:grpSpPr>
        <p:cxnSp>
          <p:nvCxnSpPr>
            <p:cNvPr id="56" name="_s11343"/>
            <p:cNvCxnSpPr>
              <a:stCxn id="57" idx="0"/>
              <a:endCxn id="58" idx="2"/>
            </p:cNvCxnSpPr>
            <p:nvPr/>
          </p:nvCxnSpPr>
          <p:spPr>
            <a:xfrm flipV="1" rot="16200000">
              <a:off x="5936040" y="1199160"/>
              <a:ext cx="228960" cy="28839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1288"/>
            <p:cNvCxnSpPr>
              <a:stCxn id="60" idx="0"/>
              <a:endCxn id="58" idx="2"/>
            </p:cNvCxnSpPr>
            <p:nvPr/>
          </p:nvCxnSpPr>
          <p:spPr>
            <a:xfrm flipV="1" rot="16200000">
              <a:off x="4975200" y="2160000"/>
              <a:ext cx="228960" cy="9619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1275"/>
            <p:cNvCxnSpPr>
              <a:stCxn id="62" idx="0"/>
              <a:endCxn id="58" idx="2"/>
            </p:cNvCxnSpPr>
            <p:nvPr/>
          </p:nvCxnSpPr>
          <p:spPr>
            <a:xfrm flipH="1" flipV="1" rot="5400000">
              <a:off x="3052080" y="1198800"/>
              <a:ext cx="228960" cy="28850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1276"/>
            <p:cNvCxnSpPr>
              <a:stCxn id="64" idx="0"/>
              <a:endCxn id="58" idx="2"/>
            </p:cNvCxnSpPr>
            <p:nvPr/>
          </p:nvCxnSpPr>
          <p:spPr>
            <a:xfrm flipH="1" flipV="1" rot="5400000">
              <a:off x="4012920" y="2159640"/>
              <a:ext cx="228960" cy="9633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" name="_s11277"/>
            <p:cNvSpPr/>
            <p:nvPr/>
          </p:nvSpPr>
          <p:spPr>
            <a:xfrm>
              <a:off x="3905280" y="2086560"/>
              <a:ext cx="1405800" cy="440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Objetos no lumino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11278"/>
            <p:cNvSpPr/>
            <p:nvPr/>
          </p:nvSpPr>
          <p:spPr>
            <a:xfrm>
              <a:off x="900000" y="2756160"/>
              <a:ext cx="164772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Opac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11279"/>
            <p:cNvSpPr/>
            <p:nvPr/>
          </p:nvSpPr>
          <p:spPr>
            <a:xfrm>
              <a:off x="2823120" y="2756160"/>
              <a:ext cx="164772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Translúci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11287"/>
            <p:cNvSpPr/>
            <p:nvPr/>
          </p:nvSpPr>
          <p:spPr>
            <a:xfrm>
              <a:off x="4745880" y="2756160"/>
              <a:ext cx="164772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Transparen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11342"/>
            <p:cNvSpPr/>
            <p:nvPr/>
          </p:nvSpPr>
          <p:spPr>
            <a:xfrm>
              <a:off x="6669000" y="2756160"/>
              <a:ext cx="164772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El color en los obje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a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dejan pasar la luz a través de e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anslúci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jan pasar algo la luz, pero no vemos con claridad a través de e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anspar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jan pasar toda la luz que reciben y podemos ver con claridad a través de e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bjetos no lumino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color en los obje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3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luz está formada por siete col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color de un objeto depende del rayo de luz que refleja. Ejemplo: los plátanos son amarillos porque absorben todos los rayos de luz menos el amari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685800" y="1523520"/>
            <a:ext cx="7772040" cy="1813320"/>
            <a:chOff x="685800" y="1523520"/>
            <a:chExt cx="7772040" cy="1813320"/>
          </a:xfrm>
        </p:grpSpPr>
        <p:cxnSp>
          <p:nvCxnSpPr>
            <p:cNvPr id="70" name="_s23573"/>
            <p:cNvCxnSpPr>
              <a:stCxn id="71" idx="1"/>
              <a:endCxn id="72" idx="2"/>
            </p:cNvCxnSpPr>
            <p:nvPr/>
          </p:nvCxnSpPr>
          <p:spPr>
            <a:xfrm rot="10800000">
              <a:off x="1618200" y="2650320"/>
              <a:ext cx="310680" cy="45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23571"/>
            <p:cNvCxnSpPr>
              <a:stCxn id="74" idx="0"/>
              <a:endCxn id="75" idx="2"/>
            </p:cNvCxnSpPr>
            <p:nvPr/>
          </p:nvCxnSpPr>
          <p:spPr>
            <a:xfrm flipV="1" rot="16200000">
              <a:off x="6867000" y="2220840"/>
              <a:ext cx="229680" cy="10890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3569"/>
            <p:cNvCxnSpPr>
              <a:stCxn id="77" idx="0"/>
              <a:endCxn id="75" idx="2"/>
            </p:cNvCxnSpPr>
            <p:nvPr/>
          </p:nvCxnSpPr>
          <p:spPr>
            <a:xfrm flipH="1" flipV="1" rot="5400000">
              <a:off x="5779080" y="2221200"/>
              <a:ext cx="229680" cy="10882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3558"/>
            <p:cNvCxnSpPr>
              <a:stCxn id="75" idx="0"/>
              <a:endCxn id="79" idx="2"/>
            </p:cNvCxnSpPr>
            <p:nvPr/>
          </p:nvCxnSpPr>
          <p:spPr>
            <a:xfrm flipV="1" rot="16200000">
              <a:off x="5389560" y="1145880"/>
              <a:ext cx="230760" cy="186516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23560"/>
            <p:cNvCxnSpPr>
              <a:stCxn id="72" idx="0"/>
              <a:endCxn id="79" idx="2"/>
            </p:cNvCxnSpPr>
            <p:nvPr/>
          </p:nvCxnSpPr>
          <p:spPr>
            <a:xfrm flipH="1" flipV="1" rot="5400000">
              <a:off x="2980440" y="601200"/>
              <a:ext cx="230760" cy="295452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23562"/>
            <p:cNvSpPr/>
            <p:nvPr/>
          </p:nvSpPr>
          <p:spPr>
            <a:xfrm>
              <a:off x="3755880" y="1523520"/>
              <a:ext cx="1633680" cy="440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Magnetismo y electricid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23563"/>
            <p:cNvSpPr/>
            <p:nvPr/>
          </p:nvSpPr>
          <p:spPr>
            <a:xfrm>
              <a:off x="685800" y="2192760"/>
              <a:ext cx="186444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Magnetism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23566"/>
            <p:cNvSpPr/>
            <p:nvPr/>
          </p:nvSpPr>
          <p:spPr>
            <a:xfrm>
              <a:off x="5504760" y="2192760"/>
              <a:ext cx="186444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Electricid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23568"/>
            <p:cNvSpPr/>
            <p:nvPr/>
          </p:nvSpPr>
          <p:spPr>
            <a:xfrm>
              <a:off x="4416840" y="2880000"/>
              <a:ext cx="1864440" cy="456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Estát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23570"/>
            <p:cNvSpPr/>
            <p:nvPr/>
          </p:nvSpPr>
          <p:spPr>
            <a:xfrm>
              <a:off x="6593400" y="2880000"/>
              <a:ext cx="1864440" cy="456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Corriente eléctr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23572"/>
            <p:cNvSpPr/>
            <p:nvPr/>
          </p:nvSpPr>
          <p:spPr>
            <a:xfrm>
              <a:off x="1928880" y="2880000"/>
              <a:ext cx="1864440" cy="456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Ima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agnet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3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magnetismo es una propiedad que tienen los cuerpos para atraer metales. Se llaman Ima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aturales: magnetita. Están presentes en la naturaleza tal c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tificiales: fabricados por las personas a partir de hierro, acer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enen dos polos: los iguales se repelen, los distintos se atra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fa MD25</cp:lastModifiedBy>
  <dcterms:modified xsi:type="dcterms:W3CDTF">2012-01-22T19:26:29Z</dcterms:modified>
  <cp:revision>6</cp:revision>
  <dc:subject/>
  <dc:title>PowerPoint Presentation</dc:title>
</cp:coreProperties>
</file>