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MELODIE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54F-9200-44F8-B08D-AD98E2F5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F06-AE99-4F9F-9E6A-D0FF0C3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36B-92BA-4D34-A3F4-F4752EB8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DCB-109C-4466-B5E5-E87CE94C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037-276C-43EA-882F-15DEECCF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730-EF05-4102-85A0-018C7BA5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E63-8519-4A6E-926B-68BB8A56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BC78-F223-4F28-B5F6-C192865A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4E49-0BAA-4634-8D56-93CD52DF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ACA-C2FB-4BDE-BCEC-97F83A92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C39-47E4-43F6-8685-B3A0595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19B-DE72-4D93-BC79-7CE2C97E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EFB-DF1A-4B09-9F39-4B1D5C4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C30-F1CF-4811-8D60-97E5B99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307-C99F-447E-BDDB-C37302E9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B40-8049-40D1-88AA-0574DB91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E99-4D36-4143-A0F6-A51F2667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CA7-B39B-4F28-B08B-FFA6CCE1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B23-3F7E-4D11-83D3-5D751433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0B4-D4F4-491B-BD5D-4A3C5D4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E74-1583-4A80-B6F8-BB8C614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31E-C9D5-4F00-9597-D9FE3CE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670-D1BD-4DF0-B41A-D2DCC52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6BD-04A4-4E82-B3F9-F008E33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B391-CE93-4418-A376-694B32CB11B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8E0-A3CE-43F9-8C33-EFE360D6B0D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3049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69696"/>
                </a:solidFill>
                <a:latin typeface="Times New Roman"/>
              </a:rPr>
              <a:t>www.</a:t>
            </a:r>
            <a:r>
              <a:rPr b="1" lang="de-DE" sz="1400" spc="-1" strike="noStrike">
                <a:solidFill>
                  <a:srgbClr val="969696"/>
                </a:solidFill>
                <a:latin typeface="Times New Roman"/>
              </a:rPr>
              <a:t>FunFriends</a:t>
            </a:r>
            <a:r>
              <a:rPr b="0" lang="de-DE" sz="1400" spc="-1" strike="noStrike">
                <a:solidFill>
                  <a:srgbClr val="969696"/>
                </a:solidFill>
                <a:latin typeface="Times New Roman"/>
              </a:rPr>
              <a:t>.d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ELODI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audio" Target="../media/MELODIE.WAV"/><Relationship Id="rId5" Type="http://schemas.openxmlformats.org/officeDocument/2006/relationships/audio" Target="../media/MELODI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er Flaschengeist</a:t>
            </a:r>
            <a:endParaRPr b="0" lang="en-US" sz="6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in Mann findet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am Ostseestrand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ine sehr alte Flasche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nd reibt diese. ..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3" name="CATHC162" descr=""/>
          <p:cNvPicPr/>
          <p:nvPr/>
        </p:nvPicPr>
        <p:blipFill>
          <a:blip r:embed="rId1"/>
          <a:stretch/>
        </p:blipFill>
        <p:spPr>
          <a:xfrm>
            <a:off x="6377040" y="3048120"/>
            <a:ext cx="2190600" cy="33145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609480"/>
            <a:ext cx="5257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Da kommt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ein Geist herau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er Geist sag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"Das ist heute nun schon das 5te Mal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ass ich Wünsche erfüllen soll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Ich sage Dir eins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Überlege Dir gut, was Du Dir wünscht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nn ich erfülle Dir nur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einen einzigen Wunsch".</a:t>
            </a:r>
            <a:r>
              <a:rPr b="1" lang="en-US" sz="2800" spc="-1" strike="noStrike">
                <a:solidFill>
                  <a:srgbClr val="00898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6" name="GENIEMAN" descr=""/>
          <p:cNvPicPr/>
          <p:nvPr/>
        </p:nvPicPr>
        <p:blipFill>
          <a:blip r:embed="rId1"/>
          <a:stretch/>
        </p:blipFill>
        <p:spPr>
          <a:xfrm>
            <a:off x="249120" y="380880"/>
            <a:ext cx="26622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Der Mann überlegt: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ch wäre so gern mal auf Hawaii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aber ich habe Angst vor dem Fliege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und mit einem Schiff,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ein damit fahre ich auch nicht!"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>
    <p:wipe dir="u"/>
    <p:sndAc>
      <p:stSnd>
        <p:snd r:embed="rId1" name="MELODI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"Ich wünsche mir,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ass Du mir eine Brücke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ach Hawaii baust.„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r Geist, leicht erschrocken sag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" Eine Brücke nach Hawaii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ja hast Du Dir überlegt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wie lang die sein muss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und wie viel Beton wir dafür brauchen?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Nein. Überleg´ Dir etwas anderes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iesen Wunsch erfülle ich Dir nicht!"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0" name="GENIEMA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671720" cy="15606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„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... ALSO GEIST, ICH MÖCHTE DASS ICH DIE FRAUEN VERSTEHEN KANN.“</a:t>
            </a:r>
            <a:endParaRPr b="0" lang="en-US" sz="3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er Mann überlegt lau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"Ich wollte schon immer mal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ie Frauen verstehen und wissen,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was sie so denken und fühlen“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3" name="GENIEST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84140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„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Wie viele Fahrspuren 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soll die Brücke haben???"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r Geist überlegt kurz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und fragt:</a:t>
            </a:r>
            <a:endParaRPr b="0" lang="en-US" sz="2800" spc="-1" strike="noStrike">
              <a:solidFill>
                <a:srgbClr val="000099"/>
              </a:solidFill>
              <a:latin typeface="Impact"/>
            </a:endParaRPr>
          </a:p>
        </p:txBody>
      </p:sp>
      <p:pic>
        <p:nvPicPr>
          <p:cNvPr id="106" name="GENIEMA" descr=""/>
          <p:cNvPicPr/>
          <p:nvPr/>
        </p:nvPicPr>
        <p:blipFill>
          <a:blip r:embed="rId1"/>
          <a:stretch/>
        </p:blipFill>
        <p:spPr>
          <a:xfrm>
            <a:off x="3962520" y="573120"/>
            <a:ext cx="4671720" cy="15606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86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963840" y="6095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*** Ende ***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wipe dir="u"/>
    <p:sndAc>
      <p:stSnd>
        <p:snd r:embed="rId4" name="MELOD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LOD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1:53:19Z</dcterms:created>
  <dc:creator>animiert von Ute.Zohles@web.de</dc:creator>
  <dc:description>www.FunFriends.de</dc:description>
  <cp:keywords>Witz Brücke Hawaii Frauen Verstehen</cp:keywords>
  <dc:language>en-US</dc:language>
  <cp:lastModifiedBy>Smets</cp:lastModifiedBy>
  <dcterms:modified xsi:type="dcterms:W3CDTF">2008-09-09T19:22:23Z</dcterms:modified>
  <cp:revision>58</cp:revision>
  <dc:subject>Witz</dc:subject>
  <dc:title>Der Flaschengeist - 1 Wunsch frei</dc:title>
</cp:coreProperties>
</file>