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MELODIE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C12-B9F1-467B-9BF9-41C4AA85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2CE-5E08-4046-9E2B-CCDC7864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29C-0F08-4786-AE68-17B931FF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E66-4828-4470-B2C4-E25AAE5D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3340-F8A3-48BB-AC3E-0739FEFE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9219-F53C-4D34-AC14-6F252C11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9070-1EA7-4BF6-A9B8-F3D84AD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A277-F943-416A-AA22-B695C8F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3AD6-7B18-45A9-800A-30622484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627-B26D-4314-8EA2-13CC177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2910-1A45-45BE-8CC5-E2F4120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1B8-A25A-422E-86CA-0696B0CC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7378-AD3D-4D25-907B-BCD9F75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92F-7079-497D-8151-8033FB2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F3D6-6E9E-48BF-AB09-A2D3E013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74F-D987-441B-ABAE-4B90EDD9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9427-4FFF-41B6-B7A2-052F7F54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71D-BD86-44FC-B5F5-D9E1A9AE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F4C-1BDB-46E7-8205-2B7F7502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408-0BA2-46C9-AB73-E2EBA928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EC0-414D-45AD-BF50-149B011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08C-14D6-4AE3-9531-9319CF1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041-5262-46F3-B1BD-93E4F900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DC1-8178-4009-8A5C-E7DE212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325F-FE21-4948-BBEA-4853D0AEE4EF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6FA-810D-4CF4-BD1B-06E3A8F45023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3049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69696"/>
                </a:solidFill>
                <a:latin typeface="Times New Roman"/>
              </a:rPr>
              <a:t>www.</a:t>
            </a:r>
            <a:r>
              <a:rPr b="1" lang="de-DE" sz="1400" spc="-1" strike="noStrike">
                <a:solidFill>
                  <a:srgbClr val="969696"/>
                </a:solidFill>
                <a:latin typeface="Times New Roman"/>
              </a:rPr>
              <a:t>FunFriends</a:t>
            </a:r>
            <a:r>
              <a:rPr b="0" lang="de-DE" sz="1400" spc="-1" strike="noStrike">
                <a:solidFill>
                  <a:srgbClr val="969696"/>
                </a:solidFill>
                <a:latin typeface="Times New Roman"/>
              </a:rPr>
              <a:t>.d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ELODI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MELODIE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audio" Target="../media/MELODIE.WAV"/><Relationship Id="rId5" Type="http://schemas.openxmlformats.org/officeDocument/2006/relationships/audio" Target="../media/MELODI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er Flaschengeist</a:t>
            </a:r>
            <a:endParaRPr b="0" lang="en-US" sz="6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3504960"/>
            <a:ext cx="64008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in Mann findet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am Ostseestrand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ine sehr alte Flasche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und reibt diese. ..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3" name="CATHC162" descr=""/>
          <p:cNvPicPr/>
          <p:nvPr/>
        </p:nvPicPr>
        <p:blipFill>
          <a:blip r:embed="rId1"/>
          <a:stretch/>
        </p:blipFill>
        <p:spPr>
          <a:xfrm>
            <a:off x="6377040" y="3048120"/>
            <a:ext cx="2190600" cy="33145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560" y="609480"/>
            <a:ext cx="5257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Da kommt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ein Geist herau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er Geist sagt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"Das ist heute nun schon das 5te Mal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ass ich Wünsche erfüllen soll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Ich sage Dir eins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Überlege Dir gut, was Du Dir wünscht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enn ich erfülle Dir nur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einen einzigen Wunsch".</a:t>
            </a:r>
            <a:r>
              <a:rPr b="1" lang="en-US" sz="2800" spc="-1" strike="noStrike">
                <a:solidFill>
                  <a:srgbClr val="00898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6" name="GENIEMAN" descr=""/>
          <p:cNvPicPr/>
          <p:nvPr/>
        </p:nvPicPr>
        <p:blipFill>
          <a:blip r:embed="rId1"/>
          <a:stretch/>
        </p:blipFill>
        <p:spPr>
          <a:xfrm>
            <a:off x="249120" y="380880"/>
            <a:ext cx="26622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Der Mann überlegt: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ch wäre so gern mal auf Hawaii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aber ich habe Angst vor dem Fliege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und mit einem Schiff,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ein damit fahre ich auch nicht!"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>
    <p:wipe dir="u"/>
    <p:sndAc>
      <p:stSnd>
        <p:snd r:embed="rId1" name="MELODI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"Ich wünsche mir,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ass Du mir eine Brücke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ach Hawaii baust.„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er Geist, leicht erschrocken sagt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" Eine Brücke nach Hawaii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ja hast Du Dir überlegt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wie lang die sein muss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und wie viel Beton wir dafür brauchen?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Nein. Überleg´ Dir etwas anderes, 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iesen Wunsch erfülle ich Dir nicht!"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0" name="GENIEMA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671720" cy="15606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„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Times New Roman"/>
              </a:rPr>
              <a:t>... ALSO GEIST, ICH MÖCHTE DASS ICH DIE FRAUEN VERSTEHEN KANN.“</a:t>
            </a:r>
            <a:endParaRPr b="0" lang="en-US" sz="3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er Mann überlegt laut: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"Ich wollte schon immer mal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die Frauen verstehen und wissen,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was sie so denken und fühlen“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3" name="GENIEST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184140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„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Wie viele Fahrspuren 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soll die Brücke haben???"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Der Geist überlegt kurz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und fragt:</a:t>
            </a:r>
            <a:endParaRPr b="0" lang="en-US" sz="2800" spc="-1" strike="noStrike">
              <a:solidFill>
                <a:srgbClr val="000099"/>
              </a:solidFill>
              <a:latin typeface="Impact"/>
            </a:endParaRPr>
          </a:p>
        </p:txBody>
      </p:sp>
      <p:pic>
        <p:nvPicPr>
          <p:cNvPr id="106" name="GENIEMA" descr=""/>
          <p:cNvPicPr/>
          <p:nvPr/>
        </p:nvPicPr>
        <p:blipFill>
          <a:blip r:embed="rId1"/>
          <a:stretch/>
        </p:blipFill>
        <p:spPr>
          <a:xfrm>
            <a:off x="3962520" y="573120"/>
            <a:ext cx="4671720" cy="156060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MELODI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286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963840" y="60958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Times New Roman"/>
              </a:rPr>
              <a:t>*** Ende ***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51664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wipe dir="u"/>
    <p:sndAc>
      <p:stSnd>
        <p:snd r:embed="rId4" name="MELOD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LOD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1:53:19Z</dcterms:created>
  <dc:creator>animiert von Ute.Zohles@web.de</dc:creator>
  <dc:description>www.FunFriends.de</dc:description>
  <cp:keywords>Witz Brücke Hawaii Frauen Verstehen</cp:keywords>
  <dc:language>en-US</dc:language>
  <cp:lastModifiedBy>Smets</cp:lastModifiedBy>
  <dcterms:modified xsi:type="dcterms:W3CDTF">2008-09-09T19:22:23Z</dcterms:modified>
  <cp:revision>58</cp:revision>
  <dc:subject>Witz</dc:subject>
  <dc:title>Der Flaschengeist - 1 Wunsch frei</dc:title>
</cp:coreProperties>
</file>