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AFDC-8145-49E0-9478-8D4E887A39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FDDA-236A-467A-9DD8-8E6A8B095AE7}" type="slidenum">
              <a:rPr b="0" lang="fr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938A-95FF-4103-93F9-918D63C987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1433-E0A4-40F3-A1B0-E68B622D2D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1CAD-2005-435D-A285-EDEC80C79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9F0B-6A2B-4A5C-93EA-0756AFF62F0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7F40-9BDF-4A2A-8AAB-4560AAB351C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9033-4C75-4270-AD9B-BCA05740FC6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EB7A-8640-4640-AC83-D8C474A1243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E802-AE2F-486A-8EA7-6A4F48DAEE4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8418-236A-4BCC-A964-0C813608E1B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A9C1E-7FCA-4574-A672-952F7569471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2BF6-76F9-4DEA-B22B-93391349FE6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6AE89-FFF0-4CCB-9E82-53A8F143390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33C4-5410-437C-8BE2-3D271F1082D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E3399-4D84-47D5-A4A7-8ED5DC043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DBF2-CCE1-4073-B57A-C0467810714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E5B3B-15FA-437F-A06C-D53433C3442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1D9E13-AC96-4310-BD9B-1D3FFA4F3E7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584C4-CE67-463B-B820-2CC17FF25E3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7B41F-A85B-4193-9C5E-B4C54B7DDB8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A30984-F8AD-406B-AA3A-E768BDAAD74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9515A-A696-480B-9DC4-8CB165C9316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AD57B-C72D-42BC-BE82-6452FDDAC8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037F45-F5F2-4DB4-8ACA-0BDA94EB24E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B264C-DFC4-4171-A877-CDA2FBEA520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63F778-16A8-4D41-B037-28DB90C61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0B1A-FCE3-4C48-BDA1-703E2CD155A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91433-E187-4707-A654-FE93FE1F3A3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28CC8-E5C2-43D7-9C61-3BC89CA0AC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79D5C-3439-4FF2-8136-B667A171D9A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30ECE-C027-4EDC-85FD-7C04EB6A378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AFF296-5D9B-4599-A0E2-649ADA19D07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5C083-C773-4FB0-8BB6-82FFD3966D6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4216D-19F2-4215-96A2-80F51A05CD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F3B14-BF20-4291-8C1B-5A57CF17BFA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6FC12-CBF8-480C-B476-6E62C68793A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F9E24-A89D-4517-9DCA-F6C794A03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733D1-ADFE-4E62-A092-DA1447CE9DB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84382-BBC4-44EC-8AAC-23239758036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8EF0F5-D2E2-4274-B0AD-AFF7F647514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A4E66-AABC-42FD-A5B7-C04ABCADBBE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B633D-0C69-4AD3-B98D-FCFC3179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1F120-2C1B-49B9-AAB9-DFC7E92C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7CF95-E226-49F9-A6F6-EE4B68B4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67B34-F21B-4690-B90D-BBC12066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5005D-568C-45A8-BDA7-3D4FE2DF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61657-7A5D-431B-B18D-319D967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D593A-E8F5-4FEE-8EDC-A9D66DA1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7E42-D43D-4365-A2C9-05BD3362599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8DFF6-F0B7-4134-9AE2-FF915F01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70572-0344-46A7-9896-4EE36417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D7989-90D2-4168-894A-DB6A1478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879E9-739E-4F2A-9F4A-0E47966F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AAE38-A01F-41A3-A8BB-C76E4267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14098-3CF9-4CC7-9A68-D225FA749A5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04D5-D8D0-4D5B-8458-DADB0609206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2D5E7-994F-40DE-8C4E-EA7528390EC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0FFF2-6843-4BAA-A67C-8FC187C1448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FD9D1-F210-45FD-B2B7-20937741D3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67F4-743F-4181-AC99-C16AF41A3D4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A247B-E252-4F57-8DBA-AA4DDBC4F4A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E5800-B227-4B37-A6C0-B85F479D49E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210DB-EDF5-45D3-80C9-EB2480D410F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9923F-EFBC-4F35-A446-8E70BBCC15A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8721B-D550-4102-BE57-4079FD354A2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4061A-5761-4856-ADE5-8DA7C2EA5B6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15808-00C4-45C5-9C4E-87F76D125A1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7D5838-46B9-4B1D-A135-EC3F3BDE5DF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A9BC67-5375-4CAB-9136-683760A472A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9FD3B1-4308-4DD4-AC1E-825AE0F3F0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8A99-BE60-4E10-989F-020B1FFCBB6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5F6DDC-F561-4ADB-B9F6-B10154EA741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C91E83-C913-45D4-99EA-77C5111FFB8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30ECF-DDD6-4A06-A524-86E5F0C8604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861C69-5ADB-42D0-AE62-97F2A0532C1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3B7C9-542E-44E5-B796-C2C743085C2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505243-A93A-496F-8AD2-F86E9BEA4CB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3CC8B3-C16E-4A1D-9B2C-8AFDBD664F4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4BED81-E194-4EB8-B12A-DFC420B0F9E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5C4BB5-437E-442B-A8CE-8D00D9C0AC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0A12-A337-4F63-ACFE-4F4B9F7732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CB822-E71B-4771-86B1-D593A8A6DC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3D2C-661E-4923-8CBE-BCC90143D1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293D-16C8-46DC-9EE0-3471EBD82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4611-2E8E-4A40-A0FA-855A488BB6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C280-CC57-44B4-ADE5-9B8D219295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9265-E07A-4476-AFE0-C4C696992E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98D4-EBEB-45EC-A767-BCA919D02C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50C2-1621-42B6-872A-6D539D8739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76A-D98B-43C2-87C1-F8AE3340BF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7B1-CBF9-4F6D-8953-D7DA1C6C2A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BFC-C65F-4C5C-A750-9A538BE5F1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770-F98B-4F84-91B3-38EA16FD2B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CCA-200B-4F12-A2E6-76EA938AB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AF99-1D19-4F99-99CE-6A88A6232C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852-EC5D-4314-AB87-8842040FE2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2BA-17FB-4756-81FB-7EB1C7AE32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0F9-4D77-41F8-BB7E-C502D7F9A5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F22-C4B7-4543-B807-A7C06582E0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C9D-D26E-4772-8FC7-AB3D8B0D12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CB1-A582-43CD-9A4B-686F78B3FC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190-AE2D-45C8-8C8F-4861F7DC6A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1EE88-C80E-430C-9950-4F7158B742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F0FB6-172F-4596-A924-D00B90E989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3BD22-82BA-48C0-B6DB-0CDAE075E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FC22-229F-4001-A78C-28DAA752FD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2B3EB-AD69-41BC-9C29-965EF131EF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2891D-E42F-4832-B8F3-A8BE056442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54642-178B-4C98-9510-8599EBFA0F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8C1FD-8BDB-4234-84F9-838AC74D78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B22A6-0116-4333-98B2-EBD7240FD2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4CAD1-F131-4793-BAFC-F494AE8AB4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ADB4F-D66A-44B5-9ABF-060FB87B88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C865B-9F90-43D1-91D3-50A33D4D25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527E2-B978-46DF-B843-6B26280E6B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33952-E266-4A96-AB1F-CA431FD0B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92D4-AB45-4A9C-9B16-D95D7A2687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5A843-2D10-4B52-A9AA-4DEE959C46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9F894-C507-46C7-933B-63FD984E42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69672-AD13-49A3-B50D-6544371E097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21C4A-217B-4349-8327-1872BF4BFC5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300E3-6704-412F-B8A3-96A4F21304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44819-925D-4370-B352-738F568196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4A77C-FAB9-47EF-9403-C76EAB8943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C3963-3322-4271-99DA-C1AB938851D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7265C-CC94-4F9A-A441-15F9D3215C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FA58F-9E61-47DC-B178-CF8718A02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CBC4-9DDA-415D-A71E-D5F96BAADEA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358F2-A836-43C6-967C-620DF83B6B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6AB9-6BA4-48AB-BD84-60EA35DC6E7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5209-776A-4752-9C6C-8FAAD3D04AE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62CF-216B-44C2-9FE1-9183B43BDEF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7ECD-3225-4959-A551-CB5A32B494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9500-ED9E-403C-934E-02E7AD831B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497E-AC52-4719-836A-3BA2CEA6B5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1C95-33AE-4543-9A6B-1615502D8DE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C16E-0F2E-4222-9F80-46E088ADD6C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932E-EECB-4C6A-B638-D591983BE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537E-A279-4740-A0A1-1EEBF7610D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9A1A-F367-44D6-9509-D31AE35C17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6FB5-2281-43FA-A470-6A5F3223D6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5FB8-27A6-4683-B8DF-10E986C7E52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03B4F-3757-4A4A-8E65-0B68D69638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79691-6EBD-468B-96D9-9A7A322958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EE5FFB-03B7-4870-8BFB-1E87BF6E82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7F42F-DF7F-4B3D-A8C3-7973DCF867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C967D-503A-4914-9AA3-149D81DBC64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C1F513-656B-4FED-9ADA-4B4EC6A098E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7FC4D9-0A18-4013-93DC-FE554C20C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553B-968E-4F6E-AC37-EF5C0031804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4DDA2E-7A89-4B28-8CE0-822466CE6F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17FF88-E69C-4C67-AE92-AB74D9E7DF9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6223F-E061-4AFF-94CC-065E4745F90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4C83F-4477-4238-806D-A563A96040F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B1C1B-D301-41F6-86F2-2C7A4E81E0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9ECCA-F515-4F76-B473-AF5705147D0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ED359-2F5F-4987-A5F0-FC67EFEBFF3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B45CF-E458-47A6-967C-C3706071F5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A6666-8413-4A19-A288-47641FBFCF4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765C2-192B-492C-ADD5-74ABC684E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08B5-5226-4BC9-8EF8-39FCA421FA2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BC25A-BF61-4CED-AFE0-380207608D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A3163-229D-4961-87D8-FCE1591A28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DB5AB-A8BA-4494-8EAB-ACAC23A66A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D09F3-66EA-4F2B-BE38-5CDD841E2A7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4DB47-9BBF-496D-B627-A4F459A8EA3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7C67C-19C4-4880-958C-B44E0622622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A5393-49A6-43E0-995B-42276F065C3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9748-8999-47BE-8FDB-079D13BAC9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1FB4-5AD4-4E58-A08C-EB572144FE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877F-C20F-474F-BD74-D5A43763F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BF62-4D6B-499D-9328-A34A83BDB450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0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D839-7058-4AD0-9F10-C2D68CF7B2B1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1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BD2A-DCFA-4778-9991-001C6E04E731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1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14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3B3B-00F0-4085-AE21-77058598B955}" type="slidenum">
              <a:rPr b="1" lang="fr-CA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5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925-1D86-435B-B48D-5B456CCABC26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16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27AE-F5B0-48E8-9A8D-699C3D90DB7B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"/>
          <p:cNvPicPr/>
          <p:nvPr/>
        </p:nvPicPr>
        <p:blipFill>
          <a:blip r:embed="rId3"/>
          <a:stretch/>
        </p:blipFill>
        <p:spPr>
          <a:xfrm>
            <a:off x="108000" y="260280"/>
            <a:ext cx="8964720" cy="21600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4"/>
          <a:stretch/>
        </p:blipFill>
        <p:spPr>
          <a:xfrm>
            <a:off x="3451320" y="404640"/>
            <a:ext cx="2278080" cy="1447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D32C-FC62-457C-91FE-27F62DD91477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004E-14F1-4859-A5F1-7174805C5052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BAFC-64B8-4ACC-A5D5-AC5288454043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5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1029-5A8F-456D-8BA0-AD44C185ABEB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6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A1A5-3AAD-406C-97CB-055074DA6C1B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7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6DF4-9E20-4C95-8DC2-7AFBB8995142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82DD-D378-4F35-B6B4-1DA9CB0A76E9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reeform 5"/>
          <p:cNvSpPr/>
          <p:nvPr/>
        </p:nvSpPr>
        <p:spPr>
          <a:xfrm>
            <a:off x="111240" y="6380280"/>
            <a:ext cx="8964360" cy="263520"/>
          </a:xfrm>
          <a:custGeom>
            <a:avLst/>
            <a:gdLst>
              <a:gd name="textAreaLeft" fmla="*/ 0 w 8964360"/>
              <a:gd name="textAreaRight" fmla="*/ 8964720 w 8964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73" h="63">
                <a:moveTo>
                  <a:pt x="2373" y="63"/>
                </a:moveTo>
                <a:cubicBezTo>
                  <a:pt x="1882" y="63"/>
                  <a:pt x="1882" y="63"/>
                  <a:pt x="1882" y="63"/>
                </a:cubicBezTo>
                <a:cubicBezTo>
                  <a:pt x="1863" y="63"/>
                  <a:pt x="1848" y="20"/>
                  <a:pt x="1841" y="13"/>
                </a:cubicBezTo>
                <a:cubicBezTo>
                  <a:pt x="1839" y="11"/>
                  <a:pt x="1836" y="8"/>
                  <a:pt x="1834" y="7"/>
                </a:cubicBezTo>
                <a:cubicBezTo>
                  <a:pt x="1833" y="6"/>
                  <a:pt x="1832" y="6"/>
                  <a:pt x="1831" y="5"/>
                </a:cubicBezTo>
                <a:cubicBezTo>
                  <a:pt x="1828" y="3"/>
                  <a:pt x="1824" y="1"/>
                  <a:pt x="1820" y="1"/>
                </a:cubicBezTo>
                <a:cubicBezTo>
                  <a:pt x="1818" y="0"/>
                  <a:pt x="1815" y="0"/>
                  <a:pt x="1813" y="0"/>
                </a:cubicBezTo>
                <a:cubicBezTo>
                  <a:pt x="1181" y="0"/>
                  <a:pt x="1181" y="0"/>
                  <a:pt x="1181" y="0"/>
                </a:cubicBezTo>
                <a:cubicBezTo>
                  <a:pt x="1179" y="0"/>
                  <a:pt x="1179" y="0"/>
                  <a:pt x="1179" y="0"/>
                </a:cubicBezTo>
                <a:cubicBezTo>
                  <a:pt x="542" y="0"/>
                  <a:pt x="542" y="0"/>
                  <a:pt x="542" y="0"/>
                </a:cubicBezTo>
                <a:cubicBezTo>
                  <a:pt x="540" y="0"/>
                  <a:pt x="537" y="0"/>
                  <a:pt x="535" y="1"/>
                </a:cubicBezTo>
                <a:cubicBezTo>
                  <a:pt x="531" y="1"/>
                  <a:pt x="527" y="3"/>
                  <a:pt x="524" y="5"/>
                </a:cubicBezTo>
                <a:cubicBezTo>
                  <a:pt x="523" y="5"/>
                  <a:pt x="522" y="6"/>
                  <a:pt x="521" y="7"/>
                </a:cubicBezTo>
                <a:cubicBezTo>
                  <a:pt x="518" y="8"/>
                  <a:pt x="516" y="11"/>
                  <a:pt x="514" y="13"/>
                </a:cubicBezTo>
                <a:cubicBezTo>
                  <a:pt x="507" y="20"/>
                  <a:pt x="492" y="62"/>
                  <a:pt x="473" y="62"/>
                </a:cubicBezTo>
                <a:cubicBezTo>
                  <a:pt x="0" y="62"/>
                  <a:pt x="0" y="62"/>
                  <a:pt x="0" y="62"/>
                </a:cubicBezTo>
              </a:path>
            </a:pathLst>
          </a:custGeom>
          <a:noFill/>
          <a:ln w="44280">
            <a:solidFill>
              <a:srgbClr val="faa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4" descr=""/>
          <p:cNvPicPr/>
          <p:nvPr/>
        </p:nvPicPr>
        <p:blipFill>
          <a:blip r:embed="rId2"/>
          <a:stretch/>
        </p:blipFill>
        <p:spPr>
          <a:xfrm>
            <a:off x="7236000" y="6226200"/>
            <a:ext cx="1223640" cy="3412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9"/>
          </p:nvPr>
        </p:nvSpPr>
        <p:spPr>
          <a:xfrm>
            <a:off x="341964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E9A8-E22C-4641-AA0B-82D7F409DB18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ous-titre 2"/>
          <p:cNvSpPr/>
          <p:nvPr/>
        </p:nvSpPr>
        <p:spPr>
          <a:xfrm>
            <a:off x="71280" y="5072040"/>
            <a:ext cx="9072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Première réunion du C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AREF RSZ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  <a:ea typeface="AL-Mohanad Bold"/>
              </a:rPr>
              <a:t>Rabat 7 juin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1827000" cy="10476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7051680" y="571680"/>
            <a:ext cx="1806480" cy="1046160"/>
          </a:xfrm>
          <a:prstGeom prst="rect">
            <a:avLst/>
          </a:prstGeom>
          <a:ln w="0">
            <a:noFill/>
          </a:ln>
        </p:spPr>
      </p:pic>
      <p:sp>
        <p:nvSpPr>
          <p:cNvPr id="599" name="Arrondir un rectangle avec un coin diagonal 6"/>
          <p:cNvSpPr/>
          <p:nvPr/>
        </p:nvSpPr>
        <p:spPr>
          <a:xfrm>
            <a:off x="844560" y="2571840"/>
            <a:ext cx="7513560" cy="1973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  <a:ea typeface="AL-Mohanad Bold"/>
              </a:rPr>
              <a:t>Projet d’Appui à la Gestion des Établissements Scolaires du Maroc (PAGES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539280" y="2060640"/>
            <a:ext cx="8280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000000"/>
              </a:solidFill>
              <a:latin typeface="Calibri"/>
              <a:ea typeface="AL-Mohana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atteindre son objectif ultime et les onze résultats immédiats, Le PAGESM comprend quatre (4) composantes « de base » et deux autres composantes transversa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haque composante est déclinée en termes d’extrants, d’activités et de sous-activit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202E-99B8-4D1E-B210-C6BEBE1D8655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Structure de mise en œuvre du PAGESM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MODÈLE LOGIQUE et STRUCTURE d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715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Modèle log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A12-F85D-4244-B843-988C9E602BF4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Diagramme 9" descr=""/>
          <p:cNvPicPr/>
          <p:nvPr/>
        </p:nvPicPr>
        <p:blipFill>
          <a:blip r:embed="rId1"/>
          <a:stretch/>
        </p:blipFill>
        <p:spPr>
          <a:xfrm>
            <a:off x="-55440" y="731880"/>
            <a:ext cx="921852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5261-2F1A-4B7E-A48C-FDBAD0E6B510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à coins arrondis 5"/>
          <p:cNvSpPr/>
          <p:nvPr/>
        </p:nvSpPr>
        <p:spPr>
          <a:xfrm>
            <a:off x="0" y="3789360"/>
            <a:ext cx="4356000" cy="306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RÉSULTAT IMMÉDIAT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: SÉLECTION ET ÉVALUATION DES DIRECTEURS D’ÉTABLISSEMENTS SCOL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Les gestionnaires en ressources humaines ont des capacités de gestion optimisées par des procédures et des outils modernes de sélection et d’évaluation des directeurs d’établissements scolaires. </a:t>
            </a: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009040" y="3939120"/>
            <a:ext cx="3985200" cy="2769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Composante 400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 </a:t>
            </a: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ÉGALITÉ FEMMES-HOMM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Les projets d’établissements scolair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sont renforcés au niveau de 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dimension de l’égalité femm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hommes, augmentant l’accès d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filles à l’école et celui des femmes au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postes de décision dans le systèm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scolaire. </a:t>
            </a:r>
            <a:r>
              <a:rPr b="1" lang="fr-FR" sz="1900" spc="-1" strike="noStrike">
                <a:solidFill>
                  <a:srgbClr val="002b70"/>
                </a:solidFill>
                <a:latin typeface="Calibri"/>
                <a:ea typeface="AL-Mohanad Bold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à coins arrondis 13"/>
          <p:cNvSpPr/>
          <p:nvPr/>
        </p:nvSpPr>
        <p:spPr>
          <a:xfrm>
            <a:off x="5003640" y="0"/>
            <a:ext cx="414036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Composante 200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RENFORCEMENT DES COMPÉTENCES DE GESTION DES DIRECTEURS D’ÉTABLISSEMENTS SCOL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Les capacités de gestion des directeurs d’établissements scolaires sont améliorées </a:t>
            </a:r>
            <a:r>
              <a:rPr b="0" lang="fr-FR" sz="1400" spc="-1" strike="noStrike">
                <a:solidFill>
                  <a:srgbClr val="002b7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à coins arrondis 14"/>
          <p:cNvSpPr/>
          <p:nvPr/>
        </p:nvSpPr>
        <p:spPr>
          <a:xfrm>
            <a:off x="0" y="0"/>
            <a:ext cx="435600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Composante 100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PROJET D’ÉTABLISSEMENT SCO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La gestion des écoles est améliorée par l’élaboration, l’adoption et la mise en application des projets d’établissement scolaire. </a:t>
            </a:r>
            <a:r>
              <a:rPr b="1" lang="fr-FR" sz="1800" spc="-1" strike="noStrike">
                <a:solidFill>
                  <a:srgbClr val="002b7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Ellipse 15"/>
          <p:cNvSpPr/>
          <p:nvPr/>
        </p:nvSpPr>
        <p:spPr>
          <a:xfrm>
            <a:off x="1042920" y="2565360"/>
            <a:ext cx="6553440" cy="15112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omposante 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ccompagnement rég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250560" y="1341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Activité 501.1: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ccompagner les régions dans l’implantation des PÉ et le renforcement des capacités des structures déconcentr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Activité 510.2: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ntribuer à la planification et au suivi-évaluation des activités d’accompagnement en rég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CA" sz="3600" spc="-1" strike="noStrike">
                <a:solidFill>
                  <a:srgbClr val="ffffff"/>
                </a:solidFill>
                <a:latin typeface="Calibri"/>
              </a:rPr>
              <a:t>Activités de la Composante 50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3801-80B4-4F7B-844C-F0F13DE15D0B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Diagramme 4" descr=""/>
          <p:cNvPicPr/>
          <p:nvPr/>
        </p:nvPicPr>
        <p:blipFill>
          <a:blip r:embed="rId1"/>
          <a:stretch/>
        </p:blipFill>
        <p:spPr>
          <a:xfrm>
            <a:off x="255600" y="1030320"/>
            <a:ext cx="8467560" cy="4705200"/>
          </a:xfrm>
          <a:prstGeom prst="rect">
            <a:avLst/>
          </a:prstGeom>
          <a:ln w="0">
            <a:noFill/>
          </a:ln>
        </p:spPr>
      </p:pic>
      <p:sp>
        <p:nvSpPr>
          <p:cNvPr id="642" name="Titre 1"/>
          <p:cNvSpPr/>
          <p:nvPr/>
        </p:nvSpPr>
        <p:spPr>
          <a:xfrm>
            <a:off x="395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Calibri"/>
              </a:rPr>
              <a:t>Déclinaison de l’accompagnement régional</a:t>
            </a:r>
            <a:r>
              <a:rPr b="1" lang="fr-FR" sz="3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tructures de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4978-FA87-44EF-AF6D-336724A13F25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Espace réservé du contenu 4" descr=""/>
          <p:cNvPicPr/>
          <p:nvPr/>
        </p:nvPicPr>
        <p:blipFill>
          <a:blip r:embed="rId1"/>
          <a:stretch/>
        </p:blipFill>
        <p:spPr>
          <a:xfrm>
            <a:off x="-6480" y="1047600"/>
            <a:ext cx="91569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upervisée par la directrice ou  le directeur de l’établiss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’équipe locale se compose 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présentants  du conseil de ges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 représentant du conseil pédagogi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rois représentants des conseils d’enseignement sélectionnés en fonction de la nature des activités du proje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363D-10CC-4EDB-A216-5F948462A6AB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179280" y="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</a:rPr>
              <a:t>Équipe loc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Présidé par le délégué provi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e compose d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eux représentants  du conseil provincial de coordinatio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es chefs des CPP( qui sont des DÉ)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eux représentants du corps enseignant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ne ou un responsable de l’EF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eux représentants de l’association des parents d’élè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ordinateur provincial du PAGE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ponsable de la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227C-F283-4D9E-B2B3-CCEF417CB55D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alibri"/>
              </a:rPr>
              <a:t>Le comité provincial de coordination (CP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 CRC: Comité régional de coord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« Le CRC sera composé des dix membres suivants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 directeur de l’AREF ou son représentant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un délégué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deux représentants de directions d’établissements scolaires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 conseiller technique canadien ou marocain affecté à la région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’homologue marocain responsable de chacune des composantes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’homologue marocain du conseiller technique affecté à la région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 ou la responsable de l’IÉS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Le CRC pourra également s’adjoindre toute personne dont l’expertise et la compétence pourraient se révéler utiles à la bonne marche du proj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901C-5549-4637-BF57-7979A7FA25A4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itre 1"/>
          <p:cNvSpPr/>
          <p:nvPr/>
        </p:nvSpPr>
        <p:spPr>
          <a:xfrm>
            <a:off x="395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Structures région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la partie marocaine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ecrétaire général du MEN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irecteur de la formation des cadres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irecteur de la coopé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irecteur des curricula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 Directeur des Ressources humaines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oordonnateur National marocain du PAGESM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irecteur du Budget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 Directeur de la Stratégie, des statistiques et de la  Planification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Directeur de promotion de la qualité du système éducat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représentant de l’Égalité Femmes/Hommes au MEN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atre (4) Directeurs d’Académies Régionales d’Éducation et de Formation – AREF – (rotatif)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AA21-8266-4E8D-83EF-EE3A083D59DE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0" y="18900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Comité National de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Définition du Proj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4B98-DD3C-4C84-9C58-83116CE75EF7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Diagramme 7" descr=""/>
          <p:cNvPicPr/>
          <p:nvPr/>
        </p:nvPicPr>
        <p:blipFill>
          <a:blip r:embed="rId1"/>
          <a:stretch/>
        </p:blipFill>
        <p:spPr>
          <a:xfrm>
            <a:off x="208080" y="1371600"/>
            <a:ext cx="88754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la partie canadienne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Directrice  du projet au Maroc – Agence Canadienne d’ Accompagnement – ACA -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hef de la Coopération de l’Agence Canadienne de Développement International – ACDI – Ambassade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gent de développement du projet à l’ACD-siège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gent de développement du projet à l’Ambassade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gent de suivi/conseiller du proj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E3E3-BBE3-4575-8670-30871CD3B7C7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0" y="1890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Comité National de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179280" y="692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omité de planification, budgétisation, BSG, suivi et é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sponsable AR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sponsable plan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sponsable budgét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sponsable ÉF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sponsable des P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T AR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06A0-99CA-4C3C-B6F7-6410CBC4A243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0" y="1890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Comités thématiques</a:t>
            </a:r>
            <a:r>
              <a:rPr b="1" lang="fr-FR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240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mposé du responsable des ressources humaines, les membres de l’équipe de la Composante 300 et 400 et les membres de l’équipe management gen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e comité sera chargé d’établir les modalités de l’analyse du système d’emplo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D4EE-388E-43B8-8AFB-E84FB669415A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Phases et ét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4A0C-F22C-4F3B-A602-B848AAEBFE49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Diagramme 7" descr=""/>
          <p:cNvPicPr/>
          <p:nvPr/>
        </p:nvPicPr>
        <p:blipFill>
          <a:blip r:embed="rId1"/>
          <a:stretch/>
        </p:blipFill>
        <p:spPr>
          <a:xfrm>
            <a:off x="66600" y="1292400"/>
            <a:ext cx="88822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Référ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98AA-483B-40B4-8CE2-4ECF36A01E36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à coins arrondis 4"/>
          <p:cNvSpPr/>
          <p:nvPr/>
        </p:nvSpPr>
        <p:spPr>
          <a:xfrm>
            <a:off x="250920" y="1197000"/>
            <a:ext cx="8713800" cy="482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2b70"/>
                </a:solidFill>
                <a:latin typeface="Calibri"/>
              </a:rPr>
              <a:t>Protocole de coopération bilatérale Canada - Maro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2b70"/>
                </a:solidFill>
                <a:latin typeface="Calibri"/>
              </a:rPr>
              <a:t> </a:t>
            </a:r>
            <a:r>
              <a:rPr b="1" lang="fr-CA" sz="2800" spc="-1" strike="noStrike">
                <a:solidFill>
                  <a:srgbClr val="002b70"/>
                </a:solidFill>
                <a:latin typeface="Calibri"/>
              </a:rPr>
              <a:t>27 Janvi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2b70"/>
                </a:solidFill>
                <a:latin typeface="Calibri"/>
              </a:rPr>
              <a:t>Programme du gouvernement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2b70"/>
                </a:solidFill>
                <a:latin typeface="Calibri"/>
              </a:rPr>
              <a:t> (Janvier 2012) relatif à l’éducation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2b7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2b70"/>
                </a:solidFill>
                <a:latin typeface="Calibri"/>
              </a:rPr>
              <a:t>Plan d’action  2012 du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2b70"/>
                </a:solidFill>
                <a:latin typeface="Calibri"/>
              </a:rPr>
              <a:t>La Stratégie Nationale du Projet d’Établis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b7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Contexte géné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7A39-DB58-41ED-B695-6F1B609AFD37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Diagramme 7" descr=""/>
          <p:cNvPicPr/>
          <p:nvPr/>
        </p:nvPicPr>
        <p:blipFill>
          <a:blip r:embed="rId1"/>
          <a:stretch/>
        </p:blipFill>
        <p:spPr>
          <a:xfrm>
            <a:off x="-66600" y="622440"/>
            <a:ext cx="92772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Contexte spécif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CC03-D2BB-4B3A-AB13-6F31C8B816AE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Diagramme 7" descr=""/>
          <p:cNvPicPr/>
          <p:nvPr/>
        </p:nvPicPr>
        <p:blipFill>
          <a:blip r:embed="rId1"/>
          <a:stretch/>
        </p:blipFill>
        <p:spPr>
          <a:xfrm>
            <a:off x="476280" y="1103400"/>
            <a:ext cx="8412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6360" y="-360"/>
            <a:ext cx="90741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Domaines de trav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3DFD-B1D9-4B5A-8315-5A2AE6A538A9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Diagramme 7" descr=""/>
          <p:cNvPicPr/>
          <p:nvPr/>
        </p:nvPicPr>
        <p:blipFill>
          <a:blip r:embed="rId1"/>
          <a:stretch/>
        </p:blipFill>
        <p:spPr>
          <a:xfrm>
            <a:off x="-122400" y="1378080"/>
            <a:ext cx="932688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Objectifs et résultats attend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481E-F59F-4663-874C-BA53FA25B1A5}" type="slidenum">
              <a:rPr b="1" lang="fr-FR" sz="20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Diagramme 7" descr=""/>
          <p:cNvPicPr/>
          <p:nvPr/>
        </p:nvPicPr>
        <p:blipFill>
          <a:blip r:embed="rId1"/>
          <a:stretch/>
        </p:blipFill>
        <p:spPr>
          <a:xfrm>
            <a:off x="-55440" y="1268280"/>
            <a:ext cx="90770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Espace réservé du numéro de diapositive 2"/>
          <p:cNvSpPr/>
          <p:nvPr/>
        </p:nvSpPr>
        <p:spPr>
          <a:xfrm>
            <a:off x="341964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F682-AFDD-43DE-928A-4ABEACC28257}" type="slidenum">
              <a:rPr b="1" lang="fr-FR" sz="16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79280" y="1052640"/>
            <a:ext cx="8785440" cy="20620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qualité de l'éducation est améliorée pour les filles et les garçons marocains inscrits dans l'enseignement de base, ce qui leur permettra de contribuer à l’économie du savoir.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95280" y="0"/>
            <a:ext cx="8424720" cy="692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RÉSULTAT ULTIM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8:08:39Z</dcterms:created>
  <dc:creator>lahbib.ammi</dc:creator>
  <dc:description/>
  <dc:language>en-US</dc:language>
  <cp:lastModifiedBy>Directeur</cp:lastModifiedBy>
  <dcterms:modified xsi:type="dcterms:W3CDTF">2013-01-12T09:37:33Z</dcterms:modified>
  <cp:revision>90</cp:revision>
  <dc:subject/>
  <dc:title>Lancement officiel du PAGESM</dc:title>
</cp:coreProperties>
</file>