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E2EE-D1AA-4BE3-AAC9-2068A80EF5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DD1F-3831-4ED4-A9EF-DEB96053D5E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7231-6636-43CB-975D-7931400A79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5AE8-6E26-413A-8C28-1E2C237691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03EE-D7B5-423E-BA73-ED24DB2A4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A9A4-C912-4560-BB04-F34976CC0FA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DEA7-6E2E-45A8-B90A-75BE2B2FEBC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C0E69-B7DD-42D6-9724-AA151806C6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A371-2739-43E3-8776-407494752D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9038-EBBA-48F3-9D3E-F3B7C987D2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B869-DFC2-4788-AC68-B3B991D1689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97A2-6DE3-4796-AEB3-750C66AD8DF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3664-1D40-40F1-B0D0-AEBD4F2935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F0D3-0059-464B-A886-60F8340BB8C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EC30-1502-4328-BAC5-5DFABBFBF98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AE0EF-AC1A-44B1-8F8A-07C4226A6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EC56-6D3B-4910-BEDC-CA5C2ED3B2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5F33E-9D59-4E2E-8C91-C039597CDCA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D2F2D-FB00-40D1-B95F-1A229C44259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DC603-8F16-4303-809A-EBE29094F1E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79F1C-B593-4055-88B0-31BB3C57FEB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53461-A5A6-4BAF-B937-FE1500A906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116A8-26C7-42B5-A1D3-2128C41CB8A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D9628-6078-470F-82D1-E7B721261D4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69B23-EB40-4ED4-95AD-D8768BEB53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496C4-44DB-4BF0-B1DA-7F40B616E21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55AD0-10F3-4904-83BD-A26F3C8D4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4DF9-A45B-466E-9C31-3A90F5B5D05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F3B915-3762-49AD-8F28-6B1D1918F0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82E6D-4EA5-44F4-B576-7441659A384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76C03-C99D-4670-A383-716EA0C69A0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5DA50-0B82-4401-9FAF-46FDD645A1B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27A32-F2F9-4A54-8A0D-7738ECF2CDA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D3430-C902-40E2-B01E-0BF43E31B56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BE768-1CAA-476C-97DF-4A2EBAB5FB2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B3D85-BBD7-4BAF-9D06-54667BCFD08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7A35E-FC84-4E68-8D93-A0AC256C112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FF312-451B-4542-96E5-E21CA174F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DDAB-F221-40CB-A254-C0BD87D7799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6748A-B1AB-4C08-ABD1-BD63FF7223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F6922-ACAF-4525-925B-AB44CBF963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F67E5-72BF-4600-90E5-2C51B837030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1A878-DB39-4917-A7CA-07D8A56D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ACF75-677E-4AF6-BE8E-E8D8668E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4D03F-C853-4C95-BFBA-1F4557E5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D7B23-88C0-45B3-BAE0-30FC432D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9A272-12D4-4A18-82E6-5DE12E3A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D5CCA-19F1-4B6E-AE52-1374E081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0AC34-66A4-437D-9D47-0035CE24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43BE-EEE9-49D7-8F9E-AA5EFF72E2D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31D0A-645D-4FC3-82A4-27F2D304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5FE4D-4630-4E97-B67A-DEC9506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39411-074D-4437-A352-E1F00F9D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A9937-ACB6-4393-9E52-B8D96CFA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49B15-81DE-4434-B3D8-7B72F7F7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BFF4E-6B49-4F23-9C21-D452F092477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37B00-EC78-4DCD-9019-584D64F744C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3D399-60F0-4197-B4E3-2DF74D51188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D15A2-FCA8-4A49-92FE-20E1D8904BF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07C29-CEB3-4B9C-A0BF-629EFB39BB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751A-2D89-41CD-BF27-02F015B4DC9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8B124-B651-43FF-B85E-E6E0AA6DDB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67576-49C1-477A-A4FD-50F839D9CD3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82695-84BC-4C91-ADEA-64A8B9075A3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D561-1C44-4852-BCA7-E249A04671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E3E4-C241-45B0-B89C-BB5A89A840F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6775-4D8B-469B-AACA-B9B51B28F30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6537-DB39-4875-B9BD-F1A9B0FC1C9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EA741-3AB8-4AF8-BB5F-2FCC07038E2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E21221-2E4E-49B3-8B3E-AC7F7AEB6C7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81C55-E915-4C67-9A45-44E30920AA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6C8D-D4B5-4C1A-949D-1B3A7D424B1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D19A7F-15FB-4A6D-8D6F-2BD3EF0DC15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C2FDD2-7C59-44BC-8FFD-723A6809257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A92E1E-B1B0-4DDA-8870-D5A05F63EBC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DBAC7E-7C5E-4DC7-9CA7-C2F9DE01123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F715F-387F-41D7-858B-8C81EA6A0D7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B02785-1A05-4FF0-A374-835DA0FBBD2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8C35C0-0117-4A05-BD5E-90EF24EBE19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4CD42-452C-460E-8574-B53DE1478FF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3A6025-76F4-4D57-B3C3-F434163F13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5908-118D-4F0F-BBD4-EA82125603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A86B-157E-41AA-AC80-A9FC1D9E17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B268-8897-443A-BB14-F58ADBC70C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564F-3336-48AC-B981-1864D198A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373A-CF5A-4E39-8287-F8DEEEE7D6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9821-082B-48EF-B39A-76EEAC86C9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FA5F-31A2-481E-9136-451151BAD6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50FC-608A-4061-8914-4FE4C2E82D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3B6D-E70B-48EA-A446-89818D5B9D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D72-7C7C-430F-A869-4DCBA9DA40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B1C-BF70-4D95-8203-06F8F1F290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0C8-CFE2-4BFE-A78F-5401A51A4A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1C7-2B42-4DFB-AC09-B8E59C92A4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3E9-D600-4487-B9E5-7BD78C5B1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C9A8-DCB8-412D-BA0B-037595C73B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E3C-9BBD-4833-B660-5208676DC0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A60-D528-4FCF-BAF0-A5050337D5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3FF-9F61-46E5-909E-6A70C145ED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730-EF97-424A-8F8C-30EA067A07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D35-A690-471F-8A2A-C58D09934E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4A6-0469-4B5C-814F-AF327A98DE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5BE-3742-4488-87C4-9151D7C6ED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8946F-DA7C-4E74-BF1F-D89C84FACD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EFB6F-7B96-4E77-8842-9ACBC6629E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899A0-0BF0-41C5-B790-9FD3731EF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7FCF-74FF-4897-9CEB-A1112FDB35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46274-5D70-4B95-A02B-8EDC5EF326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79848-8D67-4C14-9171-6BC4BADA35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36C50-FC93-4346-AC4C-6A86760EE9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7C558-68FC-4922-8CA0-733CA5DDAC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E53AC-068F-453D-95E1-712AC0D1D9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A739D-5AE7-4387-AF76-4DDE024C9F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AEBFA-DC72-4FA4-9720-3292E9A29E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848F8-87C5-4651-857E-0F35664A09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16889-4D7D-4AEA-8DE8-DF1CE874EC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F06DE-FCB3-455F-87D2-62AC0D54A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011F-B577-42F5-9BC1-ECBA33FE24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6094D-453F-46C7-B898-1434DE14776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7BE2E-3B2D-405D-BC0E-83F208D79C1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4F0DE-3082-40AE-AA63-3DC58DEC5E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E562E-137E-4473-9BB5-A8D43AAEF53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C53B5-B8C1-4F26-839C-71F3C081F2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CD787-D6B1-4D10-9677-54DFEB2355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AFA6C-D7E8-4727-843C-848B1F55C4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65D3F-BCD2-4203-B191-A80FD8579B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B87AC-5D46-4CCF-85BB-62D2F620259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768FB-1EDA-468C-BC66-C892EFE10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8887-47B9-4655-9754-8967E8AAAE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7E89A-A284-469F-8CD8-604DAFE071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19F1-712B-4504-B7C0-7FF2DA682F5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79E3-2DB0-4830-BF05-FC38780A89D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A7F7-54E4-47F4-ACAC-5B19D0DCFD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3A98-1A0D-4043-8B95-287C13351F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02E4-5338-4A90-9D64-5685D97EE25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C8D5-88EB-4879-8AD3-9DAE299AEB6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2F8-A3C0-44AB-8D1A-049154F03A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4A1C-3FDB-426C-A608-54DC89941FE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E445-0FD6-4176-98E2-6AF8413DA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F9C7-C298-4A2C-8448-4A1D25A659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9C95-5B5F-4058-B83E-D82B3089A86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2334-D9CE-4DDE-B760-96CAA774DE9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5242-61E6-4BC9-9E02-0FA3A4832B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6EC565-DE5F-42A7-9FFE-7145524456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0F0E5-0F40-47B0-81E9-910EC129E94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958E8-198B-45E6-82E6-A4EF10FC50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7A27E-7FDB-4B10-974F-54A968355FB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261A0-5224-4F43-B9F0-0710E95D97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B63F1-5A00-4A82-B804-0217CA6B8D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540CC0-BB19-4A00-B88E-40BC6A62C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1D81-77B0-4804-9CB8-EB08252B7AA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68548-027D-4D41-A057-B0C7EBF256B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F0A4B-979A-46BD-B333-1C8EC407FCD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E3F137-DE27-430F-91EC-E712B66FCC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B50E95-17AE-41AA-86B5-1DDD6AA4D08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D10605-22A3-4074-BC7B-CF54E45AE7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984FB-18D4-426F-B52A-0DC93F2D158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4C06D-28B1-4F68-8F19-319253F104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83F8C-C69D-45BF-8ADD-4D39A20A0C2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A0393-EA44-41F3-B453-E629702FE0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5E217-2035-4DB5-BB8D-60FF6CB88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C96E-CCD1-4F7F-B745-AF4C1E90C68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AAC14-2880-4BB9-927B-C9A7061E50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8B204-EF21-43BF-80EA-22FFC06142D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99700-E825-477D-9FE1-754AF122A9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C2B3C-6026-4C84-9175-E05947C830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FD99D-D858-4964-B1B7-04A3886EA7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ED0E3-96DF-488F-B05F-06715082B1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4A4F7-05BD-468A-B601-5217017668E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F03A-9731-4241-A2FB-0C6BEB431A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B948-546B-4167-AAB2-2C3FDFC370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C08E-8579-48DF-A11C-787F26BE4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FABA-46A5-4C85-B036-A148764525E9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0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4192-D9AC-42DF-B589-9381E69F7B50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1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1BF-F3E8-406D-8B2F-4E0A504733AF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1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14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DEB4-FE23-4027-B7ED-EE5663B708FE}" type="slidenum">
              <a:rPr b="1" lang="fr-CA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5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C8AB-5477-44FC-8914-307F4B71D98B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16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1E07-07B4-4DC1-A7D8-44F85EC812E4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"/>
          <p:cNvPicPr/>
          <p:nvPr/>
        </p:nvPicPr>
        <p:blipFill>
          <a:blip r:embed="rId3"/>
          <a:stretch/>
        </p:blipFill>
        <p:spPr>
          <a:xfrm>
            <a:off x="108000" y="260280"/>
            <a:ext cx="8964720" cy="21600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4"/>
          <a:stretch/>
        </p:blipFill>
        <p:spPr>
          <a:xfrm>
            <a:off x="3451320" y="404640"/>
            <a:ext cx="2278080" cy="1447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1CD3-B063-432B-A352-2C61BB8A0B66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723E-751F-4BAD-8B37-3AB070557D21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21EE-B613-4347-800D-C9F1C8F352AC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5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1388-93C1-44E3-8C80-8B57115843F1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330-E761-40AA-A4FA-02BD16802DD0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E624-A680-409A-8572-0D8C9FA7DA99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FC9F-3742-44E2-8FE0-51745C0C853D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0B6A-4237-4F6F-B63F-EFD261C795D4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ous-titre 2"/>
          <p:cNvSpPr/>
          <p:nvPr/>
        </p:nvSpPr>
        <p:spPr>
          <a:xfrm>
            <a:off x="71280" y="5072040"/>
            <a:ext cx="9072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Première réunion du C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AREF RSZ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  <a:ea typeface="AL-Mohanad Bold"/>
              </a:rPr>
              <a:t>Rabat 7 juin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1827000" cy="10476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7051680" y="571680"/>
            <a:ext cx="1806480" cy="1046160"/>
          </a:xfrm>
          <a:prstGeom prst="rect">
            <a:avLst/>
          </a:prstGeom>
          <a:ln w="0">
            <a:noFill/>
          </a:ln>
        </p:spPr>
      </p:pic>
      <p:sp>
        <p:nvSpPr>
          <p:cNvPr id="599" name="Arrondir un rectangle avec un coin diagonal 6"/>
          <p:cNvSpPr/>
          <p:nvPr/>
        </p:nvSpPr>
        <p:spPr>
          <a:xfrm>
            <a:off x="844560" y="2571840"/>
            <a:ext cx="7513560" cy="1973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  <a:ea typeface="AL-Mohanad Bold"/>
              </a:rPr>
              <a:t>Projet d’Appui à la Gestion des Établissements Scolaires du Maroc (PAGE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8280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000000"/>
              </a:solidFill>
              <a:latin typeface="Calibri"/>
              <a:ea typeface="AL-Mohana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atteindre son objectif ultime et les onze résultats immédiats, Le PAGESM comprend quatre (4) composantes « de base » et deux autres composantes transversa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haque composante est déclinée en termes d’extrants, d’activités et de sous-activit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D3E9-7D7D-4D71-B7DB-924C97394A95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Structure de mise en œuvre du PAGESM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MODÈLE LOGIQUE et STRUCTURE d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715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Modèle log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FFBF-4DEF-4CD2-8AD3-A71F9DC2C328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Diagramme 9" descr=""/>
          <p:cNvPicPr/>
          <p:nvPr/>
        </p:nvPicPr>
        <p:blipFill>
          <a:blip r:embed="rId1"/>
          <a:stretch/>
        </p:blipFill>
        <p:spPr>
          <a:xfrm>
            <a:off x="-55440" y="731880"/>
            <a:ext cx="92185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BDD2-8FD1-4D6C-ABDD-89F28EB14CCB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à coins arrondis 5"/>
          <p:cNvSpPr/>
          <p:nvPr/>
        </p:nvSpPr>
        <p:spPr>
          <a:xfrm>
            <a:off x="0" y="3789360"/>
            <a:ext cx="4356000" cy="306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RÉSULTAT IMMÉDIAT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: SÉLECTION ET ÉVALUATION DES DIRECTEURS D’ÉTABLISSEMENTS SCOL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Les gestionnaires en ressources humaines ont des capacités de gestion optimisées par des procédures et des outils modernes de sélection et d’évaluation des directeurs d’établissements scolaires. </a:t>
            </a: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009040" y="3939120"/>
            <a:ext cx="3985200" cy="2769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Composante 400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 </a:t>
            </a: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ÉGALITÉ FEMMES-HOMM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Les projets d’établissements scolair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sont renforcés au niveau de 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dimension de l’égalité femm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hommes, augmentant l’accès d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filles à l’école et celui des femmes au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postes de décision dans le systè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scolaire. </a:t>
            </a: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à coins arrondis 13"/>
          <p:cNvSpPr/>
          <p:nvPr/>
        </p:nvSpPr>
        <p:spPr>
          <a:xfrm>
            <a:off x="5003640" y="0"/>
            <a:ext cx="414036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Composante 200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RENFORCEMENT DES COMPÉTENCES DE GESTION DES DIRECTEURS D’ÉTABLISSEMENTS SCOL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Les capacités de gestion des directeurs d’établissements scolaires sont améliorées </a:t>
            </a:r>
            <a:r>
              <a:rPr b="0" lang="fr-FR" sz="1400" spc="-1" strike="noStrike">
                <a:solidFill>
                  <a:srgbClr val="002b7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à coins arrondis 14"/>
          <p:cNvSpPr/>
          <p:nvPr/>
        </p:nvSpPr>
        <p:spPr>
          <a:xfrm>
            <a:off x="0" y="0"/>
            <a:ext cx="435600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Composante 100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PROJET D’ÉTABLISSEMENT SCO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La gestion des écoles est améliorée par l’élaboration, l’adoption et la mise en application des projets d’établissement scolaire. </a:t>
            </a: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Ellipse 15"/>
          <p:cNvSpPr/>
          <p:nvPr/>
        </p:nvSpPr>
        <p:spPr>
          <a:xfrm>
            <a:off x="1042920" y="2565360"/>
            <a:ext cx="6553440" cy="15112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omposante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ccompagnement rég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250560" y="1341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Activité 501.1: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ccompagner les régions dans l’implantation des PÉ et le renforcement des capacités des structures déconcentr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Activité 510.2: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ntribuer à la planification et au suivi-évaluation des activités d’accompagnement en ré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CA" sz="3600" spc="-1" strike="noStrike">
                <a:solidFill>
                  <a:srgbClr val="ffffff"/>
                </a:solidFill>
                <a:latin typeface="Calibri"/>
              </a:rPr>
              <a:t>Activités de la Composante 50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A83-8859-4C56-852F-1D5999FEC666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Diagramme 4" descr=""/>
          <p:cNvPicPr/>
          <p:nvPr/>
        </p:nvPicPr>
        <p:blipFill>
          <a:blip r:embed="rId1"/>
          <a:stretch/>
        </p:blipFill>
        <p:spPr>
          <a:xfrm>
            <a:off x="255600" y="1030320"/>
            <a:ext cx="8467560" cy="4705200"/>
          </a:xfrm>
          <a:prstGeom prst="rect">
            <a:avLst/>
          </a:prstGeom>
          <a:ln w="0">
            <a:noFill/>
          </a:ln>
        </p:spPr>
      </p:pic>
      <p:sp>
        <p:nvSpPr>
          <p:cNvPr id="642" name="Titre 1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Calibri"/>
              </a:rPr>
              <a:t>Déclinaison de l’accompagnement régional</a:t>
            </a:r>
            <a:r>
              <a:rPr b="1" lang="fr-FR" sz="3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tructures de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730F-B831-48A4-A4E5-99C2319927BD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Espace réservé du contenu 4" descr=""/>
          <p:cNvPicPr/>
          <p:nvPr/>
        </p:nvPicPr>
        <p:blipFill>
          <a:blip r:embed="rId1"/>
          <a:stretch/>
        </p:blipFill>
        <p:spPr>
          <a:xfrm>
            <a:off x="-6480" y="1047600"/>
            <a:ext cx="91569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upervisée par la directrice ou  le directeur de l’établiss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’équipe locale se compose 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présentants  du conseil de ges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représentant du conseil pédagogi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rois représentants des conseils d’enseignement sélectionnés en fonction de la nature des activités du proje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0478-C8BF-451A-B831-8091663E664A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179280" y="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Équipe loc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Présidé par le délégué provi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e compose d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eux représentants  du conseil provincial de coordinatio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chefs des CPP( qui sont des DÉ)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eux représentants du corps enseignant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ou un responsable de l’EF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eux représentants de l’association des parents d’élè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ordinateur provincial du PAGE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ponsable de la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1DFB-4E8A-4842-ABE0-06ACDC54973E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alibri"/>
              </a:rPr>
              <a:t>Le comité provincial de coordination (C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 CRC: Comité régional de coord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« Le CRC sera composé des dix membres suivants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 directeur de l’AREF ou son représentant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un délégué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deux représentants de directions d’établissements scolaire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 conseiller technique canadien ou marocain affecté à la région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’homologue marocain responsable de chacune des composante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’homologue marocain du conseiller technique affecté à la région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 ou la responsable de l’IÉ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 CRC pourra également s’adjoindre toute personne dont l’expertise et la compétence pourraient se révéler utiles à la bonne marche du proj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989F-D526-4E54-B7B4-0C2129506ECD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itre 1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tructures région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la partie marocaine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ecrétaire général du MEN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e la formation des cadres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e la coopé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es curricula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 Directeur des Ressources humaines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oordonnateur National marocain du PAGESM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u Budget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 Directeur de la Stratégie, des statistiques et de la  Planification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e promotion de la qualité du système éducat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représentant de l’Égalité Femmes/Hommes au MEN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atre (4) Directeurs d’Académies Régionales d’Éducation et de Formation – AREF – (rotatif)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BDA2-D6A3-44B0-AAF7-236CA65ED4CE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0" y="18900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Comité National de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Définition du Proj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AF0-5686-4880-A90B-41EB2C076408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Diagramme 7" descr=""/>
          <p:cNvPicPr/>
          <p:nvPr/>
        </p:nvPicPr>
        <p:blipFill>
          <a:blip r:embed="rId1"/>
          <a:stretch/>
        </p:blipFill>
        <p:spPr>
          <a:xfrm>
            <a:off x="208080" y="1371600"/>
            <a:ext cx="88754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la partie canadienne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Directrice  du projet au Maroc – Agence Canadienne d’ Accompagnement – ACA -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hef de la Coopération de l’Agence Canadienne de Développement International – ACDI – Ambassade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gent de développement du projet à l’ACD-siège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gent de développement du projet à l’Ambassade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gent de suivi/conseiller du proj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E807-0514-411F-8F71-C603AA73222B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0" y="1890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Comité National de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omité de planification, budgétisation, BSG, suivi et é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AR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plan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budgét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ÉF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des P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T AR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1D4C-1E16-40FB-8902-90699070CBFA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1890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Comités thématiques</a:t>
            </a:r>
            <a:r>
              <a:rPr b="1" lang="fr-FR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240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mposé du responsable des ressources humaines, les membres de l’équipe de la Composante 300 et 400 et les membres de l’équipe management gen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e comité sera chargé d’établir les modalités de l’analyse du système d’emplo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5C79-F751-4B23-8C06-B6E9FA046772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hases et ét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2856-8F47-45F6-9B9F-D45E80C0609A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Diagramme 7" descr=""/>
          <p:cNvPicPr/>
          <p:nvPr/>
        </p:nvPicPr>
        <p:blipFill>
          <a:blip r:embed="rId1"/>
          <a:stretch/>
        </p:blipFill>
        <p:spPr>
          <a:xfrm>
            <a:off x="66600" y="1292400"/>
            <a:ext cx="88822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Référ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9108-5DB5-426D-898B-C0440A2269E2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à coins arrondis 4"/>
          <p:cNvSpPr/>
          <p:nvPr/>
        </p:nvSpPr>
        <p:spPr>
          <a:xfrm>
            <a:off x="250920" y="1197000"/>
            <a:ext cx="8713800" cy="482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2b70"/>
                </a:solidFill>
                <a:latin typeface="Calibri"/>
              </a:rPr>
              <a:t>Protocole de coopération bilatérale Canada - Maro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2b70"/>
                </a:solidFill>
                <a:latin typeface="Calibri"/>
              </a:rPr>
              <a:t> </a:t>
            </a:r>
            <a:r>
              <a:rPr b="1" lang="fr-CA" sz="2800" spc="-1" strike="noStrike">
                <a:solidFill>
                  <a:srgbClr val="002b70"/>
                </a:solidFill>
                <a:latin typeface="Calibri"/>
              </a:rPr>
              <a:t>27 Janvi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Programme du gouvernement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 (Janvier 2012) relatif à l’éducation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Plan d’action  2012 du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La Stratégie Nationale du Projet d’Établ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b7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ontexte géné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E4C2-73B9-441E-B7B7-82E1D4E109C6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Diagramme 7" descr=""/>
          <p:cNvPicPr/>
          <p:nvPr/>
        </p:nvPicPr>
        <p:blipFill>
          <a:blip r:embed="rId1"/>
          <a:stretch/>
        </p:blipFill>
        <p:spPr>
          <a:xfrm>
            <a:off x="-66600" y="622440"/>
            <a:ext cx="92772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ontexte spécif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AC37-A92F-4197-A33B-FEB9D75CDB85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Diagramme 7" descr=""/>
          <p:cNvPicPr/>
          <p:nvPr/>
        </p:nvPicPr>
        <p:blipFill>
          <a:blip r:embed="rId1"/>
          <a:stretch/>
        </p:blipFill>
        <p:spPr>
          <a:xfrm>
            <a:off x="476280" y="1103400"/>
            <a:ext cx="8412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360" y="-360"/>
            <a:ext cx="90741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Domaines de trav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B072-3A43-4B89-BAB9-8061A7963A6A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Diagramme 7" descr=""/>
          <p:cNvPicPr/>
          <p:nvPr/>
        </p:nvPicPr>
        <p:blipFill>
          <a:blip r:embed="rId1"/>
          <a:stretch/>
        </p:blipFill>
        <p:spPr>
          <a:xfrm>
            <a:off x="-122400" y="1378080"/>
            <a:ext cx="932688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Objectifs et résultats attend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D479-965D-41CF-8337-B57CE2433FA7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Diagramme 7" descr=""/>
          <p:cNvPicPr/>
          <p:nvPr/>
        </p:nvPicPr>
        <p:blipFill>
          <a:blip r:embed="rId1"/>
          <a:stretch/>
        </p:blipFill>
        <p:spPr>
          <a:xfrm>
            <a:off x="-55440" y="1268280"/>
            <a:ext cx="90770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E95-1A51-4EC8-8114-881B3C23DBF4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79280" y="1052640"/>
            <a:ext cx="8785440" cy="20620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qualité de l'éducation est améliorée pour les filles et les garçons marocains inscrits dans l'enseignement de base, ce qui leur permettra de contribuer à l’économie du savoir.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95280" y="0"/>
            <a:ext cx="8424720" cy="69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RÉSULTAT ULTIM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8:08:39Z</dcterms:created>
  <dc:creator>lahbib.ammi</dc:creator>
  <dc:description/>
  <dc:language>en-US</dc:language>
  <cp:lastModifiedBy>Directeur</cp:lastModifiedBy>
  <dcterms:modified xsi:type="dcterms:W3CDTF">2013-01-12T09:37:33Z</dcterms:modified>
  <cp:revision>90</cp:revision>
  <dc:subject/>
  <dc:title>Lancement officiel du PAGESM</dc:title>
</cp:coreProperties>
</file>