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18288000" cy="10274300"/>
  <p:notesSz cx="18288000" cy="10274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DF181-AAAA-4F61-A7B3-D83CA31B1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78000" y="426960"/>
            <a:ext cx="6797520" cy="17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78000" y="2458800"/>
            <a:ext cx="6797520" cy="336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78000" y="6145200"/>
            <a:ext cx="6797520" cy="336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1D7C5-ADE6-4211-A95B-19E6C4170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78000" y="426960"/>
            <a:ext cx="6797520" cy="17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78000" y="2458800"/>
            <a:ext cx="3317040" cy="336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1360" y="2458800"/>
            <a:ext cx="3317040" cy="336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78000" y="6145200"/>
            <a:ext cx="3317040" cy="336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861360" y="6145200"/>
            <a:ext cx="3317040" cy="336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7CBD2-DD95-4D72-9B38-609E16F4B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78000" y="426960"/>
            <a:ext cx="6797520" cy="17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78000" y="2458800"/>
            <a:ext cx="2188440" cy="336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76240" y="2458800"/>
            <a:ext cx="2188440" cy="336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974480" y="2458800"/>
            <a:ext cx="2188440" cy="336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78000" y="6145200"/>
            <a:ext cx="2188440" cy="336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76240" y="6145200"/>
            <a:ext cx="2188440" cy="336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974480" y="6145200"/>
            <a:ext cx="2188440" cy="336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6FDCB-B1A6-4AE6-94C2-F5B31468B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78000" y="426960"/>
            <a:ext cx="6797520" cy="17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378000" y="2458800"/>
            <a:ext cx="6797520" cy="70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78000" y="426960"/>
            <a:ext cx="6797520" cy="17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78000" y="2458800"/>
            <a:ext cx="6797520" cy="70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78000" y="426960"/>
            <a:ext cx="6797520" cy="17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78000" y="2458800"/>
            <a:ext cx="3317040" cy="70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861360" y="2458800"/>
            <a:ext cx="3317040" cy="70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78000" y="426960"/>
            <a:ext cx="6797520" cy="17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378000" y="426960"/>
            <a:ext cx="6797520" cy="793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78000" y="426960"/>
            <a:ext cx="6797520" cy="17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78000" y="2458800"/>
            <a:ext cx="3317040" cy="336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861360" y="2458800"/>
            <a:ext cx="3317040" cy="70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378000" y="6145200"/>
            <a:ext cx="3317040" cy="336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78000" y="426960"/>
            <a:ext cx="6797520" cy="17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78000" y="2458800"/>
            <a:ext cx="6797520" cy="70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C0C27-3A20-443B-B88B-DB8E4940A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78000" y="426960"/>
            <a:ext cx="6797520" cy="17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78000" y="2458800"/>
            <a:ext cx="3317040" cy="70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861360" y="2458800"/>
            <a:ext cx="3317040" cy="336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3861360" y="6145200"/>
            <a:ext cx="3317040" cy="336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78000" y="426960"/>
            <a:ext cx="6797520" cy="17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78000" y="2458800"/>
            <a:ext cx="3317040" cy="336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3861360" y="2458800"/>
            <a:ext cx="3317040" cy="336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78000" y="6145200"/>
            <a:ext cx="6797520" cy="336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78000" y="426960"/>
            <a:ext cx="6797520" cy="17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78000" y="2458800"/>
            <a:ext cx="6797520" cy="336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78000" y="6145200"/>
            <a:ext cx="6797520" cy="336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78000" y="426960"/>
            <a:ext cx="6797520" cy="17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78000" y="2458800"/>
            <a:ext cx="3317040" cy="336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61360" y="2458800"/>
            <a:ext cx="3317040" cy="336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78000" y="6145200"/>
            <a:ext cx="3317040" cy="336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3861360" y="6145200"/>
            <a:ext cx="3317040" cy="336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78000" y="426960"/>
            <a:ext cx="6797520" cy="17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78000" y="2458800"/>
            <a:ext cx="2188440" cy="336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2676240" y="2458800"/>
            <a:ext cx="2188440" cy="336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974480" y="2458800"/>
            <a:ext cx="2188440" cy="336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378000" y="6145200"/>
            <a:ext cx="2188440" cy="336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2676240" y="6145200"/>
            <a:ext cx="2188440" cy="336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4974480" y="6145200"/>
            <a:ext cx="2188440" cy="336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78000" y="426960"/>
            <a:ext cx="6797520" cy="17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78000" y="2458800"/>
            <a:ext cx="6797520" cy="70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3B467-FFB1-4F1E-A269-39163D6F9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78000" y="426960"/>
            <a:ext cx="6797520" cy="17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78000" y="2458800"/>
            <a:ext cx="3317040" cy="70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861360" y="2458800"/>
            <a:ext cx="3317040" cy="70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0E12F-5829-46CD-8340-4A0972DF1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78000" y="426960"/>
            <a:ext cx="6797520" cy="17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F475A-84D2-4F6F-84FA-B5C95088E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78000" y="426960"/>
            <a:ext cx="6797520" cy="793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FD7D0-13F4-4F2F-B596-B6A149BC0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78000" y="426960"/>
            <a:ext cx="6797520" cy="17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78000" y="2458800"/>
            <a:ext cx="3317040" cy="336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861360" y="2458800"/>
            <a:ext cx="3317040" cy="70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78000" y="6145200"/>
            <a:ext cx="3317040" cy="336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8F6D5-0C89-40E3-8FF1-6F0BBC882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78000" y="426960"/>
            <a:ext cx="6797520" cy="17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78000" y="2458800"/>
            <a:ext cx="3317040" cy="70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61360" y="2458800"/>
            <a:ext cx="3317040" cy="336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61360" y="6145200"/>
            <a:ext cx="3317040" cy="336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ECBA6-54B9-4A1E-894D-EDF2969AC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78000" y="426960"/>
            <a:ext cx="6797520" cy="17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78000" y="2458800"/>
            <a:ext cx="3317040" cy="336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61360" y="2458800"/>
            <a:ext cx="3317040" cy="336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78000" y="6145200"/>
            <a:ext cx="6797520" cy="336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EB008-A8B6-4B3C-82DC-87C060183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78000" y="426960"/>
            <a:ext cx="6797520" cy="17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78000" y="2458800"/>
            <a:ext cx="6797520" cy="70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2568600" y="9944280"/>
            <a:ext cx="2417760" cy="53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dt" idx="2"/>
          </p:nvPr>
        </p:nvSpPr>
        <p:spPr>
          <a:xfrm>
            <a:off x="378000" y="9944280"/>
            <a:ext cx="1736640" cy="53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1A86C-2209-497D-AB65-33F900A36126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438880" y="9944280"/>
            <a:ext cx="1736640" cy="53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4B37B-91FD-46DF-8715-D7D249C65DA9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78000" y="426960"/>
            <a:ext cx="6797520" cy="17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78000" y="2458800"/>
            <a:ext cx="6797520" cy="70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hyperlink" Target="https://toponlinegamecompany.bravesites.com/" TargetMode="External"/><Relationship Id="rId4" Type="http://schemas.openxmlformats.org/officeDocument/2006/relationships/hyperlink" Target="https://www.918won.com/my/en-us/" TargetMode="External"/><Relationship Id="rId5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s://www.pokergamesmy.com/" TargetMode="External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s://www.onlineslotssites.fun/" TargetMode="External"/><Relationship Id="rId3" Type="http://schemas.openxmlformats.org/officeDocument/2006/relationships/hyperlink" Target="https://www.onlinecasinohubmy.com/" TargetMode="External"/><Relationship Id="rId4" Type="http://schemas.openxmlformats.org/officeDocument/2006/relationships/hyperlink" Target="https://me88livet.com/" TargetMode="External"/><Relationship Id="rId5" Type="http://schemas.openxmlformats.org/officeDocument/2006/relationships/hyperlink" Target="https://www.mega888gamelist.com/my/en-us/" TargetMode="External"/><Relationship Id="rId6" Type="http://schemas.openxmlformats.org/officeDocument/2006/relationships/hyperlink" Target="https://abuzzfeeds.com/" TargetMode="External"/><Relationship Id="rId7" Type="http://schemas.openxmlformats.org/officeDocument/2006/relationships/hyperlink" Target="https://hfive5m.com/" TargetMode="External"/><Relationship Id="rId8" Type="http://schemas.openxmlformats.org/officeDocument/2006/relationships/hyperlink" Target="https://eubet9.com/" TargetMode="External"/><Relationship Id="rId9" Type="http://schemas.openxmlformats.org/officeDocument/2006/relationships/hyperlink" Target="https://bk8myyr.com/" TargetMode="External"/><Relationship Id="rId10" Type="http://schemas.openxmlformats.org/officeDocument/2006/relationships/hyperlink" Target="https://winbox88m.com/" TargetMode="External"/><Relationship Id="rId11" Type="http://schemas.openxmlformats.org/officeDocument/2006/relationships/hyperlink" Target="https://gdwon2u.com/" TargetMode="External"/><Relationship Id="rId12" Type="http://schemas.openxmlformats.org/officeDocument/2006/relationships/hyperlink" Target="https://play2u1.com/" TargetMode="External"/><Relationship Id="rId13" Type="http://schemas.openxmlformats.org/officeDocument/2006/relationships/hyperlink" Target="https://pingmyurls.in/" TargetMode="External"/><Relationship Id="rId14" Type="http://schemas.openxmlformats.org/officeDocument/2006/relationships/hyperlink" Target="https://www.seoarticlehub.com/" TargetMode="External"/><Relationship Id="rId15" Type="http://schemas.openxmlformats.org/officeDocument/2006/relationships/hyperlink" Target="https://www.prsubmissions.com/" TargetMode="External"/><Relationship Id="rId16" Type="http://schemas.openxmlformats.org/officeDocument/2006/relationships/hyperlink" Target="https://www.freezinearticle.com/" TargetMode="External"/><Relationship Id="rId17" Type="http://schemas.openxmlformats.org/officeDocument/2006/relationships/hyperlink" Target="https://www.articlesubmision.com/" TargetMode="External"/><Relationship Id="rId18" Type="http://schemas.openxmlformats.org/officeDocument/2006/relationships/hyperlink" Target="http://crazytimelivescore.click/" TargetMode="External"/><Relationship Id="rId19" Type="http://schemas.openxmlformats.org/officeDocument/2006/relationships/hyperlink" Target="https://bajilive99.com/" TargetMode="External"/><Relationship Id="rId20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s://topbacklinkseo.com/" TargetMode="External"/><Relationship Id="rId3" Type="http://schemas.openxmlformats.org/officeDocument/2006/relationships/hyperlink" Target="http://myforumy.link/" TargetMode="External"/><Relationship Id="rId4" Type="http://schemas.openxmlformats.org/officeDocument/2006/relationships/hyperlink" Target="http://victory6666.link/" TargetMode="External"/><Relationship Id="rId5" Type="http://schemas.openxmlformats.org/officeDocument/2006/relationships/hyperlink" Target="http://steamforged.click/" TargetMode="External"/><Relationship Id="rId6" Type="http://schemas.openxmlformats.org/officeDocument/2006/relationships/hyperlink" Target="https://eu9my.info/" TargetMode="External"/><Relationship Id="rId7" Type="http://schemas.openxmlformats.org/officeDocument/2006/relationships/hyperlink" Target="http://me88safes.xyz/" TargetMode="External"/><Relationship Id="rId8" Type="http://schemas.openxmlformats.org/officeDocument/2006/relationships/hyperlink" Target="http://maxim88malaysia.fun/" TargetMode="External"/><Relationship Id="rId9" Type="http://schemas.openxmlformats.org/officeDocument/2006/relationships/hyperlink" Target="http://seoforumy.website/" TargetMode="External"/><Relationship Id="rId10" Type="http://schemas.openxmlformats.org/officeDocument/2006/relationships/hyperlink" Target="http://business2community.click/" TargetMode="External"/><Relationship Id="rId11" Type="http://schemas.openxmlformats.org/officeDocument/2006/relationships/hyperlink" Target="https://crazytimebangladesh.click/" TargetMode="External"/><Relationship Id="rId12" Type="http://schemas.openxmlformats.org/officeDocument/2006/relationships/hyperlink" Target="https://jaya9.click/" TargetMode="External"/><Relationship Id="rId13" Type="http://schemas.openxmlformats.org/officeDocument/2006/relationships/hyperlink" Target="https://krikya.click/" TargetMode="External"/><Relationship Id="rId1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object 1"/>
          <p:cNvSpPr/>
          <p:nvPr/>
        </p:nvSpPr>
        <p:spPr>
          <a:xfrm>
            <a:off x="0" y="0"/>
            <a:ext cx="18288000" cy="102744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object 3"/>
          <p:cNvSpPr/>
          <p:nvPr/>
        </p:nvSpPr>
        <p:spPr>
          <a:xfrm>
            <a:off x="10604520" y="1301760"/>
            <a:ext cx="7361280" cy="80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14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700" spc="-1" strike="noStrike">
                <a:solidFill>
                  <a:srgbClr val="c42818"/>
                </a:solidFill>
                <a:latin typeface="UPTWAM+Shrikhand"/>
                <a:ea typeface="UPTWAM+Shrikhand"/>
              </a:rPr>
              <a:t>5</a:t>
            </a:r>
            <a:r>
              <a:rPr b="0" lang="ru-RU" sz="9700" spc="-1" strike="noStrike">
                <a:solidFill>
                  <a:srgbClr val="c42818"/>
                </a:solidFill>
                <a:latin typeface="Times New Roman"/>
                <a:ea typeface="Times New Roman"/>
              </a:rPr>
              <a:t> </a:t>
            </a:r>
            <a:r>
              <a:rPr b="0" lang="ru-RU" sz="9700" spc="-1" strike="noStrike">
                <a:solidFill>
                  <a:srgbClr val="c42818"/>
                </a:solidFill>
                <a:latin typeface="UPTWAM+Shrikhand"/>
                <a:ea typeface="UPTWAM+Shrikhand"/>
              </a:rPr>
              <a:t>0</a:t>
            </a:r>
            <a:r>
              <a:rPr b="0" lang="ru-RU" sz="9700" spc="-1" strike="noStrike">
                <a:solidFill>
                  <a:srgbClr val="c42818"/>
                </a:solidFill>
                <a:latin typeface="Times New Roman"/>
                <a:ea typeface="Times New Roman"/>
              </a:rPr>
              <a:t> </a:t>
            </a:r>
            <a:r>
              <a:rPr b="0" lang="ru-RU" sz="9700" spc="-1" strike="noStrike">
                <a:solidFill>
                  <a:srgbClr val="c42818"/>
                </a:solidFill>
                <a:latin typeface="UPTWAM+Shrikhand"/>
                <a:ea typeface="UPTWAM+Shrikhand"/>
              </a:rPr>
              <a:t>+</a:t>
            </a:r>
            <a:endParaRPr b="0" lang="en-US" sz="9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700" spc="-1" strike="noStrike">
                <a:solidFill>
                  <a:srgbClr val="c42818"/>
                </a:solidFill>
                <a:latin typeface="UPTWAM+Shrikhand"/>
                <a:ea typeface="UPTWAM+Shrikhand"/>
              </a:rPr>
              <a:t>B</a:t>
            </a:r>
            <a:r>
              <a:rPr b="0" lang="ru-RU" sz="9700" spc="-1" strike="noStrike">
                <a:solidFill>
                  <a:srgbClr val="c42818"/>
                </a:solidFill>
                <a:latin typeface="Times New Roman"/>
                <a:ea typeface="Times New Roman"/>
              </a:rPr>
              <a:t> </a:t>
            </a:r>
            <a:r>
              <a:rPr b="0" lang="ru-RU" sz="9700" spc="-1" strike="noStrike">
                <a:solidFill>
                  <a:srgbClr val="c42818"/>
                </a:solidFill>
                <a:latin typeface="UPTWAM+Shrikhand"/>
                <a:ea typeface="UPTWAM+Shrikhand"/>
              </a:rPr>
              <a:t>E</a:t>
            </a:r>
            <a:r>
              <a:rPr b="0" lang="ru-RU" sz="9700" spc="-1" strike="noStrike">
                <a:solidFill>
                  <a:srgbClr val="c42818"/>
                </a:solidFill>
                <a:latin typeface="Times New Roman"/>
                <a:ea typeface="Times New Roman"/>
              </a:rPr>
              <a:t> </a:t>
            </a:r>
            <a:r>
              <a:rPr b="0" lang="ru-RU" sz="9700" spc="-1" strike="noStrike">
                <a:solidFill>
                  <a:srgbClr val="c42818"/>
                </a:solidFill>
                <a:latin typeface="UPTWAM+Shrikhand"/>
                <a:ea typeface="UPTWAM+Shrikhand"/>
              </a:rPr>
              <a:t>S</a:t>
            </a:r>
            <a:r>
              <a:rPr b="0" lang="ru-RU" sz="9700" spc="-1" strike="noStrike">
                <a:solidFill>
                  <a:srgbClr val="c42818"/>
                </a:solidFill>
                <a:latin typeface="Times New Roman"/>
                <a:ea typeface="Times New Roman"/>
              </a:rPr>
              <a:t> </a:t>
            </a:r>
            <a:r>
              <a:rPr b="0" lang="ru-RU" sz="9700" spc="-1" strike="noStrike">
                <a:solidFill>
                  <a:srgbClr val="c42818"/>
                </a:solidFill>
                <a:latin typeface="UPTWAM+Shrikhand"/>
                <a:ea typeface="UPTWAM+Shrikhand"/>
              </a:rPr>
              <a:t>T</a:t>
            </a:r>
            <a:endParaRPr b="0" lang="en-US" sz="9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700" spc="-1" strike="noStrike">
                <a:solidFill>
                  <a:srgbClr val="c42818"/>
                </a:solidFill>
                <a:latin typeface="UPTWAM+Shrikhand"/>
                <a:ea typeface="UPTWAM+Shrikhand"/>
              </a:rPr>
              <a:t>G</a:t>
            </a:r>
            <a:r>
              <a:rPr b="0" lang="ru-RU" sz="9700" spc="-1" strike="noStrike">
                <a:solidFill>
                  <a:srgbClr val="c42818"/>
                </a:solidFill>
                <a:latin typeface="Times New Roman"/>
                <a:ea typeface="Times New Roman"/>
              </a:rPr>
              <a:t> </a:t>
            </a:r>
            <a:r>
              <a:rPr b="0" lang="ru-RU" sz="9700" spc="-1" strike="noStrike">
                <a:solidFill>
                  <a:srgbClr val="c42818"/>
                </a:solidFill>
                <a:latin typeface="UPTWAM+Shrikhand"/>
                <a:ea typeface="UPTWAM+Shrikhand"/>
              </a:rPr>
              <a:t>U</a:t>
            </a:r>
            <a:r>
              <a:rPr b="0" lang="ru-RU" sz="9700" spc="-1" strike="noStrike">
                <a:solidFill>
                  <a:srgbClr val="c42818"/>
                </a:solidFill>
                <a:latin typeface="Times New Roman"/>
                <a:ea typeface="Times New Roman"/>
              </a:rPr>
              <a:t> </a:t>
            </a:r>
            <a:r>
              <a:rPr b="0" lang="ru-RU" sz="9700" spc="-1" strike="noStrike">
                <a:solidFill>
                  <a:srgbClr val="c42818"/>
                </a:solidFill>
                <a:latin typeface="UPTWAM+Shrikhand"/>
                <a:ea typeface="UPTWAM+Shrikhand"/>
              </a:rPr>
              <a:t>E</a:t>
            </a:r>
            <a:r>
              <a:rPr b="0" lang="ru-RU" sz="9700" spc="-1" strike="noStrike">
                <a:solidFill>
                  <a:srgbClr val="c42818"/>
                </a:solidFill>
                <a:latin typeface="Times New Roman"/>
                <a:ea typeface="Times New Roman"/>
              </a:rPr>
              <a:t> </a:t>
            </a:r>
            <a:r>
              <a:rPr b="0" lang="ru-RU" sz="9700" spc="-1" strike="noStrike">
                <a:solidFill>
                  <a:srgbClr val="c42818"/>
                </a:solidFill>
                <a:latin typeface="UPTWAM+Shrikhand"/>
                <a:ea typeface="UPTWAM+Shrikhand"/>
              </a:rPr>
              <a:t>S</a:t>
            </a:r>
            <a:r>
              <a:rPr b="0" lang="ru-RU" sz="9700" spc="-1" strike="noStrike">
                <a:solidFill>
                  <a:srgbClr val="c42818"/>
                </a:solidFill>
                <a:latin typeface="Times New Roman"/>
                <a:ea typeface="Times New Roman"/>
              </a:rPr>
              <a:t> </a:t>
            </a:r>
            <a:r>
              <a:rPr b="0" lang="ru-RU" sz="9700" spc="-1" strike="noStrike">
                <a:solidFill>
                  <a:srgbClr val="c42818"/>
                </a:solidFill>
                <a:latin typeface="UPTWAM+Shrikhand"/>
                <a:ea typeface="UPTWAM+Shrikhand"/>
              </a:rPr>
              <a:t>T</a:t>
            </a:r>
            <a:endParaRPr b="0" lang="en-US" sz="9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700" spc="-1" strike="noStrike">
                <a:solidFill>
                  <a:srgbClr val="c42818"/>
                </a:solidFill>
                <a:latin typeface="UPTWAM+Shrikhand"/>
                <a:ea typeface="UPTWAM+Shrikhand"/>
              </a:rPr>
              <a:t>P</a:t>
            </a:r>
            <a:r>
              <a:rPr b="0" lang="ru-RU" sz="9700" spc="-1" strike="noStrike">
                <a:solidFill>
                  <a:srgbClr val="c42818"/>
                </a:solidFill>
                <a:latin typeface="Times New Roman"/>
                <a:ea typeface="Times New Roman"/>
              </a:rPr>
              <a:t> </a:t>
            </a:r>
            <a:r>
              <a:rPr b="0" lang="ru-RU" sz="9700" spc="-1" strike="noStrike">
                <a:solidFill>
                  <a:srgbClr val="c42818"/>
                </a:solidFill>
                <a:latin typeface="UPTWAM+Shrikhand"/>
                <a:ea typeface="UPTWAM+Shrikhand"/>
              </a:rPr>
              <a:t>O</a:t>
            </a:r>
            <a:r>
              <a:rPr b="0" lang="ru-RU" sz="9700" spc="-1" strike="noStrike">
                <a:solidFill>
                  <a:srgbClr val="c42818"/>
                </a:solidFill>
                <a:latin typeface="Times New Roman"/>
                <a:ea typeface="Times New Roman"/>
              </a:rPr>
              <a:t> </a:t>
            </a:r>
            <a:r>
              <a:rPr b="0" lang="ru-RU" sz="9700" spc="-1" strike="noStrike">
                <a:solidFill>
                  <a:srgbClr val="c42818"/>
                </a:solidFill>
                <a:latin typeface="UPTWAM+Shrikhand"/>
                <a:ea typeface="UPTWAM+Shrikhand"/>
              </a:rPr>
              <a:t>S</a:t>
            </a:r>
            <a:r>
              <a:rPr b="0" lang="ru-RU" sz="9700" spc="-1" strike="noStrike">
                <a:solidFill>
                  <a:srgbClr val="c42818"/>
                </a:solidFill>
                <a:latin typeface="Times New Roman"/>
                <a:ea typeface="Times New Roman"/>
              </a:rPr>
              <a:t> </a:t>
            </a:r>
            <a:r>
              <a:rPr b="0" lang="ru-RU" sz="9700" spc="-1" strike="noStrike">
                <a:solidFill>
                  <a:srgbClr val="c42818"/>
                </a:solidFill>
                <a:latin typeface="UPTWAM+Shrikhand"/>
                <a:ea typeface="UPTWAM+Shrikhand"/>
              </a:rPr>
              <a:t>T</a:t>
            </a:r>
            <a:r>
              <a:rPr b="0" lang="ru-RU" sz="9700" spc="-1" strike="noStrike">
                <a:solidFill>
                  <a:srgbClr val="c42818"/>
                </a:solidFill>
                <a:latin typeface="Times New Roman"/>
                <a:ea typeface="Times New Roman"/>
              </a:rPr>
              <a:t> </a:t>
            </a:r>
            <a:r>
              <a:rPr b="0" lang="ru-RU" sz="9700" spc="-1" strike="noStrike">
                <a:solidFill>
                  <a:srgbClr val="c42818"/>
                </a:solidFill>
                <a:latin typeface="UPTWAM+Shrikhand"/>
                <a:ea typeface="UPTWAM+Shrikhand"/>
              </a:rPr>
              <a:t>I</a:t>
            </a:r>
            <a:r>
              <a:rPr b="0" lang="ru-RU" sz="9700" spc="-1" strike="noStrike">
                <a:solidFill>
                  <a:srgbClr val="c42818"/>
                </a:solidFill>
                <a:latin typeface="Times New Roman"/>
                <a:ea typeface="Times New Roman"/>
              </a:rPr>
              <a:t> </a:t>
            </a:r>
            <a:r>
              <a:rPr b="0" lang="ru-RU" sz="9700" spc="-1" strike="noStrike">
                <a:solidFill>
                  <a:srgbClr val="c42818"/>
                </a:solidFill>
                <a:latin typeface="UPTWAM+Shrikhand"/>
                <a:ea typeface="UPTWAM+Shrikhand"/>
              </a:rPr>
              <a:t>N</a:t>
            </a:r>
            <a:r>
              <a:rPr b="0" lang="ru-RU" sz="9700" spc="-1" strike="noStrike">
                <a:solidFill>
                  <a:srgbClr val="c42818"/>
                </a:solidFill>
                <a:latin typeface="Times New Roman"/>
                <a:ea typeface="Times New Roman"/>
              </a:rPr>
              <a:t> </a:t>
            </a:r>
            <a:r>
              <a:rPr b="0" lang="ru-RU" sz="9700" spc="-1" strike="noStrike">
                <a:solidFill>
                  <a:srgbClr val="c42818"/>
                </a:solidFill>
                <a:latin typeface="UPTWAM+Shrikhand"/>
                <a:ea typeface="UPTWAM+Shrikhand"/>
              </a:rPr>
              <a:t>G</a:t>
            </a:r>
            <a:endParaRPr b="0" lang="en-US" sz="9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700" spc="-1" strike="noStrike">
                <a:solidFill>
                  <a:srgbClr val="c42818"/>
                </a:solidFill>
                <a:latin typeface="UPTWAM+Shrikhand"/>
                <a:ea typeface="UPTWAM+Shrikhand"/>
              </a:rPr>
              <a:t>S</a:t>
            </a:r>
            <a:r>
              <a:rPr b="0" lang="ru-RU" sz="9700" spc="-1" strike="noStrike">
                <a:solidFill>
                  <a:srgbClr val="c42818"/>
                </a:solidFill>
                <a:latin typeface="Times New Roman"/>
                <a:ea typeface="Times New Roman"/>
              </a:rPr>
              <a:t> </a:t>
            </a:r>
            <a:r>
              <a:rPr b="0" lang="ru-RU" sz="9700" spc="-1" strike="noStrike">
                <a:solidFill>
                  <a:srgbClr val="c42818"/>
                </a:solidFill>
                <a:latin typeface="UPTWAM+Shrikhand"/>
                <a:ea typeface="UPTWAM+Shrikhand"/>
              </a:rPr>
              <a:t>I</a:t>
            </a:r>
            <a:r>
              <a:rPr b="0" lang="ru-RU" sz="9700" spc="-1" strike="noStrike">
                <a:solidFill>
                  <a:srgbClr val="c42818"/>
                </a:solidFill>
                <a:latin typeface="Times New Roman"/>
                <a:ea typeface="Times New Roman"/>
              </a:rPr>
              <a:t> </a:t>
            </a:r>
            <a:r>
              <a:rPr b="0" lang="ru-RU" sz="9700" spc="-1" strike="noStrike">
                <a:solidFill>
                  <a:srgbClr val="c42818"/>
                </a:solidFill>
                <a:latin typeface="UPTWAM+Shrikhand"/>
                <a:ea typeface="UPTWAM+Shrikhand"/>
              </a:rPr>
              <a:t>T</a:t>
            </a:r>
            <a:r>
              <a:rPr b="0" lang="ru-RU" sz="9700" spc="-1" strike="noStrike">
                <a:solidFill>
                  <a:srgbClr val="c42818"/>
                </a:solidFill>
                <a:latin typeface="Times New Roman"/>
                <a:ea typeface="Times New Roman"/>
              </a:rPr>
              <a:t> </a:t>
            </a:r>
            <a:r>
              <a:rPr b="0" lang="ru-RU" sz="9700" spc="-1" strike="noStrike">
                <a:solidFill>
                  <a:srgbClr val="c42818"/>
                </a:solidFill>
                <a:latin typeface="UPTWAM+Shrikhand"/>
                <a:ea typeface="UPTWAM+Shrikhand"/>
              </a:rPr>
              <a:t>E</a:t>
            </a:r>
            <a:endParaRPr b="0" lang="en-US" sz="9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9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700" spc="-1" strike="noStrike">
                <a:solidFill>
                  <a:srgbClr val="c42818"/>
                </a:solidFill>
                <a:latin typeface="UPTWAM+Shrikhand"/>
                <a:ea typeface="UPTWAM+Shrikhand"/>
              </a:rPr>
              <a:t>2</a:t>
            </a:r>
            <a:r>
              <a:rPr b="0" lang="ru-RU" sz="9700" spc="-1" strike="noStrike">
                <a:solidFill>
                  <a:srgbClr val="c42818"/>
                </a:solidFill>
                <a:latin typeface="Times New Roman"/>
                <a:ea typeface="Times New Roman"/>
              </a:rPr>
              <a:t> </a:t>
            </a:r>
            <a:r>
              <a:rPr b="0" lang="ru-RU" sz="9700" spc="-1" strike="noStrike">
                <a:solidFill>
                  <a:srgbClr val="c42818"/>
                </a:solidFill>
                <a:latin typeface="UPTWAM+Shrikhand"/>
                <a:ea typeface="UPTWAM+Shrikhand"/>
              </a:rPr>
              <a:t>0</a:t>
            </a:r>
            <a:r>
              <a:rPr b="0" lang="ru-RU" sz="9700" spc="-1" strike="noStrike">
                <a:solidFill>
                  <a:srgbClr val="c42818"/>
                </a:solidFill>
                <a:latin typeface="Times New Roman"/>
                <a:ea typeface="Times New Roman"/>
              </a:rPr>
              <a:t> </a:t>
            </a:r>
            <a:r>
              <a:rPr b="0" lang="ru-RU" sz="9700" spc="-1" strike="noStrike">
                <a:solidFill>
                  <a:srgbClr val="c42818"/>
                </a:solidFill>
                <a:latin typeface="UPTWAM+Shrikhand"/>
                <a:ea typeface="UPTWAM+Shrikhand"/>
              </a:rPr>
              <a:t>2</a:t>
            </a:r>
            <a:r>
              <a:rPr b="0" lang="ru-RU" sz="9700" spc="-1" strike="noStrike">
                <a:solidFill>
                  <a:srgbClr val="c42818"/>
                </a:solidFill>
                <a:latin typeface="Times New Roman"/>
                <a:ea typeface="Times New Roman"/>
              </a:rPr>
              <a:t> </a:t>
            </a:r>
            <a:r>
              <a:rPr b="0" lang="ru-RU" sz="9700" spc="-1" strike="noStrike">
                <a:solidFill>
                  <a:srgbClr val="c42818"/>
                </a:solidFill>
                <a:latin typeface="UPTWAM+Shrikhand"/>
                <a:ea typeface="UPTWAM+Shrikhand"/>
              </a:rPr>
              <a:t>3</a:t>
            </a:r>
            <a:endParaRPr b="0" lang="en-US" sz="9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object 1"/>
          <p:cNvSpPr/>
          <p:nvPr/>
        </p:nvSpPr>
        <p:spPr>
          <a:xfrm>
            <a:off x="0" y="0"/>
            <a:ext cx="18288000" cy="102744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ject 3"/>
          <p:cNvSpPr/>
          <p:nvPr/>
        </p:nvSpPr>
        <p:spPr>
          <a:xfrm>
            <a:off x="9764640" y="392040"/>
            <a:ext cx="539424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506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413835"/>
                </a:solidFill>
                <a:latin typeface="CVKCMF+KENAO"/>
                <a:ea typeface="CVKCMF+KENAO"/>
              </a:rPr>
              <a:t>ABOUT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5063"/>
              </a:lnSpc>
              <a:spcBef>
                <a:spcPts val="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413835"/>
                </a:solidFill>
                <a:latin typeface="CVKCMF+KENAO"/>
                <a:ea typeface="CVKCMF+KENAO"/>
              </a:rPr>
              <a:t>GUEST POSTING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object 4" descr=""/>
          <p:cNvPicPr/>
          <p:nvPr/>
        </p:nvPicPr>
        <p:blipFill>
          <a:blip r:embed="rId2"/>
          <a:stretch/>
        </p:blipFill>
        <p:spPr>
          <a:xfrm>
            <a:off x="9497880" y="1895400"/>
            <a:ext cx="7174080" cy="4071960"/>
          </a:xfrm>
          <a:prstGeom prst="rect">
            <a:avLst/>
          </a:prstGeom>
          <a:ln w="0">
            <a:noFill/>
          </a:ln>
        </p:spPr>
      </p:pic>
      <p:sp>
        <p:nvSpPr>
          <p:cNvPr id="84" name="object 5"/>
          <p:cNvSpPr/>
          <p:nvPr/>
        </p:nvSpPr>
        <p:spPr>
          <a:xfrm>
            <a:off x="9764640" y="5991120"/>
            <a:ext cx="6623280" cy="26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472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DSGRVA+Montserrat Regular"/>
                <a:ea typeface="DSGRVA+Montserrat Regular"/>
              </a:rPr>
              <a:t>current digital environment,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4723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DSGRVA+Montserrat Regular"/>
                <a:ea typeface="DSGRVA+Montserrat Regular"/>
              </a:rPr>
              <a:t>and </a:t>
            </a:r>
            <a:r>
              <a:rPr b="0" lang="ru-RU" sz="3400" spc="-1" strike="noStrike" u="sng">
                <a:solidFill>
                  <a:srgbClr val="0000ff"/>
                </a:solidFill>
                <a:uFillTx/>
                <a:latin typeface="DSGRVA+Montserrat Regular"/>
                <a:ea typeface="DSGRVA+Montserrat Regular"/>
                <a:hlinkClick r:id="rId3"/>
              </a:rPr>
              <a:t>guest posting </a:t>
            </a:r>
            <a:r>
              <a:rPr b="0" lang="ru-RU" sz="3400" spc="-1" strike="noStrike">
                <a:solidFill>
                  <a:srgbClr val="000000"/>
                </a:solidFill>
                <a:latin typeface="DSGRVA+Montserrat Regular"/>
                <a:ea typeface="DSGRVA+Montserrat Regular"/>
              </a:rPr>
              <a:t>presents a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4723"/>
              </a:lnSpc>
              <a:spcBef>
                <a:spcPts val="5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DSGRVA+Montserrat Regular"/>
                <a:ea typeface="DSGRVA+Montserrat Regular"/>
              </a:rPr>
              <a:t>great chance to improve your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4723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DSGRVA+Montserrat Regular"/>
                <a:ea typeface="DSGRVA+Montserrat Regular"/>
              </a:rPr>
              <a:t>online presence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object 6"/>
          <p:cNvSpPr/>
          <p:nvPr/>
        </p:nvSpPr>
        <p:spPr>
          <a:xfrm>
            <a:off x="3821040" y="7634160"/>
            <a:ext cx="2427480" cy="5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00ff"/>
                </a:solidFill>
                <a:uFillTx/>
                <a:latin typeface="CVKCMF+KENAO"/>
                <a:ea typeface="CVKCMF+KENAO"/>
                <a:hlinkClick r:id="rId4"/>
              </a:rPr>
              <a:t>918W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object 1"/>
          <p:cNvSpPr/>
          <p:nvPr/>
        </p:nvSpPr>
        <p:spPr>
          <a:xfrm>
            <a:off x="0" y="0"/>
            <a:ext cx="18288000" cy="102744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object 3"/>
          <p:cNvSpPr/>
          <p:nvPr/>
        </p:nvSpPr>
        <p:spPr>
          <a:xfrm>
            <a:off x="879480" y="590400"/>
            <a:ext cx="885024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88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900" spc="-1" strike="noStrike">
                <a:solidFill>
                  <a:srgbClr val="6a0f0f"/>
                </a:solidFill>
                <a:latin typeface="OJDEAS+Lovelo Black"/>
                <a:ea typeface="OJDEAS+Lovelo Black"/>
              </a:rPr>
              <a:t>WHY GUEST POSTING?</a:t>
            </a:r>
            <a:endParaRPr b="0" lang="en-US" sz="6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object 4"/>
          <p:cNvSpPr/>
          <p:nvPr/>
        </p:nvSpPr>
        <p:spPr>
          <a:xfrm>
            <a:off x="1352520" y="2709720"/>
            <a:ext cx="5548320" cy="22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26880">
              <a:lnSpc>
                <a:spcPts val="3461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IRDMWU+Canva Sans Regular"/>
                <a:ea typeface="IRDMWU+Canva Sans Regular"/>
              </a:rPr>
              <a:t>You might wonder, "Why gues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26880">
              <a:lnSpc>
                <a:spcPts val="3461"/>
              </a:lnSpc>
              <a:spcBef>
                <a:spcPts val="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IRDMWU+Canva Sans Regular"/>
                <a:ea typeface="IRDMWU+Canva Sans Regular"/>
              </a:rPr>
              <a:t>posting?" It's really quite easy. You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26880">
              <a:lnSpc>
                <a:spcPts val="3461"/>
              </a:lnSpc>
              <a:spcBef>
                <a:spcPts val="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IRDMWU+Canva Sans Regular"/>
                <a:ea typeface="IRDMWU+Canva Sans Regular"/>
              </a:rPr>
              <a:t>can contribute valuable material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26880">
              <a:lnSpc>
                <a:spcPts val="3461"/>
              </a:lnSpc>
              <a:spcBef>
                <a:spcPts val="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IRDMWU+Canva Sans Regular"/>
                <a:ea typeface="IRDMWU+Canva Sans Regular"/>
              </a:rPr>
              <a:t>to renowned websites in your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26880">
              <a:lnSpc>
                <a:spcPts val="3461"/>
              </a:lnSpc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IRDMWU+Canva Sans Regular"/>
                <a:ea typeface="IRDMWU+Canva Sans Regular"/>
              </a:rPr>
              <a:t>niche by guest posting 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ject 5"/>
          <p:cNvSpPr/>
          <p:nvPr/>
        </p:nvSpPr>
        <p:spPr>
          <a:xfrm>
            <a:off x="1528920" y="4948200"/>
            <a:ext cx="5195880" cy="44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76120">
              <a:lnSpc>
                <a:spcPts val="3461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 u="sng">
                <a:solidFill>
                  <a:srgbClr val="0000ff"/>
                </a:solidFill>
                <a:uFillTx/>
                <a:latin typeface="IRDMWU+Canva Sans Regular"/>
                <a:ea typeface="IRDMWU+Canva Sans Regular"/>
                <a:hlinkClick r:id="rId2"/>
              </a:rPr>
              <a:t>pokergamesmy</a:t>
            </a:r>
            <a:r>
              <a:rPr b="0" lang="ru-RU" sz="2500" spc="-1" strike="noStrike">
                <a:solidFill>
                  <a:srgbClr val="ffffff"/>
                </a:solidFill>
                <a:latin typeface="IRDMWU+Canva Sans Regular"/>
                <a:ea typeface="IRDMWU+Canva Sans Regular"/>
              </a:rPr>
              <a:t>. You not only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276120">
              <a:lnSpc>
                <a:spcPts val="3461"/>
              </a:lnSpc>
              <a:spcBef>
                <a:spcPts val="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IRDMWU+Canva Sans Regular"/>
                <a:ea typeface="IRDMWU+Canva Sans Regular"/>
              </a:rPr>
              <a:t>benefit their audience by doing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276120">
              <a:lnSpc>
                <a:spcPts val="3461"/>
              </a:lnSpc>
              <a:spcBef>
                <a:spcPts val="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IRDMWU+Canva Sans Regular"/>
                <a:ea typeface="IRDMWU+Canva Sans Regular"/>
              </a:rPr>
              <a:t>this, but you also build up useful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276120">
              <a:lnSpc>
                <a:spcPts val="3461"/>
              </a:lnSpc>
              <a:spcBef>
                <a:spcPts val="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IRDMWU+Canva Sans Regular"/>
                <a:ea typeface="IRDMWU+Canva Sans Regular"/>
              </a:rPr>
              <a:t>backlinks to your own website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276120">
              <a:lnSpc>
                <a:spcPts val="3461"/>
              </a:lnSpc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IRDMWU+Canva Sans Regular"/>
                <a:ea typeface="IRDMWU+Canva Sans Regular"/>
              </a:rPr>
              <a:t>Search engines interpret thes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276120">
              <a:lnSpc>
                <a:spcPts val="3461"/>
              </a:lnSpc>
              <a:spcBef>
                <a:spcPts val="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IRDMWU+Canva Sans Regular"/>
                <a:ea typeface="IRDMWU+Canva Sans Regular"/>
              </a:rPr>
              <a:t>backlinks as a seal of approval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276120">
              <a:lnSpc>
                <a:spcPts val="3461"/>
              </a:lnSpc>
              <a:spcBef>
                <a:spcPts val="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IRDMWU+Canva Sans Regular"/>
                <a:ea typeface="IRDMWU+Canva Sans Regular"/>
              </a:rPr>
              <a:t>from other reputable websites,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276120">
              <a:lnSpc>
                <a:spcPts val="3461"/>
              </a:lnSpc>
              <a:spcBef>
                <a:spcPts val="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IRDMWU+Canva Sans Regular"/>
                <a:ea typeface="IRDMWU+Canva Sans Regular"/>
              </a:rPr>
              <a:t>telling them that your website i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276120">
              <a:lnSpc>
                <a:spcPts val="3461"/>
              </a:lnSpc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IRDMWU+Canva Sans Regular"/>
                <a:ea typeface="IRDMWU+Canva Sans Regular"/>
              </a:rPr>
              <a:t>reliable and deserving of higher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276120">
              <a:lnSpc>
                <a:spcPts val="3461"/>
              </a:lnSpc>
              <a:spcBef>
                <a:spcPts val="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ffff"/>
                </a:solidFill>
                <a:latin typeface="IRDMWU+Canva Sans Regular"/>
                <a:ea typeface="IRDMWU+Canva Sans Regular"/>
              </a:rPr>
              <a:t>ranking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object 1"/>
          <p:cNvSpPr/>
          <p:nvPr/>
        </p:nvSpPr>
        <p:spPr>
          <a:xfrm>
            <a:off x="0" y="0"/>
            <a:ext cx="18288000" cy="102744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object 3"/>
          <p:cNvSpPr/>
          <p:nvPr/>
        </p:nvSpPr>
        <p:spPr>
          <a:xfrm>
            <a:off x="7861320" y="528480"/>
            <a:ext cx="8321760" cy="24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382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ff"/>
                </a:solidFill>
                <a:uFillTx/>
                <a:latin typeface="PTUEAI+Canva Sans Bold"/>
                <a:ea typeface="PTUEAI+Canva Sans Bold"/>
                <a:hlinkClick r:id="rId2"/>
              </a:rPr>
              <a:t>https://www.onlineslotssites.fun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824"/>
              </a:lnSpc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ff"/>
                </a:solidFill>
                <a:uFillTx/>
                <a:latin typeface="PTUEAI+Canva Sans Bold"/>
                <a:ea typeface="PTUEAI+Canva Sans Bold"/>
                <a:hlinkClick r:id="rId3"/>
              </a:rPr>
              <a:t>https://www.onlinecasinohubmy.com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824"/>
              </a:lnSpc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ff"/>
                </a:solidFill>
                <a:uFillTx/>
                <a:latin typeface="PTUEAI+Canva Sans Bold"/>
                <a:ea typeface="PTUEAI+Canva Sans Bold"/>
                <a:hlinkClick r:id="rId4"/>
              </a:rPr>
              <a:t>https://me88livet.com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824"/>
              </a:lnSpc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ff"/>
                </a:solidFill>
                <a:uFillTx/>
                <a:latin typeface="PTUEAI+Canva Sans Bold"/>
                <a:ea typeface="PTUEAI+Canva Sans Bold"/>
                <a:hlinkClick r:id="rId5"/>
              </a:rPr>
              <a:t>https://www.mega888gamelist.com/my/en-us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824"/>
              </a:lnSpc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ff"/>
                </a:solidFill>
                <a:uFillTx/>
                <a:latin typeface="PTUEAI+Canva Sans Bold"/>
                <a:ea typeface="PTUEAI+Canva Sans Bold"/>
                <a:hlinkClick r:id="rId6"/>
              </a:rPr>
              <a:t>https://abuzzfeeds.com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ject 4"/>
          <p:cNvSpPr/>
          <p:nvPr/>
        </p:nvSpPr>
        <p:spPr>
          <a:xfrm>
            <a:off x="1008000" y="1123920"/>
            <a:ext cx="4473720" cy="14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1126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200" spc="-1" strike="noStrike">
                <a:solidFill>
                  <a:srgbClr val="000000"/>
                </a:solidFill>
                <a:latin typeface="CVKCMF+KENAO"/>
                <a:ea typeface="CVKCMF+KENAO"/>
              </a:rPr>
              <a:t>SITES</a:t>
            </a:r>
            <a:endParaRPr b="0" lang="en-US" sz="1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object 5"/>
          <p:cNvSpPr/>
          <p:nvPr/>
        </p:nvSpPr>
        <p:spPr>
          <a:xfrm>
            <a:off x="7861320" y="3005280"/>
            <a:ext cx="4502160" cy="344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382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ff"/>
                </a:solidFill>
                <a:uFillTx/>
                <a:latin typeface="PTUEAI+Canva Sans Bold"/>
                <a:ea typeface="PTUEAI+Canva Sans Bold"/>
                <a:hlinkClick r:id="rId7"/>
              </a:rPr>
              <a:t>https://hfive5m.com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824"/>
              </a:lnSpc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ff"/>
                </a:solidFill>
                <a:uFillTx/>
                <a:latin typeface="PTUEAI+Canva Sans Bold"/>
                <a:ea typeface="PTUEAI+Canva Sans Bold"/>
                <a:hlinkClick r:id="rId8"/>
              </a:rPr>
              <a:t>https://eubet9.com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824"/>
              </a:lnSpc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ff"/>
                </a:solidFill>
                <a:uFillTx/>
                <a:latin typeface="PTUEAI+Canva Sans Bold"/>
                <a:ea typeface="PTUEAI+Canva Sans Bold"/>
                <a:hlinkClick r:id="rId9"/>
              </a:rPr>
              <a:t>https://bk8myyr.com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824"/>
              </a:lnSpc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ff"/>
                </a:solidFill>
                <a:uFillTx/>
                <a:latin typeface="PTUEAI+Canva Sans Bold"/>
                <a:ea typeface="PTUEAI+Canva Sans Bold"/>
                <a:hlinkClick r:id="rId10"/>
              </a:rPr>
              <a:t>https://winbox88m.com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824"/>
              </a:lnSpc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ff"/>
                </a:solidFill>
                <a:uFillTx/>
                <a:latin typeface="PTUEAI+Canva Sans Bold"/>
                <a:ea typeface="PTUEAI+Canva Sans Bold"/>
                <a:hlinkClick r:id="rId11"/>
              </a:rPr>
              <a:t>https://gdwon2u.com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824"/>
              </a:lnSpc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ff"/>
                </a:solidFill>
                <a:uFillTx/>
                <a:latin typeface="PTUEAI+Canva Sans Bold"/>
                <a:ea typeface="PTUEAI+Canva Sans Bold"/>
                <a:hlinkClick r:id="rId12"/>
              </a:rPr>
              <a:t>https://play2u1.com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824"/>
              </a:lnSpc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ff"/>
                </a:solidFill>
                <a:uFillTx/>
                <a:latin typeface="PTUEAI+Canva Sans Bold"/>
                <a:ea typeface="PTUEAI+Canva Sans Bold"/>
                <a:hlinkClick r:id="rId13"/>
              </a:rPr>
              <a:t>https://pingmyurls.in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object 6"/>
          <p:cNvSpPr/>
          <p:nvPr/>
        </p:nvSpPr>
        <p:spPr>
          <a:xfrm>
            <a:off x="7861320" y="6472080"/>
            <a:ext cx="6346800" cy="29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382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ff"/>
                </a:solidFill>
                <a:uFillTx/>
                <a:latin typeface="PTUEAI+Canva Sans Bold"/>
                <a:ea typeface="PTUEAI+Canva Sans Bold"/>
                <a:hlinkClick r:id="rId14"/>
              </a:rPr>
              <a:t>https://www.seoarticlehub.com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824"/>
              </a:lnSpc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ff"/>
                </a:solidFill>
                <a:uFillTx/>
                <a:latin typeface="PTUEAI+Canva Sans Bold"/>
                <a:ea typeface="PTUEAI+Canva Sans Bold"/>
                <a:hlinkClick r:id="rId15"/>
              </a:rPr>
              <a:t>https://www.prsubmissions.com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824"/>
              </a:lnSpc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ff"/>
                </a:solidFill>
                <a:uFillTx/>
                <a:latin typeface="PTUEAI+Canva Sans Bold"/>
                <a:ea typeface="PTUEAI+Canva Sans Bold"/>
                <a:hlinkClick r:id="rId16"/>
              </a:rPr>
              <a:t>https://www.freezinearticle.com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824"/>
              </a:lnSpc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ff"/>
                </a:solidFill>
                <a:uFillTx/>
                <a:latin typeface="PTUEAI+Canva Sans Bold"/>
                <a:ea typeface="PTUEAI+Canva Sans Bold"/>
                <a:hlinkClick r:id="rId17"/>
              </a:rPr>
              <a:t>https://www.articlesubmision.com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824"/>
              </a:lnSpc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ff"/>
                </a:solidFill>
                <a:uFillTx/>
                <a:latin typeface="PTUEAI+Canva Sans Bold"/>
                <a:ea typeface="PTUEAI+Canva Sans Bold"/>
                <a:hlinkClick r:id="rId18"/>
              </a:rPr>
              <a:t>http://crazytimelivescore.click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824"/>
              </a:lnSpc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ff"/>
                </a:solidFill>
                <a:uFillTx/>
                <a:latin typeface="PTUEAI+Canva Sans Bold"/>
                <a:ea typeface="PTUEAI+Canva Sans Bold"/>
                <a:hlinkClick r:id="rId19"/>
              </a:rPr>
              <a:t>https://bajilive99.com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ject 7"/>
          <p:cNvSpPr/>
          <p:nvPr/>
        </p:nvSpPr>
        <p:spPr>
          <a:xfrm>
            <a:off x="1589040" y="8147160"/>
            <a:ext cx="37180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462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ffff"/>
                </a:solidFill>
                <a:latin typeface="PTUEAI+Canva Sans Bold"/>
                <a:ea typeface="PTUEAI+Canva Sans Bold"/>
              </a:rPr>
              <a:t>See the Site here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object 1"/>
          <p:cNvSpPr/>
          <p:nvPr/>
        </p:nvSpPr>
        <p:spPr>
          <a:xfrm>
            <a:off x="0" y="0"/>
            <a:ext cx="18288000" cy="102744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object 3"/>
          <p:cNvSpPr/>
          <p:nvPr/>
        </p:nvSpPr>
        <p:spPr>
          <a:xfrm>
            <a:off x="9137520" y="1417680"/>
            <a:ext cx="4473720" cy="14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1126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200" spc="-1" strike="noStrike">
                <a:solidFill>
                  <a:srgbClr val="ffffff"/>
                </a:solidFill>
                <a:latin typeface="CVKCMF+KENAO"/>
                <a:ea typeface="CVKCMF+KENAO"/>
              </a:rPr>
              <a:t>SITES</a:t>
            </a:r>
            <a:endParaRPr b="0" lang="en-US" sz="1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object 4"/>
          <p:cNvSpPr/>
          <p:nvPr/>
        </p:nvSpPr>
        <p:spPr>
          <a:xfrm>
            <a:off x="1436760" y="4052880"/>
            <a:ext cx="4975200" cy="254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36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0000ff"/>
                </a:solidFill>
                <a:uFillTx/>
                <a:latin typeface="WKOQBR+Montserrat Medium"/>
                <a:ea typeface="WKOQBR+Montserrat Medium"/>
                <a:hlinkClick r:id="rId2"/>
              </a:rPr>
              <a:t>https://topbacklinkseo.com/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674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0000ff"/>
                </a:solidFill>
                <a:uFillTx/>
                <a:latin typeface="WKOQBR+Montserrat Medium"/>
                <a:ea typeface="WKOQBR+Montserrat Medium"/>
                <a:hlinkClick r:id="rId3"/>
              </a:rPr>
              <a:t>http://myforumy.link/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674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0000ff"/>
                </a:solidFill>
                <a:uFillTx/>
                <a:latin typeface="WKOQBR+Montserrat Medium"/>
                <a:ea typeface="WKOQBR+Montserrat Medium"/>
                <a:hlinkClick r:id="rId4"/>
              </a:rPr>
              <a:t>http://victory6666.link/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674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0000ff"/>
                </a:solidFill>
                <a:uFillTx/>
                <a:latin typeface="WKOQBR+Montserrat Medium"/>
                <a:ea typeface="WKOQBR+Montserrat Medium"/>
                <a:hlinkClick r:id="rId5"/>
              </a:rPr>
              <a:t>http://steamforged.click/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674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0000ff"/>
                </a:solidFill>
                <a:uFillTx/>
                <a:latin typeface="WKOQBR+Montserrat Medium"/>
                <a:ea typeface="WKOQBR+Montserrat Medium"/>
                <a:hlinkClick r:id="rId6"/>
              </a:rPr>
              <a:t>https://eu9my.info/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object 5"/>
          <p:cNvSpPr/>
          <p:nvPr/>
        </p:nvSpPr>
        <p:spPr>
          <a:xfrm>
            <a:off x="1436760" y="6672240"/>
            <a:ext cx="382104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36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0000ff"/>
                </a:solidFill>
                <a:uFillTx/>
                <a:latin typeface="WKOQBR+Montserrat Medium"/>
                <a:ea typeface="WKOQBR+Montserrat Medium"/>
                <a:hlinkClick r:id="rId7"/>
              </a:rPr>
              <a:t>http://me88safes.xyz/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object 6"/>
          <p:cNvSpPr/>
          <p:nvPr/>
        </p:nvSpPr>
        <p:spPr>
          <a:xfrm>
            <a:off x="1436760" y="7196040"/>
            <a:ext cx="6083280" cy="254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36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0000ff"/>
                </a:solidFill>
                <a:uFillTx/>
                <a:latin typeface="WKOQBR+Montserrat Medium"/>
                <a:ea typeface="WKOQBR+Montserrat Medium"/>
                <a:hlinkClick r:id="rId8"/>
              </a:rPr>
              <a:t>http://maxim88malaysia.fun/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674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0000ff"/>
                </a:solidFill>
                <a:uFillTx/>
                <a:latin typeface="WKOQBR+Montserrat Medium"/>
                <a:ea typeface="WKOQBR+Montserrat Medium"/>
                <a:hlinkClick r:id="rId9"/>
              </a:rPr>
              <a:t>http://seoforumy.website/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674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0000ff"/>
                </a:solidFill>
                <a:uFillTx/>
                <a:latin typeface="WKOQBR+Montserrat Medium"/>
                <a:ea typeface="WKOQBR+Montserrat Medium"/>
                <a:hlinkClick r:id="rId10"/>
              </a:rPr>
              <a:t>http://business2community.click/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674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0000ff"/>
                </a:solidFill>
                <a:uFillTx/>
                <a:latin typeface="WKOQBR+Montserrat Medium"/>
                <a:ea typeface="WKOQBR+Montserrat Medium"/>
                <a:hlinkClick r:id="rId11"/>
              </a:rPr>
              <a:t>https://crazytimebangladesh.click/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674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0000ff"/>
                </a:solidFill>
                <a:uFillTx/>
                <a:latin typeface="WKOQBR+Montserrat Medium"/>
                <a:ea typeface="WKOQBR+Montserrat Medium"/>
                <a:hlinkClick r:id="rId12"/>
              </a:rPr>
              <a:t>https://jaya9.click/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object 7"/>
          <p:cNvSpPr/>
          <p:nvPr/>
        </p:nvSpPr>
        <p:spPr>
          <a:xfrm>
            <a:off x="1436760" y="9815400"/>
            <a:ext cx="339552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3674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0000ff"/>
                </a:solidFill>
                <a:uFillTx/>
                <a:latin typeface="WKOQBR+Montserrat Medium"/>
                <a:ea typeface="WKOQBR+Montserrat Medium"/>
                <a:hlinkClick r:id="rId13"/>
              </a:rPr>
              <a:t>https://krikya.click/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object 1"/>
          <p:cNvSpPr/>
          <p:nvPr/>
        </p:nvSpPr>
        <p:spPr>
          <a:xfrm>
            <a:off x="0" y="0"/>
            <a:ext cx="18288000" cy="102744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object 3"/>
          <p:cNvSpPr/>
          <p:nvPr/>
        </p:nvSpPr>
        <p:spPr>
          <a:xfrm>
            <a:off x="2544840" y="30240"/>
            <a:ext cx="13604760" cy="13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1044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100" spc="-1" strike="noStrike">
                <a:solidFill>
                  <a:srgbClr val="413835"/>
                </a:solidFill>
                <a:latin typeface="SHQNTI+Shrikhand"/>
                <a:ea typeface="SHQNTI+Shrikhand"/>
              </a:rPr>
              <a:t>SEE THE OTHER PROFILE URL</a:t>
            </a:r>
            <a:endParaRPr b="0" lang="en-US" sz="7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object 4" descr=""/>
          <p:cNvPicPr/>
          <p:nvPr/>
        </p:nvPicPr>
        <p:blipFill>
          <a:blip r:embed="rId2"/>
          <a:stretch/>
        </p:blipFill>
        <p:spPr>
          <a:xfrm>
            <a:off x="6534000" y="1816200"/>
            <a:ext cx="10461600" cy="5254560"/>
          </a:xfrm>
          <a:prstGeom prst="rect">
            <a:avLst/>
          </a:prstGeom>
          <a:ln w="0">
            <a:noFill/>
          </a:ln>
        </p:spPr>
      </p:pic>
      <p:sp>
        <p:nvSpPr>
          <p:cNvPr id="105" name="object 5"/>
          <p:cNvSpPr/>
          <p:nvPr/>
        </p:nvSpPr>
        <p:spPr>
          <a:xfrm>
            <a:off x="6934320" y="7039080"/>
            <a:ext cx="9934560" cy="12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494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FPJTK+Canva Sans Regular"/>
                <a:ea typeface="MFPJTK+Canva Sans Regular"/>
              </a:rPr>
              <a:t>https://toponlinegame.cgsociety.org/profil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4949"/>
              </a:lnSpc>
              <a:spcBef>
                <a:spcPts val="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FPJTK+Canva Sans Regular"/>
                <a:ea typeface="MFPJTK+Canva Sans Regular"/>
              </a:rPr>
              <a:t>https://camp-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object 6"/>
          <p:cNvSpPr/>
          <p:nvPr/>
        </p:nvSpPr>
        <p:spPr>
          <a:xfrm>
            <a:off x="7391520" y="8315280"/>
            <a:ext cx="902340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494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FPJTK+Canva Sans Regular"/>
                <a:ea typeface="MFPJTK+Canva Sans Regular"/>
              </a:rPr>
              <a:t>fire.jp/profile/TopOnlineGameCompan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object 1"/>
          <p:cNvSpPr/>
          <p:nvPr/>
        </p:nvSpPr>
        <p:spPr>
          <a:xfrm>
            <a:off x="0" y="0"/>
            <a:ext cx="18288000" cy="102744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ject 3"/>
          <p:cNvSpPr/>
          <p:nvPr/>
        </p:nvSpPr>
        <p:spPr>
          <a:xfrm>
            <a:off x="3147840" y="1236600"/>
            <a:ext cx="1239372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168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800" spc="-1" strike="noStrike">
                <a:solidFill>
                  <a:srgbClr val="413835"/>
                </a:solidFill>
                <a:latin typeface="QISDWU+KENAO"/>
                <a:ea typeface="QISDWU+KENAO"/>
              </a:rPr>
              <a:t>THANK YOU</a:t>
            </a:r>
            <a:endParaRPr b="0" lang="en-US" sz="16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object 4"/>
          <p:cNvSpPr/>
          <p:nvPr/>
        </p:nvSpPr>
        <p:spPr>
          <a:xfrm>
            <a:off x="4048200" y="4465800"/>
            <a:ext cx="9264600" cy="40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1034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600" spc="-1" strike="noStrike">
                <a:solidFill>
                  <a:srgbClr val="413835"/>
                </a:solidFill>
                <a:latin typeface="MFPJTK+Canva Sans Regular"/>
                <a:ea typeface="MFPJTK+Canva Sans Regular"/>
              </a:rPr>
              <a:t>Post your Blog Now</a:t>
            </a:r>
            <a:endParaRPr b="0" lang="en-US" sz="7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0349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600" spc="-1" strike="noStrike">
                <a:solidFill>
                  <a:srgbClr val="413835"/>
                </a:solidFill>
                <a:latin typeface="MFPJTK+Canva Sans Regular"/>
                <a:ea typeface="MFPJTK+Canva Sans Regular"/>
              </a:rPr>
              <a:t>Follow 918won for</a:t>
            </a:r>
            <a:endParaRPr b="0" lang="en-US" sz="7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0349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600" spc="-1" strike="noStrike">
                <a:solidFill>
                  <a:srgbClr val="413835"/>
                </a:solidFill>
                <a:latin typeface="MFPJTK+Canva Sans Regular"/>
                <a:ea typeface="MFPJTK+Canva Sans Regular"/>
              </a:rPr>
              <a:t>more update.</a:t>
            </a:r>
            <a:endParaRPr b="0" lang="en-US" sz="7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dministrator</dc:creator>
  <dc:description/>
  <cp:keywords/>
  <dc:language>en-US</dc:language>
  <cp:lastModifiedBy>917617742741</cp:lastModifiedBy>
  <dcterms:modified xsi:type="dcterms:W3CDTF">2023-05-19T09:00:16Z</dcterms:modified>
  <cp:revision>3</cp:revision>
  <dc:subject/>
  <dc:title>Presentation PowerPoint</dc:title>
</cp:coreProperties>
</file>