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8288000" cy="10274300"/>
  <p:notesSz cx="18288000" cy="1027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E2D3-D14F-4AA3-93F1-AA8BCE97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4520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E2EE-9984-4422-A6FD-61CD6109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1360" y="61452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5261-A7FA-499C-ADBB-F661D857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6240" y="24588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4480" y="24588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452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6240" y="61452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4480" y="61452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71EB-142C-4259-8D74-5B342EB4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78000" y="2458800"/>
            <a:ext cx="67975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67975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78000" y="426960"/>
            <a:ext cx="6797520" cy="79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58800"/>
            <a:ext cx="67975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AF21-83F5-4AE9-9451-1EC6C617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61360" y="61452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78000" y="614520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861360" y="61452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676240" y="24588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74480" y="24588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78000" y="61452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676240" y="61452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4974480" y="61452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67975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AC82-A280-48E0-BEDB-A458E915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7AFC-75BC-4A60-9A0E-FA4D1E17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3965-9A0B-491F-A9EF-1E16439D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6960"/>
            <a:ext cx="6797520" cy="79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3EF6-64AB-45F5-A0B1-7295F56C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91EC-A9D8-44D8-B03B-32EB3797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1360" y="61452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5788-F994-4AEF-81FA-1B1DA65A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0F16-C888-471D-9A61-FE934828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58800"/>
            <a:ext cx="67975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68600" y="9944280"/>
            <a:ext cx="241776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78000" y="9944280"/>
            <a:ext cx="173664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4CB2-C828-40C1-9AA1-55F481FF843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38880" y="9944280"/>
            <a:ext cx="173664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4D5C-F033-4BF2-8146-3F84C7FCEEA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78000" y="2458800"/>
            <a:ext cx="67975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s://toponlinegamecompany.bravesites.com/" TargetMode="External"/><Relationship Id="rId4" Type="http://schemas.openxmlformats.org/officeDocument/2006/relationships/hyperlink" Target="https://www.918won.com/my/en-us/" TargetMode="External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s://www.pokergamesmy.com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s://www.onlineslotssites.fun/" TargetMode="External"/><Relationship Id="rId3" Type="http://schemas.openxmlformats.org/officeDocument/2006/relationships/hyperlink" Target="https://www.onlinecasinohubmy.com/" TargetMode="External"/><Relationship Id="rId4" Type="http://schemas.openxmlformats.org/officeDocument/2006/relationships/hyperlink" Target="https://me88livet.com/" TargetMode="External"/><Relationship Id="rId5" Type="http://schemas.openxmlformats.org/officeDocument/2006/relationships/hyperlink" Target="https://www.mega888gamelist.com/my/en-us/" TargetMode="External"/><Relationship Id="rId6" Type="http://schemas.openxmlformats.org/officeDocument/2006/relationships/hyperlink" Target="https://abuzzfeeds.com/" TargetMode="External"/><Relationship Id="rId7" Type="http://schemas.openxmlformats.org/officeDocument/2006/relationships/hyperlink" Target="https://hfive5m.com/" TargetMode="External"/><Relationship Id="rId8" Type="http://schemas.openxmlformats.org/officeDocument/2006/relationships/hyperlink" Target="https://eubet9.com/" TargetMode="External"/><Relationship Id="rId9" Type="http://schemas.openxmlformats.org/officeDocument/2006/relationships/hyperlink" Target="https://bk8myyr.com/" TargetMode="External"/><Relationship Id="rId10" Type="http://schemas.openxmlformats.org/officeDocument/2006/relationships/hyperlink" Target="https://winbox88m.com/" TargetMode="External"/><Relationship Id="rId11" Type="http://schemas.openxmlformats.org/officeDocument/2006/relationships/hyperlink" Target="https://gdwon2u.com/" TargetMode="External"/><Relationship Id="rId12" Type="http://schemas.openxmlformats.org/officeDocument/2006/relationships/hyperlink" Target="https://play2u1.com/" TargetMode="External"/><Relationship Id="rId13" Type="http://schemas.openxmlformats.org/officeDocument/2006/relationships/hyperlink" Target="https://pingmyurls.in/" TargetMode="External"/><Relationship Id="rId14" Type="http://schemas.openxmlformats.org/officeDocument/2006/relationships/hyperlink" Target="https://www.seoarticlehub.com/" TargetMode="External"/><Relationship Id="rId15" Type="http://schemas.openxmlformats.org/officeDocument/2006/relationships/hyperlink" Target="https://www.prsubmissions.com/" TargetMode="External"/><Relationship Id="rId16" Type="http://schemas.openxmlformats.org/officeDocument/2006/relationships/hyperlink" Target="https://www.freezinearticle.com/" TargetMode="External"/><Relationship Id="rId17" Type="http://schemas.openxmlformats.org/officeDocument/2006/relationships/hyperlink" Target="https://www.articlesubmision.com/" TargetMode="External"/><Relationship Id="rId18" Type="http://schemas.openxmlformats.org/officeDocument/2006/relationships/hyperlink" Target="http://crazytimelivescore.click/" TargetMode="External"/><Relationship Id="rId19" Type="http://schemas.openxmlformats.org/officeDocument/2006/relationships/hyperlink" Target="https://bajilive99.com/" TargetMode="External"/><Relationship Id="rId2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s://topbacklinkseo.com/" TargetMode="External"/><Relationship Id="rId3" Type="http://schemas.openxmlformats.org/officeDocument/2006/relationships/hyperlink" Target="http://myforumy.link/" TargetMode="External"/><Relationship Id="rId4" Type="http://schemas.openxmlformats.org/officeDocument/2006/relationships/hyperlink" Target="http://victory6666.link/" TargetMode="External"/><Relationship Id="rId5" Type="http://schemas.openxmlformats.org/officeDocument/2006/relationships/hyperlink" Target="http://steamforged.click/" TargetMode="External"/><Relationship Id="rId6" Type="http://schemas.openxmlformats.org/officeDocument/2006/relationships/hyperlink" Target="https://eu9my.info/" TargetMode="External"/><Relationship Id="rId7" Type="http://schemas.openxmlformats.org/officeDocument/2006/relationships/hyperlink" Target="http://me88safes.xyz/" TargetMode="External"/><Relationship Id="rId8" Type="http://schemas.openxmlformats.org/officeDocument/2006/relationships/hyperlink" Target="http://maxim88malaysia.fun/" TargetMode="External"/><Relationship Id="rId9" Type="http://schemas.openxmlformats.org/officeDocument/2006/relationships/hyperlink" Target="http://seoforumy.website/" TargetMode="External"/><Relationship Id="rId10" Type="http://schemas.openxmlformats.org/officeDocument/2006/relationships/hyperlink" Target="http://business2community.click/" TargetMode="External"/><Relationship Id="rId11" Type="http://schemas.openxmlformats.org/officeDocument/2006/relationships/hyperlink" Target="https://crazytimebangladesh.click/" TargetMode="External"/><Relationship Id="rId12" Type="http://schemas.openxmlformats.org/officeDocument/2006/relationships/hyperlink" Target="https://jaya9.click/" TargetMode="External"/><Relationship Id="rId13" Type="http://schemas.openxmlformats.org/officeDocument/2006/relationships/hyperlink" Target="https://krikya.click/" TargetMode="External"/><Relationship Id="rId1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object 1"/>
          <p:cNvSpPr/>
          <p:nvPr/>
        </p:nvSpPr>
        <p:spPr>
          <a:xfrm>
            <a:off x="0" y="0"/>
            <a:ext cx="18288000" cy="10274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bject 3"/>
          <p:cNvSpPr/>
          <p:nvPr/>
        </p:nvSpPr>
        <p:spPr>
          <a:xfrm>
            <a:off x="10604520" y="1301760"/>
            <a:ext cx="7361280" cy="80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5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0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+</a:t>
            </a: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B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E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S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T</a:t>
            </a: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G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U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E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S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T</a:t>
            </a: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P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O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S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T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I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N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G</a:t>
            </a: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S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I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T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E</a:t>
            </a: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2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0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2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3</a:t>
            </a: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bject 1"/>
          <p:cNvSpPr/>
          <p:nvPr/>
        </p:nvSpPr>
        <p:spPr>
          <a:xfrm>
            <a:off x="0" y="0"/>
            <a:ext cx="18288000" cy="10274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ject 3"/>
          <p:cNvSpPr/>
          <p:nvPr/>
        </p:nvSpPr>
        <p:spPr>
          <a:xfrm>
            <a:off x="9764640" y="392040"/>
            <a:ext cx="539424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0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413835"/>
                </a:solidFill>
                <a:latin typeface="CVKCMF+KENAO"/>
                <a:ea typeface="CVKCMF+KENAO"/>
              </a:rPr>
              <a:t>ABOU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063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413835"/>
                </a:solidFill>
                <a:latin typeface="CVKCMF+KENAO"/>
                <a:ea typeface="CVKCMF+KENAO"/>
              </a:rPr>
              <a:t>GUEST POSTING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object 4" descr=""/>
          <p:cNvPicPr/>
          <p:nvPr/>
        </p:nvPicPr>
        <p:blipFill>
          <a:blip r:embed="rId2"/>
          <a:stretch/>
        </p:blipFill>
        <p:spPr>
          <a:xfrm>
            <a:off x="9497880" y="1895400"/>
            <a:ext cx="7174080" cy="4071960"/>
          </a:xfrm>
          <a:prstGeom prst="rect">
            <a:avLst/>
          </a:prstGeom>
          <a:ln w="0">
            <a:noFill/>
          </a:ln>
        </p:spPr>
      </p:pic>
      <p:sp>
        <p:nvSpPr>
          <p:cNvPr id="84" name="object 5"/>
          <p:cNvSpPr/>
          <p:nvPr/>
        </p:nvSpPr>
        <p:spPr>
          <a:xfrm>
            <a:off x="9764640" y="5991120"/>
            <a:ext cx="6623280" cy="26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7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DSGRVA+Montserrat Regular"/>
                <a:ea typeface="DSGRVA+Montserrat Regular"/>
              </a:rPr>
              <a:t>current digital environment,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23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DSGRVA+Montserrat Regular"/>
                <a:ea typeface="DSGRVA+Montserrat Regular"/>
              </a:rPr>
              <a:t>and </a:t>
            </a:r>
            <a:r>
              <a:rPr b="0" lang="ru-RU" sz="3400" spc="-1" strike="noStrike" u="sng">
                <a:solidFill>
                  <a:srgbClr val="0000ff"/>
                </a:solidFill>
                <a:uFillTx/>
                <a:latin typeface="DSGRVA+Montserrat Regular"/>
                <a:ea typeface="DSGRVA+Montserrat Regular"/>
                <a:hlinkClick r:id="rId3"/>
              </a:rPr>
              <a:t>guest posting </a:t>
            </a:r>
            <a:r>
              <a:rPr b="0" lang="ru-RU" sz="3400" spc="-1" strike="noStrike">
                <a:solidFill>
                  <a:srgbClr val="000000"/>
                </a:solidFill>
                <a:latin typeface="DSGRVA+Montserrat Regular"/>
                <a:ea typeface="DSGRVA+Montserrat Regular"/>
              </a:rPr>
              <a:t>presents a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23"/>
              </a:lnSpc>
              <a:spcBef>
                <a:spcPts val="5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DSGRVA+Montserrat Regular"/>
                <a:ea typeface="DSGRVA+Montserrat Regular"/>
              </a:rPr>
              <a:t>great chance to improve your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23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DSGRVA+Montserrat Regular"/>
                <a:ea typeface="DSGRVA+Montserrat Regular"/>
              </a:rPr>
              <a:t>online presenc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bject 6"/>
          <p:cNvSpPr/>
          <p:nvPr/>
        </p:nvSpPr>
        <p:spPr>
          <a:xfrm>
            <a:off x="3821040" y="7634160"/>
            <a:ext cx="24274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CVKCMF+KENAO"/>
                <a:ea typeface="CVKCMF+KENAO"/>
                <a:hlinkClick r:id="rId4"/>
              </a:rPr>
              <a:t>918W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ject 1"/>
          <p:cNvSpPr/>
          <p:nvPr/>
        </p:nvSpPr>
        <p:spPr>
          <a:xfrm>
            <a:off x="0" y="0"/>
            <a:ext cx="18288000" cy="10274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bject 3"/>
          <p:cNvSpPr/>
          <p:nvPr/>
        </p:nvSpPr>
        <p:spPr>
          <a:xfrm>
            <a:off x="879480" y="590400"/>
            <a:ext cx="88502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8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900" spc="-1" strike="noStrike">
                <a:solidFill>
                  <a:srgbClr val="6a0f0f"/>
                </a:solidFill>
                <a:latin typeface="OJDEAS+Lovelo Black"/>
                <a:ea typeface="OJDEAS+Lovelo Black"/>
              </a:rPr>
              <a:t>WHY GUEST POSTING?</a:t>
            </a: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bject 4"/>
          <p:cNvSpPr/>
          <p:nvPr/>
        </p:nvSpPr>
        <p:spPr>
          <a:xfrm>
            <a:off x="1352520" y="2709720"/>
            <a:ext cx="554832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26880">
              <a:lnSpc>
                <a:spcPts val="34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IRDMWU+Canva Sans Regular"/>
                <a:ea typeface="IRDMWU+Canva Sans Regular"/>
              </a:rPr>
              <a:t>You might wonder, "Why gue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6880">
              <a:lnSpc>
                <a:spcPts val="3461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IRDMWU+Canva Sans Regular"/>
                <a:ea typeface="IRDMWU+Canva Sans Regular"/>
              </a:rPr>
              <a:t>posting?" It's really quite easy. Yo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6880">
              <a:lnSpc>
                <a:spcPts val="3461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IRDMWU+Canva Sans Regular"/>
                <a:ea typeface="IRDMWU+Canva Sans Regular"/>
              </a:rPr>
              <a:t>can contribute valuable materi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6880">
              <a:lnSpc>
                <a:spcPts val="3461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IRDMWU+Canva Sans Regular"/>
                <a:ea typeface="IRDMWU+Canva Sans Regular"/>
              </a:rPr>
              <a:t>to renowned websites in y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6880">
              <a:lnSpc>
                <a:spcPts val="3461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IRDMWU+Canva Sans Regular"/>
                <a:ea typeface="IRDMWU+Canva Sans Regular"/>
              </a:rPr>
              <a:t>niche by guest posting 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ject 5"/>
          <p:cNvSpPr/>
          <p:nvPr/>
        </p:nvSpPr>
        <p:spPr>
          <a:xfrm>
            <a:off x="1528920" y="4948200"/>
            <a:ext cx="519588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6120">
              <a:lnSpc>
                <a:spcPts val="34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ff"/>
                </a:solidFill>
                <a:uFillTx/>
                <a:latin typeface="IRDMWU+Canva Sans Regular"/>
                <a:ea typeface="IRDMWU+Canva Sans Regular"/>
                <a:hlinkClick r:id="rId2"/>
              </a:rPr>
              <a:t>pokergamesmy</a:t>
            </a:r>
            <a:r>
              <a:rPr b="0" lang="ru-RU" sz="2500" spc="-1" strike="noStrike">
                <a:solidFill>
                  <a:srgbClr val="ffffff"/>
                </a:solidFill>
                <a:latin typeface="IRDMWU+Canva Sans Regular"/>
                <a:ea typeface="IRDMWU+Canva Sans Regular"/>
              </a:rPr>
              <a:t>. You not onl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6120">
              <a:lnSpc>
                <a:spcPts val="3461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IRDMWU+Canva Sans Regular"/>
                <a:ea typeface="IRDMWU+Canva Sans Regular"/>
              </a:rPr>
              <a:t>benefit their audience by do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6120">
              <a:lnSpc>
                <a:spcPts val="3461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IRDMWU+Canva Sans Regular"/>
                <a:ea typeface="IRDMWU+Canva Sans Regular"/>
              </a:rPr>
              <a:t>this, but you also build up usefu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6120">
              <a:lnSpc>
                <a:spcPts val="3461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IRDMWU+Canva Sans Regular"/>
                <a:ea typeface="IRDMWU+Canva Sans Regular"/>
              </a:rPr>
              <a:t>backlinks to your own websit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6120">
              <a:lnSpc>
                <a:spcPts val="3461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IRDMWU+Canva Sans Regular"/>
                <a:ea typeface="IRDMWU+Canva Sans Regular"/>
              </a:rPr>
              <a:t>Search engines interpret the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6120">
              <a:lnSpc>
                <a:spcPts val="3461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IRDMWU+Canva Sans Regular"/>
                <a:ea typeface="IRDMWU+Canva Sans Regular"/>
              </a:rPr>
              <a:t>backlinks as a seal of approv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6120">
              <a:lnSpc>
                <a:spcPts val="3461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IRDMWU+Canva Sans Regular"/>
                <a:ea typeface="IRDMWU+Canva Sans Regular"/>
              </a:rPr>
              <a:t>from other reputable websites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6120">
              <a:lnSpc>
                <a:spcPts val="3461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IRDMWU+Canva Sans Regular"/>
                <a:ea typeface="IRDMWU+Canva Sans Regular"/>
              </a:rPr>
              <a:t>telling them that your website i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6120">
              <a:lnSpc>
                <a:spcPts val="3461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IRDMWU+Canva Sans Regular"/>
                <a:ea typeface="IRDMWU+Canva Sans Regular"/>
              </a:rPr>
              <a:t>reliable and deserving of high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6120">
              <a:lnSpc>
                <a:spcPts val="3461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IRDMWU+Canva Sans Regular"/>
                <a:ea typeface="IRDMWU+Canva Sans Regular"/>
              </a:rPr>
              <a:t>ranking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bject 1"/>
          <p:cNvSpPr/>
          <p:nvPr/>
        </p:nvSpPr>
        <p:spPr>
          <a:xfrm>
            <a:off x="0" y="0"/>
            <a:ext cx="18288000" cy="10274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bject 3"/>
          <p:cNvSpPr/>
          <p:nvPr/>
        </p:nvSpPr>
        <p:spPr>
          <a:xfrm>
            <a:off x="7861320" y="528480"/>
            <a:ext cx="832176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8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2"/>
              </a:rPr>
              <a:t>https://www.onlineslotssites.fun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8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3"/>
              </a:rPr>
              <a:t>https://www.onlinecasinohubmy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8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4"/>
              </a:rPr>
              <a:t>https://me88livet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8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5"/>
              </a:rPr>
              <a:t>https://www.mega888gamelist.com/my/en-u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8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6"/>
              </a:rPr>
              <a:t>https://abuzzfeeds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ject 4"/>
          <p:cNvSpPr/>
          <p:nvPr/>
        </p:nvSpPr>
        <p:spPr>
          <a:xfrm>
            <a:off x="1008000" y="1123920"/>
            <a:ext cx="447372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2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200" spc="-1" strike="noStrike">
                <a:solidFill>
                  <a:srgbClr val="000000"/>
                </a:solidFill>
                <a:latin typeface="CVKCMF+KENAO"/>
                <a:ea typeface="CVKCMF+KENAO"/>
              </a:rPr>
              <a:t>SITES</a:t>
            </a:r>
            <a:endParaRPr b="0" lang="en-US" sz="1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bject 5"/>
          <p:cNvSpPr/>
          <p:nvPr/>
        </p:nvSpPr>
        <p:spPr>
          <a:xfrm>
            <a:off x="7861320" y="3005280"/>
            <a:ext cx="4502160" cy="34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8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7"/>
              </a:rPr>
              <a:t>https://hfive5m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8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8"/>
              </a:rPr>
              <a:t>https://eubet9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8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9"/>
              </a:rPr>
              <a:t>https://bk8myyr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8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10"/>
              </a:rPr>
              <a:t>https://winbox88m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8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11"/>
              </a:rPr>
              <a:t>https://gdwon2u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8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12"/>
              </a:rPr>
              <a:t>https://play2u1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8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13"/>
              </a:rPr>
              <a:t>https://pingmyurls.in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bject 6"/>
          <p:cNvSpPr/>
          <p:nvPr/>
        </p:nvSpPr>
        <p:spPr>
          <a:xfrm>
            <a:off x="7861320" y="6472080"/>
            <a:ext cx="634680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8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14"/>
              </a:rPr>
              <a:t>https://www.seoarticlehub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8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15"/>
              </a:rPr>
              <a:t>https://www.prsubmissions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8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16"/>
              </a:rPr>
              <a:t>https://www.freezinearticle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8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17"/>
              </a:rPr>
              <a:t>https://www.articlesubmision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8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18"/>
              </a:rPr>
              <a:t>http://crazytimelivescore.click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8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19"/>
              </a:rPr>
              <a:t>https://bajilive99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ject 7"/>
          <p:cNvSpPr/>
          <p:nvPr/>
        </p:nvSpPr>
        <p:spPr>
          <a:xfrm>
            <a:off x="1589040" y="8147160"/>
            <a:ext cx="3718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6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PTUEAI+Canva Sans Bold"/>
                <a:ea typeface="PTUEAI+Canva Sans Bold"/>
              </a:rPr>
              <a:t>See the Site her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object 1"/>
          <p:cNvSpPr/>
          <p:nvPr/>
        </p:nvSpPr>
        <p:spPr>
          <a:xfrm>
            <a:off x="0" y="0"/>
            <a:ext cx="18288000" cy="10274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bject 3"/>
          <p:cNvSpPr/>
          <p:nvPr/>
        </p:nvSpPr>
        <p:spPr>
          <a:xfrm>
            <a:off x="9137520" y="1417680"/>
            <a:ext cx="447372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2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200" spc="-1" strike="noStrike">
                <a:solidFill>
                  <a:srgbClr val="ffffff"/>
                </a:solidFill>
                <a:latin typeface="CVKCMF+KENAO"/>
                <a:ea typeface="CVKCMF+KENAO"/>
              </a:rPr>
              <a:t>SITES</a:t>
            </a:r>
            <a:endParaRPr b="0" lang="en-US" sz="1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bject 4"/>
          <p:cNvSpPr/>
          <p:nvPr/>
        </p:nvSpPr>
        <p:spPr>
          <a:xfrm>
            <a:off x="1436760" y="4052880"/>
            <a:ext cx="4975200" cy="25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6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ff"/>
                </a:solidFill>
                <a:uFillTx/>
                <a:latin typeface="WKOQBR+Montserrat Medium"/>
                <a:ea typeface="WKOQBR+Montserrat Medium"/>
                <a:hlinkClick r:id="rId2"/>
              </a:rPr>
              <a:t>https://topbacklinkseo.com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74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ff"/>
                </a:solidFill>
                <a:uFillTx/>
                <a:latin typeface="WKOQBR+Montserrat Medium"/>
                <a:ea typeface="WKOQBR+Montserrat Medium"/>
                <a:hlinkClick r:id="rId3"/>
              </a:rPr>
              <a:t>http://myforumy.link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74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ff"/>
                </a:solidFill>
                <a:uFillTx/>
                <a:latin typeface="WKOQBR+Montserrat Medium"/>
                <a:ea typeface="WKOQBR+Montserrat Medium"/>
                <a:hlinkClick r:id="rId4"/>
              </a:rPr>
              <a:t>http://victory6666.link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74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ff"/>
                </a:solidFill>
                <a:uFillTx/>
                <a:latin typeface="WKOQBR+Montserrat Medium"/>
                <a:ea typeface="WKOQBR+Montserrat Medium"/>
                <a:hlinkClick r:id="rId5"/>
              </a:rPr>
              <a:t>http://steamforged.click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74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ff"/>
                </a:solidFill>
                <a:uFillTx/>
                <a:latin typeface="WKOQBR+Montserrat Medium"/>
                <a:ea typeface="WKOQBR+Montserrat Medium"/>
                <a:hlinkClick r:id="rId6"/>
              </a:rPr>
              <a:t>https://eu9my.info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bject 5"/>
          <p:cNvSpPr/>
          <p:nvPr/>
        </p:nvSpPr>
        <p:spPr>
          <a:xfrm>
            <a:off x="1436760" y="6672240"/>
            <a:ext cx="3821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6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ff"/>
                </a:solidFill>
                <a:uFillTx/>
                <a:latin typeface="WKOQBR+Montserrat Medium"/>
                <a:ea typeface="WKOQBR+Montserrat Medium"/>
                <a:hlinkClick r:id="rId7"/>
              </a:rPr>
              <a:t>http://me88safes.xyz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bject 6"/>
          <p:cNvSpPr/>
          <p:nvPr/>
        </p:nvSpPr>
        <p:spPr>
          <a:xfrm>
            <a:off x="1436760" y="7196040"/>
            <a:ext cx="6083280" cy="25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6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ff"/>
                </a:solidFill>
                <a:uFillTx/>
                <a:latin typeface="WKOQBR+Montserrat Medium"/>
                <a:ea typeface="WKOQBR+Montserrat Medium"/>
                <a:hlinkClick r:id="rId8"/>
              </a:rPr>
              <a:t>http://maxim88malaysia.fun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74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ff"/>
                </a:solidFill>
                <a:uFillTx/>
                <a:latin typeface="WKOQBR+Montserrat Medium"/>
                <a:ea typeface="WKOQBR+Montserrat Medium"/>
                <a:hlinkClick r:id="rId9"/>
              </a:rPr>
              <a:t>http://seoforumy.website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74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ff"/>
                </a:solidFill>
                <a:uFillTx/>
                <a:latin typeface="WKOQBR+Montserrat Medium"/>
                <a:ea typeface="WKOQBR+Montserrat Medium"/>
                <a:hlinkClick r:id="rId10"/>
              </a:rPr>
              <a:t>http://business2community.click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74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ff"/>
                </a:solidFill>
                <a:uFillTx/>
                <a:latin typeface="WKOQBR+Montserrat Medium"/>
                <a:ea typeface="WKOQBR+Montserrat Medium"/>
                <a:hlinkClick r:id="rId11"/>
              </a:rPr>
              <a:t>https://crazytimebangladesh.click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74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ff"/>
                </a:solidFill>
                <a:uFillTx/>
                <a:latin typeface="WKOQBR+Montserrat Medium"/>
                <a:ea typeface="WKOQBR+Montserrat Medium"/>
                <a:hlinkClick r:id="rId12"/>
              </a:rPr>
              <a:t>https://jaya9.click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bject 7"/>
          <p:cNvSpPr/>
          <p:nvPr/>
        </p:nvSpPr>
        <p:spPr>
          <a:xfrm>
            <a:off x="1436760" y="9815400"/>
            <a:ext cx="33955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6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ff"/>
                </a:solidFill>
                <a:uFillTx/>
                <a:latin typeface="WKOQBR+Montserrat Medium"/>
                <a:ea typeface="WKOQBR+Montserrat Medium"/>
                <a:hlinkClick r:id="rId13"/>
              </a:rPr>
              <a:t>https://krikya.click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bject 1"/>
          <p:cNvSpPr/>
          <p:nvPr/>
        </p:nvSpPr>
        <p:spPr>
          <a:xfrm>
            <a:off x="0" y="0"/>
            <a:ext cx="18288000" cy="10274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bject 3"/>
          <p:cNvSpPr/>
          <p:nvPr/>
        </p:nvSpPr>
        <p:spPr>
          <a:xfrm>
            <a:off x="2544840" y="30240"/>
            <a:ext cx="1360476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4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100" spc="-1" strike="noStrike">
                <a:solidFill>
                  <a:srgbClr val="413835"/>
                </a:solidFill>
                <a:latin typeface="SHQNTI+Shrikhand"/>
                <a:ea typeface="SHQNTI+Shrikhand"/>
              </a:rPr>
              <a:t>SEE THE OTHER PROFILE URL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object 4" descr=""/>
          <p:cNvPicPr/>
          <p:nvPr/>
        </p:nvPicPr>
        <p:blipFill>
          <a:blip r:embed="rId2"/>
          <a:stretch/>
        </p:blipFill>
        <p:spPr>
          <a:xfrm>
            <a:off x="6534000" y="1816200"/>
            <a:ext cx="10461600" cy="5254560"/>
          </a:xfrm>
          <a:prstGeom prst="rect">
            <a:avLst/>
          </a:prstGeom>
          <a:ln w="0">
            <a:noFill/>
          </a:ln>
        </p:spPr>
      </p:pic>
      <p:sp>
        <p:nvSpPr>
          <p:cNvPr id="105" name="object 5"/>
          <p:cNvSpPr/>
          <p:nvPr/>
        </p:nvSpPr>
        <p:spPr>
          <a:xfrm>
            <a:off x="6934320" y="7039080"/>
            <a:ext cx="993456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9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FPJTK+Canva Sans Regular"/>
                <a:ea typeface="MFPJTK+Canva Sans Regular"/>
              </a:rPr>
              <a:t>https://toponlinegame.cgsociety.org/profi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49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FPJTK+Canva Sans Regular"/>
                <a:ea typeface="MFPJTK+Canva Sans Regular"/>
              </a:rPr>
              <a:t>https://camp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bject 6"/>
          <p:cNvSpPr/>
          <p:nvPr/>
        </p:nvSpPr>
        <p:spPr>
          <a:xfrm>
            <a:off x="7391520" y="8315280"/>
            <a:ext cx="90234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9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FPJTK+Canva Sans Regular"/>
                <a:ea typeface="MFPJTK+Canva Sans Regular"/>
              </a:rPr>
              <a:t>fire.jp/profile/TopOnlineGameCompan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object 1"/>
          <p:cNvSpPr/>
          <p:nvPr/>
        </p:nvSpPr>
        <p:spPr>
          <a:xfrm>
            <a:off x="0" y="0"/>
            <a:ext cx="18288000" cy="10274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ject 3"/>
          <p:cNvSpPr/>
          <p:nvPr/>
        </p:nvSpPr>
        <p:spPr>
          <a:xfrm>
            <a:off x="3147840" y="1236600"/>
            <a:ext cx="12393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68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800" spc="-1" strike="noStrike">
                <a:solidFill>
                  <a:srgbClr val="413835"/>
                </a:solidFill>
                <a:latin typeface="QISDWU+KENAO"/>
                <a:ea typeface="QISDWU+KENAO"/>
              </a:rPr>
              <a:t>THANK YOU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bject 4"/>
          <p:cNvSpPr/>
          <p:nvPr/>
        </p:nvSpPr>
        <p:spPr>
          <a:xfrm>
            <a:off x="4048200" y="4465800"/>
            <a:ext cx="926460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3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413835"/>
                </a:solidFill>
                <a:latin typeface="MFPJTK+Canva Sans Regular"/>
                <a:ea typeface="MFPJTK+Canva Sans Regular"/>
              </a:rPr>
              <a:t>Post your Blog Now</a:t>
            </a: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0349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413835"/>
                </a:solidFill>
                <a:latin typeface="MFPJTK+Canva Sans Regular"/>
                <a:ea typeface="MFPJTK+Canva Sans Regular"/>
              </a:rPr>
              <a:t>Follow 918won for</a:t>
            </a: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0349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413835"/>
                </a:solidFill>
                <a:latin typeface="MFPJTK+Canva Sans Regular"/>
                <a:ea typeface="MFPJTK+Canva Sans Regular"/>
              </a:rPr>
              <a:t>more update.</a:t>
            </a: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cp:keywords/>
  <dc:language>en-US</dc:language>
  <cp:lastModifiedBy>917617742741</cp:lastModifiedBy>
  <dcterms:modified xsi:type="dcterms:W3CDTF">2023-05-19T09:00:16Z</dcterms:modified>
  <cp:revision>3</cp:revision>
  <dc:subject/>
  <dc:title>Presentation PowerPoint</dc:title>
</cp:coreProperties>
</file>