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4C2-97E8-408D-BAB1-AD60A5BB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FC1-05BC-468D-BA67-101F938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ADB-578A-406D-9B9E-72687C4A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1E7-6844-4E0A-9F94-2A2F32B4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207-0D1A-42DC-99A3-DDADF480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9B8-C525-48C0-A594-B717AC1E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D58-0963-4E07-B3C5-7C186FB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1ED-B5D8-432B-8117-2B0597E7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886-CAAF-4395-90D5-460B642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272-D345-492E-999D-7F0C92A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4CC-2CC6-4CDA-8689-15E63C3C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BED-D301-48D5-B507-80C685D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7AC-3AE6-4413-BA67-46A3EB6701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55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8:25:20Z</dcterms:created>
  <dc:creator>Megahm7eu</dc:creator>
  <dc:description/>
  <dc:language>en-US</dc:language>
  <cp:lastModifiedBy>Megahm7eu</cp:lastModifiedBy>
  <dcterms:modified xsi:type="dcterms:W3CDTF">2011-09-06T18:33:12Z</dcterms:modified>
  <cp:revision>2</cp:revision>
  <dc:subject/>
  <dc:title>Slide 1</dc:title>
</cp:coreProperties>
</file>