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8A2-4F43-42AD-8270-EA4CD4EE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AAE3-A061-4919-B9CB-4309DDBE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CC0-1B38-4353-8791-2B8D47D6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6C2-A0F5-4EF1-95CC-5523F4BF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13F0-6FF8-48EA-AD2C-31D37EAD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400-9748-426F-86A6-A447F1ED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A3A-8756-4F9D-9A62-2352229A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709E-A067-41E4-BF08-7944F3E0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BD7-C313-4E79-89F5-1B9EA297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25DC-94B9-4973-A425-7BA62A34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C52-F6C2-4949-A35F-D8736771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27F-661A-4E57-B7E2-D2623493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E0BA-7AF7-4F3F-BDDC-3696B23EF9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5534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8:25:20Z</dcterms:created>
  <dc:creator>Megahm7eu</dc:creator>
  <dc:description/>
  <dc:language>en-US</dc:language>
  <cp:lastModifiedBy>Megahm7eu</cp:lastModifiedBy>
  <dcterms:modified xsi:type="dcterms:W3CDTF">2011-09-06T18:33:12Z</dcterms:modified>
  <cp:revision>2</cp:revision>
  <dc:subject/>
  <dc:title>Slide 1</dc:title>
</cp:coreProperties>
</file>