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7.png" ContentType="image/png"/>
  <Override PartName="/ppt/media/image1.gif" ContentType="image/gif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075-6B82-4094-B975-B213B952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451-81AF-4F9A-B5D7-8318F5B0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CFCE-B024-43AA-929F-D58E9ABA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B6A-A818-4640-B78B-35455A7C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884B-1E97-4C1F-9246-EC12004D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CEF2-61F6-491D-8756-7F163985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5883-8538-4D17-A416-FB201F77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723F-9C08-498D-B51E-C9448772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AA68-1D53-4248-A274-8F3B5589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8A6D-E8B3-4E13-B380-B7BE525D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2C5E-81B1-4D1F-84E3-E0DBF5D9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4CB3-0180-4A10-9AAE-7C3C1545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C657-AB78-4061-A8B3-4638C55A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AECE-A97E-44C2-B43F-DE6F2A26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7C04-1CEA-4C24-B647-59A56F12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2DD1-0CF7-4580-BD96-23B80D53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0FBF-118E-46E6-B712-D5B49552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F839E9-50E0-4D1B-9B61-8B10F2B0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4321B1-3FBE-4729-855D-330A31A6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1EFCD-C85A-404A-B59B-D5E71B83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C34F8-C3C1-477B-907E-A0FDA690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D1C1B-BABE-4148-AA9A-305F441F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BD4-6C75-47C0-95BA-78E03180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1A49D-D2B8-46E9-B248-03EB5765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178C2-0CF2-4CCB-BABE-6F668C1E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83B3B-0E3B-404E-B10D-D62FCFF5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31A09-394F-4231-8AE4-D73DF4AE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62753-FA09-4986-BB94-107E4159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0A656-7A76-493B-B7E9-6A78F631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77FE9-42B3-436A-8070-C888422D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BEB8B-6539-4BC8-B69D-5CFA7AAE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3476F-6E08-40F4-8DB7-72F5618B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EA7BC-447F-4666-955F-602A429F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99AB-39B3-40B3-BAB2-591500C6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29B7F-550A-4CC0-B63C-68BCC052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67360-8F69-4BDD-85F0-82CBF9BA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D6CEE-A864-49E8-81B9-E6BD1699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D9F56-3038-40B6-8F6E-1F0052B6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2F4ED-9B17-49D7-9B31-C9222AD5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6A50C-BF82-451C-8E2A-E729A545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B9E07-7D39-466D-80C3-1F25149E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A345B-BF45-4A6D-8536-E8FA8030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8D5F0-AA49-49E9-AB5E-FEB858A7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BA7370-DCF7-47E2-8821-05012E80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8B0-67F0-41FB-8922-F70C619C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8DE8D-AAD3-4F76-8B7B-61F60693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16E781-90BA-4234-9DAD-343B1699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7C4D63-AC1E-4060-84C7-F44F689E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7DBB4D-B39C-471E-9F8E-F1DD6319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F0740-8FAA-4675-B8BA-88DE2BC2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D02AE3-C0DF-44F1-8C86-88B37CC8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6C0E6-E4EB-487F-B875-014D8229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74BB94-CA2C-4398-8001-B9D27857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4CD6D4-207A-4F26-AAF7-66BEF71A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0CB8CC-F417-4008-9DAB-1365854B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49A-4F1E-42B3-B777-B4620F00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B47496-A680-4E96-BE75-D9C7BCC6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CD81A-D735-40B2-A9A1-6315521C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058039-2685-4C5C-9DE0-96FF98E7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7A1733-D189-4DEA-92E6-BFB899FB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BCB0B-B144-40F8-A776-7919B223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655234-11E2-418C-9167-FA7976A7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885BB5-4C7A-4519-A4EF-FF0EABDA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54488-1859-4E99-9B0C-29C08C6E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40B2CD-66CB-4D48-9D28-132310B1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FFB985-4865-4922-82D1-E47D10DB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6B8-18BE-45CA-B558-EFB46C80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11E696-60DB-42F3-88FF-F0B558D9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91B0A4-9166-4A86-977B-2D1F8A30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C6DE88-37E2-4B15-9BE8-E1BF5ACE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F1C769-CB4F-4067-B51E-1710A271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DF9CA0-3C8F-4D11-BD61-483CFE2A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BCC308-6483-46A9-A3A0-5EF65308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223728-C0B1-42DB-9AEC-F4C9916D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4B3F66-14E8-451C-90FF-BD5D6C26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4FF833-E73A-429F-AE01-AE7A9358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0D96DD-51DA-4BCF-9FE9-7026D84B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857-F48F-4916-BDE2-A817B6E6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2A37FB-A8C5-4DA0-A660-A8F448EF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CAE7EF-F044-4A51-90F8-347EBE52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A84664-BCCD-4FE3-8226-D9806E6B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609E8-9E0B-418C-BDF5-70BEB67F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F6FFEB-27C1-4DC4-8CBF-75B086BF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4B1-B54C-4AE8-A78F-AE21682B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5686-FE83-4127-86C4-25CDB3B191C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2741-16EC-46C2-99DA-1F391248A0A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B030-4C69-4FB9-816B-E277CFDE9E3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98E1-62BE-4E43-BE28-9FE74DB2320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99DB-C807-4FE4-8BFE-B9C3753C8BF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8BE6-9566-4222-A312-23E9C35BCD1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0B95-1EFF-4E8C-B64B-5FBFD7DC56F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20minutos.es/galeria/2190/0/19/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octor-rabat.net/images/barlow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doctor-rabat.net/images/ortol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84000" y="19886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ORTOPEDIA EN PEDIATRI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419200" y="4295520"/>
            <a:ext cx="64008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DR. MARTIN MARQUEZ RODRIGUEZ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PEDIAT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Schoolbook"/>
              </a:rPr>
              <a:t>Setiembre 2014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2071800" y="428760"/>
            <a:ext cx="5244480" cy="936360"/>
            <a:chOff x="2071800" y="428760"/>
            <a:chExt cx="5244480" cy="936360"/>
          </a:xfrm>
        </p:grpSpPr>
        <p:pic>
          <p:nvPicPr>
            <p:cNvPr id="354" name="Picture 13" descr="cyber_usmp_fmh"/>
            <p:cNvPicPr/>
            <p:nvPr/>
          </p:nvPicPr>
          <p:blipFill>
            <a:blip r:embed="rId1"/>
            <a:stretch/>
          </p:blipFill>
          <p:spPr>
            <a:xfrm>
              <a:off x="6379920" y="428760"/>
              <a:ext cx="93636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14" descr=""/>
            <p:cNvPicPr/>
            <p:nvPr/>
          </p:nvPicPr>
          <p:blipFill>
            <a:blip r:embed="rId2"/>
            <a:stretch/>
          </p:blipFill>
          <p:spPr>
            <a:xfrm>
              <a:off x="2071800" y="428760"/>
              <a:ext cx="4120920" cy="93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6" name="Picture 7" descr="HOSPITAL DEL NIÑO"/>
          <p:cNvPicPr/>
          <p:nvPr/>
        </p:nvPicPr>
        <p:blipFill>
          <a:blip r:embed="rId3"/>
          <a:stretch/>
        </p:blipFill>
        <p:spPr>
          <a:xfrm>
            <a:off x="4968720" y="5157720"/>
            <a:ext cx="1238400" cy="857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limabd"/>
          <p:cNvPicPr/>
          <p:nvPr/>
        </p:nvPicPr>
        <p:blipFill>
          <a:blip r:embed="rId1"/>
          <a:stretch/>
        </p:blipFill>
        <p:spPr>
          <a:xfrm>
            <a:off x="3071880" y="1844640"/>
            <a:ext cx="3539880" cy="41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Century Schoolbook"/>
              </a:rPr>
              <a:t>LIMITACIÓN PARA LA ABDUC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0040" y="210960"/>
            <a:ext cx="8143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C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71680" y="1643040"/>
            <a:ext cx="7596000" cy="50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DIAGNÓSTIC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cografía pélv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Rx de cader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TAC de cadera:  Cadera rígid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Artrografía:  Casi no se us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RMN: Cuando la ecografía es insuficiente en el pre operato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Picture 5" descr="DISPLASIA DE CADERA CON LUXACION.JPG"/>
          <p:cNvPicPr/>
          <p:nvPr/>
        </p:nvPicPr>
        <p:blipFill>
          <a:blip r:embed="rId1"/>
          <a:stretch/>
        </p:blipFill>
        <p:spPr>
          <a:xfrm>
            <a:off x="6029280" y="2103480"/>
            <a:ext cx="2279520" cy="33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C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1424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DIAGNÓSTICO DIFERENCIAL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Luxación teratológ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Luxación de la artrogrip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Luxación por coxitis tuberculos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Luxación por artritis pióge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Luxación por parálisis flácida espást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Coxo vara congéni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Distrofia progres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001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C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4296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EVOLUCIÓ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Reducción espontánea sin secuel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Desarrollo de una cadera displás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rogresión a luxación comple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065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LAS CADER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14240" y="1714320"/>
            <a:ext cx="72374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Century Schoolbook"/>
              </a:rPr>
              <a:t>TRATAMIENTO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575f6d"/>
                </a:solidFill>
                <a:latin typeface="Century Schoolbook"/>
              </a:rPr>
              <a:t>Antes de los 6 mese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Gran remodelació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50% se recuperan espontáneament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Arnes de Pavlik (3 semanas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No:  Tenotomia percutanea de aductore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Complicaciones: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2720" indent="-609840">
              <a:lnSpc>
                <a:spcPct val="14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Schoolbook"/>
              </a:rPr>
              <a:t>Necrosis avascular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2720" indent="-609840">
              <a:lnSpc>
                <a:spcPct val="140000"/>
              </a:lnSpc>
              <a:spcBef>
                <a:spcPts val="67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Schoolbook"/>
              </a:rPr>
              <a:t>Luxación inferior de caderas</a:t>
            </a:r>
            <a:r>
              <a:rPr b="0" lang="es-MX" sz="27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5" descr="sm_0239"/>
          <p:cNvPicPr/>
          <p:nvPr/>
        </p:nvPicPr>
        <p:blipFill>
          <a:blip r:embed="rId1"/>
          <a:stretch/>
        </p:blipFill>
        <p:spPr>
          <a:xfrm>
            <a:off x="5370480" y="1974960"/>
            <a:ext cx="2152800" cy="2030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pavlik%20harness"/>
          <p:cNvPicPr/>
          <p:nvPr/>
        </p:nvPicPr>
        <p:blipFill>
          <a:blip r:embed="rId2"/>
          <a:stretch/>
        </p:blipFill>
        <p:spPr>
          <a:xfrm>
            <a:off x="7308720" y="1987560"/>
            <a:ext cx="1354320" cy="1944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8-%20panal"/>
          <p:cNvPicPr/>
          <p:nvPr/>
        </p:nvPicPr>
        <p:blipFill>
          <a:blip r:embed="rId3"/>
          <a:stretch/>
        </p:blipFill>
        <p:spPr>
          <a:xfrm>
            <a:off x="6788160" y="4221000"/>
            <a:ext cx="1262160" cy="17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1320" y="210960"/>
            <a:ext cx="8001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C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71320" y="1714680"/>
            <a:ext cx="7972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TRATAMIENT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75f6d"/>
                </a:solidFill>
                <a:latin typeface="Century Schoolbook"/>
              </a:rPr>
              <a:t>1-2 años:</a:t>
            </a: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Tracción abducción por 3 seman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75f6d"/>
                </a:solidFill>
                <a:latin typeface="Century Schoolbook"/>
              </a:rPr>
              <a:t>2-4 años:</a:t>
            </a: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2720" indent="-609840">
              <a:lnSpc>
                <a:spcPct val="15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Tracción abducción (generalmente ineficaz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2720" indent="-609840">
              <a:lnSpc>
                <a:spcPct val="15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Miotomia de abductore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2720" indent="-609840">
              <a:lnSpc>
                <a:spcPct val="15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Reducción de Psoas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75f6d"/>
                </a:solidFill>
                <a:latin typeface="Century Schoolbook"/>
              </a:rPr>
              <a:t>A partir de 4 años:</a:t>
            </a: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n 2 tiempos.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7" descr="si_0083"/>
          <p:cNvPicPr/>
          <p:nvPr/>
        </p:nvPicPr>
        <p:blipFill>
          <a:blip r:embed="rId1"/>
          <a:stretch/>
        </p:blipFill>
        <p:spPr>
          <a:xfrm>
            <a:off x="6875640" y="4468680"/>
            <a:ext cx="1657080" cy="1624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C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COMPLIC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Estas dependen de 3 situaciones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LCC mal trat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LCC insuficientemente trat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LCC no trat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Necrosis aséptica de la cabeza femo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PIE BO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28400" y="14479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ompleja deformación congénita del pie, caracterizado por la existencia de 4 deformidades: Equino-varo-aducto y cav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considerado dentro del denominado grupo genérico “pie zambo”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Relativamente frecuente y conforman junto a la DDC y la escoliosis el grupo mas destacado de deformaciones esqueléticas del niñ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PIE BO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6430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presenta 1 – 4 / 1000 Rn viv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relación masculino-femenino 2: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50% de los casos es unilater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on cierta frecuencia coexiste con DD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PIE BO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ETIOPATOGENI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75f6d"/>
                </a:solidFill>
                <a:latin typeface="Century Schoolbook"/>
              </a:rPr>
              <a:t>T. Mecánica: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osición viciosa del pi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75f6d"/>
                </a:solidFill>
                <a:latin typeface="Century Schoolbook"/>
              </a:rPr>
              <a:t>T. Genética:</a:t>
            </a:r>
            <a:r>
              <a:rPr b="0" lang="es-ES_tradnl" sz="24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Trastorno cromosóm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75f6d"/>
                </a:solidFill>
                <a:latin typeface="Century Schoolbook"/>
              </a:rPr>
              <a:t>T. Neuromuscular: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Falta de conexiones nerviosas,  es la mas aceptad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ORTOPEDIA PEDIATR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14400" y="17143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Motivo frecuente de consul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s importante la preven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La mayoría de patologías se autolimita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Si no se interviene tempranamente pueden ocurrir secuelas importan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6" descr="015"/>
          <p:cNvPicPr/>
          <p:nvPr/>
        </p:nvPicPr>
        <p:blipFill>
          <a:blip r:embed="rId1"/>
          <a:stretch/>
        </p:blipFill>
        <p:spPr>
          <a:xfrm>
            <a:off x="6284880" y="1989000"/>
            <a:ext cx="1816200" cy="201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575f6d"/>
                </a:solidFill>
                <a:latin typeface="Century Schoolbook"/>
              </a:rPr>
              <a:t>PIE EQUIN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Flexión plant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9" name="Picture 4" descr="pieequino"/>
          <p:cNvPicPr/>
          <p:nvPr/>
        </p:nvPicPr>
        <p:blipFill>
          <a:blip r:embed="rId1"/>
          <a:stretch/>
        </p:blipFill>
        <p:spPr>
          <a:xfrm>
            <a:off x="2000160" y="2597040"/>
            <a:ext cx="2425680" cy="39751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pie%20equi"/>
          <p:cNvPicPr/>
          <p:nvPr/>
        </p:nvPicPr>
        <p:blipFill>
          <a:blip r:embed="rId2"/>
          <a:stretch/>
        </p:blipFill>
        <p:spPr>
          <a:xfrm>
            <a:off x="4959360" y="298116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575f6d"/>
                </a:solidFill>
                <a:latin typeface="Century Schoolbook"/>
              </a:rPr>
              <a:t>PIE CAV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40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vidad plantar exageradamente curv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Picture 4" descr="ns3"/>
          <p:cNvPicPr/>
          <p:nvPr/>
        </p:nvPicPr>
        <p:blipFill>
          <a:blip r:embed="rId1"/>
          <a:stretch/>
        </p:blipFill>
        <p:spPr>
          <a:xfrm>
            <a:off x="1682640" y="2603520"/>
            <a:ext cx="2889360" cy="5291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pie_cavo"/>
          <p:cNvPicPr/>
          <p:nvPr/>
        </p:nvPicPr>
        <p:blipFill>
          <a:blip r:embed="rId2"/>
          <a:stretch/>
        </p:blipFill>
        <p:spPr>
          <a:xfrm>
            <a:off x="5148360" y="3316320"/>
            <a:ext cx="2305080" cy="1913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575f6d"/>
                </a:solidFill>
                <a:latin typeface="Century Schoolbook"/>
              </a:rPr>
              <a:t>PIE ADUC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El antepie se presenta en aducción con respecto al retropi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4" descr="maductus"/>
          <p:cNvPicPr/>
          <p:nvPr/>
        </p:nvPicPr>
        <p:blipFill>
          <a:blip r:embed="rId1"/>
          <a:stretch/>
        </p:blipFill>
        <p:spPr>
          <a:xfrm>
            <a:off x="1494000" y="3213000"/>
            <a:ext cx="3006720" cy="190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8" name="Picture 8" descr="4deforpieaddcutus"/>
          <p:cNvPicPr/>
          <p:nvPr/>
        </p:nvPicPr>
        <p:blipFill>
          <a:blip r:embed="rId2"/>
          <a:stretch/>
        </p:blipFill>
        <p:spPr>
          <a:xfrm>
            <a:off x="5435640" y="3424320"/>
            <a:ext cx="2381040" cy="173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575f6d"/>
                </a:solidFill>
                <a:latin typeface="Century Schoolbook"/>
              </a:rPr>
              <a:t>PIE VAR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40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La planta del pie mira hacia adentro, el borde interno se eleva y el externo desciend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4" descr="2385212009_b749214b53"/>
          <p:cNvPicPr/>
          <p:nvPr/>
        </p:nvPicPr>
        <p:blipFill>
          <a:blip r:embed="rId1"/>
          <a:stretch/>
        </p:blipFill>
        <p:spPr>
          <a:xfrm>
            <a:off x="3092400" y="2967120"/>
            <a:ext cx="2979720" cy="289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PIE BO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91440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LASIFICACIÓ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75f6d"/>
                </a:solidFill>
                <a:latin typeface="Century Schoolbook"/>
              </a:rPr>
              <a:t>Di Meglio: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acuerdo a su severidad, puede ser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iscret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ver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PIE BO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040" y="1571760"/>
            <a:ext cx="744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LICACION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Alteración de partes blandas:  Casi todas de naturaleza retráctil (músculos, cápsula, ligamentos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Alteraciones esqueléticas:  Prácticamente todos los huesos tarsianos participan y contribuyen en formar el pie bot, así cada hueso adopta una posición anatómica aberran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PIE BO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040" y="1571760"/>
            <a:ext cx="744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DIAGNÓSTIC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75f6d"/>
                </a:solidFill>
                <a:latin typeface="Century Schoolbook"/>
              </a:rPr>
              <a:t>Clín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75f6d"/>
                </a:solidFill>
                <a:latin typeface="Century Schoolbook"/>
              </a:rPr>
              <a:t>Radiográfico: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encial para determinar el grado de deformación exacto y después de las maniobras de tratamient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PIE BO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28800" y="1571760"/>
            <a:ext cx="750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TAMIENT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Manipulación forzadas:  en desus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Manipulación suave, precoz, y correctiv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Todos los días o 3 veces por semana seguido de colocación de yes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PIE BO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914040" y="1571760"/>
            <a:ext cx="7372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LUSION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l pie bot no tratado precozmente, se hace irreducible rápidamente y en forma irreversib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reducción ortopédica perfecta ocurre antes de las 2 semanas, en forma ocasional hasta los 12 mes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asado los 4 años la reducción es irreversib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PIE PLAN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42960" y="1499760"/>
            <a:ext cx="550080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Disminución del arco longitudinal interno del pi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Hallazgo fisiológico hasta el cuarto año de vida (abundante grasa y laxitud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CLASIFICACIÓ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ie plano laxopostur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ie plano rígid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4" name="Picture 3" descr="ccc"/>
          <p:cNvPicPr/>
          <p:nvPr/>
        </p:nvPicPr>
        <p:blipFill>
          <a:blip r:embed="rId1"/>
          <a:stretch/>
        </p:blipFill>
        <p:spPr>
          <a:xfrm>
            <a:off x="5211720" y="4432320"/>
            <a:ext cx="3299040" cy="1346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dscn0986"/>
          <p:cNvPicPr/>
          <p:nvPr/>
        </p:nvPicPr>
        <p:blipFill>
          <a:blip r:embed="rId2"/>
          <a:stretch/>
        </p:blipFill>
        <p:spPr>
          <a:xfrm>
            <a:off x="6076800" y="1755720"/>
            <a:ext cx="2433960" cy="1822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1320" y="260280"/>
            <a:ext cx="8001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C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39280" y="199980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Alteración de la osificación del acetábu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CLASIFICACIÓ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1) Luxación típica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II) Luxación Atípica(Teratológic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371600" indent="-461880">
              <a:lnSpc>
                <a:spcPct val="15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Pre nata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371600" indent="-461880">
              <a:lnSpc>
                <a:spcPct val="15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Perinata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371600" indent="-461880">
              <a:lnSpc>
                <a:spcPct val="15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entury Schoolbook"/>
              </a:rPr>
              <a:t>Post natal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371600" indent="-461880">
              <a:lnSpc>
                <a:spcPct val="15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Century School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PIE PLAN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1440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FACTORES PREDISPONENT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Laxitud ligamentosa</a:t>
            </a: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Debilidad muscul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Obesida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Andadores, mamelucos cerrad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Forzar la march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Calzado inadecuad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8" name="Picture 5" descr="160307 Niño obeso en Bras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3680" y="1639800"/>
            <a:ext cx="1494000" cy="22258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salud"/>
          <p:cNvPicPr/>
          <p:nvPr/>
        </p:nvPicPr>
        <p:blipFill>
          <a:blip r:embed="rId3"/>
          <a:stretch/>
        </p:blipFill>
        <p:spPr>
          <a:xfrm>
            <a:off x="5175360" y="2766960"/>
            <a:ext cx="1596960" cy="14511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" descr="Image15775"/>
          <p:cNvPicPr/>
          <p:nvPr/>
        </p:nvPicPr>
        <p:blipFill>
          <a:blip r:embed="rId4"/>
          <a:stretch/>
        </p:blipFill>
        <p:spPr>
          <a:xfrm>
            <a:off x="6870600" y="4138560"/>
            <a:ext cx="1535040" cy="193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PIE PLAN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914040" y="1571760"/>
            <a:ext cx="744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DIAGNÓSTIC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osición de pie durante la marcha, sentado y decúbit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lantigrafía:  Pie pintad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lantoscopia:  Observación dinám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75f6d"/>
                </a:solidFill>
                <a:latin typeface="Century Schoolbook"/>
              </a:rPr>
              <a:t>Radiográfico:  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Reservado para casos especi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3" name="Picture 7" descr="thumb_1290732719"/>
          <p:cNvPicPr/>
          <p:nvPr/>
        </p:nvPicPr>
        <p:blipFill>
          <a:blip r:embed="rId1"/>
          <a:stretch/>
        </p:blipFill>
        <p:spPr>
          <a:xfrm>
            <a:off x="6516720" y="328464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PIE PLAN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914040" y="1571760"/>
            <a:ext cx="7443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PREVENTIVO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so de calzado inadecuado antes de que el niño cami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Bota que llegue a los maleolos, suela de cuero y tacón de hu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PIE PLAN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914400" y="157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TRATAMIENT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rograma preventiv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stimular la marcha de pun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Ejercicios en el tricic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Plantillas,  taloneras</a:t>
            </a: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8" name="Picture 3" descr="CLASSIC%20HEEL%20CUPS"/>
          <p:cNvPicPr/>
          <p:nvPr/>
        </p:nvPicPr>
        <p:blipFill>
          <a:blip r:embed="rId1"/>
          <a:stretch/>
        </p:blipFill>
        <p:spPr>
          <a:xfrm>
            <a:off x="6407280" y="1785960"/>
            <a:ext cx="1761840" cy="34513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Prod114p"/>
          <p:cNvPicPr/>
          <p:nvPr/>
        </p:nvPicPr>
        <p:blipFill>
          <a:blip r:embed="rId2"/>
          <a:stretch/>
        </p:blipFill>
        <p:spPr>
          <a:xfrm>
            <a:off x="5973840" y="3767040"/>
            <a:ext cx="2504880" cy="4486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451" name="1 CuadroTexto"/>
          <p:cNvSpPr/>
          <p:nvPr/>
        </p:nvSpPr>
        <p:spPr>
          <a:xfrm>
            <a:off x="971640" y="53974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200" spc="-1" strike="noStrike">
                <a:solidFill>
                  <a:srgbClr val="000000"/>
                </a:solidFill>
                <a:latin typeface="Arial"/>
              </a:rPr>
              <a:t>Muchas graci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2600" y="282600"/>
            <a:ext cx="8001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C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42960" y="1785600"/>
            <a:ext cx="8043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Epidemiologí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4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entury Schoolbook"/>
              </a:rPr>
              <a:t>0.65 - 4 / 1000 Rn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4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entury Schoolbook"/>
              </a:rPr>
              <a:t>Femenino – Masculino, 6 : 1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4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entury Schoolbook"/>
              </a:rPr>
              <a:t>Unilateral 80%, Bilateral 20%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4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entury Schoolbook"/>
              </a:rPr>
              <a:t>Raza negra, china y coreana y andina(poco frecuente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1320" y="282600"/>
            <a:ext cx="8001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C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713880" y="1785600"/>
            <a:ext cx="7572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Century Schoolbook"/>
              </a:rPr>
              <a:t>ETIOLOGIA</a:t>
            </a:r>
            <a:r>
              <a:rPr b="0" lang="es-MX" sz="21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575f6d"/>
                </a:solidFill>
                <a:latin typeface="Century Schoolbook"/>
              </a:rPr>
              <a:t>Factores inestabilizadores o endógenos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2720" indent="-609840">
              <a:lnSpc>
                <a:spcPct val="15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Schoolbook"/>
              </a:rPr>
              <a:t>F.  Genéticos:  Historia familiar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2720" indent="-609840">
              <a:lnSpc>
                <a:spcPct val="15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Schoolbook"/>
              </a:rPr>
              <a:t>Laxitud ligamentosa familiar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2720" indent="-609840">
              <a:lnSpc>
                <a:spcPct val="15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Schoolbook"/>
              </a:rPr>
              <a:t>F.  Hormonale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575f6d"/>
                </a:solidFill>
                <a:latin typeface="Century Schoolbook"/>
              </a:rPr>
              <a:t>Factores desencadenantes o exógenos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2720" indent="-609840">
              <a:lnSpc>
                <a:spcPct val="15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Schoolbook"/>
              </a:rPr>
              <a:t>F.  Mecánicos:  Posición intrauterina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82720" indent="-609840">
              <a:lnSpc>
                <a:spcPct val="15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Century Schoolbook"/>
              </a:rPr>
              <a:t>F.  Ambientales:  Arropamiento en extensión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1320" y="210960"/>
            <a:ext cx="8001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C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14240" y="1700280"/>
            <a:ext cx="817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Schoolbook"/>
              </a:rPr>
              <a:t>DIAGNÓSTIC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Historia clínica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Antecedentes familia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Sexo femeni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Antecedentes del part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Malformaciones (pie bot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1029" descr="luxacion"/>
          <p:cNvPicPr/>
          <p:nvPr/>
        </p:nvPicPr>
        <p:blipFill>
          <a:blip r:embed="rId1"/>
          <a:stretch/>
        </p:blipFill>
        <p:spPr>
          <a:xfrm>
            <a:off x="5546880" y="3449520"/>
            <a:ext cx="2682720" cy="3988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575f6d"/>
                </a:solidFill>
                <a:latin typeface="Century Schoolbook"/>
              </a:rPr>
              <a:t>DISPLASIA DEL DESARROLLO DE CADE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85880" y="135720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Schoolbook"/>
              </a:rPr>
              <a:t>DIAGNÓSTICO:   </a:t>
            </a:r>
            <a:r>
              <a:rPr b="0" lang="es-MX" sz="1200" spc="-1" strike="noStrike">
                <a:solidFill>
                  <a:srgbClr val="000000"/>
                </a:solidFill>
                <a:latin typeface="Century Schoolbook"/>
              </a:rPr>
              <a:t>Examen físico: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e84b4"/>
                </a:solidFill>
                <a:latin typeface="Arial"/>
                <a:ea typeface="Arial"/>
              </a:rPr>
              <a:t>Signos de sospecha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Asimetría de pliegues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50% tienen cadera normal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Barlow Ortolani (+)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Abducción debe ser &gt; 45°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Acortamiento de miembro inferio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e84b4"/>
                </a:solidFill>
                <a:latin typeface="Arial"/>
                <a:ea typeface="Arial"/>
              </a:rPr>
              <a:t>Signos de certeza</a:t>
            </a:r>
            <a:r>
              <a:rPr b="1" lang="es-MX" sz="1200" spc="-1" strike="noStrike">
                <a:solidFill>
                  <a:srgbClr val="6e84b4"/>
                </a:solidFill>
                <a:latin typeface="Arial"/>
                <a:ea typeface="Arial"/>
              </a:rPr>
              <a:t>	</a:t>
            </a:r>
            <a:r>
              <a:rPr b="1" lang="es-MX" sz="1200" spc="-1" strike="noStrike">
                <a:solidFill>
                  <a:srgbClr val="6e84b4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Palpación de la cabeza femoral fuera de luga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Lateralización y ascenso del trocanter mayo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Desplazamiento lateral de la cabeza femoral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548280" indent="-5482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entury Schoolbook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057" descr="Cadera3"/>
          <p:cNvPicPr/>
          <p:nvPr/>
        </p:nvPicPr>
        <p:blipFill>
          <a:blip r:embed="rId1"/>
          <a:stretch/>
        </p:blipFill>
        <p:spPr>
          <a:xfrm>
            <a:off x="4906800" y="1420920"/>
            <a:ext cx="3183120" cy="3047760"/>
          </a:xfrm>
          <a:prstGeom prst="rect">
            <a:avLst/>
          </a:prstGeom>
          <a:ln w="0">
            <a:noFill/>
          </a:ln>
        </p:spPr>
      </p:pic>
      <p:sp>
        <p:nvSpPr>
          <p:cNvPr id="372" name="5 Rectángulo"/>
          <p:cNvSpPr/>
          <p:nvPr/>
        </p:nvSpPr>
        <p:spPr>
          <a:xfrm>
            <a:off x="5143680" y="4214880"/>
            <a:ext cx="3143160" cy="14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e84b4"/>
                </a:solidFill>
                <a:latin typeface="Arial"/>
                <a:ea typeface="Arial"/>
              </a:rPr>
              <a:t>Cuando el niño c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Balanceo excesivo de homb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Marcha del pa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Hundimiento del lado afec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600876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Century Schoolbook"/>
              </a:rPr>
              <a:t>Abducción debe ser mayor a 45 grado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3736800" y="1714320"/>
            <a:ext cx="54072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entury Schoolbook"/>
              </a:rPr>
              <a:t>ASIMETRÍA DE PLIEGUES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Picture 5" descr="asimetria%20de%20plecs"/>
          <p:cNvPicPr/>
          <p:nvPr/>
        </p:nvPicPr>
        <p:blipFill>
          <a:blip r:embed="rId1"/>
          <a:stretch/>
        </p:blipFill>
        <p:spPr>
          <a:xfrm>
            <a:off x="853920" y="706320"/>
            <a:ext cx="2998800" cy="3299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Cadera2"/>
          <p:cNvPicPr/>
          <p:nvPr/>
        </p:nvPicPr>
        <p:blipFill>
          <a:blip r:embed="rId2"/>
          <a:stretch/>
        </p:blipFill>
        <p:spPr>
          <a:xfrm>
            <a:off x="5986440" y="3852720"/>
            <a:ext cx="2395440" cy="3730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5" descr="barlow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214280"/>
            <a:ext cx="230976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78" name="Picture 7" descr="ortol_sm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3760" y="3192480"/>
            <a:ext cx="219852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99960" y="615600"/>
            <a:ext cx="4128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000000"/>
                </a:solidFill>
                <a:latin typeface="Century Schoolbook"/>
              </a:rPr>
              <a:t>SIGNO DE ORTOLANI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857920" y="2489040"/>
            <a:ext cx="328608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Century Schoolbook"/>
              </a:rPr>
              <a:t>Signo de Barlow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1" descr="cadera1a"/>
          <p:cNvPicPr/>
          <p:nvPr/>
        </p:nvPicPr>
        <p:blipFill>
          <a:blip r:embed="rId5"/>
          <a:stretch/>
        </p:blipFill>
        <p:spPr>
          <a:xfrm>
            <a:off x="3108240" y="1231920"/>
            <a:ext cx="2286000" cy="3559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1:57:10Z</dcterms:created>
  <dc:creator>HP</dc:creator>
  <dc:description/>
  <dc:language>en-US</dc:language>
  <cp:lastModifiedBy>bcnet</cp:lastModifiedBy>
  <dcterms:modified xsi:type="dcterms:W3CDTF">2014-09-03T19:14:45Z</dcterms:modified>
  <cp:revision>47</cp:revision>
  <dc:subject/>
  <dc:title>Diapositiva 1</dc:title>
</cp:coreProperties>
</file>