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7.png" ContentType="image/png"/>
  <Override PartName="/ppt/media/image1.gif" ContentType="image/gif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563-9BAE-4E4E-86ED-803A7D7A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994-08BC-49C6-A896-1DFE6B83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558-AA68-481B-A9EE-F74EA499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C28-CB50-426D-BAD6-DF18B5D8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7C6F-BA42-40F2-81E3-4EBDBC04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063B-3A66-42FA-A707-067C3100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59B5-082A-4EDA-A6F7-DDE9ADDA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753-682D-4ACB-9615-96A8AE38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C0C7-5770-4492-80FD-B0C45EFE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2F82-1C4D-4DB3-9B9C-EDB0EE36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C021-E707-4BA9-B398-383143CB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D68-71EC-4F55-A214-5012155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23AE-A896-4EA8-B0B5-569EC55B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26E5-9BCA-4847-B779-BF05A99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3DBF-0F02-41A8-AABE-7DA5947C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EFB9-F888-4B6E-877B-5E7CD664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F2BC-C1F2-4231-8006-01C8F6C1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CCE33-5CAD-4165-9A43-E341E123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E8CBB-4E65-489B-8D20-F43AC282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57ED5-8EFE-49EE-AACF-F8F293C6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75F50-811B-420A-A59D-13D9DA5E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B98CE-DFF0-4BC1-B1E8-624C6F2A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A64-56FC-4452-95A2-E2745EA2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F9C4D-4695-4CAD-84D5-FFB7A66A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3676B-AEC0-4AFF-8DBB-7E1ACE42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83BC0-9EAB-4C3F-A027-95A48766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58E22-0EED-4594-9191-F72EDFAF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C0AD4-30C9-4D7E-A087-80844E7A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BBCE3-CF92-4906-B5AF-2CD4FA3C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00572-FDF2-41EB-9477-1BC61427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23AE-DC74-49FF-80A9-91305CE3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E7EC9-D441-4379-807C-6D264374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ED02-743D-48E4-8832-4C5142C9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BEA-75A4-4CAC-ADBA-5939A04C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B1965-51A2-4AD2-A95E-F1DCC53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2340C-8188-45BD-A2A7-DB27BF31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6A95-43FB-47F9-8F29-A539987A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886A-6670-40EC-AAB7-C16DC9D3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5231-EA3C-4EB9-9ACE-D2ABEF4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1476-4AF0-40A2-A712-BD1F6B67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5EF4-C434-463D-9694-F127E046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5095B-136E-46FB-8630-555C662D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4FF4-D9B4-4188-8E4F-83AB11C8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3A5AA-D8CB-4FD9-B2CF-CB44B52E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ADF-BD63-4847-82C6-A89B319D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A65C3-28D2-432F-B029-8CAD0588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42A13-415F-4CEA-849C-E8DBDAE7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CFA4A-B33C-4F28-82C4-EAF3A0F1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CCB79-E30F-4064-8A1D-8F147E6A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86BC6-0657-4638-AFCB-DE28927D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C954B-09BC-4DB2-A00F-18E895F0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5F41A-74F2-4800-8380-9EEBCFE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2F187-C9C2-4705-8F3F-1FAAF7E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9D37C-1B81-412C-BE4D-30038DA8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6E483-9E2F-4939-9C11-669FB658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D77-63C6-4885-BD8F-28108391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34F55-9F99-4C97-90F5-4BBB238C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85490-319A-4762-A969-D722A228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27CB6-5293-4168-A520-ED70A14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2DB9F-FB5B-47B0-A031-9120A8CD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0E5A1-7974-4BF3-B89D-BD96E8F2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087D1-F6C5-433A-A5DF-0BE6ABDE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B0B78-ABC6-4AF8-85D9-399C4A63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A7688-063E-46A3-A427-AA84EF75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1047E-59D7-4DD7-AC2E-32D5E69E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6699E-F6B4-41AD-A345-72A0974B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A04-524C-47E6-AA22-E42C143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E0269-532B-4B14-B469-4DC035BB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5D1A7-218E-42D5-9983-C61D56D9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73821-7BDC-432E-892D-F0C898D6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6CB19-9B5B-4393-AFE3-A72BF2C7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56AD5-4A05-4B99-AAB2-AD1A156A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45985-2D4F-42E2-BB43-63597A37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08435-9C12-4054-B4D6-6D84C705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F88FC-8204-49E9-8C1C-EA4E3FF5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46BA1-B899-4BED-9B27-4BA9099A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4878E-600B-4E28-8F44-383A32A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F0C-DBC4-41D0-BE2D-E9F94919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16B85-D4BB-4B6A-806C-3B5B9CCB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0438F-0BF9-4E47-98AD-879871B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73616-AC6D-4FBE-9D4E-AAF76492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F4672-3065-4EC0-B65C-60D42755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CD53A-AB4B-44EB-9F70-7E79CA90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0CA-827F-4969-BDFB-B7AF48F7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77D-C64A-4720-A685-FBBEF16F213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0C85-7292-448A-97FB-8B728993BFE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776D-1D6E-435C-852A-C8DDEA88DF5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DB64-A9DE-4F0A-BC7C-50E2322EA7A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CB3A-08C3-4173-A2F9-B97D5DC7475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E879-5815-40A7-AC23-304CDFA6480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041D-CFE8-4D37-9A08-03A52D86DA6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20minutos.es/galeria/2190/0/19/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octor-rabat.net/images/barlow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doctor-rabat.net/images/ortol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84000" y="19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ORTOPEDIA EN PEDIATR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19200" y="4295520"/>
            <a:ext cx="64008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R. MARTIN MARQUEZ RODRIGUE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PEDIAT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Schoolbook"/>
              </a:rPr>
              <a:t>Setiembre 201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2071800" y="428760"/>
            <a:ext cx="5244480" cy="936360"/>
            <a:chOff x="2071800" y="428760"/>
            <a:chExt cx="5244480" cy="936360"/>
          </a:xfrm>
        </p:grpSpPr>
        <p:pic>
          <p:nvPicPr>
            <p:cNvPr id="354" name="Picture 13" descr="cyber_usmp_fmh"/>
            <p:cNvPicPr/>
            <p:nvPr/>
          </p:nvPicPr>
          <p:blipFill>
            <a:blip r:embed="rId1"/>
            <a:stretch/>
          </p:blipFill>
          <p:spPr>
            <a:xfrm>
              <a:off x="6379920" y="428760"/>
              <a:ext cx="93636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4" descr=""/>
            <p:cNvPicPr/>
            <p:nvPr/>
          </p:nvPicPr>
          <p:blipFill>
            <a:blip r:embed="rId2"/>
            <a:stretch/>
          </p:blipFill>
          <p:spPr>
            <a:xfrm>
              <a:off x="2071800" y="428760"/>
              <a:ext cx="4120920" cy="93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6" name="Picture 7" descr="HOSPITAL DEL NIÑO"/>
          <p:cNvPicPr/>
          <p:nvPr/>
        </p:nvPicPr>
        <p:blipFill>
          <a:blip r:embed="rId3"/>
          <a:stretch/>
        </p:blipFill>
        <p:spPr>
          <a:xfrm>
            <a:off x="4968720" y="5157720"/>
            <a:ext cx="1238400" cy="857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limabd"/>
          <p:cNvPicPr/>
          <p:nvPr/>
        </p:nvPicPr>
        <p:blipFill>
          <a:blip r:embed="rId1"/>
          <a:stretch/>
        </p:blipFill>
        <p:spPr>
          <a:xfrm>
            <a:off x="3071880" y="1844640"/>
            <a:ext cx="353988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Century Schoolbook"/>
              </a:rPr>
              <a:t>LIMITACIÓN PARA LA ABDUC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210960"/>
            <a:ext cx="8143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71680" y="1643040"/>
            <a:ext cx="759600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AGNÓSTIC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cografía pélv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x de cade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TAC de cadera:  Cadera rígid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rtrografía:  Casi no se u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MN: Cuando la ecografía es insuficiente en el pre operato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5" descr="DISPLASIA DE CADERA CON LUXACION.JPG"/>
          <p:cNvPicPr/>
          <p:nvPr/>
        </p:nvPicPr>
        <p:blipFill>
          <a:blip r:embed="rId1"/>
          <a:stretch/>
        </p:blipFill>
        <p:spPr>
          <a:xfrm>
            <a:off x="6029280" y="2103480"/>
            <a:ext cx="2279520" cy="33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1424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AGNÓSTICO DIFERENCIAL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teratológ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de la artrogrip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por coxitis tuberculo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por artritis pióge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por parálisis flácida espás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Coxo vara congéni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strofia progres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4296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EVOLU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educción espontánea sin secuel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Desarrollo de una cadera displá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rogresión a luxación comple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065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LAS CADER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14240" y="1714320"/>
            <a:ext cx="72374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Century Schoolbook"/>
              </a:rPr>
              <a:t>TRATAMIENTO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575f6d"/>
                </a:solidFill>
                <a:latin typeface="Century Schoolbook"/>
              </a:rPr>
              <a:t>Antes de los 6 mes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Gran remodel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50% se recuperan espontáneamen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Arnes de Pavlik (3 semanas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No:  Tenotomia percutanea de aductor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omplicaciones: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4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Necrosis avascular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40000"/>
              </a:lnSpc>
              <a:spcBef>
                <a:spcPts val="67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Luxación inferior de caderas</a:t>
            </a:r>
            <a:r>
              <a:rPr b="0" lang="es-MX" sz="27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5" descr="sm_0239"/>
          <p:cNvPicPr/>
          <p:nvPr/>
        </p:nvPicPr>
        <p:blipFill>
          <a:blip r:embed="rId1"/>
          <a:stretch/>
        </p:blipFill>
        <p:spPr>
          <a:xfrm>
            <a:off x="5370480" y="1974960"/>
            <a:ext cx="2152800" cy="2030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pavlik%20harness"/>
          <p:cNvPicPr/>
          <p:nvPr/>
        </p:nvPicPr>
        <p:blipFill>
          <a:blip r:embed="rId2"/>
          <a:stretch/>
        </p:blipFill>
        <p:spPr>
          <a:xfrm>
            <a:off x="7308720" y="1987560"/>
            <a:ext cx="1354320" cy="1944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8-%20panal"/>
          <p:cNvPicPr/>
          <p:nvPr/>
        </p:nvPicPr>
        <p:blipFill>
          <a:blip r:embed="rId3"/>
          <a:stretch/>
        </p:blipFill>
        <p:spPr>
          <a:xfrm>
            <a:off x="6788160" y="4221000"/>
            <a:ext cx="1262160" cy="17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21096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71320" y="171468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TRATAMIEN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5f6d"/>
                </a:solidFill>
                <a:latin typeface="Century Schoolbook"/>
              </a:rPr>
              <a:t>1-2 años: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Tracción abducción por 3 seman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5f6d"/>
                </a:solidFill>
                <a:latin typeface="Century Schoolbook"/>
              </a:rPr>
              <a:t>2-4 años: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Tracción abducción (generalmente ineficaz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Miotomia de abductor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Reducción de Pso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5f6d"/>
                </a:solidFill>
                <a:latin typeface="Century Schoolbook"/>
              </a:rPr>
              <a:t>A partir de 4 años: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n 2 tiempos.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7" descr="si_0083"/>
          <p:cNvPicPr/>
          <p:nvPr/>
        </p:nvPicPr>
        <p:blipFill>
          <a:blip r:embed="rId1"/>
          <a:stretch/>
        </p:blipFill>
        <p:spPr>
          <a:xfrm>
            <a:off x="6875640" y="4468680"/>
            <a:ext cx="1657080" cy="162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COMPLIC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Estas dependen de 3 situaciones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LCC mal trat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LCC insuficientemente trat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LCC no trat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Necrosis aséptica de la cabeza fem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400" y="14479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ompleja deformación congénita del pie, caracterizado por la existencia de 4 deformidades: Equino-varo-aducto y cav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considerado dentro del denominado grupo genérico “pie zambo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Relativamente frecuente y conforman junto a la DDC y la escoliosis el grupo mas destacado de deformaciones esqueléticas del niñ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presenta 1 – 4 / 1000 Rn viv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relación masculino-femenino 2: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50% de los casos es unilater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on cierta frecuencia coexiste con DD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ETIOPATOGENI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T. Mecánica: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osición viciosa del p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T. Genética:</a:t>
            </a:r>
            <a:r>
              <a:rPr b="0" lang="es-ES_tradnl" sz="24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Trastorno cromosóm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T. Neuromuscular: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alta de conexiones nerviosas,  es la mas aceptad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ORTOPEDIA PEDIATR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otivo frecuente de consul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 importante la preven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La mayoría de patologías se autolimita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i no se interviene tempranamente pueden ocurrir secuelas importan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6" descr="015"/>
          <p:cNvPicPr/>
          <p:nvPr/>
        </p:nvPicPr>
        <p:blipFill>
          <a:blip r:embed="rId1"/>
          <a:stretch/>
        </p:blipFill>
        <p:spPr>
          <a:xfrm>
            <a:off x="6284880" y="1989000"/>
            <a:ext cx="1816200" cy="20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575f6d"/>
                </a:solidFill>
                <a:latin typeface="Century Schoolbook"/>
              </a:rPr>
              <a:t>PIE EQUI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lexión plant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4" descr="pieequino"/>
          <p:cNvPicPr/>
          <p:nvPr/>
        </p:nvPicPr>
        <p:blipFill>
          <a:blip r:embed="rId1"/>
          <a:stretch/>
        </p:blipFill>
        <p:spPr>
          <a:xfrm>
            <a:off x="2000160" y="2597040"/>
            <a:ext cx="2425680" cy="3975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pie%20equi"/>
          <p:cNvPicPr/>
          <p:nvPr/>
        </p:nvPicPr>
        <p:blipFill>
          <a:blip r:embed="rId2"/>
          <a:stretch/>
        </p:blipFill>
        <p:spPr>
          <a:xfrm>
            <a:off x="4959360" y="298116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575f6d"/>
                </a:solidFill>
                <a:latin typeface="Century Schoolbook"/>
              </a:rPr>
              <a:t>PIE CAV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vidad plantar exageradamente curv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4" descr="ns3"/>
          <p:cNvPicPr/>
          <p:nvPr/>
        </p:nvPicPr>
        <p:blipFill>
          <a:blip r:embed="rId1"/>
          <a:stretch/>
        </p:blipFill>
        <p:spPr>
          <a:xfrm>
            <a:off x="1682640" y="2603520"/>
            <a:ext cx="2889360" cy="529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pie_cavo"/>
          <p:cNvPicPr/>
          <p:nvPr/>
        </p:nvPicPr>
        <p:blipFill>
          <a:blip r:embed="rId2"/>
          <a:stretch/>
        </p:blipFill>
        <p:spPr>
          <a:xfrm>
            <a:off x="5148360" y="3316320"/>
            <a:ext cx="2305080" cy="191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575f6d"/>
                </a:solidFill>
                <a:latin typeface="Century Schoolbook"/>
              </a:rPr>
              <a:t>PIE ADUC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El antepie se presenta en aducción con respecto al retrop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4" descr="maductus"/>
          <p:cNvPicPr/>
          <p:nvPr/>
        </p:nvPicPr>
        <p:blipFill>
          <a:blip r:embed="rId1"/>
          <a:stretch/>
        </p:blipFill>
        <p:spPr>
          <a:xfrm>
            <a:off x="1494000" y="3213000"/>
            <a:ext cx="300672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8" name="Picture 8" descr="4deforpieaddcutus"/>
          <p:cNvPicPr/>
          <p:nvPr/>
        </p:nvPicPr>
        <p:blipFill>
          <a:blip r:embed="rId2"/>
          <a:stretch/>
        </p:blipFill>
        <p:spPr>
          <a:xfrm>
            <a:off x="5435640" y="3424320"/>
            <a:ext cx="2381040" cy="173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575f6d"/>
                </a:solidFill>
                <a:latin typeface="Century Schoolbook"/>
              </a:rPr>
              <a:t>PIE VA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La planta del pie mira hacia adentro, el borde interno se eleva y el externo desciend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4" descr="2385212009_b749214b53"/>
          <p:cNvPicPr/>
          <p:nvPr/>
        </p:nvPicPr>
        <p:blipFill>
          <a:blip r:embed="rId1"/>
          <a:stretch/>
        </p:blipFill>
        <p:spPr>
          <a:xfrm>
            <a:off x="3092400" y="2967120"/>
            <a:ext cx="2979720" cy="28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LASIFIC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Di Meglio: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acuerdo a su severidad, puede ser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iscre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v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040" y="1571760"/>
            <a:ext cx="744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LICACION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lteración de partes blandas:  Casi todas de naturaleza retráctil (músculos, cápsula, ligamentos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lteraciones esqueléticas:  Prácticamente todos los huesos tarsianos participan y contribuyen en formar el pie bot, así cada hueso adopta una posición anatómica aberra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040" y="1571760"/>
            <a:ext cx="744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DIAGNÓSTIC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Clín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Radiográfico: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encial para determinar el grado de deformación exacto y después de las maniobras de tratamien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2880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TAMIEN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Manipulación forzadas:  en desus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Manipulación suave, precoz, y correctiv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Todos los días o 3 veces por semana seguido de colocación de yes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040" y="1571760"/>
            <a:ext cx="737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LUSION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l pie bot no tratado precozmente, se hace irreducible rápidamente y en forma irreversib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reducción ortopédica perfecta ocurre antes de las 2 semanas, en forma ocasional hasta los 12 mes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asado los 4 años la reducción es irreversib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42960" y="1499760"/>
            <a:ext cx="55008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Disminución del arco longitudinal interno del p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Hallazgo fisiológico hasta el cuarto año de vida (abundante grasa y laxitud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CLASIFIC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ie plano laxopostur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ie plano rígi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3" descr="ccc"/>
          <p:cNvPicPr/>
          <p:nvPr/>
        </p:nvPicPr>
        <p:blipFill>
          <a:blip r:embed="rId1"/>
          <a:stretch/>
        </p:blipFill>
        <p:spPr>
          <a:xfrm>
            <a:off x="5211720" y="4432320"/>
            <a:ext cx="3299040" cy="13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dscn0986"/>
          <p:cNvPicPr/>
          <p:nvPr/>
        </p:nvPicPr>
        <p:blipFill>
          <a:blip r:embed="rId2"/>
          <a:stretch/>
        </p:blipFill>
        <p:spPr>
          <a:xfrm>
            <a:off x="6076800" y="1755720"/>
            <a:ext cx="2433960" cy="182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26028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9280" y="199980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lteración de la osificación del acetábu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CLASIFIC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1) Luxación típica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II) Luxación Atípica(Teratológic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-461880">
              <a:lnSpc>
                <a:spcPct val="15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re na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-461880">
              <a:lnSpc>
                <a:spcPct val="15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erina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-461880">
              <a:lnSpc>
                <a:spcPct val="15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ost na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-461880">
              <a:lnSpc>
                <a:spcPct val="15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FACTORES PREDISPONENT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Laxitud ligamentosa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Debilidad muscul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Obesida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ndadores, mamelucos cerrad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orzar la march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alzado inadecua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8" name="Picture 5" descr="160307 Niño obeso en Bras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3680" y="1639800"/>
            <a:ext cx="1494000" cy="2225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salud"/>
          <p:cNvPicPr/>
          <p:nvPr/>
        </p:nvPicPr>
        <p:blipFill>
          <a:blip r:embed="rId3"/>
          <a:stretch/>
        </p:blipFill>
        <p:spPr>
          <a:xfrm>
            <a:off x="5175360" y="2766960"/>
            <a:ext cx="1596960" cy="1451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Image15775"/>
          <p:cNvPicPr/>
          <p:nvPr/>
        </p:nvPicPr>
        <p:blipFill>
          <a:blip r:embed="rId4"/>
          <a:stretch/>
        </p:blipFill>
        <p:spPr>
          <a:xfrm>
            <a:off x="6870600" y="4138560"/>
            <a:ext cx="1535040" cy="19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040" y="1571760"/>
            <a:ext cx="744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AGNÓSTIC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osición de pie durante la marcha, sentado y decúbi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lantigrafía:  Pie pinta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lantoscopia:  Observación dinám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5f6d"/>
                </a:solidFill>
                <a:latin typeface="Century Schoolbook"/>
              </a:rPr>
              <a:t>Radiográfico: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eservado para casos especi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3" name="Picture 7" descr="thumb_1290732719"/>
          <p:cNvPicPr/>
          <p:nvPr/>
        </p:nvPicPr>
        <p:blipFill>
          <a:blip r:embed="rId1"/>
          <a:stretch/>
        </p:blipFill>
        <p:spPr>
          <a:xfrm>
            <a:off x="6516720" y="328464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914040" y="1571760"/>
            <a:ext cx="744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PREVENTIV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so de calzado inadecuado antes de que el niño cam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ota que llegue a los maleolos, suela de cuero y tacón de hu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TRATAMIEN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rograma preventiv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timular la marcha de pun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jercicios en el tricic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lantillas,  taloneras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8" name="Picture 3" descr="CLASSIC%20HEEL%20CUPS"/>
          <p:cNvPicPr/>
          <p:nvPr/>
        </p:nvPicPr>
        <p:blipFill>
          <a:blip r:embed="rId1"/>
          <a:stretch/>
        </p:blipFill>
        <p:spPr>
          <a:xfrm>
            <a:off x="6407280" y="1785960"/>
            <a:ext cx="1761840" cy="34513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Prod114p"/>
          <p:cNvPicPr/>
          <p:nvPr/>
        </p:nvPicPr>
        <p:blipFill>
          <a:blip r:embed="rId2"/>
          <a:stretch/>
        </p:blipFill>
        <p:spPr>
          <a:xfrm>
            <a:off x="5973840" y="3767040"/>
            <a:ext cx="2504880" cy="4486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51" name="1 CuadroTexto"/>
          <p:cNvSpPr/>
          <p:nvPr/>
        </p:nvSpPr>
        <p:spPr>
          <a:xfrm>
            <a:off x="971640" y="53974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2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2600" y="28260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42960" y="1785600"/>
            <a:ext cx="8043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Epidemiologí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4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entury Schoolbook"/>
              </a:rPr>
              <a:t>0.65 - 4 / 1000 Rn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4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entury Schoolbook"/>
              </a:rPr>
              <a:t>Femenino – Masculino, 6 : 1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4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entury Schoolbook"/>
              </a:rPr>
              <a:t>Unilateral 80%, Bilateral 20%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4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entury Schoolbook"/>
              </a:rPr>
              <a:t>Raza negra, china y coreana y andina(poco frecuente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320" y="28260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713880" y="1785600"/>
            <a:ext cx="7572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Century Schoolbook"/>
              </a:rPr>
              <a:t>ETIOLOGIA</a:t>
            </a: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575f6d"/>
                </a:solidFill>
                <a:latin typeface="Century Schoolbook"/>
              </a:rPr>
              <a:t>Factores inestabilizadores o endógenos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F.  Genéticos:  Historia familiar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Laxitud ligamentosa familiar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F.  Hormonal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575f6d"/>
                </a:solidFill>
                <a:latin typeface="Century Schoolbook"/>
              </a:rPr>
              <a:t>Factores desencadenantes o exógenos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F.  Mecánicos:  Posición intrauterina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F.  Ambientales:  Arropamiento en extensió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21096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14240" y="1700280"/>
            <a:ext cx="817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AGNÓSTIC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Historia clínica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ntecedentes familia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exo femeni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ntecedentes del par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alformaciones (pie bot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1029" descr="luxacion"/>
          <p:cNvPicPr/>
          <p:nvPr/>
        </p:nvPicPr>
        <p:blipFill>
          <a:blip r:embed="rId1"/>
          <a:stretch/>
        </p:blipFill>
        <p:spPr>
          <a:xfrm>
            <a:off x="5546880" y="3449520"/>
            <a:ext cx="2682720" cy="3988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85880" y="135720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Schoolbook"/>
              </a:rPr>
              <a:t>DIAGNÓSTICO:   </a:t>
            </a:r>
            <a:r>
              <a:rPr b="0" lang="es-MX" sz="1200" spc="-1" strike="noStrike">
                <a:solidFill>
                  <a:srgbClr val="000000"/>
                </a:solidFill>
                <a:latin typeface="Century Schoolbook"/>
              </a:rPr>
              <a:t>Examen físico: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Signos de sospech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Asimetría de pliegues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50% tienen cadera normal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Barlow Ortolani (+)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Abducción debe ser &gt; 45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Acortamiento de miembro inferi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Signos de certeza</a:t>
            </a: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	</a:t>
            </a: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Palpación de la cabeza femoral fuera de luga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teralización y ascenso del trocanter may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Desplazamiento lateral de la cabeza femoral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entury Schoolbook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057" descr="Cadera3"/>
          <p:cNvPicPr/>
          <p:nvPr/>
        </p:nvPicPr>
        <p:blipFill>
          <a:blip r:embed="rId1"/>
          <a:stretch/>
        </p:blipFill>
        <p:spPr>
          <a:xfrm>
            <a:off x="4906800" y="1420920"/>
            <a:ext cx="3183120" cy="3047760"/>
          </a:xfrm>
          <a:prstGeom prst="rect">
            <a:avLst/>
          </a:prstGeom>
          <a:ln w="0">
            <a:noFill/>
          </a:ln>
        </p:spPr>
      </p:pic>
      <p:sp>
        <p:nvSpPr>
          <p:cNvPr id="372" name="5 Rectángulo"/>
          <p:cNvSpPr/>
          <p:nvPr/>
        </p:nvSpPr>
        <p:spPr>
          <a:xfrm>
            <a:off x="5143680" y="4214880"/>
            <a:ext cx="314316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Cuando el niño c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Balanceo excesivo de homb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Marcha del p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Hundimiento del lado afec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600876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Century Schoolbook"/>
              </a:rPr>
              <a:t>Abducción debe ser mayor a 45 grad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736800" y="1714320"/>
            <a:ext cx="54072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entury Schoolbook"/>
              </a:rPr>
              <a:t>ASIMETRÍA DE PLIEGUES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5" descr="asimetria%20de%20plecs"/>
          <p:cNvPicPr/>
          <p:nvPr/>
        </p:nvPicPr>
        <p:blipFill>
          <a:blip r:embed="rId1"/>
          <a:stretch/>
        </p:blipFill>
        <p:spPr>
          <a:xfrm>
            <a:off x="853920" y="706320"/>
            <a:ext cx="2998800" cy="3299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Cadera2"/>
          <p:cNvPicPr/>
          <p:nvPr/>
        </p:nvPicPr>
        <p:blipFill>
          <a:blip r:embed="rId2"/>
          <a:stretch/>
        </p:blipFill>
        <p:spPr>
          <a:xfrm>
            <a:off x="5986440" y="3852720"/>
            <a:ext cx="2395440" cy="3730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barlow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14280"/>
            <a:ext cx="230976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8" name="Picture 7" descr="ortol_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3192480"/>
            <a:ext cx="219852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9960" y="615600"/>
            <a:ext cx="4128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000000"/>
                </a:solidFill>
                <a:latin typeface="Century Schoolbook"/>
              </a:rPr>
              <a:t>SIGNO DE ORTOLANI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857920" y="2489040"/>
            <a:ext cx="328608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Century Schoolbook"/>
              </a:rPr>
              <a:t>Signo de Barlow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1" descr="cadera1a"/>
          <p:cNvPicPr/>
          <p:nvPr/>
        </p:nvPicPr>
        <p:blipFill>
          <a:blip r:embed="rId5"/>
          <a:stretch/>
        </p:blipFill>
        <p:spPr>
          <a:xfrm>
            <a:off x="3108240" y="1231920"/>
            <a:ext cx="2286000" cy="3559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1:57:10Z</dcterms:created>
  <dc:creator>HP</dc:creator>
  <dc:description/>
  <dc:language>en-US</dc:language>
  <cp:lastModifiedBy>bcnet</cp:lastModifiedBy>
  <dcterms:modified xsi:type="dcterms:W3CDTF">2014-09-03T19:14:45Z</dcterms:modified>
  <cp:revision>47</cp:revision>
  <dc:subject/>
  <dc:title>Diapositiva 1</dc:title>
</cp:coreProperties>
</file>