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gif" ContentType="image/gif"/>
  <Override PartName="/ppt/media/image32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23.png" ContentType="image/png"/>
  <Override PartName="/ppt/media/image18.gif" ContentType="image/gif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media/image35.png" ContentType="image/png"/>
  <Override PartName="/ppt/media/image29.jpeg" ContentType="image/jpeg"/>
  <Override PartName="/ppt/media/image7.gif" ContentType="image/gif"/>
  <Override PartName="/ppt/media/image26.jpeg" ContentType="image/jpeg"/>
  <Override PartName="/ppt/media/image30.jpeg" ContentType="image/jpeg"/>
  <Override PartName="/ppt/media/image33.gif" ContentType="image/gif"/>
  <Override PartName="/ppt/media/image34.gif" ContentType="image/gif"/>
  <Override PartName="/ppt/media/image9.gif" ContentType="image/gif"/>
  <Override PartName="/ppt/media/image3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15.jpeg" ContentType="image/jpeg"/>
  <Override PartName="/ppt/media/country_dixi.wav" ContentType="audio/x-wav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.png" ContentType="image/png"/>
  <Override PartName="/ppt/media/image13.gif" ContentType="image/gif"/>
  <Override PartName="/ppt/media/image16.png" ContentType="image/png"/>
  <Override PartName="/ppt/media/image14.jpeg" ContentType="image/jpeg"/>
  <Override PartName="/ppt/media/image28.gif" ContentType="image/gif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051-D7F8-41F0-8D9A-823EEA9C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F31-86CD-4152-8FF5-C1FA836A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072-B25B-4303-B940-9FF13D34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79A-9767-41D9-A4BB-279F0F51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A1E-B120-4FA8-96AA-FAC0DACC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24E-4A09-40E4-9121-A0A1E56D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611-445E-401F-A7E7-F3FE9959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DCD-60A0-4585-BED3-405DFFCC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FAE-D7DE-4EA7-8DCE-24DCFB28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5BC-A4F3-4499-8B50-3AA443D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D32-ED34-4CF6-A2CD-DD9ED8F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F1A-7405-4E9D-92D7-B9A96637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FE5B-E658-4DE4-B6FD-949AD929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audio" Target="../media/country_dixi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gilbert.olivier@pandora.be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users.pandora.be/Gilbert.Olivier/" TargetMode="External"/><Relationship Id="rId4" Type="http://schemas.openxmlformats.org/officeDocument/2006/relationships/image" Target="../media/image37.jpeg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04640"/>
            <a:ext cx="8280360" cy="604872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692280"/>
            <a:ext cx="7632720" cy="5400720"/>
          </a:xfrm>
          <a:prstGeom prst="rect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981000"/>
            <a:ext cx="6985080" cy="4824360"/>
          </a:xfrm>
          <a:prstGeom prst="rect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640" y="1413000"/>
            <a:ext cx="410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werPoint by Gilber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360" y="2852640"/>
            <a:ext cx="47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reuken en Gezegden     3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148360" y="4365720"/>
            <a:ext cx="2276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t muzie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Zelf scrollen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68360" y="4076640"/>
            <a:ext cx="116208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333360"/>
            <a:ext cx="8569080" cy="6264360"/>
          </a:xfrm>
          <a:prstGeom prst="rect">
            <a:avLst/>
          </a:prstGeom>
          <a:noFill/>
          <a:ln w="39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26920" y="4365360"/>
            <a:ext cx="1657440" cy="143964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02920" y="3500280"/>
            <a:ext cx="144360" cy="259272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076640"/>
            <a:ext cx="1368360" cy="136836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692280"/>
            <a:ext cx="7490160" cy="2665440"/>
          </a:xfrm>
          <a:prstGeom prst="rect">
            <a:avLst/>
          </a:prstGeom>
          <a:noFill/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72360" cy="251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56000" y="436572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9999ff"/>
                </a:solidFill>
                <a:latin typeface="Arial"/>
              </a:rPr>
              <a:t>Vriendelijke woorden kunnen kort zijn en makkelijk uitgesproken worden maar hun echo duurt eindeloos vo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620640"/>
            <a:ext cx="8064360" cy="43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877000"/>
            <a:ext cx="8064360" cy="43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333360"/>
            <a:ext cx="504720" cy="626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60280"/>
            <a:ext cx="431640" cy="6121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187280" y="1125360"/>
            <a:ext cx="6480360" cy="3816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03280" y="5229360"/>
            <a:ext cx="69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9999"/>
                </a:solidFill>
                <a:latin typeface="Arial"/>
              </a:rPr>
              <a:t>Wie op wraak zint, houdt zijn eigen wonden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1015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04640"/>
            <a:ext cx="8209080" cy="59770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549360"/>
            <a:ext cx="7777080" cy="5616360"/>
          </a:xfrm>
          <a:prstGeom prst="rect">
            <a:avLst/>
          </a:prstGeom>
          <a:noFill/>
          <a:ln w="1015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125360"/>
            <a:ext cx="6048360" cy="2951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08720" y="765000"/>
            <a:ext cx="952560" cy="101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87280" y="5229360"/>
            <a:ext cx="698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9999"/>
                </a:solidFill>
                <a:latin typeface="Arial"/>
              </a:rPr>
              <a:t>Vertrouwen wordt verdiend met vele daden en kan met één daad verloren 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195640" y="4508640"/>
            <a:ext cx="5067000" cy="3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5280" y="62064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oetjes van Gilbert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4000" y="2276640"/>
            <a:ext cx="2087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7280" y="3789360"/>
            <a:ext cx="669780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to's - Botanical Gardens Ukra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5084640"/>
            <a:ext cx="1666800" cy="714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501336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908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190520"/>
            <a:ext cx="6481800" cy="474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765000"/>
            <a:ext cx="73080" cy="5545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28000" y="765000"/>
            <a:ext cx="73080" cy="5545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836640"/>
            <a:ext cx="7632720" cy="71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165720"/>
            <a:ext cx="7632720" cy="71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68360" y="434880"/>
            <a:ext cx="952560" cy="66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596360" y="517680"/>
            <a:ext cx="936360" cy="65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50920" y="5950080"/>
            <a:ext cx="1025280" cy="671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812000" y="5877000"/>
            <a:ext cx="1008000" cy="70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76360" y="5013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c9900"/>
                </a:solidFill>
                <a:latin typeface="Arial"/>
              </a:rPr>
              <a:t>Als je hart bitter is, zal suiker in je mond niet hel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476280"/>
            <a:ext cx="8207280" cy="5905440"/>
          </a:xfrm>
          <a:prstGeom prst="flowChartProcess">
            <a:avLst/>
          </a:prstGeom>
          <a:noFill/>
          <a:ln w="101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1628640"/>
            <a:ext cx="1366920" cy="3743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981000"/>
            <a:ext cx="142560" cy="496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924000" y="1557360"/>
            <a:ext cx="1297080" cy="37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356000" y="8366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148360" y="52293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500720" y="5877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780000" y="515772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424400" y="328140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1197000"/>
            <a:ext cx="2664000" cy="4176720"/>
          </a:xfrm>
          <a:prstGeom prst="rect">
            <a:avLst/>
          </a:prstGeom>
          <a:noFill/>
          <a:ln w="101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971640" y="1268280"/>
            <a:ext cx="2520720" cy="4032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76720" y="2781360"/>
            <a:ext cx="345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Arial"/>
              </a:rPr>
              <a:t>Het is geen kunst om oud te word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Arial"/>
              </a:rPr>
              <a:t>het is een kunst ermee te 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404640"/>
            <a:ext cx="8497800" cy="6264360"/>
          </a:xfrm>
          <a:prstGeom prst="rect">
            <a:avLst/>
          </a:prstGeom>
          <a:noFill/>
          <a:ln w="1080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43280" y="3176640"/>
            <a:ext cx="525780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11280" y="692280"/>
            <a:ext cx="4248360" cy="244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6920" y="1413000"/>
            <a:ext cx="112428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236000" y="1484280"/>
            <a:ext cx="112392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900000" y="3645000"/>
            <a:ext cx="2111400" cy="282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76720" y="4581360"/>
            <a:ext cx="52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66ff33"/>
                </a:solidFill>
                <a:latin typeface="Arial"/>
              </a:rPr>
              <a:t>De mens heeft twee oren en één 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66ff33"/>
                </a:solidFill>
                <a:latin typeface="Arial"/>
              </a:rPr>
              <a:t>om twee keer zoveel te luisteren als te pra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7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6464160" cy="10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549360"/>
            <a:ext cx="3311640" cy="3743280"/>
          </a:xfrm>
          <a:prstGeom prst="rect">
            <a:avLst/>
          </a:prstGeom>
          <a:noFill/>
          <a:ln w="139680">
            <a:solidFill>
              <a:srgbClr val="66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76720" y="549360"/>
            <a:ext cx="3311640" cy="3743280"/>
          </a:xfrm>
          <a:prstGeom prst="rect">
            <a:avLst/>
          </a:prstGeom>
          <a:noFill/>
          <a:ln w="139680">
            <a:solidFill>
              <a:srgbClr val="66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2879640" cy="3457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92720" y="692280"/>
            <a:ext cx="2878200" cy="3457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5084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6699ff"/>
                </a:solidFill>
                <a:latin typeface="Arial"/>
              </a:rPr>
              <a:t>Hij die anderen controleert kan machtig zijn, maar hij die zichzelf kan controleren is machtiger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836640"/>
            <a:ext cx="7272360" cy="5329080"/>
          </a:xfrm>
          <a:prstGeom prst="rect">
            <a:avLst/>
          </a:prstGeom>
          <a:noFill/>
          <a:ln w="139680">
            <a:solidFill>
              <a:srgbClr val="ff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907920"/>
            <a:ext cx="936720" cy="936720"/>
          </a:xfrm>
          <a:prstGeom prst="line">
            <a:avLst/>
          </a:prstGeom>
          <a:ln w="633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907920"/>
            <a:ext cx="504720" cy="865440"/>
          </a:xfrm>
          <a:prstGeom prst="line">
            <a:avLst/>
          </a:prstGeom>
          <a:ln w="507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836640"/>
            <a:ext cx="936720" cy="647640"/>
          </a:xfrm>
          <a:prstGeom prst="line">
            <a:avLst/>
          </a:prstGeom>
          <a:ln w="507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451280" y="5373720"/>
            <a:ext cx="792360" cy="574560"/>
          </a:xfrm>
          <a:prstGeom prst="line">
            <a:avLst/>
          </a:prstGeom>
          <a:ln w="633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7093080" y="5445000"/>
            <a:ext cx="1008000" cy="503280"/>
          </a:xfrm>
          <a:prstGeom prst="line">
            <a:avLst/>
          </a:prstGeom>
          <a:ln w="507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7164360" y="5805360"/>
            <a:ext cx="936720" cy="216000"/>
          </a:xfrm>
          <a:prstGeom prst="line">
            <a:avLst/>
          </a:prstGeom>
          <a:ln w="5076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740720" y="40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885080" y="558972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24000" y="1125360"/>
            <a:ext cx="5207040" cy="389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32000" y="530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9999"/>
                </a:solidFill>
                <a:latin typeface="Arial"/>
              </a:rPr>
              <a:t>Zonder de dalen geniet je niet van de pie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424720" cy="61930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24000" y="404640"/>
            <a:ext cx="8424720" cy="61930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76720" y="3138480"/>
            <a:ext cx="790560" cy="581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532720" y="189000"/>
            <a:ext cx="381240" cy="399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81240" cy="39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532720" y="6308640"/>
            <a:ext cx="38124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79280" y="6308640"/>
            <a:ext cx="381240" cy="399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11280" y="256536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084720" y="2637000"/>
            <a:ext cx="2519640" cy="188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276720" y="476280"/>
            <a:ext cx="2458800" cy="1841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2556000" y="5012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16360" y="5013360"/>
            <a:ext cx="3960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</a:rPr>
              <a:t>De domme staat vooraan om gezien te worden, de wijze staat achteraan om te z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5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790880" cy="561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189000"/>
            <a:ext cx="8280360" cy="6480000"/>
          </a:xfrm>
          <a:prstGeom prst="ellipse">
            <a:avLst/>
          </a:prstGeom>
          <a:noFill/>
          <a:ln w="889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492280"/>
            <a:ext cx="309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993300"/>
                </a:solidFill>
                <a:latin typeface="Arial"/>
              </a:rPr>
              <a:t>Je kunt beter een optimist zijn die ongelijk heeft, dan een pessimist die gelijk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14284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889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76280"/>
            <a:ext cx="7993080" cy="590544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620640"/>
            <a:ext cx="7561440" cy="554508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981000"/>
            <a:ext cx="2521080" cy="2879640"/>
          </a:xfrm>
          <a:prstGeom prst="hexagon">
            <a:avLst>
              <a:gd name="adj" fmla="val 25000"/>
              <a:gd name="vf" fmla="val 115470"/>
            </a:avLst>
          </a:prstGeom>
          <a:blipFill rotWithShape="0">
            <a:blip r:embed="rId1"/>
            <a:srcRect/>
            <a:stretch/>
          </a:blipFill>
          <a:ln cap="rnd" w="633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4149720"/>
            <a:ext cx="3529080" cy="17272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3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2924280"/>
            <a:ext cx="2735280" cy="2881080"/>
          </a:xfrm>
          <a:prstGeom prst="pentagon">
            <a:avLst/>
          </a:prstGeom>
          <a:blipFill rotWithShape="0">
            <a:blip r:embed="rId3"/>
            <a:srcRect/>
            <a:stretch/>
          </a:blipFill>
          <a:ln cap="rnd" w="633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126828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99ccff"/>
                </a:solidFill>
                <a:latin typeface="Arial"/>
              </a:rPr>
              <a:t>Zoek geen grote woorden als een klein gebaar vol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8:24:24Z</dcterms:created>
  <dc:creator>Gilbert</dc:creator>
  <dc:description/>
  <dc:language>en-US</dc:language>
  <cp:lastModifiedBy>Smets</cp:lastModifiedBy>
  <dcterms:modified xsi:type="dcterms:W3CDTF">2008-10-02T04:31:55Z</dcterms:modified>
  <cp:revision>16</cp:revision>
  <dc:subject/>
  <dc:title>Dia 1</dc:title>
</cp:coreProperties>
</file>