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gif" ContentType="image/gif"/>
  <Override PartName="/ppt/media/image32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png" ContentType="image/png"/>
  <Override PartName="/ppt/media/image23.png" ContentType="image/png"/>
  <Override PartName="/ppt/media/image18.gif" ContentType="image/gif"/>
  <Override PartName="/ppt/media/image10.jpeg" ContentType="image/jpeg"/>
  <Override PartName="/ppt/media/image2.gif" ContentType="image/gif"/>
  <Override PartName="/ppt/media/image8.jpeg" ContentType="image/jpeg"/>
  <Override PartName="/ppt/media/image5.png" ContentType="image/png"/>
  <Override PartName="/ppt/media/image35.png" ContentType="image/png"/>
  <Override PartName="/ppt/media/image29.jpeg" ContentType="image/jpeg"/>
  <Override PartName="/ppt/media/image7.gif" ContentType="image/gif"/>
  <Override PartName="/ppt/media/image26.jpeg" ContentType="image/jpeg"/>
  <Override PartName="/ppt/media/image30.jpeg" ContentType="image/jpeg"/>
  <Override PartName="/ppt/media/image33.gif" ContentType="image/gif"/>
  <Override PartName="/ppt/media/image34.gif" ContentType="image/gif"/>
  <Override PartName="/ppt/media/image9.gif" ContentType="image/gif"/>
  <Override PartName="/ppt/media/image36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image15.jpeg" ContentType="image/jpeg"/>
  <Override PartName="/ppt/media/country_dixi.wav" ContentType="audio/x-wav"/>
  <Override PartName="/ppt/media/image12.jpeg" ContentType="image/jpeg"/>
  <Override PartName="/ppt/media/image3.jpeg" ContentType="image/jpeg"/>
  <Override PartName="/ppt/media/image37.jpeg" ContentType="image/jpeg"/>
  <Override PartName="/ppt/media/image11.png" ContentType="image/png"/>
  <Override PartName="/ppt/media/image1.png" ContentType="image/png"/>
  <Override PartName="/ppt/media/image13.gif" ContentType="image/gif"/>
  <Override PartName="/ppt/media/image16.png" ContentType="image/png"/>
  <Override PartName="/ppt/media/image14.jpeg" ContentType="image/jpeg"/>
  <Override PartName="/ppt/media/image28.gif" ContentType="image/gif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93B8-C4EF-48E2-B746-763E04D2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9F4-2493-478B-ACF2-22B54ED4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EED-E20A-4A1D-9A11-37D0B8C3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468-D576-48A9-8904-8C018A85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F786-8B50-4525-8B89-61EFAFB3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F6F-C892-4FBC-A751-2874E010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7A13-D4D1-48F0-BC30-531D63D8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BEF-8DBA-4479-88E5-1BDBD212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1FC-B824-40F8-ABB8-C0D48B56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85FC-42F0-4AF3-9BA7-1B9AC6BF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B967-C7F3-4290-A147-296BB3CF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610-329C-44A8-95B6-4832C444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3E4A-B765-40FA-A271-566E6BB98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audio" Target="../media/country_dixi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gilbert.olivier@pandora.be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users.pandora.be/Gilbert.Olivier/" TargetMode="External"/><Relationship Id="rId4" Type="http://schemas.openxmlformats.org/officeDocument/2006/relationships/image" Target="../media/image37.jpeg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404640"/>
            <a:ext cx="8280360" cy="604872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692280"/>
            <a:ext cx="7632720" cy="5400720"/>
          </a:xfrm>
          <a:prstGeom prst="rect">
            <a:avLst/>
          </a:prstGeom>
          <a:noFill/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981000"/>
            <a:ext cx="6985080" cy="4824360"/>
          </a:xfrm>
          <a:prstGeom prst="rect">
            <a:avLst/>
          </a:prstGeom>
          <a:noFill/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63640" y="1413000"/>
            <a:ext cx="410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werPoint by Gilber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68360" y="2852640"/>
            <a:ext cx="475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reuken en Gezegden     3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148360" y="4365720"/>
            <a:ext cx="22762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t muziek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Zelf scrollen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68360" y="4076640"/>
            <a:ext cx="1162080" cy="14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4000" y="333360"/>
            <a:ext cx="8569080" cy="6264360"/>
          </a:xfrm>
          <a:prstGeom prst="rect">
            <a:avLst/>
          </a:prstGeom>
          <a:noFill/>
          <a:ln w="3967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826920" y="4365360"/>
            <a:ext cx="1657440" cy="143964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402920" y="3500280"/>
            <a:ext cx="144360" cy="259272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4076640"/>
            <a:ext cx="1368360" cy="136836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692280"/>
            <a:ext cx="7490160" cy="2665440"/>
          </a:xfrm>
          <a:prstGeom prst="rect">
            <a:avLst/>
          </a:prstGeom>
          <a:noFill/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272360" cy="2519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56000" y="436572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9999ff"/>
                </a:solidFill>
                <a:latin typeface="Arial"/>
              </a:rPr>
              <a:t>Vriendelijke woorden kunnen kort zijn en makkelijk uitgesproken worden maar hun echo duurt eindeloos vo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620640"/>
            <a:ext cx="8064360" cy="432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5877000"/>
            <a:ext cx="8064360" cy="431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333360"/>
            <a:ext cx="504720" cy="6264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260280"/>
            <a:ext cx="431640" cy="6121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187280" y="1125360"/>
            <a:ext cx="6480360" cy="3816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403280" y="5229360"/>
            <a:ext cx="6913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9999"/>
                </a:solidFill>
                <a:latin typeface="Arial"/>
              </a:rPr>
              <a:t>Wie op wraak zint, houdt zijn eigen wonden o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pull dir="r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189000"/>
            <a:ext cx="8640720" cy="6408720"/>
          </a:xfrm>
          <a:prstGeom prst="rect">
            <a:avLst/>
          </a:prstGeom>
          <a:noFill/>
          <a:ln w="10152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404640"/>
            <a:ext cx="8209080" cy="597708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549360"/>
            <a:ext cx="7777080" cy="5616360"/>
          </a:xfrm>
          <a:prstGeom prst="rect">
            <a:avLst/>
          </a:prstGeom>
          <a:noFill/>
          <a:ln w="10152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1125360"/>
            <a:ext cx="6048360" cy="2951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116000" y="76500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308720" y="765000"/>
            <a:ext cx="952560" cy="1019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87280" y="5229360"/>
            <a:ext cx="698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9999"/>
                </a:solidFill>
                <a:latin typeface="Arial"/>
              </a:rPr>
              <a:t>Vertrouwen wordt verdiend met vele daden en kan met één daad verloren g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195640" y="4508640"/>
            <a:ext cx="5067000" cy="3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5280" y="620640"/>
            <a:ext cx="540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oetjes van Gilbert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4000" y="2276640"/>
            <a:ext cx="2087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inde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7280" y="3789360"/>
            <a:ext cx="669780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oto's - Botanical Gardens Ukrai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5084640"/>
            <a:ext cx="1666800" cy="714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5013360"/>
            <a:ext cx="1666800" cy="714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90800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5" dur="5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1190520"/>
            <a:ext cx="6481800" cy="4749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765000"/>
            <a:ext cx="73080" cy="5545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28000" y="765000"/>
            <a:ext cx="73080" cy="55454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836640"/>
            <a:ext cx="7632720" cy="71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6165720"/>
            <a:ext cx="7632720" cy="716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468360" y="434880"/>
            <a:ext cx="952560" cy="66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7596360" y="517680"/>
            <a:ext cx="936360" cy="65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250920" y="5950080"/>
            <a:ext cx="1025280" cy="671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7812000" y="5877000"/>
            <a:ext cx="1008000" cy="709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76360" y="501336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cc9900"/>
                </a:solidFill>
                <a:latin typeface="Arial"/>
              </a:rPr>
              <a:t>Als je hart bitter is, zal suiker in je mond niet hel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476280"/>
            <a:ext cx="8207280" cy="5905440"/>
          </a:xfrm>
          <a:prstGeom prst="flowChartProcess">
            <a:avLst/>
          </a:prstGeom>
          <a:noFill/>
          <a:ln w="1015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1628640"/>
            <a:ext cx="1366920" cy="3743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981000"/>
            <a:ext cx="142560" cy="4969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924000" y="1557360"/>
            <a:ext cx="1297080" cy="374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295560" cy="295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780000" y="148428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356000" y="8366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148360" y="522936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4500720" y="587700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780000" y="515772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4424400" y="328140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1197000"/>
            <a:ext cx="2664000" cy="4176720"/>
          </a:xfrm>
          <a:prstGeom prst="rect">
            <a:avLst/>
          </a:prstGeom>
          <a:noFill/>
          <a:ln w="1015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971640" y="1268280"/>
            <a:ext cx="2520720" cy="4032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076720" y="2781360"/>
            <a:ext cx="3456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3300"/>
                </a:solidFill>
                <a:latin typeface="Arial"/>
              </a:rPr>
              <a:t>Het is geen kunst om oud te word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3300"/>
                </a:solidFill>
                <a:latin typeface="Arial"/>
              </a:rPr>
              <a:t>het is een kunst ermee te 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5280" y="404640"/>
            <a:ext cx="8497800" cy="6264360"/>
          </a:xfrm>
          <a:prstGeom prst="rect">
            <a:avLst/>
          </a:prstGeom>
          <a:noFill/>
          <a:ln w="1080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43280" y="3176640"/>
            <a:ext cx="5257800" cy="50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411280" y="692280"/>
            <a:ext cx="4248360" cy="2449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26920" y="1413000"/>
            <a:ext cx="1124280" cy="942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7236000" y="1484280"/>
            <a:ext cx="1123920" cy="942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900000" y="3645000"/>
            <a:ext cx="2111400" cy="2820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76720" y="4581360"/>
            <a:ext cx="52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66ff33"/>
                </a:solidFill>
                <a:latin typeface="Arial"/>
              </a:rPr>
              <a:t>De mens heeft twee oren en één 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BE" sz="1800" spc="-1" strike="noStrike">
                <a:solidFill>
                  <a:srgbClr val="66ff33"/>
                </a:solidFill>
                <a:latin typeface="Arial"/>
              </a:rPr>
              <a:t>om twee keer zoveel te luisteren als te pra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hecker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70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4724280"/>
            <a:ext cx="6464160" cy="100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549360"/>
            <a:ext cx="3311640" cy="3743280"/>
          </a:xfrm>
          <a:prstGeom prst="rect">
            <a:avLst/>
          </a:prstGeom>
          <a:noFill/>
          <a:ln w="139680">
            <a:solidFill>
              <a:srgbClr val="66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76720" y="549360"/>
            <a:ext cx="3311640" cy="3743280"/>
          </a:xfrm>
          <a:prstGeom prst="rect">
            <a:avLst/>
          </a:prstGeom>
          <a:noFill/>
          <a:ln w="139680">
            <a:solidFill>
              <a:srgbClr val="66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2879640" cy="3457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292720" y="692280"/>
            <a:ext cx="2878200" cy="3457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55640" y="5084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6699ff"/>
                </a:solidFill>
                <a:latin typeface="Arial"/>
              </a:rPr>
              <a:t>Hij die anderen controleert kan machtig zijn, maar hij die zichzelf kan controleren is machtiger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1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71640" y="836640"/>
            <a:ext cx="7272360" cy="5329080"/>
          </a:xfrm>
          <a:prstGeom prst="rect">
            <a:avLst/>
          </a:prstGeom>
          <a:noFill/>
          <a:ln w="139680">
            <a:solidFill>
              <a:srgbClr val="ff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907920"/>
            <a:ext cx="936720" cy="936720"/>
          </a:xfrm>
          <a:prstGeom prst="line">
            <a:avLst/>
          </a:prstGeom>
          <a:ln w="63360">
            <a:solidFill>
              <a:srgbClr val="ff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907920"/>
            <a:ext cx="504720" cy="865440"/>
          </a:xfrm>
          <a:prstGeom prst="line">
            <a:avLst/>
          </a:prstGeom>
          <a:ln w="50760">
            <a:solidFill>
              <a:srgbClr val="ff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836640"/>
            <a:ext cx="936720" cy="647640"/>
          </a:xfrm>
          <a:prstGeom prst="line">
            <a:avLst/>
          </a:prstGeom>
          <a:ln w="50760">
            <a:solidFill>
              <a:srgbClr val="ff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7451280" y="5373720"/>
            <a:ext cx="792360" cy="574560"/>
          </a:xfrm>
          <a:prstGeom prst="line">
            <a:avLst/>
          </a:prstGeom>
          <a:ln w="63360">
            <a:solidFill>
              <a:srgbClr val="ff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7093080" y="5445000"/>
            <a:ext cx="1008000" cy="503280"/>
          </a:xfrm>
          <a:prstGeom prst="line">
            <a:avLst/>
          </a:prstGeom>
          <a:ln w="50760">
            <a:solidFill>
              <a:srgbClr val="ff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7164360" y="5805360"/>
            <a:ext cx="936720" cy="216000"/>
          </a:xfrm>
          <a:prstGeom prst="line">
            <a:avLst/>
          </a:prstGeom>
          <a:ln w="50760">
            <a:solidFill>
              <a:srgbClr val="ff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740720" y="404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3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885080" y="558972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124000" y="1125360"/>
            <a:ext cx="5207040" cy="3899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332000" y="53006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9999"/>
                </a:solidFill>
                <a:latin typeface="Arial"/>
              </a:rPr>
              <a:t>Zonder de dalen geniet je niet van de pie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noFill/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404640"/>
            <a:ext cx="8424720" cy="619308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24000" y="404640"/>
            <a:ext cx="8424720" cy="619308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176720" y="3138480"/>
            <a:ext cx="790560" cy="581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532720" y="189000"/>
            <a:ext cx="381240" cy="399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381240" cy="399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8532720" y="6308640"/>
            <a:ext cx="38124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79280" y="6308640"/>
            <a:ext cx="381240" cy="399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611280" y="2565360"/>
            <a:ext cx="2448000" cy="1833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6084720" y="2637000"/>
            <a:ext cx="2519640" cy="1885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3276720" y="476280"/>
            <a:ext cx="2458800" cy="1841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2556000" y="501264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16360" y="5013360"/>
            <a:ext cx="3960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00"/>
                </a:solidFill>
                <a:latin typeface="Arial"/>
              </a:rPr>
              <a:t>De domme staat vooraan om gezien te worden, de wijze staat achteraan om te z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65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790880" cy="5610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189000"/>
            <a:ext cx="8280360" cy="6480000"/>
          </a:xfrm>
          <a:prstGeom prst="ellipse">
            <a:avLst/>
          </a:prstGeom>
          <a:noFill/>
          <a:ln w="889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2492280"/>
            <a:ext cx="309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993300"/>
                </a:solidFill>
                <a:latin typeface="Arial"/>
              </a:rPr>
              <a:t>Je kunt beter een optimist zijn die ongelijk heeft, dan een pessimist die gelijk 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142848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260280"/>
            <a:ext cx="8424720" cy="6337440"/>
          </a:xfrm>
          <a:prstGeom prst="rect">
            <a:avLst/>
          </a:prstGeom>
          <a:noFill/>
          <a:ln w="889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476280"/>
            <a:ext cx="7993080" cy="590544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620640"/>
            <a:ext cx="7561440" cy="5545080"/>
          </a:xfrm>
          <a:prstGeom prst="rect">
            <a:avLst/>
          </a:prstGeom>
          <a:noFill/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981000"/>
            <a:ext cx="2521080" cy="2879640"/>
          </a:xfrm>
          <a:prstGeom prst="hexagon">
            <a:avLst>
              <a:gd name="adj" fmla="val 25000"/>
              <a:gd name="vf" fmla="val 115470"/>
            </a:avLst>
          </a:prstGeom>
          <a:blipFill rotWithShape="0">
            <a:blip r:embed="rId1"/>
            <a:srcRect/>
            <a:stretch/>
          </a:blipFill>
          <a:ln cap="rnd" w="6336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4149720"/>
            <a:ext cx="3529080" cy="172728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36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2720" y="2924280"/>
            <a:ext cx="2735280" cy="2881080"/>
          </a:xfrm>
          <a:prstGeom prst="pentagon">
            <a:avLst/>
          </a:prstGeom>
          <a:blipFill rotWithShape="0">
            <a:blip r:embed="rId3"/>
            <a:srcRect/>
            <a:stretch/>
          </a:blipFill>
          <a:ln cap="rnd" w="6336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67280" y="126828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99ccff"/>
                </a:solidFill>
                <a:latin typeface="Arial"/>
              </a:rPr>
              <a:t>Zoek geen grote woorden als een klein gebaar volst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095720" y="29527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8:24:24Z</dcterms:created>
  <dc:creator>Gilbert</dc:creator>
  <dc:description/>
  <dc:language>en-US</dc:language>
  <cp:lastModifiedBy>Smets</cp:lastModifiedBy>
  <dcterms:modified xsi:type="dcterms:W3CDTF">2008-10-02T04:31:55Z</dcterms:modified>
  <cp:revision>16</cp:revision>
  <dc:subject/>
  <dc:title>Dia 1</dc:title>
</cp:coreProperties>
</file>