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544-EAA8-452A-A57B-83D36D39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010-61F3-481D-A61A-F498190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CC0-061A-4DF0-A375-5E54201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B57-0AAE-43CC-90E4-492103F7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3D1-94A9-43C0-866F-7E61491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AA7-48F8-4AD6-86F7-D0368625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C98-EE7D-4025-83EB-2131705E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D93-2F17-41E7-A318-0CC8180C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803-33ED-42A7-8B9A-84E0F1BB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BF1-7408-4ACF-A8DD-085683B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558-C0DE-4AD6-8D47-317FC99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880-6064-4E37-9133-CBE8360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39502-8C66-48DF-87B1-D75B66B07B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0A19F-9A1F-4C63-8632-DCD5BD6253D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8:37:03Z</dcterms:created>
  <dc:creator>최봉수</dc:creator>
  <dc:description/>
  <dc:language>en-US</dc:language>
  <cp:lastModifiedBy>맛있다 군만두</cp:lastModifiedBy>
  <dcterms:modified xsi:type="dcterms:W3CDTF">2024-10-01T02:43:28Z</dcterms:modified>
  <cp:revision>3</cp:revision>
  <dc:subject/>
  <dc:title>슬라이드 1</dc:title>
</cp:coreProperties>
</file>