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A17-599C-4423-B6ED-1BBAAFDC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C4E-CFF3-4960-B5C4-8C6824C1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10B-CBC9-42EE-8FCF-D0C7FBBD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555-559E-4C47-9B0A-68995B46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198-FA1E-4AF8-9F03-C8EA1409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1A9-2D2E-4DC6-B408-113388CD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6F2-542F-4FB5-9094-A360D72A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6CA-ED73-48AB-A456-83A811D4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C80-DF4D-46D2-BE45-24DBB4EC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004-2073-4A8E-9507-F75323C0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696-A9B4-449B-8DC8-798718F0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C59-1B0B-4052-AE2B-037ADB49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81DB4-7DDE-478D-92D6-1EAA768924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1461A-9F66-405C-B442-6FFA21345B9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8:37:03Z</dcterms:created>
  <dc:creator>최봉수</dc:creator>
  <dc:description/>
  <dc:language>en-US</dc:language>
  <cp:lastModifiedBy>맛있다 군만두</cp:lastModifiedBy>
  <dcterms:modified xsi:type="dcterms:W3CDTF">2024-10-01T02:43:28Z</dcterms:modified>
  <cp:revision>3</cp:revision>
  <dc:subject/>
  <dc:title>슬라이드 1</dc:title>
</cp:coreProperties>
</file>