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anne-Lange%20weg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B12-FCB6-4AC7-90D3-08729C61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C6E-FA41-4F11-9253-DBAC632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165-7C8B-4F2D-9EB0-73898ED3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81A-4BDF-47A7-B542-7A279A30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5E5-0B2C-4104-A0C8-91C6F30E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4A6-ED8D-47B3-908C-17C0F2B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09C-8531-447C-9BF2-400848D1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844-3002-44F5-8ABA-609855E1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4BD-69D2-4291-BC18-B1279940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001-2C78-4987-9835-41D2160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485-7213-4C02-B4D7-D38007E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733-5EC9-422E-8DDD-50D818D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4D4B-CEB7-4EFA-ACA0-637CA104CAF1}" type="slidenum"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audio" Target="../media/Sanne-Lange%20weg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765000"/>
            <a:ext cx="735336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hter de horizon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6945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56760" cy="633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26920" y="981000"/>
            <a:ext cx="7490160" cy="518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07280" y="1663560"/>
            <a:ext cx="699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chter de horiz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igt een onbegrensd gebie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waar alles mogelijk i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ls je het maar ziet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30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60280"/>
            <a:ext cx="6481800" cy="4392720"/>
          </a:xfrm>
          <a:prstGeom prst="rect">
            <a:avLst/>
          </a:prstGeom>
          <a:blipFill rotWithShape="0">
            <a:blip r:embed="rId2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620640"/>
            <a:ext cx="5400720" cy="3600360"/>
          </a:xfrm>
          <a:prstGeom prst="rect">
            <a:avLst/>
          </a:prstGeom>
          <a:blipFill rotWithShape="0">
            <a:blip r:embed="rId3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"/>
          <p:cNvSpPr/>
          <p:nvPr/>
        </p:nvSpPr>
        <p:spPr>
          <a:xfrm>
            <a:off x="289800" y="4832280"/>
            <a:ext cx="92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Kijk verder dan de werkelijkhei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verder dan het dagelijkse leve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laat je meenemen naar dit prachtige oor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30000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8920" y="836640"/>
            <a:ext cx="747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In dit paradijs bestaan sprookj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en worden fantasieen geaccepteerd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dromen zullen immer uitkome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Monotype Corsiva"/>
              </a:rPr>
              <a:t>alles is goed en niets is verkeerd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comb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blipFill rotWithShape="0">
            <a:blip r:embed="rId2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04640"/>
            <a:ext cx="8064720" cy="5904000"/>
          </a:xfrm>
          <a:prstGeom prst="rect">
            <a:avLst/>
          </a:prstGeom>
          <a:blipFill rotWithShape="0">
            <a:blip r:embed="rId3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0920" y="2441520"/>
            <a:ext cx="3962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Achter de horizon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ligt een onbegrensd gebied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waar alles mogelijk i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als je het maar ziet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205000"/>
            <a:ext cx="4681440" cy="2519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30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3132000" cy="6858000"/>
          </a:xfrm>
          <a:prstGeom prst="ellipse">
            <a:avLst/>
          </a:prstGeom>
          <a:blipFill rotWithShape="0">
            <a:blip r:embed="rId2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"/>
          <p:cNvSpPr/>
          <p:nvPr/>
        </p:nvSpPr>
        <p:spPr>
          <a:xfrm>
            <a:off x="6012000" y="0"/>
            <a:ext cx="3132000" cy="6858000"/>
          </a:xfrm>
          <a:prstGeom prst="ellipse">
            <a:avLst/>
          </a:prstGeom>
          <a:blipFill rotWithShape="0">
            <a:blip r:embed="rId3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10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0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12:20:41Z</dcterms:created>
  <dc:creator/>
  <dc:description/>
  <dc:language>en-US</dc:language>
  <cp:lastModifiedBy>Smets</cp:lastModifiedBy>
  <dcterms:modified xsi:type="dcterms:W3CDTF">2011-10-22T05:16:17Z</dcterms:modified>
  <cp:revision>4</cp:revision>
  <dc:subject/>
  <dc:title>Dia 1</dc:title>
</cp:coreProperties>
</file>