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anne-Lange%20weg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533-D2A9-4573-8C6A-15FBC732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730-EDDB-4B3F-99D7-94D82F3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EBB-9C51-4668-93EA-C9DABEAA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6F3-AC67-4BDE-BA25-9078A16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935-2FA6-4E66-9A4A-C434CA0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1B5-1DA6-4459-8971-9889D60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B49-4224-48BE-B70F-C740197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01C-A09F-4365-84B5-8CDB374E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A67-4B44-4923-9425-9249475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775-8161-4CA7-9A99-3FABCA1C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729-27A9-4CC0-92DB-75F85A2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C03-265E-46AA-9DE4-C47F229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FA0-B3BC-4803-A896-E9DC2909A223}" type="slidenum"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audio" Target="../media/Sanne-Lange%20we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3533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hter de horizon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6945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56760" cy="633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749016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07280" y="1663560"/>
            <a:ext cx="699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chter de horiz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igt een onbegrensd gebie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aar alles mogelijk i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s je het maar ziet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60280"/>
            <a:ext cx="6481800" cy="4392720"/>
          </a:xfrm>
          <a:prstGeom prst="rect">
            <a:avLst/>
          </a:prstGeom>
          <a:blipFill rotWithShape="0">
            <a:blip r:embed="rId2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620640"/>
            <a:ext cx="5400720" cy="3600360"/>
          </a:xfrm>
          <a:prstGeom prst="rect">
            <a:avLst/>
          </a:prstGeom>
          <a:blipFill rotWithShape="0">
            <a:blip r:embed="rId3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"/>
          <p:cNvSpPr/>
          <p:nvPr/>
        </p:nvSpPr>
        <p:spPr>
          <a:xfrm>
            <a:off x="289800" y="4832280"/>
            <a:ext cx="92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ijk verder dan de werkelijkhei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erder dan het dagelijkse leve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laat je meenemen naar dit prachtige oor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8920" y="836640"/>
            <a:ext cx="747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In dit paradijs bestaan sprookj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en worden fantasieen geaccepteer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dromen zullen immer uitkome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alles is goed en niets is verkeerd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04640"/>
            <a:ext cx="8064720" cy="5904000"/>
          </a:xfrm>
          <a:prstGeom prst="rect">
            <a:avLst/>
          </a:prstGeom>
          <a:blipFill rotWithShape="0">
            <a:blip r:embed="rId3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920" y="2441520"/>
            <a:ext cx="3962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Achter de horizon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ligt een onbegrensd gebied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waar alles mogelijk i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als je het maar ziet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205000"/>
            <a:ext cx="4681440" cy="2519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3132000" cy="6858000"/>
          </a:xfrm>
          <a:prstGeom prst="ellipse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0"/>
            <a:ext cx="3132000" cy="6858000"/>
          </a:xfrm>
          <a:prstGeom prst="ellipse">
            <a:avLst/>
          </a:prstGeom>
          <a:blipFill rotWithShape="0">
            <a:blip r:embed="rId3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2:20:41Z</dcterms:created>
  <dc:creator/>
  <dc:description/>
  <dc:language>en-US</dc:language>
  <cp:lastModifiedBy>Smets</cp:lastModifiedBy>
  <dcterms:modified xsi:type="dcterms:W3CDTF">2011-10-22T05:16:17Z</dcterms:modified>
  <cp:revision>4</cp:revision>
  <dc:subject/>
  <dc:title>Dia 1</dc:title>
</cp:coreProperties>
</file>