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676-888F-4C59-B9C5-3CED3278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CF1D-EEA6-47B6-B429-955A579F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6E6-E74E-4801-B366-B11208A7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E482-7B8B-4E8E-ABC8-0F3A3975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949-CF33-459F-8371-10A5F874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6212-F2A7-4901-A528-464DE586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1FB-08CF-444B-A561-307AA540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AC45-0BA4-44B4-BBD0-5636D63F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5D9E-C758-4646-B561-9C9F8644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214A-E74F-495B-8A01-8AD6798A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89A-AF64-44B1-B103-04814AFE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6B47-F0FB-4062-90A9-E334343E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5C9D-6327-44A8-8FDC-75FF8F36E5A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rc 2"/>
          <p:cNvSpPr/>
          <p:nvPr/>
        </p:nvSpPr>
        <p:spPr>
          <a:xfrm flipH="1">
            <a:off x="2514600" y="2743200"/>
            <a:ext cx="380880" cy="16002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 flipH="1" flipV="1">
            <a:off x="1828440" y="3505320"/>
            <a:ext cx="6858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imite2"/>
          <p:cNvPicPr/>
          <p:nvPr/>
        </p:nvPicPr>
        <p:blipFill>
          <a:blip r:embed="rId1"/>
          <a:stretch/>
        </p:blipFill>
        <p:spPr>
          <a:xfrm>
            <a:off x="0" y="692280"/>
            <a:ext cx="8713800" cy="5905440"/>
          </a:xfrm>
          <a:prstGeom prst="rect">
            <a:avLst/>
          </a:prstGeom>
          <a:ln w="0">
            <a:noFill/>
          </a:ln>
        </p:spPr>
      </p:pic>
      <p:sp>
        <p:nvSpPr>
          <p:cNvPr id="44" name="Line 5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332000" y="0"/>
            <a:ext cx="5904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eea9"/>
                    </a:gs>
                  </a:gsLst>
                  <a:lin ang="2700000"/>
                </a:gradFill>
                <a:latin typeface="Arial Black"/>
              </a:rPr>
              <a:t>Monuments en cours de restaurati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eea9"/>
                  </a:gs>
                </a:gsLst>
                <a:lin ang="27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eea9"/>
                    </a:gs>
                  </a:gsLst>
                  <a:lin ang="2700000"/>
                </a:gradFill>
                <a:latin typeface="Arial Black"/>
              </a:rPr>
              <a:t>Palais du Be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eea9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limite1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5505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 flipH="1">
            <a:off x="4724280" y="2819520"/>
            <a:ext cx="137160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H="1">
            <a:off x="2514600" y="3890880"/>
            <a:ext cx="2209680" cy="452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 flipH="1">
            <a:off x="2590920" y="3048120"/>
            <a:ext cx="137160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 flipV="1">
            <a:off x="3886200" y="2286000"/>
            <a:ext cx="6858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5105520" y="2286000"/>
            <a:ext cx="9903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9"/>
          <p:cNvSpPr/>
          <p:nvPr/>
        </p:nvSpPr>
        <p:spPr>
          <a:xfrm flipH="1">
            <a:off x="2514600" y="2743200"/>
            <a:ext cx="380880" cy="16002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 flipH="1" flipV="1">
            <a:off x="1828440" y="3505320"/>
            <a:ext cx="6858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 flipV="1">
            <a:off x="2895480" y="1676160"/>
            <a:ext cx="91440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limite4"/>
          <p:cNvPicPr/>
          <p:nvPr/>
        </p:nvPicPr>
        <p:blipFill>
          <a:blip r:embed="rId2"/>
          <a:stretch/>
        </p:blipFill>
        <p:spPr>
          <a:xfrm>
            <a:off x="0" y="692280"/>
            <a:ext cx="8705880" cy="5761080"/>
          </a:xfrm>
          <a:prstGeom prst="rect">
            <a:avLst/>
          </a:prstGeom>
          <a:ln w="0">
            <a:noFill/>
          </a:ln>
        </p:spPr>
      </p:pic>
      <p:sp>
        <p:nvSpPr>
          <p:cNvPr id="77" name="Line 13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14"/>
          <p:cNvSpPr txBox="1"/>
          <p:nvPr/>
        </p:nvSpPr>
        <p:spPr>
          <a:xfrm>
            <a:off x="1332000" y="0"/>
            <a:ext cx="66247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MAAHAD IBN BAD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591400" cy="533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 chantier est le premier exemple de réhabilitation au niveau de la partie basse de la vieille ville ( Souika)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Délai de réalisation :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4 mois </a:t>
            </a:r>
            <a:br>
              <a:rPr sz="1600"/>
            </a:b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Date de démarrage des travaux :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26 janvier 2003</a:t>
            </a:r>
            <a:br>
              <a:rPr sz="1600"/>
            </a:b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urface :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02 m² développé sur 05 niveau </a:t>
            </a:r>
            <a:br>
              <a:rPr sz="1600"/>
            </a:b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Description :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stitué de quatre corps de bâtiment s’articulant autour d’un patio  situé  au 3e niveau . </a:t>
            </a:r>
            <a:br>
              <a:rPr sz="1600"/>
            </a:b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tyle :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xtérieur colonial, intérieur  néo-moresque  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br>
              <a:rPr sz="1600"/>
            </a:b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ituation des travaux :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s travaux actuellement sont à 85% du montant du marché. </a:t>
            </a:r>
            <a:br>
              <a:rPr sz="1600"/>
            </a:br>
            <a:br>
              <a:rPr sz="1600"/>
            </a:b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066680" y="115920"/>
            <a:ext cx="723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1332000" y="0"/>
            <a:ext cx="66247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MAAHAD IBN BAD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1"/>
          <p:cNvPicPr/>
          <p:nvPr/>
        </p:nvPicPr>
        <p:blipFill>
          <a:blip r:embed="rId1"/>
          <a:stretch/>
        </p:blipFill>
        <p:spPr>
          <a:xfrm>
            <a:off x="4648320" y="2712960"/>
            <a:ext cx="4038480" cy="333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22"/>
          <p:cNvPicPr/>
          <p:nvPr/>
        </p:nvPicPr>
        <p:blipFill>
          <a:blip r:embed="rId2"/>
          <a:stretch/>
        </p:blipFill>
        <p:spPr>
          <a:xfrm>
            <a:off x="303120" y="620640"/>
            <a:ext cx="4052880" cy="54039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1066680" y="115920"/>
            <a:ext cx="723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1332000" y="0"/>
            <a:ext cx="66247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MAAHAD IBN BAD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066680" y="115920"/>
            <a:ext cx="723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maahad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1" name="WordArt 5"/>
          <p:cNvSpPr txBox="1"/>
          <p:nvPr/>
        </p:nvSpPr>
        <p:spPr>
          <a:xfrm>
            <a:off x="1332000" y="0"/>
            <a:ext cx="66247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MAAHAD IBN BAD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066680" y="115920"/>
            <a:ext cx="723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maahad1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1332000" y="0"/>
            <a:ext cx="66247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MAAHAD IBN BAD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2bfc5"/>
                </a:solidFill>
                <a:latin typeface="Chiller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hiller"/>
              </a:rPr>
              <a:t>Le concept du patrimoine à évaluer avec le temps , donc il faut plus penser à protéger ce patrimoine avec la prise en conscience des habita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72bfc5"/>
                </a:solidFill>
                <a:latin typeface="Chiller"/>
              </a:rPr>
              <a:t>La bibliographi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hiller"/>
              </a:rPr>
              <a:t>1°/Tlemsani Kenza: la rue commerçante à Constantine économique de marche et espaces d urbanité .  Thèse de magister U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hiller"/>
              </a:rPr>
              <a:t>2°/Mekioui Taher Nadia :un centre historique enquête de valorisation  thèse de magister UMC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hiller"/>
              </a:rPr>
              <a:t>3°/ OPGI Constant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hiller"/>
              </a:rPr>
              <a:t>4°/ Unesco .org +Opgi.DZ+Axe-gestion.com+ Winkepedia.o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333000"/>
            <a:ext cx="8839440" cy="62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palais est un monument historique classé depuis AVRIL 1934, Il a été élevé sous le règne de AHMED BEY  entre 1827 -1835  ; cet ouvrage architectural a été bâti en deux temps 1827 à 1829 puis 1830 à 1835.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s dates sont à retenir 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837 -1862 : il était le siège de l’état major de l’armé française.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860 : restauration des peintures murales.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962-1969 : siège de la protection militaire.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969- 1982: occupé par la mairie ( 6 eme direction ) .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982: premiére etude  de restauration et  de la mise en valeur du palais par la société PKZ.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986: remise de l’etude compléte ( 53 volumes).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002 : démarrage des travaux de restauration  du palais ( objet du projet )</a:t>
            </a:r>
            <a:br>
              <a:rPr sz="1400"/>
            </a:br>
            <a:r>
              <a:rPr b="1" lang="fr-FR" sz="1400" spc="-1" strike="noStrike">
                <a:solidFill>
                  <a:srgbClr val="99cc00"/>
                </a:solidFill>
                <a:latin typeface="Comic Sans MS"/>
                <a:ea typeface="Times New Roman"/>
              </a:rPr>
              <a:t> </a:t>
            </a: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Délai de réalisation :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24 mois </a:t>
            </a:r>
            <a:br>
              <a:rPr sz="1400"/>
            </a:br>
            <a:r>
              <a:rPr b="1" lang="fr-FR" sz="1400" spc="-1" strike="noStrike">
                <a:solidFill>
                  <a:srgbClr val="dcfede"/>
                </a:solidFill>
                <a:latin typeface="Comic Sans MS"/>
                <a:ea typeface="Times New Roman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° de l’opération</a:t>
            </a:r>
            <a:r>
              <a:rPr b="1" lang="fr-FR" sz="1400" spc="-1" strike="noStrike">
                <a:solidFill>
                  <a:srgbClr val="dcfede"/>
                </a:solidFill>
                <a:latin typeface="Comic Sans MS"/>
                <a:ea typeface="Times New Roman"/>
              </a:rPr>
              <a:t> :</a:t>
            </a:r>
            <a:br>
              <a:rPr sz="1400"/>
            </a:br>
            <a:r>
              <a:rPr b="1" lang="fr-FR" sz="1400" spc="-1" strike="noStrike">
                <a:solidFill>
                  <a:srgbClr val="dcfede"/>
                </a:solidFill>
                <a:latin typeface="Comic Sans MS"/>
                <a:ea typeface="Times New Roman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ntant du marchée : 79.999.031,01 DA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treprise LAHMER BENYOUCEF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reau d’étude chargé de suivi :  BET SAU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ntant de suivi et de contrôle : 8.640.000,00 DA</a:t>
            </a:r>
            <a:r>
              <a:rPr b="1" lang="fr-FR" sz="1400" spc="-1" strike="noStrike">
                <a:solidFill>
                  <a:srgbClr val="dcfede"/>
                </a:solidFill>
                <a:latin typeface="Comic Sans MS"/>
                <a:ea typeface="Times New Roman"/>
              </a:rPr>
              <a:t> </a:t>
            </a:r>
            <a:br>
              <a:rPr sz="1400"/>
            </a:br>
            <a:br>
              <a:rPr sz="1400"/>
            </a:b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Date de démarrage des travaux :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Septembre 2002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ance du projet :</a:t>
            </a:r>
            <a:br>
              <a:rPr sz="1400"/>
            </a:b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urface :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5609 m² développé sur 04 niveau </a:t>
            </a:r>
            <a:br>
              <a:rPr sz="1400"/>
            </a:b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ombre de secteur :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08</a:t>
            </a:r>
            <a:br>
              <a:rPr sz="1400"/>
            </a:b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ombre de salle :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119</a:t>
            </a:r>
            <a:br>
              <a:rPr sz="1400"/>
            </a:b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ombre de jardin :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02 </a:t>
            </a:r>
            <a:br>
              <a:rPr sz="1400"/>
            </a:b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ombre de cours :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02</a:t>
            </a:r>
            <a:br>
              <a:rPr sz="1400"/>
            </a:b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ombre de bassin :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01</a:t>
            </a:r>
            <a:br>
              <a:rPr sz="1400"/>
            </a:b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tyle : 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resque  </a:t>
            </a:r>
            <a:br>
              <a:rPr sz="1400"/>
            </a:br>
            <a:br>
              <a:rPr sz="1400"/>
            </a:b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ituation des travaux :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s travaux actuellement sont à 75% du montant du marché , sans tenir compte des différents travaux supplémentaires et complémentaire qui feront l’objet</a:t>
            </a:r>
            <a:r>
              <a:rPr b="1" lang="fr-FR" sz="1400" spc="-1" strike="noStrike">
                <a:solidFill>
                  <a:srgbClr val="dcfede"/>
                </a:solidFill>
                <a:latin typeface="Comic Sans MS"/>
                <a:ea typeface="Times New Roman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’un avenant.</a:t>
            </a:r>
            <a:br>
              <a:rPr sz="1400"/>
            </a:br>
            <a:r>
              <a:rPr b="1" lang="fr-FR" sz="1400" spc="-1" strike="noStrike">
                <a:solidFill>
                  <a:srgbClr val="dcfede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79280" y="260280"/>
            <a:ext cx="8713800" cy="74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RECTERISTIQUES DU PROJET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P ( ……. 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les études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: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SA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aux d’avancement des travaux /se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ecteur central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: 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nition de l’espace fille du bey salles 239 et 239A en cours (pose de la céramiq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ecteur ouest 1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: 6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uiserie désengag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 d’appareillages électriques  non défini dans le march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iture (à cause des intempéries et selon l’échéanci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ecteur ouest 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 :   (Bloc  administrati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ccupé actuellement par la CAC, les travaux non entamés jusqu’à l’évacuation des lie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ecteur est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: 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te 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ype d’appareillages électriques  (non défini dans le march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oiture (reprise des travaux de revêtement de la toitu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ecteur nord 1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: 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enuiser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ecteur nord2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: 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te : - F/P de la toiture (selon L’échéanci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enuiserie (désengagé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ype d’appareillages électriques  (non défini dans le marché).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ecteur sud 1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te : - Menuiserie (désengagé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ype d’appareillages électriques  (non défini dans le marché).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ecteur sud 2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: 90%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te : - F/P de la toi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uiserie désengag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gement 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inture en c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lle en cours de coulage aujourd’hui le  05/03/20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28760" y="214200"/>
            <a:ext cx="7056360" cy="55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ituation financière :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6 millions de dinars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raintes 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montant global du marché ne couvre pas les travaux de restau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mande de réévaluation ( 48 millions DA) sans réponse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ème de dégradation de la toiture ancienne (détachement de la tuile au niveau du secteur sud 1) qui a empêché d’entamer les travaux de peinture et d’électricit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nque de pièces de céramique ancien au niveau de la salle des généraux pour le revêtement sol, et bit Bent EL Bey pour le revêtement m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olutions proposé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oir une rallonge pour clôturer le projet, notamment les travaux d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polychrom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itement des colonnes en mar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énagement des jardins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’équipement du pal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’aménagement extérieur du pal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9"/>
          <p:cNvPicPr/>
          <p:nvPr/>
        </p:nvPicPr>
        <p:blipFill>
          <a:blip r:embed="rId1"/>
          <a:stretch/>
        </p:blipFill>
        <p:spPr>
          <a:xfrm>
            <a:off x="4427640" y="2708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20"/>
          <p:cNvPicPr/>
          <p:nvPr/>
        </p:nvPicPr>
        <p:blipFill>
          <a:blip r:embed="rId2"/>
          <a:stretch/>
        </p:blipFill>
        <p:spPr>
          <a:xfrm>
            <a:off x="88920" y="765000"/>
            <a:ext cx="4051440" cy="5400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066680" y="115920"/>
            <a:ext cx="723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1547640" y="0"/>
            <a:ext cx="6264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Palais du B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alais5"/>
          <p:cNvPicPr/>
          <p:nvPr/>
        </p:nvPicPr>
        <p:blipFill>
          <a:blip r:embed="rId1"/>
          <a:stretch/>
        </p:blipFill>
        <p:spPr>
          <a:xfrm>
            <a:off x="900000" y="765000"/>
            <a:ext cx="7239240" cy="5429520"/>
          </a:xfrm>
          <a:prstGeom prst="rect">
            <a:avLst/>
          </a:prstGeom>
          <a:ln w="0">
            <a:noFill/>
          </a:ln>
        </p:spPr>
      </p:pic>
      <p:sp>
        <p:nvSpPr>
          <p:cNvPr id="55" name="Line 3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1332000" y="0"/>
            <a:ext cx="684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Palais du Bey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2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palais3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9" name="WordArt 4"/>
          <p:cNvSpPr txBox="1"/>
          <p:nvPr/>
        </p:nvSpPr>
        <p:spPr>
          <a:xfrm>
            <a:off x="1763640" y="0"/>
            <a:ext cx="59770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Palais du Be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palais"/>
          <p:cNvPicPr/>
          <p:nvPr/>
        </p:nvPicPr>
        <p:blipFill>
          <a:blip r:embed="rId1"/>
          <a:stretch/>
        </p:blipFill>
        <p:spPr>
          <a:xfrm>
            <a:off x="900000" y="6922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2" name="WordArt 4"/>
          <p:cNvSpPr txBox="1"/>
          <p:nvPr/>
        </p:nvSpPr>
        <p:spPr>
          <a:xfrm>
            <a:off x="1692360" y="0"/>
            <a:ext cx="61196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Palais du Be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152280" y="6094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palais1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5" name="WordArt 4"/>
          <p:cNvSpPr txBox="1"/>
          <p:nvPr/>
        </p:nvSpPr>
        <p:spPr>
          <a:xfrm>
            <a:off x="1403280" y="0"/>
            <a:ext cx="6481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Palais du Be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14:39:14Z</dcterms:created>
  <dc:creator>master plan</dc:creator>
  <dc:description/>
  <dc:language>en-US</dc:language>
  <cp:lastModifiedBy>Haitem</cp:lastModifiedBy>
  <dcterms:modified xsi:type="dcterms:W3CDTF">2009-02-20T13:39:42Z</dcterms:modified>
  <cp:revision>14</cp:revision>
  <dc:subject/>
  <dc:title>Diapositive 1</dc:title>
</cp:coreProperties>
</file>