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A14-DBB3-48D9-A8D4-67559379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D5F-6E59-45D2-8AE5-F2D460A0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A43-A720-4434-A175-597DFE68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016-1691-4431-9601-4F67AFB1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21A-7EF8-4A2E-93AB-C7EB24B7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A1A-C6BF-4105-837A-C9C9352B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6E3-4B04-418A-B705-62A54919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4C3-CF1C-4817-9603-5E3E13FE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254-A034-431B-AB2E-61E3E800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37C-672D-48B6-8872-68CB7102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A96-0DAC-4075-9A28-7E47532E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186-1FC0-4A8D-9ACD-D4992ED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2725-D9B2-4181-A810-A1E07693687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rc 2"/>
          <p:cNvSpPr/>
          <p:nvPr/>
        </p:nvSpPr>
        <p:spPr>
          <a:xfrm flipH="1">
            <a:off x="2514600" y="2743200"/>
            <a:ext cx="380880" cy="1600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 flipH="1" flipV="1">
            <a:off x="1828440" y="350532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imite2"/>
          <p:cNvPicPr/>
          <p:nvPr/>
        </p:nvPicPr>
        <p:blipFill>
          <a:blip r:embed="rId1"/>
          <a:stretch/>
        </p:blipFill>
        <p:spPr>
          <a:xfrm>
            <a:off x="0" y="692280"/>
            <a:ext cx="8713800" cy="590544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332000" y="0"/>
            <a:ext cx="5904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eea9"/>
                    </a:gs>
                  </a:gsLst>
                  <a:lin ang="2700000"/>
                </a:gradFill>
                <a:latin typeface="Arial Black"/>
              </a:rPr>
              <a:t>Monuments en cours de restaurati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eea9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eea9"/>
                    </a:gs>
                  </a:gsLst>
                  <a:lin ang="2700000"/>
                </a:gradFill>
                <a:latin typeface="Arial Black"/>
              </a:rPr>
              <a:t>Palais du B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eea9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imite1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5505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 flipH="1">
            <a:off x="4724280" y="2819520"/>
            <a:ext cx="137160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2514600" y="3890880"/>
            <a:ext cx="2209680" cy="4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H="1">
            <a:off x="2590920" y="3048120"/>
            <a:ext cx="137160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3886200" y="228600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105520" y="2286000"/>
            <a:ext cx="9903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9"/>
          <p:cNvSpPr/>
          <p:nvPr/>
        </p:nvSpPr>
        <p:spPr>
          <a:xfrm flipH="1">
            <a:off x="2514600" y="2743200"/>
            <a:ext cx="380880" cy="1600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 flipV="1">
            <a:off x="1828440" y="350532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2895480" y="1676160"/>
            <a:ext cx="91440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limite4"/>
          <p:cNvPicPr/>
          <p:nvPr/>
        </p:nvPicPr>
        <p:blipFill>
          <a:blip r:embed="rId2"/>
          <a:stretch/>
        </p:blipFill>
        <p:spPr>
          <a:xfrm>
            <a:off x="0" y="692280"/>
            <a:ext cx="8705880" cy="5761080"/>
          </a:xfrm>
          <a:prstGeom prst="rect">
            <a:avLst/>
          </a:prstGeom>
          <a:ln w="0">
            <a:noFill/>
          </a:ln>
        </p:spPr>
      </p:pic>
      <p:sp>
        <p:nvSpPr>
          <p:cNvPr id="77" name="Line 13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4"/>
          <p:cNvSpPr txBox="1"/>
          <p:nvPr/>
        </p:nvSpPr>
        <p:spPr>
          <a:xfrm>
            <a:off x="1332000" y="0"/>
            <a:ext cx="6624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MAAHAD IBN BAD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591400" cy="533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 chantier est le premier exemple de réhabilitation au niveau de la partie basse de la vieille ville ( Souika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élai de réalisation :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 mois </a:t>
            </a: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ate de démarrage des travaux :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26 janvier 2003</a:t>
            </a: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rface :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02 m² développé sur 05 niveau </a:t>
            </a: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escription :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stitué de quatre corps de bâtiment s’articulant autour d’un patio  situé  au 3e niveau . </a:t>
            </a: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tyle :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xtérieur colonial, intérieur  néo-moresque  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tuation des travaux :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s travaux actuellement sont à 85% du montant du marché. </a:t>
            </a:r>
            <a:br>
              <a:rPr sz="1600"/>
            </a:br>
            <a:br>
              <a:rPr sz="1600"/>
            </a:b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066680" y="115920"/>
            <a:ext cx="723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1332000" y="0"/>
            <a:ext cx="6624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MAAHAD IBN BAD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1"/>
          <p:cNvPicPr/>
          <p:nvPr/>
        </p:nvPicPr>
        <p:blipFill>
          <a:blip r:embed="rId1"/>
          <a:stretch/>
        </p:blipFill>
        <p:spPr>
          <a:xfrm>
            <a:off x="4648320" y="2712960"/>
            <a:ext cx="4038480" cy="333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22"/>
          <p:cNvPicPr/>
          <p:nvPr/>
        </p:nvPicPr>
        <p:blipFill>
          <a:blip r:embed="rId2"/>
          <a:stretch/>
        </p:blipFill>
        <p:spPr>
          <a:xfrm>
            <a:off x="303120" y="620640"/>
            <a:ext cx="4052880" cy="54039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1066680" y="115920"/>
            <a:ext cx="723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332000" y="0"/>
            <a:ext cx="6624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MAAHAD IBN BAD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066680" y="115920"/>
            <a:ext cx="723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maahad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1332000" y="0"/>
            <a:ext cx="6624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MAAHAD IBN BAD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115920"/>
            <a:ext cx="723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maahad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1332000" y="0"/>
            <a:ext cx="6624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MAAHAD IBN BAD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2bfc5"/>
                </a:solidFill>
                <a:latin typeface="Chiller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hiller"/>
              </a:rPr>
              <a:t>Le concept du patrimoine à évaluer avec le temps , donc il faut plus penser à protéger ce patrimoine avec la prise en conscience des habita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72bfc5"/>
                </a:solidFill>
                <a:latin typeface="Chiller"/>
              </a:rPr>
              <a:t>La bibliographi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hiller"/>
              </a:rPr>
              <a:t>1°/Tlemsani Kenza: la rue commerçante à Constantine économique de marche et espaces d urbanité .  Thèse de magister U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hiller"/>
              </a:rPr>
              <a:t>2°/Mekioui Taher Nadia :un centre historique enquête de valorisation  thèse de magister UM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hiller"/>
              </a:rPr>
              <a:t>3°/ OPGI Constant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hiller"/>
              </a:rPr>
              <a:t>4°/ Unesco .org +Opgi.DZ+Axe-gestion.com+ Winkepedia.o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33000"/>
            <a:ext cx="883944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palais est un monument historique classé depuis AVRIL 1934, Il a été élevé sous le règne de AHMED BEY  entre 1827 -1835  ; cet ouvrage architectural a été bâti en deux temps 1827 à 1829 puis 1830 à 1835.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s dates sont à retenir 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837 -1862 : il était le siège de l’état major de l’armé française.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860 : restauration des peintures murales.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62-1969 : siège de la protection militaire.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69- 1982: occupé par la mairie ( 6 eme direction ) .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82: premiére etude  de restauration et  de la mise en valeur du palais par la société PKZ.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86: remise de l’etude compléte ( 53 volumes).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002 : démarrage des travaux de restauration  du palais ( objet du projet )</a:t>
            </a:r>
            <a:br>
              <a:rPr sz="1400"/>
            </a:br>
            <a:r>
              <a:rPr b="1" lang="fr-FR" sz="14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 </a:t>
            </a: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élai de réalisation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24 mois </a:t>
            </a:r>
            <a:br>
              <a:rPr sz="1400"/>
            </a:br>
            <a:r>
              <a:rPr b="1" lang="fr-FR" sz="1400" spc="-1" strike="noStrike">
                <a:solidFill>
                  <a:srgbClr val="dcfede"/>
                </a:solidFill>
                <a:latin typeface="Comic Sans MS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° de l’opération</a:t>
            </a:r>
            <a:r>
              <a:rPr b="1" lang="fr-FR" sz="1400" spc="-1" strike="noStrike">
                <a:solidFill>
                  <a:srgbClr val="dcfede"/>
                </a:solidFill>
                <a:latin typeface="Comic Sans MS"/>
                <a:ea typeface="Times New Roman"/>
              </a:rPr>
              <a:t> :</a:t>
            </a:r>
            <a:br>
              <a:rPr sz="1400"/>
            </a:br>
            <a:r>
              <a:rPr b="1" lang="fr-FR" sz="1400" spc="-1" strike="noStrike">
                <a:solidFill>
                  <a:srgbClr val="dcfede"/>
                </a:solidFill>
                <a:latin typeface="Comic Sans MS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ntant du marchée : 79.999.031,01 DA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eprise LAHMER BENYOUCEF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reau d’étude chargé de suivi :  BET SAU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ntant de suivi et de contrôle : 8.640.000,00 DA</a:t>
            </a:r>
            <a:r>
              <a:rPr b="1" lang="fr-FR" sz="1400" spc="-1" strike="noStrike">
                <a:solidFill>
                  <a:srgbClr val="dcfede"/>
                </a:solidFill>
                <a:latin typeface="Comic Sans MS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ate de démarrage des travaux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Septembre 2002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ance du projet :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rface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5609 m² développé sur 04 niveau 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mbre de secteur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08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mbre de salle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119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mbre de jardin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02 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mbre de cours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02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mbre de bassin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01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tyle : 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esque  </a:t>
            </a:r>
            <a:br>
              <a:rPr sz="1400"/>
            </a:b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tuation des travaux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s travaux actuellement sont à 75% du montant du marché , sans tenir compte des différents travaux supplémentaires et complémentaire qui feront l’objet</a:t>
            </a:r>
            <a:r>
              <a:rPr b="1" lang="fr-FR" sz="1400" spc="-1" strike="noStrike">
                <a:solidFill>
                  <a:srgbClr val="dcfede"/>
                </a:solidFill>
                <a:latin typeface="Comic Sans MS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’un avenant.</a:t>
            </a:r>
            <a:br>
              <a:rPr sz="1400"/>
            </a:br>
            <a:r>
              <a:rPr b="1" lang="fr-FR" sz="1400" spc="-1" strike="noStrike">
                <a:solidFill>
                  <a:srgbClr val="dcfede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79280" y="260280"/>
            <a:ext cx="8713800" cy="74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ECTERISTIQUES DU PROJET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 ( ……. 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es études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: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A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ux d’avancement des travaux /se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central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ition de l’espace fille du bey salles 239 et 239A en cours (pose de la céramiq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ouest 1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6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iserie désengag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d’appareillages électriques  non défini dans le march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iture (à cause des intempéries et selon l’échéanci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ouest 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 :   (Bloc  administrati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pé actuellement par la CAC, les travaux non entamés jusqu’à l’évacuation des lie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est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ype d’appareillages électriques  (non défini dans le march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oiture (reprise des travaux de revêtement de la toitu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nord 1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enuise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nord2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 - F/P de la toiture (selon L’échéanci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enuiserie (désengagé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ype d’appareillages électriques  (non défini dans le marché).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sud 1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 - Menuiserie (désengagé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ype d’appareillages électriques  (non défini dans le marché).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sud 2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90%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 - F/P de la toi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iserie désengag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ement 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inture en c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lle en cours de coulage aujourd’hui le  05/03/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28760" y="214200"/>
            <a:ext cx="705636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tuation financière :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6 millions de dinars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raintes 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montant global du marché ne couvre pas les travaux de restau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mande de réévaluation ( 48 millions DA) sans réponse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ème de dégradation de la toiture ancienne (détachement de la tuile au niveau du secteur sud 1) qui a empêché d’entamer les travaux de peinture et d’électricit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que de pièces de céramique ancien au niveau de la salle des généraux pour le revêtement sol, et bit Bent EL Bey pour le revêtement m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olutions proposé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r une rallonge pour clôturer le projet, notamment les travaux d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olychrom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itement des colonnes en mar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énagement des jardin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équipement du pal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aménagement extérieur du pal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9"/>
          <p:cNvPicPr/>
          <p:nvPr/>
        </p:nvPicPr>
        <p:blipFill>
          <a:blip r:embed="rId1"/>
          <a:stretch/>
        </p:blipFill>
        <p:spPr>
          <a:xfrm>
            <a:off x="442764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20"/>
          <p:cNvPicPr/>
          <p:nvPr/>
        </p:nvPicPr>
        <p:blipFill>
          <a:blip r:embed="rId2"/>
          <a:stretch/>
        </p:blipFill>
        <p:spPr>
          <a:xfrm>
            <a:off x="88920" y="765000"/>
            <a:ext cx="4051440" cy="540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066680" y="115920"/>
            <a:ext cx="723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1547640" y="0"/>
            <a:ext cx="6264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alais du B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alais5"/>
          <p:cNvPicPr/>
          <p:nvPr/>
        </p:nvPicPr>
        <p:blipFill>
          <a:blip r:embed="rId1"/>
          <a:stretch/>
        </p:blipFill>
        <p:spPr>
          <a:xfrm>
            <a:off x="900000" y="765000"/>
            <a:ext cx="7239240" cy="5429520"/>
          </a:xfrm>
          <a:prstGeom prst="rect">
            <a:avLst/>
          </a:prstGeom>
          <a:ln w="0">
            <a:noFill/>
          </a:ln>
        </p:spPr>
      </p:pic>
      <p:sp>
        <p:nvSpPr>
          <p:cNvPr id="55" name="Line 3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332000" y="0"/>
            <a:ext cx="684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alais du Bey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palais3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763640" y="0"/>
            <a:ext cx="5977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alais du B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palais"/>
          <p:cNvPicPr/>
          <p:nvPr/>
        </p:nvPicPr>
        <p:blipFill>
          <a:blip r:embed="rId1"/>
          <a:stretch/>
        </p:blipFill>
        <p:spPr>
          <a:xfrm>
            <a:off x="900000" y="6922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2" name="WordArt 4"/>
          <p:cNvSpPr txBox="1"/>
          <p:nvPr/>
        </p:nvSpPr>
        <p:spPr>
          <a:xfrm>
            <a:off x="1692360" y="0"/>
            <a:ext cx="6119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alais du B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palais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1403280" y="0"/>
            <a:ext cx="6481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alais du B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14:39:14Z</dcterms:created>
  <dc:creator>master plan</dc:creator>
  <dc:description/>
  <dc:language>en-US</dc:language>
  <cp:lastModifiedBy>Haitem</cp:lastModifiedBy>
  <dcterms:modified xsi:type="dcterms:W3CDTF">2009-02-20T13:39:42Z</dcterms:modified>
  <cp:revision>14</cp:revision>
  <dc:subject/>
  <dc:title>Diapositive 1</dc:title>
</cp:coreProperties>
</file>