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207-D985-4FC3-975D-68F5EE98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A82C-0FCD-4904-B1C1-5E24B3EDE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EA39-D5D5-4916-8EC8-D30CF4FE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8DC-047C-46E8-9D34-2282628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493-E81D-4313-922C-1F41FF80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452-1206-4CE3-B425-29F2ADAF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E46-5FAA-4CBD-9371-0DCB7C4C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CA0-9992-4D22-B927-B50D2B33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3AC-A642-4B5A-9FB5-6B09B7C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FDA-27B4-413B-B85F-4727225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D55-863D-4711-89E6-BFB0787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DC7-297A-47ED-917F-37E61FC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3F3-F555-436D-81E7-264020A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B9B-DBB2-46E7-9571-17E0CBA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7EF-3BD3-47DB-9892-936EA85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CDD8-6881-44D5-9637-BAEFE3FB60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3A3-1350-40BB-9DC0-3BFC275FA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emedicine.medscape.com//article/954252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T06210: Apprenticeship in Obstetrics and Gyn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ssion 15: Pelvic organ  Prolap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Session time 9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33F-958B-4470-8D2D-995134A5A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967-5D8A-4A57-8527-BA362704E1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ory con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symptom (in presence of rectoce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y in passing stool. The patient has to push back the posterior vaginal wall in position to complete the evacuation of fe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incontinence may be associ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white or blood-stained vaginal discharge due to associated vaginitis or decubitus ul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D23-AEA9-4C2C-9420-B15B01D31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1F3-7739-404D-958E-2B89DDD3E63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ysical examination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tocel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 bulge of the anterior vaginal wall, which increases with stra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as positive cough impul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s reduc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ystourethroce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ulging of ant. Vaginal wall involves the lower 1/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re may be stress incontin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66F8-F71D-4EDA-A430-A4FA2CE9C98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BA81-0363-452E-B12C-4E82472F2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908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xamination cont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tocele and Enteroce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co-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ulge of the posterior vaginal wall with sulcus bt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tovaginal examination: enterocele is close to the cervix and cannot be reached at by the rectal f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321-DC08-4D93-8BD6-D17F881ADD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3F2D-2942-42AF-8466-6D03D79C6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504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ysical examination cont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terine prolaps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rst degree: Cervical descent below ischial spine on strai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nd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degree: Mass protruding out through the introitus leading part being external 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cubitus ulcer or dark pigmentation at the leading pa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hallow vaginal orif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creased length of uterine cavity on introducing uterine sound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410C-2FBC-44F9-A281-EA35664D7FE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B96-38AA-4E2B-9577-751DB30B0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002200" y="1828800"/>
            <a:ext cx="3608280" cy="3962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5410080" y="5754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degree uterine prolap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oce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tner’s c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dermoid cy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ethral diverticul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prolap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nital cervical elon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uterin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id pol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CE8-F89E-49BC-90ED-B0AF535D2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A6D-A53D-4B75-8DD0-F62A56B1C8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d-stream urine for analysis and culture .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nal ultrasound and IVU in cases of procidentia and severe cystocele to exclude  hydroureter &amp; hydronephrosis which may occur as a result of kinking of the ur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stometry in cases of incontinence in order to exclude urge incontin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ystourethroscop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1CF-435C-4F77-BA38-686BF06C9F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F5D-BC0E-4173-88EA-A099A4173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-referral treat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underlying cause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complications such as UTI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lvic floor exercises in an attempt to strengthen the muscles (Kegel exercis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gree genital prolaps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with gauze soaked with normal saline for safe transfer/refer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5BA-C111-44BE-8EA9-0095918A92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14AF-AC22-4FF6-91A6-F6B311784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treatmen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ogen replacement therapy may improve minor degree prolapse in postmenopausal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EE41-F3B9-4536-8DF1-A378EB0780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CF13-CE10-4B07-909F-2F193193C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C83-E301-4C84-B718-85E1ADE21DF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115E-0DD7-4953-B980-07102940F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Uterin1"/>
          <p:cNvPicPr/>
          <p:nvPr/>
        </p:nvPicPr>
        <p:blipFill>
          <a:blip r:embed="rId1"/>
          <a:stretch/>
        </p:blipFill>
        <p:spPr>
          <a:xfrm>
            <a:off x="573120" y="1600200"/>
            <a:ext cx="369396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3886200" y="5791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ary tract infection: Cystis and pyeloneph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arceration: At times, infection of the para-vaginal and cervical tissues makes the entire prolapsed mass edematous and congested. As a result, the mass may be irreduc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tonitis: Rarely, pelvic peritonitis may occur through the posterior vaginal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cinoma: Carcinoma rarely develops on decubitus ul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346-C90E-48EC-ACDA-286EAE6ED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A97-8BD4-4B34-B572-42C4D161FF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arning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is session, students are expected to be able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plain aetiology/risk factor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utline epidemiology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plain clinical featur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stablish diagnosis/ provisional and differential diagnosi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pre-referral treatment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follow-up servic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vide control and preventive measures of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pelvic org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prolap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512-D8AA-4AAA-9538-51385E831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8B7-A090-47B8-8178-2BDE454D24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s for symptoms and signs and development of complications of the disease and/or 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19FD-13A5-429F-AF4F-E6CB378DE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6C85-4D5B-484D-AB7E-D59D9D341F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strenuous activities, chronic cough, constipation and heavy weight lif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future pregnancy too soon and too many by contraceptiv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of postmenopausal atrophy of pelvic support b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d di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use of H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49B1-1938-4864-BC26-7B6C6B0841D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171-D7F8-454F-A240-56358B77C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antenatal and intrana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of: prolonged labour , bearing down before full cervical dilatation  and difficult instrumental deli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postna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courage early ambu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courage pelvic floor exercises by squeezing the pelvic floor muscles in the puerp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DCE-3256-4A25-A574-91D6A26F96E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7F30-9004-4336-8496-6ACD2188D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lvic organ prolapse is the protrusion of the pelvic organs into or out of the vaginal ca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a result of injury to the pelvic support by conditions such as childbirth or increased intra-abdominal pressure. Other factors includes obesity, menopause and undernutr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presentation includes sensation of something in the vagina and lower back pain both which tend to be relieved on ly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ment involves correction of unerlying causes/factors, use of pessaries and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C21-1AA2-4E1D-B417-BB4CF4D2B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E0E-2C2C-4D08-A4C6-EA303F0867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ment involves correction of underlying causes/factors, use of pessaries and 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P can be prevented by avoiding the risk factors, proper antenatal, intranatal and postnatal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B6A-A569-40F6-9A14-28F6158AD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A47-922C-4CF2-9D98-3CA2DC2E34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ne the risk factors for Pelvic organ prola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clinical presentation of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line the management of Pelvic organ prola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5F5-4342-412F-B9D0-38C85C3CB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1860-23B0-4F6E-AADE-C61404804F2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.C Dutta. Textbook of Gynecology.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s://emedicine.medscape.com//article/95425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iams textbook of Gynaecology (Mc Graw 200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dozo L, Staskin D, eds. Textbook of Female Urology and Urogynecology, Second Edition. Informa HealthCare; 200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etto Menopausa Italia Study Group. Risk factors for genital prolapse in non-hysterectomized women around menopause. Results from a large cross-sectional study in menopausal clinics in Italy. Eur J Obstet Gynecol Reprod Biol. Dec 2000;93(2):135-40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59B-9DF5-495A-8534-9147180EA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89BF-6176-42A3-92CA-3B3C92C30A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cont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gen S, Stark D, Maher C, Adams EJ. Conservative management of pelvic organ prolapse in women. Cochrane Database Syst Rev. 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tz VL, Lentz G, Lobo RA, Gershenson D. Comprehensive Gynecology. 5th ed. Mosby; 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eshgari F, Kefer JC, Moore C, Kaouk J. Robotic abdominal sacrocolpopexy/sacrouteropexy repair of advanced female pelvic organ prolaspe (POP): utilizing POP-quantification-based staging and outcomes. BJU Int. Oct 2007;100(4):875-9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Guideline] American College of Obstetricians and Gynecologists (ACOG). Pelvic organ prolapse. Washington (DC). Sep 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47B5-689F-4B0C-98B3-C7B58A450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B1B-AB4A-4C74-A4F5-E78765ED8A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Brainstor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17668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DBB-3DF1-496E-B9A6-C7045269E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1BA2-222D-4CDB-99CE-DC471D4CA8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elvic organ  Prolaps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s the protrusion of the pelvic organs into or out of the vaginal cana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s the abnormal descent or herniation of the pelvic organs from their normal attachment sites or their normal position in the pelvi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entity includes descent of the vaginal wall and/or the uteru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pelvic structures that may be involved include the uterus (uterine prolapse) or vaginal apex (apical vaginal prolapse), anterior vagina (cystocele), or posterior vagina (rectocel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0B7D-E3F9-4C87-9221-FFB343B46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46DF-D52E-4F38-A2AC-3986854E4F9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lvic organ prolapse (POP) affects millions of women worldwi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ital prolapse occurs in about 10-30% of  multiparous women and in 2% of nulliparous wo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ifetime risk for woman undergoing surgery for genital prolapse or incontinence is 11%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tudies show that the prevalence of pelvic organ prolapse increases steadily with age (Olsen, 1997; Swift,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6B27-2279-4C56-B1C4-4F5747C4F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335-69DC-4C64-AC88-8FADC6A11D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cases are the result of damages to the vaginal and pelvic support tissues due to childbirth or due to chronically elevated intra-abdomi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childbirth may result into stretching and injury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aments (see p. 2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pelvic fascia (see p. 2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ator muscle (my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nea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e (pudend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95AD-2B31-4F5E-A58E-117A6CE78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C979-519F-41EE-9807-97C95C0288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ild bir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tmenopausal atrop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or collagen tissue repair with 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d intra-abdominal pressure as in chronic lung disease and constip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pation (weight liftin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thenia and undernutr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d weight of the uterus as in fibroid or myohyperplas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F17-B6EF-4876-B1CA-B491888804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123C-4C44-447F-83E6-7AFDAA1A3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Brainstor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clinical features of Pelvic organ prola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465880" y="2971800"/>
            <a:ext cx="1766880" cy="27432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72BE-2D7F-4515-AA47-05DAFDA52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062B-4E66-4A89-B818-DFDD2F0E83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nical fea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eling of something coming down per vaginum, especially while moving abo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ckache or dragging pain in the pelv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yspareun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rinary sympto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in passing urine. The patient has to elevate the anterior vaginal wall for evacuation of the blad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frequ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ful micturition (in case of cysti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ss incontinence is usually due to associated urethroc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of urine may rarely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1E4-3710-4EA7-8518-115883550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6F21-EA95-491D-8D71-EA44A2048C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MT 06210: Apprenticeship in Obstetrics and Gynaec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Mansi</dc:creator>
  <dc:description/>
  <dc:language>en-US</dc:language>
  <cp:lastModifiedBy>Sony Vaio</cp:lastModifiedBy>
  <dcterms:modified xsi:type="dcterms:W3CDTF">2020-04-29T07:21:47Z</dcterms:modified>
  <cp:revision>138</cp:revision>
  <dc:subject/>
  <dc:title>CMT05211: Paediatrics and Child Health II</dc:title>
</cp:coreProperties>
</file>