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317A-2AFF-456D-A40B-49E58AEA0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124E-DE08-4FBD-AE28-0E1535D87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41B8-68E4-40E2-B43D-51226D9C1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6C4-9161-4326-B31A-F5B31B1A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D8E1-4BF4-419E-B82A-765EE6AA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B227-4311-4494-9D8B-BEEFC6D2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C4F0-EBE6-41D0-8627-5A9953AB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B11C-5ED6-4382-ADE4-CD1E4398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FF69-3825-402F-B466-E20E69BB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671E-12FA-4ECE-8100-23EEEE61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6666-8161-482B-A180-4BD8F61B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EAC8-7814-449B-A128-28C7D775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38C2-E4E8-48A0-9417-607D0FE9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05DB-E9F7-4C28-93CE-AE021150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0E87-BC0E-4F7C-B66C-8609093D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B6F9-059A-436E-889D-D38C3106064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36E4-6A97-4BBB-9558-A90957F7E6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emedicine.medscape.com//article/954252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T06210: Apprenticeship in Obstetrics and Gyne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ssion 15: Pelvic organ  Prolap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tal Session time 90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A7C7-6906-4413-9B56-C4A5472321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2E2D-5699-4302-8FAC-9CD2B8D42B7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features cont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tory cont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wel symptom (in presence of rectoce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y in passing stool. The patient has to push back the posterior vaginal wall in position to complete the evacuation of fe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cal incontinence may be associ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white or blood-stained vaginal discharge due to associated vaginitis or decubitus ulc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D482-A8D2-4836-A3C9-0FF0DC8B71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535A-66DE-4FE6-937A-3CEC57AB53C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features cont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hysical examination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tocel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 bulge of the anterior vaginal wall, which increases with strain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as positive cough impuls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s reducib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ystourethroce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Bulging of ant. Vaginal wall involves the lower 1/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re may be stress incontine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C51C-F479-426A-AC02-388500E8E62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C12C-AD9C-48FF-BEA4-886A4C75CA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3908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features cont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cal examination cont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tocele and Enteroce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co-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ulge of the posterior vaginal wall with sulcus btn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tovaginal examination: enterocele is close to the cervix and cannot be reached at by the rectal f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6C72-70F2-4EEA-A8CE-F669E924CFB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821C-0C19-4531-8CA4-D580630C03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504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features cont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hysical examination cont…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terine prolaps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irst degree: Cervical descent below ischial spine on strain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nd and 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degree: Mass protruding out through the introitus leading part being external 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ecubitus ulcer or dark pigmentation at the leading pa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hallow vaginal orif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ncreased length of uterine cavity on introducing uterine sound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6422-0958-4F74-810E-F99C4B71F27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9DF7-6353-4C53-B715-1EC8B465CE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5002200" y="1828800"/>
            <a:ext cx="3608280" cy="39625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5410080" y="57546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degree uterine prolap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stoce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rtner’s c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sion dermoid cy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ethral diverticul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erine prolap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nital cervical elon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nic uterine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broid poly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DAE4-EA11-4582-BDD1-2844736667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380A-E1CA-4A20-A159-A23505C2991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ig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d-stream urine for analysis and culture .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nal ultrasound and IVU in cases of procidentia and severe cystocele to exclude  hydroureter &amp; hydronephrosis which may occur as a result of kinking of the ur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ystometry in cases of incontinence in order to exclude urge incontin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ystourethroscopy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2C9F-EAF4-430F-BB09-82D73CBF8B9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D641-7B8F-4957-B815-DFA086E05D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-referral treat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 underlying cause as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 complications such as UTI as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lvic floor exercises in an attempt to strengthen the muscles (Kegel exercis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gree genital prolapse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 with gauze soaked with normal saline for safe transfer/refer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31C2-B727-40D4-8CF3-D72BCEEB698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0749-DC96-4FFA-A554-E5B0DA3120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 co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ific treatment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rogen replacement therapy may improve minor degree prolapse in postmenopausal w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ssa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0A42-26CB-414E-9669-ABAA2B5ABA7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E2FC-AF44-4B4E-B22E-2D3BA40BE8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 co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FAD1-C0E1-4AFB-B7E6-9E24A3E234F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A2E8-DCF3-402B-8D9F-BFF8015EA2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Uterin1"/>
          <p:cNvPicPr/>
          <p:nvPr/>
        </p:nvPicPr>
        <p:blipFill>
          <a:blip r:embed="rId1"/>
          <a:stretch/>
        </p:blipFill>
        <p:spPr>
          <a:xfrm>
            <a:off x="573120" y="1600200"/>
            <a:ext cx="3693960" cy="4114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6"/>
          <p:cNvSpPr/>
          <p:nvPr/>
        </p:nvSpPr>
        <p:spPr>
          <a:xfrm>
            <a:off x="3886200" y="5791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ss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ic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inary tract infection: Cystis and pyelonephr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arceration: At times, infection of the para-vaginal and cervical tissues makes the entire prolapsed mass edematous and congested. As a result, the mass may be irreduc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tonitis: Rarely, pelvic peritonitis may occur through the posterior vaginal w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cinoma: Carcinoma rarely develops on decubitus ul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6102-9FB4-4B4D-9DC0-711A142431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02C5-1B0F-4FF2-9D4E-735189370C4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arning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At the end of this session, students are expected to be able to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xplain aetiology/risk factors of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Arial"/>
              </a:rPr>
              <a:t>pelvic org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prolap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utline epidemiology of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Arial"/>
              </a:rPr>
              <a:t>pelvic org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prolap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xplain clinical features of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Arial"/>
              </a:rPr>
              <a:t>pelvic org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prolap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stablish diagnosis/ provisional and differential diagnosis of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Arial"/>
              </a:rPr>
              <a:t>pelvic org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prolap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ovide pre-referral treatment of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Arial"/>
              </a:rPr>
              <a:t>pelvic org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prolap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ovide follow-up services of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Arial"/>
              </a:rPr>
              <a:t>pelvic org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prolap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ovide control and preventive measures of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Arial"/>
              </a:rPr>
              <a:t>pelvic org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prolap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627F-E3CE-48A0-8CE0-A35A5C55C1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484A-5DC5-488D-A0AB-586F60A1C33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low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s for symptoms and signs and development of complications of the disease and/or com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6E7B-3F4E-4516-A7D3-AB24F0DCA5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11A5-49B8-4CCE-AEDB-48597845108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strenuous activities, chronic cough, constipation and heavy weight lif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future pregnancy too soon and too many by contraceptive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ention of postmenopausal atrophy of pelvic support b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d di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use of H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4854-8409-4F1F-BCBD-C3BDFEBDDBE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C0B3-264B-4166-957D-4ED1E679B5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on co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quate antenatal and intranatal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ing of: prolonged labour , bearing down before full cervical dilatation  and difficult instrumental deliv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quate postnatal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ncourage early ambul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ncourage pelvic floor exercises by squeezing the pelvic floor muscles in the puerper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86B7-0AF6-434D-8E73-C1DD210D9F4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23E0-8CD9-420C-8515-D5E3AF7D65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lvic organ prolapse is the protrusion of the pelvic organs into or out of the vaginal ca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is a result of injury to the pelvic support by conditions such as childbirth or increased intra-abdominal pressure. Other factors includes obesity, menopause and undernutri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on presentation includes sensation of something in the vagina and lower back pain both which tend to be relieved on lying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eatment involves correction of unerlying causes/factors, use of pessaries and surg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A7BD-8A1C-4CCE-B554-DE06695189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15FD-548E-4D3D-B18C-07052D26E39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points co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eatment involves correction of underlying causes/factors, use of pessaries and surg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P can be prevented by avoiding the risk factors, proper antenatal, intranatal and postnatal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C8E2-CB33-4CEC-AA72-817CC425D2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1F13-8C80-42F1-8F7C-E734BE535E2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Pelvic organ prolap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utline the risk factors for Pelvic organ prolap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are the clinical presentation of Pelvic organ prolap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utline the management of Pelvic organ prolap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AB21-C844-462E-8EF3-700B6EF30A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BB7E-AF6F-4E0C-A344-9216650E1F0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.C Dutta. Textbook of Gynecology. 6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ed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s://emedicine.medscape.com//article/95425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lliams textbook of Gynaecology (Mc Graw 200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rdozo L, Staskin D, eds. Textbook of Female Urology and Urogynecology, Second Edition. Informa HealthCare; 2006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getto Menopausa Italia Study Group. Risk factors for genital prolapse in non-hysterectomized women around menopause. Results from a large cross-sectional study in menopausal clinics in Italy. Eur J Obstet Gynecol Reprod Biol. Dec 2000;93(2):135-40.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B8A0-2708-4611-BA32-BD070C5731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34D7-429D-45EA-9134-E1E5046E77E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 cont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gen S, Stark D, Maher C, Adams EJ. Conservative management of pelvic organ prolapse in women. Cochrane Database Syst Rev. 20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tz VL, Lentz G, Lobo RA, Gershenson D. Comprehensive Gynecology. 5th ed. Mosby; 20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eshgari F, Kefer JC, Moore C, Kaouk J. Robotic abdominal sacrocolpopexy/sacrouteropexy repair of advanced female pelvic organ prolaspe (POP): utilizing POP-quantification-based staging and outcomes. BJU Int. Oct 2007;100(4):875-9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Guideline] American College of Obstetricians and Gynecologists (ACOG). Pelvic organ prolapse. Washington (DC). Sep 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4ACB-50B5-43BF-9EC5-B749DBE4CE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9CF7-2B85-4B12-97A3-B8F85CD9393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: Brainstorm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pelvic organ prolap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486400" y="2971800"/>
            <a:ext cx="1766880" cy="2743200"/>
          </a:xfrm>
          <a:prstGeom prst="rect">
            <a:avLst/>
          </a:prstGeom>
          <a:ln w="0">
            <a:noFill/>
          </a:ln>
        </p:spPr>
      </p:pic>
      <p:sp>
        <p:nvSpPr>
          <p:cNvPr id="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0F3E-4C63-46F0-B3B0-5053CBB915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5D95-8DAA-4004-8448-4E4C744B4C1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elvic organ  Prolaps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s the protrusion of the pelvic organs into or out of the vaginal canal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s the abnormal descent or herniation of the pelvic organs from their normal attachment sites or their normal position in the pelvi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 entity includes descent of the vaginal wall and/or the uteru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 pelvic structures that may be involved include the uterus (uterine prolapse) or vaginal apex (apical vaginal prolapse), anterior vagina (cystocele), or posterior vagina (rectocele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CAD8-034D-4E9D-9FF6-73EF35A3D6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D061-CE8F-4A63-A8C8-8E7CFA97856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lvic organ prolapse (POP) affects millions of women worldwid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ital prolapse occurs in about 10-30% of  multiparous women and in 2% of nulliparous wom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lifetime risk for woman undergoing surgery for genital prolapse or incontinence is 11%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 studies show that the prevalence of pelvic organ prolapse increases steadily with age (Olsen, 1997; Swift,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07F4-62C0-4751-9D89-FE38879738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6D6B-D7EF-43AE-A848-AAF8A103295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iolog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cases are the result of damages to the vaginal and pelvic support tissues due to childbirth or due to chronically elevated intra-abdominal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d childbirth may result into stretching and injury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aments (see p. 2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pelvic fascia (see p. 2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ator muscle (myopath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neal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rve (pudend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le da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EA26-90CC-4083-BF25-8C7061E945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89DC-01E4-468E-A879-559EE51F883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ild birt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stmenopausal atroph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or collagen tissue repair with 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creased intra-abdominal pressure as in chronic lung disease and constip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ccupation (weight lifting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sthenia and undernutri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es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creased weight of the uterus as in fibroid or myohyperplas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2920-4523-4BF4-8F50-EE267F144C5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5240-F7DA-4357-8569-B0B0C36534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: Brainstorm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are clinical features of Pelvic organ prolap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5465880" y="2971800"/>
            <a:ext cx="1766880" cy="27432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39C1-3652-4EC2-A658-89E18D526D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8032-611A-422A-AB32-097FD148ACF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feat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eeling of something coming down per vaginum, especially while moving about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ackache or dragging pain in the pelvi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yspareuni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rinary sympto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iculty in passing urine. The patient has to elevate the anterior vaginal wall for evacuation of the blad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frequenc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genc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inful micturition (in case of cystit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ss incontinence is usually due to associated urethroce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ention of urine may rarely occ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0556-C2E2-42AF-AFB1-F928594D38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8CBE-BD8C-40AA-A6DE-0DCE2D284EB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r.Mansi</dc:creator>
  <dc:description/>
  <dc:language>en-US</dc:language>
  <cp:lastModifiedBy>Sony Vaio</cp:lastModifiedBy>
  <dcterms:modified xsi:type="dcterms:W3CDTF">2020-04-29T07:21:47Z</dcterms:modified>
  <cp:revision>138</cp:revision>
  <dc:subject/>
  <dc:title>CMT05211: Paediatrics and Child Health II</dc:title>
</cp:coreProperties>
</file>