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0D70-FB37-4D5F-9A78-E53E596C0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C040-5745-4BEF-B13D-D7E62CCD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EFA5-028F-4040-A157-A58D7447A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DFCA-82C2-4EF6-A298-0506C5F49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14120-9259-46F3-A87D-B1300E69C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44639-EAF2-4D5A-A12E-91AE0B05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8F73B-4D05-4B20-B7E2-1E7EE0E4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C2523-0520-476B-9CCC-32EC578D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65102-D832-4527-B37D-654EC9BD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762E88-AB61-4745-9D89-15072F81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FE82A-9C14-4F68-9EC2-A9E8E38D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5CC2-5101-4615-A671-4B867180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8ACFF-2768-43D0-89EB-E5E199C9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CFF2B-8908-49EE-8CB4-6FA2FFEB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3FBEA-C299-42D5-804A-96AEB41C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568AE-D8E5-4C52-B4ED-E7DA53A37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28583-71FF-4FD5-A925-F097B3D26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566F-4626-4FCA-A4DC-98C2FA6A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6F16-88AD-4F60-B20F-B192327C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DB96-D065-4D67-81D3-6F3F96F5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65FE-3FD5-4450-BD58-576ECE42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D055-36AF-44E7-9422-EA1AAB0E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3B0E-DBC0-4227-B331-13EC33A8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AEEB-E408-441C-A832-F0D9A147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41E9-8319-4713-8250-971D2D9189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D695-09F9-4D12-BE91-715FE60771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NI-Times"/>
              </a:rPr>
              <a:t>Heä tieâu hoa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5486400" y="60958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NI-Times"/>
              </a:rPr>
              <a:t>ThS.Bs Trang Thò AÙnh Tuyeá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NI-Helve"/>
              </a:rPr>
              <a:t>C. SÖÏ TAÏO GAN VAØ TUÙI MAÄ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NOÄI BÌ OÁNG RUOÄ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VNI-Helve"/>
              </a:rPr>
              <a:t>NUÏ GAN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VNI-Helve"/>
              </a:rPr>
              <a:t>TUÙI THÖØA GAN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VNI-Helve"/>
              </a:rPr>
              <a:t>DAÂY GAN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VNI-Helve"/>
              </a:rPr>
              <a:t>BEØ REMAK, XOANG GAN (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MAO MAÏCH NAN HOA</a:t>
            </a:r>
            <a:r>
              <a:rPr b="0" lang="en-US" sz="2400" spc="-1" strike="noStrike">
                <a:solidFill>
                  <a:srgbClr val="33cccc"/>
                </a:solidFill>
                <a:latin typeface="VNI-Helve"/>
              </a:rPr>
              <a:t>), OÁNG DAÃN MAÄ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NOÄI BÌ OÁNG RUOÄ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VNI-Helve"/>
              </a:rPr>
              <a:t>NUÏ TUÙI MAÄT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 (BEÂN DÖÔÙI NUÏ GAN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VNI-Helve"/>
              </a:rPr>
              <a:t>TUÙI MAÄT, OÁNG TUÙI MAÄ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NI-Helve"/>
              </a:rPr>
              <a:t>D. SÖÏ TAÏO TUÏ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NOÄI BÌ OÁNG RUOÄ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VNI-Helve"/>
              </a:rPr>
              <a:t>NUÏ TUÏY SAU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 (ÑOÁI DIEÄN NUÏ GAN), </a:t>
            </a:r>
            <a:r>
              <a:rPr b="0" lang="en-US" sz="2400" spc="-1" strike="noStrike">
                <a:solidFill>
                  <a:srgbClr val="33cccc"/>
                </a:solidFill>
                <a:latin typeface="VNI-Helve"/>
              </a:rPr>
              <a:t>NUÏ TUÏY TRÖÔÙC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 NGAY DÖÔÙI NUÏ TUÙI MAÄ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NUÏ TUÏY TRÖÔÙC (</a:t>
            </a:r>
            <a:r>
              <a:rPr b="0" lang="en-US" sz="2400" spc="-1" strike="noStrike">
                <a:solidFill>
                  <a:srgbClr val="33cccc"/>
                </a:solidFill>
                <a:latin typeface="VNI-Helve"/>
              </a:rPr>
              <a:t>2 THUØY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) DI CHUYEÅN RA SAU, SAÙP NHAÄP VAØO NUÏ TUÏY SAU (</a:t>
            </a:r>
            <a:r>
              <a:rPr b="0" lang="en-US" sz="2400" spc="-1" strike="noStrike">
                <a:solidFill>
                  <a:srgbClr val="33cccc"/>
                </a:solidFill>
                <a:latin typeface="VNI-Helve"/>
              </a:rPr>
              <a:t>1 THUØY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 TUÏ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NUÏ TUÏY TRÖÔÙC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VNI-Helve"/>
              </a:rPr>
              <a:t>MOÛM MOÙC CAÂU, 1 PHAÀN ÑAÀU TUÏY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NUÏ TUÏY SAU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VNI-Helve"/>
              </a:rPr>
              <a:t>ÑAÀU, THAÂN, ÑUOÂI TUÏ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85800" y="1579680"/>
            <a:ext cx="762012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Helve"/>
              </a:rPr>
              <a:t>III. SÖÏ PHAÙT TRIEÅN CUÛA RUOÄT GIÖÕ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3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VNI-Helve"/>
              </a:rPr>
              <a:t>A. SÖÏ TAÏO QUAI ROÁN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: 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QUAI RUOÄT BEÂN TRONG ROÁ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CAØNH TREÂN: HOÃNG TRAØ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CAØNH DÖÔÙI: ÑAÏI TRAØNG LEÂ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TRUÏC: ÑM MAÏC TREO TRAØNG TREÂ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VNI-Helve"/>
              </a:rPr>
              <a:t>B. SÖÏ QUAY QUAI ROÁ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LAÀN 1: 9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NI-Helve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 NGÖÔÏC CHIEÀU KIM ÑOÀNG HOÀ, ÑÖA OÁNG RUOÄT VAØO ROÁ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LAÀN 2: 18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NI-Helve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 NGÖÔÏC CHIEÀU KIM ÑOÀNG HOÀ, ÑÖA QUAI ROÁN TRÔÛ VEÀ OÅ BUÏ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VNI-Helve"/>
              </a:rPr>
              <a:t>C. KEÁT QUAÛ QUAY QUAI ROÁ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QUAI RUOÄT XOAY 27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NI-Helve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 NGÖÔÏC CHIEÀU KIM ÑOÀNG HO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ÑAÏI TRAØNG LEÂN, ÑAÏI TRAØNG XUOÁNG GAÉN THÖÙ PHAÙT VAØO THAØNH BUÏNG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MANH TRAØNG GAÉN VAØO THAØNH BUÏNG SA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ÑAÏI TRAØNG NGANG EÙP TAÙ TRAØNG GAÉN THÖÙ PHAÙT VAØO THAØNH BUÏNG SA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752480" y="685800"/>
            <a:ext cx="4996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600200" y="609480"/>
            <a:ext cx="5756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IV. SÖÏ PHAÙT TRIEÅN CUÛA RUOÄT SAU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(SÖÏ PHAÂN CHIA OÅ NHÔÙP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VNI-Helve"/>
              </a:rPr>
              <a:t>A. VAÙCH NIEÄU-TRÖÏC TRAØ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1 NEÁP TOURNER ÔÛ PHÍA TREÂ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2 NEÁP RATHKE ÔÛ 2 BEÂ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VNI-Helve"/>
              </a:rPr>
              <a:t>B. XOANG NIEÄU DUÏC NGUYEÂN THUÛY VAØ MAØNG NIEÄU-DUÏ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ÑOAÏN BAØNG QUA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ÑOAÏN CHAÄ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ÑOAÏN SINH DUÏC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VNI-Helve"/>
              </a:rPr>
              <a:t>C. OÁNG HAÄU MOÂN-TRÖÏC TRAØNG VAØ MAØNG HAÄU MOÂ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NOÄI BÌ TAÏO 2/3 TREÂN CUÛA OÁNG HAÄU MOÂN-TRÖÏC TRAØ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NGOAÏI BÌ TAÏO 1/3 DÖÔÙI CUÛA OÁNG HAÄU MOÂN (MAØNG HAÄU MOÂN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ÑÖÔØNG LÖÔÏC: NEÁP NHAÊN TREÂN MAØNG HAÄU MOÂ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HEÄ MAÏCH OÁNG HAÄU MOÂN-TRÖÏC TRAØNG (BEÄNH TRÓ)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"/>
              </a:rPr>
              <a:t>2/3 TREÂN: ÑM, TM MAÏC TREO TRAØNG DÖÔÙ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"/>
              </a:rPr>
              <a:t>1/3 DÖÔÙI: ÑM, TM CHAÄU TRON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85800" y="2193840"/>
            <a:ext cx="8077320" cy="36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905120" y="749160"/>
            <a:ext cx="548640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Helve"/>
              </a:rPr>
              <a:t>V. SÖÏ TAÏO CAÙC CAÁU TRUÙC VAØ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NI-Helve"/>
              </a:rPr>
              <a:t>TAÏNG TRONG OÅ BUÏ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NI-Helve"/>
              </a:rPr>
              <a:t>A. SÖÏ TAÏO LOØNG OÁNG TIEÂU HOÙA CHÍNH THÖÙC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: 2 LAÀ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NI-Helve"/>
              </a:rPr>
              <a:t>B. SÖÏ TAÏO LAÙCH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NGUOÀN GOÁC TRUNG BÌ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CÔ QUAN TAÏO HUYEÁ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NI-Helve"/>
              </a:rPr>
              <a:t>C. SÖÏ TAÏO VUØNG KHOÂNG COÙ PHUÙC MAÏC CUÛA G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NI-Helve"/>
              </a:rPr>
              <a:t>D. SÖÏ PHAÙT TRIEÅN CUÛA MAÏC TREO RUOÄT TRÖÔÙC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VNI-Helve"/>
              </a:rPr>
              <a:t>TRÖÔÙC GAN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: DAÂY CHAÈNG LIEÀ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VNI-Helve"/>
              </a:rPr>
              <a:t>SAU GAN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: MAÏC NOÁI NHO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VNI-Helve"/>
              </a:rPr>
              <a:t>TREÂN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: DAÂY CHAÈNG GAN-V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VNI-Helve"/>
              </a:rPr>
              <a:t>DÖÔÙI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: DAÂY CHAÈNG GAN-TAÙ TRAØ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NI-Helve"/>
              </a:rPr>
              <a:t>E. SÖÏ TAÏO LOÃ WINSLOW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TUÙI NHOÛ PHUÙC MAÏC (TUÙI MAÏC NOÁI) THOÂNG VÔÙI TUÙI LÔÙN PHUÙC MAÏC (OÅ BUÏNG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Times"/>
              </a:rPr>
              <a:t>Baøi 9: HEÄ TIEÂU HOÙ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NI-Times"/>
              </a:rPr>
              <a:t>MUÏC TIEÂ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Times"/>
              </a:rPr>
              <a:t>NEÂU CAÙC KHAÙI NIEÄM VAØ NGUYEÂN TAÉC PHAÂN ÑÒNH CAÙC ÑOAÏN CUÛA OÁNG RUOÄ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Times"/>
              </a:rPr>
              <a:t>TRÌNH BAØY SÖÏ PHAÙT TRIEÅN CUÛA RUOÄT TRÖÔÙC, RUOÄT GIÖÕA VAØ RUOÄT SA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Times"/>
              </a:rPr>
              <a:t>TRÌNH BAØY SÖÏ TAÏO CAÙC CAÁU TRUÙC TRONG OÅ BUÏ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Times"/>
              </a:rPr>
              <a:t>KEÅ TEÂN CAÙC NHOÙM DÒ TAÄT CHÍNH CUÛA OÁNG TIEÂU HOÙ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828800" y="1128600"/>
            <a:ext cx="548640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57200" y="2395440"/>
            <a:ext cx="769608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981080" y="304920"/>
            <a:ext cx="53434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Helve"/>
              </a:rPr>
              <a:t>VI. DÒ TAÄT CUÛA HEÄ TIEÂU HOÙ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NI-Helve"/>
              </a:rPr>
              <a:t>3 NHOÙM DÒ TAÄT CHÍN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VNI-Helve"/>
              </a:rPr>
              <a:t>DÒ TAÄT KHOÂNG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: KHOÂNG COÙ CAÁU TRUÙC MAÀ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VNI-Helve"/>
              </a:rPr>
              <a:t>DÒ TAÄT TÒT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: BAÁT THÖÔØNG HEÄ MAÏ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VNI-Helve"/>
              </a:rPr>
              <a:t>DÒ TAÄT HEÏP, CHEÛ ÑOÂI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: BAÁT THÖÔØNG TAÙI TAÏO LOØNG OÁNG RUOÄ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NI-Helve"/>
              </a:rPr>
              <a:t>CAÙC LOAÏI DÒ TAÄT CUÏ THEÅ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- DOØ KHÍ QUAÛN –THÖÏC QUAÛN VAØ TÒT THÖÏC QUAÛ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- HEÏP MOÂN VÒ BAÅM SIN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- HEÏP/TÒT TAÙ TRAØ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- TÒT ÑÖÔØNG DAÃN MAÄT NGOAØI G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- TUÏY VOØ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85800" y="2131920"/>
            <a:ext cx="777240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NI-Helv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COÙ OÁNG TUÏY PHU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NI-Helv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TUÏY LAÏC CHOÃ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NI-Helv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COØN QUAI ROÁ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NI-Helv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QUAI ROÁN KHOÂNG XOAY/ XOAY BAÁT TOAØN/XOAY NGHÒCH CHIEÀ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NI-Helv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COØN TUÙI THÖØA MECK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85800" y="1360440"/>
            <a:ext cx="769608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- RUOÄT CHE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- PHÌNH ÑAÏI TRAØNG VAØ VOÂ HAÏCH BAÅM SIN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- MAØNG HAÄU MOÂN KHOÂNG THUÛNG VAØ DÒ DAÏNG HAÄU MOÂ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ÃY THOẢI MÁI VỚI PHÔI THAI HỌC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514600" y="2362320"/>
            <a:ext cx="48006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I. CAÙC KHAÙI NIEÄM NGUYEÂN TAÉC PHAÂN ÑÒNH CAÙC ÑOAÏN CUÛA OÁNG RUOÄ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NI-Helv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NI-Helve"/>
              </a:rPr>
              <a:t>OÁNG RUOÄT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: </a:t>
            </a:r>
            <a:r>
              <a:rPr b="0" lang="en-US" sz="2400" spc="-1" strike="noStrike">
                <a:solidFill>
                  <a:srgbClr val="33cccc"/>
                </a:solidFill>
                <a:latin typeface="VNI-Helve"/>
              </a:rPr>
              <a:t>NOÄI BÌ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NI-Helve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  <a:ea typeface="Arial"/>
              </a:rPr>
              <a:t>MAÏC TREO RUOÄT SAU CHU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NI-Helve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  <a:ea typeface="Arial"/>
              </a:rPr>
              <a:t>MAÏC TREO RUOÄT TRÖÔÙ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NI-Helv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NI-Helve"/>
              </a:rPr>
              <a:t>RUOÄT TRÖÔÙ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33cccc"/>
              </a:buClr>
              <a:buFont typeface="VNI-Helve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VNI-Helve"/>
                <a:ea typeface="Arial"/>
              </a:rPr>
              <a:t>RUOÄT TRÖÔÙC TREÂN CÔ HOAØNH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  <a:ea typeface="Arial"/>
              </a:rPr>
              <a:t>: NHAÙNH ÑM CHU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33cccc"/>
              </a:buClr>
              <a:buFont typeface="VNI-Helve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VNI-Helve"/>
                <a:ea typeface="Arial"/>
              </a:rPr>
              <a:t>RUOÄT TRÖÔÙC DÖÔÙI CÔ HOAØNH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  <a:ea typeface="Arial"/>
              </a:rPr>
              <a:t>: ÑM THAÂN TAÏ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NI-Helv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NI-Helve"/>
              </a:rPr>
              <a:t>RUOÄT GIÖÕA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ÑM MAÏC TREO TRAØNG TREÂ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NI-Helv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NI-Helve"/>
              </a:rPr>
              <a:t>RUOÄT SAU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ÑM MAÏC TREO TRAØNG DÖÔÙ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853416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219320" y="457200"/>
            <a:ext cx="6553080" cy="59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Helve"/>
              </a:rPr>
              <a:t>II. SÖÏ PHAÙT TRIEÅN CUÛA RUOÄT TRÖÔÙ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NI-Helve"/>
              </a:rPr>
              <a:t>A. SÖÏ TAÏO THÖÏC QUAÛ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VNI-Helve"/>
              </a:rPr>
              <a:t>BIEÅU MOÂ VAØ TUYEÁN</a:t>
            </a:r>
            <a:r>
              <a:rPr b="0" lang="en-US" sz="2800" spc="-1" strike="noStrike">
                <a:solidFill>
                  <a:srgbClr val="ffffff"/>
                </a:solidFill>
                <a:latin typeface="VNI-Helve"/>
              </a:rPr>
              <a:t>: NOÄI BÌ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VNI-Helve"/>
              </a:rPr>
              <a:t>TAÀNG NIEÂM MAÏC, DÖÔÙI NIEÂM MAÏC, CÔ, VOÛ NGOAØI, THANH MAÏC</a:t>
            </a:r>
            <a:r>
              <a:rPr b="0" lang="en-US" sz="2800" spc="-1" strike="noStrike">
                <a:solidFill>
                  <a:srgbClr val="ffffff"/>
                </a:solidFill>
                <a:latin typeface="VNI-Helve"/>
              </a:rPr>
              <a:t>: TRUNG BÌ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NI-Helve"/>
              </a:rPr>
              <a:t>B. SÖÏ TAÏO DAÏ DAØ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VNI-Helve"/>
              </a:rPr>
              <a:t>BIEÅU MOÂ VAØ TUYEÁN</a:t>
            </a:r>
            <a:r>
              <a:rPr b="0" lang="en-US" sz="2800" spc="-1" strike="noStrike">
                <a:solidFill>
                  <a:srgbClr val="ffffff"/>
                </a:solidFill>
                <a:latin typeface="VNI-Helve"/>
              </a:rPr>
              <a:t>: NOÄI BÌ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VNI-Helve"/>
              </a:rPr>
              <a:t>SÖÏ XOAY DAÏ DAØ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TRUÏC ÑAÀU-ÑUOÂI: 9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NI-Helve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TRUÏC NGANG: BÔØ CONG LÔÙN HAÏ THAÁP, BÔØ CONG NHOÛ NHOÂ LEÂ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VNI-Helve"/>
              </a:rPr>
              <a:t>THAØNH DAÏ DAØ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VNI-Helve"/>
              </a:rPr>
              <a:t>BÔØ CONG NHOÛ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: BEÂN PHAÛ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VNI-Helve"/>
              </a:rPr>
              <a:t>BÔØ CONG LÔÙN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: BEÂN TRAÙ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09480" y="2890800"/>
            <a:ext cx="784872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85800" y="2619360"/>
            <a:ext cx="76960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12:32:51Z</dcterms:created>
  <dc:creator>HUU</dc:creator>
  <dc:description/>
  <dc:language>en-US</dc:language>
  <cp:lastModifiedBy>Phạm Văn Khiêm</cp:lastModifiedBy>
  <dcterms:modified xsi:type="dcterms:W3CDTF">2007-01-21T01:26:05Z</dcterms:modified>
  <cp:revision>31</cp:revision>
  <dc:subject/>
  <dc:title>Baøi 9: HEÄ TIEÂU HOÙA</dc:title>
</cp:coreProperties>
</file>