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gif" ContentType="image/gif"/>
  <Override PartName="/ppt/media/image14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4CC9-B608-4F1D-950B-11ADDCB28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BBA6-7CE8-4C77-8647-1D22D43B0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8FA8-0014-4E58-A5C3-F5808ABA1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5CD2-2B71-4317-A8D5-931C37262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4E878B-15CD-4B5F-86D4-9EF40BED2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2AD0E6-43CF-4187-9F00-141788EEA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4A70FD-8078-46AC-ACB8-4E394777F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F206B0-66AB-4B18-B9D6-B0D0BC4FF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99D3F9-F886-4A92-B329-953326251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D47C72-E035-46C0-8813-BA6E98347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C98A86-EBF8-4E88-BB55-8F90EF9B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6CBE-7FF3-4379-8E57-46A9F50AE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1B9469-F72C-4DD1-81E4-9E4CD388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614AF1-A2B0-48F1-8BE4-94B0C92C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A47F94-1870-44E8-BA23-2874F2DBC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02C235-9ACB-48C0-90E8-9AD4B250F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BCD73A-820C-4D3B-9252-C514BFF31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6789-D449-4F3A-8DDE-0FCBA6358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B80C-89D7-401C-9ECF-7613AA5BB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180E-5252-4AD0-A73F-C90273BC4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0AC9-29B1-4D9D-AD4E-D28C4D24A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416D-6779-418A-BD70-1D0DCB4F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CCC1-779E-48B9-B30F-9FF6D2FF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53BB-A20D-4974-8C5E-1C8D3169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7E703-68B1-4583-B36C-2D0FB27DF24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46076-E0B7-41C9-B20C-18DDC488DD6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NI-Times"/>
              </a:rPr>
              <a:t>Heä tieâu hoa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5486400" y="609588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NI-Times"/>
              </a:rPr>
              <a:t>ThS.Bs Trang Thò AÙnh Tuyeá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VNI-Helve"/>
              </a:rPr>
              <a:t>C. SÖÏ TAÏO GAN VAØ TUÙI MAÄ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NOÄI BÌ OÁNG RUOÄT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VNI-Helve"/>
              </a:rPr>
              <a:t>NUÏ GAN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VNI-Helve"/>
              </a:rPr>
              <a:t>TUÙI THÖØA GAN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VNI-Helve"/>
              </a:rPr>
              <a:t>DAÂY GAN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VNI-Helve"/>
              </a:rPr>
              <a:t>BEØ REMAK, XOANG GAN (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MAO MAÏCH NAN HOA</a:t>
            </a:r>
            <a:r>
              <a:rPr b="0" lang="en-US" sz="2400" spc="-1" strike="noStrike">
                <a:solidFill>
                  <a:srgbClr val="33cccc"/>
                </a:solidFill>
                <a:latin typeface="VNI-Helve"/>
              </a:rPr>
              <a:t>), OÁNG DAÃN MAÄ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NOÄI BÌ OÁNG RUOÄT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VNI-Helve"/>
              </a:rPr>
              <a:t>NUÏ TUÙI MAÄT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 (BEÂN DÖÔÙI NUÏ GAN)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VNI-Helve"/>
              </a:rPr>
              <a:t>TUÙI MAÄT, OÁNG TUÙI MAÄ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VNI-Helve"/>
              </a:rPr>
              <a:t>D. SÖÏ TAÏO TUÏ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NOÄI BÌ OÁNG RUOÄT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VNI-Helve"/>
              </a:rPr>
              <a:t>NUÏ TUÏY SAU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 (ÑOÁI DIEÄN NUÏ GAN), </a:t>
            </a:r>
            <a:r>
              <a:rPr b="0" lang="en-US" sz="2400" spc="-1" strike="noStrike">
                <a:solidFill>
                  <a:srgbClr val="33cccc"/>
                </a:solidFill>
                <a:latin typeface="VNI-Helve"/>
              </a:rPr>
              <a:t>NUÏ TUÏY TRÖÔÙC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 NGAY DÖÔÙI NUÏ TUÙI MAÄ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NUÏ TUÏY TRÖÔÙC (</a:t>
            </a:r>
            <a:r>
              <a:rPr b="0" lang="en-US" sz="2400" spc="-1" strike="noStrike">
                <a:solidFill>
                  <a:srgbClr val="33cccc"/>
                </a:solidFill>
                <a:latin typeface="VNI-Helve"/>
              </a:rPr>
              <a:t>2 THUØY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) DI CHUYEÅN RA SAU, SAÙP NHAÄP VAØO NUÏ TUÏY SAU (</a:t>
            </a:r>
            <a:r>
              <a:rPr b="0" lang="en-US" sz="2400" spc="-1" strike="noStrike">
                <a:solidFill>
                  <a:srgbClr val="33cccc"/>
                </a:solidFill>
                <a:latin typeface="VNI-Helve"/>
              </a:rPr>
              <a:t>1 THUØY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)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 TUÏ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NUÏ TUÏY TRÖÔÙC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VNI-Helve"/>
              </a:rPr>
              <a:t>MOÛM MOÙC CAÂU, 1 PHAÀN ÑAÀU TUÏY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NUÏ TUÏY SAU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VNI-Helve"/>
              </a:rPr>
              <a:t>ÑAÀU, THAÂN, ÑUOÂI TUÏ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85800" y="1579680"/>
            <a:ext cx="7620120" cy="45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NI-Helve"/>
              </a:rPr>
              <a:t>III. SÖÏ PHAÙT TRIEÅN CUÛA RUOÄT GIÖÕ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7631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VNI-Helve"/>
              </a:rPr>
              <a:t>A. SÖÏ TAÏO QUAI ROÁN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: 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QUAI RUOÄT BEÂN TRONG ROÁ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CAØNH TREÂN: HOÃNG TRAØN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CAØNH DÖÔÙI: ÑAÏI TRAØNG LEÂ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TRUÏC: ÑM MAÏC TREO TRAØNG TREÂ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VNI-Helve"/>
              </a:rPr>
              <a:t>B. SÖÏ QUAY QUAI ROÁ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LAÀN 1: 9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VNI-Helve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 NGÖÔÏC CHIEÀU KIM ÑOÀNG HOÀ, ÑÖA OÁNG RUOÄT VAØO ROÁ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LAÀN 2: 18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VNI-Helve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 NGÖÔÏC CHIEÀU KIM ÑOÀNG HOÀ, ÑÖA QUAI ROÁN TRÔÛ VEÀ OÅ BUÏN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VNI-Helve"/>
              </a:rPr>
              <a:t>C. KEÁT QUAÛ QUAY QUAI ROÁ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QUAI RUOÄT XOAY 27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VNI-Helve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 NGÖÔÏC CHIEÀU KIM ÑOÀNG HOÀ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ÑAÏI TRAØNG LEÂN, ÑAÏI TRAØNG XUOÁNG GAÉN THÖÙ PHAÙT VAØO THAØNH BUÏNG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MANH TRAØNG GAÉN VAØO THAØNH BUÏNG SAU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ÑAÏI TRAØNG NGANG EÙP TAÙ TRAØNG GAÉN THÖÙ PHAÙT VAØO THAØNH BUÏNG SAU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752480" y="685800"/>
            <a:ext cx="4996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600200" y="609480"/>
            <a:ext cx="57564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IV. SÖÏ PHAÙT TRIEÅN CUÛA RUOÄT SAU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(SÖÏ PHAÂN CHIA OÅ NHÔÙP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VNI-Helve"/>
              </a:rPr>
              <a:t>A. VAÙCH NIEÄU-TRÖÏC TRAØ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1 NEÁP TOURNER ÔÛ PHÍA TREÂ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2 NEÁP RATHKE ÔÛ 2 BEÂ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VNI-Helve"/>
              </a:rPr>
              <a:t>B. XOANG NIEÄU DUÏC NGUYEÂN THUÛY VAØ MAØNG NIEÄU-DUÏ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ÑOAÏN BAØNG QUAN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ÑOAÏN CHAÄU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ÑOAÏN SINH DUÏC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VNI-Helve"/>
              </a:rPr>
              <a:t>C. OÁNG HAÄU MOÂN-TRÖÏC TRAØNG VAØ MAØNG HAÄU MOÂ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NOÄI BÌ TAÏO 2/3 TREÂN CUÛA OÁNG HAÄU MOÂN-TRÖÏC TRAØN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NGOAÏI BÌ TAÏO 1/3 DÖÔÙI CUÛA OÁNG HAÄU MOÂN (MAØNG HAÄU MOÂN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ÑÖÔØNG LÖÔÏC: NEÁP NHAÊN TREÂN MAØNG HAÄU MOÂ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HEÄ MAÏCH OÁNG HAÄU MOÂN-TRÖÏC TRAØNG (BEÄNH TRÓ)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VNI-Helv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NI-Helve"/>
              </a:rPr>
              <a:t>2/3 TREÂN: ÑM, TM MAÏC TREO TRAØNG DÖÔÙ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VNI-Helv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NI-Helve"/>
              </a:rPr>
              <a:t>1/3 DÖÔÙI: ÑM, TM CHAÄU TRON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85800" y="2193840"/>
            <a:ext cx="8077320" cy="36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905120" y="749160"/>
            <a:ext cx="5486400" cy="53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NI-Helve"/>
              </a:rPr>
              <a:t>V. SÖÏ TAÏO CAÙC CAÁU TRUÙC VAØ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NI-Helve"/>
              </a:rPr>
              <a:t>TAÏNG TRONG OÅ BUÏ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VNI-Helve"/>
              </a:rPr>
              <a:t>A. SÖÏ TAÏO LOØNG OÁNG TIEÂU HOÙA CHÍNH THÖÙC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: 2 LAÀ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VNI-Helve"/>
              </a:rPr>
              <a:t>B. SÖÏ TAÏO LAÙCH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NGUOÀN GOÁC TRUNG BÌ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CÔ QUAN TAÏO HUYEÁ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VNI-Helve"/>
              </a:rPr>
              <a:t>C. SÖÏ TAÏO VUØNG KHOÂNG COÙ PHUÙC MAÏC CUÛA G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VNI-Helve"/>
              </a:rPr>
              <a:t>D. SÖÏ PHAÙT TRIEÅN CUÛA MAÏC TREO RUOÄT TRÖÔÙC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cc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cc"/>
                </a:solidFill>
                <a:latin typeface="VNI-Helve"/>
              </a:rPr>
              <a:t>TRÖÔÙC GAN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: DAÂY CHAÈNG LIEÀ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cc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cc"/>
                </a:solidFill>
                <a:latin typeface="VNI-Helve"/>
              </a:rPr>
              <a:t>SAU GAN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: MAÏC NOÁI NHO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VNI-Helv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99ff"/>
                </a:solidFill>
                <a:latin typeface="VNI-Helve"/>
              </a:rPr>
              <a:t>TREÂN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: DAÂY CHAÈNG GAN-V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VNI-Helv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99ff"/>
                </a:solidFill>
                <a:latin typeface="VNI-Helve"/>
              </a:rPr>
              <a:t>DÖÔÙI</a:t>
            </a:r>
            <a:r>
              <a:rPr b="0" lang="en-US" sz="1600" spc="-1" strike="noStrike">
                <a:solidFill>
                  <a:srgbClr val="ffffff"/>
                </a:solidFill>
                <a:latin typeface="VNI-Helve"/>
              </a:rPr>
              <a:t>: DAÂY CHAÈNG GAN-TAÙ TRAØNG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VNI-Helve"/>
              </a:rPr>
              <a:t>E. SÖÏ TAÏO LOÃ WINSLOW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VNI-Helve"/>
              </a:rPr>
              <a:t>TUÙI NHOÛ PHUÙC MAÏC (TUÙI MAÏC NOÁI) THOÂNG VÔÙI TUÙI LÔÙN PHUÙC MAÏC (OÅ BUÏNG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NI-Times"/>
              </a:rPr>
              <a:t>Baøi 9: HEÄ TIEÂU HOÙ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VNI-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VNI-Times"/>
              </a:rPr>
              <a:t>MUÏC TIEÂ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Times"/>
              </a:rPr>
              <a:t>NEÂU CAÙC KHAÙI NIEÄM VAØ NGUYEÂN TAÉC PHAÂN ÑÒNH CAÙC ÑOAÏN CUÛA OÁNG RUOÄ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Times"/>
              </a:rPr>
              <a:t>TRÌNH BAØY SÖÏ PHAÙT TRIEÅN CUÛA RUOÄT TRÖÔÙC, RUOÄT GIÖÕA VAØ RUOÄT SA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Times"/>
              </a:rPr>
              <a:t>TRÌNH BAØY SÖÏ TAÏO CAÙC CAÁU TRUÙC TRONG OÅ BUÏ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Times"/>
              </a:rPr>
              <a:t>KEÅ TEÂN CAÙC NHOÙM DÒ TAÄT CHÍNH CUÛA OÁNG TIEÂU HOÙ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828800" y="1128600"/>
            <a:ext cx="5486400" cy="40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57200" y="2395440"/>
            <a:ext cx="7696080" cy="37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981080" y="304920"/>
            <a:ext cx="53434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NI-Helve"/>
              </a:rPr>
              <a:t>VI. DÒ TAÄT CUÛA HEÄ TIEÂU HOÙ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VNI-Helve"/>
              </a:rPr>
              <a:t>3 NHOÙM DÒ TAÄT CHÍN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33cc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VNI-Helve"/>
              </a:rPr>
              <a:t>DÒ TAÄT KHOÂNG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: KHOÂNG COÙ CAÁU TRUÙC MAÀ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33cc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VNI-Helve"/>
              </a:rPr>
              <a:t>DÒ TAÄT TÒT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: BAÁT THÖÔØNG HEÄ MAÏC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33cc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VNI-Helve"/>
              </a:rPr>
              <a:t>DÒ TAÄT HEÏP, CHEÛ ÑOÂI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: BAÁT THÖÔØNG TAÙI TAÏO LOØNG OÁNG RUOÄ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VNI-Helve"/>
              </a:rPr>
              <a:t>CAÙC LOAÏI DÒ TAÄT CUÏ THEÅ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- DOØ KHÍ QUAÛN –THÖÏC QUAÛN VAØ TÒT THÖÏC QUAÛ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- HEÏP MOÂN VÒ BAÅM SIN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- HEÏP/TÒT TAÙ TRAØ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- TÒT ÑÖÔØNG DAÃN MAÄT NGOAØI G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- TUÏY VOØ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85800" y="2131920"/>
            <a:ext cx="777240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VNI-Helv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COÙ OÁNG TUÏY PHU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VNI-Helv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TUÏY LAÏC CHOÃ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VNI-Helv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COØN QUAI ROÁ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VNI-Helv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QUAI ROÁN KHOÂNG XOAY/ XOAY BAÁT TOAØN/XOAY NGHÒCH CHIEÀ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VNI-Helv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COØN TUÙI THÖØA MECK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85800" y="1360440"/>
            <a:ext cx="769608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- RUOÄT CHE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- PHÌNH ÑAÏI TRAØNG VAØ VOÂ HAÏCH BAÅM SIN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- MAØNG HAÄU MOÂN KHOÂNG THUÛNG VAØ DÒ DAÏNG HAÄU MOÂ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ÃY THOẢI MÁI VỚI PHÔI THAI HỌC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514600" y="2362320"/>
            <a:ext cx="480060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I. CAÙC KHAÙI NIEÄM NGUYEÂN TAÉC PHAÂN ÑÒNH CAÙC ÑOAÏN CUÛA OÁNG RUOÄ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VNI-Helv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VNI-Helve"/>
              </a:rPr>
              <a:t>OÁNG RUOÄT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: </a:t>
            </a:r>
            <a:r>
              <a:rPr b="0" lang="en-US" sz="2400" spc="-1" strike="noStrike">
                <a:solidFill>
                  <a:srgbClr val="33cccc"/>
                </a:solidFill>
                <a:latin typeface="VNI-Helve"/>
              </a:rPr>
              <a:t>NOÄI BÌ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NI-Helve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  <a:ea typeface="Arial"/>
              </a:rPr>
              <a:t>MAÏC TREO RUOÄT SAU CHU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NI-Helve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  <a:ea typeface="Arial"/>
              </a:rPr>
              <a:t>MAÏC TREO RUOÄT TRÖÔÙ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VNI-Helv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VNI-Helve"/>
              </a:rPr>
              <a:t>RUOÄT TRÖÔÙ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33cccc"/>
              </a:buClr>
              <a:buFont typeface="VNI-Helve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VNI-Helve"/>
                <a:ea typeface="Arial"/>
              </a:rPr>
              <a:t>RUOÄT TRÖÔÙC TREÂN CÔ HOAØNH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  <a:ea typeface="Arial"/>
              </a:rPr>
              <a:t>: NHAÙNH ÑM CHU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33cccc"/>
              </a:buClr>
              <a:buFont typeface="VNI-Helve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VNI-Helve"/>
                <a:ea typeface="Arial"/>
              </a:rPr>
              <a:t>RUOÄT TRÖÔÙC DÖÔÙI CÔ HOAØNH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  <a:ea typeface="Arial"/>
              </a:rPr>
              <a:t>: ÑM THAÂN TAÏ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VNI-Helv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VNI-Helve"/>
              </a:rPr>
              <a:t>RUOÄT GIÖÕA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ÑM MAÏC TREO TRAØNG TREÂ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VNI-Helv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VNI-Helve"/>
              </a:rPr>
              <a:t>RUOÄT SAU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ÑM MAÏC TREO TRAØNG DÖÔÙ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04920" y="1219320"/>
            <a:ext cx="853416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219320" y="457200"/>
            <a:ext cx="6553080" cy="59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NI-Helve"/>
              </a:rPr>
              <a:t>II. SÖÏ PHAÙT TRIEÅN CUÛA RUOÄT TRÖÔÙ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NI-Helve"/>
              </a:rPr>
              <a:t>A. SÖÏ TAÏO THÖÏC QUAÛ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cc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VNI-Helve"/>
              </a:rPr>
              <a:t>BIEÅU MOÂ VAØ TUYEÁN</a:t>
            </a:r>
            <a:r>
              <a:rPr b="0" lang="en-US" sz="2800" spc="-1" strike="noStrike">
                <a:solidFill>
                  <a:srgbClr val="ffffff"/>
                </a:solidFill>
                <a:latin typeface="VNI-Helve"/>
              </a:rPr>
              <a:t>: NOÄI BÌ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cc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VNI-Helve"/>
              </a:rPr>
              <a:t>TAÀNG NIEÂM MAÏC, DÖÔÙI NIEÂM MAÏC, CÔ, VOÛ NGOAØI, THANH MAÏC</a:t>
            </a:r>
            <a:r>
              <a:rPr b="0" lang="en-US" sz="2800" spc="-1" strike="noStrike">
                <a:solidFill>
                  <a:srgbClr val="ffffff"/>
                </a:solidFill>
                <a:latin typeface="VNI-Helve"/>
              </a:rPr>
              <a:t>: TRUNG BÌ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NI-Helve"/>
              </a:rPr>
              <a:t>B. SÖÏ TAÏO DAÏ DAØ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VNI-Helve"/>
              </a:rPr>
              <a:t>BIEÅU MOÂ VAØ TUYEÁN</a:t>
            </a:r>
            <a:r>
              <a:rPr b="0" lang="en-US" sz="2800" spc="-1" strike="noStrike">
                <a:solidFill>
                  <a:srgbClr val="ffffff"/>
                </a:solidFill>
                <a:latin typeface="VNI-Helve"/>
              </a:rPr>
              <a:t>: NOÄI BÌ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VNI-Helve"/>
              </a:rPr>
              <a:t>SÖÏ XOAY DAÏ DAØ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VNI-Helv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TRUÏC ÑAÀU-ÑUOÂI: 9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VNI-Helve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VNI-Helv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TRUÏC NGANG: BÔØ CONG LÔÙN HAÏ THAÁP, BÔØ CONG NHOÛ NHOÂ LEÂ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VNI-Helve"/>
              </a:rPr>
              <a:t>THAØNH DAÏ DAØ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VNI-Helv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VNI-Helve"/>
              </a:rPr>
              <a:t>BÔØ CONG NHOÛ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: BEÂN PHAÛ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VNI-Helv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VNI-Helve"/>
              </a:rPr>
              <a:t>BÔØ CONG LÔÙN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: BEÂN TRAÙ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09480" y="2890800"/>
            <a:ext cx="784872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85800" y="2619360"/>
            <a:ext cx="769608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1T12:32:51Z</dcterms:created>
  <dc:creator>HUU</dc:creator>
  <dc:description/>
  <dc:language>en-US</dc:language>
  <cp:lastModifiedBy>Phạm Văn Khiêm</cp:lastModifiedBy>
  <dcterms:modified xsi:type="dcterms:W3CDTF">2007-01-21T01:26:05Z</dcterms:modified>
  <cp:revision>31</cp:revision>
  <dc:subject/>
  <dc:title>Baøi 9: HEÄ TIEÂU HOÙA</dc:title>
</cp:coreProperties>
</file>