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216650"/>
  <p:notesSz cx="6858000" cy="9144000"/>
  <p:custShowLst>
    <p:custShow name="Custom Show 1" id="0">
      <p:sldLst>
        <p:sld r:id="rId4"/>
        <p:sld r:id="rId5"/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685440"/>
            <a:ext cx="50421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76E6-7C74-4A0C-A7E7-D1A0AEB9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F998-202B-48CD-A16C-B03E6704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7920" y="685800"/>
            <a:ext cx="504216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3D34-DAF9-422F-8807-77BB0F43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07920" y="685800"/>
            <a:ext cx="504216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A3D-1267-456A-9A3F-1670F4ED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07920" y="685800"/>
            <a:ext cx="504216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230-B7D8-4765-AA5D-148D1525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614400"/>
            <a:ext cx="854064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C12B-5A75-4827-AB54-268861E9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732-B406-4FF1-B52E-34F2E83E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1884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1884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61440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61440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614400"/>
            <a:ext cx="274968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C61-CC90-4943-A538-152D2193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9BC-45A0-4704-9B23-94A5944E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F84-70EE-4D92-96F4-946E347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238-E011-480F-8B7F-FDBAED09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E96-A607-4025-A748-A8B6B5B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08080"/>
            <a:ext cx="85104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651-73CB-412F-A211-5CBC61F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31B-FD2F-4750-8F33-E983B04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61440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723-5013-437C-9C91-A80028C6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18840"/>
            <a:ext cx="416772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614400"/>
            <a:ext cx="8540640" cy="19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F2D0-5413-4DD6-B53C-59283A55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5662440"/>
            <a:ext cx="228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62440"/>
            <a:ext cx="28958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662440"/>
            <a:ext cx="2286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A9D1-8757-42E7-AFCB-8E63B841F2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43000" y="1658880"/>
            <a:ext cx="693432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435"/>
              </a:avLst>
            </a:prstTxWarp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FREE SPACE OPT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971800" y="33163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PRESENTED BY,</a:t>
            </a:r>
            <a:endParaRPr b="1" lang="en-US" sz="2000" spc="-1" strike="noStrike">
              <a:solidFill>
                <a:srgbClr val="ff0000"/>
              </a:solidFill>
              <a:latin typeface="FZ JAZZY 10 3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1" name="Rectangle 39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CLUSION…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low cost, rapidly deployable method of gaining access to fiber optic back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SO complement legacy network inves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SO eliminates the need to obtain costly spectrum lic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8080"/>
            <a:ext cx="85107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FERENCES…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eespaceoptics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networkmagazin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utera.com/fsofaq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ans.org/rr/wireless/optics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freespaceopt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inz A. Willerbrand, Baksheesh S. Ghuman “Fiber Optics Without Fib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796760"/>
            <a:ext cx="85410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FSO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29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5" name="Line 30"/>
          <p:cNvSpPr/>
          <p:nvPr/>
        </p:nvSpPr>
        <p:spPr>
          <a:xfrm>
            <a:off x="0" y="5527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6" name="Rectangle 44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57" name="Rectangle 45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TION……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ed Communicatio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s Infrared beams for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so called Free Space Photonics (FS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ed by Alexander Graham B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42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1" name="Line 43"/>
          <p:cNvSpPr/>
          <p:nvPr/>
        </p:nvSpPr>
        <p:spPr>
          <a:xfrm>
            <a:off x="0" y="55278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2" name="Rectangle 53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3" name="Rectangle 54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08080"/>
            <a:ext cx="9372600" cy="14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FSO WORKS………….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6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sts of two Telesc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mits invisible light beams b/w Telesc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er capacities in range of 100Mbps to 2.5G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function over distances of several K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08080"/>
            <a:ext cx="93726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pic>
        <p:nvPicPr>
          <p:cNvPr id="73" name="Picture 9" descr="fso_diagram"/>
          <p:cNvPicPr/>
          <p:nvPr/>
        </p:nvPicPr>
        <p:blipFill>
          <a:blip r:embed="rId2"/>
          <a:stretch/>
        </p:blipFill>
        <p:spPr>
          <a:xfrm>
            <a:off x="0" y="208080"/>
            <a:ext cx="9144000" cy="58021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………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Networking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limite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sible to mount FSO inside even Buil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requirement is Line of Sight b/w to ends of the 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7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LLENGES………….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mosphere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ysical Ob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in pointing 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in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ar Interfer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5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3" name="Line 6"/>
          <p:cNvSpPr/>
          <p:nvPr/>
        </p:nvSpPr>
        <p:spPr>
          <a:xfrm>
            <a:off x="0" y="525132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URITY………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er beams can’t detected with spectrum analyzers or RF 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 of sight cannot be intercepted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ams are harder to find and cr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can be transmitted over an encrypted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89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08080"/>
            <a:ext cx="85104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IABILITY………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18840"/>
            <a:ext cx="85406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ploying adaptive laser power scheme to adjust the laser power will improve rel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 Controller that maintains temperature of laser transmitter maximize reliability and life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0" y="1243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5" name="Line 5"/>
          <p:cNvSpPr/>
          <p:nvPr/>
        </p:nvSpPr>
        <p:spPr>
          <a:xfrm>
            <a:off x="0" y="538956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6010200"/>
            <a:ext cx="9144000" cy="2080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0000"/>
              </a:solidFill>
              <a:latin typeface="FZ JAZZY 10 3D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04:43Z</dcterms:created>
  <dc:creator>ANOOP</dc:creator>
  <dc:description/>
  <dc:language>en-US</dc:language>
  <cp:lastModifiedBy>anoop</cp:lastModifiedBy>
  <dcterms:modified xsi:type="dcterms:W3CDTF">2010-01-23T02:28:57Z</dcterms:modified>
  <cp:revision>319</cp:revision>
  <dc:subject/>
  <dc:title>Slide 1</dc:title>
</cp:coreProperties>
</file>