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216650"/>
  <p:notesSz cx="6858000" cy="9144000"/>
  <p:custShowLst>
    <p:custShow name="Custom Show 1" id="0">
      <p:sldLst>
        <p:sld r:id="rId4"/>
        <p:sld r:id="rId5"/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7920" y="685440"/>
            <a:ext cx="50421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E0B1-EE39-4C3E-9E86-B317B1400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FZ JAZZY 10 3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5097-8F32-422B-9ABE-4A5474B3E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7920" y="685800"/>
            <a:ext cx="504216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9230-705D-4ADF-869A-9CFCAC44E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07920" y="685800"/>
            <a:ext cx="504216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907D-BDBE-4CDE-A113-30741280F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07920" y="685800"/>
            <a:ext cx="504216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77C-BD20-4475-8196-C131E98E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854064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614400"/>
            <a:ext cx="854064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ED4F-220F-4F7C-8DBB-ACC4E3A1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416772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18840"/>
            <a:ext cx="416772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614400"/>
            <a:ext cx="416772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614400"/>
            <a:ext cx="416772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9F4-3848-4DB0-802C-999FF993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274968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18840"/>
            <a:ext cx="274968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18840"/>
            <a:ext cx="274968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614400"/>
            <a:ext cx="274968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614400"/>
            <a:ext cx="274968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614400"/>
            <a:ext cx="274968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D13-85F0-4451-8356-D34104AB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18840"/>
            <a:ext cx="85406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49F-1189-40FD-8A1F-0765A8B5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854064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85DC-885C-420B-8BCA-D3D9FAFF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416772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18840"/>
            <a:ext cx="416772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D6B-3F02-4008-A423-300E4D1B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357-CC75-4F8E-8F5E-12FDC85B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08080"/>
            <a:ext cx="85104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26B-C646-45E2-BBA0-D0707C26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416772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18840"/>
            <a:ext cx="416772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614400"/>
            <a:ext cx="416772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85D-93D1-431C-8750-4F914EB2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416772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18840"/>
            <a:ext cx="416772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614400"/>
            <a:ext cx="416772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4A1D-CB8D-4EC8-A302-6AB0E04D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416772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18840"/>
            <a:ext cx="416772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614400"/>
            <a:ext cx="854064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859A-619D-4A34-8832-949F6C49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18840"/>
            <a:ext cx="854064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5662440"/>
            <a:ext cx="2286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662440"/>
            <a:ext cx="28958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5662440"/>
            <a:ext cx="2286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6D29-E37E-4D7E-98D8-7294184C7C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FZ JAZZY 10 3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143000" y="1658880"/>
            <a:ext cx="6934320" cy="14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435"/>
              </a:avLst>
            </a:prstTxWarp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FREE SPACE OPT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971800" y="3316320"/>
            <a:ext cx="586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PRESENTED BY,</a:t>
            </a:r>
            <a:endParaRPr b="1" lang="en-US" sz="2000" spc="-1" strike="noStrike">
              <a:solidFill>
                <a:srgbClr val="ff0000"/>
              </a:solidFill>
              <a:latin typeface="FZ JAZZY 10 3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50" name="Rectangle 37"/>
          <p:cNvSpPr/>
          <p:nvPr/>
        </p:nvSpPr>
        <p:spPr>
          <a:xfrm>
            <a:off x="0" y="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51" name="Rectangle 39"/>
          <p:cNvSpPr/>
          <p:nvPr/>
        </p:nvSpPr>
        <p:spPr>
          <a:xfrm>
            <a:off x="0" y="601020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CLUSION…………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854064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s low cost, rapidly deployable method of gaining access to fiber optic backb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SO complement legacy network inves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SO eliminates the need to obtain costly spectrum lic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0" y="124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0" y="538956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0" y="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601020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</p:spTree>
  </p:cSld>
  <p:transition spd="med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8080"/>
            <a:ext cx="851076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FERENCES…………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18840"/>
            <a:ext cx="854064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freespaceoptics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networkmagazin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futera.com/fsofaq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ans.org/rr/wireless/optics.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freespaceoptic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inz A. Willerbrand, Baksheesh S. Ghuman “Fiber Optics Without Fib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0" y="124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0" y="538956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601020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796760"/>
            <a:ext cx="854100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FSO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29"/>
          <p:cNvSpPr/>
          <p:nvPr/>
        </p:nvSpPr>
        <p:spPr>
          <a:xfrm>
            <a:off x="0" y="124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55" name="Line 30"/>
          <p:cNvSpPr/>
          <p:nvPr/>
        </p:nvSpPr>
        <p:spPr>
          <a:xfrm>
            <a:off x="0" y="55278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56" name="Rectangle 44"/>
          <p:cNvSpPr/>
          <p:nvPr/>
        </p:nvSpPr>
        <p:spPr>
          <a:xfrm>
            <a:off x="0" y="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57" name="Rectangle 45"/>
          <p:cNvSpPr/>
          <p:nvPr/>
        </p:nvSpPr>
        <p:spPr>
          <a:xfrm>
            <a:off x="0" y="601020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RODUCTION……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854064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ced Communication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Infrared beams for trans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so called Free Space Photonics (FS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roduced by Alexander Graham B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42"/>
          <p:cNvSpPr/>
          <p:nvPr/>
        </p:nvSpPr>
        <p:spPr>
          <a:xfrm>
            <a:off x="0" y="124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61" name="Line 43"/>
          <p:cNvSpPr/>
          <p:nvPr/>
        </p:nvSpPr>
        <p:spPr>
          <a:xfrm>
            <a:off x="0" y="55278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62" name="Rectangle 53"/>
          <p:cNvSpPr/>
          <p:nvPr/>
        </p:nvSpPr>
        <p:spPr>
          <a:xfrm>
            <a:off x="0" y="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63" name="Rectangle 54"/>
          <p:cNvSpPr/>
          <p:nvPr/>
        </p:nvSpPr>
        <p:spPr>
          <a:xfrm>
            <a:off x="0" y="601020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08080"/>
            <a:ext cx="937260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FSO WORKS………….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0" y="124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66" name="Line 5"/>
          <p:cNvSpPr/>
          <p:nvPr/>
        </p:nvSpPr>
        <p:spPr>
          <a:xfrm>
            <a:off x="0" y="538956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0" y="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0" y="601020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854064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sts of two Telesco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mits invisible light beams b/w Telesco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fer capacities in range of 100Mbps to 2.5G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function over distances of several K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208080"/>
            <a:ext cx="9372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601020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pic>
        <p:nvPicPr>
          <p:cNvPr id="73" name="Picture 9" descr="fso_diagram"/>
          <p:cNvPicPr/>
          <p:nvPr/>
        </p:nvPicPr>
        <p:blipFill>
          <a:blip r:embed="rId2"/>
          <a:stretch/>
        </p:blipFill>
        <p:spPr>
          <a:xfrm>
            <a:off x="0" y="208080"/>
            <a:ext cx="9144000" cy="58021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VANTAGES………………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854064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Networking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w 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limited Bandwid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sible to mount FSO inside even Buil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requirement is Line of Sight b/w to ends of the l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0" y="124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77" name="Line 5"/>
          <p:cNvSpPr/>
          <p:nvPr/>
        </p:nvSpPr>
        <p:spPr>
          <a:xfrm>
            <a:off x="0" y="538956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0" y="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0" y="601020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LLENGES………….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854064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mosphere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ysical Ob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nge in pointing s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intil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ar Interfer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>
            <a:off x="0" y="124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83" name="Line 6"/>
          <p:cNvSpPr/>
          <p:nvPr/>
        </p:nvSpPr>
        <p:spPr>
          <a:xfrm>
            <a:off x="0" y="52513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0" y="601020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</p:spTree>
  </p:cSld>
  <p:transition spd="med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URITY………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854064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er beams can’t detected with spectrum analyzers or RF 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 of sight cannot be intercepted eas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ams are harder to find and cr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can be transmitted over an encrypted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0" y="124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89" name="Line 5"/>
          <p:cNvSpPr/>
          <p:nvPr/>
        </p:nvSpPr>
        <p:spPr>
          <a:xfrm>
            <a:off x="0" y="538956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0" y="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601020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LIABILITY………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854064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ploying adaptive laser power scheme to adjust the laser power will improve re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 Controller that maintains temperature of laser transmitter maximize reliability and life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0" y="124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95" name="Line 5"/>
          <p:cNvSpPr/>
          <p:nvPr/>
        </p:nvSpPr>
        <p:spPr>
          <a:xfrm>
            <a:off x="0" y="538956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0" y="601020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04:43Z</dcterms:created>
  <dc:creator>ANOOP</dc:creator>
  <dc:description/>
  <dc:language>en-US</dc:language>
  <cp:lastModifiedBy>anoop</cp:lastModifiedBy>
  <dcterms:modified xsi:type="dcterms:W3CDTF">2010-01-23T02:28:57Z</dcterms:modified>
  <cp:revision>319</cp:revision>
  <dc:subject/>
  <dc:title>Slide 1</dc:title>
</cp:coreProperties>
</file>